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7B09-72EE-4633-A5D9-CE721B922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42A7-B1F2-4F2D-98F8-67E79677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E26C-6EEB-4C4C-91FB-5BACCE5DC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F92E-B080-4DB0-8743-27500F26F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58C9-BD28-4B55-9604-6E6314F81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D770-E5C6-4C78-B0DB-246AC324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547B-A86E-476F-9F0C-EECA059B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B460-A494-45B6-AD40-B31834D0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6B41-48CD-48AF-86A3-973698CA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5D7D-3627-476C-98F8-6460AA8F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EDE5-CBCB-4EE1-8A7C-4ADC6DB8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CACE-C5CD-4AC8-86EC-7B03A9A1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EA03-816C-4D4A-B7B6-711C65CA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05FC-7877-49EC-A787-3DD480EE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CAD4-5D8A-4785-BAF5-6F2CD245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0D11-B887-49B6-A524-73BF779B0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4F22-4548-42A7-AFF7-44E062871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8162-7FA0-4747-B40A-04C72D83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5F2E-623A-4B5C-B994-46C8D170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711D-06DD-4C75-A2CE-FE014DD4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C755-555F-4EA8-9BD5-CDAC3D07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4C95-E8F0-40D8-9532-03240069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F5A7-3300-4670-967B-310D0A37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6B02-EAE5-4FDC-B00C-19EB5B28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36ED-6F65-453C-881F-43CC7C48BB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340D-2ADE-4B21-9458-2835425FDF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421000"/>
            <a:ext cx="77724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66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ff66"/>
                </a:solidFill>
                <a:latin typeface="Arial"/>
              </a:rPr>
              <a:t>المحاضرة الخامسة عشرة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61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حورات نسب الأشكال المظهريه المندليه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_ بالرغم من ان قوانين مندل تنطبق على كل الكائنات الحيه حقيقيه النواة ، الا ان هذه القوانين تعتبر نقطه البداية لفهم التوارث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_ قانون الانعزال / وقانون التوزيع المستقل : هما الأساس للنقل الجيني من الآباء الى النسل ، الا ان تعبير الجينات هو الأساس الذي تتحدد بموجبه الأشكال المظهريه للنس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فإذا لم يكن هناك سياده / تنحي أو اذا كان هناك أكثر من زوج جيني واحد يؤثر على ظهور صفه وراثيه حصينه ، فان النسب التي تمت دراستها (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1:3:3:9:1:3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) سوف تتحور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باينات السياده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سياده = عباره عن الظاهره التي تحدد العلاقه بين الاليلات المختلفه لنفس الجين وهناك أنواع منها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سياده التامه :  هي نوع من أنواع السياده تكون فيها الأشكال المظهريه للأفراد السائده الأصيله والأفراد السائده الخليطه متماثله ، ولايمكن التفريق بينهما بالنظر فقط الى الشكل المظهري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A = A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مظهري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a x A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زوجان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a Bb x Aa B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1:3:3: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سائد  : متنحي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A1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a2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a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51280" y="3933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788000" y="836640"/>
            <a:ext cx="0" cy="360360"/>
          </a:xfrm>
          <a:prstGeom prst="line">
            <a:avLst/>
          </a:prstGeom>
          <a:ln w="38160">
            <a:solidFill>
              <a:srgbClr val="0068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24720" y="400536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) السياده غير التامه :  هي نوع من أنواع السياده لا تماثل فيها الأفراد الخليط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أي من الأفراد الأصيله في الشكل المظهري وقد تكون وسطا بينهما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a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مظهري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وارث لون الفراء في الأبقار ذات القرون القصير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أبيض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1A1 x A2A2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أحمر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1A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طوبي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1              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1A2 x A1A2           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1 x F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2A2 1 : A1A2 2 : A1A1 1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أحمر         طوبي        أبي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7524360" y="1557360"/>
            <a:ext cx="7164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651640" y="3284640"/>
            <a:ext cx="0" cy="57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724360" y="4653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1B1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2B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نبات حنك السبع :نباتات ذات زهور حمراء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نباتات ذات زهور بيضاء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1B2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نباتات ذات زهور ورديه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نباتات ذات زهور ورديه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نباتات ذات زهور ورديه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1XF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1B2                       B1B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1B1  1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: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1B2  2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2B2  1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حمراء           ورديه               بيضا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استنتاج : نسبه الاشكال المظهريه = نسبه التراكيب الوراثي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08720" y="1197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80000" y="314172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80000" y="364500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السياده المشتركه :هي نوع من أنواع السياده فيها يعبر كل اليل من اليلي الفرد الخليط عن نفسه وبصوره كامل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جهاز الدم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m Lm x Ln Ln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m Ln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m Ln x Lm Ln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1 x F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n Ln  1: Lm Ln  2 : Lm Ln  1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_A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= انتيجين = أي ماده لها القدره على حث الجهاز المناعي للحيوان لانتاج أجسام مضاده خاصه بها . أو هي عباره عن مواد يتم التعرف عليها بواسطه تجمع كريات الدم الحمراء (تفاعل التلزن ) عند خلطها بالاجسام المضاده الخاصه بها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s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= أجسام مضاده = مواد بروتينيه تصنع بواسطه خلايا خاصه (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Cells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من خلايا الجهاز المناعي للحيوان استجابه لجزيئات غريبه تسمى بالانتيجينات) ولها القدره على الاتحاد أو التفاعل معه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جهاز مجاميع الدم :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B 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كرموسوم –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o,IB,I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12000" y="1052640"/>
            <a:ext cx="237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300720" y="141300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12000" y="234936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) السيادة الفوقية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نوع من انواع السيادة تكون فيها الافراد الخليطه متفوقه (من ناحية الحيوية والانتاجيه والخصوبة والتحمل والمقارنة للامراض) على نوعي الافراد الاصلي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ثال : فقر الدم المنجلي 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b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b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b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b-A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 الافراد المصابه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b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 الافراد الخليطة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b  H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 الافراد الطبيعية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b  H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ناحية المرض (فقر الدم)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b &lt; Hb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سيادة تام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ناحية شكل كريات الدم الحمراء تحت ظروف نق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Hb H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شكل طبيعي (قرصي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b   Hb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عضها يتحول شكله الى شكل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منجل(سيادة غير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امه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 rot="10800000">
            <a:off x="2987640" y="2130840"/>
            <a:ext cx="712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A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231" name=""/>
          <p:cNvSpPr txBox="1"/>
          <p:nvPr/>
        </p:nvSpPr>
        <p:spPr>
          <a:xfrm rot="10800000">
            <a:off x="4282920" y="2130840"/>
            <a:ext cx="712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S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232" name=""/>
          <p:cNvSpPr txBox="1"/>
          <p:nvPr/>
        </p:nvSpPr>
        <p:spPr>
          <a:xfrm rot="10800000">
            <a:off x="4643280" y="2637000"/>
            <a:ext cx="71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S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233" name=""/>
          <p:cNvSpPr txBox="1"/>
          <p:nvPr/>
        </p:nvSpPr>
        <p:spPr>
          <a:xfrm rot="10800000">
            <a:off x="5434560" y="2637000"/>
            <a:ext cx="71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S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234" name=""/>
          <p:cNvSpPr txBox="1"/>
          <p:nvPr/>
        </p:nvSpPr>
        <p:spPr>
          <a:xfrm rot="10800000">
            <a:off x="5506920" y="3645000"/>
            <a:ext cx="71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A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235" name=""/>
          <p:cNvSpPr txBox="1"/>
          <p:nvPr/>
        </p:nvSpPr>
        <p:spPr>
          <a:xfrm rot="10800000">
            <a:off x="4643280" y="3138840"/>
            <a:ext cx="712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A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236" name=""/>
          <p:cNvSpPr txBox="1"/>
          <p:nvPr/>
        </p:nvSpPr>
        <p:spPr>
          <a:xfrm rot="10800000">
            <a:off x="4572000" y="4149720"/>
            <a:ext cx="71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A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237" name=""/>
          <p:cNvSpPr txBox="1"/>
          <p:nvPr/>
        </p:nvSpPr>
        <p:spPr>
          <a:xfrm rot="10800000">
            <a:off x="4713840" y="3645000"/>
            <a:ext cx="71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A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238" name=""/>
          <p:cNvSpPr txBox="1"/>
          <p:nvPr/>
        </p:nvSpPr>
        <p:spPr>
          <a:xfrm rot="10800000">
            <a:off x="3562920" y="4149720"/>
            <a:ext cx="71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S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239" name=""/>
          <p:cNvSpPr txBox="1"/>
          <p:nvPr/>
        </p:nvSpPr>
        <p:spPr>
          <a:xfrm rot="10800000">
            <a:off x="5364000" y="3138840"/>
            <a:ext cx="712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S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240" name=""/>
          <p:cNvSpPr txBox="1"/>
          <p:nvPr/>
        </p:nvSpPr>
        <p:spPr>
          <a:xfrm rot="10800000">
            <a:off x="8028000" y="5516640"/>
            <a:ext cx="71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S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241" name=""/>
          <p:cNvSpPr txBox="1"/>
          <p:nvPr/>
        </p:nvSpPr>
        <p:spPr>
          <a:xfrm rot="10800000">
            <a:off x="6874560" y="5013360"/>
            <a:ext cx="71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A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242" name=""/>
          <p:cNvSpPr txBox="1"/>
          <p:nvPr/>
        </p:nvSpPr>
        <p:spPr>
          <a:xfrm rot="10800000">
            <a:off x="7667640" y="5013360"/>
            <a:ext cx="71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A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243" name=""/>
          <p:cNvSpPr txBox="1"/>
          <p:nvPr/>
        </p:nvSpPr>
        <p:spPr>
          <a:xfrm rot="10800000">
            <a:off x="7234920" y="5516640"/>
            <a:ext cx="71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A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432000" indent="-432000" algn="r" rtl="1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ن ناحية الهيموجلوبين نفسه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b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0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b H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نوع واحد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b- 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0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b H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نوعان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b-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b-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(سيادة مشتركة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0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b H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نوع واحد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b-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000" indent="-432000" algn="r" rtl="1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ن ناحية المقومة لمرض الملاري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0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b H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غيرمقاوم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0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b H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مقاومة                                      (سيادة فوقية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0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b Hb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غير مقوم /معاناه من فقر الدم واعراض اخر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0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اعد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000" indent="-432000" algn="r" rtl="1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ختيارنا لنوع السيادة يعتمد على المستوى الذي نصف فيه الشكل المظهري للفرد الخليط+ التقنية او التقنيات المتوفرة لتحديد الاختلافات الكيموحيوية (النواتج الجينية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000" indent="-432000" algn="r" rtl="1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سيادة التامة والتنحي ليستا سمات اساسية لقوانين مندل, لان قوانين مندل مرتبطة بانماط انتقال الجينات وليس بوظائفها (تعبيرها)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0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0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0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0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067280" y="90792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067280" y="907920"/>
            <a:ext cx="64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067280" y="184464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627280" y="234936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627280" y="234936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63280" y="3284640"/>
            <a:ext cx="8636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63640" y="3284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763640" y="371628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 rot="10800000">
            <a:off x="8388360" y="836640"/>
            <a:ext cx="71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A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254" name=""/>
          <p:cNvSpPr txBox="1"/>
          <p:nvPr/>
        </p:nvSpPr>
        <p:spPr>
          <a:xfrm rot="10800000">
            <a:off x="7738920" y="836640"/>
            <a:ext cx="71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A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255" name=""/>
          <p:cNvSpPr txBox="1"/>
          <p:nvPr/>
        </p:nvSpPr>
        <p:spPr>
          <a:xfrm rot="10800000">
            <a:off x="7738920" y="1267200"/>
            <a:ext cx="712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A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256" name=""/>
          <p:cNvSpPr txBox="1"/>
          <p:nvPr/>
        </p:nvSpPr>
        <p:spPr>
          <a:xfrm rot="10800000">
            <a:off x="7812000" y="2637000"/>
            <a:ext cx="71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A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257" name=""/>
          <p:cNvSpPr txBox="1"/>
          <p:nvPr/>
        </p:nvSpPr>
        <p:spPr>
          <a:xfrm rot="10800000">
            <a:off x="8315280" y="2565360"/>
            <a:ext cx="71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A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258" name=""/>
          <p:cNvSpPr txBox="1"/>
          <p:nvPr/>
        </p:nvSpPr>
        <p:spPr>
          <a:xfrm rot="10800000">
            <a:off x="7812000" y="3068640"/>
            <a:ext cx="71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A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259" name=""/>
          <p:cNvSpPr txBox="1"/>
          <p:nvPr/>
        </p:nvSpPr>
        <p:spPr>
          <a:xfrm rot="10800000">
            <a:off x="7812000" y="1773360"/>
            <a:ext cx="71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s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260" name=""/>
          <p:cNvSpPr txBox="1"/>
          <p:nvPr/>
        </p:nvSpPr>
        <p:spPr>
          <a:xfrm rot="10800000">
            <a:off x="8388360" y="1341360"/>
            <a:ext cx="71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s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261" name=""/>
          <p:cNvSpPr txBox="1"/>
          <p:nvPr/>
        </p:nvSpPr>
        <p:spPr>
          <a:xfrm rot="10800000">
            <a:off x="8388360" y="1773360"/>
            <a:ext cx="71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s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262" name=""/>
          <p:cNvSpPr txBox="1"/>
          <p:nvPr/>
        </p:nvSpPr>
        <p:spPr>
          <a:xfrm rot="10800000">
            <a:off x="8388360" y="2997360"/>
            <a:ext cx="71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s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263" name=""/>
          <p:cNvSpPr txBox="1"/>
          <p:nvPr/>
        </p:nvSpPr>
        <p:spPr>
          <a:xfrm rot="10800000">
            <a:off x="7812000" y="3499200"/>
            <a:ext cx="712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s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264" name=""/>
          <p:cNvSpPr txBox="1"/>
          <p:nvPr/>
        </p:nvSpPr>
        <p:spPr>
          <a:xfrm rot="10800000">
            <a:off x="8459640" y="3429000"/>
            <a:ext cx="71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s</a:t>
            </a:r>
            <a:endParaRPr b="0" lang="en-US" sz="9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5T13:47:38Z</dcterms:created>
  <dc:creator>هلا</dc:creator>
  <dc:description/>
  <dc:language>en-US</dc:language>
  <cp:lastModifiedBy>good</cp:lastModifiedBy>
  <dcterms:modified xsi:type="dcterms:W3CDTF">2008-12-30T18:58:22Z</dcterms:modified>
  <cp:revision>9</cp:revision>
  <dc:subject/>
  <dc:title>المحاضرة الثالثة عشرة </dc:title>
</cp:coreProperties>
</file>