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AC0-AED6-483F-AA01-C5BCF0A9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C00-E56C-40C8-8E57-8A6CE928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E792-7978-44F4-AB4B-2F7B935D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A3F-C067-4ADE-95CE-3C6D4B76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6024-07C2-4B7A-BCFE-A41FB7C2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DF0E-5D20-4397-85DA-668E021D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E67C-0ABF-4425-AC45-284669ED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30B4-E0F1-48B9-926B-48EAB64D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2E89-787E-443C-AD0B-799E2E4F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7235-65BD-4A7D-BFDD-9C5E06DF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0397-DE68-4FEE-8C64-8EA4C502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F9F-B6DB-4C4D-A668-0C154A6A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A3CC-5C11-402F-91DF-3F05952F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8FDA-5E85-497C-960B-1BC2E459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486F-52E9-4CA6-9DA2-D9FD6191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6E77-27B9-4415-AEA7-175ACC07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C721-38F6-4F90-A6A4-A66021CC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2EF-7F15-4DB9-8872-144AC374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42C-0AB2-487B-B571-6F3BB468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F3D-BD08-43BA-9044-61A4A3FA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66F-C5CA-458B-9FD9-F711D50D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D82-E44C-4199-81CD-AA96E3D9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5C5-2F04-45C2-ABE4-DB10F2A0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EEA-98B5-4D9F-9F13-11F5CA26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2694-C0DD-4DDB-8742-62173320D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EF9B-F000-47F3-B5AB-29E87BDBA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421000"/>
            <a:ext cx="77724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66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66"/>
                </a:solidFill>
                <a:latin typeface="Arial"/>
              </a:rPr>
              <a:t>المحاضرة الخامسة عشرة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حورات نسب الأشكال المظهريه المندلي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_ بالرغم من ان قوانين مندل تنطبق على كل الكائنات الحيه حقيقيه النواة ، الا ان هذه القوانين تعتبر نقطه البداية لفهم التوارث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_ قانون الانعزال / وقانون التوزيع المستقل : هما الأساس للنقل الجيني من الآباء الى النسل ، الا ان تعبير الجينات هو الأساس الذي تتحدد بموجبه الأشكال المظهريه للنس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إذا لم يكن هناك سياده / تنحي أو اذا كان هناك أكثر من زوج جيني واحد يؤثر على ظهور صفه وراثيه حصينه ، فان النسب التي تمت دراستها (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:3:3:9:1: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 سوف تتحو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باينات السياده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ياده = عباره عن الظاهره التي تحدد العلاقه بين الاليلات المختلفه لنفس الجين وهناك أنواع منها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سياده التامه :  هي نوع من أنواع السياده تكون فيها الأشكال المظهريه للأفراد السائده الأصيله والأفراد السائده الخليطه متماثله ، ولايمكن التفريق بينهما بالنظر فقط الى الشكل المظهر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 = A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مظهر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 x A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زوجان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 Bb x Aa B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:3:3: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سائد  : متنح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1280" y="3933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836640"/>
            <a:ext cx="0" cy="360360"/>
          </a:xfrm>
          <a:prstGeom prst="line">
            <a:avLst/>
          </a:prstGeom>
          <a:ln w="38160">
            <a:solidFill>
              <a:srgbClr val="0068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24720" y="400536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السياده غير التامه :  هي نوع من أنواع السياده لا تماثل فيها الأفراد الخليط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أي من الأفراد الأصيله في الشكل المظهري وقد تكون وسطا بينهما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مظهر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وارث لون الفراء في الأبقار ذات القرون القصير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أبيض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1A1 x A2A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أحمر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1A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طوب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1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1A2 x A1A2     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1 x F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2A2 1 : A1A2 2 : A1A1 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أحمر         طوبي        أبي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524360" y="1557360"/>
            <a:ext cx="7164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51640" y="328464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24360" y="4653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1B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2B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بات حنك السبع :نباتات ذات زهور حمراء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نباتات ذات زهور بيضاء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1B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نباتات ذات زهور ورديه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باتات ذات زهور ورديه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نباتات ذات زهور ورديه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1XF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1B2                       B1B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1B1  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: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1B2  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2B2  1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حمراء           ورديه               بيضا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ستنتاج : نسبه الاشكال المظهريه = نسبه التراكيب الوراثي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197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314172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80000" y="3645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لسياده المشتركه :هي نوع من أنواع السياده فيها يعبر كل اليل من اليلي الفرد الخليط عن نفسه وبصوره كامل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هاز الدم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m Lm x Ln Ln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m Ln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m Ln x Lm Ln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1 x F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n Ln  1: Lm Ln  2 : Lm Ln  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_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= انتيجين = أي ماده لها القدره على حث الجهاز المناعي للحيوان لانتاج أجسام مضاده خاصه بها . أو هي عباره عن مواد يتم التعرف عليها بواسطه تجمع كريات الدم الحمراء (تفاعل التلزن ) عند خلطها بالاجسام المضاده الخاصه بها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= أجسام مضاده = مواد بروتينيه تصنع بواسطه خلايا خاصه (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Cells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من خلايا الجهاز المناعي للحيوان استجابه لجزيئات غريبه تسمى بالانتيجينات) ولها القدره على الاتحاد أو التفاعل مع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هاز مجاميع الدم 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B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كرموسوم –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o,IB,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1052640"/>
            <a:ext cx="237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00720" y="141300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23493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 السيادة الفوقية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وع من انواع السيادة تكون فيها الافراد الخليطه متفوقه (من ناحية الحيوية والانتاجيه والخصوبة والتحمل والمقارنة للامراض) على نوعي الافراد الاصل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ثال : فقر الدم المنجلي 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-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الافراد المصابه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الافراد الخليطة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  H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الافراد الطبيعية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  H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ناحية المرض (فقر الدم)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 &lt; H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سيادة تام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ناحية شكل كريات الدم الحمراء تحت ظروف نق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Hb H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شكل طبيعي (قرصي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   H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عضها يتحول شكله الى شكل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نجل(سيادة غير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امه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 rot="10800000">
            <a:off x="2987640" y="2130840"/>
            <a:ext cx="7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 rot="10800000">
            <a:off x="4282920" y="2130840"/>
            <a:ext cx="7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 rot="10800000">
            <a:off x="4643280" y="263700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 rot="10800000">
            <a:off x="5434560" y="2637000"/>
            <a:ext cx="7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 rot="10800000">
            <a:off x="5506920" y="364500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 rot="10800000">
            <a:off x="4643280" y="3138840"/>
            <a:ext cx="7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 rot="10800000">
            <a:off x="4572000" y="414972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 rot="10800000">
            <a:off x="4713840" y="3645000"/>
            <a:ext cx="7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 rot="10800000">
            <a:off x="3562920" y="4149720"/>
            <a:ext cx="7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 rot="10800000">
            <a:off x="5364000" y="3138840"/>
            <a:ext cx="7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40" name=""/>
          <p:cNvSpPr txBox="1"/>
          <p:nvPr/>
        </p:nvSpPr>
        <p:spPr>
          <a:xfrm rot="10800000">
            <a:off x="8028000" y="551664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 rot="10800000">
            <a:off x="6874560" y="5013360"/>
            <a:ext cx="7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 rot="10800000">
            <a:off x="7667640" y="501336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 rot="10800000">
            <a:off x="7234920" y="5516640"/>
            <a:ext cx="7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32000" indent="-43200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ن ناحية الهيموجلوبين نفسه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 H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نوع واحد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-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 H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وعان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-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-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(سيادة مشتركة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 H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نوع واحد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-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43200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ن ناحية المقومة لمرض الملار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 H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غيرمقاوم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 H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مقاومة                                      (سيادة فوقية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 Hb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غير مقوم /معاناه من فقر الدم واعراض اخر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اعد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43200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ختيارنا لنوع السيادة يعتمد على المستوى الذي نصف فيه الشكل المظهري للفرد الخليط+ التقنية او التقنيات المتوفرة لتحديد الاختلافات الكيموحيوية (النواتج الجينية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43200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سيادة التامة والتنحي ليستا سمات اساسية لقوانين مندل, لان قوانين مندل مرتبطة بانماط انتقال الجينات وليس بوظائفها (تعبيرها)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67280" y="90792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67280" y="90792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67280" y="184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234936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27280" y="234936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63280" y="3284640"/>
            <a:ext cx="863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3284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63640" y="37162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 rot="10800000">
            <a:off x="8388360" y="83664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 rot="10800000">
            <a:off x="7738920" y="83664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 rot="10800000">
            <a:off x="7738920" y="1267200"/>
            <a:ext cx="7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56" name=""/>
          <p:cNvSpPr txBox="1"/>
          <p:nvPr/>
        </p:nvSpPr>
        <p:spPr>
          <a:xfrm rot="10800000">
            <a:off x="7812000" y="263700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 rot="10800000">
            <a:off x="8315280" y="256536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 rot="10800000">
            <a:off x="7812000" y="306864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 rot="10800000">
            <a:off x="7812000" y="177336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 rot="10800000">
            <a:off x="8388360" y="134136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 rot="10800000">
            <a:off x="8388360" y="177336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 rot="10800000">
            <a:off x="8388360" y="299736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 rot="10800000">
            <a:off x="7812000" y="3499200"/>
            <a:ext cx="7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 rot="10800000">
            <a:off x="8459640" y="342900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13:47:38Z</dcterms:created>
  <dc:creator>هلا</dc:creator>
  <dc:description/>
  <dc:language>en-US</dc:language>
  <cp:lastModifiedBy>good</cp:lastModifiedBy>
  <dcterms:modified xsi:type="dcterms:W3CDTF">2008-12-30T18:58:22Z</dcterms:modified>
  <cp:revision>9</cp:revision>
  <dc:subject/>
  <dc:title>المحاضرة الثالثة عشرة </dc:title>
</cp:coreProperties>
</file>