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23B19-25F4-4FF5-BD92-CA5BAA50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A439-31A1-484D-81B3-1A963BDE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D02C-F501-4338-8D75-3A025478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FBD3-46AF-4D61-B3C9-C2D1D8B0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7E3-9754-457F-90EC-5C8B7B85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8B42-A249-4BC7-A99A-E76FE47D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DBBE-AE64-4337-9F9C-20D13A1A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E550-F060-40BB-A5B9-F2EF1A6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2CA-9E2B-4E99-85AA-141965A9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A4F6-9FB7-42EA-BB4C-4F8F8335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E0DC-0F22-4695-99C8-B79E668D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3C034-B7A7-48D6-82C4-FBC13586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DDC-0A50-4CC0-8B71-0633EB94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3E77-54C7-49EA-AD25-A36FCB2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17ED-2893-4BD1-B5D3-74EBD3F9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CD5A-3C81-4F4E-9E39-AC19DA57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284F-6F6C-44F1-9AE7-410150DD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F0513-15F2-4A11-B04A-6D1A7186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5D0C-A98D-4728-8DE5-F5DCC04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AA1E-B8B1-42E9-B944-BC5359AC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1501-37F8-457F-B1F9-E682E0DF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B8C7-6873-44A4-A107-22FD94AB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5A71-4B32-4926-8A0A-9661F0D7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5D20-6312-4BB4-8898-18E9C6BA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DC4B-D4B0-4928-9298-B4E70BCC6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4FC1-969F-4626-A299-D2F17E4B3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tro to Domain-Specific Software Engineering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have a variety of technological solutions—tools, patterns, architectures &amp; styles, legacy systems—to bring to bear on a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E3D-8BAB-46A3-9385-A22EE687D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0"/>
          <p:cNvSpPr/>
          <p:nvPr/>
        </p:nvSpPr>
        <p:spPr>
          <a:xfrm rot="10800000">
            <a:off x="5943600" y="579096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52388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goals motivate the use of D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ing costs: reuse asse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market: develop many related applications for different kinds of end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FA4D-C44C-4EE6-BAB6-3CE06601FD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2"/>
          <p:cNvSpPr/>
          <p:nvPr/>
        </p:nvSpPr>
        <p:spPr>
          <a:xfrm>
            <a:off x="388620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3"/>
          <p:cNvSpPr/>
          <p:nvPr/>
        </p:nvSpPr>
        <p:spPr>
          <a:xfrm>
            <a:off x="55627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4800600" y="31240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11840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24248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56668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7315200" y="1295280"/>
            <a:ext cx="990720" cy="1067040"/>
          </a:xfrm>
          <a:prstGeom prst="downArrow">
            <a:avLst>
              <a:gd name="adj1" fmla="val 50000"/>
              <a:gd name="adj2" fmla="val 2692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C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ci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expert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ment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ume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r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7D92-CDE3-4588-9E83-546A9512C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2"/>
          <p:cNvSpPr/>
          <p:nvPr/>
        </p:nvSpPr>
        <p:spPr>
          <a:xfrm>
            <a:off x="388620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55627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4800600" y="31240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1840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24248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56668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5867280" y="12193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520" y="15238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Fami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possi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i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nform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constrain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goa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7DAF-6EDF-4E1F-BCBF-3D6528515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"/>
          <p:cNvSpPr/>
          <p:nvPr/>
        </p:nvSpPr>
        <p:spPr>
          <a:xfrm>
            <a:off x="3962520" y="160020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5638680" y="16002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4876920" y="31240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194720" y="274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318800" y="274320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5643000" y="533412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10"/>
          <p:cNvSpPr/>
          <p:nvPr/>
        </p:nvSpPr>
        <p:spPr>
          <a:xfrm rot="14400000">
            <a:off x="4381200" y="42289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4479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independ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l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ques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 of an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ost generic ADLs, UML, compilers, word processors, general-purpose P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9BAB-DB17-4A4E-B3F2-1B31FC661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0"/>
          <p:cNvSpPr/>
          <p:nvPr/>
        </p:nvSpPr>
        <p:spPr>
          <a:xfrm flipH="1" rot="7200000">
            <a:off x="7581600" y="4000320"/>
            <a:ext cx="990720" cy="1066680"/>
          </a:xfrm>
          <a:prstGeom prst="downArrow">
            <a:avLst>
              <a:gd name="adj1" fmla="val 50000"/>
              <a:gd name="adj2" fmla="val 2691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160" y="1447920"/>
            <a:ext cx="41907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 + Business +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engineering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s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omain-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, temper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nd mark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861-A0CD-49FD-948A-E8D4E38393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10"/>
          <p:cNvSpPr/>
          <p:nvPr/>
        </p:nvSpPr>
        <p:spPr>
          <a:xfrm flipH="1" rot="19800000">
            <a:off x="5333760" y="2514600"/>
            <a:ext cx="990360" cy="1066680"/>
          </a:xfrm>
          <a:prstGeom prst="downArrow">
            <a:avLst>
              <a:gd name="adj1" fmla="val 50000"/>
              <a:gd name="adj2" fmla="val 269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447920"/>
            <a:ext cx="4419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-Line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pecific, related 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solutions with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roader D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cu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alitie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ility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3510-C1CF-4734-ACBA-1D6853F14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2"/>
          <p:cNvSpPr/>
          <p:nvPr/>
        </p:nvSpPr>
        <p:spPr>
          <a:xfrm>
            <a:off x="3886200" y="152388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"/>
          <p:cNvSpPr/>
          <p:nvPr/>
        </p:nvSpPr>
        <p:spPr>
          <a:xfrm>
            <a:off x="5562720" y="1523880"/>
            <a:ext cx="327636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4800600" y="30481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118400" y="26668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242480" y="2666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5566680" y="525780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11"/>
          <p:cNvSpPr/>
          <p:nvPr/>
        </p:nvSpPr>
        <p:spPr>
          <a:xfrm>
            <a:off x="6019920" y="3429000"/>
            <a:ext cx="685800" cy="6858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0"/>
          <p:cNvSpPr/>
          <p:nvPr/>
        </p:nvSpPr>
        <p:spPr>
          <a:xfrm flipH="1" rot="19800000">
            <a:off x="5562360" y="2743200"/>
            <a:ext cx="990360" cy="1066680"/>
          </a:xfrm>
          <a:prstGeom prst="downArrow">
            <a:avLst>
              <a:gd name="adj1" fmla="val 50000"/>
              <a:gd name="adj2" fmla="val 269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coming More Concre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ing DSSE means developing a set of artifacts more specific than an ordinary softwar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aspects of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domain-specific solutions, techniques, a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omain 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omain-specific software architecture (DS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327-3267-4430-AA86-6968EBC247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omain model is a set of artifacts that capture information about a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(also known as entities) that perform the functions, and on which the functions ar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d information that flows through th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s terminology and seman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the basis for standardizing (or at least normalizing) descriptions of problems to be solved 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FC97-E067-4243-BE64-5F8AA6BC8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D61-AF0E-4FA7-ACDA-F1B723D9D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15-dm-elts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527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ep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hat is domain-specific software engineering (DSSE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“Three Lampposts” of DSSE: Domain, Business, and Technolog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4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omain Specific Software Architectu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duct Lin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lationship between DSSAs, Product Lines, and Architectural Styl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s of DSSE at wo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6B8-ACB1-49B1-8626-ED079244D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48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vocabulary for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B46D-E8FA-4605-BF32-DF31DCA75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3" descr="15-dm-elts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4"/>
          <p:cNvSpPr/>
          <p:nvPr/>
        </p:nvSpPr>
        <p:spPr>
          <a:xfrm>
            <a:off x="2438280" y="54100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48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the entities and data 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CFCA-F2D3-4C7A-9760-51351F9C8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15-dm-elts"/>
          <p:cNvPicPr/>
          <p:nvPr/>
        </p:nvPicPr>
        <p:blipFill>
          <a:blip r:embed="rId1"/>
          <a:stretch/>
        </p:blipFill>
        <p:spPr>
          <a:xfrm>
            <a:off x="1828800" y="1415880"/>
            <a:ext cx="5410080" cy="45277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5"/>
          <p:cNvSpPr/>
          <p:nvPr/>
        </p:nvSpPr>
        <p:spPr>
          <a:xfrm>
            <a:off x="3809880" y="5410080"/>
            <a:ext cx="457200" cy="60984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6171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how entities and data combine to provide featur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7A39-624D-43BD-AC46-8ED3E33BE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15-dm-elts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5"/>
          <p:cNvSpPr/>
          <p:nvPr/>
        </p:nvSpPr>
        <p:spPr>
          <a:xfrm>
            <a:off x="4952880" y="556272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480" y="6095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data and control flow through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BCA-4286-40C5-843B-DA33E7DD4D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15-dm-elts"/>
          <p:cNvPicPr/>
          <p:nvPr/>
        </p:nvPicPr>
        <p:blipFill>
          <a:blip r:embed="rId1"/>
          <a:stretch/>
        </p:blipFill>
        <p:spPr>
          <a:xfrm>
            <a:off x="1828800" y="1568520"/>
            <a:ext cx="5410080" cy="45273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6248520" y="5486400"/>
            <a:ext cx="457200" cy="609480"/>
          </a:xfrm>
          <a:prstGeom prst="upArrow">
            <a:avLst>
              <a:gd name="adj1" fmla="val 50000"/>
              <a:gd name="adj2" fmla="val 3332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Partial) Domain Diction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96ED-1A63-4FE0-9800-443F6C9CA2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457200" y="1752480"/>
            <a:ext cx="815328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unar Module (LM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is is the portion of the spacecraft that lands on the moon.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t consists of two main parts: the Ascent Stage (which holds the crew cabin) and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cent Stage, which contains thrusters used for controlling the landing of the L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action Control System (RCS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system on the Lunar Module responsible for th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abilization during lunar surface ascent/descent and control of the spacecraft’s orientati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ttitude) and motion (translation) during maneu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ertical velocity (see also One-dimensional motion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a free-falling object with no air resistance, ignoring the rotation of the lunar surfa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altitude is calculated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½ * a * t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+ v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* t + y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 = constant acceleration due to gravity on a lunar body (se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ler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sample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time in seconds;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velocity;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hen thrust is applied, the following equation i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y = ½ * (a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burner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– a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gravity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) * t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+ v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* t + y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 =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burn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constant acceleration upward due to thr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gravit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constant acceleration due to gravity on a lun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se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celeration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sample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= time in seconds; v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velocity; 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= initial altitud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Context Info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52352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igh-level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what is considered inside and outside the domain (or subdoma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relationships and high-level f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5F7F-D5C6-4539-ABCF-E530C450C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icture 4"/>
          <p:cNvSpPr/>
          <p:nvPr/>
        </p:nvSpPr>
        <p:spPr>
          <a:xfrm>
            <a:off x="3505320" y="1523880"/>
            <a:ext cx="50101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6" descr="fig_15_09.jpg"/>
          <p:cNvPicPr/>
          <p:nvPr/>
        </p:nvPicPr>
        <p:blipFill>
          <a:blip r:embed="rId1"/>
          <a:stretch/>
        </p:blipFill>
        <p:spPr>
          <a:xfrm>
            <a:off x="3809880" y="1523880"/>
            <a:ext cx="46483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Entity-Relationship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6960" y="2057040"/>
            <a:ext cx="26971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entit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cardinal relationships between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1539-9EA6-4385-87DE-914623BC6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icture 6"/>
          <p:cNvSpPr/>
          <p:nvPr/>
        </p:nvSpPr>
        <p:spPr>
          <a:xfrm>
            <a:off x="2133720" y="1676520"/>
            <a:ext cx="668628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fig_15_10.jpg"/>
          <p:cNvPicPr/>
          <p:nvPr/>
        </p:nvPicPr>
        <p:blipFill>
          <a:blip r:embed="rId1"/>
          <a:stretch/>
        </p:blipFill>
        <p:spPr>
          <a:xfrm>
            <a:off x="3200400" y="1582560"/>
            <a:ext cx="541008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fo Model: Object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904760"/>
            <a:ext cx="3065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attributes and operations on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ly resembles class diagram in UML but may be more abs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3BF-E886-4457-9999-64CC33F39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6" descr="fig_15_11.jpg"/>
          <p:cNvPicPr/>
          <p:nvPr/>
        </p:nvPicPr>
        <p:blipFill>
          <a:blip r:embed="rId1"/>
          <a:stretch/>
        </p:blipFill>
        <p:spPr>
          <a:xfrm>
            <a:off x="3916440" y="1981080"/>
            <a:ext cx="4770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Feature Relationship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44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overall mission operation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major features and de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E1FC-B756-4DBE-B441-08A8501A9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226440" y="1805040"/>
            <a:ext cx="88340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eature Relationship Diagram – Landing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datory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Lunar Lander must continually read altitude from the Landing Radar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ay that data to Houston with less than 500 msec of latency. Astronauts must be able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the descent of the Lunar Lander using manual control on the descent engin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descent engine must respond to control commands in 250msec, with or witho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ing DSK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ptional/Variant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nar Lander provides the option to land automatically or allow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w to manually steer the spacecraf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uality Require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al-time requirements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he thrusters and the descent engine must be able to respond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ands from the computer system in real-ti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ault tolerance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unar Lander must be able to continue in its flight-path even when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 computer system (Primary Navigation Guidance &amp; Control) goes down. Lunar Land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be able to maintain system altitude even when one of the thrusters and propella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lies goes down in the Reaction Control Syste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Use Case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04760"/>
            <a:ext cx="371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use ca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the 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use c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in U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E367-ABCB-4F58-AA8C-BDB3DBD9F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4" descr="15-dm-usecase"/>
          <p:cNvPicPr/>
          <p:nvPr/>
        </p:nvPicPr>
        <p:blipFill>
          <a:blip r:embed="rId1"/>
          <a:stretch/>
        </p:blipFill>
        <p:spPr>
          <a:xfrm>
            <a:off x="3429000" y="2359080"/>
            <a:ext cx="5232240" cy="37368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ditional view of software engineering shows us how to come up with solutions for problem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 n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starting from scratch every time is infea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nvolve re-inventing many whe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we have built a number of systems that do similar things, we gain critical knowledge that lets us exploit common solutions to comm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ory, we can simply build “the difference” between our new target system and systems that have come bef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36B-1CA8-4B8E-9490-6CCEEB101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eature Model: Representation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ho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3D65-B0C5-4F4C-B6DE-A0E1C01D2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Slide6"/>
          <p:cNvPicPr/>
          <p:nvPr/>
        </p:nvPicPr>
        <p:blipFill>
          <a:blip r:embed="rId1"/>
          <a:stretch/>
        </p:blipFill>
        <p:spPr>
          <a:xfrm>
            <a:off x="2971800" y="1828800"/>
            <a:ext cx="5689440" cy="4267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Model: Data Flow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9E9-16F1-4EDC-A033-8FC6A71E1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" descr="15-dm-dataflow"/>
          <p:cNvPicPr/>
          <p:nvPr/>
        </p:nvPicPr>
        <p:blipFill>
          <a:blip r:embed="rId1"/>
          <a:stretch/>
        </p:blipFill>
        <p:spPr>
          <a:xfrm>
            <a:off x="2590920" y="1913040"/>
            <a:ext cx="6076800" cy="40305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2514240"/>
            <a:ext cx="205740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with n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on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 Flow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3277800"/>
            <a:ext cx="822960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flow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separate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77EB-A02F-4FD8-BFE4-9EF1EC8DB7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5" descr="15-dm-controlflow"/>
          <p:cNvPicPr/>
          <p:nvPr/>
        </p:nvPicPr>
        <p:blipFill>
          <a:blip r:embed="rId1"/>
          <a:stretch/>
        </p:blipFill>
        <p:spPr>
          <a:xfrm>
            <a:off x="4572000" y="838080"/>
            <a:ext cx="3998880" cy="54658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perational Model: State Transition Diagra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088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s on stat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system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s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mbles UM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dia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48AD-7F58-4B18-9939-AD23DD5F6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5" descr="15-dm-state"/>
          <p:cNvPicPr/>
          <p:nvPr/>
        </p:nvPicPr>
        <p:blipFill>
          <a:blip r:embed="rId1"/>
          <a:stretch/>
        </p:blipFill>
        <p:spPr>
          <a:xfrm>
            <a:off x="3637080" y="1752480"/>
            <a:ext cx="4973400" cy="449604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erenc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ndat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ust display the current status of the Lunar Lander (horizontal and vertical velocities, altitude, remaining fu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ust indicate points earned by player based on quality of land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Optio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display time elap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Vari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different levels of difficulty based on pilot experience (novice, expert, et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different types of input depending on wheth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uto Navigation is enab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uto Throttle is enabl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y have to land on different celestial bod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upiter’s mo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ster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6A2-AE0E-473A-A459-C0B00E046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. A domain-specific software architecture (DSSA)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ference architecture, which describes a general computational framework for a significant domain of application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onent library, which contains reusable chunks of domain expertise;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pplication configuration method for selecting and configuring components within the architecture to meet particular application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F66-2D84-4620-A649-DE99445833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6175080" y="58672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ayes-Ro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ion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 archite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set of principal design decisions that are simultaneously applicable to multiple related systems, typically within an application domain, with explicitly defined points of vari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 architectures are still architectures (since they are also sets of principal design decis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inguished by the presence of explicit points of variation (explicitly “unmade” decis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7BB-F3AB-40AC-A3C0-6EA4D79D3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fferent Kinds of 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single produc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ully worked out exemplar of a system in a domain, with optional documentation as to how to divers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latively weak due to lack of explicit guidance and possibility that example is a ‘toy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e invarian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of commonality as in ordinary architecture, points of variation are indicated but o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ariant architecture with explicit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s of commonality as in ordinary architecture, specific variations indicated and enumer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F0F6-637C-499E-B81A-9837EA484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 Referenc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al vie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Lunar Lan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arian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poi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7CEC-28B1-4045-98E4-780E9D304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4" descr="15-ra-structure"/>
          <p:cNvPicPr/>
          <p:nvPr/>
        </p:nvPicPr>
        <p:blipFill>
          <a:blip r:embed="rId1"/>
          <a:stretch/>
        </p:blipFill>
        <p:spPr>
          <a:xfrm>
            <a:off x="3470400" y="1835280"/>
            <a:ext cx="5140080" cy="4260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amples of Doma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ilers for programm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umer electron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ctronic commerce system/Web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deo g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siness applic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sic/Standard/“Pro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subdivide, to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ionics syst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eing Je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499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eing 747-4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139C-1052-4CB3-B2DC-B6B669F43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057560" y="3009960"/>
            <a:ext cx="4552920" cy="3314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raditional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5562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rticular problem can be solved in innumerable 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5D63-3447-4C8A-A49B-F1F1E339D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38293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Based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single problem, we select from a handful of potential architectural styles or architectures, and go from these into specific implem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0EA2-D5DD-433A-940D-22FADC4403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86400" cy="3581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Enginee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5028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map regions of the problem space (domains) into domain-specific software architectures (DSS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are specialized into application-specific archite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are impl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493C-DF49-40FC-86EA-FC0E2F6C5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rcRect l="0" t="5437" r="0" b="5774"/>
          <a:stretch/>
        </p:blipFill>
        <p:spPr>
          <a:xfrm>
            <a:off x="1752480" y="1874880"/>
            <a:ext cx="5867640" cy="323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-428400" y="6629400"/>
            <a:ext cx="1010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(C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 of DS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ust have a domain to constrain the problem space and focus development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ust have a variety of technological solutions—tools, patterns, architectures &amp; styles, legacy systems—to bring to bear on a domain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usines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75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Business goals motivate the use of DSS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inimizing costs: reuse assets when possibl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575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aximize market: develop many related applications for different kinds of end user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53FE-96CC-4FB5-9230-688563C97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Key Fa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600200"/>
            <a:ext cx="4190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have a dom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onstra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sp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foc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E21A-B15F-4D08-B910-A4BE5B6147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3886200" y="1676520"/>
            <a:ext cx="327672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5562720" y="1676520"/>
            <a:ext cx="3276360" cy="32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4800600" y="3200400"/>
            <a:ext cx="3276720" cy="327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118400" y="2819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242480" y="281952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566680" y="54100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419720" y="1295280"/>
            <a:ext cx="990360" cy="1067040"/>
          </a:xfrm>
          <a:prstGeom prst="downArrow">
            <a:avLst>
              <a:gd name="adj1" fmla="val 50000"/>
              <a:gd name="adj2" fmla="val 269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5:59:41Z</dcterms:modified>
  <cp:revision>51</cp:revision>
  <dc:subject>Software Architecture: Foundations, Theory, and Practice</dc:subject>
  <dc:title>Intro to Domain-Specific Software Engineering</dc:title>
</cp:coreProperties>
</file>