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5126-A939-4012-B169-9A9E2746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0E15-880D-4C1D-8C48-D0A24F49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6745-33F1-4329-AC74-FEE22D80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3D35-6B37-4694-95D4-7E1E4C1C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F928-D4F8-4070-B84F-7B4485E2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B0A4-B47E-4329-9E67-B38871C8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BBEC-0B83-4453-8FB2-0159CFC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91A0-D69C-41F0-8684-C455AC4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2644-58B2-4982-805F-617DA5E0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541B-AAE1-4695-9983-1A8491E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250-32DA-453B-95CB-8351C4F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00CA-5C3D-467D-8AF7-C64EBDC0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BB96-4217-4B8D-8B03-EB69D11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8233-3E42-41C6-97EF-74A72D87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3674-EDD1-4ED8-916E-CF73AF7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ED8-DD42-4B24-BDAB-4553AB05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EDC6-93C7-4340-B4BA-AA83C571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3A51-58C8-4BEA-B26F-E8C71D5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A968-B03C-4281-B646-5CC4B9EF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1F26-9569-46D3-A73F-159D69C7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DE1A-1EB9-4DE6-93AC-5609D6E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7063-AD56-49BB-BCC4-B31A70A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00A2-9E45-4343-AD44-BB6D7B3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25FC-F9C2-4726-B232-DF75F0B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A3B3-5D4D-43E6-924F-FFF530D80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5DD7-8994-4162-A60C-D715788C3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tro to Domain-Specific Software Engineering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have a variety of technological solutions—tools, patterns, architectures &amp; styles, legacy systems—to bring to bear on a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4AD4-BF1C-4DAC-9FF7-A168F3DDA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0"/>
          <p:cNvSpPr/>
          <p:nvPr/>
        </p:nvSpPr>
        <p:spPr>
          <a:xfrm rot="10800000">
            <a:off x="5943600" y="579096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52388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goals motivate the use of DS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ing costs: reuse asse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market: develop many related applications for different kinds of end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C5F-E9BA-4197-B71A-FAC4D8D76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2"/>
          <p:cNvSpPr/>
          <p:nvPr/>
        </p:nvSpPr>
        <p:spPr>
          <a:xfrm>
            <a:off x="3886200" y="16002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5562720" y="160020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4800600" y="31240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118400" y="274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242480" y="27432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566680" y="5334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7315200" y="1295280"/>
            <a:ext cx="990720" cy="1067040"/>
          </a:xfrm>
          <a:prstGeom prst="downArrow">
            <a:avLst>
              <a:gd name="adj1" fmla="val 50000"/>
              <a:gd name="adj2" fmla="val 2692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+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C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ci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expert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gment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ume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CF18-9006-42E0-A1FF-72A598827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2"/>
          <p:cNvSpPr/>
          <p:nvPr/>
        </p:nvSpPr>
        <p:spPr>
          <a:xfrm>
            <a:off x="3886200" y="16002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5562720" y="160020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800600" y="31240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118400" y="274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242480" y="27432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566680" y="5334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5867280" y="121932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520" y="15238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+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Fami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i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nform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constrain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go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E28E-799B-4159-BF00-D16339163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"/>
          <p:cNvSpPr/>
          <p:nvPr/>
        </p:nvSpPr>
        <p:spPr>
          <a:xfrm>
            <a:off x="3962520" y="160020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5638680" y="16002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876920" y="31240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194720" y="274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318800" y="27432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643000" y="5334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"/>
          <p:cNvSpPr/>
          <p:nvPr/>
        </p:nvSpPr>
        <p:spPr>
          <a:xfrm rot="14400000">
            <a:off x="4381200" y="422892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4479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+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indepen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ques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of 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ost generic ADLs, UML, compilers, word processors, general-purpose P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0F44-AB3F-49BF-8BC5-F1DE8BFEB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0"/>
          <p:cNvSpPr/>
          <p:nvPr/>
        </p:nvSpPr>
        <p:spPr>
          <a:xfrm flipH="1" rot="7200000">
            <a:off x="7581600" y="400032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160" y="1447920"/>
            <a:ext cx="4190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+ Business +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-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ing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s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omain-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s, temper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and mark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17BF-E5C1-4681-8E08-2E7F09649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0"/>
          <p:cNvSpPr/>
          <p:nvPr/>
        </p:nvSpPr>
        <p:spPr>
          <a:xfrm flipH="1" rot="19800000">
            <a:off x="5333760" y="2514600"/>
            <a:ext cx="990360" cy="1066680"/>
          </a:xfrm>
          <a:prstGeom prst="downArrow">
            <a:avLst>
              <a:gd name="adj1" fmla="val 50000"/>
              <a:gd name="adj2" fmla="val 269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447920"/>
            <a:ext cx="4419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-Lin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fic, related 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solutions with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roader DS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ocu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alitie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ility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F6D-1415-4920-8290-2839A1DF5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6019920" y="3429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0"/>
          <p:cNvSpPr/>
          <p:nvPr/>
        </p:nvSpPr>
        <p:spPr>
          <a:xfrm flipH="1" rot="19800000">
            <a:off x="5562360" y="2743200"/>
            <a:ext cx="990360" cy="1066680"/>
          </a:xfrm>
          <a:prstGeom prst="downArrow">
            <a:avLst>
              <a:gd name="adj1" fmla="val 50000"/>
              <a:gd name="adj2" fmla="val 269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coming More Concre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ing DSSE means developing a set of artifacts more specific than an ordinary softwar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aspects of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domain-specific solutions, techniques, and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omain 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omain-specific software architecture (DS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51C-E389-48A4-BAD9-6874E319A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omain model is a set of artifacts that capture information about a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(also known as entities) that perform the functions, and on which the functions ar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d information that flows through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s terminology and 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he basis for standardizing (or at least normalizing) descriptions of problems to be solved in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9764-3443-43DA-8659-3F1FE961C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B539-DE03-4976-B011-964822DE7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5" descr="15-dm-elts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527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at is domain-specific software engineering (DSS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“Three Lampposts” of DSSE: Domain, Business, and Technolog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main Specific Software Architectu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duct Lin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hip between DSSAs, Product Lines, and Architectural Sty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s of DSSE a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D60A-B16A-4FF0-BEC3-1BBC86FE8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vocabulary for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5ED3-3C9C-4741-B6B0-FB0993906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" descr="15-dm-elts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45273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>
            <a:off x="2438280" y="5410080"/>
            <a:ext cx="457200" cy="60984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the entities and data in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80E3-E5A0-44EF-91CF-E74D2C84B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15-dm-elts"/>
          <p:cNvPicPr/>
          <p:nvPr/>
        </p:nvPicPr>
        <p:blipFill>
          <a:blip r:embed="rId1"/>
          <a:stretch/>
        </p:blipFill>
        <p:spPr>
          <a:xfrm>
            <a:off x="1828800" y="1415880"/>
            <a:ext cx="5410080" cy="45277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3809880" y="5410080"/>
            <a:ext cx="457200" cy="60984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how entities and data combine to provide featur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A219-B6B6-416F-9DAB-717B0D2C86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15-dm-elts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4527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4952880" y="55627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6095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ow data and control flow through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B50D-EE0E-4003-B879-50DF19FCC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15-dm-elts"/>
          <p:cNvPicPr/>
          <p:nvPr/>
        </p:nvPicPr>
        <p:blipFill>
          <a:blip r:embed="rId1"/>
          <a:stretch/>
        </p:blipFill>
        <p:spPr>
          <a:xfrm>
            <a:off x="1828800" y="1568520"/>
            <a:ext cx="5410080" cy="45273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6248520" y="548640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Partial) Domain Diction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8604-48C9-438F-9B88-0DD48C0D7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57200" y="1752480"/>
            <a:ext cx="815328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unar Module (LM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is the portion of the spacecraft that lands on the moon.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t consists of two main parts: the Ascent Stage (which holds the crew cabin) and th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cent Stage, which contains thrusters used for controlling the landing of the L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action Control System (RCS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system on the Lunar Module responsible for th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bilization during lunar surface ascent/descent and control of the spacecraft’s orientatio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ttitude) and motion (translation) during maneu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ertical velocity (see also One-dimensional motion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a free-falling object with no air resistance, ignoring the rotation of the lunar surfa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altitude is calculated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y = ½ * a * t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+ v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* t + y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y =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= constant acceleration due to gravity on a lunar body (se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leratio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sample 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time in seconds;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velocity;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en thrust is applied, the following equation is u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y = ½ * (a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burner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– a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gravity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) * t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+ v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* t + y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 =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burn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constant acceleration upward due to th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gravit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constant acceleration due to gravity on a lun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se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leratio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sample 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time in seconds;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velocity;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altitud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 Model: Context Info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523520"/>
            <a:ext cx="281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igh-level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what is considered inside and outside the domain (or subdoma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relationships and high-level f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DD78-7D7C-4AA5-A4DC-D573298E2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icture 4"/>
          <p:cNvSpPr/>
          <p:nvPr/>
        </p:nvSpPr>
        <p:spPr>
          <a:xfrm>
            <a:off x="3505320" y="1523880"/>
            <a:ext cx="50101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fig_15_09.jpg"/>
          <p:cNvPicPr/>
          <p:nvPr/>
        </p:nvPicPr>
        <p:blipFill>
          <a:blip r:embed="rId1"/>
          <a:stretch/>
        </p:blipFill>
        <p:spPr>
          <a:xfrm>
            <a:off x="3809880" y="1523880"/>
            <a:ext cx="4648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 Model: Entity-Relationship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6960" y="2057040"/>
            <a:ext cx="2697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entit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ardinal relationships between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4885-3160-4065-8935-1F8CCF8B2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icture 6"/>
          <p:cNvSpPr/>
          <p:nvPr/>
        </p:nvSpPr>
        <p:spPr>
          <a:xfrm>
            <a:off x="2133720" y="1676520"/>
            <a:ext cx="66862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fig_15_10.jpg"/>
          <p:cNvPicPr/>
          <p:nvPr/>
        </p:nvPicPr>
        <p:blipFill>
          <a:blip r:embed="rId1"/>
          <a:stretch/>
        </p:blipFill>
        <p:spPr>
          <a:xfrm>
            <a:off x="3200400" y="1582560"/>
            <a:ext cx="541008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 Model: Object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904760"/>
            <a:ext cx="306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attributes and operations on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ly resembles class diagram in UML but may be more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50A-AD8A-4522-B7DF-CE1F403AC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fig_15_11.jpg"/>
          <p:cNvPicPr/>
          <p:nvPr/>
        </p:nvPicPr>
        <p:blipFill>
          <a:blip r:embed="rId1"/>
          <a:stretch/>
        </p:blipFill>
        <p:spPr>
          <a:xfrm>
            <a:off x="3916440" y="1981080"/>
            <a:ext cx="477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ature Model: Feature Relationship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44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overall mission operation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major features and de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6046-1269-4F3F-B233-10E981E31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26440" y="1805040"/>
            <a:ext cx="88340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eature Relationship Diagram – Landing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datory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Lunar Lander must continually read altitude from the Landing Radar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y that data to Houston with less than 500 msec of latency. Astronauts must be able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the descent of the Lunar Lander using manual control on the descent engin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descent engine must respond to control commands in 250msec, with or witho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ing DSK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onal/Variant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unar Lander provides the option to land automatically or allow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w to manually steer the spacecr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uality Requir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al-time requirements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he thrusters and the descent engine must be able to respond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ands from the computer system in real-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ault tolerance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unar Lander must be able to continue in its flight-path even when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 computer system (Primary Navigation Guidance &amp; Control) goes down. Lunar Land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be able to maintain system altitude even when one of the thrusters and propella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lies goes down in the Reaction Control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ature Model: Use Case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04760"/>
            <a:ext cx="3711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use ca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use c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in U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5615-0172-496E-B1D9-301A78F83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15-dm-usecase"/>
          <p:cNvPicPr/>
          <p:nvPr/>
        </p:nvPicPr>
        <p:blipFill>
          <a:blip r:embed="rId1"/>
          <a:stretch/>
        </p:blipFill>
        <p:spPr>
          <a:xfrm>
            <a:off x="3429000" y="2359080"/>
            <a:ext cx="5232240" cy="3736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ditional view of software engineering shows us how to come up with solutions for problem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 n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starting from scratch every time is infea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ill involve re-inventing many whe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we have built a number of systems that do similar things, we gain critical knowledge that lets us exploit common solutions to comm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ory, we can simply build “the difference” between our new target system and systems that have come bef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237D-1B14-4969-935C-EBBCAF55A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ature Model: Representation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13B6-0BF4-42B5-A5D2-7E2BF53A0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Slide6"/>
          <p:cNvPicPr/>
          <p:nvPr/>
        </p:nvPicPr>
        <p:blipFill>
          <a:blip r:embed="rId1"/>
          <a:stretch/>
        </p:blipFill>
        <p:spPr>
          <a:xfrm>
            <a:off x="2971800" y="1828800"/>
            <a:ext cx="5689440" cy="4267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erational Model: Data Flow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70A-EF78-4CD5-A37E-B5FAAE9DE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15-dm-dataflow"/>
          <p:cNvPicPr/>
          <p:nvPr/>
        </p:nvPicPr>
        <p:blipFill>
          <a:blip r:embed="rId1"/>
          <a:stretch/>
        </p:blipFill>
        <p:spPr>
          <a:xfrm>
            <a:off x="2590920" y="1913040"/>
            <a:ext cx="6076800" cy="40305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2514240"/>
            <a:ext cx="205740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with n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on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era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 Flow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3277800"/>
            <a:ext cx="822960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flow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separat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DA05-BC28-4922-B67C-F3BAD1137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5" descr="15-dm-controlflow"/>
          <p:cNvPicPr/>
          <p:nvPr/>
        </p:nvPicPr>
        <p:blipFill>
          <a:blip r:embed="rId1"/>
          <a:stretch/>
        </p:blipFill>
        <p:spPr>
          <a:xfrm>
            <a:off x="4572000" y="838080"/>
            <a:ext cx="3998880" cy="54658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erational Model: State Transition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 st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system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s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mbles U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D673-92DE-4BCD-9B20-3344DD851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5" descr="15-dm-state"/>
          <p:cNvPicPr/>
          <p:nvPr/>
        </p:nvPicPr>
        <p:blipFill>
          <a:blip r:embed="rId1"/>
          <a:stretch/>
        </p:blipFill>
        <p:spPr>
          <a:xfrm>
            <a:off x="3637080" y="1752480"/>
            <a:ext cx="4973400" cy="44960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erence Requir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nda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ust display the current status of the Lunar Lander (horizontal and vertical velocities, altitude, remaining fue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ust indicate points earned by player based on quality of land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display time elap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Vari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have different levels of difficulty based on pilot experience (novice, expert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have different types of input depending on whet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uto Navigation is enab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uto Throttle is enab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have to land on different celestial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Jupiter’s mo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ster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FF1-86B5-4A80-98A5-D90036630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. A domain-specific software architecture (DSSA)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ference architecture, which describes a general computational framework for a significant domain of application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onent library, which contains reusable chunks of domain expertise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pplication configuration method for selecting and configuring components within the architecture to meet particular application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6B5A-5784-4593-BD9C-01F277CEF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175080" y="58672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ayes-R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erenc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set of principal design decisions that are simultaneously applicable to multiple related systems, typically within an application domain, with explicitly defined points of var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architectures are still architectures (since they are also sets of principal design decis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guished by the presence of explicit points of variation (explicitly “unmade” decis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7C5A-D3F3-40B4-A0F6-3F276FA03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fferent Kinds of Referenc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single produc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ully worked out exemplar of a system in a domain, with optional documentation as to how to divers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latively weak due to lack of explicit guidance and possibility that example is a ‘toy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plete invarian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of commonality as in ordinary architecture, points of variation are indicated but o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ariant architecture with explicit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of commonality as in ordinary architecture, specific variations indicated and enum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2C87-ADCD-4C83-A66E-776268EC6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 Referenc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al 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Lunar Lan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ariant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poi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6954-F2C8-4D11-8BFC-3B5BB0C2E3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4" descr="15-ra-structure"/>
          <p:cNvPicPr/>
          <p:nvPr/>
        </p:nvPicPr>
        <p:blipFill>
          <a:blip r:embed="rId1"/>
          <a:stretch/>
        </p:blipFill>
        <p:spPr>
          <a:xfrm>
            <a:off x="3470400" y="1835280"/>
            <a:ext cx="5140080" cy="4260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s of Doma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for programm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umer electron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ctronic commerce system/Web sto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ideo g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siness appl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ic/Standard/“Pro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subdivide, to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ionics syst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eing Je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499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eing 747-4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5E14-9C54-4397-9700-292F735EC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057560" y="3009960"/>
            <a:ext cx="4552920" cy="3314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aditional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rticular problem can be solved in innumerable 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437C-A99A-443F-8BE9-060BB0ACC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3829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-Based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single problem, we select from a handful of potential architectural styles or architectures, and go from these into specific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6128-1113-42FC-9120-E4043CF2E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3581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p regions of the problem space (domains) into domain-specific software architectures (DSS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are specialized into application-specific archite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are impl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042D-63BD-4CDA-9A6A-64C1FA67B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rcRect l="0" t="5437" r="0" b="5774"/>
          <a:stretch/>
        </p:blipFill>
        <p:spPr>
          <a:xfrm>
            <a:off x="1752480" y="1874880"/>
            <a:ext cx="5867640" cy="3230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 of DS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7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ust have a domain to constrain the problem space and focus developm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7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ust have a variety of technological solutions—tools, patterns, architectures &amp; styles, legacy systems—to bring to bear on a domai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7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usiness goals motivate the use of DSS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inimizing costs: reuse assets when possibl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aximize market: develop many related applications for different kinds of end use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7F43-3FAD-4679-9FA2-8D1721DF6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60020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have a dom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onstra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sp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foc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BEF-5467-4A47-9AEF-CFEB73A72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3886200" y="16765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562720" y="1676520"/>
            <a:ext cx="327636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4800600" y="32004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118400" y="2819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242480" y="2819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566680" y="54100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419720" y="1295280"/>
            <a:ext cx="990360" cy="1067040"/>
          </a:xfrm>
          <a:prstGeom prst="downArrow">
            <a:avLst>
              <a:gd name="adj1" fmla="val 50000"/>
              <a:gd name="adj2" fmla="val 269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5:59:41Z</dcterms:modified>
  <cp:revision>51</cp:revision>
  <dc:subject>Software Architecture: Foundations, Theory, and Practice</dc:subject>
  <dc:title>Intro to Domain-Specific Software Engineering</dc:title>
</cp:coreProperties>
</file>