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EDA-6CC3-4BFC-B641-BAB57B84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F25-C943-4131-AB24-7DC1B40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E8A-5049-434E-8BC4-BDEDC640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CAB-39DF-4E46-8FEA-5C96CDF6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57E-21FD-48C9-A438-84221ED6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4F9E-5D1E-4038-892C-82FC072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9300-C1F1-4B85-BCBF-B50BD0E5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FFC7-320B-4980-AB87-A09D2EB0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894-0FD1-4453-B516-F261406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B47C-8B13-4126-A0E1-7C98A1E0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5B79-1EA5-4598-8745-D4D703C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4E2-E958-4F6E-A07F-E61570A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F81-A44E-4C51-9C1B-C6AB8A9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58B-ADC3-48A1-9F74-49F66EE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5E2-C3CF-4B66-8220-09818E5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5127-4401-475F-8DFA-73AB8BCC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CAD-B648-47F5-BE0A-B3D97379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643-1264-4C4E-990F-BF5BB97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093-F8CB-4B8F-8CE0-C6507FF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97E-93E2-4396-B541-6E57ECBB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19C-B66C-490D-A2C1-5B5162A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C8C-EEBB-4A8C-8855-3B7C8E0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5B5-F79D-4609-BC04-7245AA4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469-542A-4B78-AAC6-6246215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8F1A-C292-46A1-BD7E-D20297975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CA4-44FB-4461-857A-A947DDE18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82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e024e0"/>
                </a:solidFill>
                <a:latin typeface="Arial"/>
              </a:rPr>
              <a:t>المحاضرة السادسة عشرة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مادة مشوهة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rat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ي عامل فيزيائي (اشعة) او كيميائي له القدرة على احداث عيوب خلقية في النسل اوله القدرة على زيادة معدل (نسبة) حدوث العيوب الخلقية في النس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24e0"/>
                </a:solidFill>
                <a:latin typeface="Arial"/>
              </a:rPr>
              <a:t>Congenital</a:t>
            </a:r>
            <a:r>
              <a:rPr b="1" lang="ar-SA" sz="3200" spc="-1" strike="noStrike">
                <a:solidFill>
                  <a:srgbClr val="e024e0"/>
                </a:solidFill>
                <a:latin typeface="Arial"/>
              </a:rPr>
              <a:t>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يب خلقي / عيب موجود عند الولاد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عيب الخلقي ليس بالضرورة ان يكون ناتجا عن عوامل وراث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علم التشوه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ra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العلم الذي يختص بدراسة العيوب الخلقية التي تنشأ من أخطاء خلال عملية التكوين نتيجة تعرض الامهات الحوامل واجنتها لعوامل مشوه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7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مميتة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et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ت التي يؤدي وجودها في الكائن الحي الى موته خل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رحلة معينة من مراحل تكوينه الجنيني او عند الولادة او بعدها بقليل . (اساسا جينات اساسية لبقاء الكائن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شبه المميته :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milet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 التي يؤدي وجودها في الكائنات الحية المكونه لعشيرة ما الى موت نسبة من هذه الافراد (وليس كلها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ضار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تلك الجينات التي لاتتسبب في موت الكائن الحي الذي يمتلكها ولكنها تؤدي الى انخفاض حيويته او نشاطه او قوته وقد لاترتبط بعيوب خار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الجينات المميت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سائد وحالي التأثير    موت كل الافراد الحاملة له     فق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سائد ومتأخرالتأثير    تأخر تأثيره الى فت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د تمتد الى سنوات عديدة من حياة الكائن الحي الذي يحمل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مثال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ين المسبب لمرض هنذ     في الانسان :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d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اذا كان الجين متنحي : العديد من الجين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ئران  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طط  , الجين المسبب للدجاج الزاحف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ي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ين متنحي من حيث موت الفرد الذي يحم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جين سائد من حيث لون الفراء (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راء اصف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19280" y="112536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227640" y="148428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19280" y="206064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17080" y="4437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36000" y="4437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80000" y="4437000"/>
            <a:ext cx="13356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L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67640" y="544500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16360" y="595008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ئران صفراء الفراء × فئران صفرا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اء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صفر الفراء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جوت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(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A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 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وت خلال التكوين الجي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اعد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سب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عتبر صفة مميزة للحالات التي تشتمل فيها التزاوجات على جينات مميته متنح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244000" y="26028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19280" y="33336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637000"/>
            <a:ext cx="50508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0872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1200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360" y="2060640"/>
            <a:ext cx="13320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جين متعدد التأثير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و ذلك الجين الذي يؤثر على صفتين او اكثر من الصفات الوراثية للكائن الح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عظم الجينات تأثير متعدد, الا ان الجين يسمى عادة باسم الطراز المظهري او الصفة الاكثر وضوحا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مثال ذلك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قر الدم المنجلي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ون الفراء الاص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واء الذي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80000" y="508464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تأثيرات المتعددة للجين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leiotrop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44000" y="5157720"/>
            <a:ext cx="13320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نفاذية :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enetr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التعريف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ة الافراد التي تمتلك نوع معين من التراكيب الوراثية والتي تظهر الشكل المظهري المتوق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مثالها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فئران ملتوية الذيل(الج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=جين جسدي متنح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ctct x ct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(فئران ذات ذيول متعرج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ct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-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% فقط منها ذات ذيول متعر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ذا نفاذية هذا الجين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-6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و كان لهذا الجين نفاذية كاملة, لكان لكل فرد ذيل متعرج (في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س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364500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تعبيرية 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Expressiv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التعريف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درجة تعبير جين من الجينات التي يمتلكها الفرد في اظهار الطراز المظهري المعين بدلالة الانحراف عن الطراز المظهري الطبيع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فئران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tc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شكل الذيول فيها متباين جد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اذان هذا الجين متباين التعبيرية ايض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شدة المرض لجين طافر مع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متباين بين افراد الانسان المصاب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024e0"/>
                </a:solidFill>
                <a:latin typeface="Arial"/>
              </a:rPr>
              <a:t>قاعد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أثير الجين على مستوى الطراز المظهري لايعتمد فقط على السيادة والتنحى , ولكن ايضا على التأثير المحور لبقية الجينيوم والبيئ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924000" y="443700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72000" y="335772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e024e0"/>
                </a:solidFill>
                <a:latin typeface="Arial"/>
              </a:rPr>
              <a:t>. النسخ المظهري : </a:t>
            </a:r>
            <a:r>
              <a:rPr b="0" lang="en-US" sz="4400" spc="-1" strike="noStrike">
                <a:solidFill>
                  <a:srgbClr val="e024e0"/>
                </a:solidFill>
                <a:latin typeface="Arial"/>
              </a:rPr>
              <a:t>Phenocop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نسخة مظهرية =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و الطراز المظهري الذي تسببه عوامل بيئية معينة والذي يماثل (يشابه) طراز مظهري منتج عن طرق طفرات جينية (وراثيا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مثال للمواد التي تسبب نسخ مظهر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عقار التاليدوماي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ظاهر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com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طراف مختزل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اذا تم  تناول هذا العقار خلال الفترة المبكرة من الحم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وفي الانسان :</a:t>
            </a:r>
            <a:r>
              <a:rPr b="0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ن هناك جين طافر معين      نفس الظاهرة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08720" y="407664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1600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mmc</a:t>
            </a:r>
            <a:r>
              <a:rPr b="0" lang="ar-SA" sz="2800" spc="-1" strike="noStrike">
                <a:solidFill>
                  <a:srgbClr val="e024e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e024e0"/>
                </a:solidFill>
                <a:latin typeface="Arial"/>
              </a:rPr>
              <a:t>mitomycin-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ذا اعطى خلال الحمل لاناث الفئرا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العديد من العيوب التي  تشاب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العديد من العيوب التي تحدد وراثي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الاشعه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خلال الحمل (وبجرعة او جرعات مؤثرة )    العديد من العيوب 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نترات الفضة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ذا تم خلطها مع بيئة النم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لال التكوين الجنيني للدروسفيلا        جسم اصفر اللون(بدل  الرماد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Arial"/>
              </a:rPr>
              <a:t>الجين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ذكور صفراء الجس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اناث صفراء الجس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حظ ان: النسخة المظهرية لاتورث , بينما الطفرة الوراثية       تور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052640"/>
            <a:ext cx="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00720" y="4005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66920" y="508464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866920" y="458136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92360" y="558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32720" y="436572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59640" y="486900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20000" y="4869000"/>
            <a:ext cx="75960" cy="1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ood</cp:lastModifiedBy>
  <dcterms:modified xsi:type="dcterms:W3CDTF">2009-02-17T17:57:54Z</dcterms:modified>
  <cp:revision>5</cp:revision>
  <dc:subject/>
  <dc:title>المحاضرة الثالثة عشرة </dc:title>
</cp:coreProperties>
</file>