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DD3-4B53-48CB-A9CD-7AD98CCE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910-72F5-4893-BB1D-F3581992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0A4-3E83-4317-927B-AFC5F405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EA5-6445-48E9-B99A-F3C35580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30D7-A0FA-4C12-93D1-C5B2E1FB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67FB-08CC-4956-9F5F-F8317AA3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F3A8-54BB-4F78-82AE-BFA865DA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A882-948B-4D0C-A58B-BA645DAE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75C1-FF57-40FD-89BE-81FD5176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CDED-A3EE-4D14-92C5-AA61D81C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DA61-BBFF-44A9-BD67-21C7A683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E09-3BFC-4B7D-AB4B-D5FD0AAD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9A68-D8AC-48CF-9A5F-2078E8FD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3D53-3F0D-4FE1-B76D-0C7ECE8D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FB45-C478-476F-BC6F-6A1F592A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7E1C-AB43-4D41-AD19-8A340879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B52C-1737-484F-B9BF-E2B49940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0B7-5C18-4F32-87A4-29375927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188-9B18-441B-A2BE-C46BA5CE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3A2-0209-44E6-8E6D-579514D3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9B4-3B10-4AD2-992B-2FA862C0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3F6-79E5-446D-BB82-0B3A2BB3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44F9-ECA8-4197-BB6C-3345426E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E86-07A0-418D-8440-657BB92A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389C-CDF7-48E8-9C84-C8D8771CC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513F-23FB-4031-B02F-92A6AB129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828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e024e0"/>
                </a:solidFill>
                <a:latin typeface="Arial"/>
              </a:rPr>
              <a:t>المحاضرة السادسة عشرة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مادة مشوهة :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erat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ي عامل فيزيائي (اشعة) او كيميائي له القدرة على احداث عيوب خلقية في النسل اوله القدرة على زيادة معدل (نسبة) حدوث العيوب الخلقية في النس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24e0"/>
                </a:solidFill>
                <a:latin typeface="Arial"/>
              </a:rPr>
              <a:t>Congenital</a:t>
            </a:r>
            <a:r>
              <a:rPr b="1" lang="ar-SA" sz="3200" spc="-1" strike="noStrike">
                <a:solidFill>
                  <a:srgbClr val="e024e0"/>
                </a:solidFill>
                <a:latin typeface="Arial"/>
              </a:rPr>
              <a:t> =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عيب خلقي / عيب موجود عند الولاد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العيب الخلقي ليس بالضرورة ان يكون ناتجا عن عوامل وراث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علم التشوه :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era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و العلم الذي يختص بدراسة العيوب الخلقية التي تنشأ من أخطاء خلال عملية التكوين نتيجة تعرض الامهات الحوامل واجنتها لعوامل مشوه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372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الجينات المميتة :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eth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 تلك الجينات التي يؤدي وجودها في الكائن الحي الى موته خل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رحلة معينة من مراحل تكوينه الجنيني او عند الولادة او بعدها بقليل . (اساسا جينات اساسية لبقاء الكائن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الجينات شبه المميته :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mileth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 تلك الجينا التي يؤدي وجودها في الكائنات الحية المكونه لعشيرة ما الى موت نسبة من هذه الافراد (وليس كلها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الجينات الضار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 تلك الجينات التي لاتتسبب في موت الكائن الحي الذي يمتلكها ولكنها تؤدي الى انخفاض حيويته او نشاطه او قوته وقد لاترتبط بعيوب خار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الجينات المميته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024e0"/>
                </a:solidFill>
                <a:latin typeface="Arial"/>
              </a:rPr>
              <a:t>اذا كان الجين سائد وحالي التأثير    موت كل الافراد الحاملة له     فقد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024e0"/>
                </a:solidFill>
                <a:latin typeface="Arial"/>
              </a:rPr>
              <a:t>اذا كان الجين سائد ومتأخرالتأثير    تأخر تأثيره الى فتر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024e0"/>
                </a:solidFill>
                <a:latin typeface="Arial"/>
              </a:rPr>
              <a:t>قد تمتد الى سنوات عديدة من حياة الكائن الحي الذي يحمل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"/>
              </a:rPr>
              <a:t>مثال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جين المسبب لمرض هنذ     في الانسان :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dg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024e0"/>
                </a:solidFill>
                <a:latin typeface="Arial"/>
              </a:rPr>
              <a:t>اذا كان الجين متنحي : العديد من الجينات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,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ئران  ,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قطط  , الجين المسبب للدجاج الزاحف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جي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ين متنحي من حيث موت الفرد الذي يحمل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جين سائد من حيث لون الفراء ( 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راء اصفر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19280" y="1125360"/>
            <a:ext cx="431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227640" y="1484280"/>
            <a:ext cx="43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419280" y="2060640"/>
            <a:ext cx="431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17080" y="4437000"/>
            <a:ext cx="13320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236000" y="4437000"/>
            <a:ext cx="13320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580000" y="4437000"/>
            <a:ext cx="13356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L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67640" y="5445000"/>
            <a:ext cx="13320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16360" y="5950080"/>
            <a:ext cx="13320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ئران صفراء الفراء × فئران صفرا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فراء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صفر الفراء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جوت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       (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 A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: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 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: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موت خلال التكوين الجين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024e0"/>
                </a:solidFill>
                <a:latin typeface="Arial"/>
              </a:rPr>
              <a:t>قاعد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نسبة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: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عتبر صفة مميزة للحالات التي تشتمل فيها التزاوجات على جينات مميته متنح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244000" y="260280"/>
            <a:ext cx="13320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19280" y="333360"/>
            <a:ext cx="13320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5003640" y="83664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637000"/>
            <a:ext cx="50508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508720" y="2060640"/>
            <a:ext cx="13320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12000" y="2060640"/>
            <a:ext cx="13320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40360" y="2060640"/>
            <a:ext cx="13320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"/>
              </a:rPr>
              <a:t>جين متعدد التأثير =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و ذلك الجين الذي يؤثر على صفتين او اكثر من الصفات الوراثية للكائن الحي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عظم الجينات تأثير متعدد, الا ان الجين يسمى عادة باسم الطراز المظهري او الصفة الاكثر وضوحا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"/>
              </a:rPr>
              <a:t>مثال ذلك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قر الدم المنجلي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لون الفراء الاص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واء الذي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780000" y="5084640"/>
            <a:ext cx="13320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024e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e024e0"/>
                </a:solidFill>
                <a:latin typeface="Arial"/>
              </a:rPr>
              <a:t>. التأثيرات المتعددة للجين: </a:t>
            </a:r>
            <a:r>
              <a:rPr b="0" lang="en-US" sz="4400" spc="-1" strike="noStrike">
                <a:solidFill>
                  <a:srgbClr val="e024e0"/>
                </a:solidFill>
                <a:latin typeface="Arial"/>
              </a:rPr>
              <a:t>Pleiotrop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44000" y="5157720"/>
            <a:ext cx="13320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024e0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e024e0"/>
                </a:solidFill>
                <a:latin typeface="Arial"/>
              </a:rPr>
              <a:t>. النفاذية :</a:t>
            </a:r>
            <a:r>
              <a:rPr b="0" lang="en-US" sz="4400" spc="-1" strike="noStrike">
                <a:solidFill>
                  <a:srgbClr val="e024e0"/>
                </a:solidFill>
                <a:latin typeface="Arial"/>
              </a:rPr>
              <a:t>Penetran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التعريف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سبة الافراد التي تمتلك نوع معين من التراكيب الوراثية والتي تظهر الشكل المظهري المتوق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مثالها 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لفئران ملتوية الذيل(الجين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=جين جسدي متنحي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24e0"/>
                </a:solidFill>
                <a:latin typeface="Arial"/>
              </a:rPr>
              <a:t>ctct x ct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(فئران ذات ذيول متعرجة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e024e0"/>
                </a:solidFill>
                <a:latin typeface="Arial"/>
              </a:rPr>
              <a:t>ctc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0-6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% فقط منها ذات ذيول متعر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ذا نفاذية هذا الجين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0-6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و كان لهذا الجين نفاذية كاملة, لكان لكل فرد ذيل متعرج (في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نسل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364500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024e0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e024e0"/>
                </a:solidFill>
                <a:latin typeface="Arial"/>
              </a:rPr>
              <a:t>. التعبيرية : </a:t>
            </a:r>
            <a:r>
              <a:rPr b="0" lang="en-US" sz="4400" spc="-1" strike="noStrike">
                <a:solidFill>
                  <a:srgbClr val="e024e0"/>
                </a:solidFill>
                <a:latin typeface="Arial"/>
              </a:rPr>
              <a:t>Expressiv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"/>
              </a:rPr>
              <a:t>التعريف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درجة تعبير جين من الجينات التي يمتلكها الفرد في اظهار الطراز المظهري المعين بدلالة الانحراف عن الطراز المظهري الطبيع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الفئران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tc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شكل الذيول فيها متباين جدا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اذان هذا الجين متباين التعبيرية ايضا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"/>
              </a:rPr>
              <a:t>شدة المرض لجين طافر معي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متباين بين افراد الانسان المصاب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024e0"/>
                </a:solidFill>
                <a:latin typeface="Arial"/>
              </a:rPr>
              <a:t>قاعدة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أثير الجين على مستوى الطراز المظهري لايعتمد فقط على السيادة والتنحى , ولكن ايضا على التأثير المحور لبقية الجينيوم والبيئ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924000" y="4437000"/>
            <a:ext cx="431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72000" y="335772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024e0"/>
                </a:solidFill>
                <a:latin typeface="Arial"/>
              </a:rPr>
              <a:t>5</a:t>
            </a:r>
            <a:r>
              <a:rPr b="0" lang="ar-SA" sz="4400" spc="-1" strike="noStrike">
                <a:solidFill>
                  <a:srgbClr val="e024e0"/>
                </a:solidFill>
                <a:latin typeface="Arial"/>
              </a:rPr>
              <a:t>. النسخ المظهري : </a:t>
            </a:r>
            <a:r>
              <a:rPr b="0" lang="en-US" sz="4400" spc="-1" strike="noStrike">
                <a:solidFill>
                  <a:srgbClr val="e024e0"/>
                </a:solidFill>
                <a:latin typeface="Arial"/>
              </a:rPr>
              <a:t>Phenocop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نسخة مظهرية =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و الطراز المظهري الذي تسببه عوامل بيئية معينة والذي يماثل (يشابه) طراز مظهري منتج عن طرق طفرات جينية (وراثيا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مثال للمواد التي تسبب نسخ مظهر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عقار التاليدوماي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ظاهرة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com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اطراف مختزل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اذا تم  تناول هذا العقار خلال الفترة المبكرة من الحمل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وفي الانسان :</a:t>
            </a:r>
            <a:r>
              <a:rPr b="0" lang="ar-SA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ان هناك جين طافر معين      نفس الظاهرة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508720" y="4076640"/>
            <a:ext cx="503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916000" y="5805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86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24e0"/>
                </a:solidFill>
                <a:latin typeface="Arial"/>
              </a:rPr>
              <a:t>mmc</a:t>
            </a:r>
            <a:r>
              <a:rPr b="0" lang="ar-SA" sz="2800" spc="-1" strike="noStrike">
                <a:solidFill>
                  <a:srgbClr val="e024e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e024e0"/>
                </a:solidFill>
                <a:latin typeface="Arial"/>
              </a:rPr>
              <a:t>mitomycin-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ذا اعطى خلال الحمل لاناث الفئرا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العديد من العيوب التي  تشاب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العديد من العيوب التي تحدد وراثي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00"/>
                </a:solidFill>
                <a:latin typeface="Arial"/>
              </a:rPr>
              <a:t>الاشعه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خلال الحمل (وبجرعة او جرعات مؤثرة )    العديد من العيوب 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00"/>
                </a:solidFill>
                <a:latin typeface="Arial"/>
              </a:rPr>
              <a:t>نترات الفضة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ذا تم خلطها مع بيئة النم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خلال التكوين الجنيني للدروسفيلا        جسم اصفر اللون(بدل  الرمادي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00"/>
                </a:solidFill>
                <a:latin typeface="Arial"/>
              </a:rPr>
              <a:t>الجين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: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ذكور صفراء الجس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x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اناث صفراء الجس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حظ ان: النسخة المظهرية لاتورث , بينما الطفرة الوراثية       تور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052640"/>
            <a:ext cx="0" cy="28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500720" y="4005360"/>
            <a:ext cx="57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866920" y="508464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866920" y="458136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692360" y="558972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732720" y="4365720"/>
            <a:ext cx="75960" cy="1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659640" y="4869000"/>
            <a:ext cx="75960" cy="1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020000" y="4869000"/>
            <a:ext cx="75960" cy="1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13:47:38Z</dcterms:created>
  <dc:creator>هلا</dc:creator>
  <dc:description/>
  <dc:language>en-US</dc:language>
  <cp:lastModifiedBy>good</cp:lastModifiedBy>
  <dcterms:modified xsi:type="dcterms:W3CDTF">2009-02-17T17:57:54Z</dcterms:modified>
  <cp:revision>5</cp:revision>
  <dc:subject/>
  <dc:title>المحاضرة الثالثة عشرة </dc:title>
</cp:coreProperties>
</file>