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4F30-372F-4E09-A14A-19B5959AD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81CA-BDF6-4C88-ABCD-0B1FDC237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5F94-944E-4936-9DEC-C454557E1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CABE-FDE6-4F9F-AF35-C4BF50A8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E426-AAEE-492C-AFDC-0F9D0F84B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0" y="0"/>
            <a:ext cx="3886200" cy="68580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7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AutoShape 8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-271800" y="6521400"/>
            <a:ext cx="102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-</a:t>
            </a:r>
            <a:fld id="{67BDB222-7E55-469E-A63A-F3365CA6B71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3"/>
          <p:cNvSpPr/>
          <p:nvPr/>
        </p:nvSpPr>
        <p:spPr>
          <a:xfrm>
            <a:off x="11160" y="6583320"/>
            <a:ext cx="16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524400" y="654516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897840" y="2726640"/>
            <a:ext cx="78055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ime Series and Forecasting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ounded Rectangle 5"/>
          <p:cNvSpPr/>
          <p:nvPr/>
        </p:nvSpPr>
        <p:spPr>
          <a:xfrm>
            <a:off x="457200" y="1752480"/>
            <a:ext cx="33526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533520" y="1752480"/>
            <a:ext cx="3276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collection of data recorded over a period of time (weekly, monthly, quarterly), an analysis of history, that can be used by management to make current decisions and plans based on long-term forecasting. It usually assumes past pattern to continue into 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 of a Time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cular Tre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the smooth long term direction of a time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yclical Var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the rise and fall of a time series over periods longer than on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easonal Var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Patterns of change in a time series within a year which tends to repeat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rregular Var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classified i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pisodic – unpredictable but identif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idual – also called chance fluctuation and unidentif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71680" y="49536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ime Series and its Componen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34" name="Picture 11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429000" cy="16765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733560" cy="15336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" descr=""/>
          <p:cNvPicPr/>
          <p:nvPr/>
        </p:nvPicPr>
        <p:blipFill>
          <a:blip r:embed="rId3"/>
          <a:srcRect l="14623" t="0" r="6411" b="0"/>
          <a:stretch/>
        </p:blipFill>
        <p:spPr>
          <a:xfrm>
            <a:off x="5181480" y="5029200"/>
            <a:ext cx="3429000" cy="1600200"/>
          </a:xfrm>
          <a:prstGeom prst="rect">
            <a:avLst/>
          </a:prstGeom>
          <a:ln w="0">
            <a:noFill/>
          </a:ln>
        </p:spPr>
      </p:pic>
      <p:cxnSp>
        <p:nvCxnSpPr>
          <p:cNvPr id="637" name="Straight Arrow Connector 11"/>
          <p:cNvCxnSpPr/>
          <p:nvPr/>
        </p:nvCxnSpPr>
        <p:spPr>
          <a:xfrm flipV="1">
            <a:off x="3732840" y="2590200"/>
            <a:ext cx="11437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8" name="Straight Arrow Connector 13"/>
          <p:cNvCxnSpPr/>
          <p:nvPr/>
        </p:nvCxnSpPr>
        <p:spPr>
          <a:xfrm flipV="1">
            <a:off x="3733560" y="4195440"/>
            <a:ext cx="114372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9" name="Straight Arrow Connector 15"/>
          <p:cNvCxnSpPr/>
          <p:nvPr/>
        </p:nvCxnSpPr>
        <p:spPr>
          <a:xfrm>
            <a:off x="3505320" y="5029200"/>
            <a:ext cx="1676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5"/>
          <p:cNvSpPr/>
          <p:nvPr/>
        </p:nvSpPr>
        <p:spPr>
          <a:xfrm>
            <a:off x="609480" y="1143000"/>
            <a:ext cx="3048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795"/>
              </a:gs>
              <a:gs pos="100000">
                <a:srgbClr val="fff8e0"/>
              </a:gs>
            </a:gsLst>
            <a:lin ang="16200000"/>
          </a:gradFill>
          <a:ln w="9360">
            <a:solidFill>
              <a:srgbClr val="e5b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67000" y="2624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Linear Tren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67816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ong term trend of many business series often approximates a straight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Object 7"/>
              <p:cNvSpPr txBox="1"/>
              <p:nvPr/>
            </p:nvSpPr>
            <p:spPr>
              <a:xfrm>
                <a:off x="685800" y="1143000"/>
                <a:ext cx="3251160" cy="23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 Trend Equation:   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ead </m:t>
                        </m:r>
                        <m:r>
                          <m:rPr>
                            <m:lit/>
                            <m:nor/>
                          </m:rPr>
                          <m:t xml:space="preserve">Y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is the projected value of the </m:t>
                            </m:r>
                          </m:e>
                        </m:acc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variable for a selected value of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he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-intercep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stimated value of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when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</m:t>
                            </m:r>
                            <m:r>
                              <m:t xml:space="preserve">b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he slope of the lin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verage change in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for each unit change in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</m:t>
                            </m:r>
                          </m:e>
                          <m:lim/>
                        </m:limUp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ny value of tim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d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at is selected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44" name="Picture 6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5181480" cy="29718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7"/>
          <p:cNvSpPr/>
          <p:nvPr/>
        </p:nvSpPr>
        <p:spPr>
          <a:xfrm>
            <a:off x="228600" y="3809880"/>
            <a:ext cx="3657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the least squares method to find the best linear relationship between 2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ime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use it as the independent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e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 1 for the first year, 2 for the second, and so on (if data are annu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17"/>
              <p:cNvSpPr txBox="1"/>
              <p:nvPr/>
            </p:nvSpPr>
            <p:spPr>
              <a:xfrm>
                <a:off x="4724280" y="1143000"/>
                <a:ext cx="2911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t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7"/>
              <p:cNvSpPr txBox="1"/>
              <p:nvPr/>
            </p:nvSpPr>
            <p:spPr>
              <a:xfrm>
                <a:off x="5181480" y="2590920"/>
                <a:ext cx="2133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916200" y="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520560" y="406440"/>
            <a:ext cx="78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near Trend –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802440" y="990720"/>
            <a:ext cx="744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monthly sales revenue for an appli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for a five-month period is as give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Least Squares method to determin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 equation and hence estimate the sales reven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next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1481040" y="3276720"/>
            <a:ext cx="6651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 (t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ales Rev.($1000s) 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916200" y="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2899800" y="38088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near Trend –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2272680" y="1189080"/>
            <a:ext cx="426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t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5"/>
              <p:cNvSpPr txBox="1"/>
              <p:nvPr/>
            </p:nvSpPr>
            <p:spPr>
              <a:xfrm>
                <a:off x="1676520" y="3587760"/>
                <a:ext cx="990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6"/>
              <p:cNvSpPr txBox="1"/>
              <p:nvPr/>
            </p:nvSpPr>
            <p:spPr>
              <a:xfrm>
                <a:off x="3200400" y="350532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5105520" y="3505320"/>
                <a:ext cx="1066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8"/>
              <p:cNvSpPr txBox="1"/>
              <p:nvPr/>
            </p:nvSpPr>
            <p:spPr>
              <a:xfrm>
                <a:off x="6858000" y="3429000"/>
                <a:ext cx="1143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9"/>
              <p:cNvSpPr txBox="1"/>
              <p:nvPr/>
            </p:nvSpPr>
            <p:spPr>
              <a:xfrm>
                <a:off x="1752480" y="4572000"/>
                <a:ext cx="1524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10"/>
              <p:cNvSpPr txBox="1"/>
              <p:nvPr/>
            </p:nvSpPr>
            <p:spPr>
              <a:xfrm>
                <a:off x="3962520" y="4724280"/>
                <a:ext cx="16635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916200" y="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914400" y="304920"/>
            <a:ext cx="81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near Trend –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6"/>
              <p:cNvSpPr txBox="1"/>
              <p:nvPr/>
            </p:nvSpPr>
            <p:spPr>
              <a:xfrm>
                <a:off x="1447920" y="3741840"/>
                <a:ext cx="40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7"/>
              <p:cNvSpPr txBox="1"/>
              <p:nvPr/>
            </p:nvSpPr>
            <p:spPr>
              <a:xfrm>
                <a:off x="1752480" y="2743200"/>
                <a:ext cx="213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8"/>
              <p:cNvSpPr txBox="1"/>
              <p:nvPr/>
            </p:nvSpPr>
            <p:spPr>
              <a:xfrm>
                <a:off x="2057400" y="4343400"/>
                <a:ext cx="3505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6" name="Line 10"/>
          <p:cNvSpPr/>
          <p:nvPr/>
        </p:nvSpPr>
        <p:spPr>
          <a:xfrm>
            <a:off x="1981080" y="51814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1523880" y="12952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1600200" y="9144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7"/>
              <p:cNvSpPr txBox="1"/>
              <p:nvPr/>
            </p:nvSpPr>
            <p:spPr>
              <a:xfrm>
                <a:off x="1854360" y="934920"/>
                <a:ext cx="29113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t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18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1" name="Text Box 19"/>
          <p:cNvSpPr/>
          <p:nvPr/>
        </p:nvSpPr>
        <p:spPr>
          <a:xfrm>
            <a:off x="5486400" y="1295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 = 0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457200" y="5334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estimating the sales revenue for the next month, put t=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 = -0.1 + 0.7 ( 6 ) = 4.1 ($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769608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es of Jensen Foods, a small grocery chain located in southwest Texas, since 2005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533520" y="609480"/>
            <a:ext cx="7924680" cy="8384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inear Trend – Using the Least Squares Method: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2286000"/>
          <a:ext cx="1905120" cy="2016000"/>
        </p:xfrm>
        <a:graphic>
          <a:graphicData uri="http://schemas.openxmlformats.org/drawingml/2006/table">
            <a:tbl>
              <a:tblPr/>
              <a:tblGrid>
                <a:gridCol w="635040"/>
                <a:gridCol w="431640"/>
                <a:gridCol w="8384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 mil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6" name="Picture 39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841720" cy="412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4:05:01Z</dcterms:created>
  <dc:creator>Rene Leo E. Ordonez</dc:creator>
  <dc:description/>
  <dc:language>en-US</dc:language>
  <cp:lastModifiedBy>bsasidhar</cp:lastModifiedBy>
  <dcterms:modified xsi:type="dcterms:W3CDTF">2010-12-20T08:58:31Z</dcterms:modified>
  <cp:revision>137</cp:revision>
  <dc:subject/>
  <dc:title>Time Series and Forecasting</dc:title>
</cp:coreProperties>
</file>