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2F260-6E0B-4036-BD14-F8BC0330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C53E7-0D09-4544-A481-297B9FA5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D0FE0-1CB1-47BF-BF16-9CC969B4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CB140-7D3A-44C9-84CA-A64C1F7A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5701-B03F-46ED-BA3B-20CCDC4D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E221-FA65-443D-934D-EE180B87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461B-259D-4BD4-B8F1-3F614ED1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2842-2BCA-4994-B68B-6E5B514A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21DF-1A6B-423A-85D8-841D2C04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0CA3-F6F5-44B5-BDDC-2C48FA00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B62C-95FA-47EA-A3CC-5EBC5596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2E08C-45DB-4E26-B8D2-2CDAFEA2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84A5-EF0E-476F-9D72-E0A40DD0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5F32-7B8E-4155-829B-25253291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6F60-B00E-4F7C-82A4-9F36D04C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8296-6128-4584-9950-C8E0CD49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9C34-D3C0-408A-A370-A253F8C5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DBF0C-CDC2-43C1-B09F-CD56D16A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ABA2C-B7FB-4B3C-8B2E-2AD033C1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DC437-EF22-452B-B2F6-B1BDB98D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6FD38-F668-4886-B4FD-93976784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40067-154B-4379-B038-6BF49C5F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20D34-778B-4E82-A4A8-2E6924A0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60E34-7E17-460C-A39F-4F0B2EF7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8FBD-A81B-4086-9015-61517EEB742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4FF3-9675-4FEE-AD81-5BD9377ACE0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35280" y="2133720"/>
            <a:ext cx="6966000" cy="15523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400" spc="-1" strike="noStrike">
                <a:solidFill>
                  <a:srgbClr val="ffffff"/>
                </a:solidFill>
                <a:latin typeface="Arial"/>
              </a:rPr>
              <a:t>المحاضرة السابعة عشرة</a:t>
            </a:r>
            <a:r>
              <a:rPr b="0" lang="ar-SA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6201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6699"/>
                </a:solidFill>
                <a:latin typeface="Arial"/>
              </a:rPr>
              <a:t>الأليلات المتعددة </a:t>
            </a: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Multpile alle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اقشنا في المحاضرات السابقة ان الموقع الجيني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المعين قد يشغل باحد اليل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َ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و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. ولكن في حقيقة الامر , فان الموقع الجيني المعين قد يشغل بأليل واحد من ثلاثة او اربعة او اكثر من سلسلة من الاليلات المتعددة لجين مع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6699"/>
                </a:solidFill>
                <a:latin typeface="Arial"/>
              </a:rPr>
              <a:t>تعدد الأليلات :</a:t>
            </a:r>
            <a:r>
              <a:rPr b="0" lang="en-US" sz="3600" spc="-1" strike="noStrike">
                <a:solidFill>
                  <a:srgbClr val="666699"/>
                </a:solidFill>
                <a:latin typeface="Arial"/>
              </a:rPr>
              <a:t>multple alleh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ي الظاهرة التي يوجد فيها ثلاثة اليلات او اكثر لنفس الجين (جين واحد       اكثر من البيئ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 flipH="1">
            <a:off x="6156360" y="551664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822240" indent="-442800" algn="r" rtl="1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تعدد الاشكال : 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هي ظاهرة وجود طرز مظهرية متعددة مختلفة مرتبطة باليلات نفس الجين بين افراد العشيرة (الجماعة) الواحدة او بين افراد العشائر المختلفة وتنتج هذه الظهارة من ظاهرة تعدد الاليل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تحديد سلسلة السيادة بين الاليلات المختلفة لنفس الجي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 algn="r" rtl="1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رمز للأليل الذي يسود الاليلات الاخرى في المجموعة بحرف كب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 algn="r" rtl="1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ستعمل نفس الحرف صغيرا للاليل الذي يتنحى الاليلات الاخر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 algn="r" rtl="1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ليلات الاخرى تعطى نفس الحرف. مع رفعه بحروف مناسبة او استعمال الارقام المناس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مثاله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&gt; 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&gt; c &gt; c &gt;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  = I &gt;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عدد أنواع التراكيب الوراثية المحتملة لسلسلة من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= م (م +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           الاليلات في عشيرة م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حيث ان 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=  عدد الايلات في السلسلة الاليلية في العشير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مثال </a:t>
            </a: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 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ذا كان هناك سلسلة مكونة م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يلات , فان عدد انواع التراكيب الوراثية المحتملة في العشيرة =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=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نواع                              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4140360" y="1484280"/>
            <a:ext cx="21744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Arial Black"/>
              </a:rPr>
              <a:t>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Arial Black"/>
              <a:ea typeface="Arial Black"/>
            </a:endParaRPr>
          </a:p>
        </p:txBody>
      </p:sp>
      <p:sp>
        <p:nvSpPr>
          <p:cNvPr id="113" name="WordArt 5"/>
          <p:cNvSpPr txBox="1"/>
          <p:nvPr/>
        </p:nvSpPr>
        <p:spPr>
          <a:xfrm>
            <a:off x="4716360" y="1484280"/>
            <a:ext cx="13824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Arial Black"/>
              </a:rPr>
              <a:t>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Arial Black"/>
              <a:ea typeface="Arial Black"/>
            </a:endParaRPr>
          </a:p>
        </p:txBody>
      </p:sp>
      <p:sp>
        <p:nvSpPr>
          <p:cNvPr id="114" name="WordArt 6"/>
          <p:cNvSpPr txBox="1"/>
          <p:nvPr/>
        </p:nvSpPr>
        <p:spPr>
          <a:xfrm>
            <a:off x="3635280" y="1916280"/>
            <a:ext cx="21600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Arial Black"/>
              </a:rPr>
              <a:t>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Arial Black"/>
              <a:ea typeface="Arial Black"/>
            </a:endParaRPr>
          </a:p>
        </p:txBody>
      </p:sp>
      <p:sp>
        <p:nvSpPr>
          <p:cNvPr id="115" name="WordArt 7"/>
          <p:cNvSpPr txBox="1"/>
          <p:nvPr/>
        </p:nvSpPr>
        <p:spPr>
          <a:xfrm>
            <a:off x="4356000" y="1844640"/>
            <a:ext cx="216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Arial Black"/>
              </a:rPr>
              <a:t>B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Arial Black"/>
              <a:ea typeface="Arial Black"/>
            </a:endParaRPr>
          </a:p>
        </p:txBody>
      </p:sp>
      <p:sp>
        <p:nvSpPr>
          <p:cNvPr id="116" name="WordArt 8"/>
          <p:cNvSpPr txBox="1"/>
          <p:nvPr/>
        </p:nvSpPr>
        <p:spPr>
          <a:xfrm>
            <a:off x="4859280" y="1916280"/>
            <a:ext cx="14436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Arial Black"/>
              </a:rPr>
              <a:t>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Arial Black"/>
              <a:ea typeface="Arial Black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1692360" y="3284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1835280" y="4869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7740720" y="5300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مثال </a:t>
            </a: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ذا كان هناك سلسلة اليلية مكونة م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يلات , فان عدد انواع التراكيب الوراثية في العشيرة =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=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نواع                                           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مثال</a:t>
            </a: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 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ذا كان هناك سلسلة اليلية مكونة م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يلات , فا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عدد انواع التراكيب الوراثية في العشيرة =</a:t>
            </a: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=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نو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عدد انواع التراكيب الوراثية الاصلية =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 (عدد الاليلات في السلسل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عدد انواع التراكيب الوراثية الخليطة =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عدد الكلي لانواع التراكيب الوراثية-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2627280" y="134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1403280" y="134136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5076720" y="3860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6804000" y="386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218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مثال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ذا كان هناك سلسلة اليلية مكونة م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يلات هي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,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C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فاوجد مايلي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عدد انواع التراكيب الوراثية المحتملة لافراد العشير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عدد انواع التراكيب الوراثية الاص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عدد انواع التراكيب الوراثية الخلي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ماهي هذه التراكيب الوراثية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الح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دد انواع التراكيب الوراثية =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=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نوا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دد انواع التراكيب الاصلية = م  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دد انواع التراكيب الخليطة 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252360" y="620280"/>
            <a:ext cx="91440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التراكيب الوراثية ه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  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C</a:t>
            </a: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عدد انواع التراكيب الوراثية  الاصلية(</a:t>
            </a: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  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ar-SA" sz="3200" spc="-1" strike="noStrike">
                <a:solidFill>
                  <a:srgbClr val="666699"/>
                </a:solidFill>
                <a:latin typeface="Arial"/>
              </a:rPr>
              <a:t>التراكيب الوراثية الخليط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     C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4932360" y="206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4932360" y="33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4932360" y="206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 flipH="1">
            <a:off x="3995640" y="2708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6699"/>
                </a:solidFill>
                <a:latin typeface="Arial"/>
              </a:rPr>
              <a:t>المميزات العامه للاليلات المتعدد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ؤثر الاليلات المتعددة عادة على صفة وراثية واحدة مسببة درجات متفاوتة من التعبي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حمل الكائن الحي ثنائي العدد الكروموسومي اليلين فقط من هذه الاليلات مهما كان عدد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حمل الجاميطة اليلا واحد فق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خضع الاليلات المتعددة لنفس قوانين الانتقال الوراثي على الرغم من تباين علامات السيادة والتنحي بينه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وجد في كل انواع الجينات (تقريبا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اليل البري دائما (تقريبا) سائد على اليلات الاخرى في السلسل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جود ظاهرة اليلات المتعددة للجين الواحد يمكن اكتشافه او تحديده باستخدام التلقيحات الوراثية بين افراد العشيرة المعين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صدر اليلات المتعددة : هو الطفر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5T13:47:38Z</dcterms:created>
  <dc:creator>هلا</dc:creator>
  <dc:description/>
  <dc:language>en-US</dc:language>
  <cp:lastModifiedBy>salma</cp:lastModifiedBy>
  <dcterms:modified xsi:type="dcterms:W3CDTF">2015-11-18T20:58:50Z</dcterms:modified>
  <cp:revision>5</cp:revision>
  <dc:subject/>
  <dc:title>المحاضرة الثالثة عشرة</dc:title>
</cp:coreProperties>
</file>