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4474-9BF5-4244-A3C8-26FBACA6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6C3A-E623-4DAC-A2BD-DD40FEC6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84D2-45A1-4CEB-AE73-C6207C99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1B12-34CB-4B28-B14A-F90505D7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D52-420C-435F-A4DB-13BF06DC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44D3-8C1F-4EE6-BDFC-EA9378DA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32AF-200C-424A-B4CD-1B91E481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2D29-418C-4E6B-B894-D6D8DBAE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897E-4AF9-4360-A707-E7CD603C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D6B5-C598-4FBE-900F-0F0398D3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8B11-4F16-423E-AD62-545A546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6E7E-19BE-4B50-B182-F20019B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0295-973E-419F-BB17-B401C5B0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3BD8-E25B-43D2-88F0-B4C6BBC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0C9F-887D-4115-B4CC-068914D0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D58B-5389-4A52-BAD1-30F69357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C9F4-BC5C-4055-AD58-F58627C9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965C-ABE2-401B-8F4A-13E2186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A103-7699-470C-A662-BC83C667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01FC-3F20-4576-BB24-D83202E3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F985-1D9A-4434-A49A-34E43BA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EE7A-B01A-4E4E-9C58-0BD7D4A5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BBA3-CAC0-4431-814A-B7A4A93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F6F3-C64F-4353-8402-29C599E5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12E2-6468-4244-8EFE-2FC35A97FD6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A74-751A-4C95-B24D-EAE5E211169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5280" y="2133720"/>
            <a:ext cx="6966000" cy="15523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400" spc="-1" strike="noStrike">
                <a:solidFill>
                  <a:srgbClr val="ffffff"/>
                </a:solidFill>
                <a:latin typeface="Arial"/>
              </a:rPr>
              <a:t>المحاضرة السابعة عشرة</a:t>
            </a: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620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6699"/>
                </a:solidFill>
                <a:latin typeface="Arial"/>
              </a:rPr>
              <a:t>الأليلات المتعددة 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Multpile all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اقشنا في المحاضرات السابقة ان الموقع الجين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المعين قد يشغل باحد اليل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و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 ولكن في حقيقة الامر , فان الموقع الجيني المعين قد يشغل بأليل واحد من ثلاثة او اربعة او اكثر من سلسلة من الاليلات المتعددة لجين م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6699"/>
                </a:solidFill>
                <a:latin typeface="Arial"/>
              </a:rPr>
              <a:t>تعدد الأليلات :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multple alleh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لظاهرة التي يوجد فيها ثلاثة اليلات او اكثر لنفس الجين (جين واحد       اكثر من البيئ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6156360" y="5516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822240" indent="-44280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تعدد الاشكال : 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هي ظاهرة وجود طرز مظهرية متعددة مختلفة مرتبطة باليلات نفس الجين بين افراد العشيرة (الجماعة) الواحدة او بين افراد العشائر المختلفة وتنتج هذه الظهارة من ظاهرة تعدد الالي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تحديد سلسلة السيادة بين الاليلات المختلفة لنفس الج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مز للأليل الذي يسود الاليلات الاخرى في المجموعة بحرف كب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تعمل نفس الحرف صغيرا للاليل الذي يتنحى الاليلات الا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ليلات الاخرى تعطى نفس الحرف. مع رفعه بحروف مناسبة او استعمال الارقام المناس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gt;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&gt; c &gt; c &gt;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= I &gt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أنواع التراكيب الوراثية المحتملة لسلسلة 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م (م +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          الاليلات في عشيرة 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حيث ان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 عدد الايلات في السلسلة الاليلية في العشي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ذا كان هناك سلسلة مكونة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يلات , فان عدد انواع التراكيب الوراثية المحتملة في العشيرة =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نواع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4140360" y="1484280"/>
            <a:ext cx="2174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4716360" y="1484280"/>
            <a:ext cx="1382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3635280" y="1916280"/>
            <a:ext cx="216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4356000" y="1844640"/>
            <a:ext cx="216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B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4859280" y="1916280"/>
            <a:ext cx="1443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692360" y="3284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183528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7740720" y="530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ذا كان هناك سلسلة اليلية مكونة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يلات , فان عدد انواع التراكيب الوراثية في العشيرة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نواع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ذا كان هناك سلسلة اليلية مكونة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يلات , ف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انواع التراكيب الوراثية في العشيرة =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اصلية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 (عدد الاليلات في السلسل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خليطة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عدد الكلي لانواع التراكيب الوراثية-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62728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1403280" y="1341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076720" y="386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680400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ذا كان هناك سلسلة اليلية مكونة م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يلات ه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فاوجد ما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المحتملة لافراد العشي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اص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خلي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ماهي هذه التراكيب الوراث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نواع التراكيب الوراثية =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نو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نواع التراكيب الاصلية = م 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نواع التراكيب الخليطة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252360" y="620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التراكيب الوراث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 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C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 الاصلية(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التراكيب الوراثية الخليط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    C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932360" y="206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93236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49323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>
            <a:off x="399564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6699"/>
                </a:solidFill>
                <a:latin typeface="Arial"/>
              </a:rPr>
              <a:t>المميزات العامه للاليلات المتعد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ؤثر الاليلات المتعددة عادة على صفة وراثية واحدة مسببة درجات متفاوتة من التعب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مل الكائن الحي ثنائي العدد الكروموسومي اليلين فقط من هذه الاليلات مهما كان عدد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مل الجاميطة اليلا واحد فق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خضع الاليلات المتعددة لنفس قوانين الانتقال الوراثي على الرغم من تباين علامات السيادة والتنحي بين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جد في كل انواع الجينات (تقريبا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ليل البري دائما (تقريبا) سائد على اليلات الاخرى في السلس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جود ظاهرة اليلات المتعددة للجين الواحد يمكن اكتشافه او تحديده باستخدام التلقيحات الوراثية بين افراد العشيرة المعي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صدر اليلات المتعددة : هو الطف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salma</cp:lastModifiedBy>
  <dcterms:modified xsi:type="dcterms:W3CDTF">2015-11-18T20:58:50Z</dcterms:modified>
  <cp:revision>5</cp:revision>
  <dc:subject/>
  <dc:title>المحاضرة الثالثة عشرة</dc:title>
</cp:coreProperties>
</file>