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8EB-78C3-4A56-9994-E56A7A69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6A8-CD8A-466F-9F60-7467B95D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EED-8DA8-4BEB-834A-AC022006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572-6B20-4709-8F55-82DDCD83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62D3-B21C-430F-84E4-FDAD13B6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AC91-EE5D-49AC-A9A2-6967E2AB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2CD6-3EAF-462E-ADD0-ECD13DB8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2307-D6BE-4A64-8A55-EAC9D4E1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DD6F-9089-435C-9134-62CA270F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826E-E29B-4690-B051-C4C64F13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EB2B-9473-47AD-A7C1-8EC4FA90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78F-E97C-428C-980E-21671245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106F-482F-4771-9CC6-20530831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769F-5696-40DB-B3EC-2372B1E2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3281-EB99-4ECD-995C-9F00ACEC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62CC-01A0-40B9-8352-A6B836CC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2D7D-7994-4CD8-BDE7-CC5BC6E4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DC79-0D68-4325-BBEA-758798D3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DA3-418D-4055-853E-7B234A2D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F18-5A24-4C93-8505-9E8FF475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883-2FF4-41FD-B1AF-15801417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DD0-F38B-4CE9-9344-CDF71234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CBD-1E73-4A87-A2F5-AD10148A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C84-640F-4AAD-9C89-2A2626B2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AC47-517A-4B24-A73B-4B066A77E0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2A34-0E37-4C27-B92A-08693AF826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3716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b9efee"/>
                </a:solidFill>
                <a:latin typeface="Garamond"/>
              </a:rPr>
              <a:t>المحاضرة التاسعة عشر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9efee"/>
                </a:solidFill>
                <a:latin typeface="Garamond"/>
              </a:rPr>
              <a:t>جهاز مجاميع الدم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B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هناك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اليلات رئيسة هي المسؤولة عن توارث مجاميع الدم المعروفة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,AB,B,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الموقع الجيني المسؤول موجود ف الكرموسومات رقم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الاليلات هي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 ,I ,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سلسلة السيادة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 = I &gt; 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ب – عدد انواع التراكيب الوراثية : 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(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)    =  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ج-  مجموعة دم أي شخص تعمتد وجود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g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معين على اسطح كريات  الدم الحمر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-Ag         A -A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فقط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انزيم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                  A- A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انزيم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-Ag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انزيم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+انزيم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               A-Ag+Bag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                    XH –A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659640" y="2421000"/>
            <a:ext cx="71280" cy="2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1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443640" y="2421000"/>
            <a:ext cx="100080" cy="1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B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56360" y="2349360"/>
            <a:ext cx="71280" cy="2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</a:t>
            </a:r>
            <a:endParaRPr b="0" lang="en-US" sz="1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19640" y="2349360"/>
            <a:ext cx="71280" cy="2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1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51280" y="2421000"/>
            <a:ext cx="100080" cy="1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B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55280" y="2349360"/>
            <a:ext cx="71640" cy="2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</a:t>
            </a:r>
            <a:endParaRPr b="0" lang="en-US" sz="1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3284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47242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67280" y="515772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5516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0360" y="5877000"/>
            <a:ext cx="86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د – هناك ميزه مهمه جدا في هذا النظام لاتوجد في أي جهاز اخر وهي ان سيرم الاشخاض يحتوى على اجسام مضادة للانتجين غير الموجود على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BC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11280" y="2700360"/>
          <a:ext cx="7920000" cy="2927160"/>
        </p:xfrm>
        <a:graphic>
          <a:graphicData uri="http://schemas.openxmlformats.org/drawingml/2006/table">
            <a:tbl>
              <a:tblPr/>
              <a:tblGrid>
                <a:gridCol w="1981080"/>
                <a:gridCol w="1979640"/>
                <a:gridCol w="1979640"/>
                <a:gridCol w="1979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b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سير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BCs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Ag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مجموعة الد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التراكيب الوراث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m ti-B ab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-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  I   or    I    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-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 I  or   I 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-Ag+ B-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  I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t –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tanti-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b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  I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هـ - هـ -  تحديد مجموعة دم أي شخص : اختبار التزن +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ggltination 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2133720"/>
            <a:ext cx="165600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2133720"/>
            <a:ext cx="165564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2133720"/>
            <a:ext cx="165564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2133720"/>
            <a:ext cx="165564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349360"/>
            <a:ext cx="28908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80000" y="2349360"/>
            <a:ext cx="28872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788000" y="2276640"/>
            <a:ext cx="288720" cy="22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96000" y="2276640"/>
            <a:ext cx="288720" cy="22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249228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1640" y="2492280"/>
            <a:ext cx="28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249228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40720" y="249228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03280" y="2997360"/>
            <a:ext cx="32076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76720" y="3068640"/>
            <a:ext cx="320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148360" y="3068640"/>
            <a:ext cx="79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B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96360" y="2997360"/>
            <a:ext cx="32040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4360" y="1773360"/>
            <a:ext cx="168732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ti-A   anti- B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</a:rPr>
              <a:t>التطبيقات العملية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مهمة جدا في عمليادت نقل الدم وزرع الاعضاء بين الاشخا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مهمة جدا في تحديد الأبوة المتنازع عليها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مهمة جدا في فرز الاطفال عند اختلاطهم في المستشفيات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من ناحية جواز أو عدم جواز نقل الدم بين الاشخاص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835280" y="2987640"/>
          <a:ext cx="6181560" cy="2587680"/>
        </p:xfrm>
        <a:graphic>
          <a:graphicData uri="http://schemas.openxmlformats.org/drawingml/2006/table">
            <a:tbl>
              <a:tblPr/>
              <a:tblGrid>
                <a:gridCol w="1236600"/>
                <a:gridCol w="1235160"/>
                <a:gridCol w="1238040"/>
                <a:gridCol w="1235160"/>
                <a:gridCol w="12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ص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ص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ص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ص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 txBox="1"/>
          <p:nvPr/>
        </p:nvSpPr>
        <p:spPr>
          <a:xfrm>
            <a:off x="2627280" y="5776920"/>
            <a:ext cx="51721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صح = يمكن نقل الدم       الحالات المسموح بها عادة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× = </a:t>
            </a:r>
            <a:r>
              <a:rPr b="0" lang="hi-IN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ايمكن نقل الدم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 = </a:t>
            </a:r>
            <a:r>
              <a:rPr b="0" lang="hi-IN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يمكن نقل الدم/ طوارئ فقط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 rot="16200000">
            <a:off x="857160" y="4119480"/>
            <a:ext cx="1440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المعطون (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gs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)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136000" y="2781360"/>
            <a:ext cx="75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المستقبلون </a:t>
            </a:r>
            <a:endParaRPr b="0" lang="en-US" sz="1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سيرم (</a:t>
            </a:r>
            <a:r>
              <a:rPr b="0" lang="en-US" sz="1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bs</a:t>
            </a:r>
            <a:r>
              <a:rPr b="0" lang="en-US" sz="1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)</a:t>
            </a:r>
            <a:endParaRPr b="0" lang="en-US" sz="1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الابوة المتنازع عليها :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  x  AB              + B  x AB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                          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طف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لايعتقد وجود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g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اسطح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B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فقط لانها غالبا ماتوجد ايضا في سوائل الجسم الاخرى مثل اللعاب والسائل المنوي والعرق والبلازما وغيرها ويسمى هؤلاء الاشخاص بالاشخاص المفرزين  موقع جيني معين في كرموسومات رقم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19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 &gt; se             Se            se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غير معزز     معز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141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134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4149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b9efee"/>
                </a:solidFill>
                <a:latin typeface="Garamond"/>
              </a:rPr>
              <a:t>عامل الريسوس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h-factor</a:t>
            </a:r>
            <a:r>
              <a:rPr b="1" lang="ar-SA" sz="4000" spc="-1" strike="noStrike">
                <a:solidFill>
                  <a:srgbClr val="b9efee"/>
                </a:solidFill>
                <a:latin typeface="Garamond"/>
              </a:rPr>
              <a:t>( أوجهاز الريوس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من اجهزة مجاميع الدم المعقدة في الانسان والتي لها نفس الاهمية الطبية للجهاز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من ناحية نقل الدم وللدور الذي يلعبة هذا الجهاز في المرض المعروف باسم فقر الدم الانحلالي في الاطفال حديثي الولادة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DN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mtyticdisease ot t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)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استقد اسم هذا الجهاز  (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h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) من الحرفين الاولين لنوع القردة (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caca rhesuo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) التي استخدمت في التجارب لتي قادت الى اكتشافة عام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1940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م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الموقع أو المواقع الجينية المسؤولة توجد في الكروموسومات رقم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للانسان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تقسم العشيرة البشرية بصفة عامة الى افراد موجبة وافراد سالبة على اساس وجود أو عدم وجود انتجين يسمى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-A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( او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- A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) على اسطح كرات الدم الحمر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الافراد الموجبة لها التركيب الوراثية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 Rh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او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الافراد السالبة لها التركيب الوراثي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 R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                                          ابسط تفسير لهذا الجها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                                     لان الاساس الوراثي المقدر من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ذلك كثيرا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الافراد السالبة لهذا العامل (الانتجين) لاتمتلك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o-A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على اسطح كرات دمها الحمر ولا يحتوى سيرم دمائهم على.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ti-Rh ab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, 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 , الا ان لهم القدرة على تكوين اجسام مضادة للـ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o- A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عند تعرضهم للـ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o- A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55280" y="1989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989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2781360"/>
            <a:ext cx="172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4360" y="2781360"/>
            <a:ext cx="14292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هناك نوعان من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D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النوع الاول يرجع الى عدم التوافق في الـ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وهذا يحدث في نسبة معينة من النساء السالبة لعامل الريسوس عندما تكوين الاجنة موبة لهذا العامل . معظم الحالات التي تحدث يمكن التعرف عليها سريريا . الام والاب يكونان عادة متوافقين من ناحية جهاز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BO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. عند اكتشاف الحالة يعطى عقار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hoga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للام خلال الحمل وبعد الولاد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ب – النوع الثاني يرجع الى عدم التوافق في جهاز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BO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  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orB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 الجني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من الصعب تشخيص هذه الحالات ولكنها تمثيل الى ان تكون خفيفة ولاتحتاج الى علاج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4221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6:16:11Z</dcterms:created>
  <dc:creator>User</dc:creator>
  <dc:description/>
  <dc:language>en-US</dc:language>
  <cp:lastModifiedBy>User</cp:lastModifiedBy>
  <dcterms:modified xsi:type="dcterms:W3CDTF">2008-01-27T18:23:20Z</dcterms:modified>
  <cp:revision>2</cp:revision>
  <dc:subject/>
  <dc:title>المحاضرة التاسعة عشر</dc:title>
</cp:coreProperties>
</file>