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BCE-7453-4B6B-AC28-AFE4373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7E3-E335-44DD-975E-7D754D38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7DF-FAEB-41AE-A5C8-BDC26CBB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9C0-1DA2-4F6B-AFCD-27C565BE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7556-B078-4141-A58F-87A007A5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AD2-BF3D-4C77-805B-4349DFB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56C-9576-43AB-9383-FA696F31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03E3-97B0-4445-8F06-7B6AA57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928C-3F88-443B-BA2D-4823B42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A28-444E-44E9-9A1A-894CD42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206-38D4-4BE3-9DBC-6F0DE48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EBE-4280-4208-9AD2-F123FEA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AF2-211C-4E75-A2C8-4D5B118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410-7FAB-4770-9185-BB03A1F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0F1-E216-4841-B8EA-8AFE287D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FA90-915F-4750-B0DF-42602D38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45BD-5823-4A51-ADEE-0A18471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D8B-F65D-4AAD-A8EF-A6EC1DD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CA3-47AB-42D0-9B8E-977A966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47-8933-4D9C-B464-634BA1F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721-FCC1-43DD-88EF-66A4D1AB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130-E6C2-467E-8190-6375B43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F50-8490-4966-92F0-53E1EEE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0D1-FAC1-46F4-A3B3-242AA63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EC6-DC18-4222-BD3B-4E427E7423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DF3-4036-43C7-B380-3FEB145D97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b9efee"/>
                </a:solidFill>
                <a:latin typeface="Garamond"/>
              </a:rPr>
              <a:t>المحاضرة التاسعة عشر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9efee"/>
                </a:solidFill>
                <a:latin typeface="Garamond"/>
              </a:rPr>
              <a:t>جهاز مجاميع الدم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B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هناك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اليلات رئيسة هي المسؤولة عن توارث مجاميع الدم المعروفة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,AB,B,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لموقع الجيني المسؤول موجود ف الكرموسومات رقم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لاليلات هي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,I ,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سلسلة السيادة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= I &gt; 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ب – عدد انواع التراكيب الوراثية :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)    =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ج-  مجموعة دم أي شخص تعمتد وجود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معين على اسطح كريات  الدم الحمر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-Ag         A -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فق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   A- 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-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نزيم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+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A-Ag+B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     XH –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9640" y="242100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43640" y="2421000"/>
            <a:ext cx="1000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56360" y="234936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19640" y="234936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51280" y="2421000"/>
            <a:ext cx="1000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55280" y="2349360"/>
            <a:ext cx="7164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3284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724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5157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516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5877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د – هناك ميزه مهمه جدا في هذا النظام لاتوجد في أي جهاز اخر وهي ان سيرم الاشخاض يحتوى على اجسام مضادة للانتجين غير الموجود على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B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2700360"/>
          <a:ext cx="7920000" cy="292716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79640"/>
                <a:gridCol w="19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سير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BCs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g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مجموعة الد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التراكيب الوراث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 ti-B a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-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   or    I   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-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I  or   I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-Ag+ B-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t –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anti-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هـ - هـ -  تحديد مجموعة دم أي شخص : اختبار التزن +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gltination 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2133720"/>
            <a:ext cx="165600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349360"/>
            <a:ext cx="289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2349360"/>
            <a:ext cx="28872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88000" y="2276640"/>
            <a:ext cx="288720" cy="22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2276640"/>
            <a:ext cx="288720" cy="22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2492280"/>
            <a:ext cx="2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072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03280" y="2997360"/>
            <a:ext cx="3207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76720" y="3068640"/>
            <a:ext cx="320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48360" y="3068640"/>
            <a:ext cx="79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96360" y="2997360"/>
            <a:ext cx="32040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773360"/>
            <a:ext cx="16873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ti-A   anti- 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التطبيقات العملي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عمليادت نقل الدم وزرع الاعضاء بين الاشخا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تحديد الأبوة المتنازع عليها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فرز الاطفال عند اختلاطهم في المستشفيات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ن ناحية جواز أو عدم جواز نقل الدم بين الاشخاص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35280" y="2987640"/>
          <a:ext cx="6181560" cy="2587680"/>
        </p:xfrm>
        <a:graphic>
          <a:graphicData uri="http://schemas.openxmlformats.org/drawingml/2006/table">
            <a:tbl>
              <a:tblPr/>
              <a:tblGrid>
                <a:gridCol w="1236600"/>
                <a:gridCol w="1235160"/>
                <a:gridCol w="1238040"/>
                <a:gridCol w="1235160"/>
                <a:gridCol w="12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 txBox="1"/>
          <p:nvPr/>
        </p:nvSpPr>
        <p:spPr>
          <a:xfrm>
            <a:off x="2627280" y="5776920"/>
            <a:ext cx="5172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ح = يمكن نقل الدم       الحالات المسموح بها عادة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× = </a:t>
            </a: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يمكن نقل الدم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= </a:t>
            </a: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مكن نقل الدم/ طوارئ فقط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 rot="16200000">
            <a:off x="857160" y="4119480"/>
            <a:ext cx="1440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لمعطون (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gs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136000" y="2781360"/>
            <a:ext cx="75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لمستقبلون </a:t>
            </a:r>
            <a:endParaRPr b="0" lang="en-US" sz="1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سيرم (</a:t>
            </a:r>
            <a:r>
              <a:rPr b="0" lang="en-US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bs</a:t>
            </a:r>
            <a:r>
              <a:rPr b="0" lang="en-US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بوة المتنازع عليها :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 x  AB              + B  x A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                          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طف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لايعتقد وجود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اسطح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B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فقط لانها غالبا ماتوجد ايضا في سوائل الجسم الاخرى مثل اللعاب والسائل المنوي والعرق والبلازما وغيرها ويسمى هؤلاء الاشخاص بالاشخاص المفرزين  موقع جيني معين في كرموسومات رقم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 &gt; se             Se            se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غير معزز     معز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4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134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9efee"/>
                </a:solidFill>
                <a:latin typeface="Garamond"/>
              </a:rPr>
              <a:t>عامل الريسوس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h-factor</a:t>
            </a:r>
            <a:r>
              <a:rPr b="1" lang="ar-SA" sz="4000" spc="-1" strike="noStrike">
                <a:solidFill>
                  <a:srgbClr val="b9efee"/>
                </a:solidFill>
                <a:latin typeface="Garamond"/>
              </a:rPr>
              <a:t>( أوجهاز الريوس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من اجهزة مجاميع الدم المعقدة في الانسان والتي لها نفس الاهمية الطبية للجها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من ناحية نقل الدم وللدور الذي يلعبة هذا الجهاز في المرض المعروف باسم فقر الدم الانحلالي في الاطفال حديثي الولاد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DN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mtyticdisease ot t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ستقد اسم هذا الجهاز  (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 من الحرفين الاولين لنوع القردة (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caca rhesuo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 التي استخدمت في التجارب لتي قادت الى اكتشافة عام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940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م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لموقع أو المواقع الجينية المسؤولة توجد في الكروموسومات رقم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للانسا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تقسم العشيرة البشرية بصفة عامة الى افراد موجبة وافراد سالبة على اساس وجود أو عدم وجود انتجين يسمى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-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( او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) على اسطح كرات الدم الحم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موجبة لها التركيب الوراثية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 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او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سالبة لها التركيب الوراثي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 R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     ابسط تفسير لهذا الجها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لان الاساس الوراثي المقدر من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ذلك كثير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سالبة لهذا العامل (الانتجين) لاتمتل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على اسطح كرات دمها الحمر ولا يحتوى سيرم دمائهم على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-Rh a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,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, الا ان لهم القدرة على تكوين اجسام مضادة ل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عند تعرضهم ل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55280" y="1989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78136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278136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هناك نوعان من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D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نوع الاول يرجع الى عدم التوافق في ا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وهذا يحدث في نسبة معينة من النساء السالبة لعامل الريسوس عندما تكوين الاجنة موبة لهذا العامل . معظم الحالات التي تحدث يمكن التعرف عليها سريريا . الام والاب يكونان عادة متوافقين من ناحية جها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 عند اكتشاف الحالة يعطى عقار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ga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للام خلال الحمل وبعد الولاد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ب – النوع الثاني يرجع الى عدم التوافق في جها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or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الجن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من الصعب تشخيص هذه الحالات ولكنها تمثيل الى ان تكون خفيفة ولاتحتاج الى علاج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16:11Z</dcterms:created>
  <dc:creator>User</dc:creator>
  <dc:description/>
  <dc:language>en-US</dc:language>
  <cp:lastModifiedBy>User</cp:lastModifiedBy>
  <dcterms:modified xsi:type="dcterms:W3CDTF">2008-01-27T18:23:20Z</dcterms:modified>
  <cp:revision>2</cp:revision>
  <dc:subject/>
  <dc:title>المحاضرة التاسعة عشر</dc:title>
</cp:coreProperties>
</file>