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7CD-28FA-46E5-8683-2C40914E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D3F-9A97-4A9F-8D78-FFB58E6A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1E4-E71D-485E-848B-D4B9F97B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201-07F1-4940-BC5D-AEC21311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B9D-BE49-4154-A947-D26413E9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8C9-A883-4DE4-A463-03E649B6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C71-BCA3-4FFA-BE40-FE15AD12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86B-E166-4445-AB29-A71B2E30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BE9-8C3C-4A5E-8750-B8BFDC3C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DE5-27C0-4D17-866E-207B8A53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452-B9B3-46D6-8E9C-0FBFF424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FA1-1272-4FA7-BA9F-9B967A37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3DB4-3842-41BA-B153-163A25F0A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85800"/>
            <a:ext cx="723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996633"/>
                </a:solidFill>
                <a:latin typeface="Arial"/>
                <a:cs typeface="David"/>
              </a:rPr>
              <a:t>זְמַן עָבָר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1" lang="ar-SA" sz="2800" spc="-1" strike="noStrike">
                <a:solidFill>
                  <a:srgbClr val="006666"/>
                </a:solidFill>
                <a:latin typeface="Arial"/>
                <a:ea typeface="David"/>
              </a:rPr>
              <a:t>–</a:t>
            </a:r>
            <a:r>
              <a:rPr b="1" lang="ar-SA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6666"/>
                </a:solidFill>
                <a:latin typeface="Arial"/>
                <a:cs typeface="Arabic Transparent"/>
              </a:rPr>
              <a:t>الزمن الماضى</a:t>
            </a:r>
            <a:r>
              <a:rPr b="0" lang="en-US" sz="26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1295280"/>
          <a:ext cx="7695720" cy="4495680"/>
        </p:xfrm>
        <a:graphic>
          <a:graphicData uri="http://schemas.openxmlformats.org/drawingml/2006/table">
            <a:tbl>
              <a:tblPr/>
              <a:tblGrid>
                <a:gridCol w="1924200"/>
                <a:gridCol w="1923480"/>
                <a:gridCol w="1924200"/>
                <a:gridCol w="192384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Arial"/>
                          <a:cs typeface="David"/>
                        </a:rPr>
                        <a:t>הַפּוֹעַ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Arial"/>
                          <a:cs typeface="David"/>
                        </a:rPr>
                        <a:t>הַגּוּ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Arial"/>
                          <a:cs typeface="David"/>
                        </a:rPr>
                        <a:t>הַפּוֹעַ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Arial"/>
                          <a:cs typeface="David"/>
                        </a:rPr>
                        <a:t>הַגּוּ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נו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ֲנַחְנו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תִּ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ֲנִ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ְ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תֶּ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ַתֶּ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תּ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ַתָּ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ְ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תֶּ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ַתֶּ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Arial"/>
                          <a:cs typeface="FrankRuehl"/>
                        </a:rPr>
                        <a:t>שָׁמַרְ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תּ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אַתּ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ְר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ו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הֵ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ַ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הוּ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ְר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ו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הֵ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0000ff"/>
                          </a:solidFill>
                          <a:latin typeface="Times New Roman"/>
                          <a:cs typeface="FrankRuehl"/>
                        </a:rPr>
                        <a:t>שָׁמְרָ</a:t>
                      </a:r>
                      <a:r>
                        <a:rPr b="1" lang="he-IL" sz="3200" spc="-1" strike="noStrike">
                          <a:solidFill>
                            <a:srgbClr val="cc00cc"/>
                          </a:solidFill>
                          <a:latin typeface="Times New Roman"/>
                          <a:cs typeface="FrankRuehl"/>
                        </a:rPr>
                        <a:t>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David"/>
                        </a:rPr>
                        <a:t>הִי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1:32:17Z</dcterms:created>
  <dc:creator>DR.FOUAD</dc:creator>
  <dc:description/>
  <dc:language>en-US</dc:language>
  <cp:lastModifiedBy>DR.FOUAD</cp:lastModifiedBy>
  <dcterms:modified xsi:type="dcterms:W3CDTF">2009-04-12T01:33:24Z</dcterms:modified>
  <cp:revision>2</cp:revision>
  <dc:subject/>
  <dc:title>الشريحة 1</dc:title>
</cp:coreProperties>
</file>