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6E6-4F7E-45D5-87D6-46AA0906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1E2-4371-4959-A3DF-74A230D9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581-0AD0-405C-ACDA-B51BD361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822-BE05-4498-86C7-1B1ABC0D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168-5B02-4990-8439-C0C28D61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C77-AD2B-453F-B44F-B45C5CCD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6A0-D0D5-431E-8FAA-718BFF1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709-DF9C-44C3-8E15-992136E5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D63-A439-47EA-9CE9-1A77C3E4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11B-B962-4E44-8E27-8DA9CBF1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114-3EFF-4102-B34B-CEFF5893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EC0-A371-4E62-8F2C-130DC166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F9C0-E3C4-40F1-9FE1-987E97473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85800"/>
            <a:ext cx="72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996633"/>
                </a:solidFill>
                <a:latin typeface="Arial"/>
                <a:cs typeface="David"/>
              </a:rPr>
              <a:t>זְמַן עָבָר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1" lang="ar-SA" sz="2800" spc="-1" strike="noStrike">
                <a:solidFill>
                  <a:srgbClr val="006666"/>
                </a:solidFill>
                <a:latin typeface="Arial"/>
                <a:ea typeface="David"/>
              </a:rPr>
              <a:t>–</a:t>
            </a:r>
            <a:r>
              <a:rPr b="1" lang="ar-SA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6666"/>
                </a:solidFill>
                <a:latin typeface="Arial"/>
                <a:cs typeface="Arabic Transparent"/>
              </a:rPr>
              <a:t>الزمن الماضى</a:t>
            </a: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1295280"/>
          <a:ext cx="7695720" cy="4495680"/>
        </p:xfrm>
        <a:graphic>
          <a:graphicData uri="http://schemas.openxmlformats.org/drawingml/2006/table">
            <a:tbl>
              <a:tblPr/>
              <a:tblGrid>
                <a:gridCol w="1924200"/>
                <a:gridCol w="1923480"/>
                <a:gridCol w="1924200"/>
                <a:gridCol w="192384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Arial"/>
                          <a:cs typeface="David"/>
                        </a:rPr>
                        <a:t>הַפּוֹעַ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Arial"/>
                          <a:cs typeface="David"/>
                        </a:rPr>
                        <a:t>הַגּוּ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Arial"/>
                          <a:cs typeface="David"/>
                        </a:rPr>
                        <a:t>הַפּוֹעַ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Arial"/>
                          <a:cs typeface="David"/>
                        </a:rPr>
                        <a:t>הַגּוּ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נו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ֲנַחְנו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ִ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ֲנִ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ְ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ֶ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ַתֶּ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ַתָּ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ְ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ֶ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ַתֶּ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Arial"/>
                          <a:cs typeface="FrankRuehl"/>
                        </a:rPr>
                        <a:t>שָ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ַתּ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ְר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ו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הֵ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ַ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הוּ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ְר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ו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הֵ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ְרָ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הִי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1:32:17Z</dcterms:created>
  <dc:creator>DR.FOUAD</dc:creator>
  <dc:description/>
  <dc:language>en-US</dc:language>
  <cp:lastModifiedBy>DR.FOUAD</cp:lastModifiedBy>
  <dcterms:modified xsi:type="dcterms:W3CDTF">2009-04-12T01:33:24Z</dcterms:modified>
  <cp:revision>2</cp:revision>
  <dc:subject/>
  <dc:title>الشريحة 1</dc:title>
</cp:coreProperties>
</file>