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9ADC-8FA1-42B8-9607-294C70E7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368-A295-4235-AABB-94DBCCA6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501-DED1-440F-8F9F-246FB8A7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4AB-66E5-458D-B415-F08234D8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3AD-F8BA-466E-8992-B3D0AB2F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EB5-CE51-45FB-ADCC-D9A3048E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1B4-6C02-4301-911A-978AA833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75F-0A91-44CC-A452-FB2C3C29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567-B6E1-414D-A102-268C9CF0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B77-B15F-493B-9EC4-D8211720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8D0-FCB7-4C7C-BB9C-3BFA1258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3E3-2E47-45DF-9A40-94797F46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C9BA-61EA-4A97-BC42-6D8C22987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589;&#1608;&#1578;%20&#1605;&#1587;&#1580;&#1617;&#1604;" TargetMode="External"/><Relationship Id="rId3" Type="http://schemas.microsoft.com/office/2007/relationships/media" Target="file:///tmp/home/.config/libreoffice/4/user/gallery/&#1589;&#1608;&#1578;%20&#1605;&#1587;&#1580;&#1617;&#1604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77480"/>
            <a:ext cx="807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0000"/>
                </a:solidFill>
                <a:latin typeface="Arial"/>
                <a:cs typeface="FrankRuehl"/>
              </a:rPr>
              <a:t>דָּן מֵאַרְגֶּנְטִינָה , עַכְשָׁיו הוּא בְּיִשְׂרָאֵל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. </a:t>
            </a:r>
            <a:r>
              <a:rPr b="0" lang="he-IL" sz="3200" spc="-1" strike="noStrike">
                <a:solidFill>
                  <a:srgbClr val="333399"/>
                </a:solidFill>
                <a:latin typeface="Arial"/>
                <a:cs typeface="FrankRuehl"/>
              </a:rPr>
              <a:t>פֹּה הוּא לֹא עוֹבֵד , הוּא רַק לוֹמֵד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009999"/>
                </a:solidFill>
                <a:latin typeface="Arial"/>
                <a:cs typeface="FrankRuehl"/>
              </a:rPr>
              <a:t>הוּא לוֹמֵד בְּאוּלְפָּן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200" spc="-1" strike="noStrike">
                <a:solidFill>
                  <a:srgbClr val="cc3300"/>
                </a:solidFill>
                <a:latin typeface="Arial"/>
                <a:cs typeface="FrankRuehl"/>
              </a:rPr>
              <a:t>הוּא גָּר בְּנַתַנְיָה, אֲבָל הוּא רוֹצֶה לָגוּר בְּתֵל ֿאָבִיב .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  <a:ea typeface="FrankRuehl"/>
              </a:rPr>
              <a:t> הוּא מְדַבֵּר סְפָרַדִּית וְעִבְרִית . </a:t>
            </a:r>
            <a:r>
              <a:rPr b="0" lang="he-IL" sz="3200" spc="-1" strike="noStrike">
                <a:solidFill>
                  <a:srgbClr val="0000cc"/>
                </a:solidFill>
                <a:latin typeface="Arial"/>
                <a:cs typeface="FrankRuehl"/>
              </a:rPr>
              <a:t>הוּא רוֹצֶה לִלְמוֹד פִיזִיקָה בָּאוּנִיבֶרְסִיטָה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14400" y="2743200"/>
          <a:ext cx="7620120" cy="3200400"/>
        </p:xfrm>
        <a:graphic>
          <a:graphicData uri="http://schemas.openxmlformats.org/drawingml/2006/table">
            <a:tbl>
              <a:tblPr/>
              <a:tblGrid>
                <a:gridCol w="2209680"/>
                <a:gridCol w="2170080"/>
                <a:gridCol w="1621080"/>
                <a:gridCol w="16192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9999"/>
                          </a:solidFill>
                          <a:latin typeface="Times New Roman"/>
                          <a:cs typeface="Monotype Koufi"/>
                        </a:rPr>
                        <a:t>معنا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9999"/>
                          </a:solidFill>
                          <a:latin typeface="Times New Roman"/>
                          <a:cs typeface="Monotype Koufi"/>
                        </a:rPr>
                        <a:t>الكل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9999"/>
                          </a:solidFill>
                          <a:latin typeface="Times New Roman"/>
                          <a:cs typeface="Monotype Koufi"/>
                        </a:rPr>
                        <a:t>معنا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9999"/>
                          </a:solidFill>
                          <a:latin typeface="Times New Roman"/>
                          <a:cs typeface="Monotype Koufi"/>
                        </a:rPr>
                        <a:t>الكل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0000"/>
                          </a:solidFill>
                          <a:latin typeface="Times New Roman"/>
                          <a:cs typeface="AF_Najed"/>
                        </a:rPr>
                        <a:t>الآ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עַכְשָׁיו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من الأرجنت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מֵאַרְגֶּנְטִינָה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0000"/>
                          </a:solidFill>
                          <a:latin typeface="Times New Roman"/>
                          <a:cs typeface="AF_Najed"/>
                        </a:rPr>
                        <a:t>لك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אֲבָל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فى مدينة نتاني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בְּנַתַנְיָה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0000"/>
                          </a:solidFill>
                          <a:latin typeface="Times New Roman"/>
                          <a:cs typeface="AF_Najed"/>
                        </a:rPr>
                        <a:t>يتكل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מְדַבֵּר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يريد أن يسك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רוֹצֶה לָגוּר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0000"/>
                          </a:solidFill>
                          <a:latin typeface="Times New Roman"/>
                          <a:cs typeface="AF_Najed"/>
                        </a:rPr>
                        <a:t>يريد أن يتعل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רוֹצֶה לִלְמוֹד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اللغة الأسبان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סְפָרַדִּית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0000"/>
                          </a:solidFill>
                          <a:latin typeface="Times New Roman"/>
                          <a:cs typeface="AF_Najed"/>
                        </a:rPr>
                        <a:t>فى الجامع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בָּאוּנִיבֶרְסִיטָה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cc"/>
                          </a:solidFill>
                          <a:latin typeface="Times New Roman"/>
                          <a:cs typeface="AF_Najed"/>
                        </a:rPr>
                        <a:t>الفيزيا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900" spc="-1" strike="noStrike">
                          <a:solidFill>
                            <a:srgbClr val="ff0000"/>
                          </a:solidFill>
                          <a:latin typeface="Times New Roman"/>
                          <a:cs typeface="FrankRuehl"/>
                        </a:rPr>
                        <a:t>פִיזִיקָה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5812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5:34:59Z</dcterms:created>
  <dc:creator>DR.FOUAD</dc:creator>
  <dc:description/>
  <dc:language>en-US</dc:language>
  <cp:lastModifiedBy>DR.FOUAD</cp:lastModifiedBy>
  <dcterms:modified xsi:type="dcterms:W3CDTF">2009-03-28T05:36:39Z</dcterms:modified>
  <cp:revision>2</cp:revision>
  <dc:subject/>
  <dc:title>الشريحة 1</dc:title>
</cp:coreProperties>
</file>