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676-A3F0-4B9B-B614-D74316B1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926-8725-40C4-B329-8CC0DAB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5C8-79BE-48CC-8704-093202D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01F-DBF2-451E-9EA3-9B2A644C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BDB-F7E2-4A54-B0CF-3C5635AE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B63-AE70-44DF-B78B-6FBB7F4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CE8-D8C0-412E-B6E7-D9E088EE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B08-146F-4798-A8BD-EFA6870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A61-F168-47BC-9BB0-B4D57D2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9AB-D4CC-4770-BE96-7F53068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8B7-48E0-4965-A2A7-5DA5832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A52-F090-4B34-AFC1-A356B6D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CA5-6BFA-4208-996C-8C21A9381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774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Arial"/>
                <a:cs typeface="FrankRuehl"/>
              </a:rPr>
              <a:t>דָּן מֵאַרְגֶּנְטִינָה , עַכְשָׁיו הוּא בְּיִשְׂרָאֵ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.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פֹּה הוּא לֹא עוֹבֵד , הוּא רַק לוֹמֵד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הוּא לוֹמֵד בְּאוּלְפָּן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הוּא גָּר בְּנַתַנְיָה, אֲבָל הוּא רוֹצֶה לָגוּר בְּתֵל ֿאָבִיב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הוּא מְדַבֵּר סְפָרַדִּית וְעִבְרִית .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וּא רוֹצֶה לִלְמוֹד פִיזִיקָה בָּאוּנִיבֶרְסִיט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2743200"/>
          <a:ext cx="7620120" cy="3200400"/>
        </p:xfrm>
        <a:graphic>
          <a:graphicData uri="http://schemas.openxmlformats.org/drawingml/2006/table">
            <a:tbl>
              <a:tblPr/>
              <a:tblGrid>
                <a:gridCol w="2209680"/>
                <a:gridCol w="2170080"/>
                <a:gridCol w="1621080"/>
                <a:gridCol w="1619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الآ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עַכְשָׁיו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ن الأرجنت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ֵאַרְגֶּנְטִינ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لك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ֲבָל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فى مدينة نتاني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ְנַתַנְי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يتك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ְדַבֵּר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يريد أن يسك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רוֹצֶה לָגוּר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يريد أن يتع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רוֹצֶה לִלְמוֹד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اللغة الأسبا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סְפָרַדִּית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فى الجام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ָאוּנִיבֶרְסִיט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الفيزي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פִיזִיק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5812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5:34:59Z</dcterms:created>
  <dc:creator>DR.FOUAD</dc:creator>
  <dc:description/>
  <dc:language>en-US</dc:language>
  <cp:lastModifiedBy>DR.FOUAD</cp:lastModifiedBy>
  <dcterms:modified xsi:type="dcterms:W3CDTF">2009-03-28T05:36:39Z</dcterms:modified>
  <cp:revision>2</cp:revision>
  <dc:subject/>
  <dc:title>الشريحة 1</dc:title>
</cp:coreProperties>
</file>