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C118C6-B0ED-4B62-B103-4DE8DC0D4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06C34B-A7DE-4E16-8BB8-9F59FB9E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6E5C7C-41EF-4A9A-95DC-842595AD0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9B5C40-4351-40F9-894F-7BAE54998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550C4-094F-41F9-AA7D-63580BD80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9C26F-60C0-4A3E-8E60-A510343DD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2C27B-A6A7-4649-916E-04A8194C4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7E6D5-4919-4987-9975-91384511C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68439-1496-446C-B9CC-89BA34751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F906B-ADF4-4CD8-8053-08B0156E1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1F5D9-1B2A-4BC8-BF1E-5B608DB17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A56ABB-5FB3-4EDB-896C-33488D1B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2C71-2B7C-4376-BEEF-5582D4534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C76E-C33F-4686-80D9-75255C52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8E396-A76C-4B60-A20F-A8E3E1596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75DA5-55B6-46E5-BA43-4F0406921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C2C20-2CDC-44E5-9B0B-E75A8BA98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AB6803-EA53-4BF4-A873-1F6D5E502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9F5A0B-A7A2-470E-9EEF-648AE811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A31EDA-A7FD-4244-8C03-87F0FA2E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0D0B73-9DC9-49CC-A7F5-736CC83EA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E166D3-E827-4104-A8F7-0AACDB1E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B9B8E2-A4FC-47DD-BB5D-496DBEBEE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7C077F-2377-49DB-B638-CE25D6514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401F-B692-42EF-8C04-9D2D943FF5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219A-70A2-4C0C-A2F7-12907AF971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6280"/>
            <a:ext cx="777240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hi-IN" sz="5400" spc="-1" strike="noStrike">
                <a:solidFill>
                  <a:srgbClr val="e5e5ff"/>
                </a:solidFill>
                <a:latin typeface="Bauhaus 93"/>
                <a:cs typeface="Traditional Arabic"/>
              </a:rPr>
              <a:t>المصطلحات</a:t>
            </a:r>
            <a:r>
              <a:rPr b="1" lang="en-US"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fontScale="78000"/>
          </a:bodyPr>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3</a:t>
            </a:r>
            <a:r>
              <a:rPr b="1" lang="en-US"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1000"/>
          </a:bodyPr>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تأصيل الإسلامي للعلوم الاجتماعية 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hi-IN"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أولاً:</a:t>
            </a:r>
            <a:r>
              <a:rPr b="1" lang="en-US"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ea typeface="Traditional Arabic"/>
              </a:rPr>
              <a:t>  - المنظور الإسلامي: نظر الإسلام للمعرفة على أنها تتعامل ن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Garamond"/>
                <a:ea typeface="Traditional Arabic"/>
              </a:rPr>
              <a:t>  ب- الحياة:</a:t>
            </a:r>
            <a:r>
              <a:rPr b="1" lang="en-US"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3664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836640"/>
            <a:ext cx="8229600" cy="5472000"/>
          </a:xfrm>
          <a:prstGeom prst="rect">
            <a:avLst/>
          </a:prstGeom>
          <a:noFill/>
          <a:ln w="0">
            <a:noFill/>
          </a:ln>
        </p:spPr>
        <p:txBody>
          <a:bodyPr lIns="90000" rIns="90000" tIns="46800" bIns="46800" anchor="t">
            <a:normAutofit fontScale="85000"/>
          </a:bodyPr>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من الأهمية بمكان لنا قدم علم النفس الغربي أن ي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7000"/>
          </a:bodyPr>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1000"/>
          </a:bodyPr>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6</a:t>
            </a:r>
            <a:r>
              <a:rPr b="1" lang="en-US"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7</a:t>
            </a:r>
            <a:r>
              <a:rPr b="1" lang="en-US"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79000"/>
          </a:bodyPr>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hi-IN" sz="3000" spc="-1" strike="noStrike" u="sng">
                <a:solidFill>
                  <a:srgbClr val="ffffff"/>
                </a:solidFill>
                <a:uFillTx/>
                <a:latin typeface="Garamond"/>
                <a:cs typeface="Traditional Arabic"/>
              </a:rPr>
              <a:t>القاعدة الثانية:</a:t>
            </a:r>
            <a:r>
              <a:rPr b="1" lang="en-US"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836280"/>
            <a:ext cx="8229600" cy="5040360"/>
          </a:xfrm>
          <a:prstGeom prst="rect">
            <a:avLst/>
          </a:prstGeom>
          <a:noFill/>
          <a:ln w="0">
            <a:noFill/>
          </a:ln>
        </p:spPr>
        <p:txBody>
          <a:bodyPr lIns="90000" rIns="90000" tIns="46800" bIns="46800" anchor="t">
            <a:normAutofit fontScale="83000"/>
          </a:bodyPr>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علم النفس </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79000"/>
          </a:bodyPr>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وقد ذكر (نجاتي </a:t>
            </a:r>
            <a:r>
              <a:rPr b="1" lang="en-US" sz="3000" spc="-1" strike="noStrike">
                <a:solidFill>
                  <a:srgbClr val="ffffff"/>
                </a:solidFill>
                <a:latin typeface="Albertus Medium"/>
                <a:ea typeface="Traditional Arabic"/>
              </a:rPr>
              <a:t>1411</a:t>
            </a:r>
            <a:r>
              <a:rPr b="1" lang="hi-IN"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4360" y="692280"/>
            <a:ext cx="8229600" cy="518472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0000"/>
          </a:bodyPr>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ffffff"/>
                </a:solidFill>
                <a:uFillTx/>
                <a:latin typeface="Garamond"/>
                <a:cs typeface="Traditional Arabic"/>
              </a:rPr>
              <a:t>ثالثاً: التمكن من الأصول والمبادئ الإسلامية:</a:t>
            </a:r>
            <a:r>
              <a:rPr b="1" lang="en-US"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رابعاً: معرفة الدراسات النفسية لعلماء المسلمين</a:t>
            </a:r>
            <a:r>
              <a:rPr b="1" lang="en-US"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خامساً: نقد علم النفس:</a:t>
            </a:r>
            <a:r>
              <a:rPr b="1" lang="en-US"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سادساً: إجراء البحوث في علم النفس من وجهة نظر إسلامية:</a:t>
            </a:r>
            <a:r>
              <a:rPr b="1" lang="en-US"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cs typeface="Traditional Arabic"/>
              </a:rPr>
              <a:t>ومهما كان قائلها ما دامت لا تعارض المسلمات العامة للإسلام المستقرة لدى المسلمين, ولذا لم تتسع مساحة التأييد لرأي هذا الفريق.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و حطب من رواد هذا الفريق, وقد طرح رأيه في الدراسة التي قدمها لندوة: نحو علم نفس إسلامي بالقاهرة عام </a:t>
            </a:r>
            <a:r>
              <a:rPr b="1" lang="en-US" sz="3400" spc="-1" strike="noStrike">
                <a:solidFill>
                  <a:srgbClr val="ffffff"/>
                </a:solidFill>
                <a:latin typeface="Garamond"/>
                <a:ea typeface="Traditional Arabic"/>
              </a:rPr>
              <a:t>1989</a:t>
            </a:r>
            <a:r>
              <a:rPr b="1" lang="hi-IN"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904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ahmed</cp:lastModifiedBy>
  <dcterms:modified xsi:type="dcterms:W3CDTF">2008-12-01T15:21:36Z</dcterms:modified>
  <cp:revision>4</cp:revision>
  <dc:subject/>
  <dc:title>المصطلحات </dc:title>
</cp:coreProperties>
</file>