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EA65F-8565-46AB-B357-828BFB7D68A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64D3-D0B2-4167-8F66-026A0D87D5B7}"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6C8B-3195-46E3-9D2C-B85A11899D59}"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91F3-6BA3-436D-871F-2423398679E0}"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585B-2E08-49FA-A771-23010D606240}"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F0E0-36E1-4BB4-999E-ACAF91146470}"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D4BA2-CF5B-4777-AAF8-3FA0C890416A}"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E0D1A-0B95-438C-A901-A35D9FC33464}"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AB16-CD7F-4642-9497-9D6368D3E654}"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1BDB-EF30-4E31-8DE7-AFAC7780B1A1}"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0E36-AE64-452A-B4F2-836B5BD0057D}"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A148-347B-4D31-A5E3-3DC946C4ACE0}"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D503-B93F-46F3-82D4-AF8DC24CDBBC}"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C695-6DDA-428D-90C6-BB055EDE2924}"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2B45-D49E-497D-9C70-35E7E58A795E}"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5425-5CE4-481B-B180-6DEE381AC3E4}"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B2C2-EA34-4825-9EF4-CF15AC5C8E63}"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F9C3-0AEA-41BE-89D5-5811A7C8EE1C}"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D66F-801B-4883-80CF-8501F9382836}"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4256-35FE-478C-A4C4-D20FFE3F5930}"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5C8F-7E54-4E68-BF20-EFFEC06DF065}"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61573-3377-4484-AD36-7D0390640714}"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9D78-40A1-42C8-97F6-AD2807D93A70}"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1E29-14E8-49B6-9130-E0FF34F386CC}"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2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F02D-081F-4FB0-A7AE-34A01E368B1F}"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9438-3722-4C34-8C8C-AD40CB0D8BAC}"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F4E9-A856-4324-81EC-17C364A72CF2}"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BE7F-EA9A-4B92-9E17-CAF1414C0127}"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D907-7DF1-419B-B33A-F3DEEAFF97B2}"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C637-AD58-48DE-96DA-025AA1AC5071}"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1C85-3414-4AFB-9BF2-17D94BFC8027}"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137B-4B64-44E2-8757-5304F1844974}"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4BCD-5D58-4DF1-B782-DD501E53A518}"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D2BF-D518-4111-B930-CA693456B178}" type="slidenum">
              <a:rPr b="0" lang="ar-S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2690545-27E8-4F45-B07F-7219310F4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5E46C5-9A1B-4596-96F5-F51C57498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99439ED-BB7E-4A3C-BD8E-6C52AABCA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B536D3D-4B65-4E99-9B9A-B0D672DAB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0A9229-C1D8-4FDA-84EB-57FFC31C3B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85673-0B4A-46A1-A379-CA07E0D69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C828C-C08B-42EA-83D9-213FE71B1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5C33E-FBF9-4EDA-AE3D-2345FE500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71C90-57D4-4CFA-A64A-302496101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3AA52-F103-4A1D-BE47-9A2BDA2CE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4ED28-FE95-4C2C-976D-B76001416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E87EB1F-19C4-4BB8-B2BB-FE389ED00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37BDE-BCDA-49AE-BC7F-9BD2EDA08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27C35-0BDA-4045-A078-943AD474A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03143-1FAA-4C1E-ADE3-89F2E64E1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0B9C2-CDE5-4FB7-9424-00F803DF0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1A65CA-FC62-48C5-820C-32AF072D5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A639FA6-5130-420F-B15D-398BF922B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19BB56B-F48F-4ED7-9D0B-CA20EB550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949A5E0-A26D-49EF-A4DB-AA9D604F8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7AF94F9-BE17-47C7-96FB-5198F02EF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F3A9E0-C369-4C58-ABFB-7E5A3AD1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74BB02-2392-4B86-BCDA-2DADBF33D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D88F18-AB8A-41E2-9A4F-1EED3C590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AF38-092D-4C33-A2D9-6DDA9A4D46DA}"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E594-449F-40CE-B683-C3E6F79FB2CC}"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6280"/>
            <a:ext cx="7772400" cy="23763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ar-SA" sz="5400" spc="-1" strike="noStrike">
                <a:solidFill>
                  <a:srgbClr val="e5e5ff"/>
                </a:solidFill>
                <a:latin typeface="Bauhaus 93"/>
                <a:cs typeface="Traditional Arabic"/>
              </a:rPr>
              <a:t>المصطلحات</a:t>
            </a:r>
            <a:r>
              <a:rPr b="1" lang="ar-SA" sz="5400" spc="-1" strike="noStrike">
                <a:solidFill>
                  <a:srgbClr val="e5e5ff"/>
                </a:solidFill>
                <a:latin typeface="Garamond"/>
              </a:rPr>
              <a:t> </a:t>
            </a:r>
            <a:endParaRPr b="1" lang="en-US" sz="5400" spc="-1" strike="noStrike">
              <a:solidFill>
                <a:srgbClr val="e5e5ff"/>
              </a:solidFill>
              <a:latin typeface="Garamond"/>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549000"/>
            <a:ext cx="8229600" cy="5576760"/>
          </a:xfrm>
          <a:prstGeom prst="rect">
            <a:avLst/>
          </a:prstGeom>
          <a:noFill/>
          <a:ln w="0">
            <a:noFill/>
          </a:ln>
        </p:spPr>
        <p:txBody>
          <a:bodyPr anchor="t">
            <a:normAutofit/>
          </a:bodyPr>
          <a:p>
            <a:pPr marL="343080" indent="-343080" algn="just"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gency FB"/>
                <a:ea typeface="Traditional Arabic"/>
              </a:rPr>
              <a:t>  (ب) التمكن من التراث: لابد للدارس من أن يتمكن من أصول الإسلام الأساسية وهب القرآن والسنة, بأن يحيط بسائر النصوص المتعلقة بتخصصه ثم يتمكن من التراث الإسلامي, وذلك بعد غربلة هذا التراث واستخلاص الصحيح المفيد من عيونه وما يحتويه من الفكر الذي صدر عن روح الإسلام وغاياته لا من الخرافات أو الانحرافات أو السفسطات الوافدة عليه.</a:t>
            </a: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691920"/>
            <a:ext cx="8229600" cy="5616360"/>
          </a:xfrm>
          <a:prstGeom prst="rect">
            <a:avLst/>
          </a:prstGeom>
          <a:noFill/>
          <a:ln w="0">
            <a:noFill/>
          </a:ln>
        </p:spPr>
        <p:txBody>
          <a:bodyPr anchor="t">
            <a:normAutofit fontScale="78000"/>
          </a:bodyPr>
          <a:p>
            <a:pPr marL="267480" indent="-2674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0"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المرحلة الثانية تتضمن خطوتين: </a:t>
            </a:r>
            <a:endParaRPr b="0" lang="en-US" sz="3000" spc="-1" strike="noStrike">
              <a:solidFill>
                <a:srgbClr val="ffffff"/>
              </a:solidFill>
              <a:latin typeface="Garamond"/>
            </a:endParaRPr>
          </a:p>
          <a:p>
            <a:pPr marL="267480" indent="-2674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________</a:t>
            </a:r>
            <a:endParaRPr b="0" lang="en-US" sz="3000" spc="-1" strike="noStrike">
              <a:solidFill>
                <a:srgbClr val="ffffff"/>
              </a:solidFill>
              <a:latin typeface="Garamond"/>
            </a:endParaRPr>
          </a:p>
          <a:p>
            <a:pPr marL="267480" indent="-267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تحديد المشاكل الهامة: يجب على المفكر المسلم حتى يتمكن من الإبداع والمبادرة والعطاء, أن يحدد في مطالع مسيرته طبيعة المشاكل والقضايا والتحديات التي تواجه الأمة أو التي تواجه البشرية ويطمع المفكر المسلم في التصدي لها وحل معضلتها, ومن المهم أن يدرك أن مشاكل الأمة الاقتصادية والاجتماعية والسياسية هي مشاكل هامة بكل المقاييس ليست في الحقيقة إلا نتيجة وإلا جانباً يسيراً لمرض الأمة الكامن, وهو غبش الرؤية الإسلامية المعاصرة وضمور أسس الفكر الإسلامي وتدهور مناهجه, وما ترتب على كل ذلك من أمراض ومن فساد وانحطاط وضعف في أداء الأنظمة وتأثير التربية والتزام الأخلاق.</a:t>
            </a:r>
            <a:endParaRPr b="0" lang="en-US" sz="3000" spc="-1" strike="noStrike">
              <a:solidFill>
                <a:srgbClr val="ffffff"/>
              </a:solidFill>
              <a:latin typeface="Garamond"/>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692280"/>
            <a:ext cx="8229600" cy="5433840"/>
          </a:xfrm>
          <a:prstGeom prst="rect">
            <a:avLst/>
          </a:prstGeom>
          <a:noFill/>
          <a:ln w="0">
            <a:noFill/>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r>
              <a:rPr b="1" lang="ar-SA" sz="3000" spc="-1" strike="noStrike">
                <a:solidFill>
                  <a:srgbClr val="ffffff"/>
                </a:solidFill>
                <a:latin typeface="Garamond"/>
                <a:ea typeface="Traditional Arabic"/>
              </a:rPr>
              <a:t>(ب) الإبداع والمبادرة الإسلامية: على العقل المسلم أن يقدم الحلول والبدائل المبدعة وأن يحدد المعايير الصحيحة التي تعبر عن الإسلام في شريعته وأخلاقه وثقافته وروحه ومقاصده, وأن يمتلك العقل المسلم والمفكر المسلم الوسائل التي تناسب كفاءة تلك المعايير في أداء المهام وأن يمارس استخدامها.</a:t>
            </a:r>
            <a:endParaRPr b="0" lang="en-US" sz="3000" spc="-1" strike="noStrike">
              <a:solidFill>
                <a:srgbClr val="ffffff"/>
              </a:solidFill>
              <a:latin typeface="Garamond"/>
            </a:endParaRPr>
          </a:p>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Garamond"/>
                <a:ea typeface="Traditional Arabic"/>
              </a:rPr>
              <a:t>   </a:t>
            </a:r>
            <a:endParaRPr b="0" lang="en-US" sz="3400" spc="-1" strike="noStrike">
              <a:solidFill>
                <a:srgbClr val="ffffff"/>
              </a:solidFill>
              <a:latin typeface="Garamond"/>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76280"/>
            <a:ext cx="8229600" cy="5649840"/>
          </a:xfrm>
          <a:prstGeom prst="rect">
            <a:avLst/>
          </a:prstGeom>
          <a:noFill/>
          <a:ln w="0">
            <a:noFill/>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التوجيه الإسلامي لعلم النفس:ويقصد بالتوجيه الإسلامي لعلم النفس إيجاد وجهة علمية لهذا العلم في البلاد الإسلامية, مستمدة من منهج حياتها, توجه علماء النفس المسلمين في نظرتهم إلى الإنسان, وفي تفسير سلوكه, وفي وضع برامج تنمية صحته النفسية, ووقايته من الانحراف وعلاج انحرافاته, وفي اختيار موضوعات البحوث, وتفسير نتائجها, وفي إعداد المقالات وتأليف الكتب وفي تدريس فروع علم النفس في الجامعات والمعاهد.</a:t>
            </a: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836280"/>
            <a:ext cx="8229600" cy="5289480"/>
          </a:xfrm>
          <a:prstGeom prst="rect">
            <a:avLst/>
          </a:prstGeom>
          <a:noFill/>
          <a:ln w="0">
            <a:noFill/>
          </a:ln>
        </p:spPr>
        <p:txBody>
          <a:bodyPr anchor="t">
            <a:normAutofit fontScale="91000"/>
          </a:bodyPr>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4</a:t>
            </a:r>
            <a:r>
              <a:rPr b="1" lang="ar-SA" sz="3000" spc="-1" strike="noStrike">
                <a:solidFill>
                  <a:srgbClr val="ffffff"/>
                </a:solidFill>
                <a:latin typeface="Garamond"/>
                <a:ea typeface="Traditional Arabic"/>
              </a:rPr>
              <a:t>) التفسير الإسلامي للسلوك: يمكن تقديم التعريف التالي للتفسير الإسلامي للسلوك بأنه: بيان ما ورد في الكتاب والسنة من نصوص تتعلق بالسلوك الإنساني, وكيفية معالجة مشكلاته بأساليب إسلامية.</a:t>
            </a:r>
            <a:endParaRPr b="0" lang="en-US" sz="3000" spc="-1" strike="noStrike">
              <a:solidFill>
                <a:srgbClr val="ffffff"/>
              </a:solidFill>
              <a:latin typeface="Garamond"/>
            </a:endParaRPr>
          </a:p>
          <a:p>
            <a:pPr marL="312120" indent="-3121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ea typeface="Traditional Arabic"/>
              </a:rPr>
              <a:t>5</a:t>
            </a:r>
            <a:r>
              <a:rPr b="1" lang="ar-SA" sz="3000" spc="-1" strike="noStrike" u="sng">
                <a:solidFill>
                  <a:srgbClr val="ffffff"/>
                </a:solidFill>
                <a:uFillTx/>
                <a:latin typeface="Garamond"/>
                <a:ea typeface="Traditional Arabic"/>
              </a:rPr>
              <a:t>)التأصيل الإسلامي للعلوم الاجتماعية </a:t>
            </a:r>
            <a:r>
              <a:rPr b="1" lang="ar-SA" sz="3000" spc="-1" strike="noStrike">
                <a:solidFill>
                  <a:srgbClr val="ffffff"/>
                </a:solidFill>
                <a:latin typeface="Garamond"/>
                <a:cs typeface="Traditional Arabic"/>
              </a:rPr>
              <a:t>يعني دعوة أو بالأحرى عودة إلى الأصول الإسلامية الأولى باعتبارها المنبع الرئيسي الذي تستمد منه العلوم أسسها ومنطلقاتها بحيث ينقى من خلال عملية الـتأصيل ما علق بتلك العلوم من شوائب نظرية, وأفكار غربية لا تتفق وما جاء به الإسلام: منهجاً وغاية ومساراً.</a:t>
            </a:r>
            <a:endParaRPr b="0" lang="en-US" sz="3000" spc="-1" strike="noStrike">
              <a:solidFill>
                <a:srgbClr val="ffffff"/>
              </a:solidFill>
              <a:latin typeface="Garamond"/>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620280"/>
            <a:ext cx="8229600" cy="5761080"/>
          </a:xfrm>
          <a:prstGeom prst="rect">
            <a:avLst/>
          </a:prstGeom>
          <a:noFill/>
          <a:ln w="0">
            <a:noFill/>
          </a:ln>
        </p:spPr>
        <p:txBody>
          <a:bodyPr anchor="t">
            <a:normAutofit fontScale="86000"/>
          </a:bodyPr>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a:t>
            </a:r>
            <a:r>
              <a:rPr b="1" lang="ar-SA" sz="3000" spc="-1" strike="noStrike">
                <a:solidFill>
                  <a:srgbClr val="ffffff"/>
                </a:solidFill>
                <a:latin typeface="Garamond"/>
                <a:cs typeface="Traditional Arabic"/>
              </a:rPr>
              <a:t>خطوات التأصيل</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أولاً:</a:t>
            </a:r>
            <a:r>
              <a:rPr b="1" lang="ar-SA" sz="3000" spc="-1" strike="noStrike">
                <a:solidFill>
                  <a:srgbClr val="ffffff"/>
                </a:solidFill>
                <a:latin typeface="Garamond"/>
                <a:ea typeface="Traditional Arabic"/>
              </a:rPr>
              <a:t> تأسيس الإطار المعرفي:</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ي طرح علمي مقبول يجب أن يقوم على بناء نظري مشتمل على إطار يحوي الصورة العامة التي تحدد مسار النظرية والتطبيقات المنبثقة عنها. ويعبر عن الإطار المعرفي في النظريات الغربية أحياناً بما يعرف بمصطلح الوجهة العلمية.</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يمكن تصنيفها في مستويين:</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المستوى الأول: المحتوى: ويدخل فيه المعرفة والكون وموجوداته.</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ب- المستوى الثاني: الحياة.</a:t>
            </a:r>
            <a:endParaRPr b="0" lang="en-US" sz="3000" spc="-1" strike="noStrike">
              <a:solidFill>
                <a:srgbClr val="ffffff"/>
              </a:solidFill>
              <a:latin typeface="Garamond"/>
            </a:endParaRPr>
          </a:p>
          <a:p>
            <a:pPr marL="294840" indent="-29484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المحتوى: من اللازم للباحث في تناول للمحتوي أن يتناول المعرفة من حيث مصادرها التي تستقى منها المعرفة, ويمكن النظر إليها من خلال المنظور الغربي والمنظور الإسلامي:</a:t>
            </a:r>
            <a:endParaRPr b="0" lang="en-US" sz="3000" spc="-1" strike="noStrike">
              <a:solidFill>
                <a:srgbClr val="ffffff"/>
              </a:solidFill>
              <a:latin typeface="Garamond"/>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49000"/>
            <a:ext cx="8229600" cy="5832360"/>
          </a:xfrm>
          <a:prstGeom prst="rect">
            <a:avLst/>
          </a:prstGeom>
          <a:noFill/>
          <a:ln w="0">
            <a:noFill/>
          </a:ln>
        </p:spPr>
        <p:txBody>
          <a:bodyPr anchor="t">
            <a:normAutofit fontScale="95000"/>
          </a:bodyPr>
          <a:p>
            <a:pPr marL="325800" indent="-32580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منظور الغربي: نظر الغرب للمعرفة وللكون وللمخلوقات من خلال تاريخه الطويل الذي مر بصراعات مع الكنسية (وسبق عرض شيئاً منها في المبحث الأول من هذا الفصل) وهكذا خلص المنظور الغربي إلى بناء مسلمات عامة (سيرد ذكر أهمها في علم النفس الغربي في الفصل الثالث) وكان من ذلك استبعاد المصدر الديني فلم يبق له سوى العقل والحواس, فأصبحت الخبرة المباشرة والتجريب وإعمال العقل هي المصادر التي تشتق منها المعرفة وما سواها فلا قبول له أي انتهى المنهج إلى مادية حسية ووضعية منطقية. </a:t>
            </a:r>
            <a:endParaRPr b="0" lang="en-US" sz="3000" spc="-1" strike="noStrike">
              <a:solidFill>
                <a:srgbClr val="ffffff"/>
              </a:solidFill>
              <a:latin typeface="Garamond"/>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404280"/>
            <a:ext cx="8229600" cy="572148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Garamond"/>
                <a:ea typeface="Traditional Arabic"/>
              </a:rPr>
              <a:t>  ومن هنا غُيب قطاع واسع من المعرفة لا يمكن الوصول إليه بالمصادر السابقة منفردة, وهو عالم الغيب الذي مصدره الوحي, فكان النتاج المعرفة الغربية الحالية الناقصة, وانعكس هذا على النظرة للكون والمخلوقات, والتي لا يمكن بحال من الأحوال أن يتوصل الإنسان إلى كامل المعرفة عنها ألا برجوعه للمصدر الديني الصحيح.</a:t>
            </a:r>
            <a:endParaRPr b="0" lang="en-US" sz="3400" spc="-1" strike="noStrike">
              <a:solidFill>
                <a:srgbClr val="ffffff"/>
              </a:solidFill>
              <a:latin typeface="Garamond"/>
            </a:endParaRPr>
          </a:p>
          <a:p>
            <a:pPr marL="343080" indent="-343080" algn="r" rtl="1">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620280"/>
            <a:ext cx="8229600" cy="5505480"/>
          </a:xfrm>
          <a:prstGeom prst="rect">
            <a:avLst/>
          </a:prstGeom>
          <a:noFill/>
          <a:ln w="0">
            <a:noFill/>
          </a:ln>
        </p:spPr>
        <p:txBody>
          <a:bodyPr anchor="t">
            <a:normAutofit fontScale="98000"/>
          </a:bodyPr>
          <a:p>
            <a:pPr marL="335880" indent="-335880" algn="just" rtl="1">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Garamond"/>
                <a:ea typeface="Traditional Arabic"/>
              </a:rPr>
              <a:t>  - المنظور الإسلامي: نظر الإسلام للمعرفة على أنها تتعامل مع عالمين هما عالم الشهادة وعالم الغيب, فجعل ميدان عالم الشهادة للعقل والحواس البشرية.</a:t>
            </a:r>
            <a:endParaRPr b="0" lang="en-US" sz="3800" spc="-1" strike="noStrike">
              <a:solidFill>
                <a:srgbClr val="ffffff"/>
              </a:solidFill>
              <a:latin typeface="Garamond"/>
            </a:endParaRPr>
          </a:p>
          <a:p>
            <a:pPr marL="335880" indent="-335880" algn="just" rtl="1">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ffffff"/>
                </a:solidFill>
                <a:uFillTx/>
                <a:latin typeface="Garamond"/>
                <a:ea typeface="Traditional Arabic"/>
              </a:rPr>
              <a:t>  ب- الحياة:</a:t>
            </a:r>
            <a:r>
              <a:rPr b="1" lang="ar-SA" sz="3800" spc="-1" strike="noStrike">
                <a:solidFill>
                  <a:srgbClr val="ffffff"/>
                </a:solidFill>
                <a:latin typeface="Garamond"/>
                <a:ea typeface="Traditional Arabic"/>
              </a:rPr>
              <a:t> الحياة موضوع تختلف فيه الرؤى والطروحات بين البشر حسب الخلفية التي يتبناها كل منهم:</a:t>
            </a:r>
            <a:endParaRPr b="0" lang="en-US" sz="3800" spc="-1" strike="noStrike">
              <a:solidFill>
                <a:srgbClr val="ffffff"/>
              </a:solidFill>
              <a:latin typeface="Garamond"/>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692280"/>
            <a:ext cx="8229600" cy="5433840"/>
          </a:xfrm>
          <a:prstGeom prst="rect">
            <a:avLst/>
          </a:prstGeom>
          <a:noFill/>
          <a:ln w="0">
            <a:noFill/>
          </a:ln>
        </p:spPr>
        <p:txBody>
          <a:bodyPr anchor="t">
            <a:normAutofit fontScale="97000"/>
          </a:bodyPr>
          <a:p>
            <a:pPr marL="332640" indent="-3326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ن تواجه الإنسان أثناء عيشه في هذه الدنيا. - المنظور الغربي للحياة هي ما يعيشه الإنسان الآن, مبنياً على ما توصله إليه أو افترضه العلماء عن ماضيه القريب والبعيد، دون النظر إلى ما هو أبعد من ذلك أو ما يلي هذه الحياة الدنيا, والذي يدخل في علم الغيبيات لا مجال للتحقق منه, لذا لا يجري الاهتمام به, بل يوجه الاهتمام إلى هذه الحياة وكيف يمكن أن يعيشها الإنسان بأقصى متعة ممكنة, ويتجنب أو يتغلب على أكبر عدد ممكن من المصاعب التي تواجه أو يمكن </a:t>
            </a:r>
            <a:endParaRPr b="0" lang="en-US" sz="3000" spc="-1" strike="noStrike">
              <a:solidFill>
                <a:srgbClr val="ffffff"/>
              </a:solidFill>
              <a:latin typeface="Garamond"/>
            </a:endParaRPr>
          </a:p>
          <a:p>
            <a:pPr marL="332640" indent="-332640" algn="r" rtl="1">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836640"/>
            <a:ext cx="8229600" cy="5361120"/>
          </a:xfrm>
          <a:prstGeom prst="rect">
            <a:avLst/>
          </a:prstGeom>
          <a:noFill/>
          <a:ln w="0">
            <a:noFill/>
          </a:ln>
        </p:spPr>
        <p:txBody>
          <a:bodyPr anchor="t">
            <a:normAutofit/>
          </a:bodyPr>
          <a:p>
            <a:pPr marL="343080" indent="0" algn="just"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ea typeface="Traditional Arabic"/>
              </a:rPr>
              <a:t>   </a:t>
            </a:r>
            <a:r>
              <a:rPr b="1" lang="ar-SA" sz="3000" spc="-1" strike="noStrike">
                <a:solidFill>
                  <a:srgbClr val="ffffff"/>
                </a:solidFill>
                <a:latin typeface="Garamond"/>
                <a:cs typeface="Traditional Arabic"/>
              </a:rPr>
              <a:t>ظهرت في الساحة البحثية خمسة مصطلحات كل منها يعبر عن وجهة نظر من قدمه للوصول للهدف المشترك وهو دور التصور الإسلامي في علم النفس وهي: علم النفس الإسلامي والأسلمة والتوجيه الإسلامي للسلوك والتفسير الإسلامي للسلوك والتأصيل الإسلامي، وسنتاول كل واحدة منها على حدة.</a:t>
            </a:r>
            <a:endParaRPr b="0" lang="en-US" sz="3000" spc="-1" strike="noStrike">
              <a:solidFill>
                <a:srgbClr val="ffffff"/>
              </a:solidFill>
              <a:latin typeface="Garamond"/>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repl">
                                        <p:cTn id="7"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836640"/>
            <a:ext cx="8229600" cy="5472000"/>
          </a:xfrm>
          <a:prstGeom prst="rect">
            <a:avLst/>
          </a:prstGeom>
          <a:noFill/>
          <a:ln w="0">
            <a:noFill/>
          </a:ln>
        </p:spPr>
        <p:txBody>
          <a:bodyPr anchor="t">
            <a:normAutofit fontScale="84000"/>
          </a:bodyPr>
          <a:p>
            <a:pPr marL="288000" indent="-2880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منظور الإسلامي للحياة يشمل مكاناً هو أرض الله التي هيئت للإنسان ليعمرها بالطاعة أينما كان, روى الإمام مسلم في صحيحه عن جابر بن عبد الله الأنصاري رضي الله عنه قال: قال رسول الله صلى الله عليه وآله وسلم "جعلت لي الأرض طيبة طهوراً ومسجداً, فأيما رجل أدركته الصلاة صلى حيث كان".</a:t>
            </a:r>
            <a:endParaRPr b="0" lang="en-US" sz="3000" spc="-1" strike="noStrike">
              <a:solidFill>
                <a:srgbClr val="ffffff"/>
              </a:solidFill>
              <a:latin typeface="Garamond"/>
            </a:endParaRPr>
          </a:p>
          <a:p>
            <a:pPr marL="288000" indent="-2880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يضاف للمكان في الحياة الزمان فهو سلسلة متواصلة لا انقطاع لها, بدأت منذ خلق الله الكون وخلق آدم أبا البشر واسكنه الجنة ثم أنزله إلى الأرض لتكون مكان اختبار وابتلاء له ولذريته ولذرية إبليس.</a:t>
            </a:r>
            <a:endParaRPr b="0" lang="en-US" sz="3000" spc="-1" strike="noStrike">
              <a:solidFill>
                <a:srgbClr val="ffffff"/>
              </a:solidFill>
              <a:latin typeface="Garamond"/>
            </a:endParaRPr>
          </a:p>
          <a:p>
            <a:pPr marL="288000" indent="-2880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لم تقف الحياة في الإسلام عند الحياة الدنيا بل تمتد في سلسلة متصلة بعد الحياة الدنيا إلى الحياة الأبدية حياة الآخرة.</a:t>
            </a:r>
            <a:endParaRPr b="0" lang="en-US" sz="3000" spc="-1" strike="noStrike">
              <a:solidFill>
                <a:srgbClr val="ffffff"/>
              </a:solidFill>
              <a:latin typeface="Garamond"/>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052280"/>
            <a:ext cx="8229600" cy="5073480"/>
          </a:xfrm>
          <a:prstGeom prst="rect">
            <a:avLst/>
          </a:prstGeom>
          <a:noFill/>
          <a:ln w="0">
            <a:noFill/>
          </a:ln>
        </p:spPr>
        <p:txBody>
          <a:bodyPr anchor="t">
            <a:normAutofit fontScale="99000"/>
          </a:bodyPr>
          <a:p>
            <a:pPr marL="339480" indent="-339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cs typeface="Traditional Arabic"/>
              </a:rPr>
              <a:t>ومن هنا نستطيع القول إن الإطار المعرفي الإسلامي قائم على حقائق واضحة في الكتاب والسنة, فيما يتعلق بمصادر المعرفة أو فيما يتعلق بالكون والخليقة والغرض من خلقهم, وأخيراً في الحياة مبدأها ومصيرها. والمهمة الكبرى لعلماء المسلمين هي أخذ تلك الحقائق ورسم خرائط لأطر معرفية إسلامية وفق كل تخصص علمي, يتيح للمتخصصين في كل مجال السير عليها للوصول لمعرفة علمية مؤصلة.</a:t>
            </a:r>
            <a:endParaRPr b="0" lang="en-US" sz="3000" spc="-1" strike="noStrike">
              <a:solidFill>
                <a:srgbClr val="ffffff"/>
              </a:solidFill>
              <a:latin typeface="Garamond"/>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04280"/>
            <a:ext cx="8229600" cy="5977080"/>
          </a:xfrm>
          <a:prstGeom prst="rect">
            <a:avLst/>
          </a:prstGeom>
          <a:noFill/>
          <a:ln w="0">
            <a:noFill/>
          </a:ln>
        </p:spPr>
        <p:txBody>
          <a:bodyPr anchor="t">
            <a:normAutofit/>
          </a:bodyPr>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endParaRPr b="0" lang="en-US" sz="3000" spc="-1" strike="noStrike">
              <a:solidFill>
                <a:srgbClr val="ffffff"/>
              </a:solidFill>
              <a:latin typeface="Garamond"/>
            </a:endParaRPr>
          </a:p>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ثانياً نقد علم النفس:</a:t>
            </a:r>
            <a:endParaRPr b="0" lang="en-US" sz="3000" spc="-1" strike="noStrike">
              <a:solidFill>
                <a:srgbClr val="ffffff"/>
              </a:solidFill>
              <a:latin typeface="Garamond"/>
            </a:endParaRPr>
          </a:p>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a:t>
            </a:r>
            <a:endParaRPr b="0" lang="en-US" sz="3000" spc="-1" strike="noStrike">
              <a:solidFill>
                <a:srgbClr val="ffffff"/>
              </a:solidFill>
              <a:latin typeface="Garamond"/>
            </a:endParaRPr>
          </a:p>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فهم التطور التاريخي:</a:t>
            </a:r>
            <a:endParaRPr b="0" lang="en-US" sz="3000" spc="-1" strike="noStrike">
              <a:solidFill>
                <a:srgbClr val="ffffff"/>
              </a:solidFill>
              <a:latin typeface="Garamond"/>
            </a:endParaRPr>
          </a:p>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من الأهمية بمكان لنا أن نلم بمراحل التطور التاريخي التي مر به تطور هذا العلم لما لها من أثر لا ينكر على ما هو سائد فيه من طروحات ونظريات. </a:t>
            </a:r>
            <a:endParaRPr b="0" lang="en-US" sz="3000" spc="-1" strike="noStrike">
              <a:solidFill>
                <a:srgbClr val="ffffff"/>
              </a:solidFill>
              <a:latin typeface="Garamond"/>
            </a:endParaRPr>
          </a:p>
          <a:p>
            <a:pPr marL="343080" indent="-34308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981000"/>
            <a:ext cx="8229600" cy="5145120"/>
          </a:xfrm>
          <a:prstGeom prst="rect">
            <a:avLst/>
          </a:prstGeom>
          <a:noFill/>
          <a:ln w="0">
            <a:noFill/>
          </a:ln>
        </p:spPr>
        <p:txBody>
          <a:bodyPr anchor="t">
            <a:normAutofit fontScale="86000"/>
          </a:bodyPr>
          <a:p>
            <a:pPr marL="294840" indent="-2948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قدرة علم النفس على تفسير السلوك</a:t>
            </a:r>
            <a:endParaRPr b="0" lang="en-US" sz="3000" spc="-1" strike="noStrike">
              <a:solidFill>
                <a:srgbClr val="ffffff"/>
              </a:solidFill>
              <a:latin typeface="Garamond"/>
            </a:endParaRPr>
          </a:p>
          <a:p>
            <a:pPr marL="294840" indent="-2948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يُعرف علم النفس بين دارسيه بأنه: الدراسة العلمية لسلوك الكائن الحي. وبهذا فهو مصدر تفسير السلوك وتحليله وضبطه وتوجيه نحو مراد الإنسان.</a:t>
            </a:r>
            <a:endParaRPr b="0" lang="en-US" sz="3000" spc="-1" strike="noStrike">
              <a:solidFill>
                <a:srgbClr val="ffffff"/>
              </a:solidFill>
              <a:latin typeface="Garamond"/>
            </a:endParaRPr>
          </a:p>
          <a:p>
            <a:pPr marL="294840" indent="-29484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لكن هل كل السلوكيات الإنسانية يمكن إخضاعها للتجارب المختبرية أو الحقلية؟ لا شك أن الجواب سيكون بالنفي, لأن السلوك في أصله ينقسم إلى قسمين خارجي وداخلي, فالخارجي يمكن إخضاع كثير من أنواعه للتجارب المختبرية أو الحقلية, مع الاعتراف بصعوبة ضبط كافة العوامل المؤثرة فيه داخل المختبر أو في الحقل.</a:t>
            </a:r>
            <a:endParaRPr b="0" lang="en-US" sz="3000" spc="-1" strike="noStrike">
              <a:solidFill>
                <a:srgbClr val="ffffff"/>
              </a:solidFill>
              <a:latin typeface="Garamond"/>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620280"/>
            <a:ext cx="8229600" cy="5505480"/>
          </a:xfrm>
          <a:prstGeom prst="rect">
            <a:avLst/>
          </a:prstGeom>
          <a:noFill/>
          <a:ln w="0">
            <a:noFill/>
          </a:ln>
        </p:spPr>
        <p:txBody>
          <a:bodyPr anchor="t">
            <a:normAutofit fontScale="93000"/>
          </a:bodyPr>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وفاء علم النفس بخصائص المنهج العلمي:</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علم النفس الغربي المعاصر سار في طريق طويل ليصل للمناهج التي يستخدمها حالياً في دراسته للظواهر النفسية.</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هناك سبع خصائص للمنهج العلمي هي:</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قيامه على الملاحظة الموضوعية.</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وجود العوامل المستقلة المحددة لموضوع الدراسة.</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3</a:t>
            </a:r>
            <a:r>
              <a:rPr b="1" lang="ar-SA" sz="3000" spc="-1" strike="noStrike">
                <a:solidFill>
                  <a:srgbClr val="ffffff"/>
                </a:solidFill>
                <a:latin typeface="Garamond"/>
                <a:ea typeface="Traditional Arabic"/>
              </a:rPr>
              <a:t>- يدرس ظواهر متكررة.</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4</a:t>
            </a:r>
            <a:r>
              <a:rPr b="1" lang="ar-SA" sz="3000" spc="-1" strike="noStrike">
                <a:solidFill>
                  <a:srgbClr val="ffffff"/>
                </a:solidFill>
                <a:latin typeface="Garamond"/>
                <a:ea typeface="Traditional Arabic"/>
              </a:rPr>
              <a:t>- التسليم بأن الكون منظم.</a:t>
            </a:r>
            <a:endParaRPr b="0" lang="en-US" sz="3000" spc="-1" strike="noStrike">
              <a:solidFill>
                <a:srgbClr val="ffffff"/>
              </a:solidFill>
              <a:latin typeface="Garamond"/>
            </a:endParaRPr>
          </a:p>
          <a:p>
            <a:pPr marL="318960" indent="-3189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التجرد من التحيزات.</a:t>
            </a:r>
            <a:endParaRPr b="0" lang="en-US" sz="3000" spc="-1" strike="noStrike">
              <a:solidFill>
                <a:srgbClr val="ffffff"/>
              </a:solidFill>
              <a:latin typeface="Garamond"/>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620280"/>
            <a:ext cx="8229600" cy="5505480"/>
          </a:xfrm>
          <a:prstGeom prst="rect">
            <a:avLst/>
          </a:prstGeom>
          <a:noFill/>
          <a:ln w="0">
            <a:noFill/>
          </a:ln>
        </p:spPr>
        <p:txBody>
          <a:bodyPr anchor="t">
            <a:normAutofit fontScale="79000"/>
          </a:bodyPr>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6</a:t>
            </a:r>
            <a:r>
              <a:rPr b="1" lang="ar-SA" sz="3000" spc="-1" strike="noStrike">
                <a:solidFill>
                  <a:srgbClr val="ffffff"/>
                </a:solidFill>
                <a:latin typeface="Garamond"/>
                <a:ea typeface="Traditional Arabic"/>
              </a:rPr>
              <a:t>- إتباع إجراءات صريحة ومعروفة بين أهل التخصص.</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7</a:t>
            </a:r>
            <a:r>
              <a:rPr b="1" lang="ar-SA" sz="3000" spc="-1" strike="noStrike">
                <a:solidFill>
                  <a:srgbClr val="ffffff"/>
                </a:solidFill>
                <a:latin typeface="Garamond"/>
                <a:ea typeface="Traditional Arabic"/>
              </a:rPr>
              <a:t>- يغلب عليه الوصف دون التقويم.</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عند عرض واقع علم النفس الغربي على الخصائص أعلاه نجد تعذر توفير كثير منها في ذلك الواقع.</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4</a:t>
            </a:r>
            <a:r>
              <a:rPr b="1" lang="ar-SA" sz="3000" spc="-1" strike="noStrike">
                <a:solidFill>
                  <a:srgbClr val="ffffff"/>
                </a:solidFill>
                <a:latin typeface="Garamond"/>
                <a:ea typeface="Traditional Arabic"/>
              </a:rPr>
              <a:t>) تحقيق علم النفس الغربي لمصلحة الإنسان:</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ناظر في واقع علم النفس الغربي قد يبدو له ظاهرياً أنه يسعى لتحقيق مصلحة الإنسان بغض النظر عن أصله وديانته وبلده, ولكن المتمعن في واقع الممارسات النفسية المبنية على النظريات يتضح له أشياء أخرى, منها أن الحديث عن الإنسان يكون المقصود هو الإنسان الغربي وليس الإنسان من حيث هو إنسان بغض النظر عن كونه شرقياً أو غربياً.</a:t>
            </a:r>
            <a:endParaRPr b="0" lang="en-US" sz="3000" spc="-1" strike="noStrike">
              <a:solidFill>
                <a:srgbClr val="ffffff"/>
              </a:solidFill>
              <a:latin typeface="Garamond"/>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476280"/>
            <a:ext cx="8229600" cy="5649840"/>
          </a:xfrm>
          <a:prstGeom prst="rect">
            <a:avLst/>
          </a:prstGeom>
          <a:noFill/>
          <a:ln w="0">
            <a:noFill/>
          </a:ln>
        </p:spPr>
        <p:txBody>
          <a:bodyPr anchor="t">
            <a:normAutofit fontScale="79000"/>
          </a:bodyPr>
          <a:p>
            <a:pPr marL="270720" indent="-2707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5</a:t>
            </a:r>
            <a:r>
              <a:rPr b="1" lang="ar-SA" sz="3000" spc="-1" strike="noStrike">
                <a:solidFill>
                  <a:srgbClr val="ffffff"/>
                </a:solidFill>
                <a:latin typeface="Garamond"/>
                <a:ea typeface="Traditional Arabic"/>
              </a:rPr>
              <a:t>) تأثر كثير من المفاهيم النفسية بالبيئة الثقافية الغربية:</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كثير ممن ما هو مطروح في كتب علم النفس وممارساته يعكس بلا أدنى ريب البيئة الغربية والنظرة الغربية للأشياء. فما هو مقر في المجتمعات الغربية من سلوكيات فهو السلوك السوي وما هو مرفوض فهو غير السوي, وينقل هذا ليدرس لكل أبناء المجتمعات غربيها وشرقيها, هذا تحيز واضح للثقافة الغربية ضد الثقافات الأخرى.</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a:solidFill>
                  <a:srgbClr val="ffffff"/>
                </a:solidFill>
                <a:latin typeface="Garamond"/>
                <a:ea typeface="Traditional Arabic"/>
              </a:rPr>
              <a:t>6</a:t>
            </a:r>
            <a:r>
              <a:rPr b="1" lang="ar-SA" sz="3000" spc="-1" strike="noStrike">
                <a:solidFill>
                  <a:srgbClr val="ffffff"/>
                </a:solidFill>
                <a:latin typeface="Garamond"/>
                <a:ea typeface="Traditional Arabic"/>
              </a:rPr>
              <a:t>) ضوابط ما يقبل أو يرفض من علم النفس الغربي:</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تعرض عدد من المتهمين بالتأصيل الإسلامي لعلم النفس لبعض الضوابط.</a:t>
            </a:r>
            <a:endParaRPr b="0" lang="en-US" sz="3000" spc="-1" strike="noStrike">
              <a:solidFill>
                <a:srgbClr val="ffffff"/>
              </a:solidFill>
              <a:latin typeface="Garamond"/>
            </a:endParaRPr>
          </a:p>
          <a:p>
            <a:pPr marL="270720" indent="-2707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قاعدتين عامتين نلخصهما ببساطة في الأتي:</a:t>
            </a:r>
            <a:endParaRPr b="0" lang="en-US" sz="3000" spc="-1" strike="noStrike">
              <a:solidFill>
                <a:srgbClr val="ffffff"/>
              </a:solidFill>
              <a:latin typeface="Garamond"/>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765000"/>
            <a:ext cx="8229600" cy="5361120"/>
          </a:xfrm>
          <a:prstGeom prst="rect">
            <a:avLst/>
          </a:prstGeom>
          <a:noFill/>
          <a:ln w="0">
            <a:noFill/>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Garamond"/>
                <a:cs typeface="Traditional Arabic"/>
              </a:rPr>
              <a:t>القاعدة الأولى:</a:t>
            </a:r>
            <a:r>
              <a:rPr b="1" lang="ar-SA" sz="3000" spc="-1" strike="noStrike">
                <a:solidFill>
                  <a:srgbClr val="ffffff"/>
                </a:solidFill>
                <a:latin typeface="Garamond"/>
                <a:ea typeface="Traditional Arabic"/>
              </a:rPr>
              <a:t> إنه كلما كانت المواد التي نأخذها من علم النفس الغربي أكثر اعتماداً على البحث التجريبي الميداني, فإنها تكون أكثر قبولاً واتساقاً مع الفكر الإسلامي. وفي المقابل, فإنه كلما كانت المواد أكثر اعتماداً على النظريات الأريكية </a:t>
            </a:r>
            <a:r>
              <a:rPr b="0" lang="en-US" sz="3000" spc="-1" strike="noStrike">
                <a:solidFill>
                  <a:srgbClr val="ffffff"/>
                </a:solidFill>
                <a:latin typeface="Garamond"/>
                <a:ea typeface="Traditional Arabic"/>
              </a:rPr>
              <a:t>(</a:t>
            </a:r>
            <a:r>
              <a:rPr b="0" lang="en-US" sz="3000" spc="-1" strike="noStrike">
                <a:solidFill>
                  <a:srgbClr val="ffffff"/>
                </a:solidFill>
                <a:latin typeface="Garamond"/>
                <a:ea typeface="Traditional Arabic"/>
              </a:rPr>
              <a:t>Armchair</a:t>
            </a:r>
            <a:r>
              <a:rPr b="1" lang="en-US" sz="3000" spc="-1" strike="noStrike">
                <a:solidFill>
                  <a:srgbClr val="ffffff"/>
                </a:solidFill>
                <a:latin typeface="Garamond"/>
                <a:ea typeface="Traditional Arabic"/>
              </a:rPr>
              <a:t> </a:t>
            </a:r>
            <a:r>
              <a:rPr b="0" lang="en-US" sz="3000" spc="-1" strike="noStrike">
                <a:solidFill>
                  <a:srgbClr val="ffffff"/>
                </a:solidFill>
                <a:latin typeface="Garamond"/>
                <a:ea typeface="Traditional Arabic"/>
              </a:rPr>
              <a:t>theories</a:t>
            </a:r>
            <a:r>
              <a:rPr b="0" lang="en-US"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 فإنها تزداد بعداً عن التصورات الإسلامية, لأنها حينئذ تكون أكثر اعتماداً على التصورات الحضارية لواضعيها من العلماء الغربيين.</a:t>
            </a:r>
            <a:endParaRPr b="0" lang="en-US" sz="3000" spc="-1" strike="noStrike">
              <a:solidFill>
                <a:srgbClr val="ffffff"/>
              </a:solidFill>
              <a:latin typeface="Garamond"/>
            </a:endParaRPr>
          </a:p>
        </p:txBody>
      </p:sp>
    </p:spTree>
  </p:cSld>
  <p:transition>
    <p:wedg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052280"/>
            <a:ext cx="8229600" cy="5073480"/>
          </a:xfrm>
          <a:prstGeom prst="rect">
            <a:avLst/>
          </a:prstGeom>
          <a:noFill/>
          <a:ln w="0">
            <a:noFill/>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u="sng">
                <a:solidFill>
                  <a:srgbClr val="ffffff"/>
                </a:solidFill>
                <a:uFillTx/>
                <a:latin typeface="Garamond"/>
                <a:cs typeface="Traditional Arabic"/>
              </a:rPr>
              <a:t>القاعدة الثانية:</a:t>
            </a:r>
            <a:r>
              <a:rPr b="1" lang="ar-SA" sz="3000" spc="-1" strike="noStrike">
                <a:solidFill>
                  <a:srgbClr val="ffffff"/>
                </a:solidFill>
                <a:latin typeface="Garamond"/>
                <a:ea typeface="Traditional Arabic"/>
              </a:rPr>
              <a:t> إنه كلما كانت المواد النفسية الحديثة تدرس جانباً محدوداً من السلوك الإنساني, كدراسة الإدراك الحسي أو زمن الرجع أو الذكاء أو تأثير العقاقير العلاجية على السلوك, كانت أكثر قبولاً من الناحية الإسلامية, وفي المقابل, كلما كانت هذه المواد تهتم بالسلوك الإنساني العام فإنها تزداد بعداً عن المظلة الإسلامية لأنها عند ذلك تتأثر بتصور علما الغرب عن طبيعة الإنسان.</a:t>
            </a:r>
            <a:endParaRPr b="0" lang="en-US" sz="3000" spc="-1" strike="noStrike">
              <a:solidFill>
                <a:srgbClr val="ffffff"/>
              </a:solidFill>
              <a:latin typeface="Garamond"/>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68360" y="836280"/>
            <a:ext cx="8229600" cy="5040360"/>
          </a:xfrm>
          <a:prstGeom prst="rect">
            <a:avLst/>
          </a:prstGeom>
          <a:noFill/>
          <a:ln w="0">
            <a:noFill/>
          </a:ln>
        </p:spPr>
        <p:txBody>
          <a:bodyPr anchor="t">
            <a:normAutofit fontScale="81000"/>
          </a:bodyPr>
          <a:p>
            <a:pPr marL="277560" indent="-2775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Garamond"/>
                <a:ea typeface="Traditional Arabic"/>
              </a:rPr>
              <a:t>  ثالثاً: بناء النظرية المؤصلة:</a:t>
            </a:r>
            <a:endParaRPr b="0" lang="en-US" sz="3000" spc="-1" strike="noStrike">
              <a:solidFill>
                <a:srgbClr val="ffffff"/>
              </a:solidFill>
              <a:latin typeface="Garamond"/>
            </a:endParaRPr>
          </a:p>
          <a:p>
            <a:pPr marL="277560" indent="-2775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هو قمة عملية التأصيل وثمرتها المنتظرة, وللقيام ببناء تلك النظرية المؤصلة هناك أكثر من طريق, يمكن أجمالها في طريقين هما التأصيل الشامل والتأصيل الجزئي, وهذا ما عرضه (رجب) حيث يقول: </a:t>
            </a:r>
            <a:endParaRPr b="0" lang="en-US" sz="3000" spc="-1" strike="noStrike">
              <a:solidFill>
                <a:srgbClr val="ffffff"/>
              </a:solidFill>
              <a:latin typeface="Garamond"/>
            </a:endParaRPr>
          </a:p>
          <a:p>
            <a:pPr marL="277560" indent="-2775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ولاً: مدخل التأصيل الجزئي:</a:t>
            </a:r>
            <a:endParaRPr b="0" lang="en-US" sz="3000" spc="-1" strike="noStrike">
              <a:solidFill>
                <a:srgbClr val="ffffff"/>
              </a:solidFill>
              <a:latin typeface="Garamond"/>
            </a:endParaRPr>
          </a:p>
          <a:p>
            <a:pPr marL="277560" indent="-2775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_______</a:t>
            </a:r>
            <a:endParaRPr b="0" lang="en-US" sz="3000" spc="-1" strike="noStrike">
              <a:solidFill>
                <a:srgbClr val="ffffff"/>
              </a:solidFill>
              <a:latin typeface="Garamond"/>
            </a:endParaRPr>
          </a:p>
          <a:p>
            <a:pPr marL="277560" indent="-27756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حق أن هذا المدخل يلبي حاجة لدى أولئك الذين لا يرون في الميدان حتى الآن جهوداً جماعية ومؤسسية كافية لتحقيق أهداف التأصيل الإسلامي بمفهومه الشامل, ومن هنا فإنهم يفضلون فتح الأبواب أمام الإسهامات (الفردية) ما دامت ملتزمة بالمفهوم</a:t>
            </a:r>
            <a:r>
              <a:rPr b="0" lang="ar-SA"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692280"/>
            <a:ext cx="8229600" cy="5433840"/>
          </a:xfrm>
          <a:prstGeom prst="rect">
            <a:avLst/>
          </a:prstGeom>
          <a:noFill/>
          <a:ln w="0">
            <a:noFill/>
          </a:ln>
        </p:spPr>
        <p:txBody>
          <a:bodyPr anchor="t">
            <a:normAutofit fontScale="82000"/>
          </a:bodyPr>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علم النفس الاسلامي</a:t>
            </a:r>
            <a:endParaRPr b="0" lang="en-US" sz="3000" spc="-1" strike="noStrike">
              <a:solidFill>
                <a:srgbClr val="ffffff"/>
              </a:solidFill>
              <a:latin typeface="Garamond"/>
            </a:endParaRPr>
          </a:p>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a:t>
            </a:r>
            <a:endParaRPr b="0" lang="en-US" sz="3000" spc="-1" strike="noStrike">
              <a:solidFill>
                <a:srgbClr val="ffffff"/>
              </a:solidFill>
              <a:latin typeface="Garamond"/>
            </a:endParaRPr>
          </a:p>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 استخدم مصطلح علم النفس الإسلامي بمعنى علم نفس ديني إسلامي.</a:t>
            </a:r>
            <a:endParaRPr b="0" lang="en-US" sz="3000" spc="-1" strike="noStrike">
              <a:solidFill>
                <a:srgbClr val="ffffff"/>
              </a:solidFill>
              <a:latin typeface="Garamond"/>
            </a:endParaRPr>
          </a:p>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يتضح من طرح هذا الفريق أنه يرى أن علم النفس الإسلامي فرعاً من فروع علم النفس يختص بدراسة الخبرة الدينية لدى المسلمين, وهو يقابل ما يعرف بعلم النفس الديني في علم النفس المعاصر.</a:t>
            </a:r>
            <a:endParaRPr b="0" lang="en-US" sz="3000" spc="-1" strike="noStrike">
              <a:solidFill>
                <a:srgbClr val="ffffff"/>
              </a:solidFill>
              <a:latin typeface="Garamond"/>
            </a:endParaRPr>
          </a:p>
          <a:p>
            <a:pPr marL="281160" indent="-28116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لكن طرح هذا الفريق لم يجد قبولاً من الباحثين, لأن دين الإسلام يختلف عن غيره من الأديان والمذاهب, فهو دين شامل كامل يدخل تحت مظلته كل ما في الحياة, وهو لا يمكن أن يكون جزء من أي مصطلح آخر مهما كان.</a:t>
            </a:r>
            <a:endParaRPr b="0" lang="en-US" sz="3000" spc="-1" strike="noStrike">
              <a:solidFill>
                <a:srgbClr val="ffffff"/>
              </a:solidFill>
              <a:latin typeface="Garamond"/>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549000"/>
            <a:ext cx="8229600" cy="5576760"/>
          </a:xfrm>
          <a:prstGeom prst="rect">
            <a:avLst/>
          </a:prstGeom>
          <a:noFill/>
          <a:ln w="0">
            <a:noFill/>
          </a:ln>
        </p:spPr>
        <p:txBody>
          <a:bodyPr anchor="t">
            <a:normAutofit fontScale="78000"/>
          </a:bodyPr>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lbertus Medium"/>
                <a:ea typeface="Traditional Arabic"/>
              </a:rPr>
              <a:t>  الصحيح للتأصيل, رغم الإدراك بأن هذه الجهود الفردية لابد بالضرورة أن تكون جزئية حتى تكون في نطاق الإمكان بالنسبة للباحث الفرد.</a:t>
            </a:r>
            <a:endParaRPr b="0" lang="en-US" sz="3000" spc="-1" strike="noStrike">
              <a:solidFill>
                <a:srgbClr val="ffffff"/>
              </a:solidFill>
              <a:latin typeface="Garamond"/>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lbertus Medium"/>
                <a:ea typeface="Traditional Arabic"/>
              </a:rPr>
              <a:t>  ثانياُ مدخل التأصيل الشامل:</a:t>
            </a:r>
            <a:endParaRPr b="0" lang="en-US" sz="3000" spc="-1" strike="noStrike">
              <a:solidFill>
                <a:srgbClr val="ffffff"/>
              </a:solidFill>
              <a:latin typeface="Garamond"/>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lbertus Medium"/>
                <a:ea typeface="Traditional Arabic"/>
              </a:rPr>
              <a:t>  _________________</a:t>
            </a:r>
            <a:endParaRPr b="0" lang="en-US" sz="3000" spc="-1" strike="noStrike">
              <a:solidFill>
                <a:srgbClr val="ffffff"/>
              </a:solidFill>
              <a:latin typeface="Garamond"/>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lbertus Medium"/>
                <a:ea typeface="Traditional Arabic"/>
              </a:rPr>
              <a:t>  فهذا المدخل يقوم على ضرورة الوصول إلى وضوح بالنسبة للأساسيات قبل الدخول في الجزئيات والتفاصيل, بمعنى أن لابد من بذل جهود كافية ألاً لاستجلاء التصور الإسلامي للإنسان والمجتمع والوجود, الذي سيكون بدوره أساساً للنظر في إسهامات العلم الحديث في جملتها أيضاً, بما يمهد الطريق في خطوة تالية لإيجاد التكامل بينهما بطريقة شاملة.</a:t>
            </a:r>
            <a:endParaRPr b="0" lang="en-US" sz="3000" spc="-1" strike="noStrike">
              <a:solidFill>
                <a:srgbClr val="ffffff"/>
              </a:solidFill>
              <a:latin typeface="Garamond"/>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lbertus Medium"/>
                <a:ea typeface="Traditional Arabic"/>
              </a:rPr>
              <a:t>  وقد ذكر (نجاتي </a:t>
            </a:r>
            <a:r>
              <a:rPr b="1" lang="ar-SA" sz="3000" spc="-1" strike="noStrike">
                <a:solidFill>
                  <a:srgbClr val="ffffff"/>
                </a:solidFill>
                <a:latin typeface="Albertus Medium"/>
                <a:ea typeface="Traditional Arabic"/>
              </a:rPr>
              <a:t>1411</a:t>
            </a:r>
            <a:r>
              <a:rPr b="1" lang="ar-SA" sz="3000" spc="-1" strike="noStrike">
                <a:solidFill>
                  <a:srgbClr val="ffffff"/>
                </a:solidFill>
                <a:latin typeface="Albertus Medium"/>
                <a:cs typeface="Traditional Arabic"/>
              </a:rPr>
              <a:t>هـ) ست خطوات للوصول لتأصيل علم النفس هي:</a:t>
            </a:r>
            <a:endParaRPr b="0" lang="en-US" sz="3000" spc="-1" strike="noStrike">
              <a:solidFill>
                <a:srgbClr val="ffffff"/>
              </a:solidFill>
              <a:latin typeface="Garamond"/>
            </a:endParaRPr>
          </a:p>
        </p:txBody>
      </p:sp>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4360" y="692280"/>
            <a:ext cx="8229600" cy="5184720"/>
          </a:xfrm>
          <a:prstGeom prst="rect">
            <a:avLst/>
          </a:prstGeom>
          <a:noFill/>
          <a:ln w="0">
            <a:noFill/>
          </a:ln>
        </p:spPr>
        <p:txBody>
          <a:bodyPr anchor="t">
            <a:normAutofit fontScale="90000"/>
          </a:bodyPr>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u="sng">
                <a:solidFill>
                  <a:srgbClr val="ffffff"/>
                </a:solidFill>
                <a:uFillTx/>
                <a:latin typeface="Garamond"/>
                <a:cs typeface="Traditional Arabic"/>
              </a:rPr>
              <a:t>أولاً: المسلمات:</a:t>
            </a:r>
            <a:r>
              <a:rPr b="1" lang="ar-SA" sz="3000" spc="-1" strike="noStrike">
                <a:solidFill>
                  <a:srgbClr val="ffffff"/>
                </a:solidFill>
                <a:latin typeface="Garamond"/>
                <a:ea typeface="Traditional Arabic"/>
              </a:rPr>
              <a:t> وهي الاتفاق على المسلمات التي تعتبر الأصول التي نهتدي بها في تحليلنا النقدي لموضوعات علم النفس الحديث لمعرفة ما يمكن قبوله منها, وما لا يمكن قبوله.</a:t>
            </a:r>
            <a:endParaRPr b="0" lang="en-US" sz="3000" spc="-1" strike="noStrike">
              <a:solidFill>
                <a:srgbClr val="ffffff"/>
              </a:solidFill>
              <a:latin typeface="Garamond"/>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ثانياً: التمكن من علم النفس الحديث:</a:t>
            </a:r>
            <a:r>
              <a:rPr b="1" lang="ar-SA" sz="3000" spc="-1" strike="noStrike">
                <a:solidFill>
                  <a:srgbClr val="ffffff"/>
                </a:solidFill>
                <a:latin typeface="Garamond"/>
                <a:ea typeface="Traditional Arabic"/>
              </a:rPr>
              <a:t>  إن من يتصدى للتأصيل الإسلامي لعلم النفس يجب أن يكون متمكنا من هذا العلم تمكناً تاماً ،وعلى معرفة شاملة ودقيقة بموضوعات هذا العلم ،وتطويره التاريخي، ومناهجه في البحث وإسهاماته ونتائجه ونظرياته، والمشكلات التي تجرى حولها البحوث في الوقت الحاضر.</a:t>
            </a:r>
            <a:r>
              <a:rPr b="0" lang="ar-SA"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907560"/>
            <a:ext cx="8229600" cy="5218200"/>
          </a:xfrm>
          <a:prstGeom prst="rect">
            <a:avLst/>
          </a:prstGeom>
          <a:noFill/>
          <a:ln w="0">
            <a:noFill/>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ff"/>
                </a:solidFill>
                <a:uFillTx/>
                <a:latin typeface="Garamond"/>
                <a:cs typeface="Traditional Arabic"/>
              </a:rPr>
              <a:t>ثالثاً: التمكن من الأصول والمبادئ الإسلامية:</a:t>
            </a:r>
            <a:r>
              <a:rPr b="1" lang="ar-SA" sz="3000" spc="-1" strike="noStrike">
                <a:solidFill>
                  <a:srgbClr val="ffffff"/>
                </a:solidFill>
                <a:latin typeface="Garamond"/>
                <a:ea typeface="Traditional Arabic"/>
              </a:rPr>
              <a:t> من الضروري, أيضاً لمن يتصدى للتأصيل الإسلامي لعلم النفس أن يكون على معرفة دقيقة بالأصول والمبادئ الإسلامية, حتى يستطيع أن يبحث عما يوجد في الأصول الإسلامية من موضوعات تتعلق بموضوعات علم النفس, وإجراء المقارنة العلمية الدقيقة بينهما ...</a:t>
            </a:r>
            <a:endParaRPr b="0" lang="en-US" sz="3000" spc="-1" strike="noStrike">
              <a:solidFill>
                <a:srgbClr val="ffffff"/>
              </a:solidFill>
              <a:latin typeface="Garamond"/>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رابعاً: معرفة الدراسات النفسية لعلماء المسلمين</a:t>
            </a:r>
            <a:r>
              <a:rPr b="1" lang="ar-SA" sz="3000" spc="-1" strike="noStrike">
                <a:solidFill>
                  <a:srgbClr val="ffffff"/>
                </a:solidFill>
                <a:latin typeface="Garamond"/>
                <a:ea typeface="Traditional Arabic"/>
              </a:rPr>
              <a:t>: معرفة إسهام المفكرين المسلمين في إثراء الدراسات النفسية, ودورهم التاريخي في التطور التاريخي لعلم النفس والمصطلحات والمفاهيم التي استخدموها.</a:t>
            </a:r>
            <a:endParaRPr b="0" lang="en-US" sz="3000" spc="-1" strike="noStrike">
              <a:solidFill>
                <a:srgbClr val="ffffff"/>
              </a:solidFill>
              <a:latin typeface="Garamond"/>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49000"/>
            <a:ext cx="8229600" cy="5576760"/>
          </a:xfrm>
          <a:prstGeom prst="rect">
            <a:avLst/>
          </a:prstGeom>
          <a:noFill/>
          <a:ln w="0">
            <a:noFill/>
          </a:ln>
        </p:spPr>
        <p:txBody>
          <a:bodyPr anchor="t">
            <a:normAutofit fontScale="98000"/>
          </a:bodyPr>
          <a:p>
            <a:pPr marL="335880" indent="-3358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خامساً: نقد علم النفس:</a:t>
            </a:r>
            <a:r>
              <a:rPr b="1" lang="ar-SA" sz="3000" spc="-1" strike="noStrike">
                <a:solidFill>
                  <a:srgbClr val="ffffff"/>
                </a:solidFill>
                <a:latin typeface="Garamond"/>
                <a:ea typeface="Traditional Arabic"/>
              </a:rPr>
              <a:t> بعد إتمام الخطوات السابقة, يصبح الطريق الآن ممهداً لقيام علماء المسلمين بالتحليل النقدي لموضوعات علم النفس على ضوء مبادئ الإسلام.</a:t>
            </a:r>
            <a:endParaRPr b="0" lang="en-US" sz="3000" spc="-1" strike="noStrike">
              <a:solidFill>
                <a:srgbClr val="ffffff"/>
              </a:solidFill>
              <a:latin typeface="Garamond"/>
            </a:endParaRPr>
          </a:p>
          <a:p>
            <a:pPr marL="335880" indent="-3358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سادساً: إجراء البحوث في علم النفس من وجهة نظر إسلامية:</a:t>
            </a:r>
            <a:r>
              <a:rPr b="1" lang="ar-SA" sz="3000" spc="-1" strike="noStrike">
                <a:solidFill>
                  <a:srgbClr val="ffffff"/>
                </a:solidFill>
                <a:latin typeface="Garamond"/>
                <a:ea typeface="Traditional Arabic"/>
              </a:rPr>
              <a:t> لا تقتصر عملية التأصيل الإسلامي لعلم النفس على نقد موضوعاته ومفاهيمه بل يجب كذلك إثراء معرفتنا العلمية. وإجراء بحوث جديدة في كثير من المجتمعات الإسلامية من وجهة نظر إسلامية</a:t>
            </a:r>
            <a:endParaRPr b="0" lang="en-US" sz="3000" spc="-1" strike="noStrike">
              <a:solidFill>
                <a:srgbClr val="ffffff"/>
              </a:solidFill>
              <a:latin typeface="Garamond"/>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333360"/>
            <a:ext cx="8229600" cy="619128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endParaRPr b="0" lang="en-US" sz="3200" spc="-1" strike="noStrike">
              <a:solidFill>
                <a:srgbClr val="ffffff"/>
              </a:solidFill>
              <a:latin typeface="Garamond"/>
            </a:endParaRPr>
          </a:p>
          <a:p>
            <a:pPr marL="315360" indent="-315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الفريق الثاني: استخدم مصطلح علم النفس الإسلامي على أنه مقابل أو بديل لعلم النفس الغربي, ويعتمد في دراسة الإنسان على ما ورد في القرآن الكريم والسنة النبوية الشريفة, وما قدمه علماء المسلمين من اجتهادات لشرح الآيات والأحاديث والاستنباط منها. ويعكس رأي هذا الفريق محمد رشاد خليل حيث يقول: علم النفس من أوسع علوم الإسلام, احتل مساحة كبيرة في الكتاب والسنة, وأولاه الفقهاء عناية شديدة, وهو ركن أساسي من مباحث أصل الدين والاعتقاد.</a:t>
            </a:r>
            <a:endParaRPr b="0" lang="en-US" sz="3000" spc="-1" strike="noStrike">
              <a:solidFill>
                <a:srgbClr val="ffffff"/>
              </a:solidFill>
              <a:latin typeface="Garamond"/>
            </a:endParaRPr>
          </a:p>
          <a:p>
            <a:pPr marL="315360" indent="-315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endParaRPr b="0" lang="en-US" sz="3000" spc="-1" strike="noStrike">
              <a:solidFill>
                <a:srgbClr val="ffffff"/>
              </a:solidFill>
              <a:latin typeface="Garamond"/>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620280"/>
            <a:ext cx="8229600" cy="5505480"/>
          </a:xfrm>
          <a:prstGeom prst="rect">
            <a:avLst/>
          </a:prstGeom>
          <a:noFill/>
          <a:ln w="0">
            <a:noFill/>
          </a:ln>
        </p:spPr>
        <p:txBody>
          <a:bodyPr anchor="t">
            <a:normAutofit/>
          </a:bodyPr>
          <a:p>
            <a:pPr marL="343080" indent="-34308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Garamond"/>
                <a:ea typeface="Traditional Arabic"/>
              </a:rPr>
              <a:t>  هذا الفريق وأن كان أفضل من رأي الفريق الأول, ألا أنه حرم طرحه مما يمكن أن يكون  في علم النفس الغربي من الحق والحكمة التي لا يمنع الإسلام من الاستفادة منها,</a:t>
            </a:r>
            <a:r>
              <a:rPr b="0" lang="ar-SA" sz="3400" spc="-1" strike="noStrike">
                <a:solidFill>
                  <a:srgbClr val="ffffff"/>
                </a:solidFill>
                <a:latin typeface="Garamond"/>
                <a:ea typeface="Traditional Arabic"/>
              </a:rPr>
              <a:t> </a:t>
            </a:r>
            <a:endParaRPr b="0" lang="en-US" sz="3400" spc="-1" strike="noStrike">
              <a:solidFill>
                <a:srgbClr val="ffffff"/>
              </a:solidFill>
              <a:latin typeface="Garamond"/>
            </a:endParaRPr>
          </a:p>
          <a:p>
            <a:pPr marL="343080" indent="-343080" algn="r" rtl="1">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620640"/>
            <a:ext cx="8229600" cy="5832720"/>
          </a:xfrm>
          <a:prstGeom prst="rect">
            <a:avLst/>
          </a:prstGeom>
          <a:noFill/>
          <a:ln w="0">
            <a:noFill/>
          </a:ln>
        </p:spPr>
        <p:txBody>
          <a:bodyPr anchor="t">
            <a:normAutofit fontScale="99000"/>
          </a:bodyPr>
          <a:p>
            <a:pPr marL="339480" indent="-339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endParaRPr b="0" lang="en-US" sz="3000" spc="-1" strike="noStrike">
              <a:solidFill>
                <a:srgbClr val="ffffff"/>
              </a:solidFill>
              <a:latin typeface="Garamond"/>
            </a:endParaRPr>
          </a:p>
          <a:p>
            <a:pPr marL="339480" indent="-339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endParaRPr b="0" lang="en-US" sz="3000" spc="-1" strike="noStrike">
              <a:solidFill>
                <a:srgbClr val="ffffff"/>
              </a:solidFill>
              <a:latin typeface="Garamond"/>
            </a:endParaRPr>
          </a:p>
          <a:p>
            <a:pPr marL="339480" indent="-339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a:t>
            </a:r>
            <a:r>
              <a:rPr b="1" lang="ar-SA" sz="3000" spc="-1" strike="noStrike" u="sng">
                <a:solidFill>
                  <a:srgbClr val="ffffff"/>
                </a:solidFill>
                <a:uFillTx/>
                <a:latin typeface="Garamond"/>
                <a:cs typeface="Traditional Arabic"/>
              </a:rPr>
              <a:t>تعريف فواد ابوحطب</a:t>
            </a:r>
            <a:endParaRPr b="0" lang="en-US" sz="3000" spc="-1" strike="noStrike">
              <a:solidFill>
                <a:srgbClr val="ffffff"/>
              </a:solidFill>
              <a:latin typeface="Garamond"/>
            </a:endParaRPr>
          </a:p>
          <a:p>
            <a:pPr marL="339480" indent="-3394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العلم الذي يبحث في طبيعة الإنسان وغايته وأهدافه وعلاقاته بربه وبالناس والكون. وفي النفس وماهيتها وأحوالها ومكوناتها, عوامل صلاحها وفسادها, وعلامات سوائها وانحرافها, وأساليب تزكيتها ووقايتها وعلاجها, وما يسعدها ويشقيها, ويبحث أيضا في علاقة النفس بالجسم والروح والقلب والفؤاد والتكامل بينهما. </a:t>
            </a:r>
            <a:endParaRPr b="0" lang="en-US" sz="3000" spc="-1" strike="noStrike">
              <a:solidFill>
                <a:srgbClr val="ffffff"/>
              </a:solidFill>
              <a:latin typeface="Garamond"/>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549000"/>
            <a:ext cx="8229600" cy="5576760"/>
          </a:xfrm>
          <a:prstGeom prst="rect">
            <a:avLst/>
          </a:prstGeom>
          <a:noFill/>
          <a:ln w="0">
            <a:noFill/>
          </a:ln>
        </p:spPr>
        <p:txBody>
          <a:bodyPr anchor="t">
            <a:normAutofit fontScale="95000"/>
          </a:bodyPr>
          <a:p>
            <a:pPr marL="325800" indent="-325800" algn="just" rtl="1">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Garamond"/>
                <a:ea typeface="Traditional Arabic"/>
              </a:rPr>
              <a:t>  وفي سلوك الإنسان ودوافعه وأهدافه, وفي قيمه وعاداته واتجاهاته وأفكاره ووساوسه, وعلاقة كل هذا بسعيه في الحياة وإيمانه بالله وتوافقه النفسي والاجتماعي في الدنيا ومصيره في الآخرة. ويعتبر الدكتور أبو حطب من رواد هذا الفريق, وقد طرح رأيه في الدراسة التي قدمها لندوة: نحو علم نفس إسلامي بالقاهرة عام </a:t>
            </a:r>
            <a:r>
              <a:rPr b="1" lang="ar-SA" sz="3400" spc="-1" strike="noStrike">
                <a:solidFill>
                  <a:srgbClr val="ffffff"/>
                </a:solidFill>
                <a:latin typeface="Garamond"/>
                <a:ea typeface="Traditional Arabic"/>
              </a:rPr>
              <a:t>1989</a:t>
            </a:r>
            <a:r>
              <a:rPr b="1" lang="ar-SA" sz="3400" spc="-1" strike="noStrike">
                <a:solidFill>
                  <a:srgbClr val="ffffff"/>
                </a:solidFill>
                <a:latin typeface="Garamond"/>
                <a:cs typeface="Traditional Arabic"/>
              </a:rPr>
              <a:t>م تحت عنوان: نحو وجهة إسلامية لعلم النفس.</a:t>
            </a:r>
            <a:endParaRPr b="0" lang="en-US" sz="3400" spc="-1" strike="noStrike">
              <a:solidFill>
                <a:srgbClr val="ffffff"/>
              </a:solidFill>
              <a:latin typeface="Garamond"/>
            </a:endParaRPr>
          </a:p>
          <a:p>
            <a:pPr marL="325800" indent="-325800" algn="r" rtl="1">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620640"/>
            <a:ext cx="8229600" cy="5688000"/>
          </a:xfrm>
          <a:prstGeom prst="rect">
            <a:avLst/>
          </a:prstGeom>
          <a:noFill/>
          <a:ln w="0">
            <a:noFill/>
          </a:ln>
        </p:spPr>
        <p:txBody>
          <a:bodyPr anchor="t">
            <a:normAutofit fontScale="90000"/>
          </a:bodyPr>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A" sz="3000" spc="-1" strike="noStrike">
                <a:solidFill>
                  <a:srgbClr val="ffffff"/>
                </a:solidFill>
                <a:latin typeface="Garamond"/>
                <a:ea typeface="Traditional Arabic"/>
              </a:rPr>
              <a:t>2</a:t>
            </a:r>
            <a:r>
              <a:rPr b="1" lang="ar-SA" sz="3000" spc="-1" strike="noStrike">
                <a:solidFill>
                  <a:srgbClr val="ffffff"/>
                </a:solidFill>
                <a:latin typeface="Garamond"/>
                <a:ea typeface="Traditional Arabic"/>
              </a:rPr>
              <a:t>- أسلمة علم النفس (أسلمة المعرفة):</a:t>
            </a:r>
            <a:endParaRPr b="0" lang="en-US" sz="3000" spc="-1" strike="noStrike">
              <a:solidFill>
                <a:srgbClr val="ffffff"/>
              </a:solidFill>
              <a:latin typeface="Garamond"/>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يقصد بالأسلمة: إعادة صياغة المعرفة على أساس علاقة الإسلام بها, ويعرف الأسلمة بما يلي: إعادة تعريف المعلومات وتنسيقها وإعادة التفكير في المقدمات والنتائج المتحصلة منها, وأن يُقوم من جديد ما انتهى إليه من استنتاجات, وأن يعاد تحديد الأهداف...على يتم كل ذلك بحيث يجعل تلك العلوم تثري التصور الإسلامي وتخدم قضية الإسلام.</a:t>
            </a:r>
            <a:endParaRPr b="0" lang="en-US" sz="3000" spc="-1" strike="noStrike">
              <a:solidFill>
                <a:srgbClr val="ffffff"/>
              </a:solidFill>
              <a:latin typeface="Garamond"/>
            </a:endParaRPr>
          </a:p>
          <a:p>
            <a:pPr marL="308520" indent="-30852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وقد قدم المعهد خطة تشمل على أولويات عمل الأمة في إنجاز خطة إسلامية المعرفة بحيث تكون مسيرة الأسلمة تمر بمرحلتين أساسيتين هما:</a:t>
            </a:r>
            <a:endParaRPr b="0" lang="en-US" sz="3000" spc="-1" strike="noStrike">
              <a:solidFill>
                <a:srgbClr val="ffffff"/>
              </a:solidFill>
              <a:latin typeface="Garamond"/>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333360"/>
            <a:ext cx="8229600" cy="6120000"/>
          </a:xfrm>
          <a:prstGeom prst="rect">
            <a:avLst/>
          </a:prstGeom>
          <a:noFill/>
          <a:ln w="0">
            <a:noFill/>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  </a:t>
            </a:r>
            <a:r>
              <a:rPr b="1" lang="ar-SA" sz="3000" spc="-1" strike="noStrike">
                <a:solidFill>
                  <a:srgbClr val="ffffff"/>
                </a:solidFill>
                <a:latin typeface="Garamond"/>
                <a:ea typeface="Traditional Arabic"/>
              </a:rPr>
              <a:t>(</a:t>
            </a:r>
            <a:r>
              <a:rPr b="1" lang="ar-SA" sz="3000" spc="-1" strike="noStrike">
                <a:solidFill>
                  <a:srgbClr val="ffffff"/>
                </a:solidFill>
                <a:latin typeface="Garamond"/>
                <a:ea typeface="Traditional Arabic"/>
              </a:rPr>
              <a:t>1</a:t>
            </a:r>
            <a:r>
              <a:rPr b="1" lang="ar-SA" sz="3000" spc="-1" strike="noStrike">
                <a:solidFill>
                  <a:srgbClr val="ffffff"/>
                </a:solidFill>
                <a:latin typeface="Garamond"/>
                <a:ea typeface="Traditional Arabic"/>
              </a:rPr>
              <a:t>) المرحلة الأولى تتضمن خطوتين:</a:t>
            </a: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______________________</a:t>
            </a: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ea typeface="Traditional Arabic"/>
              </a:rPr>
              <a:t>  (أ) إتقان العلوم الحديثة: ويعني أن الدارسين المسلمين للعلوم الحديثة يجب أن يتقنوا هذه العلوم في قضاياها ومناهجها, وأن تقدم إليهم بشكل شمولي يدركون به غايات هذه العلوم وظروف نشأتها وتطورها ونموها التاريخي, ووجه النقد التحليلي الموضوعي لهذه العلوم في إطارها الغربي وفقاً للمنظور الإسلامي الصحيح.</a:t>
            </a:r>
            <a:endParaRPr b="0" lang="en-US" sz="3000" spc="-1" strike="noStrike">
              <a:solidFill>
                <a:srgbClr val="ffffff"/>
              </a:solidFill>
              <a:latin typeface="Garamond"/>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7:58:34Z</dcterms:created>
  <dc:creator>USER</dc:creator>
  <dc:description/>
  <dc:language>en-US</dc:language>
  <cp:lastModifiedBy>user</cp:lastModifiedBy>
  <dcterms:modified xsi:type="dcterms:W3CDTF">2012-02-24T10:15:49Z</dcterms:modified>
  <cp:revision>10</cp:revision>
  <dc:subject/>
  <dc:title>المصطلحات </dc:title>
</cp:coreProperties>
</file>