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9C3-3B5A-4642-8F95-0C5D8125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DE1-0DE9-467F-ACE5-31459D61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5C1-4804-4899-AD73-B288E762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D25-7D84-4CB4-B722-9262CCE9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AC44-6F7E-4813-9656-61B9C8C2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B903-D653-4C7D-A663-9F075E48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E77D-C8E8-40BB-B738-F1C8408C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F93-819C-42EE-AFBF-5A0A13BB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9321-10A7-462E-A706-EA41D80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BCFF-511D-4784-9A5E-F20A59C8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CBF7-9231-4A62-8E02-6CAF4111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378-58C3-4AC1-8658-715A9125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EF0E-1A70-4A44-97F6-4CCFAE0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829E-BF2C-4EFC-ADDD-1E58D224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43DD-A04B-498C-8170-644AF57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0A2A-56E9-4D5D-8129-A3769630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AC39-E0FC-4BE7-9160-3545D714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6B3-18D7-437D-B7C6-13D5819E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A8F-DBF1-4ACE-87FF-5ABEDAB7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548-A94C-4CB3-B5FE-A276EB2D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FAE-1268-4CED-868C-C278C780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26F-EAA5-4AAD-B100-13472F76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448-7CFD-42EA-9A40-042F045E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B4C-5331-46CB-B9AE-15E6D7C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02B8-E9DE-47ED-BB91-1997B93028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F3CD-842B-4585-980D-0A7BE2CFC0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666"/>
                </a:solidFill>
                <a:latin typeface="Arial"/>
              </a:rPr>
              <a:t>مدرس المقرر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.د. فيصل بن محمد أبوطربوش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 تحديد الجنس في الكائنات الحية حقيقة النواة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 الهندسة الوراثية وأهم تطبيقاتها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6666"/>
                </a:solidFill>
                <a:latin typeface="Arial"/>
              </a:rPr>
              <a:t>المراجـــع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63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of Gene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أليف 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lug(2006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وآخرين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tics :Analysis and Principl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أليف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rooker(2005)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“ علم الوراثة “ . تأليف : أ.د. عثمان بن عبد الرحمن الانصاري و ــــ أ.د. ناصر بن حمد سلامه (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999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“ تدريبات معملية في أساسيات علم الوراثة “ . تألي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أ.د. فيصل بن محمد أبو طربوش ومحمد محمد حسن نبها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420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ـ -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999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666"/>
                </a:solidFill>
                <a:latin typeface="Arial"/>
              </a:rPr>
              <a:t>التقــــوي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الاختبارات الشهرية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مكتبة (تقرير)      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العملي والتمارين   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النهائي             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66"/>
                </a:solidFill>
                <a:latin typeface="Arial"/>
              </a:rPr>
              <a:t>مواعيد الاختبارات الشهري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ختبار النظري الأول سوف يعقد يوم السبت الموافق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29/10/1428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ـ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ختبار النظري الثاني سوف يعقد يوم السبت الموافق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9/12/1428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ـ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أخر موعد لتسليم التقريرهو يوم السبت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9/12/1428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ـ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666"/>
                </a:solidFill>
                <a:latin typeface="Arial"/>
              </a:rPr>
              <a:t>المقرر :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351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حين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76000" y="3284640"/>
            <a:ext cx="6629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عدد الساعات 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القاعة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ب 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/م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كلية العلو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الوقت :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/ الاحد والثلاثاء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العملي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ب 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82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/ م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الوقت 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/ السبت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محتويات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 مقدمه تشمل 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تعريف علم الوراثة والفروع الرئيسيه التي يشمل عليها العل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أسباب دراسة علم الوراث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صفات الكائنات الحية الملائمة للتجارب الوراث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طرق البحث المستخدمة في علم الوراث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العلاقة بين الجينات (المورثات)والصفات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. الأساس الكروموسومي للتوارث ويشمل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ركيب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NA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ومفهوم المورث (الجين) ووظائفه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كروموسومات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دورة الخل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نقسام الميتوزي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نقسام الميوزي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نظرية الكروموسوم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.التحليل المندلي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جارب مند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قانون الانعزا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قانون التوزيع المستق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حتمالات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حليل المندلي والإنسان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. امتداد التحليل المندلي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باينات السياد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أليلات النتعدة (ومجاميع الدم في الإنسان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أثر المتعدد للجين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جينات المتعددة التي تتحكم في نفس الصف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جينات المميت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نفاذ والتعبير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– الوراثة اللامندلية</a:t>
            </a: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أثير الأموم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وارث التخلقي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genetic inheritance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وارث السيتوبلازم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الطــفـــــــــــــــــرات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3:49:30Z</dcterms:created>
  <dc:creator>هلا</dc:creator>
  <dc:description/>
  <dc:language>en-US</dc:language>
  <cp:lastModifiedBy>هلا</cp:lastModifiedBy>
  <dcterms:modified xsi:type="dcterms:W3CDTF">2007-10-28T17:37:24Z</dcterms:modified>
  <cp:revision>3</cp:revision>
  <dc:subject/>
  <dc:title>المقرر : 351</dc:title>
</cp:coreProperties>
</file>