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DC2-94D7-42F2-87AE-ADB856EC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65F-4E55-4D28-A2DA-2355180F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818-4752-4DBC-9C47-217F0E46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148A-178C-4979-82CF-5D05483E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1F90-5637-4454-B98C-EE3C3167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4BB3-4289-4D07-9AE7-E29D06A6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E159-4C9E-4C05-9735-1AAE1007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8523-6B4D-42F7-A600-C7279BEA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4908-CA0D-4853-8D65-E10A07C3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9188-A79E-43BE-9585-AAE51A09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5BE7-348A-407F-88EC-C0A86281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AAF-FD8F-4E28-85CC-B99BF403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36C0-EDD7-4F95-8707-D73F591C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2DCA-CFA4-46A9-8BF5-01846199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A85B-B0A9-40EF-934A-A9F90205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3207-D10D-4292-8C76-AA1C061A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5856-4645-4AB9-BBAE-D0661CB3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610-25C1-4A1F-8263-D9737D43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336A-F156-4D8B-B18B-A313035D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CEC-3794-4323-B99E-8220D566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68F-E9F7-41BC-98FD-B909ECF5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032-F555-43AA-8B25-303C3B33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BCAF-81D8-4783-A8D2-D740774B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B1F3-1975-4A3F-94BA-2F3DFB38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48E2-DFB9-4D3B-B14D-D280EF2D09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A88A-666F-4C78-AD09-1123677CC4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 rtl="1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 rtl="1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 rtl="1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6666"/>
                </a:solidFill>
                <a:latin typeface="Arial"/>
              </a:rPr>
              <a:t>مدرس المقرر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76000" y="386028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أ.د. فيصل بن محمد أبوطربوش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. تحديد الجنس في الكائنات الحية حقيقة النواة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. الهندسة الوراثية وأهم تطبيقاتها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6666"/>
                </a:solidFill>
                <a:latin typeface="Arial"/>
              </a:rPr>
              <a:t>المراجـــع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63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s of Gene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تأليف 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lug(2006)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 وآخرين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tics :Analysis and Principle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تأليف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rooker(2005)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.“ علم الوراثة “ . تأليف : أ.د. عثمان بن عبد الرحمن الانصاري و ــــ أ.د. ناصر بن حمد سلامه (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1999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م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.“ تدريبات معملية في أساسيات علم الوراثة “ . تأليف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 أ.د. فيصل بن محمد أبو طربوش ومحمد محمد حسن نبهان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( 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1420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ـ - 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1999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م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6666"/>
                </a:solidFill>
                <a:latin typeface="Arial"/>
              </a:rPr>
              <a:t>التقــــويم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الاختبارات الشهرية              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مكتبة (تقرير)                    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العملي والتمارين                 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النهائي                           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6666"/>
                </a:solidFill>
                <a:latin typeface="Arial"/>
              </a:rPr>
              <a:t>مواعيد الاختبارات الشهرية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اختبار النظري الأول سوف يعقد يوم السبت الموافق 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29/10/1428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ـ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اختبار النظري الثاني سوف يعقد يوم السبت الموافق 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19/12/1428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ـ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أخر موعد لتسليم التقريرهو يوم السبت 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19/12/1428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هـ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92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6666"/>
                </a:solidFill>
                <a:latin typeface="Arial"/>
              </a:rPr>
              <a:t>المقرر :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351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حين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76000" y="3284640"/>
            <a:ext cx="6629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Verdana"/>
              </a:rPr>
              <a:t>عدد الساعات :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Verdana"/>
              </a:rPr>
              <a:t>القاعة: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hi-IN" sz="2500" spc="-1" strike="noStrike">
                <a:solidFill>
                  <a:srgbClr val="000000"/>
                </a:solidFill>
                <a:latin typeface="Verdana"/>
              </a:rPr>
              <a:t>ب -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/م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كلية العلوم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Verdana"/>
              </a:rPr>
              <a:t>الوقت :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/ الاحد والثلاثاء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Verdana"/>
              </a:rPr>
              <a:t>العملي: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hi-IN" sz="2500" spc="-1" strike="noStrike">
                <a:solidFill>
                  <a:srgbClr val="000000"/>
                </a:solidFill>
                <a:latin typeface="Verdana"/>
              </a:rPr>
              <a:t>ب -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82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/ م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Verdana"/>
              </a:rPr>
              <a:t>الوقت :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/ السبت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محتويات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. مقدمه تشمل :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تعريف علم الوراثة والفروع الرئيسيه التي يشمل عليها العل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أسباب دراسة علم الوراث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صفات الكائنات الحية الملائمة للتجارب الوراثي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طرق البحث المستخدمة في علم الوراث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العلاقة بين الجينات (المورثات)والصفات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. الأساس الكروموسومي للتوارث ويشمل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تركيب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NA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ومفهوم المورث (الجين) ووظائفه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كروموسومات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دورة الخلي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انقسام الميتوزي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انقسام الميوزي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نظرية الكروموسومي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.التحليل المندلي 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تجارب مندل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قانون الانعزال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قانون التوزيع المستقل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احتمالات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تحليل المندلي والإنسان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. امتداد التحليل المندلي 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3280" y="2060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تباينات السياد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أليلات النتعدة (ومجاميع الدم في الإنسان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أثر المتعدد للجين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جينات المتعددة التي تتحكم في نفس الصف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جينات المميت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نفاذ والتعبير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– الوراثة اللامندلية</a:t>
            </a:r>
            <a:r>
              <a:rPr b="0" lang="ar-SA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2205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تأثير الأموم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توارث التخلقي 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pigenetic inheritance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التوارث السيتوبلازم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.الطــفـــــــــــــــــرات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3:49:30Z</dcterms:created>
  <dc:creator>هلا</dc:creator>
  <dc:description/>
  <dc:language>en-US</dc:language>
  <cp:lastModifiedBy>هلا</cp:lastModifiedBy>
  <dcterms:modified xsi:type="dcterms:W3CDTF">2007-10-28T17:37:24Z</dcterms:modified>
  <cp:revision>3</cp:revision>
  <dc:subject/>
  <dc:title>المقرر : 351</dc:title>
</cp:coreProperties>
</file>