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8E37002-2340-4D61-834B-AF1B0C4C60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F39AC2-7E6D-4D28-8E65-8E7B9C91E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E36FB-09B5-486A-ABD8-3CE6112FAF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A45698-6C2B-40B0-B06C-DA262433F0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68F8D-BE4C-4E07-B468-4B51B3CE72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339A5-A69D-4DBF-977B-BF4101391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DD94B-A3DC-473F-8061-6D91D489A5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7B0E65-554B-4C60-8A0D-3A35FA6352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83B83-B1E4-427C-ABD2-014BCB3DE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B9680A-1C27-412B-A1F9-FA0B7F19B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3F3490-0DBB-4D05-9D03-5198E61BB6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355FAF-5B5C-49C7-9D23-B8746C977E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09FD4A2-E4B9-4174-82D2-EC0C01855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E9FC02-A643-4958-9170-1ABAE3457A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6FCEDB-6ED7-4D46-B79F-2EAE05FDC2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A922B9-B221-4EFE-A674-0A2B1357B8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52E724-E6D0-49AD-9A0C-F8C14591D4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EE87CE-6F8E-4A42-B61F-9A00B00371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20DB28-B6C5-4E48-AD29-8304414FE2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F52B6B-CF1A-4594-9979-0F7C30B65F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55F32D-5FD3-4E21-A2E1-6500829302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3C71A4-0E36-492E-9F77-3E681B0179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52BA80-CA01-4CB1-8E3C-24EBFAB0B0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E2EB18-B3B6-4072-B0B8-7F6F5BF40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2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B8F34D-40C5-43F8-949B-A8C11E4334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122063C-22B6-4DDC-8DDA-64B1018F2A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3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A215225-2CE5-407F-AD47-44E84C0EF1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5577810-FA7B-4ADC-BA9E-398A45A518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ABD5837-76C3-451D-9653-8150243158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B4F2A2C-5EA0-4294-88F2-A6329F1847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2DBED2A-B0E0-4CC9-9663-62219C43C3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2BBA650-6CE7-4B7A-B2E4-2B6CC676EC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FEC0B26-A16C-4669-BB74-5F34E3C9FF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C87AD07-6F5A-4146-BE33-00435D9021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0068DA2-459F-492B-9F8C-55FEBEA2D0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A30D3AD-E6F8-40C0-BDF0-B5907C2BFC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C7A405AE-E2E9-4266-8C14-53283A4967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6069C83-8004-482B-81FA-E9157E8147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DB1665-5326-4AA6-B88E-2B482103AD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151DBD-8FA2-4B25-ABEE-49780F716E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B6CBC0-7AD6-4D9C-98F2-E6A5016D6E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9AA5AC-A5A8-440F-A989-4F078B5872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03F2D7-EA60-4A7A-89AA-7C1F541205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DB1F38-154C-4FB5-A89E-794462C804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23849B-6330-416E-B103-DA769CB9B4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5A53D0F-7FFF-497B-BE3B-D17A77E478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6CF410-41E5-434C-9F1F-21AF9FEC4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5C5F97-A6E8-47A9-8CB5-2E9E0D5F60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89413B-98C2-4F34-B71C-CDE0DE18A7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300779-C6FA-404C-B5B5-8E77ED7512B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D31C60-5883-45DC-8D4D-9A871DCE3C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9DDB88-A7A9-4445-8C73-F44C377A8F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59CBBE-8B8A-43AC-83E4-466A2AADA9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80B551-E44E-4E68-826E-0FC4BCE659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531887-D40F-4AAA-9F68-64AF299E4B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EAEC02-BB4F-4271-AE21-3AF3477E2D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8BC57D7-15CC-4317-BE96-DBEF622E1D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8802B8-EE4D-433A-9BDB-591C6F9388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9E2F35-C70E-40FE-B9F9-87DE7B832D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EB35DF-49D7-4DF8-B812-ECA1A8219D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3F23D9-A554-4ADD-8ED4-87314FF08B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6C79B8-5D20-492D-BE78-2087E7004D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57D443-BAD3-4299-8D98-5F7E70A717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3A5BBD-E217-491C-8081-76621BDC10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0A49A90-FD87-4D7A-9383-1774D101F0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829C996-C240-4E8F-9420-2D48B1361A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A3CE640-6C6C-4811-95DF-0EF6FBBCF3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DDA5C63-D2D9-40EE-BD9C-3A0F14C6E3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296F30-FB24-4E94-AC31-1F9DADFB2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5D4C53C-7C07-4085-905D-750A64A925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61FD8D1-5D23-45E3-BCD6-881D82AA46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C0F5D39-0A6B-44B8-8B15-D86D5B2938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C04449A-B3A6-4EB3-8A5C-82548D20B4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DD89876-6D16-4D28-83FB-30AC4354FA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A23F35-F502-447F-977B-B7767C0DD3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387A95-56CF-43A9-B093-42A82F183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5AE01-2A20-4B87-809C-720B7A680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F63E0-07F0-451D-A91F-B12F39E83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7F96B-53A4-41B6-BA4E-BA386EF72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1E07C9-83E1-4F3A-B307-C969E0F67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09516-C3C1-4C6C-AEED-E1CD37F38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C88AC-D625-457E-95CA-D708631D6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6F32E-C179-4D45-AFD1-73F97AEBF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4B0EF-31C0-4488-A006-A93420C0D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59199-22E4-4C2B-9115-6CD15494D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0FD17-2945-4B13-B624-7BC1FF95D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6698B5-3091-4B29-B6AA-21D2ECFD8B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33DC1E-C512-4B66-869F-C7FEC70F3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EFDBA-1C41-4DE7-8EBB-FF7E1AF451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9B8FF-2C7F-4C8D-A34F-075D4ECBA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D37D3A-FDF2-4902-9848-0F03989F0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B6769-7871-4183-A871-0F0FDD97C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4A5EA1-3749-40FA-8768-9618F79D6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FF5DB-9158-4E98-A570-CA56481D65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CFB87-DD04-4062-8A2B-535B40BAB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FA9AD-566C-4350-825B-464E5F079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7A5CC-3D74-49F2-A9FE-2E803498E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74E1E-97D3-4C9A-BCA5-0D796DFE6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573E9E-5E01-4472-AA38-882C4149A7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8C9115-9685-4BB7-B2F9-F6C19A54E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82BA48-43E6-4BD8-ACC2-A95AEC9267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8953E6-58D9-485B-BFEB-1BC6F1204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0"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3D2A7-40BF-438D-9E8B-A9A615A0B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2"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069C58-35DE-4B36-953E-69055F388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C4CBE-535D-4DBD-B181-D81E2D21A1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0CEC2-EF2D-482D-B315-B9EC8FC446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E622E9-BCF9-4DFE-B3E4-66ED4ED8F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7FD79-7920-413D-92E8-D3CC237CB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C4B3F-6C57-4E51-85DD-F149D0FE3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6F96D-1E4E-4972-8784-F1A210203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1"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085B6-1C75-4154-A06C-F3E32C7CD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C1859-7416-441C-836E-BFE5DBC6F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DE8155-BA10-47B0-AF1F-7346E0B72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9"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B4F4DF-CCFC-4E61-8A96-DFA6ED1DE2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441799-9641-416B-B530-65DD607A63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5A612-A270-490F-834F-2435AB754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1214E7-3E4E-4F45-8BCB-2B0D73A30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7EA5FF-E426-418A-A41C-F2B08A276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1741D-DCCA-4301-83DC-472F9124E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D14638-9719-4DE0-9803-91F96EAF06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ACCEA-B800-4016-BB77-A3D43B275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C049F-75C8-4F5A-A722-2948087D3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8771D-7BDC-4C8B-B239-F0C4927CA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FF3A7D-E21E-4EB9-B2BA-430639EF0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B72FA-11D9-4158-838D-B0D1C7274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B23C40-2443-4839-93D0-386B36AACD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08DDB5-0C9E-4300-A175-0AA2408D17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988A86-92D1-41D7-9947-C8E9F876AF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8B98E-8EA1-406C-B54D-0833F5A19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1696C1-F4DF-4B4F-9D23-53E80B06B8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50BD76-3BEC-48E8-916C-966152BFF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0631F0-EA03-4092-8CC9-0A4529585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CD3E0-6BBD-452A-8940-D1F4749FE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44938-B453-42A7-95EE-44EB1D77B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867900-6294-4A0B-9769-260A8BC08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BFA6C-C45F-427E-90BF-43FB89564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386C5-98E3-4461-9CD5-AC4AF64F5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36F7A-D472-4F6E-9B53-7FA5459FCB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3F92CD-5567-40AA-897D-87B07863F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DC3C72-4923-4541-8B85-A143CD97CD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EAE3A5-37F1-4509-88EF-666DCDB3D1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0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9DC558-E88B-48E0-85BD-7318C1404C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E8F01C-8657-4E86-957C-3712FBA83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19B7B3-942F-44DF-A27C-3CF914D0B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4E53B-798D-46F5-81B1-51C545A87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430D07-3DB4-4B85-9B96-248A6E265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455B8-68AD-4AB1-9C2E-33FBF2BCA1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C154E-15D3-402A-827C-9D1F01730D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8D43A-7A7E-4543-A2E4-97D36D1AE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59E931-C2A3-4991-8EAF-94A7B0067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DE9DC-E8B6-4967-93F7-798FBFEBF5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DE33C5-6075-4680-ABE9-DA8085D9E1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A736CF-C4D9-4245-89E7-71AC071B4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6A6A5-183C-444F-B314-D687AA26B3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70ABF1-2899-476C-B5DF-82D01E8269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2A404A-B71B-4BF7-A15C-E2B584142E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7D1B-F855-42CA-A1EE-8247770AE36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90"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28"/>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92" name="PlaceHolder 4"/>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B834-0148-465C-BD2A-E7CCC88B37EF}"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3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31"/>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35" name="PlaceHolder 4"/>
          <p:cNvSpPr>
            <a:spLocks noGrp="1"/>
          </p:cNvSpPr>
          <p:nvPr>
            <p:ph type="sldNum" idx="3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3110-DF75-4BBA-BFB4-2340B2BEF78C}"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
        <p:nvSpPr>
          <p:cNvPr id="436" name="PlaceHolder 5"/>
          <p:cNvSpPr>
            <a:spLocks noGrp="1"/>
          </p:cNvSpPr>
          <p:nvPr>
            <p:ph type="ftr" idx="3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7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78" name="PlaceHolder 4"/>
          <p:cNvSpPr>
            <a:spLocks noGrp="1"/>
          </p:cNvSpPr>
          <p:nvPr>
            <p:ph type="ftr" idx="3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2C01-9453-4B21-9E35-6525F50F189D}"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51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3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521" name="PlaceHolder 4"/>
          <p:cNvSpPr>
            <a:spLocks noGrp="1"/>
          </p:cNvSpPr>
          <p:nvPr>
            <p:ph type="ftr" idx="3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F313-7782-4E68-B921-D72BBF5B7DDB}"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B4DB-B48E-414A-BCEF-EEC70721999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0674-D056-4829-B96D-A448CC2D677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933E-D5D7-466B-B06B-731BCCF5C485}"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1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0B9A-0D2A-4DFF-8655-E5B789EE2D4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18"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6"/>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20" name="PlaceHolder 4"/>
          <p:cNvSpPr>
            <a:spLocks noGrp="1"/>
          </p:cNvSpPr>
          <p:nvPr>
            <p:ph type="ftr" idx="17"/>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A393-18C4-4884-A580-77DA4505C936}"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63" name="PlaceHolder 4"/>
          <p:cNvSpPr>
            <a:spLocks noGrp="1"/>
          </p:cNvSpPr>
          <p:nvPr>
            <p:ph type="ftr" idx="2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9A31-8213-4A10-8098-1EED0FEDDAA3}"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2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06" name="PlaceHolder 4"/>
          <p:cNvSpPr>
            <a:spLocks noGrp="1"/>
          </p:cNvSpPr>
          <p:nvPr>
            <p:ph type="ftr" idx="2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6E94-368C-471E-B0EF-0E89F77E1BC5}"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25"/>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49" name="PlaceHolder 4"/>
          <p:cNvSpPr>
            <a:spLocks noGrp="1"/>
          </p:cNvSpPr>
          <p:nvPr>
            <p:ph type="ftr" idx="2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F3BD-0A2A-4AE1-B4EF-157F19251882}"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gnArvcWaH6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OinqFgsIbh0&amp;feature=player_embedded" TargetMode="External"/><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e3d2d"/>
                </a:solidFill>
                <a:latin typeface="Cambria"/>
              </a:rPr>
              <a:t>المحاضرة الأولى</a:t>
            </a:r>
            <a:endParaRPr b="0" lang="en-US" sz="6600" spc="-1" strike="noStrike">
              <a:solidFill>
                <a:srgbClr val="3e3d2d"/>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مفاهيم</a:t>
            </a:r>
            <a:endParaRPr b="0" lang="en-US" sz="4600" spc="-1" strike="noStrike">
              <a:solidFill>
                <a:srgbClr val="3e3d2d"/>
              </a:solidFill>
              <a:latin typeface="Cambria"/>
            </a:endParaRPr>
          </a:p>
        </p:txBody>
      </p:sp>
      <p:sp>
        <p:nvSpPr>
          <p:cNvPr id="57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ساعد الفرد في التعرف والتمييز والتفسير للظواهر والمواقف التي تحيط بالفرد وتقلل من تعقدها.</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اعد الفرد لحل مشكلات التكيف مع بيئته</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حماية نفسه من اخطار البيئة بشرط ان يكون هذا الاستخدام صحيح.</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شبع رغبة وحاجة الطفل للاستطلاع والمعرف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نوع المفاهيم </a:t>
            </a:r>
            <a:endParaRPr b="0" lang="en-US" sz="4600" spc="-1" strike="noStrike">
              <a:solidFill>
                <a:srgbClr val="3e3d2d"/>
              </a:solidFill>
              <a:latin typeface="Cambria"/>
            </a:endParaRPr>
          </a:p>
        </p:txBody>
      </p:sp>
      <p:sp>
        <p:nvSpPr>
          <p:cNvPr id="57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تلقائية: نتيجة الاحتكاك اليومي بمواقف الحياة المختلف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علمية: تنمو نتيجة تهيئة مواقف تعليمية سواء كان ذلك من جانب الفرد أو من مصدر خارجي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alibri"/>
              </a:rPr>
              <a:t>وهناك تفاعل بين النوعين</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920"/>
            <a:ext cx="75438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تعلم المفاهيم </a:t>
            </a:r>
            <a:br>
              <a:rPr sz="3600"/>
            </a:br>
            <a:r>
              <a:rPr b="0" lang="ar-SA" sz="3600" spc="-1" strike="noStrike">
                <a:solidFill>
                  <a:srgbClr val="3e3d2d"/>
                </a:solidFill>
                <a:latin typeface="Cambria"/>
              </a:rPr>
              <a:t>:العمليات المعرفية التي يعتمد عليها تعلم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0" name=""/>
          <p:cNvSpPr txBox="1"/>
          <p:nvPr/>
        </p:nvSpPr>
        <p:spPr>
          <a:xfrm>
            <a:off x="456840" y="1599840"/>
            <a:ext cx="7620120" cy="4800600"/>
          </a:xfrm>
          <a:prstGeom prst="rect">
            <a:avLst/>
          </a:prstGeom>
          <a:noFill/>
          <a:ln w="0">
            <a:noFill/>
          </a:ln>
        </p:spPr>
        <p:txBody>
          <a:bodyPr anchor="t">
            <a:normAutofit fontScale="89000"/>
          </a:bodyPr>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ميم</a:t>
            </a:r>
            <a:r>
              <a:rPr b="0" lang="en-US" sz="3600" spc="-1" strike="noStrike">
                <a:solidFill>
                  <a:srgbClr val="000000"/>
                </a:solidFill>
                <a:latin typeface="Calibri"/>
              </a:rPr>
              <a:t>  : </a:t>
            </a:r>
            <a:r>
              <a:rPr b="0" lang="ar-SA" sz="3600" spc="-1" strike="noStrike">
                <a:solidFill>
                  <a:srgbClr val="000000"/>
                </a:solidFill>
                <a:latin typeface="Calibri"/>
              </a:rPr>
              <a:t>في البداية يكون </a:t>
            </a:r>
            <a:r>
              <a:rPr b="1" lang="ar-SA" sz="3600" spc="-1" strike="noStrike">
                <a:solidFill>
                  <a:srgbClr val="000000"/>
                </a:solidFill>
                <a:latin typeface="Calibri"/>
              </a:rPr>
              <a:t>(تعميم غامض وخاطئ) مثال كل الحيوانات قطط</a:t>
            </a:r>
            <a:endParaRPr b="0" lang="en-US" sz="3600" spc="-1" strike="noStrike">
              <a:solidFill>
                <a:srgbClr val="000000"/>
              </a:solidFill>
              <a:latin typeface="Calibri"/>
            </a:endParaRPr>
          </a:p>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مييز</a:t>
            </a:r>
            <a:r>
              <a:rPr b="0" lang="ar-SA" sz="3600" spc="-1" strike="noStrike">
                <a:solidFill>
                  <a:srgbClr val="000000"/>
                </a:solidFill>
                <a:latin typeface="Calibri"/>
              </a:rPr>
              <a:t>: </a:t>
            </a:r>
            <a:r>
              <a:rPr b="0" lang="en-US" sz="3600" spc="-1" strike="noStrike">
                <a:solidFill>
                  <a:srgbClr val="000000"/>
                </a:solidFill>
                <a:latin typeface="Calibri"/>
              </a:rPr>
              <a:t> </a:t>
            </a:r>
            <a:r>
              <a:rPr b="0" lang="ar-SA" sz="3600" spc="-1" strike="noStrike">
                <a:solidFill>
                  <a:srgbClr val="000000"/>
                </a:solidFill>
                <a:latin typeface="Calibri"/>
              </a:rPr>
              <a:t>يستطيع التمييز من خلال  معرفة الخصائص.</a:t>
            </a: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وبعد ذلك يستطيع الطفل ان يعمم الصفات المميزة للمفهوم بشكل صحيح.</a:t>
            </a:r>
            <a:endParaRPr b="0" lang="en-US" sz="3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2" name=""/>
          <p:cNvSpPr txBox="1"/>
          <p:nvPr/>
        </p:nvSpPr>
        <p:spPr>
          <a:xfrm>
            <a:off x="456840" y="1599840"/>
            <a:ext cx="7620120" cy="4800600"/>
          </a:xfrm>
          <a:prstGeom prst="rect">
            <a:avLst/>
          </a:prstGeom>
          <a:noFill/>
          <a:ln w="0">
            <a:noFill/>
          </a:ln>
        </p:spPr>
        <p:txBody>
          <a:bodyPr anchor="t">
            <a:normAutofit/>
          </a:bodyPr>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واس</a:t>
            </a:r>
            <a:r>
              <a:rPr b="1" lang="ar-SA" sz="2800" spc="-1" strike="noStrike">
                <a:solidFill>
                  <a:srgbClr val="000000"/>
                </a:solidFill>
                <a:latin typeface="Calibri"/>
              </a:rPr>
              <a:t>: وتؤدي الإصابة في أي منها الى عجز في تكوين واكتساب المفاهيم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ذكاء: </a:t>
            </a:r>
            <a:r>
              <a:rPr b="1" lang="ar-SA" sz="2800" spc="-1" strike="noStrike">
                <a:solidFill>
                  <a:srgbClr val="000000"/>
                </a:solidFill>
                <a:latin typeface="Calibri"/>
              </a:rPr>
              <a:t>الطفل الذكي يدرك جوانب الموقف أكثر من الطفل الأقل ذكاءً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فرص التعلم: </a:t>
            </a:r>
            <a:r>
              <a:rPr b="1" lang="ar-SA" sz="2800" spc="-1" strike="noStrike">
                <a:solidFill>
                  <a:srgbClr val="000000"/>
                </a:solidFill>
                <a:latin typeface="Calibri"/>
              </a:rPr>
              <a:t>ينبغي ان تتوفر للطفل فرص التعلم كتعريض الطفل لانشطة متعددة يكتسب من خلالها المفهوم.</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مر الزمني لأنه كلما نما الطفل كلما ازدادت خبرته.</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يئة الطفل (حضرية ام ريفية).</a:t>
            </a:r>
            <a:endParaRPr b="0" lang="en-US" sz="2800" spc="-1" strike="noStrike">
              <a:solidFill>
                <a:srgbClr val="000000"/>
              </a:solidFill>
              <a:latin typeface="Calibri"/>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Rectangle 4"/>
          <p:cNvSpPr/>
          <p:nvPr/>
        </p:nvSpPr>
        <p:spPr>
          <a:xfrm>
            <a:off x="60912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ahoma"/>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5" name=""/>
          <p:cNvSpPr txBox="1"/>
          <p:nvPr/>
        </p:nvSpPr>
        <p:spPr>
          <a:xfrm>
            <a:off x="456840" y="1599840"/>
            <a:ext cx="7620120" cy="4800600"/>
          </a:xfrm>
          <a:prstGeom prst="rect">
            <a:avLst/>
          </a:prstGeom>
          <a:noFill/>
          <a:ln w="0">
            <a:noFill/>
          </a:ln>
        </p:spPr>
        <p:txBody>
          <a:bodyPr anchor="t">
            <a:normAutofit/>
          </a:bodyPr>
          <a:p>
            <a:pPr marL="609480" indent="-60948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Calibri"/>
              </a:rPr>
              <a:t>طبيعة المفهوم: </a:t>
            </a:r>
            <a:r>
              <a:rPr b="0" lang="ar-SA" sz="3600" spc="-1" strike="noStrike">
                <a:solidFill>
                  <a:srgbClr val="000000"/>
                </a:solidFill>
                <a:latin typeface="Calibri"/>
              </a:rPr>
              <a:t>( حسي ، مجرد) / ( مألوف للطفل / غير مألوف للطفل).</a:t>
            </a:r>
            <a:endParaRPr b="0" lang="en-US" sz="3600" spc="-1" strike="noStrike">
              <a:solidFill>
                <a:srgbClr val="000000"/>
              </a:solidFill>
              <a:latin typeface="Calibri"/>
            </a:endParaRPr>
          </a:p>
          <a:p>
            <a:pPr marL="609480" indent="-609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خصائص نمو المفاهيم :</a:t>
            </a:r>
            <a:endParaRPr b="0" lang="en-US" sz="4600" spc="-1" strike="noStrike">
              <a:solidFill>
                <a:srgbClr val="3e3d2d"/>
              </a:solidFill>
              <a:latin typeface="Cambria"/>
            </a:endParaRPr>
          </a:p>
        </p:txBody>
      </p:sp>
      <p:sp>
        <p:nvSpPr>
          <p:cNvPr id="587" name=""/>
          <p:cNvSpPr txBox="1"/>
          <p:nvPr/>
        </p:nvSpPr>
        <p:spPr>
          <a:xfrm>
            <a:off x="456840" y="1599840"/>
            <a:ext cx="7620120" cy="4800600"/>
          </a:xfrm>
          <a:prstGeom prst="rect">
            <a:avLst/>
          </a:prstGeom>
          <a:noFill/>
          <a:ln w="0">
            <a:noFill/>
          </a:ln>
        </p:spPr>
        <p:txBody>
          <a:bodyPr anchor="t">
            <a:normAutofit fontScale="91000"/>
          </a:bodyPr>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نوع في الخبرات يسرع من عملية تطور ونمو المفهوم</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نمو المفاهيم وتطورها عند الأطفال يتطلب وقتاً طويلاً ومن الصعب تقديم المفهوم بشكل كامل مره واحده</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مد تعلم المفاهيم على وجود اللغة، حيث ان اللغة تساعد على تكون المفاهيم وتثبيتها</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mbria"/>
              </a:rPr>
              <a:t>علاقة اللغة بالمفاهيم </a:t>
            </a:r>
            <a:endParaRPr b="0" lang="en-US" sz="4800" spc="-1" strike="noStrike">
              <a:solidFill>
                <a:srgbClr val="3e3d2d"/>
              </a:solidFill>
              <a:latin typeface="Cambria"/>
            </a:endParaRPr>
          </a:p>
        </p:txBody>
      </p:sp>
      <p:sp>
        <p:nvSpPr>
          <p:cNvPr id="589"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ناك علاقة قوية بين المفاهيم كبناء عقلي و اللغة كنظام رمزي.</a:t>
            </a:r>
            <a:endParaRPr b="0" lang="en-US" sz="2800" spc="-1" strike="noStrike">
              <a:solidFill>
                <a:srgbClr val="000000"/>
              </a:solidFill>
              <a:latin typeface="Calibri"/>
            </a:endParaRPr>
          </a:p>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فهوم  فكرة تخرج من عالم الفكر أو العقل إلى عالم التعبير بقالب لغوي إذن المفهوم فكرة في صورة لغوية ناتجة عن عمليات عقلية.</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كلمات هي العناصر الاساسية للغة. و بقدر ما تكون الكلمات مشبعة بخبرات حقيقية و ملموسة و معان عديدة, بقدر ما يزداد مردود عملية التفاهم و التواصل </a:t>
            </a:r>
            <a:endParaRPr b="0" lang="en-US" sz="2200" spc="-1" strike="noStrike">
              <a:solidFill>
                <a:srgbClr val="000000"/>
              </a:solidFill>
              <a:latin typeface="Calibri"/>
            </a:endParaRPr>
          </a:p>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نطلاقا من هذا نؤكد على أهمية الاستكشاف الموجه في عملية التعلم. فدور الكبار أساسي في بلورة استكشافات الاطفال من خلال المناقشة, و معاونتهم على ترتيب أفكارهم والربط بينها, و صياغة الاستكشافات في صورة لغوي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2" name=""/>
          <p:cNvSpPr txBox="1"/>
          <p:nvPr/>
        </p:nvSpPr>
        <p:spPr>
          <a:xfrm>
            <a:off x="456840" y="1599840"/>
            <a:ext cx="7620120" cy="4800600"/>
          </a:xfrm>
          <a:prstGeom prst="rect">
            <a:avLst/>
          </a:prstGeom>
          <a:noFill/>
          <a:ln w="0">
            <a:noFill/>
          </a:ln>
        </p:spPr>
        <p:txBody>
          <a:bodyPr anchor="t">
            <a:normAutofit fontScale="87000"/>
          </a:bodyPr>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ختلف المفاهيم في درجة التعقيد مفاهيم  بسيطة -أقل تجريداً- أكثر تجريداً</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نموذج برونر</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حسي: يحتوي على الناحيتين الحركية واليدوية في التعامل مع الاشياء المحسوسة</a:t>
            </a:r>
            <a:r>
              <a:rPr b="1" lang="en-US" sz="2400" spc="-1" strike="noStrike">
                <a:solidFill>
                  <a:srgbClr val="000000"/>
                </a:solidFill>
                <a:latin typeface="Calibri"/>
              </a:rPr>
              <a:t> </a:t>
            </a:r>
            <a:r>
              <a:rPr b="1" lang="ar-SA" sz="2400" spc="-1" strike="noStrike">
                <a:solidFill>
                  <a:srgbClr val="000000"/>
                </a:solidFill>
                <a:latin typeface="Calibri"/>
              </a:rPr>
              <a:t>مثال:(</a:t>
            </a:r>
            <a:r>
              <a:rPr b="1" lang="ar-SA" sz="2400" spc="-1" strike="noStrike">
                <a:solidFill>
                  <a:srgbClr val="000000"/>
                </a:solidFill>
                <a:latin typeface="Calibri"/>
              </a:rPr>
              <a:t>8</a:t>
            </a:r>
            <a:r>
              <a:rPr b="1" lang="ar-SA" sz="2400" spc="-1" strike="noStrike">
                <a:solidFill>
                  <a:srgbClr val="000000"/>
                </a:solidFill>
                <a:latin typeface="Calibri"/>
              </a:rPr>
              <a:t>اشياء يعدها، يرتبها يضعها في مجموعات، ويصنع منها علاقات قائمة على التناظر الأحادي (المقابلة) بين المجموعات المحتوية على </a:t>
            </a:r>
            <a:r>
              <a:rPr b="1" lang="ar-SA" sz="2400" spc="-1" strike="noStrike">
                <a:solidFill>
                  <a:srgbClr val="000000"/>
                </a:solidFill>
                <a:latin typeface="Calibri"/>
              </a:rPr>
              <a:t>8</a:t>
            </a:r>
            <a:r>
              <a:rPr b="1" lang="ar-SA" sz="2400" spc="-1" strike="noStrike">
                <a:solidFill>
                  <a:srgbClr val="000000"/>
                </a:solidFill>
                <a:latin typeface="Calibri"/>
              </a:rPr>
              <a:t> أشياء, ومقابلتها بالرمز العددي الدال عليها). </a:t>
            </a:r>
            <a:endParaRPr b="0" lang="en-US" sz="2400" spc="-1" strike="noStrike">
              <a:solidFill>
                <a:srgbClr val="000000"/>
              </a:solidFill>
              <a:latin typeface="Calibri"/>
            </a:endParaRPr>
          </a:p>
          <a:p>
            <a:pPr marL="298440" indent="-198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صوري: طريقة التمثيل الصوري في تعلم مفهوم الثمنيات سوف يشتمل على صور لثمانية أشياء ويرشد المعلم أطفاله أثناء العد أن العدد الأخير يعبر عن عدد العناصر الموجودة في تلك المجموعة وهو ما نسميه (العدد الكمي)</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4"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مجرد أو الرمزي:  يكتسب المتعلم مفهوم الثمنيات على المستوى الرمزي, فإن عليه أن يمارس بعض الأنشطة مثل رسم العلامة </a:t>
            </a:r>
            <a:r>
              <a:rPr b="1" lang="ar-SA" sz="2400" spc="-1" strike="noStrike">
                <a:solidFill>
                  <a:srgbClr val="000000"/>
                </a:solidFill>
                <a:latin typeface="Calibri"/>
              </a:rPr>
              <a:t>8</a:t>
            </a:r>
            <a:r>
              <a:rPr b="1" lang="ar-SA" sz="2400" spc="-1" strike="noStrike">
                <a:solidFill>
                  <a:srgbClr val="000000"/>
                </a:solidFill>
                <a:latin typeface="Calibri"/>
              </a:rPr>
              <a:t> أو إعطاء الصور الدالة على الرمز </a:t>
            </a:r>
            <a:r>
              <a:rPr b="1" lang="ar-SA" sz="2400" spc="-1" strike="noStrike">
                <a:solidFill>
                  <a:srgbClr val="000000"/>
                </a:solidFill>
                <a:latin typeface="Calibri"/>
              </a:rPr>
              <a:t>8</a:t>
            </a:r>
            <a:r>
              <a:rPr b="1" lang="ar-SA" sz="2400" spc="-1" strike="noStrike">
                <a:solidFill>
                  <a:srgbClr val="000000"/>
                </a:solidFill>
                <a:latin typeface="Calibri"/>
              </a:rPr>
              <a:t> أو كتابة الرمز </a:t>
            </a:r>
            <a:r>
              <a:rPr b="1" lang="ar-SA" sz="2400" spc="-1" strike="noStrike">
                <a:solidFill>
                  <a:srgbClr val="000000"/>
                </a:solidFill>
                <a:latin typeface="Calibri"/>
              </a:rPr>
              <a:t>8</a:t>
            </a:r>
            <a:r>
              <a:rPr b="1" lang="ar-SA" sz="2400" spc="-1" strike="noStrike">
                <a:solidFill>
                  <a:srgbClr val="000000"/>
                </a:solidFill>
                <a:latin typeface="Calibri"/>
              </a:rPr>
              <a:t> تحت المجموعة ذات الثمانية العناصر.</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محاور المحاضرة</a:t>
            </a:r>
            <a:endParaRPr b="0" lang="en-US" sz="3600" spc="-1" strike="noStrike">
              <a:solidFill>
                <a:srgbClr val="3e3d2d"/>
              </a:solidFill>
              <a:latin typeface="Cambria"/>
            </a:endParaRPr>
          </a:p>
        </p:txBody>
      </p:sp>
      <p:sp>
        <p:nvSpPr>
          <p:cNvPr id="561"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مية تعلم الرياضيات.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رياضيات.</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ريف المفهوم –عوامل مؤثرة في نمو المفاهيم –نموذج برونر- بياجية لتكوين المفاهيم – خصائص المفاهيم – مستويات نمو المفاهيم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اطفال الرياضيات في مرحلة ما قبل المدرسة.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ور معلمة الروضة في أكساب الطفل المفاهيم الرياضية . </a:t>
            </a:r>
            <a:endParaRPr b="0" lang="en-US" sz="2800" spc="-1" strike="noStrike">
              <a:solidFill>
                <a:srgbClr val="000000"/>
              </a:solidFill>
              <a:latin typeface="Calibri"/>
            </a:endParaRPr>
          </a:p>
          <a:p>
            <a:pPr marL="343080" indent="-228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نظرية بياجية وتكوين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9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رحلة الحسية الحركية (</a:t>
            </a:r>
            <a:r>
              <a:rPr b="1" lang="ar-SA" sz="2200" spc="-1" strike="noStrike" u="sng">
                <a:solidFill>
                  <a:srgbClr val="000000"/>
                </a:solidFill>
                <a:uFillTx/>
                <a:latin typeface="Calibri"/>
              </a:rPr>
              <a:t>0</a:t>
            </a:r>
            <a:r>
              <a:rPr b="1" lang="ar-SA" sz="2200" spc="-1" strike="noStrike" u="sng">
                <a:solidFill>
                  <a:srgbClr val="000000"/>
                </a:solidFill>
                <a:uFillTx/>
                <a:latin typeface="Calibri"/>
              </a:rPr>
              <a:t>-</a:t>
            </a:r>
            <a:r>
              <a:rPr b="1" lang="ar-SA" sz="2200" spc="-1" strike="noStrike" u="sng">
                <a:solidFill>
                  <a:srgbClr val="000000"/>
                </a:solidFill>
                <a:uFillTx/>
                <a:latin typeface="Calibri"/>
              </a:rPr>
              <a:t>2</a:t>
            </a:r>
            <a:r>
              <a:rPr b="1" lang="ar-SA" sz="2200" spc="-1" strike="noStrike" u="sng">
                <a:solidFill>
                  <a:srgbClr val="000000"/>
                </a:solidFill>
                <a:uFillTx/>
                <a:latin typeface="Calibri"/>
              </a:rPr>
              <a:t>سنة):  التفكير عبر الحواس وتتميز بما يل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عكاسات غير مكتسب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ثم تبدأ بعض الأفعال بالتناسق</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عدم القدرة على إدراك دوام الأشياء</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في نهاية المرحلة بعض المفاهيم البسيطة والرموز اللغوية</a:t>
            </a:r>
            <a:endParaRPr b="0" lang="en-US" sz="2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تابع نظرية بياجية وتكوين المفاهيم</a:t>
            </a:r>
            <a:endParaRPr b="0" lang="en-US" sz="4600" spc="-1" strike="noStrike">
              <a:solidFill>
                <a:srgbClr val="3e3d2d"/>
              </a:solidFill>
              <a:latin typeface="Cambria"/>
            </a:endParaRPr>
          </a:p>
        </p:txBody>
      </p:sp>
      <p:sp>
        <p:nvSpPr>
          <p:cNvPr id="598"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2</a:t>
            </a:r>
            <a:r>
              <a:rPr b="1" lang="ar-SA" sz="2200" spc="-1" strike="noStrike" u="sng">
                <a:solidFill>
                  <a:srgbClr val="000000"/>
                </a:solidFill>
                <a:uFillTx/>
                <a:latin typeface="Calibri"/>
              </a:rPr>
              <a:t>. مرحلة ما قبل العمليات : وتنقسم الى قسمين:</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رحلة ما قبل المفاهيم (</a:t>
            </a: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0000"/>
                </a:solidFill>
                <a:latin typeface="Calibri"/>
              </a:rPr>
              <a:t>4</a:t>
            </a:r>
            <a:r>
              <a:rPr b="1" lang="ar-SA" sz="2200" spc="-1" strike="noStrike">
                <a:solidFill>
                  <a:srgbClr val="000000"/>
                </a:solidFill>
                <a:latin typeface="Calibri"/>
              </a:rPr>
              <a:t> سنوات)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رحلة الحدسية ( </a:t>
            </a:r>
            <a:r>
              <a:rPr b="1" lang="ar-SA" sz="2200" spc="-1" strike="noStrike">
                <a:solidFill>
                  <a:srgbClr val="000000"/>
                </a:solidFill>
                <a:latin typeface="Calibri"/>
              </a:rPr>
              <a:t>4</a:t>
            </a:r>
            <a:r>
              <a:rPr b="1" lang="ar-SA" sz="2200" spc="-1" strike="noStrike">
                <a:solidFill>
                  <a:srgbClr val="000000"/>
                </a:solidFill>
                <a:latin typeface="Calibri"/>
              </a:rPr>
              <a:t>-</a:t>
            </a:r>
            <a:r>
              <a:rPr b="1" lang="ar-SA" sz="2200" spc="-1" strike="noStrike">
                <a:solidFill>
                  <a:srgbClr val="000000"/>
                </a:solidFill>
                <a:latin typeface="Calibri"/>
              </a:rPr>
              <a:t>7</a:t>
            </a:r>
            <a:r>
              <a:rPr b="1" lang="ar-SA" sz="2200" spc="-1" strike="noStrike">
                <a:solidFill>
                  <a:srgbClr val="000000"/>
                </a:solidFill>
                <a:latin typeface="Calibri"/>
              </a:rPr>
              <a:t>سنوات)</a:t>
            </a:r>
            <a:r>
              <a:rPr b="0" lang="ar-SA"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نظرية بياجية </a:t>
            </a:r>
            <a:br>
              <a:rPr sz="4600"/>
            </a:br>
            <a:r>
              <a:rPr b="0" lang="ar-SA" sz="4600" spc="-1" strike="noStrike">
                <a:solidFill>
                  <a:srgbClr val="3e3d2d"/>
                </a:solidFill>
                <a:latin typeface="Cambria"/>
              </a:rPr>
              <a:t>(مميزات مرحلة ما قبل العمليات )</a:t>
            </a:r>
            <a:endParaRPr b="0" lang="en-US" sz="4600" spc="-1" strike="noStrike">
              <a:solidFill>
                <a:srgbClr val="3e3d2d"/>
              </a:solidFill>
              <a:latin typeface="Cambria"/>
            </a:endParaRPr>
          </a:p>
        </p:txBody>
      </p:sp>
      <p:sp>
        <p:nvSpPr>
          <p:cNvPr id="600"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بدء بتكوين المفاهيم</a:t>
            </a: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مركز حول الذات</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ا يفهم مبدأ الاحتفاظ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فكير الطفل في اتجاه واحد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عتماد على الإدراك الحسي المباشر</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اللغة وترتبط بالإدراك الحس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بدأ مفهوم الزمن بالظهور</a:t>
            </a:r>
            <a:r>
              <a:rPr b="1"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فيديو يوضح معنى مبدأ الاحتفاظ</a:t>
            </a:r>
            <a:endParaRPr b="0" lang="en-US" sz="4600" spc="-1" strike="noStrike">
              <a:solidFill>
                <a:srgbClr val="3e3d2d"/>
              </a:solidFill>
              <a:latin typeface="Cambria"/>
            </a:endParaRPr>
          </a:p>
        </p:txBody>
      </p:sp>
      <p:sp>
        <p:nvSpPr>
          <p:cNvPr id="602"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en-US" sz="2800" spc="-1" strike="noStrike" u="sng">
                <a:solidFill>
                  <a:srgbClr val="e68200"/>
                </a:solidFill>
                <a:uFillTx/>
                <a:latin typeface="Calibri"/>
                <a:hlinkClick r:id="rId1"/>
              </a:rPr>
              <a:t>http://www.youtube.com/watch?v=gnArvcWaH6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115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Calibri"/>
              </a:rPr>
              <a:t>نلاحظ أن الطفل لم يستطيع فهم أن سكب كميتين متساوية من الماء في أكواب مختلفة الأشكال لا يغير من كمية الماء ومقداره</a:t>
            </a:r>
            <a:endParaRPr b="0" lang="en-US" sz="2400" spc="-1" strike="noStrike">
              <a:solidFill>
                <a:srgbClr val="000000"/>
              </a:solidFill>
              <a:latin typeface="Calibri"/>
            </a:endParaRPr>
          </a:p>
          <a:p>
            <a:pPr marL="34308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e3d2d"/>
                </a:solidFill>
                <a:latin typeface="Cambria"/>
              </a:rPr>
              <a:t>فيديو يوضح معنى تفكير الطفل في اتجاه واحد </a:t>
            </a:r>
            <a:endParaRPr b="0" lang="en-US" sz="4100" spc="-1" strike="noStrike">
              <a:solidFill>
                <a:srgbClr val="3e3d2d"/>
              </a:solidFill>
              <a:latin typeface="Cambria"/>
            </a:endParaRPr>
          </a:p>
        </p:txBody>
      </p:sp>
      <p:sp>
        <p:nvSpPr>
          <p:cNvPr id="604" name=""/>
          <p:cNvSpPr txBox="1"/>
          <p:nvPr/>
        </p:nvSpPr>
        <p:spPr>
          <a:xfrm>
            <a:off x="456840" y="1599840"/>
            <a:ext cx="7620120" cy="4800600"/>
          </a:xfrm>
          <a:prstGeom prst="rect">
            <a:avLst/>
          </a:prstGeom>
          <a:noFill/>
          <a:ln w="0">
            <a:noFill/>
          </a:ln>
        </p:spPr>
        <p:txBody>
          <a:bodyPr anchor="t">
            <a:normAutofit/>
          </a:bodyPr>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68200"/>
                </a:solidFill>
                <a:uFillTx/>
                <a:latin typeface="Calibri"/>
                <a:hlinkClick r:id="rId1"/>
              </a:rPr>
              <a:t>http://www.youtube.com/watch?v=OinqFgsIbh0&amp;feature=player_embedded</a:t>
            </a: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لم يستطيع الطفل الأول من ذكر الأشياء التي تراها المعلمة من جهتها الجديدة, حيث كان كل تفكيره منصب على مايراه من جهته, مما يثبت أن تفكير الطفل في اتجاه واحد.</a:t>
            </a: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أما الطفل الثاني الأكبر سنا فقد كان قادرا على ذكر الأشياء التي يمكن أن تراها المعلمة من جهت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r>
              <a:rPr b="0" lang="en-US" sz="4600" spc="-1" strike="noStrike">
                <a:solidFill>
                  <a:srgbClr val="3e3d2d"/>
                </a:solidFill>
                <a:latin typeface="Cambria"/>
              </a:rPr>
              <a:t> </a:t>
            </a: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606"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أول:</a:t>
            </a:r>
            <a:endParaRPr b="0" lang="en-US" sz="2200" spc="-1" strike="noStrike">
              <a:solidFill>
                <a:srgbClr val="000000"/>
              </a:solidFill>
              <a:latin typeface="Calibri"/>
            </a:endParaRPr>
          </a:p>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تصنيف الأشياء طبقاً لألوانها وأشكالها.</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تطيع الطفل ان يفهم علاقة الاحتواء (وهي العلاقة بين مجموعة تكون مجموعة جزئية من مجموعة أخرى).</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كون مفاهيم المقارنة والترتيب ( التسلسل)  </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اجراء مقابلة بين عناصر مجموعتين.</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م يكتسب بعد مفهوم الثبات العددي. </a:t>
            </a: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0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ن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فهم الطفل علاقات الترتيب والزمن والعملات والقياس، التي تترتب على ادراك مفاهيم التصنيف والعدد والفراغ وادراك قياسات مرتبطة مثل</a:t>
            </a:r>
            <a:r>
              <a:rPr b="1" lang="en-US" sz="2200" spc="-1" strike="noStrike">
                <a:solidFill>
                  <a:srgbClr val="000000"/>
                </a:solidFill>
                <a:latin typeface="Calibri"/>
              </a:rPr>
              <a:t>: </a:t>
            </a:r>
            <a:r>
              <a:rPr b="1" lang="ar-SA" sz="2200" spc="-1" strike="noStrike">
                <a:solidFill>
                  <a:srgbClr val="000000"/>
                </a:solidFill>
                <a:latin typeface="Calibri"/>
              </a:rPr>
              <a:t>( ادراك مفهوم العمر بأنه " عدد السنوات التي قضاها الطفل منذ مولده"، إدراك كلمات مثل: قريب بعيد ، فوق تحت ، كبير صغير ، خفيف ثقيل ، مربع دائرة</a:t>
            </a:r>
            <a:r>
              <a:rPr b="0" lang="ar-SA" sz="2200" spc="-1" strike="noStrike">
                <a:solidFill>
                  <a:srgbClr val="000000"/>
                </a:solidFill>
                <a:latin typeface="Calibri"/>
              </a:rPr>
              <a:t> </a:t>
            </a:r>
            <a:endParaRPr b="0" lang="en-US" sz="2200" spc="-1" strike="noStrike">
              <a:solidFill>
                <a:srgbClr val="000000"/>
              </a:solidFill>
              <a:latin typeface="Calibri"/>
            </a:endParaRPr>
          </a:p>
        </p:txBody>
      </p:sp>
      <p:sp>
        <p:nvSpPr>
          <p:cNvPr id="609" name="Rectangle 4"/>
          <p:cNvSpPr/>
          <p:nvPr/>
        </p:nvSpPr>
        <p:spPr>
          <a:xfrm>
            <a:off x="69278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e3d2d"/>
                </a:solidFill>
                <a:latin typeface="Tahoma"/>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11"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لث: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و لدى الطفل مفاهيم خاصة برموز الأعداد وتمثيلها وكتابتها، وبعض العمليات والرموز الشكلية كالجمع والطرح......</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عرف على ان التنظيمات الفراغية لا تغير من عدد الاشياء ( ثبات العدد).</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هداف تعلم الرياضيات (المفاهيم الرياضية) في مرحلة رياض الأطفال </a:t>
            </a:r>
            <a:endParaRPr b="0" lang="en-US" sz="4600" spc="-1" strike="noStrike">
              <a:solidFill>
                <a:srgbClr val="3e3d2d"/>
              </a:solidFill>
              <a:latin typeface="Cambria"/>
            </a:endParaRPr>
          </a:p>
        </p:txBody>
      </p:sp>
      <p:sp>
        <p:nvSpPr>
          <p:cNvPr id="613" name=""/>
          <p:cNvSpPr txBox="1"/>
          <p:nvPr/>
        </p:nvSpPr>
        <p:spPr>
          <a:xfrm>
            <a:off x="456840" y="1752120"/>
            <a:ext cx="7620120" cy="4800600"/>
          </a:xfrm>
          <a:prstGeom prst="rect">
            <a:avLst/>
          </a:prstGeom>
          <a:noFill/>
          <a:ln w="0">
            <a:noFill/>
          </a:ln>
        </p:spPr>
        <p:txBody>
          <a:bodyPr anchor="t">
            <a:normAutofit/>
          </a:bodyPr>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خيال الطفل </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درات الطفل الابتكار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وة الملاحظ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دريب على حل المشكلات من خلال افكار رياض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ذوق الطفل بجمال الانتظام في الطبيعة وفي الانماط الرياضية (الاشكال الهندسية)، وتنمية الحس الهندس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بدايات التفكير المنطقي.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تنمية قيمة التعاون وإتمام العمل (المثابرة).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الاستطلاع.</a:t>
            </a: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دور المعلمة في إكساب المفاهيم الرياضية لأطفال ما قبل المدرسة </a:t>
            </a:r>
            <a:endParaRPr b="0" lang="en-US" sz="4600" spc="-1" strike="noStrike">
              <a:solidFill>
                <a:srgbClr val="3e3d2d"/>
              </a:solidFill>
              <a:latin typeface="Cambria"/>
            </a:endParaRPr>
          </a:p>
        </p:txBody>
      </p:sp>
      <p:sp>
        <p:nvSpPr>
          <p:cNvPr id="615" name=""/>
          <p:cNvSpPr txBox="1"/>
          <p:nvPr/>
        </p:nvSpPr>
        <p:spPr>
          <a:xfrm>
            <a:off x="456840" y="1676160"/>
            <a:ext cx="7620120" cy="4800600"/>
          </a:xfrm>
          <a:prstGeom prst="rect">
            <a:avLst/>
          </a:prstGeom>
          <a:noFill/>
          <a:ln w="0">
            <a:noFill/>
          </a:ln>
        </p:spPr>
        <p:txBody>
          <a:bodyPr anchor="t">
            <a:normAutofit fontScale="97000"/>
          </a:bodyPr>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الشعور بالثقة بالنفس، وذلك من خلال اختيارها لعمل في مستوى الطفل يقوم به بنجاح.</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واستخدام مهارات التعزيز الايجابي، والاهتمام بمحاولات الطفل وليس النتيج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مواجهة الفشل بطريقة ايجابية، وجعل الفشل وسيلة تعلم جديدة  </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بتعاد عن استخدام أنشطة تنافسية بين الأطفال، والتركيز على الانشطة التعاوني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بيئة غنية بالمواقف التي تشجع الطفل على الاستكشاف.</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عم تعلم الأطفال من خلال التعليقات والأسئل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التعبير عن أفكاره ومشاعره من خلال اللغة.</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6840" y="1599840"/>
            <a:ext cx="7620120" cy="4800600"/>
          </a:xfrm>
          <a:prstGeom prst="rect">
            <a:avLst/>
          </a:prstGeom>
          <a:noFill/>
          <a:ln w="0">
            <a:noFill/>
          </a:ln>
        </p:spPr>
        <p:txBody>
          <a:bodyPr anchor="t">
            <a:normAutofit/>
          </a:bodyPr>
          <a:p>
            <a:pPr marL="343080" indent="-2286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لماذا يتعلم الطفل الرياضيات؟</a:t>
            </a:r>
            <a:endParaRPr b="0" lang="en-US" sz="40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دور المعلمة في إكساب المفاهيم الرياضية لأطفال ما قبل المدرسة</a:t>
            </a:r>
            <a:endParaRPr b="0" lang="en-US" sz="4600" spc="-1" strike="noStrike">
              <a:solidFill>
                <a:srgbClr val="3e3d2d"/>
              </a:solidFill>
              <a:latin typeface="Cambria"/>
            </a:endParaRPr>
          </a:p>
        </p:txBody>
      </p:sp>
      <p:sp>
        <p:nvSpPr>
          <p:cNvPr id="617" name=""/>
          <p:cNvSpPr txBox="1"/>
          <p:nvPr/>
        </p:nvSpPr>
        <p:spPr>
          <a:xfrm>
            <a:off x="456840" y="18284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الوقت الكافي للعب قدر الامكان.</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حل المشكلات ( التعرف على المشكلة وتوضيحها/ وضع قائمة بالحلول الممكنة/ اختيار افضل الحلو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رياضيات</a:t>
            </a:r>
            <a:endParaRPr b="0" lang="en-US" sz="4600" spc="-1" strike="noStrike">
              <a:solidFill>
                <a:srgbClr val="3e3d2d"/>
              </a:solidFill>
              <a:latin typeface="Cambria"/>
            </a:endParaRPr>
          </a:p>
        </p:txBody>
      </p:sp>
      <p:sp>
        <p:nvSpPr>
          <p:cNvPr id="564" name=""/>
          <p:cNvSpPr txBox="1"/>
          <p:nvPr/>
        </p:nvSpPr>
        <p:spPr>
          <a:xfrm>
            <a:off x="456840" y="1599840"/>
            <a:ext cx="7620120" cy="4800600"/>
          </a:xfrm>
          <a:prstGeom prst="rect">
            <a:avLst/>
          </a:prstGeom>
          <a:noFill/>
          <a:ln w="0">
            <a:noFill/>
          </a:ln>
        </p:spPr>
        <p:txBody>
          <a:bodyPr anchor="t">
            <a:normAutofit/>
          </a:bodyPr>
          <a:p>
            <a:pPr marL="343080" indent="-2286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حقيقة</a:t>
            </a:r>
            <a:r>
              <a:rPr b="0" lang="ar-SA" sz="3600" spc="-1" strike="noStrike">
                <a:solidFill>
                  <a:srgbClr val="000000"/>
                </a:solidFill>
                <a:latin typeface="Calibri"/>
              </a:rPr>
              <a:t>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ن تعلم الرياضيات في هذه المرحلة هو تلبية لرغبات الطفل  في فهم ما حوله بدقة.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وهي فرصة له للمتعة والتسلية والاستمتاع بممارسة العاب تحتاج منه الى استخدام الاعداد والأشكال.</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قصتي مع الرياضيات </a:t>
            </a:r>
            <a:endParaRPr b="0" lang="en-US" sz="4600" spc="-1" strike="noStrike">
              <a:solidFill>
                <a:srgbClr val="3e3d2d"/>
              </a:solidFill>
              <a:latin typeface="Cambria"/>
            </a:endParaRPr>
          </a:p>
        </p:txBody>
      </p:sp>
      <p:sp>
        <p:nvSpPr>
          <p:cNvPr id="566"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اكتبي خبرتك الشخصية في تعلم الرياضيات من أول مرحلة في حياتك الى ان وصلتي الى هذه المرحل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أي موقف أثر عليك  سلبياً أو ايجابيا في تعلم الرياضيات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علمة الماد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طريقة التعلم .</a:t>
            </a: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568" name=""/>
          <p:cNvSpPr txBox="1"/>
          <p:nvPr/>
        </p:nvSpPr>
        <p:spPr>
          <a:xfrm>
            <a:off x="456840" y="1599840"/>
            <a:ext cx="7620120" cy="4800600"/>
          </a:xfrm>
          <a:prstGeom prst="rect">
            <a:avLst/>
          </a:prstGeom>
          <a:noFill/>
          <a:ln w="0">
            <a:noFill/>
          </a:ln>
        </p:spPr>
        <p:txBody>
          <a:bodyPr anchor="t">
            <a:normAutofit/>
          </a:bodyPr>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بشكل عام سنجد أن:</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أهمية كبيرة في الاحكام الشرعية العبادات –القياس الزمن –العدة –المواريث </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دور اساسي في انشطة الحياة المختلفة.</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تنمي الثقة بالنفس وتعلم الصبر.</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عقل التكنولوجيا.</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تجريد في الرياضيات هو مؤشر لرقي العقل البشري.</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274320"/>
            <a:ext cx="8076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3e3d2d"/>
                </a:solidFill>
                <a:latin typeface="Cambria"/>
              </a:rPr>
              <a:t>الأهداف العامة لتعلم الرياضيات في جميع المراحل:</a:t>
            </a:r>
            <a:endParaRPr b="0" lang="en-US" sz="4600" spc="-1" strike="noStrike">
              <a:solidFill>
                <a:srgbClr val="3e3d2d"/>
              </a:solidFill>
              <a:latin typeface="Cambria"/>
            </a:endParaRPr>
          </a:p>
        </p:txBody>
      </p:sp>
      <p:sp>
        <p:nvSpPr>
          <p:cNvPr id="570" name=""/>
          <p:cNvSpPr txBox="1"/>
          <p:nvPr/>
        </p:nvSpPr>
        <p:spPr>
          <a:xfrm>
            <a:off x="456840" y="1599840"/>
            <a:ext cx="7620120" cy="4800600"/>
          </a:xfrm>
          <a:prstGeom prst="rect">
            <a:avLst/>
          </a:prstGeom>
          <a:noFill/>
          <a:ln w="0">
            <a:noFill/>
          </a:ln>
        </p:spPr>
        <p:txBody>
          <a:bodyPr anchor="t">
            <a:normAutofit fontScale="94000"/>
          </a:bodyPr>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فكير السليم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عامل مع الاعداد والرموز الرياضية (تعلم استخدام الاعداد بصورة وظيفية في الحياة  -التعرف على العلاقات المتضمنة –تحليل المسأل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فهم المشكلة وتكوين فرضيات. </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تقدير اثر الرياضيات في تطوير المجتمع (قيمة الرياضيات في تقدم الامم).</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3e3d2d"/>
                </a:solidFill>
                <a:latin typeface="Cambria"/>
              </a:rPr>
              <a:t>تعريف المفهوم</a:t>
            </a:r>
            <a:endParaRPr b="0" lang="en-US" sz="5000" spc="-1" strike="noStrike">
              <a:solidFill>
                <a:srgbClr val="3e3d2d"/>
              </a:solidFill>
              <a:latin typeface="Cambria"/>
            </a:endParaRPr>
          </a:p>
        </p:txBody>
      </p:sp>
      <p:sp>
        <p:nvSpPr>
          <p:cNvPr id="572" name=""/>
          <p:cNvSpPr txBox="1"/>
          <p:nvPr/>
        </p:nvSpPr>
        <p:spPr>
          <a:xfrm>
            <a:off x="456840" y="1599840"/>
            <a:ext cx="7620120" cy="4800600"/>
          </a:xfrm>
          <a:prstGeom prst="rect">
            <a:avLst/>
          </a:prstGeom>
          <a:noFill/>
          <a:ln w="0">
            <a:noFill/>
          </a:ln>
        </p:spPr>
        <p:txBody>
          <a:bodyPr anchor="t">
            <a:normAutofit/>
          </a:bodyPr>
          <a:p>
            <a:pPr marL="343080" indent="-228600" algn="r" rtl="1">
              <a:spcBef>
                <a:spcPts val="10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مفهوم هو تجريد للعناصر المشتركة بين عدة مواقف أو اشياء، وعادة ما يعطى هذا التجريد اسماً او عنواناً او رمزاً.</a:t>
            </a:r>
            <a:endParaRPr b="0" lang="en-US" sz="4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فهوم المهارة</a:t>
            </a:r>
            <a:endParaRPr b="0" lang="en-US" sz="4600" spc="-1" strike="noStrike">
              <a:solidFill>
                <a:srgbClr val="3e3d2d"/>
              </a:solidFill>
              <a:latin typeface="Cambria"/>
            </a:endParaRPr>
          </a:p>
        </p:txBody>
      </p:sp>
      <p:sp>
        <p:nvSpPr>
          <p:cNvPr id="574" name=""/>
          <p:cNvSpPr txBox="1"/>
          <p:nvPr/>
        </p:nvSpPr>
        <p:spPr>
          <a:xfrm>
            <a:off x="456840" y="1599840"/>
            <a:ext cx="7620120" cy="4800600"/>
          </a:xfrm>
          <a:prstGeom prst="rect">
            <a:avLst/>
          </a:prstGeom>
          <a:noFill/>
          <a:ln w="0">
            <a:noFill/>
          </a:ln>
        </p:spPr>
        <p:txBody>
          <a:bodyPr anchor="t">
            <a:normAutofit fontScale="88000"/>
          </a:bodyPr>
          <a:p>
            <a:pPr marL="301680" indent="-2008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3600" spc="-1" strike="noStrike">
                <a:solidFill>
                  <a:srgbClr val="000000"/>
                </a:solidFill>
                <a:latin typeface="Calibri"/>
              </a:rPr>
              <a:t>(هي حركة او سلسلة من الحركات الإرادية يقوم بها المتعلم (الطفل) وفق نشاط محدد وهدف واضح يتضمن توافق العضلات مثال : الكتابة – القص- ركوب الدراجة- السباحة)</a:t>
            </a:r>
            <a:endParaRPr b="0" lang="en-US" sz="36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قاس المهارات على فترة زمنية طويلة نسبياً: </a:t>
            </a:r>
            <a:r>
              <a:rPr b="1" lang="ar-SA" sz="3600" spc="-1" strike="noStrike">
                <a:solidFill>
                  <a:srgbClr val="000000"/>
                </a:solidFill>
                <a:latin typeface="Calibri"/>
              </a:rPr>
              <a:t>3</a:t>
            </a:r>
            <a:r>
              <a:rPr b="1" lang="ar-SA" sz="3600" spc="-1" strike="noStrike">
                <a:solidFill>
                  <a:srgbClr val="000000"/>
                </a:solidFill>
                <a:latin typeface="Calibri"/>
              </a:rPr>
              <a:t>شهور- </a:t>
            </a:r>
            <a:r>
              <a:rPr b="1" lang="ar-SA" sz="3600" spc="-1" strike="noStrike">
                <a:solidFill>
                  <a:srgbClr val="000000"/>
                </a:solidFill>
                <a:latin typeface="Calibri"/>
              </a:rPr>
              <a:t>6</a:t>
            </a:r>
            <a:r>
              <a:rPr b="1" lang="ar-SA" sz="3600" spc="-1" strike="noStrike">
                <a:solidFill>
                  <a:srgbClr val="000000"/>
                </a:solidFill>
                <a:latin typeface="Calibri"/>
              </a:rPr>
              <a:t> شهور – سنة...</a:t>
            </a:r>
            <a:endParaRPr b="0" lang="en-US" sz="3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Lama Aljathlan</cp:lastModifiedBy>
  <dcterms:modified xsi:type="dcterms:W3CDTF">2016-10-06T06:42:32Z</dcterms:modified>
  <cp:revision>55</cp:revision>
  <dc:subject/>
  <dc:title>Slide 1</dc:title>
</cp:coreProperties>
</file>