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88c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2964-263C-4352-801F-2F62D8A656F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DE0B-6A14-4D02-B061-A5E3A0A976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557-527E-4DB2-8D93-49DA1F267D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4C8-6D23-4BFD-9D1A-1A5B8169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BF4-95CF-4D93-9051-53292E5D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C33-987C-4EF7-9F57-3DE642BD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72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752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72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752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1C5-715D-4ECD-BC98-F1838BBC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A95-03D4-43ED-B644-45862BA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728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07520" y="220968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6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728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07520" y="412020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D2A-694D-4FBC-965A-A8C9082F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37A-60FA-4B06-9890-695E84F0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C86-924E-4D90-A1B0-D10B1AA5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B0D-67BF-4BC5-9D5D-A7331EC4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DF2-4E93-415D-AAD7-0F6C72B0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120" y="412020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375-BF88-4759-9FBC-77EE3105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220968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2020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9FB-1AAE-417D-A9CB-0DDFE11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reschool_bkgrnd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88c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688c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688c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688c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BF3-FB49-4266-99C4-13A441A4143D}" type="slidenum">
              <a:rPr b="0" lang="ar-SA" sz="1400" spc="-1" strike="noStrike">
                <a:solidFill>
                  <a:srgbClr val="0688c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preschool_bkgrnd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88c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88c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1989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نمو في الطفولة المبكرة</a:t>
            </a:r>
            <a:endParaRPr b="0" lang="en-US" sz="4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cs typeface="Traditional Arabic"/>
              </a:rPr>
              <a:t>يفضل الطفل في نهاية المرحلة استخدام يد على الأخرى. (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95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%) من الأطفال يستخدمون اليد اليمنى، بينما (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%) يستخدمون اليد اليسرى أو لا يفضلون استخدام أي يد. ويخضع ذلك إلى عوامل وراثية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cs typeface="Traditional Arabic"/>
              </a:rPr>
              <a:t>يسير النمو الحركي في اتجاهات عامة هي: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 ) من التحكم من كلا جانبي الجسم إلى التحكم من جانب واحد.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3472"/>
                </a:solidFill>
                <a:latin typeface="Traditional Arabic"/>
                <a:ea typeface="Traditional Arabic"/>
              </a:rPr>
              <a:t>) من استخدام أكبر عدد من العضلات إلى استخدام أقل عدد من العضلات.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1280" y="90756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"/>
          </a:bodyPr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ستطيع الطفل في هذه المرحلة أن يتسلق ويجري وينثني بمهارة فائق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ستطيع ارتداء ملابسه وربط حذائه والاستحمام بنفسه وتناول الطعام بمفرده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تمكن الطفل من السيطرة على الحركات الصغيرة بالتدريب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تلذذ الطفل بممارسة حواسه المختلف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درك العلاقات المكانية قبل الزماني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درك الطفل نواحي الاختلاف قبل التشابه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20520" indent="-20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تطور في استخدام اليد اليمنى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00000" y="1628640"/>
            <a:ext cx="7010640" cy="48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ؤدي الطفل المهارات المطلوبة منه بدقه مستخدماً أجزاء جسمه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يظهر الطفل التوافق بين أعضاء جسمه عند بلوغه الخامس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التمكن من إتقان المهارات الجسمية الكبيرة والدقيقة لليد والأطراف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تمتاز حركات الطفل بالشدة وسرعة الاستجابة والتنوع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Clr>
                <a:srgbClr val="000073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3"/>
                </a:solidFill>
                <a:latin typeface="Arabic Typesetting"/>
                <a:cs typeface="Arabic Typesetting"/>
              </a:rPr>
              <a:t>التآزر بين العين واليد والعين مع الذراع يكون أكثر تطوراً وثباتاً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908360" y="10522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مراحل الأساسية للنمو الحركي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- مرحلة الحركة الانعكاسية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Reflexive Movement Phase</a:t>
            </a: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 :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Arial Narrow"/>
              </a:rPr>
              <a:t>من بداية التكوين حتى عمر سنة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- مرحلة الحركات الأولية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Rudimentary Movement Phase</a:t>
            </a: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Arial Narrow"/>
              </a:rPr>
              <a:t> السنتان الأوليتان من عمر الطفل .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- مرحلة الحركات الأساسية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Fundamental Movement Phase</a:t>
            </a: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Arial Narrow"/>
              </a:rPr>
              <a:t>من سنتان حتى سبع سنوات .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- مرحلة الحركات المتخصصة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3472"/>
                </a:solidFill>
                <a:latin typeface="Arial Narrow"/>
              </a:rPr>
              <a:t>Specialized Movement Phase</a:t>
            </a:r>
            <a:r>
              <a:rPr b="1" lang="ar-SA" sz="2000" spc="-1" strike="noStrike">
                <a:solidFill>
                  <a:srgbClr val="003472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Arial Narrow"/>
              </a:rPr>
              <a:t>من سبع سنوات فأكثر .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16282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 Narrow"/>
              </a:rPr>
              <a:t>القبعة الحمراء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280" y="256536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cc"/>
                </a:solidFill>
                <a:latin typeface="Arial Narrow"/>
              </a:rPr>
              <a:t>المشاعر</a:t>
            </a:r>
            <a:endParaRPr b="0" lang="en-US" sz="4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66cc"/>
                </a:solidFill>
                <a:uFillTx/>
                <a:latin typeface="Arial Narrow"/>
              </a:rPr>
              <a:t>الحالة الانفعالية للطفل 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000" y="2420640"/>
            <a:ext cx="7056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انفعالات الطفل غير مستقرة ممكن تتغير خلال الموقف الواحد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يستطيع الطفل تكوين علاقات اجتماعية مع أقرانه من خلال اللعب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تظهر الفروق الفردية واضحة جدا بين الأطفال وتؤثر في أدائهم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d0d0d"/>
                </a:solidFill>
                <a:latin typeface="Arial Narrow"/>
              </a:rPr>
              <a:t>القبعة السوداء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256536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سلبيات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688c9"/>
                </a:solidFill>
                <a:uFillTx/>
                <a:latin typeface="Arial Narrow"/>
              </a:rPr>
              <a:t>الأخطاء والمشاكل التي تواجه الطفل </a:t>
            </a: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973440" y="2637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الاهتمام بالجانب الحركي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البيئة الفقير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ضعف إعداد المعلم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4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عنوان 1" descr=""/>
          <p:cNvPicPr/>
          <p:nvPr/>
        </p:nvPicPr>
        <p:blipFill>
          <a:blip r:embed="rId1"/>
          <a:stretch/>
        </p:blipFill>
        <p:spPr>
          <a:xfrm>
            <a:off x="0" y="1414440"/>
            <a:ext cx="7010280" cy="1236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8000" y="278136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ايجابيات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900360" y="2421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إشباع حاجات الطفل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التمكن من إتقان المهارات الحركي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abic Typesetting"/>
                <a:cs typeface="Arabic Typesetting"/>
              </a:rPr>
              <a:t>اكتساب المهارات الاجتماعية وتقبل الاخرين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3472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af67ff"/>
                </a:solidFill>
                <a:uFillTx/>
                <a:latin typeface="Arial Narrow"/>
                <a:cs typeface="Traditional Arabic"/>
              </a:rPr>
              <a:t>مرحلة الطفولة المبكرة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0000" y="2204640"/>
            <a:ext cx="73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 Narrow"/>
                <a:cs typeface="Traditional Arabic"/>
              </a:rPr>
              <a:t>يطلق بعضهم اسم مرحلة الطفولة المبكرة على مرحلة ما قبل المدرسة</a:t>
            </a:r>
            <a:endParaRPr b="0" lang="en-US" sz="2800" spc="-1" strike="noStrike">
              <a:solidFill>
                <a:srgbClr val="0688c9"/>
              </a:solidFill>
              <a:latin typeface="Arial Narrow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 Narrow"/>
                <a:cs typeface="Traditional Arabic"/>
              </a:rPr>
              <a:t>وتعد مرحلة الطفولة المبكرة مرحلة مهمة في حياة الطفل</a:t>
            </a:r>
            <a:endParaRPr b="0" lang="en-US" sz="2800" spc="-1" strike="noStrike">
              <a:solidFill>
                <a:srgbClr val="0688c9"/>
              </a:solidFill>
              <a:latin typeface="Arial Narrow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 Narrow"/>
                <a:cs typeface="Traditional Arabic"/>
              </a:rPr>
              <a:t>تعد هذه الفترة فترة نمو في جميع جوانب النمو، وتشهد هذه المرحلة مجموعة من التغيرات التي تطرأ على الطفل </a:t>
            </a:r>
            <a:endParaRPr b="0" lang="en-US" sz="2800" spc="-1" strike="noStrike">
              <a:solidFill>
                <a:srgbClr val="0688c9"/>
              </a:solidFill>
              <a:latin typeface="Arial Narrow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 Narrow"/>
                <a:ea typeface="Traditional Arabic"/>
              </a:rPr>
              <a:t> في هذه المرحلة يوجد اختلافات في شخصيات الأطفال حتى تصبح واضحة المعالم في نهاية المرحلة·</a:t>
            </a:r>
            <a:endParaRPr b="0" lang="en-US" sz="28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6282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00"/>
                </a:solidFill>
                <a:latin typeface="Arial Narrow"/>
              </a:rPr>
              <a:t>القبعة الخضراء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320040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الاقتراحات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47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عنصر نائب للمحتوى 4" descr=""/>
          <p:cNvPicPr/>
          <p:nvPr/>
        </p:nvPicPr>
        <p:blipFill>
          <a:blip r:embed="rId1"/>
          <a:stretch/>
        </p:blipFill>
        <p:spPr>
          <a:xfrm>
            <a:off x="1103400" y="1914480"/>
            <a:ext cx="7034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Narrow"/>
              </a:rPr>
              <a:t>الخصائص التي تحكم نمو الطفل :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320" y="2209680"/>
            <a:ext cx="4513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نمو عملية متصل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نمو يختلف في معدلاته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نمو عملية مترابطة شاملة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النمو متماثل لدى كل الأطفال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Clr>
                <a:srgbClr val="0688c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688c9"/>
                </a:solidFill>
                <a:latin typeface="Arial Narrow"/>
              </a:rPr>
              <a:t>يتأثر بالبيئة والوراثة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0" y="162720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688c9"/>
                </a:solidFill>
                <a:latin typeface="Arial Narrow"/>
              </a:rPr>
              <a:t>القبعة البيضاء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278136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Narrow"/>
              </a:rPr>
              <a:t>قبعة الحقائق والمعلومات 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00007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73"/>
                </a:solidFill>
                <a:uFillTx/>
                <a:latin typeface="Arial Narrow"/>
              </a:rPr>
              <a:t>النمو الجسمي والحركي للطفل</a:t>
            </a: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ولاً: النمو الجسمي: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اكتمال عدد الأسنان اللبنية، ثم تساقطها وبداية ظهور الأسنان الدائمة في نهاية المرحلة. </a:t>
            </a: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ينمو الرأس بطيئاً ويصل في نهاية المرحلة إلى قريب من حجم رأس الراشد.</a:t>
            </a: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 يتأثر النمو بإمكانيات النمو لدى الطفل وفي نهاية السنة الثالثة يكون طول الطفل تقريباً </a:t>
            </a: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90</a:t>
            </a:r>
            <a:r>
              <a:rPr b="0" lang="ar-SA" sz="3000" spc="-1" strike="noStrike">
                <a:solidFill>
                  <a:srgbClr val="0067e5"/>
                </a:solidFill>
                <a:latin typeface="Arial Narrow"/>
              </a:rPr>
              <a:t> سم ويلاحظ أن الوزن يبرزه نمو الجذع واستطالة العظام خاصة الأطراف</a:t>
            </a: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4920" y="1479600"/>
            <a:ext cx="742788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الحظ الأكبر في النمو للعضلات الكبيرة على حساب العضلات الصغيرة الدقيقة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يوجد فروق بين الجنسين في الوزن لصالح الذكور وتتميز الإناث بالنسيج الشحمي بينما يتميز الذكور بالنسيج العضلي.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يبدأ تكون صورة الجسم والوجه والتي لها تأثير على مفهوم الذات لدى الطفل ويحدد ذلك تعليقات الكبار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ثانيا: النمو الحركي: </a:t>
            </a:r>
            <a:endParaRPr b="0" lang="en-US" sz="4400" spc="-1" strike="noStrike">
              <a:solidFill>
                <a:srgbClr val="0688c9"/>
              </a:solidFill>
              <a:latin typeface="Arial Narrow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تعتبر هذه المرحلة مرحلة النشاط الحركي المستمر.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67e5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في نهاية العام الرابع يبدأ أثر نمو العضلات الصغيرة في الحركات الدقيقة (التلوين، الكتابة، استخدام المقصات...)</a:t>
            </a: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7e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88c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6:16:14Z</dcterms:created>
  <dc:creator>USER</dc:creator>
  <dc:description/>
  <dc:language>en-US</dc:language>
  <cp:lastModifiedBy>Lama Aljathlan</cp:lastModifiedBy>
  <dcterms:modified xsi:type="dcterms:W3CDTF">2016-04-11T07:54:48Z</dcterms:modified>
  <cp:revision>117</cp:revision>
  <dc:subject/>
  <dc:title>عرض تقديمي في PowerPoint</dc:title>
</cp:coreProperties>
</file>