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88c9"/>
                </a:solidFill>
                <a:latin typeface="Arial Narrow"/>
              </a:rPr>
              <a:t>Click to move the slide</a:t>
            </a:r>
            <a:endParaRPr b="0" lang="en-US" sz="44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06042-BF05-4157-992E-2000422413CE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E0D25-4A68-45DB-8EE9-2E5840FF233D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6E388-E67E-4D65-9CF7-FD382380C7F2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94B8-3449-44AD-896D-FA144440C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0106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680" y="4120200"/>
            <a:ext cx="70106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1F62-DF7D-4119-B1A8-77EB45BAF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9120" y="220968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680" y="412020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9120" y="412020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8FA8-FB71-471F-B3FB-AFB771B8B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2257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37280" y="2209680"/>
            <a:ext cx="2257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07520" y="2209680"/>
            <a:ext cx="2257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680" y="4120200"/>
            <a:ext cx="2257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37280" y="4120200"/>
            <a:ext cx="2257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07520" y="4120200"/>
            <a:ext cx="2257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0A6C-7867-405B-B39F-7DCB87E4D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066680" y="2209680"/>
            <a:ext cx="701064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0106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421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9120" y="2209680"/>
            <a:ext cx="3421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88c9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066680" y="990360"/>
            <a:ext cx="701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9120" y="2209680"/>
            <a:ext cx="3421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66680" y="412020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680" y="2209680"/>
            <a:ext cx="701064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0A93-505B-4A12-BA1E-2C6F6E6F8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421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9120" y="220968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59120" y="412020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9120" y="220968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680" y="4120200"/>
            <a:ext cx="70106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0106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066680" y="4120200"/>
            <a:ext cx="70106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9120" y="220968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680" y="412020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59120" y="412020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2257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37280" y="2209680"/>
            <a:ext cx="2257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807520" y="2209680"/>
            <a:ext cx="2257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066680" y="4120200"/>
            <a:ext cx="2257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37280" y="4120200"/>
            <a:ext cx="2257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807520" y="4120200"/>
            <a:ext cx="2257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0106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A0B6-20CC-4274-A1A5-C944F2725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421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9120" y="2209680"/>
            <a:ext cx="3421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0D2F-A01A-4B44-AEA6-A2D389289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1733-929A-4852-95BB-A20003572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680" y="990360"/>
            <a:ext cx="701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2569-C594-4F24-ABB5-A094A153C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9120" y="2209680"/>
            <a:ext cx="3421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680" y="412020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4F5A-0E82-46CD-9C7E-7683BF5EF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421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9120" y="220968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9120" y="412020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1A8F-3218-4C41-86E5-48F12DCD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9120" y="220968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4120200"/>
            <a:ext cx="70106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2C89-0CE1-4359-9AD1-E929E587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preschool_bkgrnd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88c9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680" y="2209680"/>
            <a:ext cx="70106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688c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88c9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  <a:p>
            <a:pPr lvl="1" marL="653760" indent="-251280" algn="r" rtl="1">
              <a:spcBef>
                <a:spcPts val="799"/>
              </a:spcBef>
              <a:buClr>
                <a:srgbClr val="0688c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88c9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  <a:p>
            <a:pPr lvl="2" marL="1005840" indent="-200880" algn="r" rtl="1">
              <a:spcBef>
                <a:spcPts val="799"/>
              </a:spcBef>
              <a:buClr>
                <a:srgbClr val="0688c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88c9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  <a:p>
            <a:pPr lvl="3" marL="1407960" indent="-200880" algn="r" rtl="1">
              <a:spcBef>
                <a:spcPts val="799"/>
              </a:spcBef>
              <a:buClr>
                <a:srgbClr val="0688c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88c9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  <a:p>
            <a:pPr lvl="4" marL="1810440" indent="-200880" algn="r" rtl="1">
              <a:spcBef>
                <a:spcPts val="799"/>
              </a:spcBef>
              <a:buClr>
                <a:srgbClr val="0688c9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88c9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  <a:p>
            <a:pPr lvl="5" marL="1810440" indent="-2008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88c9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  <a:p>
            <a:pPr lvl="6" marL="1810440" indent="-2008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88c9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091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688c9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688c9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4004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688c9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C3712-07CF-4E96-BBB7-C9B934EC2626}" type="slidenum">
              <a:rPr b="0" lang="ar-SA" sz="1400" spc="-1" strike="noStrike">
                <a:solidFill>
                  <a:srgbClr val="0688c9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0" descr="preschool_bkgrnd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88c9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066680" y="2209680"/>
            <a:ext cx="70106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688c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88c9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  <a:p>
            <a:pPr lvl="1" marL="653760" indent="-251280" algn="r" rtl="1">
              <a:spcBef>
                <a:spcPts val="799"/>
              </a:spcBef>
              <a:buClr>
                <a:srgbClr val="0688c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88c9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  <a:p>
            <a:pPr lvl="2" marL="1005840" indent="-200880" algn="r" rtl="1">
              <a:spcBef>
                <a:spcPts val="799"/>
              </a:spcBef>
              <a:buClr>
                <a:srgbClr val="0688c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88c9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  <a:p>
            <a:pPr lvl="3" marL="1407960" indent="-200880" algn="r" rtl="1">
              <a:spcBef>
                <a:spcPts val="799"/>
              </a:spcBef>
              <a:buClr>
                <a:srgbClr val="0688c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88c9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  <a:p>
            <a:pPr lvl="4" marL="1810440" indent="-200880" algn="r" rtl="1">
              <a:spcBef>
                <a:spcPts val="799"/>
              </a:spcBef>
              <a:buClr>
                <a:srgbClr val="0688c9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88c9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  <a:p>
            <a:pPr lvl="5" marL="1810440" indent="-2008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88c9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  <a:p>
            <a:pPr lvl="6" marL="1810440" indent="-2008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88c9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6920" y="1989000"/>
            <a:ext cx="44197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0000"/>
                </a:solidFill>
                <a:latin typeface="Traditional Arabic"/>
                <a:cs typeface="Traditional Arabic"/>
              </a:rPr>
              <a:t>النمو في الطفولة المبكرة</a:t>
            </a:r>
            <a:endParaRPr b="0" lang="en-US" sz="4000" spc="-1" strike="noStrike">
              <a:solidFill>
                <a:srgbClr val="0688c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119700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3472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472"/>
                </a:solidFill>
                <a:latin typeface="Traditional Arabic"/>
                <a:cs typeface="Traditional Arabic"/>
              </a:rPr>
              <a:t>يفضل الطفل في نهاية المرحلة استخدام يد على الأخرى. (</a:t>
            </a:r>
            <a:r>
              <a:rPr b="0" lang="ar-SA" sz="3200" spc="-1" strike="noStrike">
                <a:solidFill>
                  <a:srgbClr val="003472"/>
                </a:solidFill>
                <a:latin typeface="Traditional Arabic"/>
                <a:ea typeface="Traditional Arabic"/>
              </a:rPr>
              <a:t>95</a:t>
            </a:r>
            <a:r>
              <a:rPr b="0" lang="ar-SA" sz="3200" spc="-1" strike="noStrike">
                <a:solidFill>
                  <a:srgbClr val="003472"/>
                </a:solidFill>
                <a:latin typeface="Traditional Arabic"/>
                <a:ea typeface="Traditional Arabic"/>
              </a:rPr>
              <a:t>%) من الأطفال يستخدمون اليد اليمنى، بينما (</a:t>
            </a:r>
            <a:r>
              <a:rPr b="0" lang="ar-SA" sz="3200" spc="-1" strike="noStrike">
                <a:solidFill>
                  <a:srgbClr val="003472"/>
                </a:solidFill>
                <a:latin typeface="Traditional Arabic"/>
                <a:ea typeface="Traditional Arabic"/>
              </a:rPr>
              <a:t>5</a:t>
            </a:r>
            <a:r>
              <a:rPr b="0" lang="ar-SA" sz="3200" spc="-1" strike="noStrike">
                <a:solidFill>
                  <a:srgbClr val="003472"/>
                </a:solidFill>
                <a:latin typeface="Traditional Arabic"/>
                <a:ea typeface="Traditional Arabic"/>
              </a:rPr>
              <a:t>%) يستخدمون اليد اليسرى أو لا يفضلون استخدام أي يد. ويخضع ذلك إلى عوامل وراثية</a:t>
            </a: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3472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472"/>
                </a:solidFill>
                <a:latin typeface="Traditional Arabic"/>
                <a:cs typeface="Traditional Arabic"/>
              </a:rPr>
              <a:t>يسير النمو الحركي في اتجاهات عامة هي: </a:t>
            </a: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472"/>
                </a:solidFill>
                <a:latin typeface="Traditional Arabic"/>
                <a:ea typeface="Traditional Arabic"/>
              </a:rPr>
              <a:t>1</a:t>
            </a:r>
            <a:r>
              <a:rPr b="0" lang="ar-SA" sz="3200" spc="-1" strike="noStrike">
                <a:solidFill>
                  <a:srgbClr val="003472"/>
                </a:solidFill>
                <a:latin typeface="Traditional Arabic"/>
                <a:ea typeface="Traditional Arabic"/>
              </a:rPr>
              <a:t> ) من التحكم من كلا جانبي الجسم إلى التحكم من جانب واحد.</a:t>
            </a: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472"/>
                </a:solidFill>
                <a:latin typeface="Traditional Arabic"/>
                <a:ea typeface="Traditional Arabic"/>
              </a:rPr>
              <a:t>2</a:t>
            </a:r>
            <a:r>
              <a:rPr b="0" lang="ar-SA" sz="3200" spc="-1" strike="noStrike">
                <a:solidFill>
                  <a:srgbClr val="003472"/>
                </a:solidFill>
                <a:latin typeface="Traditional Arabic"/>
                <a:ea typeface="Traditional Arabic"/>
              </a:rPr>
              <a:t>) من استخدام أكبر عدد من العضلات إلى استخدام أقل عدد من العضلات.</a:t>
            </a: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971280" y="907560"/>
            <a:ext cx="727236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"/>
          </a:bodyPr>
          <a:p>
            <a:pPr marL="20520" indent="-20520" algn="r" rtl="1">
              <a:lnSpc>
                <a:spcPct val="100000"/>
              </a:lnSpc>
              <a:spcBef>
                <a:spcPts val="799"/>
              </a:spcBef>
              <a:buClr>
                <a:srgbClr val="000073"/>
              </a:buClr>
              <a:buFont typeface="Arabic Typeset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73"/>
                </a:solidFill>
                <a:latin typeface="Arabic Typesetting"/>
                <a:cs typeface="Arabic Typesetting"/>
              </a:rPr>
              <a:t>يستطيع الطفل في هذه المرحلة أن يتسلق ويجري وينثني بمهارة فائقة </a:t>
            </a: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  <a:p>
            <a:pPr marL="20520" indent="-20520" algn="r" rtl="1">
              <a:lnSpc>
                <a:spcPct val="100000"/>
              </a:lnSpc>
              <a:spcBef>
                <a:spcPts val="799"/>
              </a:spcBef>
              <a:buClr>
                <a:srgbClr val="000073"/>
              </a:buClr>
              <a:buFont typeface="Arabic Typeset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73"/>
                </a:solidFill>
                <a:latin typeface="Arabic Typesetting"/>
                <a:cs typeface="Arabic Typesetting"/>
              </a:rPr>
              <a:t>يستطيع ارتداء ملابسه وربط حذائه والاستحمام بنفسه وتناول الطعام بمفرده</a:t>
            </a: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  <a:p>
            <a:pPr marL="20520" indent="-20520" algn="r" rtl="1">
              <a:lnSpc>
                <a:spcPct val="100000"/>
              </a:lnSpc>
              <a:spcBef>
                <a:spcPts val="799"/>
              </a:spcBef>
              <a:buClr>
                <a:srgbClr val="000073"/>
              </a:buClr>
              <a:buFont typeface="Arabic Typeset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73"/>
                </a:solidFill>
                <a:latin typeface="Arabic Typesetting"/>
                <a:cs typeface="Arabic Typesetting"/>
              </a:rPr>
              <a:t>يتمكن الطفل من السيطرة على الحركات الصغيرة بالتدريب </a:t>
            </a: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  <a:p>
            <a:pPr marL="20520" indent="-20520" algn="r" rtl="1">
              <a:lnSpc>
                <a:spcPct val="100000"/>
              </a:lnSpc>
              <a:spcBef>
                <a:spcPts val="799"/>
              </a:spcBef>
              <a:buClr>
                <a:srgbClr val="000073"/>
              </a:buClr>
              <a:buFont typeface="Arabic Typeset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73"/>
                </a:solidFill>
                <a:latin typeface="Arabic Typesetting"/>
                <a:cs typeface="Arabic Typesetting"/>
              </a:rPr>
              <a:t>يتلذذ الطفل بممارسة حواسه المختلفة </a:t>
            </a: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  <a:p>
            <a:pPr marL="20520" indent="-20520" algn="r" rtl="1">
              <a:lnSpc>
                <a:spcPct val="100000"/>
              </a:lnSpc>
              <a:spcBef>
                <a:spcPts val="799"/>
              </a:spcBef>
              <a:buClr>
                <a:srgbClr val="000073"/>
              </a:buClr>
              <a:buFont typeface="Arabic Typeset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73"/>
                </a:solidFill>
                <a:latin typeface="Arabic Typesetting"/>
                <a:cs typeface="Arabic Typesetting"/>
              </a:rPr>
              <a:t>يدرك العلاقات المكانية قبل الزمانية </a:t>
            </a: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  <a:p>
            <a:pPr marL="20520" indent="-20520" algn="r" rtl="1">
              <a:lnSpc>
                <a:spcPct val="100000"/>
              </a:lnSpc>
              <a:spcBef>
                <a:spcPts val="799"/>
              </a:spcBef>
              <a:buClr>
                <a:srgbClr val="000073"/>
              </a:buClr>
              <a:buFont typeface="Arabic Typeset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73"/>
                </a:solidFill>
                <a:latin typeface="Arabic Typesetting"/>
                <a:cs typeface="Arabic Typesetting"/>
              </a:rPr>
              <a:t>يدرك الطفل نواحي الاختلاف قبل التشابه </a:t>
            </a: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  <a:p>
            <a:pPr marL="20520" indent="-20520" algn="r" rtl="1">
              <a:lnSpc>
                <a:spcPct val="100000"/>
              </a:lnSpc>
              <a:spcBef>
                <a:spcPts val="799"/>
              </a:spcBef>
              <a:buClr>
                <a:srgbClr val="000073"/>
              </a:buClr>
              <a:buFont typeface="Arabic Typeset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73"/>
                </a:solidFill>
                <a:latin typeface="Arabic Typesetting"/>
                <a:cs typeface="Arabic Typesetting"/>
              </a:rPr>
              <a:t>يتطور في استخدام اليد اليمنى</a:t>
            </a: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900000" y="1628640"/>
            <a:ext cx="7010640" cy="48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lnSpc>
                <a:spcPct val="100000"/>
              </a:lnSpc>
              <a:spcBef>
                <a:spcPts val="799"/>
              </a:spcBef>
              <a:buClr>
                <a:srgbClr val="000073"/>
              </a:buClr>
              <a:buFont typeface="Arabic Typeset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73"/>
                </a:solidFill>
                <a:latin typeface="Arabic Typesetting"/>
                <a:cs typeface="Arabic Typesetting"/>
              </a:rPr>
              <a:t>يؤدي الطفل المهارات المطلوبة منه بدقه مستخدماً أجزاء جسمه </a:t>
            </a: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  <a:p>
            <a:pPr marL="308520" indent="-308520" algn="r" rtl="1">
              <a:lnSpc>
                <a:spcPct val="100000"/>
              </a:lnSpc>
              <a:spcBef>
                <a:spcPts val="799"/>
              </a:spcBef>
              <a:buClr>
                <a:srgbClr val="000073"/>
              </a:buClr>
              <a:buFont typeface="Arabic Typeset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73"/>
                </a:solidFill>
                <a:latin typeface="Arabic Typesetting"/>
                <a:cs typeface="Arabic Typesetting"/>
              </a:rPr>
              <a:t>يظهر الطفل التوافق بين أعضاء جسمه عند بلوغه الخامسة </a:t>
            </a: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  <a:p>
            <a:pPr marL="308520" indent="-308520" algn="r" rtl="1">
              <a:lnSpc>
                <a:spcPct val="100000"/>
              </a:lnSpc>
              <a:spcBef>
                <a:spcPts val="799"/>
              </a:spcBef>
              <a:buClr>
                <a:srgbClr val="000073"/>
              </a:buClr>
              <a:buFont typeface="Arabic Typeset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73"/>
                </a:solidFill>
                <a:latin typeface="Arabic Typesetting"/>
                <a:cs typeface="Arabic Typesetting"/>
              </a:rPr>
              <a:t>التمكن من إتقان المهارات الجسمية الكبيرة والدقيقة لليد والأطراف </a:t>
            </a: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  <a:p>
            <a:pPr marL="308520" indent="-308520" algn="r" rtl="1">
              <a:lnSpc>
                <a:spcPct val="100000"/>
              </a:lnSpc>
              <a:spcBef>
                <a:spcPts val="799"/>
              </a:spcBef>
              <a:buClr>
                <a:srgbClr val="000073"/>
              </a:buClr>
              <a:buFont typeface="Arabic Typeset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73"/>
                </a:solidFill>
                <a:latin typeface="Arabic Typesetting"/>
                <a:cs typeface="Arabic Typesetting"/>
              </a:rPr>
              <a:t>تمتاز حركات الطفل بالشدة وسرعة الاستجابة والتنوع </a:t>
            </a: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  <a:p>
            <a:pPr marL="308520" indent="-308520" algn="r" rtl="1">
              <a:lnSpc>
                <a:spcPct val="100000"/>
              </a:lnSpc>
              <a:spcBef>
                <a:spcPts val="799"/>
              </a:spcBef>
              <a:buClr>
                <a:srgbClr val="000073"/>
              </a:buClr>
              <a:buFont typeface="Arabic Typeset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73"/>
                </a:solidFill>
                <a:latin typeface="Arabic Typesetting"/>
                <a:cs typeface="Arabic Typesetting"/>
              </a:rPr>
              <a:t>التآزر بين العين واليد والعين مع الذراع يكون أكثر تطوراً وثباتاً</a:t>
            </a: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1908360" y="105228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00"/>
                </a:solidFill>
                <a:latin typeface="Arabic Typesetting"/>
                <a:cs typeface="Arabic Typesetting"/>
              </a:rPr>
              <a:t>المراحل الأساسية للنمو الحركي</a:t>
            </a:r>
            <a:endParaRPr b="0" lang="en-US" sz="44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066680" y="2209680"/>
            <a:ext cx="70106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499"/>
              </a:spcBef>
              <a:buClr>
                <a:srgbClr val="003472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472"/>
                </a:solidFill>
                <a:latin typeface="Arial Narrow"/>
              </a:rPr>
              <a:t>- مرحلة الحركة الانعكاسية </a:t>
            </a:r>
            <a:r>
              <a:rPr b="1" lang="en-US" sz="2000" spc="-1" strike="noStrike">
                <a:solidFill>
                  <a:srgbClr val="003472"/>
                </a:solidFill>
                <a:latin typeface="Arial Narrow"/>
              </a:rPr>
              <a:t>Reflexive Movement Phase</a:t>
            </a:r>
            <a:r>
              <a:rPr b="1" lang="ar-SA" sz="2000" spc="-1" strike="noStrike">
                <a:solidFill>
                  <a:srgbClr val="003472"/>
                </a:solidFill>
                <a:latin typeface="Arial Narrow"/>
              </a:rPr>
              <a:t> : </a:t>
            </a:r>
            <a:endParaRPr b="0" lang="en-US" sz="2000" spc="-1" strike="noStrike">
              <a:solidFill>
                <a:srgbClr val="0688c9"/>
              </a:solidFill>
              <a:latin typeface="Arial Narrow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3472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472"/>
                </a:solidFill>
                <a:latin typeface="Arial Narrow"/>
              </a:rPr>
              <a:t>من بداية التكوين حتى عمر سنة </a:t>
            </a:r>
            <a:endParaRPr b="0" lang="en-US" sz="2000" spc="-1" strike="noStrike">
              <a:solidFill>
                <a:srgbClr val="0688c9"/>
              </a:solidFill>
              <a:latin typeface="Arial Narrow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3472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472"/>
                </a:solidFill>
                <a:latin typeface="Arial Narrow"/>
              </a:rPr>
              <a:t>- مرحلة الحركات الأولية </a:t>
            </a:r>
            <a:r>
              <a:rPr b="1" lang="en-US" sz="2000" spc="-1" strike="noStrike">
                <a:solidFill>
                  <a:srgbClr val="003472"/>
                </a:solidFill>
                <a:latin typeface="Arial Narrow"/>
              </a:rPr>
              <a:t>Rudimentary Movement Phase</a:t>
            </a:r>
            <a:r>
              <a:rPr b="1" lang="ar-SA" sz="2000" spc="-1" strike="noStrike">
                <a:solidFill>
                  <a:srgbClr val="003472"/>
                </a:solidFill>
                <a:latin typeface="Arial Narrow"/>
              </a:rPr>
              <a:t>:</a:t>
            </a:r>
            <a:endParaRPr b="0" lang="en-US" sz="2000" spc="-1" strike="noStrike">
              <a:solidFill>
                <a:srgbClr val="0688c9"/>
              </a:solidFill>
              <a:latin typeface="Arial Narrow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3472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472"/>
                </a:solidFill>
                <a:latin typeface="Arial Narrow"/>
              </a:rPr>
              <a:t> السنتان الأوليتان من عمر الطفل .</a:t>
            </a:r>
            <a:endParaRPr b="0" lang="en-US" sz="2000" spc="-1" strike="noStrike">
              <a:solidFill>
                <a:srgbClr val="0688c9"/>
              </a:solidFill>
              <a:latin typeface="Arial Narrow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3472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472"/>
                </a:solidFill>
                <a:latin typeface="Arial Narrow"/>
              </a:rPr>
              <a:t>- مرحلة الحركات الأساسية </a:t>
            </a:r>
            <a:r>
              <a:rPr b="1" lang="en-US" sz="2000" spc="-1" strike="noStrike">
                <a:solidFill>
                  <a:srgbClr val="003472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3472"/>
                </a:solidFill>
                <a:latin typeface="Arial Narrow"/>
              </a:rPr>
              <a:t>Fundamental Movement Phase</a:t>
            </a:r>
            <a:r>
              <a:rPr b="1" lang="ar-SA" sz="2000" spc="-1" strike="noStrike">
                <a:solidFill>
                  <a:srgbClr val="003472"/>
                </a:solidFill>
                <a:latin typeface="Arial Narrow"/>
              </a:rPr>
              <a:t>: </a:t>
            </a:r>
            <a:endParaRPr b="0" lang="en-US" sz="2000" spc="-1" strike="noStrike">
              <a:solidFill>
                <a:srgbClr val="0688c9"/>
              </a:solidFill>
              <a:latin typeface="Arial Narrow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3472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472"/>
                </a:solidFill>
                <a:latin typeface="Arial Narrow"/>
              </a:rPr>
              <a:t>من سنتان حتى سبع سنوات .</a:t>
            </a:r>
            <a:endParaRPr b="0" lang="en-US" sz="2000" spc="-1" strike="noStrike">
              <a:solidFill>
                <a:srgbClr val="0688c9"/>
              </a:solidFill>
              <a:latin typeface="Arial Narrow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3472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472"/>
                </a:solidFill>
                <a:latin typeface="Arial Narrow"/>
              </a:rPr>
              <a:t>- مرحلة الحركات المتخصصة </a:t>
            </a:r>
            <a:r>
              <a:rPr b="1" lang="en-US" sz="2000" spc="-1" strike="noStrike">
                <a:solidFill>
                  <a:srgbClr val="003472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3472"/>
                </a:solidFill>
                <a:latin typeface="Arial Narrow"/>
              </a:rPr>
              <a:t>Specialized Movement Phase</a:t>
            </a:r>
            <a:r>
              <a:rPr b="1" lang="ar-SA" sz="2000" spc="-1" strike="noStrike">
                <a:solidFill>
                  <a:srgbClr val="003472"/>
                </a:solidFill>
                <a:latin typeface="Arial Narrow"/>
              </a:rPr>
              <a:t>: </a:t>
            </a:r>
            <a:endParaRPr b="0" lang="en-US" sz="2000" spc="-1" strike="noStrike">
              <a:solidFill>
                <a:srgbClr val="0688c9"/>
              </a:solidFill>
              <a:latin typeface="Arial Narrow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3472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472"/>
                </a:solidFill>
                <a:latin typeface="Arial Narrow"/>
              </a:rPr>
              <a:t>من سبع سنوات فأكثر .</a:t>
            </a:r>
            <a:endParaRPr b="0" lang="en-US" sz="2000" spc="-1" strike="noStrike">
              <a:solidFill>
                <a:srgbClr val="0688c9"/>
              </a:solidFill>
              <a:latin typeface="Arial Narrow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3472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688c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15640" y="162828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00"/>
                </a:solidFill>
                <a:latin typeface="Arial Narrow"/>
              </a:rPr>
              <a:t>القبعة الحمراء </a:t>
            </a:r>
            <a:endParaRPr b="0" lang="en-US" sz="44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71280" y="2565360"/>
            <a:ext cx="70102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1001"/>
              </a:spcBef>
              <a:buClr>
                <a:srgbClr val="0066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66cc"/>
                </a:solidFill>
                <a:latin typeface="Arial Narrow"/>
              </a:rPr>
              <a:t>المشاعر</a:t>
            </a:r>
            <a:endParaRPr b="0" lang="en-US" sz="4000" spc="-1" strike="noStrike">
              <a:solidFill>
                <a:srgbClr val="0688c9"/>
              </a:solidFill>
              <a:latin typeface="Arial Narrow"/>
            </a:endParaRPr>
          </a:p>
          <a:p>
            <a:pPr marL="343080" indent="-3430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688c9"/>
              </a:solidFill>
              <a:latin typeface="Arial Narrow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0066cc"/>
                </a:solidFill>
                <a:uFillTx/>
                <a:latin typeface="Arial Narrow"/>
              </a:rPr>
              <a:t>الحالة الانفعالية للطفل </a:t>
            </a:r>
            <a:endParaRPr b="0" lang="en-US" sz="2000" spc="-1" strike="noStrike">
              <a:solidFill>
                <a:srgbClr val="0688c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68000" y="2420640"/>
            <a:ext cx="7056360" cy="41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3472"/>
              </a:buClr>
              <a:buFont typeface="Arabic Typeset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472"/>
                </a:solidFill>
                <a:latin typeface="Arabic Typesetting"/>
                <a:cs typeface="Arabic Typesetting"/>
              </a:rPr>
              <a:t>انفعالات الطفل غير مستقرة ممكن تتغير خلال الموقف الواحد</a:t>
            </a: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3472"/>
              </a:buClr>
              <a:buFont typeface="Arabic Typeset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472"/>
                </a:solidFill>
                <a:latin typeface="Arabic Typesetting"/>
                <a:cs typeface="Arabic Typesetting"/>
              </a:rPr>
              <a:t>يستطيع الطفل تكوين علاقات اجتماعية مع أقرانه من خلال اللعب</a:t>
            </a: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3472"/>
              </a:buClr>
              <a:buFont typeface="Arabic Typeset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472"/>
                </a:solidFill>
                <a:latin typeface="Arabic Typesetting"/>
                <a:cs typeface="Arabic Typesetting"/>
              </a:rPr>
              <a:t>تظهر الفروق الفردية واضحة جدا بين الأطفال وتؤثر في أدائهم </a:t>
            </a: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000" y="12679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d0d0d"/>
                </a:solidFill>
                <a:latin typeface="Arial Narrow"/>
              </a:rPr>
              <a:t>القبعة السوداء </a:t>
            </a:r>
            <a:endParaRPr b="0" lang="en-US" sz="44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4000" y="2565360"/>
            <a:ext cx="70102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688c9"/>
                </a:solidFill>
                <a:latin typeface="Arial Narrow"/>
              </a:rPr>
              <a:t>السلبيات</a:t>
            </a: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688c9"/>
                </a:solidFill>
                <a:uFillTx/>
                <a:latin typeface="Arial Narrow"/>
              </a:rPr>
              <a:t>الأخطاء والمشاكل التي تواجه الطفل </a:t>
            </a:r>
            <a:r>
              <a:rPr b="0" lang="ar-SA" sz="3200" spc="-1" strike="noStrike">
                <a:solidFill>
                  <a:srgbClr val="0688c9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  <a:p>
            <a:pPr marL="343080" indent="-343080" algn="ctr" rtl="1">
              <a:spcBef>
                <a:spcPts val="799"/>
              </a:spcBef>
              <a:buClr>
                <a:srgbClr val="0688c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-973440" y="2637000"/>
            <a:ext cx="70102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3472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472"/>
                </a:solidFill>
                <a:latin typeface="Arial Narrow"/>
              </a:rPr>
              <a:t>الاهتمام بالجانب الحركي </a:t>
            </a: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3472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472"/>
                </a:solidFill>
                <a:latin typeface="Arial Narrow"/>
              </a:rPr>
              <a:t>البيئة الفقيرة </a:t>
            </a: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3472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472"/>
                </a:solidFill>
                <a:latin typeface="Arial Narrow"/>
              </a:rPr>
              <a:t>ضعف إعداد المعلمة </a:t>
            </a: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3472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عنوان 1" descr=""/>
          <p:cNvPicPr/>
          <p:nvPr/>
        </p:nvPicPr>
        <p:blipFill>
          <a:blip r:embed="rId1"/>
          <a:stretch/>
        </p:blipFill>
        <p:spPr>
          <a:xfrm>
            <a:off x="0" y="1414440"/>
            <a:ext cx="7010280" cy="12366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468000" y="2781360"/>
            <a:ext cx="70102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799"/>
              </a:spcBef>
              <a:buClr>
                <a:srgbClr val="0688c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688c9"/>
                </a:solidFill>
                <a:latin typeface="Arial Narrow"/>
              </a:rPr>
              <a:t>الايجابيات</a:t>
            </a: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688c9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-900360" y="2421000"/>
            <a:ext cx="70102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3472"/>
              </a:buClr>
              <a:buFont typeface="Arabic Typeset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472"/>
                </a:solidFill>
                <a:latin typeface="Arabic Typesetting"/>
                <a:cs typeface="Arabic Typesetting"/>
              </a:rPr>
              <a:t>إشباع حاجات الطفل </a:t>
            </a: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3472"/>
              </a:buClr>
              <a:buFont typeface="Arabic Typeset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472"/>
                </a:solidFill>
                <a:latin typeface="Arabic Typesetting"/>
                <a:cs typeface="Arabic Typesetting"/>
              </a:rPr>
              <a:t>التمكن من إتقان المهارات الحركية </a:t>
            </a: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3472"/>
              </a:buClr>
              <a:buFont typeface="Arabic Typeset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472"/>
                </a:solidFill>
                <a:latin typeface="Arabic Typesetting"/>
                <a:cs typeface="Arabic Typesetting"/>
              </a:rPr>
              <a:t>اكتساب المهارات الاجتماعية وتقبل الاخرين </a:t>
            </a: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3472"/>
              </a:buClr>
              <a:buFont typeface="Arabic Typeset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00000" y="836640"/>
            <a:ext cx="6870960" cy="9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af67ff"/>
                </a:solidFill>
                <a:uFillTx/>
                <a:latin typeface="Arial Narrow"/>
                <a:cs typeface="Traditional Arabic"/>
              </a:rPr>
              <a:t>مرحلة الطفولة المبكرة</a:t>
            </a:r>
            <a:endParaRPr b="0" lang="en-US" sz="44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900000" y="2204640"/>
            <a:ext cx="73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SzPct val="13374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Arial Narrow"/>
                <a:cs typeface="Traditional Arabic"/>
              </a:rPr>
              <a:t>يطلق بعضهم اسم مرحلة الطفولة المبكرة على مرحلة ما قبل المدرسة</a:t>
            </a:r>
            <a:endParaRPr b="0" lang="en-US" sz="2800" spc="-1" strike="noStrike">
              <a:solidFill>
                <a:srgbClr val="0688c9"/>
              </a:solidFill>
              <a:latin typeface="Arial Narrow"/>
            </a:endParaRPr>
          </a:p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SzPct val="13374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Arial Narrow"/>
                <a:cs typeface="Traditional Arabic"/>
              </a:rPr>
              <a:t>وتعد مرحلة الطفولة المبكرة مرحلة مهمة في حياة الطفل</a:t>
            </a:r>
            <a:endParaRPr b="0" lang="en-US" sz="2800" spc="-1" strike="noStrike">
              <a:solidFill>
                <a:srgbClr val="0688c9"/>
              </a:solidFill>
              <a:latin typeface="Arial Narrow"/>
            </a:endParaRPr>
          </a:p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SzPct val="13374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Arial Narrow"/>
                <a:cs typeface="Traditional Arabic"/>
              </a:rPr>
              <a:t>تعد هذه الفترة فترة نمو في جميع جوانب النمو، وتشهد هذه المرحلة مجموعة من التغيرات التي تطرأ على الطفل </a:t>
            </a:r>
            <a:endParaRPr b="0" lang="en-US" sz="2800" spc="-1" strike="noStrike">
              <a:solidFill>
                <a:srgbClr val="0688c9"/>
              </a:solidFill>
              <a:latin typeface="Arial Narrow"/>
            </a:endParaRPr>
          </a:p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SzPct val="13374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Arial Narrow"/>
                <a:ea typeface="Traditional Arabic"/>
              </a:rPr>
              <a:t> في هذه المرحلة يوجد اختلافات في شخصيات الأطفال حتى تصبح واضحة المعالم في نهاية المرحلة·</a:t>
            </a:r>
            <a:endParaRPr b="0" lang="en-US" sz="2800" spc="-1" strike="noStrike">
              <a:solidFill>
                <a:srgbClr val="0688c9"/>
              </a:solidFill>
              <a:latin typeface="Arial Narrow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360" y="162828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8000"/>
                </a:solidFill>
                <a:latin typeface="Arial Narrow"/>
              </a:rPr>
              <a:t>القبعة الخضراء </a:t>
            </a:r>
            <a:endParaRPr b="0" lang="en-US" sz="44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79280" y="3200400"/>
            <a:ext cx="70106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472"/>
                </a:solidFill>
                <a:latin typeface="Arial Narrow"/>
              </a:rPr>
              <a:t>الاقتراحات </a:t>
            </a: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472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عنصر نائب للمحتوى 4" descr=""/>
          <p:cNvPicPr/>
          <p:nvPr/>
        </p:nvPicPr>
        <p:blipFill>
          <a:blip r:embed="rId1"/>
          <a:stretch/>
        </p:blipFill>
        <p:spPr>
          <a:xfrm>
            <a:off x="1103400" y="1914480"/>
            <a:ext cx="70340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 Narrow"/>
              </a:rPr>
              <a:t>الخصائص التي تحكم نمو الطفل :</a:t>
            </a: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066320" y="2209680"/>
            <a:ext cx="4513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r" rtl="1">
              <a:spcBef>
                <a:spcPts val="799"/>
              </a:spcBef>
              <a:buClr>
                <a:srgbClr val="0688c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688c9"/>
                </a:solidFill>
                <a:latin typeface="Arial Narrow"/>
              </a:rPr>
              <a:t>النمو عملية متصلة </a:t>
            </a: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  <a:p>
            <a:pPr marL="318960" indent="-318960" algn="r" rtl="1">
              <a:spcBef>
                <a:spcPts val="799"/>
              </a:spcBef>
              <a:buClr>
                <a:srgbClr val="0688c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688c9"/>
                </a:solidFill>
                <a:latin typeface="Arial Narrow"/>
              </a:rPr>
              <a:t>النمو يختلف في معدلاته </a:t>
            </a: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  <a:p>
            <a:pPr marL="318960" indent="-318960" algn="r" rtl="1">
              <a:spcBef>
                <a:spcPts val="799"/>
              </a:spcBef>
              <a:buClr>
                <a:srgbClr val="0688c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688c9"/>
                </a:solidFill>
                <a:latin typeface="Arial Narrow"/>
              </a:rPr>
              <a:t>النمو عملية مترابطة شاملة </a:t>
            </a: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  <a:p>
            <a:pPr marL="318960" indent="-318960" algn="r" rtl="1">
              <a:spcBef>
                <a:spcPts val="799"/>
              </a:spcBef>
              <a:buClr>
                <a:srgbClr val="0688c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688c9"/>
                </a:solidFill>
                <a:latin typeface="Arial Narrow"/>
              </a:rPr>
              <a:t>النمو متماثل لدى كل الأطفال</a:t>
            </a: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  <a:p>
            <a:pPr marL="318960" indent="-318960" algn="r" rtl="1">
              <a:spcBef>
                <a:spcPts val="799"/>
              </a:spcBef>
              <a:buClr>
                <a:srgbClr val="0688c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688c9"/>
                </a:solidFill>
                <a:latin typeface="Arial Narrow"/>
              </a:rPr>
              <a:t>يتأثر بالبيئة والوراثة</a:t>
            </a: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عنصر نائب للمحتوى 3" descr=""/>
          <p:cNvPicPr/>
          <p:nvPr/>
        </p:nvPicPr>
        <p:blipFill>
          <a:blip r:embed="rId1"/>
          <a:stretch/>
        </p:blipFill>
        <p:spPr>
          <a:xfrm>
            <a:off x="0" y="1627200"/>
            <a:ext cx="70102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14126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688c9"/>
                </a:solidFill>
                <a:latin typeface="Arial Narrow"/>
              </a:rPr>
              <a:t>القبعة البيضاء </a:t>
            </a:r>
            <a:endParaRPr b="0" lang="en-US" sz="44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23640" y="2781360"/>
            <a:ext cx="70102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799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 Narrow"/>
              </a:rPr>
              <a:t>قبعة الحقائق والمعلومات </a:t>
            </a: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  <a:p>
            <a:pPr marL="343080" indent="-343080" algn="ctr" rtl="1">
              <a:spcBef>
                <a:spcPts val="799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  <a:p>
            <a:pPr marL="343080" indent="-343080" algn="ctr" rtl="1">
              <a:spcBef>
                <a:spcPts val="499"/>
              </a:spcBef>
              <a:buClr>
                <a:srgbClr val="00007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000073"/>
                </a:solidFill>
                <a:uFillTx/>
                <a:latin typeface="Arial Narrow"/>
              </a:rPr>
              <a:t>النمو الجسمي والحركي للطفل</a:t>
            </a:r>
            <a:endParaRPr b="0" lang="en-US" sz="2000" spc="-1" strike="noStrike">
              <a:solidFill>
                <a:srgbClr val="0688c9"/>
              </a:solidFill>
              <a:latin typeface="Arial Narrow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688c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أولاً: النمو الجسمي:</a:t>
            </a:r>
            <a:endParaRPr b="0" lang="en-US" sz="44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66680" y="2209680"/>
            <a:ext cx="70106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751"/>
              </a:spcBef>
              <a:buClr>
                <a:srgbClr val="0067e5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67e5"/>
                </a:solidFill>
                <a:latin typeface="Arial Narrow"/>
              </a:rPr>
              <a:t>اكتمال عدد الأسنان اللبنية، ثم تساقطها وبداية ظهور الأسنان الدائمة في نهاية المرحلة. </a:t>
            </a:r>
            <a:endParaRPr b="0" lang="en-US" sz="3000" spc="-1" strike="noStrike">
              <a:solidFill>
                <a:srgbClr val="0688c9"/>
              </a:solidFill>
              <a:latin typeface="Arial Narrow"/>
            </a:endParaRPr>
          </a:p>
          <a:p>
            <a:pPr marL="315360" indent="-315360" algn="r" rtl="1">
              <a:lnSpc>
                <a:spcPct val="90000"/>
              </a:lnSpc>
              <a:spcBef>
                <a:spcPts val="751"/>
              </a:spcBef>
              <a:buClr>
                <a:srgbClr val="0067e5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67e5"/>
                </a:solidFill>
                <a:latin typeface="Arial Narrow"/>
              </a:rPr>
              <a:t>ينمو الرأس بطيئاً ويصل في نهاية المرحلة إلى قريب من حجم رأس الراشد.</a:t>
            </a:r>
            <a:endParaRPr b="0" lang="en-US" sz="3000" spc="-1" strike="noStrike">
              <a:solidFill>
                <a:srgbClr val="0688c9"/>
              </a:solidFill>
              <a:latin typeface="Arial Narrow"/>
            </a:endParaRPr>
          </a:p>
          <a:p>
            <a:pPr marL="315360" indent="-315360" algn="r" rtl="1">
              <a:lnSpc>
                <a:spcPct val="90000"/>
              </a:lnSpc>
              <a:spcBef>
                <a:spcPts val="751"/>
              </a:spcBef>
              <a:buClr>
                <a:srgbClr val="0067e5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67e5"/>
                </a:solidFill>
                <a:latin typeface="Arial Narrow"/>
              </a:rPr>
              <a:t> يتأثر النمو بإمكانيات النمو لدى الطفل وفي نهاية السنة الثالثة يكون طول الطفل تقريباً </a:t>
            </a:r>
            <a:r>
              <a:rPr b="0" lang="ar-SA" sz="3000" spc="-1" strike="noStrike">
                <a:solidFill>
                  <a:srgbClr val="0067e5"/>
                </a:solidFill>
                <a:latin typeface="Arial Narrow"/>
              </a:rPr>
              <a:t>90</a:t>
            </a:r>
            <a:r>
              <a:rPr b="0" lang="ar-SA" sz="3000" spc="-1" strike="noStrike">
                <a:solidFill>
                  <a:srgbClr val="0067e5"/>
                </a:solidFill>
                <a:latin typeface="Arial Narrow"/>
              </a:rPr>
              <a:t> سم ويلاحظ أن الوزن يبرزه نمو الجذع واستطالة العظام خاصة الأطراف</a:t>
            </a:r>
            <a:endParaRPr b="0" lang="en-US" sz="3000" spc="-1" strike="noStrike">
              <a:solidFill>
                <a:srgbClr val="0688c9"/>
              </a:solidFill>
              <a:latin typeface="Arial Narrow"/>
            </a:endParaRPr>
          </a:p>
          <a:p>
            <a:pPr marL="315360" indent="-315360" algn="r" rtl="1">
              <a:lnSpc>
                <a:spcPct val="90000"/>
              </a:lnSpc>
              <a:spcBef>
                <a:spcPts val="751"/>
              </a:spcBef>
              <a:buClr>
                <a:srgbClr val="0067e5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688c9"/>
              </a:solidFill>
              <a:latin typeface="Arial Narrow"/>
            </a:endParaRPr>
          </a:p>
          <a:p>
            <a:pPr marL="315360" indent="-315360" algn="r" rtl="1">
              <a:lnSpc>
                <a:spcPct val="90000"/>
              </a:lnSpc>
              <a:spcBef>
                <a:spcPts val="751"/>
              </a:spcBef>
              <a:buClr>
                <a:srgbClr val="0067e5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688c9"/>
              </a:solidFill>
              <a:latin typeface="Arial Narrow"/>
            </a:endParaRPr>
          </a:p>
          <a:p>
            <a:pPr marL="315360" indent="-315360" algn="r" rtl="1">
              <a:lnSpc>
                <a:spcPct val="90000"/>
              </a:lnSpc>
              <a:spcBef>
                <a:spcPts val="751"/>
              </a:spcBef>
              <a:buClr>
                <a:srgbClr val="0067e5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688c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94920" y="1479600"/>
            <a:ext cx="7427880" cy="53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67e5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7e5"/>
                </a:solidFill>
                <a:latin typeface="Traditional Arabic"/>
                <a:cs typeface="Traditional Arabic"/>
              </a:rPr>
              <a:t>الحظ الأكبر في النمو للعضلات الكبيرة على حساب العضلات الصغيرة الدقيقة</a:t>
            </a: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67e5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7e5"/>
                </a:solidFill>
                <a:latin typeface="Traditional Arabic"/>
                <a:cs typeface="Traditional Arabic"/>
              </a:rPr>
              <a:t>يوجد فروق بين الجنسين في الوزن لصالح الذكور وتتميز الإناث بالنسيج الشحمي بينما يتميز الذكور بالنسيج العضلي.</a:t>
            </a: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67e5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7e5"/>
                </a:solidFill>
                <a:latin typeface="Traditional Arabic"/>
                <a:cs typeface="Traditional Arabic"/>
              </a:rPr>
              <a:t>يبدأ تكون صورة الجسم والوجه والتي لها تأثير على مفهوم الذات لدى الطفل ويحدد ذلك تعليقات الكبار</a:t>
            </a: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67e5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106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67e5"/>
                </a:solidFill>
                <a:latin typeface="Traditional Arabic"/>
                <a:cs typeface="Traditional Arabic"/>
              </a:rPr>
              <a:t>ثانيا: النمو الحركي: </a:t>
            </a:r>
            <a:endParaRPr b="0" lang="en-US" sz="44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66680" y="2209680"/>
            <a:ext cx="70106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67e5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7e5"/>
                </a:solidFill>
                <a:latin typeface="Traditional Arabic"/>
                <a:cs typeface="Traditional Arabic"/>
              </a:rPr>
              <a:t>تعتبر هذه المرحلة مرحلة النشاط الحركي المستمر.</a:t>
            </a: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67e5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7e5"/>
                </a:solidFill>
                <a:latin typeface="Traditional Arabic"/>
                <a:cs typeface="Traditional Arabic"/>
              </a:rPr>
              <a:t>في نهاية العام الرابع يبدأ أثر نمو العضلات الصغيرة في الحركات الدقيقة (التلوين، الكتابة، استخدام المقصات...)</a:t>
            </a: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67e5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5T16:16:14Z</dcterms:created>
  <dc:creator>USER</dc:creator>
  <dc:description/>
  <dc:language>en-US</dc:language>
  <cp:lastModifiedBy>Lama Aljathlan</cp:lastModifiedBy>
  <dcterms:modified xsi:type="dcterms:W3CDTF">2016-04-11T07:54:48Z</dcterms:modified>
  <cp:revision>117</cp:revision>
  <dc:subject/>
  <dc:title>عرض تقديمي في PowerPoint</dc:title>
</cp:coreProperties>
</file>