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65C1-5D8A-496C-8374-630A82FB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2361-0AB9-4A98-B761-1A8B22E4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78FC-F975-46B7-BC51-778C2BD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08E2-F381-4867-A074-EB90927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B877-261B-40F4-B685-2576C7DB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333F-E725-498B-80D4-0A1410AF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03C1-E3BD-4F67-BD38-735C79F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855-6CF7-4482-8D6F-266B76D4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1C96-F765-443C-B85F-26515EF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F824-E1DB-45AE-BEC9-414C1DA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D47A-9695-44BE-8F1C-5B8F6AC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639B-A670-4437-891E-8BD88E5A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686F-DBD5-4E64-AA58-8198260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5AE-50E7-48A7-9948-15A8BD06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3A5-3DF9-4563-AD92-67E27D9F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5464-71A6-4E8D-99E5-3D915998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B9E-B020-4A83-8D4F-9E974B5B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CA2DD-AFC2-4FBE-98CA-A490CD53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E191-5164-4C36-86E3-E87FDA8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538E-A3D0-4AA9-82B4-2574AEB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9CBF-DC59-43D7-959C-263A720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8BF9-FA8D-4B5D-B6F7-1E640BD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3FC5-6E5F-4B34-9923-E64A4A4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5D89-3B8F-4B94-9454-92C8A9E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6684-B1B8-45EF-9074-734B5EE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7DC4-75D2-4FF5-88BA-4CCE52ED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75AE-CDAD-4D2D-A580-96979A1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D8CA-413B-48CE-B050-B571AFB3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2551-3B82-4CC7-ADAB-0605F60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DE31-43A6-47B7-9FD3-B207FDE4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E341-1A99-4A76-B6DF-0314C6A7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8DD7-7164-4189-8C2B-96F83ACB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05CA-1D7A-42D2-93C5-57EE48F6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7456-147D-44E2-A3D2-479ED74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FF41-B57C-443B-B88B-CD7E11A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F55A-EE9A-4B90-95FB-F809B3C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8E15-63D3-48D6-B639-909C324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05A1-B068-4D67-84C4-6A302F8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450B-31C3-4706-B9BD-5AFF785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D58A-8981-4FD3-AFFC-1CCD4A7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0560-A6CA-4053-945D-4F152BB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E538-69D8-4267-A9D0-1204FB96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F5C7-90CF-41A0-90C9-B99A526F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4C9A-4257-4F87-8DF9-CD163A2A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38AE-DA50-4094-A323-4C9DA0A3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9F57-4887-454C-BA08-E7172C49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EBD6-D24E-4465-9B15-8B4FDFFA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1EE7-FDBE-4F8F-BEA1-8B15914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83EB-8F7B-4EE3-9D97-6A267CD5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D3CE-E642-4D59-9B53-257B695B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E91E-AB64-4882-8541-9F5C45D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170D-4B64-4E03-A48B-9416E4B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9DC2-9866-42B0-82B8-AE7A8B3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E8E3-E13C-4BAD-A34E-74563B5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7D5F-6A4B-45F2-9F12-FB5237B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1AC3-9955-4226-9AF0-F36F881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1D55-BDDF-49D4-879C-D81AF328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9C95-9861-46DD-8ABE-B26DC07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C423-B5DB-47B7-995D-5841E300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DA69-EFF8-4535-9518-88D36B7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" name="Picture 7" descr="Overlay-TitleSlide.png"/>
          <p:cNvPicPr/>
          <p:nvPr/>
        </p:nvPicPr>
        <p:blipFill>
          <a:blip r:embed="rId2"/>
          <a:stretch/>
        </p:blipFill>
        <p:spPr>
          <a:xfrm>
            <a:off x="158400" y="18756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EDE5710-2AC0-4B0F-A083-2F0F50F6393B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x-none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44" name="Picture 4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52A06AD-FF34-4C29-A191-FF60A5EF32C3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87" name="Picture 5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8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C677908-5BF3-4015-9631-A445CB4E3035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0" name="Picture 7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8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9400" y="182880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cond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ifth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D427EDE-76C6-4E5F-84F8-08CB864EB938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3" name="Picture 7" descr="Overlay-SectionHeader.png"/>
          <p:cNvPicPr/>
          <p:nvPr/>
        </p:nvPicPr>
        <p:blipFill>
          <a:blip r:embed="rId2"/>
          <a:stretch/>
        </p:blipFill>
        <p:spPr>
          <a:xfrm>
            <a:off x="158400" y="18756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2591280"/>
            <a:ext cx="7583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x-none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9400" y="3950280"/>
            <a:ext cx="75830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AADD79E-8FC1-4300-A82A-05942DC2FAB3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-768240" y="1845000"/>
            <a:ext cx="1067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6000" spc="-1" strike="noStrike">
                <a:solidFill>
                  <a:srgbClr val="ff9e40"/>
                </a:solidFill>
                <a:latin typeface="Trebuchet MS"/>
              </a:rPr>
              <a:t>الطفولة ومنظماته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ar-SA" sz="6000" spc="-1" strike="noStrike">
                <a:solidFill>
                  <a:srgbClr val="ff9e40"/>
                </a:solidFill>
                <a:latin typeface="Trebuchet MS"/>
              </a:rPr>
              <a:t>بين الحقوق والتنظيم الدو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أ. مها الحق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مربع نص 1"/>
          <p:cNvSpPr/>
          <p:nvPr/>
        </p:nvSpPr>
        <p:spPr>
          <a:xfrm>
            <a:off x="827640" y="1000080"/>
            <a:ext cx="7776360" cy="69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ظهرت الحاجة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إلى تمييز حقوق الطفل وتضمينها اتفاقية دولية خاصة ورجع ذلك للأ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نظرة التهميشية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هم أكثر فئات المجتمع تأثراً بالسياسات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يعتبرون من أكثر فئات المجتمع ضعف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أكثر الفئات عرضة للاستغل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هم الثروة البشرية للمجتم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إن حماية حقوق الأطفال هي أحد أركان القضاء على سلبية المجتمعات</a:t>
            </a:r>
            <a:r>
              <a:rPr b="1" lang="x-none" sz="1800" spc="-1" strike="noStrike">
                <a:solidFill>
                  <a:srgbClr val="000000"/>
                </a:solidFill>
                <a:latin typeface="Sakkal Majall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مربع نص 1"/>
          <p:cNvSpPr/>
          <p:nvPr/>
        </p:nvSpPr>
        <p:spPr>
          <a:xfrm>
            <a:off x="-16920" y="188640"/>
            <a:ext cx="8820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Sakkal Majalla"/>
                <a:cs typeface="Sakkal Majalla"/>
              </a:rPr>
              <a:t>أ</a:t>
            </a:r>
            <a:r>
              <a:rPr b="1" lang="ar-SA" sz="32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Sakkal Majalla"/>
                <a:cs typeface="Sakkal Majalla"/>
              </a:rPr>
              <a:t>همية منظمات الطفول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تعرف المنظمات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بأنها وحدات إدارية تشتمل على مجموعة من المبادئ العامة تسعى من خلالها لتحقيق الأهداف التي تكونت من أج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عناصر المنظ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عض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هيكل التنظ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اتص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قوان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نظام مفتوح أو مغلق مع البيئة المح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مربع نص 1"/>
          <p:cNvSpPr/>
          <p:nvPr/>
        </p:nvSpPr>
        <p:spPr>
          <a:xfrm>
            <a:off x="395640" y="332640"/>
            <a:ext cx="842472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تتلخص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أهمية المنظمات في المسؤولية الاجتماعي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المسؤولية الاجتماع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هي المسؤولية التي تحقق التوازن بين أهداف المنظمات وأهداف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وتتمثل المسؤولية الاجتماعية للمنظمة في عدة جوانب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لتزام والانضباط بقواعد وسلوكيات وعادات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خلق سلوك في المنظمة داعم للسلوكيات المجتمعية الإيجاب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صحيح السلوكيات الخاطئة والسلب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مربع نص 1"/>
          <p:cNvSpPr/>
          <p:nvPr/>
        </p:nvSpPr>
        <p:spPr>
          <a:xfrm>
            <a:off x="899640" y="476640"/>
            <a:ext cx="7605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ويقضي ذلك تخطيط برامج مختصة للعناية بالطفولة والأمو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و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أمثلة هذه البرامج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تقديم الاعانات المالية والمعنوية للأس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رعاية الأطفال ذوي الظروف الخاص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تحسين الظروف الاجتماعية للطف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الرعاية الصحية للطفل ( التغذية – التطعيم... الخ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3640" y="1340640"/>
            <a:ext cx="7679160" cy="204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hi-IN" sz="60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Trebuchet MS"/>
              </a:rPr>
              <a:t>أنواع المنظمات وتقسيماتها:</a:t>
            </a:r>
            <a:endParaRPr b="0" lang="x-none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3966840"/>
            <a:ext cx="67622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7640" y="62064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الحكوم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منظمات غير حكومية ( أهلية)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التي تربط الحكومات المختلفة 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ذات السلطات العليا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عام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متخصص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إقليم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محل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251640" y="908640"/>
            <a:ext cx="8352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الحكو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نشئها حكومات الدول باتفاق على اختصاصها ووسائل تمويلها فتقوم على نظام دولي تعترف به الدول وتصدر قرارات وتعقد معاهدات واتفاقيات 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     مثل : هيئة الأمم المتح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مربع نص 1"/>
          <p:cNvSpPr/>
          <p:nvPr/>
        </p:nvSpPr>
        <p:spPr>
          <a:xfrm>
            <a:off x="323640" y="692640"/>
            <a:ext cx="839916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2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م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نظمات غير حكومية (أهلية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تكون من أفراد أو هيئات أو جمعيات من دول وجنسيات مخت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مثل اهتماماتها بالنواحي الاجتماعية والثقافية والفنية والإنس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عتمد في تمويلها على اشتراكات الأعضاء والمساعدات المالية من المستفيدين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ا تصدر قرارات ملزمة لكنها تصدر آراء وتوصي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مربع نص 1"/>
          <p:cNvSpPr/>
          <p:nvPr/>
        </p:nvSpPr>
        <p:spPr>
          <a:xfrm>
            <a:off x="539640" y="1052640"/>
            <a:ext cx="828072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3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التي تربط الحكومات المختلف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تميز بأنها تنشأ بنية وقصد الدول للتقارب والتفاهم عن طريق اجتماعات دوري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ا تتميز باختصاصات مفر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ا تصدر قرارات ملزمة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أرائها وإصدار اقتراحات وتوصي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اليونسكو - اليونس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475640" y="4077000"/>
            <a:ext cx="1902600" cy="172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3636000" y="4077000"/>
            <a:ext cx="1855080" cy="17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755640" y="764640"/>
            <a:ext cx="777636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4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ذات السلطة العلي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ات التي لها الحق في أن تتدخل في سياسة الدول الأعضاء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هي مستقلة في علاقاتها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ها علاقات مباشرة بين المنظمة وبين الأفراد والمؤسسات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تصدر قراراتها بالأغلبية الملزمة لجميع الد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ل: المنظمة الاقتصادية الأورو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مربع نص 1"/>
          <p:cNvSpPr/>
          <p:nvPr/>
        </p:nvSpPr>
        <p:spPr>
          <a:xfrm>
            <a:off x="2339640" y="836640"/>
            <a:ext cx="612036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1" lang="hi-IN" sz="2400" spc="-1" strike="noStrike" u="sng">
                <a:solidFill>
                  <a:schemeClr val="accent4">
                    <a:lumMod val="75000"/>
                  </a:schemeClr>
                </a:solidFill>
                <a:uFillTx/>
                <a:latin typeface="Trebuchet MS"/>
              </a:rPr>
              <a:t>محاور المحاض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فهوم الطفولة</a:t>
            </a: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 التطور التاريخي لحقوق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حقوق البيئية والثقافية والتنموية ل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 أهمية منظمات الطفو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أنواع المنظمات وتقسيما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نشأة التنظيم الدولي وسم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هيئة الأمم المتحدة وعلاقتها بالمنظمات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1187640" y="836640"/>
            <a:ext cx="73443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5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ة العا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ة ذات الاختصاصات المتعددة الشاملة لكافة مظاهر العلاقات ال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مثل: هيئة الأمم المتح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195640" y="4149000"/>
            <a:ext cx="480024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683640" y="1052640"/>
            <a:ext cx="7416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6</a:t>
            </a: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. المنظمة المتخصص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هي المنظمة التي تهدف الى تحقيق أهداف مختصة بمجال مع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ل: منظمة الصح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3564000" y="4509000"/>
            <a:ext cx="2729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مربع نص 1"/>
          <p:cNvSpPr/>
          <p:nvPr/>
        </p:nvSpPr>
        <p:spPr>
          <a:xfrm>
            <a:off x="539640" y="836640"/>
            <a:ext cx="8064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ة الإقلي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ة التي تقتصر عضويتها على مجموعة من الدول التي تجمعها روابط مشتركة جغرافية أو ثقافية أو تاريخ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نشئها الدول لمجابهة ظروف معينة داخلية أو خار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 u="sng">
                <a:solidFill>
                  <a:srgbClr val="ff9e40"/>
                </a:solidFill>
                <a:uFillTx/>
                <a:latin typeface="Trebuchet MS"/>
              </a:rPr>
              <a:t>ويشترط لإعتراف هيئة الأمم المتحدة بالمنظمات الأقليمي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جاور الجغراف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سعي من أجل السلم والأ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عدم وجود تعارض بين مبادئ المنظمة الاقليمية ومبادئ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مربع نص 1"/>
          <p:cNvSpPr/>
          <p:nvPr/>
        </p:nvSpPr>
        <p:spPr>
          <a:xfrm>
            <a:off x="539640" y="980640"/>
            <a:ext cx="78483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8</a:t>
            </a: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. المنظمات المح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هي المنظمات التي تنشأ داخل دولة معينة يمكن أن تكون عامة أو خاصة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ال: جمعية النهضة النس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33920" y="3861000"/>
            <a:ext cx="2497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700640"/>
            <a:ext cx="7583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التنظيم الدولي</a:t>
            </a:r>
            <a:endParaRPr b="0" lang="x-none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400" y="3950280"/>
            <a:ext cx="75830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مربع نص 1"/>
          <p:cNvSpPr/>
          <p:nvPr/>
        </p:nvSpPr>
        <p:spPr>
          <a:xfrm>
            <a:off x="395640" y="404640"/>
            <a:ext cx="8208720" cy="72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chemeClr val="accent4">
                    <a:lumMod val="20000"/>
                    <a:lumOff val="80000"/>
                  </a:schemeClr>
                </a:solidFill>
                <a:uFillTx/>
                <a:latin typeface="Trebuchet MS"/>
              </a:rPr>
              <a:t>نشأة التنظيم الدولي وسمات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عد الأمم المتحدة نتاج تفاعلات دولية متصلة بدأت منذ القر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7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للميلاد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اتسمت بعدة مظاهر أهم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وجود الصراعات والحروب والتنافس السياسي بين الوحدات السياسية المختلفة خصوصا تلك القائمة على أساس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قد أوضحت كتب التاريخ الدبلوماسي أن كثرة الصراعات والحروب قد أدت ال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عقد العديد من المؤتمرات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ي سعت الى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إحلال السلام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بالتالي كان لها دور في تطوير وبلورة قواعد وأصول التنظيم الدول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مربع نص 1"/>
          <p:cNvSpPr/>
          <p:nvPr/>
        </p:nvSpPr>
        <p:spPr>
          <a:xfrm>
            <a:off x="666720" y="27720"/>
            <a:ext cx="7920360" cy="82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ff6600"/>
                </a:solidFill>
                <a:uFillTx/>
                <a:latin typeface="Trebuchet MS"/>
              </a:rPr>
              <a:t>ميلاد الأمم المتحد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بلورت فكرة الأمم المتحدة إثر عدة اجتماعات عقدت أثناء الحرب من أهمها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اجتماع واشنطن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الذي ضم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26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 متحا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لا ذلك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إعلان موسكو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الذي اتفق عليه وزراء خارجية كل من الاتحاد السوفيتي والولايات المتحدة وبريطانيا والصين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قد أوضح الإعلان تعهد الدول الأربعة ببذل الجهود لإنشاء منظمة دولية شاملة تقوم على أساس السيادة والمساواة بين كل الدول والمحبة للسلام وتكون مفتوحة العضوية لكافة الدول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من أجل الحفاظ على السلم والأمن الدولي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مربع نص 1"/>
          <p:cNvSpPr/>
          <p:nvPr/>
        </p:nvSpPr>
        <p:spPr>
          <a:xfrm>
            <a:off x="323640" y="692640"/>
            <a:ext cx="8208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دعت الولايات المتحدة الامريكية لعقد مشاورات في واشنطن وفي هذا اللقاء الذي شاركت فيه كل من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بريطانيا والصين والاتحاد السوفيتي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 تمت مناقشة صيغة مشروع الميثاق العتيد لهذه المنظمة ووضعت مسودة  له وزعت على الحلفاء في الحر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23640" y="3213000"/>
            <a:ext cx="4574160" cy="30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3640" y="76464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تم مناقشة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الصيغة المقترحة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لمسودة الميثاق من قبل الدول الأربعة الكبرى في مؤتمر سان فرانسيسكو والذي نجم عنه التوقيع على ميثاق الأمم المتحدة من قبلى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1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hi-IN" sz="2800" spc="-1" strike="noStrike" u="sng">
                <a:solidFill>
                  <a:schemeClr val="accent5">
                    <a:lumMod val="75000"/>
                  </a:schemeClr>
                </a:solidFill>
                <a:uFillTx/>
                <a:latin typeface="Trebuchet MS"/>
              </a:rPr>
              <a:t>معلنا بذلك ميلاد الأمم المتحدة المنظمة الدولية العالمية الطابع</a:t>
            </a:r>
            <a:r>
              <a:rPr b="1" lang="x-none" sz="2800" spc="-1" strike="noStrike" u="sng">
                <a:solidFill>
                  <a:schemeClr val="accent5">
                    <a:lumMod val="75000"/>
                  </a:schemeClr>
                </a:solidFill>
                <a:uFillTx/>
                <a:latin typeface="Trebuchet MS"/>
              </a:rPr>
              <a:t>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2771640" y="3141000"/>
            <a:ext cx="4104000" cy="287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مربع نص 1"/>
          <p:cNvSpPr/>
          <p:nvPr/>
        </p:nvSpPr>
        <p:spPr>
          <a:xfrm>
            <a:off x="251640" y="260640"/>
            <a:ext cx="8568720" cy="75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Trebuchet MS"/>
              </a:rPr>
              <a:t>منذ إنشائها أضحت الأمم المتحدة إطارا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ً مؤسسياً دائماً له ثقله الواضح على الساحة الدولية بسبب عدة مزايا هامة 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عالمية العضوية في 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بتعادها عن الهيمنة الأورو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تباعها لمبدأ الاقتراع العل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حترامها لمقتضيات الاجماع والأغل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متعها بمرو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هتمامها بكثير من الأمور الاقتصادية والاجتماعية والحض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عزيز المناداة بالعديد من المبادئ الأساسية في المجتمع الدولي لعل في مقدمتها حق تقرير مصير الدول وحقوق 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مربع نص 1"/>
          <p:cNvSpPr/>
          <p:nvPr/>
        </p:nvSpPr>
        <p:spPr>
          <a:xfrm>
            <a:off x="1547640" y="692640"/>
            <a:ext cx="6768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مربع نص 2"/>
          <p:cNvSpPr/>
          <p:nvPr/>
        </p:nvSpPr>
        <p:spPr>
          <a:xfrm>
            <a:off x="539640" y="476640"/>
            <a:ext cx="7992360" cy="74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سنوات الأولى هي سنوات تكوينية حاسمة في حياة الطفل و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لذا أولى التربويون الطفولة رعايتهم واهتمامهم نظرا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لثلاث عوام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طول فترة طفولة الوليد البش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همية تربية الطفل باعتباره رجل الغد وأمل المستق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ثال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نسبة العالية لعدد الأطفال بين سكان العالم فتحتل فئة الاطفال 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50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% من قاعدة الهرم السكا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مربع نص 1"/>
          <p:cNvSpPr/>
          <p:nvPr/>
        </p:nvSpPr>
        <p:spPr>
          <a:xfrm>
            <a:off x="467640" y="404640"/>
            <a:ext cx="8208720" cy="75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Trebuchet MS"/>
              </a:rPr>
              <a:t>وأكدت المادة الثانية من الميثاق على أن المبادئ التي تلزم الدول الأعضاء بالتقيد بها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مبدأ المساواة في السيادة بين الدول الأعض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تنفيذ ال</a:t>
            </a:r>
            <a:r>
              <a:rPr b="1" lang="ar-SA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التزامات بحسن 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حل المنازعات الدولية بالطرق السل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تحريم استخدام القوة أو التهديد بها في العلاقات ال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معاونة الأمم المتحدة فيما تتخذه من إجراء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تنظيم العلاقات مع الدول غير الأعضاء في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امتناع عن التدخل في المسائل التي تتعلق باختصاص الشؤون الداخلية للد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5400" spc="-1" strike="noStrike">
                <a:solidFill>
                  <a:srgbClr val="750001"/>
                </a:solidFill>
                <a:latin typeface="Trebuchet MS"/>
              </a:rPr>
              <a:t>هيـئة الأمم المتحدة</a:t>
            </a:r>
            <a:endParaRPr b="0" lang="x-none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1763640" y="1922760"/>
            <a:ext cx="5904360" cy="42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مربع نص 1"/>
          <p:cNvSpPr/>
          <p:nvPr/>
        </p:nvSpPr>
        <p:spPr>
          <a:xfrm>
            <a:off x="323640" y="404640"/>
            <a:ext cx="8568720" cy="61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600" spc="-1" strike="noStrike">
                <a:solidFill>
                  <a:srgbClr val="750001"/>
                </a:solidFill>
                <a:latin typeface="Trebuchet MS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ي منظمة عالمية تضم في عضويتها جميع دول العالم المستقلة تقريب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أسست منظمة الأمم المتحد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945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م في مدينة سان فرانسيسكو في ولاية كاليفورنيا الأمريك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قد ظهرت الأمم المتحدة  الى الوجو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بعد تصديق الدستور من قبل الأعضاء الدائ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الخمسة في مجلس الأمن وه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صين – فرنسا – الاتحاد السوفيتي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مملكة المتحدة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ولايات المتحدة الأمريك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قع المقر الرئيسي للأمم المتحدة في مدينة </a:t>
            </a: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نيويو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93840" y="5214600"/>
            <a:ext cx="1616400" cy="115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2061000"/>
            <a:ext cx="2262960" cy="288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467640" y="260640"/>
            <a:ext cx="828072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chemeClr val="accent4">
                    <a:lumMod val="75000"/>
                  </a:schemeClr>
                </a:solidFill>
                <a:uFillTx/>
                <a:latin typeface="Trebuchet MS"/>
              </a:rPr>
              <a:t>هيكلية الأمم المتح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400" spc="-1" strike="noStrike">
                <a:solidFill>
                  <a:srgbClr val="000000"/>
                </a:solidFill>
                <a:latin typeface="Trebuchet MS"/>
              </a:rPr>
              <a:t>إن نظام الأمم المتحدة يقوم على عمل متواصل لست أجهزة رئيسة تسمى بمجموعتها ”</a:t>
            </a:r>
            <a:r>
              <a:rPr b="1" lang="hi-IN" sz="2400" spc="-1" strike="noStrike">
                <a:solidFill>
                  <a:srgbClr val="ffffff"/>
                </a:solidFill>
                <a:latin typeface="Trebuchet MS"/>
              </a:rPr>
              <a:t>منظومة الأمم المتحدة</a:t>
            </a:r>
            <a:r>
              <a:rPr b="1" lang="x-none" sz="2400" spc="-1" strike="noStrike">
                <a:solidFill>
                  <a:srgbClr val="000000"/>
                </a:solidFill>
                <a:latin typeface="Trebuchet MS"/>
              </a:rPr>
              <a:t>“ وهي تتكون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7640" y="404640"/>
            <a:ext cx="719640" cy="71964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3" descr=""/>
          <p:cNvPicPr/>
          <p:nvPr/>
        </p:nvPicPr>
        <p:blipFill>
          <a:blip r:embed="rId2"/>
          <a:stretch/>
        </p:blipFill>
        <p:spPr>
          <a:xfrm>
            <a:off x="1187640" y="2205000"/>
            <a:ext cx="6840360" cy="379620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87640" y="332640"/>
            <a:ext cx="7416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١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جمعية العام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وتتكون من جميع الدول الأعض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 في الأمم المتحدة ولكل دولة صو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3200" spc="-1" strike="noStrike" u="sng">
                <a:solidFill>
                  <a:schemeClr val="accent4">
                    <a:lumMod val="60000"/>
                    <a:lumOff val="40000"/>
                  </a:schemeClr>
                </a:solidFill>
                <a:uFillTx/>
                <a:latin typeface="Trebuchet MS"/>
              </a:rPr>
              <a:t>وتضطلع بالمهام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ناقش المشكلات الد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عتمد ميزانية الأمم المتح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قرر قبول الأعضاء الج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عين الأمين العام وأعضاء الأجهزة ال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71960" y="946080"/>
            <a:ext cx="3163680" cy="20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323640" y="332640"/>
            <a:ext cx="828072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٢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عد مجلس الأمن أحد أهم أجهزة الأمم المتح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فعتبر المسئول عن حفظ السلام والأمن الدولي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مجلس الأمن سلطة قانونية على حكومات الدول الأعضاء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لذلك تعتبر قراراته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ملزمة للدول الأعض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55640" y="692640"/>
            <a:ext cx="465084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395640" y="1268640"/>
            <a:ext cx="8280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2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يتكون المجلس م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عضو منهم خمسة أعضاء دائمين هم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” الاتحاد الروسي ـ الصين ـ فرنسا ـ المملكة المتحدة ـ الولايات المتحد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هم حق النقض وهو ما يسمى </a:t>
            </a: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(حق الفيت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الأعضاء العشرة الآخرون تنتخبهم الجمعية العامة ليكونوا أعضاء غير دائمين في المجلس لفترات مدة كل منها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سنت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كل عضو من أعضاء المجلس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صوت واحد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خذ القرارات بشأن المسائل الإجرائية بموافق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من الأعضاء ال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076000" y="47664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تابع.. </a:t>
            </a: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مربع نص 1"/>
          <p:cNvSpPr/>
          <p:nvPr/>
        </p:nvSpPr>
        <p:spPr>
          <a:xfrm>
            <a:off x="395640" y="1268640"/>
            <a:ext cx="8280720" cy="61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طلب القرارات المتعلقة بالمسائل الموضوعية تأييد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أصوات من بينها أصوات كافة الأعضاء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الدائمين, وهذه القاعدة هي قاعد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”إجماع الدول الكبرى“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ي كثيرا ما تسمى حق </a:t>
            </a:r>
            <a:r>
              <a:rPr b="1" lang="x-none" sz="2800" spc="-1" strike="noStrike">
                <a:solidFill>
                  <a:srgbClr val="ff9e40"/>
                </a:solidFill>
                <a:latin typeface="Trebuchet MS"/>
              </a:rPr>
              <a:t>”الفيتو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والمجلس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و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جهاز الوحيد التابع للأمم المتحدة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ذي يتمتع بسلطة اتخاذ قرارات وتكون الدول ملزمة بتنفيذها بموجب الميثاق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أما الأجهزة الأخرى فإنها تقدم التوصيات الى الحكو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076000" y="47664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تابع.. </a:t>
            </a: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179640" y="404640"/>
            <a:ext cx="849672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٣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مجلس الاقتصادي والاجتماع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و أحد مجالس الأمم المتح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تكون م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4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 عض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نتخبهم الجمعية العامة لمد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سنو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جتمع مرتين في الس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أولى في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نيويورك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الثانية في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جن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 u="sng">
                <a:solidFill>
                  <a:schemeClr val="accent4">
                    <a:lumMod val="60000"/>
                    <a:lumOff val="40000"/>
                  </a:schemeClr>
                </a:solidFill>
                <a:uFillTx/>
                <a:latin typeface="Trebuchet MS"/>
              </a:rPr>
              <a:t>وتتحدد اختصاصاته في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كون مسئولاً عن نشاط الأمم المتحدة الاقتصادي والاجتما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عمل على زيادة الاحترام الواجب والصيانة اللازمة لحقوق الإنسان وحرياته الأسا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تشاور مع المنظمات غير الحكومية التي تعتني بالمسائل التي تهم المجل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556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ربع نص 1"/>
          <p:cNvSpPr/>
          <p:nvPr/>
        </p:nvSpPr>
        <p:spPr>
          <a:xfrm>
            <a:off x="755640" y="692640"/>
            <a:ext cx="77043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4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جلس الوصا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ظهر نظام الوصاية بعد قيام الأمم المتحدة ليطبق على الأقاليم غير المتمتعة بالحكم الذاتي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ا سيما الأقاليم التي كانت تخضع لدول المحور فأنشئ مجلس الوصاية بهد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رعاية مصالح شعوب تلك الأقال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والأخذ بيدها نحو الحكم الذ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والاستقل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827640" y="3357000"/>
            <a:ext cx="3590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ربع نص 1"/>
          <p:cNvSpPr/>
          <p:nvPr/>
        </p:nvSpPr>
        <p:spPr>
          <a:xfrm>
            <a:off x="467640" y="1052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1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لغو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طفل لغة هو الصبي ويشمل اللفظ الذكر والأنث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مربع نص 1"/>
          <p:cNvSpPr/>
          <p:nvPr/>
        </p:nvSpPr>
        <p:spPr>
          <a:xfrm>
            <a:off x="2627640" y="764640"/>
            <a:ext cx="56883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5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أمانة العام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000000"/>
                </a:solidFill>
                <a:latin typeface="Trebuchet MS"/>
              </a:rPr>
              <a:t>ويشغلها </a:t>
            </a:r>
            <a:r>
              <a:rPr b="1" lang="hi-IN" sz="32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الأمين الع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000000"/>
                </a:solidFill>
                <a:latin typeface="Trebuchet MS"/>
              </a:rPr>
              <a:t>ومهمتها</a:t>
            </a: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تنسيق بين الأجهزة والخدمات التي تقدمها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204000" y="4077000"/>
            <a:ext cx="3528000" cy="20552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Box 2"/>
          <p:cNvSpPr/>
          <p:nvPr/>
        </p:nvSpPr>
        <p:spPr>
          <a:xfrm>
            <a:off x="683640" y="530136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</a:rPr>
              <a:t>بان كي مون – كور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</a:rPr>
              <a:t>الأمين العام الح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مربع نص 1"/>
          <p:cNvSpPr/>
          <p:nvPr/>
        </p:nvSpPr>
        <p:spPr>
          <a:xfrm>
            <a:off x="179640" y="2997000"/>
            <a:ext cx="8712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هي الذراع القضائي الأساسي لمنظمة الأمم المتح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يقع مقرها في</a:t>
            </a:r>
            <a:r>
              <a:rPr b="1" lang="x-none" sz="2800" spc="-1" strike="noStrike">
                <a:solidFill>
                  <a:srgbClr val="660066"/>
                </a:solidFill>
                <a:latin typeface="Trebuchet MS"/>
              </a:rPr>
              <a:t> لاهاي بهولن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جهاز الوحيد من بين الأجهزة الستة للأمم المتحدة الذي لا يقع في نيويور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ولمحكمة العدل الدولية نشاط قضائي واسع ف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تنظر في القضايا التي تضعها الدول أمامها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كما تقدم الاستشارات القانونية للهيئات الدولية التي تطلب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699640" y="1052640"/>
            <a:ext cx="3684240" cy="2323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1991160" y="260640"/>
            <a:ext cx="531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٦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حكمة العدل الدول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Content Placeholder 3"/>
          <p:cNvGraphicFramePr/>
          <p:nvPr/>
        </p:nvGraphicFramePr>
        <p:xfrm>
          <a:off x="323640" y="260640"/>
          <a:ext cx="8496720" cy="8399160"/>
        </p:xfrm>
        <a:graphic>
          <a:graphicData uri="http://schemas.openxmlformats.org/drawingml/2006/table">
            <a:tbl>
              <a:tblPr/>
              <a:tblGrid>
                <a:gridCol w="5054040"/>
                <a:gridCol w="3442680"/>
              </a:tblGrid>
              <a:tr h="960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هيئة الأمم المتحدة ـ نشا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 w="9360">
                      <a:solidFill>
                        <a:srgbClr val="b7bec9"/>
                      </a:solidFill>
                    </a:lnR>
                    <a:lnT w="9360">
                      <a:solidFill>
                        <a:srgbClr val="b7bec9"/>
                      </a:solidFill>
                    </a:lnT>
                    <a:lnB w="38160">
                      <a:noFill/>
                    </a:lnB>
                    <a:solidFill>
                      <a:srgbClr val="0059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عمل على زيادة الاحترام الواجب والصيانة لحقوق الإ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أحد أهم الأجهزة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المسؤول عن السلام والأمن الدوليين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له سلطة قانون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رعاية مصالح الشعوب والأقاليم التي لا تملك حكم ذاتي والأخذ بيدها نحو الحكم الذاتي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1208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الذراع القضائي الأساسي 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الجهاز الوحيد الذي لا يقع في نيويورك. تقدم الاستشارات القانونية للهيئات الدول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640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تتكون من جميع الدول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من مهامها اعتماد ميزانية الأمم المتحدة وتعيين الأمين العام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شغلها الأمين ال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Content Placeholder 3"/>
          <p:cNvGraphicFramePr/>
          <p:nvPr/>
        </p:nvGraphicFramePr>
        <p:xfrm>
          <a:off x="323640" y="260640"/>
          <a:ext cx="8496720" cy="9194400"/>
        </p:xfrm>
        <a:graphic>
          <a:graphicData uri="http://schemas.openxmlformats.org/drawingml/2006/table">
            <a:tbl>
              <a:tblPr/>
              <a:tblGrid>
                <a:gridCol w="5054040"/>
                <a:gridCol w="3442680"/>
              </a:tblGrid>
              <a:tr h="960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هيئة الأمم المتحدة ـ نشا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 w="9360">
                      <a:solidFill>
                        <a:srgbClr val="b7bec9"/>
                      </a:solidFill>
                    </a:lnR>
                    <a:lnT w="9360">
                      <a:solidFill>
                        <a:srgbClr val="b7bec9"/>
                      </a:solidFill>
                    </a:lnT>
                    <a:lnB w="38160">
                      <a:noFill/>
                    </a:lnB>
                    <a:solidFill>
                      <a:srgbClr val="0059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عمل على زيادة الاحترام الواجب والصيانة لحقوق الإ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مجلس الاقتصادي والاجتماعي</a:t>
                      </a:r>
                      <a:r>
                        <a:rPr b="1" lang="en-US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أحد أهم الأجهزة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المسؤول عن السلام والأمن الدوليين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له سلطة قانون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جلس الأم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رعاية مصالح الشعوب والأقاليم التي لا تملك حكم ذاتي والأخذ بيدها نحو الحكم الذاتي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جلس الوصا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1208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الذراع القضائي الأساسي 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الجهاز الوحيد الذي لا يقع في نيويورك. تقدم الاستشارات القانونية للهيئات الدول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حكمة العدل الدول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640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تتكون من جميع الدول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من مهامها اعتماد ميزانية الأمم المتحدة وتعيين الأمين العام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جمعية العا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شغلها الأمين ال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أمانة العا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691640" y="1628640"/>
            <a:ext cx="540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4000" spc="-1" strike="noStrike">
                <a:solidFill>
                  <a:srgbClr val="ffffff"/>
                </a:solidFill>
                <a:latin typeface="Trebuchet MS"/>
              </a:rPr>
              <a:t>تم بحمد الله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403640" y="836640"/>
            <a:ext cx="6912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2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اسلا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دين الاسلامي يتعهد ويرعى الأطفال قبل ولادتهم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كي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ربع نص 1"/>
          <p:cNvSpPr/>
          <p:nvPr/>
        </p:nvSpPr>
        <p:spPr>
          <a:xfrm>
            <a:off x="755640" y="1989000"/>
            <a:ext cx="7776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تفاقية حقوق الطفل عرفت الطفل في المادة الأولى منها على أنه</a:t>
            </a: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” كل إنسان لم يتجاوز 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18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 مالم يبلغ الرشد قبل ذلك بموجب القانون المنطبق عليه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والطفل وفق معظم قوانين العالم المعمول بها هو كل من هو دون سن </a:t>
            </a:r>
            <a:r>
              <a:rPr b="0" lang="x-none" sz="2800" spc="-1" strike="noStrike" u="sng">
                <a:solidFill>
                  <a:srgbClr val="000000"/>
                </a:solidFill>
                <a:uFillTx/>
                <a:latin typeface="Sakkal Majalla"/>
              </a:rPr>
              <a:t>18</a:t>
            </a:r>
            <a:r>
              <a:rPr b="0" lang="x-none" sz="2800" spc="-1" strike="noStrike" u="sng">
                <a:solidFill>
                  <a:srgbClr val="000000"/>
                </a:solidFill>
                <a:uFillTx/>
                <a:latin typeface="Sakkal Majalla"/>
              </a:rPr>
              <a:t> ولهم حقوق متفق عليها هي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83440" y="620640"/>
            <a:ext cx="752076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x-none" sz="3600" spc="-1" strike="noStrike" u="sng">
                <a:solidFill>
                  <a:srgbClr val="ff0000"/>
                </a:solidFill>
                <a:uFillTx/>
                <a:latin typeface="Sakkal Majalla"/>
              </a:rPr>
              <a:t>3</a:t>
            </a:r>
            <a:r>
              <a:rPr b="1" lang="x-none" sz="36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قانوني:</a:t>
            </a:r>
            <a:br>
              <a:rPr sz="3600"/>
            </a:br>
            <a:endParaRPr b="0" lang="x-none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حقوق الطفل</a:t>
            </a:r>
            <a:r>
              <a:rPr b="0" lang="x-none" sz="4000" spc="-1" strike="noStrike" u="sng">
                <a:solidFill>
                  <a:srgbClr val="ff0000"/>
                </a:solidFill>
                <a:uFillTx/>
                <a:latin typeface="Sakkal Majalla"/>
              </a:rPr>
              <a:t>:</a:t>
            </a:r>
            <a:endParaRPr b="0" lang="x-none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568720" cy="45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لا يجوز تقديمهم للمحاكمة أو قبول شهادتهم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لا يجوز استخدامهم او إجبارهم على العمل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معظم قوانين العالم تلزم ذويهم بإرسالهم الى المدارس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لا يجوز تعريضهم للمعاملة القاسية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تركز معظم قوانين العالم على تحريم زج الاطفال بالصراعات العسكرية والاقتتال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 rtl="1">
              <a:lnSpc>
                <a:spcPct val="150000"/>
              </a:lnSpc>
              <a:spcBef>
                <a:spcPts val="2001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مربع نص 1"/>
          <p:cNvSpPr/>
          <p:nvPr/>
        </p:nvSpPr>
        <p:spPr>
          <a:xfrm>
            <a:off x="396720" y="620640"/>
            <a:ext cx="82807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4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نفس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تنقسم مراحل الطفولة من المنظور النفسي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المهد ” الرضاع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بدأ من نهاية مرحلة الوليد وتستمر حتى نهاية السنة الثا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2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” الطفولة المبكر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ن العام الثاني في حياة الطفل الى العام الساد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3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الطفولة المتأخ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هي المرحلة بين التاسعة والثانية عشر من العم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مربع نص 1"/>
          <p:cNvSpPr/>
          <p:nvPr/>
        </p:nvSpPr>
        <p:spPr>
          <a:xfrm>
            <a:off x="611640" y="692640"/>
            <a:ext cx="7992360" cy="68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chemeClr val="accent4"/>
                </a:solidFill>
                <a:uFillTx/>
                <a:latin typeface="Sakkal Majalla"/>
                <a:cs typeface="Sakkal Majalla"/>
              </a:rPr>
              <a:t>التطور التاريخي لحقوق الطف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عود الاهتمام الدولي في مجال توفير الحماية للأطفال الى بداية الثلاثينات من القرن العشرين وتحديدا بصدور ما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س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 “ إعلان جنيف لحقوق الطفل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لا هذه الخطوة خطوات عدة منذ إنشاء صندوق الدعامة الأساسية والرئيسية للمساعدة الدولية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مت الموافقة على أكثر من إعلان بشأن حقوق الطفل وفقاً لإعلان حقوق الطفل الصادر عن الجمعية العامة للأمم المتحدة عام 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volution.thmx</Template>
  <TotalTime>626</TotalTime>
  <Application>LibreOffice/7.4.7.2$Linux_X86_64 LibreOffice_project/40$Build-2</Application>
  <AppVersion>15.0000</AppVersion>
  <Words>2072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0:16:30Z</dcterms:created>
  <dc:creator>user1</dc:creator>
  <dc:description/>
  <dc:language>en-US</dc:language>
  <cp:lastModifiedBy>Maha</cp:lastModifiedBy>
  <dcterms:modified xsi:type="dcterms:W3CDTF">2016-10-04T06:14:56Z</dcterms:modified>
  <cp:revision>6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4</vt:r8>
  </property>
</Properties>
</file>