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606-993C-4052-8276-E8BEA1E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CEFB-0F76-491C-9A99-04D626A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17B8-9EEA-44EF-B6E5-078AB98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E150-CA56-422A-A0E9-8001881F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494-5CA5-495A-8D55-176753B6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6165-FDD4-418D-A754-6D1D976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9F34-213A-4AD9-8B16-6550CEE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C07-F5DB-4793-AE9B-7E8226FE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3B3A-3213-4FDF-B50E-D5A61D65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08BF-906D-4857-8981-FFCA573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E104-8DDA-48CE-92BC-831E8C9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764C-C975-450A-9C2E-790E1131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F7A-1F90-4911-A2AF-3A49C95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4EE-7546-4452-8246-9D58128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8D1-F170-4F64-85DB-242F993C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794C-23DE-445C-ADB0-B56DADEB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B46-0752-4A37-AD88-82FD6176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D205-7F3D-40EF-99F4-D80D84C3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66AF-3FB8-409E-B9E6-D420401E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1E2C-7761-40FA-B984-83771E7A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5CC4-E2A6-4BF5-8EC3-98F2CA84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0BCE-6C8B-40D8-B4CA-CBE8AABC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B5B8-CBF8-4907-A721-61699511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FC6F-49B2-4A21-B131-C3454933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D124-CA25-4357-93CB-927E142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7281-7E90-4400-9D77-68E574E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706E-2817-47C9-8AD9-CC4D707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89CD-0641-471B-98FE-0BF5CA60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F872-97B9-46DB-AEF9-EFF1FD48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0CAF-14A8-4F7F-96ED-147CC872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B5A5-EA40-4FAC-A21D-8FDEECA3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44E0-FC07-49B8-BE67-99DB475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743C-752B-42A8-BE9B-E33214AD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8E78-17A7-48E2-A365-770A9FE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FC5E-0502-4FDB-8BD1-B2303B9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086B-9684-4AE7-880E-CF5C2CA3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73CA-B93B-4422-9B9E-AA87EC29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5A7B-FF38-48C8-BD9A-62F002E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024C-0ACB-4870-B3FB-BE6A2C5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F2C9-8D65-409D-9A31-C42A047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A3BD-23C2-4ADF-AC33-E45B8C2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333C-7D00-4B49-BB55-C185BEB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332A-7EDA-43D1-A5DE-101D4D9A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5AA0-BBDB-4BC0-AC65-CA820A1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A157-7A6A-42F2-B9EB-D83B7F95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0BA5-4F40-4FF1-A783-C4EB98B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90A4-B164-4DBE-B073-9259CFA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1A9D1-0D0D-4DF6-89D3-384D000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21F7-5314-4C31-9A46-051BE9F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C2AC-C45F-45E0-92B9-61E3F117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03CA-5876-4F4F-870F-D3C30AD7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944C2-8151-487D-89E2-16A6F5E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7BB9-C8F1-4D4D-87B6-5C9BC8E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D18D-E6F1-4716-9D88-A3A1FF5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D44E-1B28-4C7F-B260-872DB59D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2492280"/>
            <a:ext cx="67622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B638-D8CB-4AB4-9ABE-4369247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81F6-A3E1-47EF-9374-DF3C85BD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DA13-6299-4E9D-825B-DAE328E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53A6-98EF-4BFD-BB92-E116238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9796-BE1F-4605-96CD-57DE44D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" name="Picture 7" descr="Overlay-TitleSlide.png"/>
          <p:cNvPicPr/>
          <p:nvPr/>
        </p:nvPicPr>
        <p:blipFill>
          <a:blip r:embed="rId2"/>
          <a:stretch/>
        </p:blipFill>
        <p:spPr>
          <a:xfrm>
            <a:off x="158400" y="18756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BB958D2-7199-4464-965A-B5262A314221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600200" y="2492280"/>
            <a:ext cx="67622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x-none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44" name="Picture 4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4FD8734-D9BF-4090-A4DE-04DD8C6EEE21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87" name="Picture 5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8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CE580C0-1738-43D0-9775-742E352C1239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0" name="Picture 7" descr="Overlay-ContentSlides.png"/>
          <p:cNvPicPr/>
          <p:nvPr/>
        </p:nvPicPr>
        <p:blipFill>
          <a:blip r:embed="rId2"/>
          <a:stretch/>
        </p:blipFill>
        <p:spPr>
          <a:xfrm>
            <a:off x="150840" y="18648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8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9400" y="182880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22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Second level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Third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ourth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</a:pPr>
            <a:r>
              <a:rPr b="0" lang="x-none" sz="1800" spc="-1" strike="noStrike">
                <a:solidFill>
                  <a:srgbClr val="ffffff"/>
                </a:solidFill>
                <a:latin typeface="Trebuchet MS"/>
              </a:rPr>
              <a:t>Fifth level</a:t>
            </a:r>
            <a:endParaRPr b="0" lang="x-none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5BD7A36-ADFA-439D-BAEE-976B1FA4E237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 Diagonal Corner Rectangle 7"/>
          <p:cNvSpPr/>
          <p:nvPr/>
        </p:nvSpPr>
        <p:spPr>
          <a:xfrm>
            <a:off x="189720" y="189720"/>
            <a:ext cx="8764200" cy="6478200"/>
          </a:xfrm>
          <a:prstGeom prst="round2DiagRect">
            <a:avLst>
              <a:gd name="adj1" fmla="val 9416"/>
              <a:gd name="adj2" fmla="val 0"/>
            </a:avLst>
          </a:prstGeom>
          <a:gradFill rotWithShape="0">
            <a:gsLst>
              <a:gs pos="17000">
                <a:srgbClr val="38abed"/>
              </a:gs>
              <a:gs pos="100000">
                <a:srgbClr val="1b3861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3" name="Picture 7" descr="Overlay-SectionHeader.png"/>
          <p:cNvPicPr/>
          <p:nvPr/>
        </p:nvPicPr>
        <p:blipFill>
          <a:blip r:embed="rId2"/>
          <a:stretch/>
        </p:blipFill>
        <p:spPr>
          <a:xfrm>
            <a:off x="158400" y="187560"/>
            <a:ext cx="8826840" cy="6482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2591280"/>
            <a:ext cx="7583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x-none" sz="4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x-none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9400" y="3950280"/>
            <a:ext cx="75830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80880" y="6288840"/>
            <a:ext cx="188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04440" y="6288840"/>
            <a:ext cx="5238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04560" y="219600"/>
            <a:ext cx="49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x-none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6FD6A1E-3CDF-47DA-B5D4-D953E41A7D8E}" type="slidenum">
              <a:rPr b="0" lang="x-none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-768240" y="1845000"/>
            <a:ext cx="1067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6000" spc="-1" strike="noStrike">
                <a:solidFill>
                  <a:srgbClr val="ff9e40"/>
                </a:solidFill>
                <a:latin typeface="Trebuchet MS"/>
              </a:rPr>
              <a:t>الطفولة ومنظماته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ar-SA" sz="6000" spc="-1" strike="noStrike">
                <a:solidFill>
                  <a:srgbClr val="ff9e40"/>
                </a:solidFill>
                <a:latin typeface="Trebuchet MS"/>
              </a:rPr>
              <a:t>بين الحقوق والتنظيم الدو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 أ. مها الحق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مربع نص 1"/>
          <p:cNvSpPr/>
          <p:nvPr/>
        </p:nvSpPr>
        <p:spPr>
          <a:xfrm>
            <a:off x="827640" y="1000080"/>
            <a:ext cx="7776360" cy="69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ظهرت الحاجة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إلى تمييز حقوق الطفل وتضمينها اتفاقية دولية خاصة ورجع ذلك للأ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نظرة التهميشية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هم أكثر فئات المجتمع تأثراً بالسياسات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يعتبرون من أكثر فئات المجتمع ضعف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أكثر الفئات عرضة للاستغل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الأطفال هم الثروة البشرية للمجتم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- إن حماية حقوق الأطفال هي أحد أركان القضاء على سلبية المجتمعات</a:t>
            </a:r>
            <a:r>
              <a:rPr b="1" lang="x-none" sz="1800" spc="-1" strike="noStrike">
                <a:solidFill>
                  <a:srgbClr val="000000"/>
                </a:solidFill>
                <a:latin typeface="Sakkal Majall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مربع نص 1"/>
          <p:cNvSpPr/>
          <p:nvPr/>
        </p:nvSpPr>
        <p:spPr>
          <a:xfrm>
            <a:off x="-16920" y="188640"/>
            <a:ext cx="8820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Sakkal Majalla"/>
                <a:cs typeface="Sakkal Majalla"/>
              </a:rPr>
              <a:t>أ</a:t>
            </a:r>
            <a:r>
              <a:rPr b="1" lang="ar-SA" sz="32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Sakkal Majalla"/>
                <a:cs typeface="Sakkal Majalla"/>
              </a:rPr>
              <a:t>همية منظمات الطفول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تعرف المنظمات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بأنها وحدات إدارية تشتمل على مجموعة من المبادئ العامة تسعى من خلالها لتحقيق الأهداف التي تكونت من أج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عناصر المنظ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عض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هيكل التنظ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اتص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قوان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نظام مفتوح أو مغلق مع البيئة المح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مربع نص 1"/>
          <p:cNvSpPr/>
          <p:nvPr/>
        </p:nvSpPr>
        <p:spPr>
          <a:xfrm>
            <a:off x="395640" y="332640"/>
            <a:ext cx="842472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تتلخص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أهمية المنظمات في المسؤولية الاجتماعي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المسؤولية الاجتماع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هي المسؤولية التي تحقق التوازن بين أهداف المنظمات وأهداف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وتتمثل المسؤولية الاجتماعية للمنظمة في عدة جوانب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لتزام والانضباط بقواعد وسلوكيات وعادات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خلق سلوك في المنظمة داعم للسلوكيات المجتمعية الإيجاب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صحيح السلوكيات الخاطئة والسلب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مربع نص 1"/>
          <p:cNvSpPr/>
          <p:nvPr/>
        </p:nvSpPr>
        <p:spPr>
          <a:xfrm>
            <a:off x="899640" y="476640"/>
            <a:ext cx="7605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ويقضي ذلك تخطيط برامج مختصة للعناية بالطفولة والأمو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و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أمثلة هذه البرامج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تقديم الاعانات المالية والمعنوية للأس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رعاية الأطفال ذوي الظروف الخاص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تحسين الظروف الاجتماعية للطف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- الرعاية الصحية للطفل ( التغذية – التطعيم... الخ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3640" y="1340640"/>
            <a:ext cx="7679160" cy="204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hi-IN" sz="60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Trebuchet MS"/>
              </a:rPr>
              <a:t>أنواع المنظمات وتقسيماتها:</a:t>
            </a:r>
            <a:endParaRPr b="0" lang="x-none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3966840"/>
            <a:ext cx="67622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7640" y="62064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الحكوم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منظمات غير حكومية ( أهلية)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التي تربط الحكومات المختلفة 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ات ذات السلطات العليا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عام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متخصص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إقليم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rebuchet MS"/>
              <a:buAutoNum type="arabicPeriod"/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منظمة المحلية</a:t>
            </a:r>
            <a:endParaRPr b="0" lang="x-none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251640" y="908640"/>
            <a:ext cx="8352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الحكو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نشئها حكومات الدول باتفاق على اختصاصها ووسائل تمويلها فتقوم على نظام دولي تعترف به الدول وتصدر قرارات وتعقد معاهدات واتفاقيات 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     مثل : هيئة الأمم المتح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مربع نص 1"/>
          <p:cNvSpPr/>
          <p:nvPr/>
        </p:nvSpPr>
        <p:spPr>
          <a:xfrm>
            <a:off x="323640" y="692640"/>
            <a:ext cx="839916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2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م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نظمات غير حكومية (أهلية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تكون من أفراد أو هيئات أو جمعيات من دول وجنسيات مخت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مثل اهتماماتها بالنواحي الاجتماعية والثقافية والفنية والإنس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عتمد في تمويلها على اشتراكات الأعضاء والمساعدات المالية من المستفيدين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ا تصدر قرارات ملزمة لكنها تصدر آراء وتوصي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مربع نص 1"/>
          <p:cNvSpPr/>
          <p:nvPr/>
        </p:nvSpPr>
        <p:spPr>
          <a:xfrm>
            <a:off x="539640" y="1052640"/>
            <a:ext cx="828072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3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التي تربط الحكومات المختلف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تميز بأنها تنشأ بنية وقصد الدول للتقارب والتفاهم عن طريق اجتماعات دوري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ا تتميز باختصاصات مفر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ا تصدر قرارات ملزمة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أرائها وإصدار اقتراحات وتوصي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اليونسكو - اليونس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475640" y="4077000"/>
            <a:ext cx="1902600" cy="172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3636000" y="4077000"/>
            <a:ext cx="1855080" cy="17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755640" y="764640"/>
            <a:ext cx="777636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4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ات ذات السلطة العلي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ات التي لها الحق في أن تتدخل في سياسة الدول الأعضاء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هي مستقلة في علاقاتها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ها علاقات مباشرة بين المنظمة وبين الأفراد والمؤسسات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تصدر قراراتها بالأغلبية الملزمة لجميع الد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4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ل: المنظمة الاقتصادية الأورو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مربع نص 1"/>
          <p:cNvSpPr/>
          <p:nvPr/>
        </p:nvSpPr>
        <p:spPr>
          <a:xfrm>
            <a:off x="2339640" y="836640"/>
            <a:ext cx="612036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1" lang="hi-IN" sz="2400" spc="-1" strike="noStrike" u="sng">
                <a:solidFill>
                  <a:schemeClr val="accent4">
                    <a:lumMod val="75000"/>
                  </a:schemeClr>
                </a:solidFill>
                <a:uFillTx/>
                <a:latin typeface="Trebuchet MS"/>
              </a:rPr>
              <a:t>محاور المحاض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فهوم الطفولة</a:t>
            </a: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 التطور التاريخي لحقوق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حقوق البيئية والثقافية والتنموية ل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2400" spc="-1" strike="noStrike">
                <a:solidFill>
                  <a:srgbClr val="000000"/>
                </a:solidFill>
                <a:latin typeface="Sakkal Majalla"/>
              </a:rPr>
              <a:t> أهمية منظمات الطفو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أنواع المنظمات وتقسيما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نشأة التنظيم الدولي وسم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Sakkal Majalla"/>
              </a:rPr>
              <a:t>هيئة الأمم المتحدة وعلاقتها بالمنظمات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1187640" y="836640"/>
            <a:ext cx="73443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5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ة العا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ة ذات الاختصاصات المتعددة الشاملة لكافة مظاهر العلاقات ال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ff9e40"/>
                </a:solidFill>
                <a:latin typeface="Trebuchet MS"/>
              </a:rPr>
              <a:t>مثل: هيئة الأمم المتح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195640" y="4149000"/>
            <a:ext cx="480024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683640" y="1052640"/>
            <a:ext cx="7416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6</a:t>
            </a: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. المنظمة المتخصص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هي المنظمة التي تهدف الى تحقيق أهداف مختصة بمجال مع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ل: منظمة الصح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3564000" y="4509000"/>
            <a:ext cx="2729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مربع نص 1"/>
          <p:cNvSpPr/>
          <p:nvPr/>
        </p:nvSpPr>
        <p:spPr>
          <a:xfrm>
            <a:off x="539640" y="836640"/>
            <a:ext cx="8064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المنظمة الإقلي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منظمة التي تقتصر عضويتها على مجموعة من الدول التي تجمعها روابط مشتركة جغرافية أو ثقافية أو تاريخ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نشئها الدول لمجابهة ظروف معينة داخلية أو خار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 u="sng">
                <a:solidFill>
                  <a:srgbClr val="ff9e40"/>
                </a:solidFill>
                <a:uFillTx/>
                <a:latin typeface="Trebuchet MS"/>
              </a:rPr>
              <a:t>ويشترط لإعتراف هيئة الأمم المتحدة بالمنظمات الأقليمي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جاور الجغراف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سعي من أجل السلم والأ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عدم وجود تعارض بين مبادئ المنظمة الاقليمية ومبادئ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مربع نص 1"/>
          <p:cNvSpPr/>
          <p:nvPr/>
        </p:nvSpPr>
        <p:spPr>
          <a:xfrm>
            <a:off x="539640" y="980640"/>
            <a:ext cx="78483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8</a:t>
            </a:r>
            <a:r>
              <a:rPr b="1" lang="x-none" sz="3200" spc="-1" strike="noStrike" u="sng">
                <a:solidFill>
                  <a:srgbClr val="ffffff"/>
                </a:solidFill>
                <a:uFillTx/>
                <a:latin typeface="Trebuchet MS"/>
              </a:rPr>
              <a:t>. المنظمات المح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هي المنظمات التي تنشأ داخل دولة معينة يمكن أن تكون عامة أو خاصة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مثال: جمعية النهضة النس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33920" y="3861000"/>
            <a:ext cx="2497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700640"/>
            <a:ext cx="7583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chemeClr val="accent2">
                    <a:lumMod val="75000"/>
                  </a:schemeClr>
                </a:solidFill>
                <a:latin typeface="Trebuchet MS"/>
              </a:rPr>
              <a:t>التنظيم الدولي</a:t>
            </a:r>
            <a:endParaRPr b="0" lang="x-none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400" y="3950280"/>
            <a:ext cx="75830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x-none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مربع نص 1"/>
          <p:cNvSpPr/>
          <p:nvPr/>
        </p:nvSpPr>
        <p:spPr>
          <a:xfrm>
            <a:off x="395640" y="404640"/>
            <a:ext cx="8208720" cy="72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chemeClr val="accent4">
                    <a:lumMod val="20000"/>
                    <a:lumOff val="80000"/>
                  </a:schemeClr>
                </a:solidFill>
                <a:uFillTx/>
                <a:latin typeface="Trebuchet MS"/>
              </a:rPr>
              <a:t>نشأة التنظيم الدولي وسمات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عد الأمم المتحدة نتاج تفاعلات دولية متصلة بدأت منذ القر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7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للميلاد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اتسمت بعدة مظاهر أهم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وجود الصراعات والحروب والتنافس السياسي بين الوحدات السياسية المختلفة خصوصا تلك القائمة على أساس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قد أوضحت كتب التاريخ الدبلوماسي أن كثرة الصراعات والحروب قد أدت ال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عقد العديد من المؤتمرات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ي سعت الى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إحلال السلام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بالتالي كان لها دور في تطوير وبلورة قواعد وأصول التنظيم الدول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مربع نص 1"/>
          <p:cNvSpPr/>
          <p:nvPr/>
        </p:nvSpPr>
        <p:spPr>
          <a:xfrm>
            <a:off x="666720" y="27720"/>
            <a:ext cx="7920360" cy="82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ff6600"/>
                </a:solidFill>
                <a:uFillTx/>
                <a:latin typeface="Trebuchet MS"/>
              </a:rPr>
              <a:t>ميلاد الأمم المتحد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بلورت فكرة الأمم المتحدة إثر عدة اجتماعات عقدت أثناء الحرب من أهمها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اجتماع واشنطن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الذي ضم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26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 متحا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تلا ذلك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إعلان موسكو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الذي اتفق عليه وزراء خارجية كل من الاتحاد السوفيتي والولايات المتحدة وبريطانيا والصين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قد أوضح الإعلان تعهد الدول الأربعة ببذل الجهود لإنشاء منظمة دولية شاملة تقوم على أساس السيادة والمساواة بين كل الدول والمحبة للسلام وتكون مفتوحة العضوية لكافة الدول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من أجل الحفاظ على السلم والأمن الدولي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مربع نص 1"/>
          <p:cNvSpPr/>
          <p:nvPr/>
        </p:nvSpPr>
        <p:spPr>
          <a:xfrm>
            <a:off x="323640" y="692640"/>
            <a:ext cx="8208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دعت الولايات المتحدة الامريكية لعقد مشاورات في واشنطن وفي هذا اللقاء الذي شاركت فيه كل من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بريطانيا والصين والاتحاد السوفيتي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 تمت مناقشة صيغة مشروع الميثاق العتيد لهذه المنظمة ووضعت مسودة  له وزعت على الحلفاء في الحر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23640" y="3213000"/>
            <a:ext cx="4574160" cy="30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3640" y="764640"/>
            <a:ext cx="7583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تم مناقشة </a:t>
            </a:r>
            <a:r>
              <a:rPr b="1" lang="hi-IN" sz="2800" spc="-1" strike="noStrike">
                <a:solidFill>
                  <a:srgbClr val="ffffff"/>
                </a:solidFill>
                <a:latin typeface="Trebuchet MS"/>
              </a:rPr>
              <a:t>الصيغة المقترحة </a:t>
            </a: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لمسودة الميثاق من قبل الدول الأربعة الكبرى في مؤتمر سان فرانسيسكو والذي نجم عنه التوقيع على ميثاق الأمم المتحدة من قبلى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1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hi-IN" sz="2800" spc="-1" strike="noStrike" u="sng">
                <a:solidFill>
                  <a:schemeClr val="accent5">
                    <a:lumMod val="75000"/>
                  </a:schemeClr>
                </a:solidFill>
                <a:uFillTx/>
                <a:latin typeface="Trebuchet MS"/>
              </a:rPr>
              <a:t>معلنا بذلك ميلاد الأمم المتحدة المنظمة الدولية العالمية الطابع</a:t>
            </a:r>
            <a:r>
              <a:rPr b="1" lang="x-none" sz="2800" spc="-1" strike="noStrike" u="sng">
                <a:solidFill>
                  <a:schemeClr val="accent5">
                    <a:lumMod val="75000"/>
                  </a:schemeClr>
                </a:solidFill>
                <a:uFillTx/>
                <a:latin typeface="Trebuchet MS"/>
              </a:rPr>
              <a:t>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2771640" y="3141000"/>
            <a:ext cx="4104000" cy="287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مربع نص 1"/>
          <p:cNvSpPr/>
          <p:nvPr/>
        </p:nvSpPr>
        <p:spPr>
          <a:xfrm>
            <a:off x="251640" y="260640"/>
            <a:ext cx="8568720" cy="75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Trebuchet MS"/>
              </a:rPr>
              <a:t>منذ إنشائها أضحت الأمم المتحدة إطارا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rebuchet MS"/>
              </a:rPr>
              <a:t>ً مؤسسياً دائماً له ثقله الواضح على الساحة الدولية بسبب عدة مزايا هامة 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عالمية العضوية في 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بتعادها عن الهيمنة الأورو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تباعها لمبدأ الاقتراع العل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حترامها لمقتضيات الاجماع والأغل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متعها بمرو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هتمامها بكثير من الأمور الاقتصادية والاجتماعية والحض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عزيز المناداة بالعديد من المبادئ الأساسية في المجتمع الدولي لعل في مقدمتها حق تقرير مصير الدول وحقوق 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مربع نص 1"/>
          <p:cNvSpPr/>
          <p:nvPr/>
        </p:nvSpPr>
        <p:spPr>
          <a:xfrm>
            <a:off x="1547640" y="692640"/>
            <a:ext cx="6768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مربع نص 2"/>
          <p:cNvSpPr/>
          <p:nvPr/>
        </p:nvSpPr>
        <p:spPr>
          <a:xfrm>
            <a:off x="539640" y="476640"/>
            <a:ext cx="7992360" cy="74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سنوات الأولى هي سنوات تكوينية حاسمة في حياة الطفل و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لذا أولى التربويون الطفولة رعايتهم واهتمامهم نظرا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لثلاث عوام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طول فترة طفولة الوليد البش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همية تربية الطفل باعتباره رجل الغد وأمل المستق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العامل الثال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نسبة العالية لعدد الأطفال بين سكان العالم فتحتل فئة الاطفال 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50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% من قاعدة الهرم السكا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مربع نص 1"/>
          <p:cNvSpPr/>
          <p:nvPr/>
        </p:nvSpPr>
        <p:spPr>
          <a:xfrm>
            <a:off x="467640" y="404640"/>
            <a:ext cx="8208720" cy="75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Trebuchet MS"/>
              </a:rPr>
              <a:t>وأكدت المادة الثانية من الميثاق على أن المبادئ التي تلزم الدول الأعضاء بالتقيد بها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مبدأ المساواة في السيادة بين الدول الأعض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تنفيذ ال</a:t>
            </a:r>
            <a:r>
              <a:rPr b="1" lang="ar-SA" sz="2800" spc="-1" strike="noStrike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التزامات بحسن 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حل المنازعات الدولية بالطرق السل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تحريم استخدام القوة أو التهديد بها في العلاقات الد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معاونة الأمم المتحدة فيما تتخذه من إجراء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8f46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8f4600"/>
                </a:solidFill>
                <a:latin typeface="Trebuchet MS"/>
              </a:rPr>
              <a:t>تنظيم العلاقات مع الدول غير الأعضاء في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امتناع عن التدخل في المسائل التي تتعلق باختصاص الشؤون الداخلية للد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5400" spc="-1" strike="noStrike">
                <a:solidFill>
                  <a:srgbClr val="750001"/>
                </a:solidFill>
                <a:latin typeface="Trebuchet MS"/>
              </a:rPr>
              <a:t>هيـئة الأمم المتحدة</a:t>
            </a:r>
            <a:endParaRPr b="0" lang="x-none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1763640" y="1922760"/>
            <a:ext cx="5904360" cy="42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مربع نص 1"/>
          <p:cNvSpPr/>
          <p:nvPr/>
        </p:nvSpPr>
        <p:spPr>
          <a:xfrm>
            <a:off x="323640" y="404640"/>
            <a:ext cx="8568720" cy="61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600" spc="-1" strike="noStrike">
                <a:solidFill>
                  <a:srgbClr val="750001"/>
                </a:solidFill>
                <a:latin typeface="Trebuchet MS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ي منظمة عالمية تضم في عضويتها جميع دول العالم المستقلة تقريب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أسست منظمة الأمم المتحد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945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م في مدينة سان فرانسيسكو في ولاية كاليفورنيا الأمريك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قد ظهرت الأمم المتحدة  الى الوجو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بعد تصديق الدستور من قبل الأعضاء الدائ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الخمسة في مجلس الأمن وه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صين – فرنسا – الاتحاد السوفيتي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مملكة المتحدة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ولايات المتحدة الأمريك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قع المقر الرئيسي للأمم المتحدة في مدينة </a:t>
            </a:r>
            <a:r>
              <a:rPr b="1" lang="ar-SA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نيويو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93840" y="5214600"/>
            <a:ext cx="1616400" cy="115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2061000"/>
            <a:ext cx="2262960" cy="288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467640" y="260640"/>
            <a:ext cx="828072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chemeClr val="accent4">
                    <a:lumMod val="75000"/>
                  </a:schemeClr>
                </a:solidFill>
                <a:uFillTx/>
                <a:latin typeface="Trebuchet MS"/>
              </a:rPr>
              <a:t>هيكلية الأمم المتح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400" spc="-1" strike="noStrike">
                <a:solidFill>
                  <a:srgbClr val="000000"/>
                </a:solidFill>
                <a:latin typeface="Trebuchet MS"/>
              </a:rPr>
              <a:t>إن نظام الأمم المتحدة يقوم على عمل متواصل لست أجهزة رئيسة تسمى بمجموعتها ”</a:t>
            </a:r>
            <a:r>
              <a:rPr b="1" lang="hi-IN" sz="2400" spc="-1" strike="noStrike">
                <a:solidFill>
                  <a:srgbClr val="ffffff"/>
                </a:solidFill>
                <a:latin typeface="Trebuchet MS"/>
              </a:rPr>
              <a:t>منظومة الأمم المتحدة</a:t>
            </a:r>
            <a:r>
              <a:rPr b="1" lang="x-none" sz="2400" spc="-1" strike="noStrike">
                <a:solidFill>
                  <a:srgbClr val="000000"/>
                </a:solidFill>
                <a:latin typeface="Trebuchet MS"/>
              </a:rPr>
              <a:t>“ وهي تتكون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7640" y="404640"/>
            <a:ext cx="719640" cy="71964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3" descr=""/>
          <p:cNvPicPr/>
          <p:nvPr/>
        </p:nvPicPr>
        <p:blipFill>
          <a:blip r:embed="rId2"/>
          <a:stretch/>
        </p:blipFill>
        <p:spPr>
          <a:xfrm>
            <a:off x="1187640" y="2205000"/>
            <a:ext cx="6840360" cy="379620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87640" y="332640"/>
            <a:ext cx="7416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١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جمعية العام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وتتكون من جميع الدول الأعض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 في الأمم المتحدة ولكل دولة صو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3200" spc="-1" strike="noStrike" u="sng">
                <a:solidFill>
                  <a:schemeClr val="accent4">
                    <a:lumMod val="60000"/>
                    <a:lumOff val="40000"/>
                  </a:schemeClr>
                </a:solidFill>
                <a:uFillTx/>
                <a:latin typeface="Trebuchet MS"/>
              </a:rPr>
              <a:t>وتضطلع بالمهام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ناقش المشكلات الد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عتمد ميزانية الأمم المتح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قرر قبول الأعضاء الج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ebuchet MS"/>
              </a:rPr>
              <a:t>تعين الأمين العام وأعضاء الأجهزة ال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71960" y="946080"/>
            <a:ext cx="3163680" cy="20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323640" y="332640"/>
            <a:ext cx="828072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٢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عد مجلس الأمن أحد أهم أجهزة الأمم المتح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فعتبر المسئول عن حفظ السلام والأمن الدولي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لمجلس الأمن سلطة قانونية على حكومات الدول الأعضاء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لذلك تعتبر قراراته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ملزمة للدول الأعض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55640" y="692640"/>
            <a:ext cx="465084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395640" y="1268640"/>
            <a:ext cx="8280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2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يتكون المجلس م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عضو منهم خمسة أعضاء دائمين هم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” الاتحاد الروسي ـ الصين ـ فرنسا ـ المملكة المتحدة ـ الولايات المتحد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هم حق النقض وهو ما يسمى </a:t>
            </a: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(حق الفيت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الأعضاء العشرة الآخرون تنتخبهم الجمعية العامة ليكونوا أعضاء غير دائمين في المجلس لفترات مدة كل منها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سنت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كل عضو من أعضاء المجلس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صوت واحد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خذ القرارات بشأن المسائل الإجرائية بموافق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من الأعضاء ال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1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076000" y="47664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تابع.. </a:t>
            </a: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مربع نص 1"/>
          <p:cNvSpPr/>
          <p:nvPr/>
        </p:nvSpPr>
        <p:spPr>
          <a:xfrm>
            <a:off x="395640" y="1268640"/>
            <a:ext cx="8280720" cy="61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تتطلب القرارات المتعلقة بالمسائل الموضوعية تأييد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أصوات من بينها أصوات كافة الأعضاء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الدائمين, وهذه القاعدة هي قاعد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x-none" sz="2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”إجماع الدول الكبرى“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تي كثيرا ما تسمى حق </a:t>
            </a:r>
            <a:r>
              <a:rPr b="1" lang="x-none" sz="2800" spc="-1" strike="noStrike">
                <a:solidFill>
                  <a:srgbClr val="ff9e40"/>
                </a:solidFill>
                <a:latin typeface="Trebuchet MS"/>
              </a:rPr>
              <a:t>”الفيتو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والمجلس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و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الجهاز الوحيد التابع للأمم المتحدة 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ذي يتمتع بسلطة اتخاذ قرارات وتكون الدول ملزمة بتنفيذها بموجب الميثاق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أما الأجهزة الأخرى فإنها تقدم التوصيات الى الحكو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076000" y="47664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تابع.. </a:t>
            </a: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مجلس الأ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179640" y="404640"/>
            <a:ext cx="849672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٣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مجلس الاقتصادي والاجتماع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هو أحد مجالس الأمم المتح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تكون من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54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دولة عض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تنتخبهم الجمعية العامة لمدة 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سنو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يجتمع مرتين في الس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الأولى في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نيويورك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والثانية في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جن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 u="sng">
                <a:solidFill>
                  <a:schemeClr val="accent4">
                    <a:lumMod val="60000"/>
                    <a:lumOff val="40000"/>
                  </a:schemeClr>
                </a:solidFill>
                <a:uFillTx/>
                <a:latin typeface="Trebuchet MS"/>
              </a:rPr>
              <a:t>وتتحدد اختصاصاته في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كون مسئولاً عن نشاط الأمم المتحدة الاقتصادي والاجتما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عمل على زيادة الاحترام الواجب والصيانة اللازمة لحقوق الإنسان وحرياته الأسا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يتشاور مع المنظمات غير الحكومية التي تعتني بالمسائل التي تهم المجل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556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ربع نص 1"/>
          <p:cNvSpPr/>
          <p:nvPr/>
        </p:nvSpPr>
        <p:spPr>
          <a:xfrm>
            <a:off x="755640" y="692640"/>
            <a:ext cx="77043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4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جلس الوصا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ظهر نظام الوصاية بعد قيام الأمم المتحدة ليطبق على الأقاليم غير المتمتعة بالحكم الذاتي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لا سيما الأقاليم التي كانت تخضع لدول المحور فأنشئ مجلس الوصاية بهد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رعاية مصالح شعوب تلك الأقال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والأخذ بيدها نحو الحكم الذ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والاستقل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827640" y="3357000"/>
            <a:ext cx="3590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ربع نص 1"/>
          <p:cNvSpPr/>
          <p:nvPr/>
        </p:nvSpPr>
        <p:spPr>
          <a:xfrm>
            <a:off x="467640" y="1052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1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لغو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طفل لغة هو الصبي ويشمل اللفظ الذكر والأنث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مربع نص 1"/>
          <p:cNvSpPr/>
          <p:nvPr/>
        </p:nvSpPr>
        <p:spPr>
          <a:xfrm>
            <a:off x="2627640" y="764640"/>
            <a:ext cx="56883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5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الأمانة العام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000000"/>
                </a:solidFill>
                <a:latin typeface="Trebuchet MS"/>
              </a:rPr>
              <a:t>ويشغلها </a:t>
            </a:r>
            <a:r>
              <a:rPr b="1" lang="hi-IN" sz="32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Trebuchet MS"/>
              </a:rPr>
              <a:t>الأمين الع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000000"/>
                </a:solidFill>
                <a:latin typeface="Trebuchet MS"/>
              </a:rPr>
              <a:t>ومهمتها</a:t>
            </a:r>
            <a:r>
              <a:rPr b="1" lang="x-none" sz="3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ffffff"/>
                </a:solidFill>
                <a:latin typeface="Trebuchet MS"/>
              </a:rPr>
              <a:t>التنسيق بين الأجهزة والخدمات التي تقدمها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204000" y="4077000"/>
            <a:ext cx="3528000" cy="20552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Box 2"/>
          <p:cNvSpPr/>
          <p:nvPr/>
        </p:nvSpPr>
        <p:spPr>
          <a:xfrm>
            <a:off x="683640" y="530136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</a:rPr>
              <a:t>بان كي مون – كور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</a:rPr>
              <a:t>الأمين العام الح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مربع نص 1"/>
          <p:cNvSpPr/>
          <p:nvPr/>
        </p:nvSpPr>
        <p:spPr>
          <a:xfrm>
            <a:off x="179640" y="2997000"/>
            <a:ext cx="8712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000000"/>
                </a:solidFill>
                <a:latin typeface="Trebuchet MS"/>
              </a:rPr>
              <a:t>وهي الذراع القضائي الأساسي لمنظمة الأمم المتحدة</a:t>
            </a: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يقع مقرها في</a:t>
            </a:r>
            <a:r>
              <a:rPr b="1" lang="x-none" sz="2800" spc="-1" strike="noStrike">
                <a:solidFill>
                  <a:srgbClr val="660066"/>
                </a:solidFill>
                <a:latin typeface="Trebuchet MS"/>
              </a:rPr>
              <a:t> لاهاي بهولن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rebuchet MS"/>
              </a:rPr>
              <a:t>وهي الجهاز الوحيد من بين الأجهزة الستة للأمم المتحدة الذي لا يقع في نيويور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Trebuchet MS"/>
              </a:rPr>
              <a:t>ولمحكمة العدل الدولية نشاط قضائي واسع ف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تنظر في القضايا التي تضعها الدول أمامها </a:t>
            </a:r>
            <a:r>
              <a:rPr b="1" lang="ar-SA" sz="2800" spc="-1" strike="noStrike">
                <a:solidFill>
                  <a:srgbClr val="ffffff"/>
                </a:solidFill>
                <a:latin typeface="Trebuchet MS"/>
              </a:rPr>
              <a:t>٬</a:t>
            </a:r>
            <a:r>
              <a:rPr b="1" lang="x-none" sz="2800" spc="-1" strike="noStrike">
                <a:solidFill>
                  <a:srgbClr val="ffffff"/>
                </a:solidFill>
                <a:latin typeface="Trebuchet MS"/>
              </a:rPr>
              <a:t> كما تقدم الاستشارات القانونية للهيئات الدولية التي تطلب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699640" y="1052640"/>
            <a:ext cx="3684240" cy="2323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1991160" y="260640"/>
            <a:ext cx="531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٦</a:t>
            </a:r>
            <a:r>
              <a:rPr b="1" lang="x-none" sz="3600" spc="-1" strike="noStrike" u="sng">
                <a:solidFill>
                  <a:schemeClr val="accent2">
                    <a:lumMod val="60000"/>
                    <a:lumOff val="40000"/>
                  </a:schemeClr>
                </a:solidFill>
                <a:uFillTx/>
                <a:latin typeface="Trebuchet MS"/>
              </a:rPr>
              <a:t>. محكمة العدل الدول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Content Placeholder 3"/>
          <p:cNvGraphicFramePr/>
          <p:nvPr/>
        </p:nvGraphicFramePr>
        <p:xfrm>
          <a:off x="323640" y="260640"/>
          <a:ext cx="8496720" cy="8399160"/>
        </p:xfrm>
        <a:graphic>
          <a:graphicData uri="http://schemas.openxmlformats.org/drawingml/2006/table">
            <a:tbl>
              <a:tblPr/>
              <a:tblGrid>
                <a:gridCol w="5054040"/>
                <a:gridCol w="3442680"/>
              </a:tblGrid>
              <a:tr h="960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هيئة الأمم المتحدة ـ نشا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 w="9360">
                      <a:solidFill>
                        <a:srgbClr val="b7bec9"/>
                      </a:solidFill>
                    </a:lnR>
                    <a:lnT w="9360">
                      <a:solidFill>
                        <a:srgbClr val="b7bec9"/>
                      </a:solidFill>
                    </a:lnT>
                    <a:lnB w="38160">
                      <a:noFill/>
                    </a:lnB>
                    <a:solidFill>
                      <a:srgbClr val="0059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عمل على زيادة الاحترام الواجب والصيانة لحقوق الإ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أحد أهم الأجهزة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المسؤول عن السلام والأمن الدوليين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له سلطة قانون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رعاية مصالح الشعوب والأقاليم التي لا تملك حكم ذاتي والأخذ بيدها نحو الحكم الذاتي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1208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الذراع القضائي الأساسي 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الجهاز الوحيد الذي لا يقع في نيويورك. تقدم الاستشارات القانونية للهيئات الدول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640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تتكون من جميع الدول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من مهامها اعتماد ميزانية الأمم المتحدة وتعيين الأمين العام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شغلها الأمين ال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؟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Content Placeholder 3"/>
          <p:cNvGraphicFramePr/>
          <p:nvPr/>
        </p:nvGraphicFramePr>
        <p:xfrm>
          <a:off x="323640" y="260640"/>
          <a:ext cx="8496720" cy="9194400"/>
        </p:xfrm>
        <a:graphic>
          <a:graphicData uri="http://schemas.openxmlformats.org/drawingml/2006/table">
            <a:tbl>
              <a:tblPr/>
              <a:tblGrid>
                <a:gridCol w="5054040"/>
                <a:gridCol w="3442680"/>
              </a:tblGrid>
              <a:tr h="960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هيئة الأمم المتحدة ـ نشا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 w="9360">
                      <a:solidFill>
                        <a:srgbClr val="b7bec9"/>
                      </a:solidFill>
                    </a:lnR>
                    <a:lnT w="9360">
                      <a:solidFill>
                        <a:srgbClr val="b7bec9"/>
                      </a:solidFill>
                    </a:lnT>
                    <a:lnB w="38160">
                      <a:noFill/>
                    </a:lnB>
                    <a:solidFill>
                      <a:srgbClr val="0059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عمل على زيادة الاحترام الواجب والصيانة لحقوق الإ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مجلس الاقتصادي والاجتماعي</a:t>
                      </a:r>
                      <a:r>
                        <a:rPr b="1" lang="en-US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أحد أهم الأجهزة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المسؤول عن السلام والأمن الدوليين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له سلطة قانون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جلس الأم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رعاية مصالح الشعوب والأقاليم التي لا تملك حكم ذاتي والأخذ بيدها نحو الحكم الذاتي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جلس الوصا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1208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الذراع القضائي الأساسي 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والجهاز الوحيد الذي لا يقع في نيويورك. تقدم الاستشارات القانونية للهيئات الدولية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محكمة العدل الدول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98c"/>
                    </a:solidFill>
                  </a:tcPr>
                </a:tc>
              </a:tr>
              <a:tr h="8640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تتكون من جميع الدول</a:t>
                      </a: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٬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 من مهامها اعتماد ميزانية الأمم المتحدة وتعيين الأمين العام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جمعية العا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يشغلها الأمين ال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7bec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ar-SA" sz="3200" spc="-1" strike="noStrike">
                          <a:solidFill>
                            <a:schemeClr val="accent4">
                              <a:lumMod val="60000"/>
                              <a:lumOff val="40000"/>
                            </a:schemeClr>
                          </a:solidFill>
                          <a:latin typeface="Trebuchet MS"/>
                        </a:rPr>
                        <a:t>الأمانة العا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7bec9"/>
                      </a:solidFill>
                    </a:lnR>
                    <a:lnT>
                      <a:noFill/>
                    </a:lnT>
                    <a:lnB w="9360">
                      <a:solidFill>
                        <a:srgbClr val="b7bec9"/>
                      </a:solidFill>
                    </a:lnB>
                    <a:solidFill>
                      <a:srgbClr val="0059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691640" y="1628640"/>
            <a:ext cx="540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4000" spc="-1" strike="noStrike">
                <a:solidFill>
                  <a:srgbClr val="ffffff"/>
                </a:solidFill>
                <a:latin typeface="Trebuchet MS"/>
              </a:rPr>
              <a:t>تم بحمد الله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403640" y="836640"/>
            <a:ext cx="6912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2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اسلا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دين الاسلامي يتعهد ويرعى الأطفال قبل ولادتهم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كي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ربع نص 1"/>
          <p:cNvSpPr/>
          <p:nvPr/>
        </p:nvSpPr>
        <p:spPr>
          <a:xfrm>
            <a:off x="755640" y="1989000"/>
            <a:ext cx="7776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تفاقية حقوق الطفل عرفت الطفل في المادة الأولى منها على أنه</a:t>
            </a:r>
            <a:r>
              <a:rPr b="0" lang="x-none" sz="2800" spc="-1" strike="noStrike">
                <a:solidFill>
                  <a:srgbClr val="000000"/>
                </a:solidFill>
                <a:latin typeface="Sakkal Majall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” كل إنسان لم يتجاوز 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18</a:t>
            </a: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 مالم يبلغ الرشد قبل ذلك بموجب القانون المنطبق عليه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والطفل وفق معظم قوانين العالم المعمول بها هو كل من هو دون سن </a:t>
            </a:r>
            <a:r>
              <a:rPr b="0" lang="x-none" sz="2800" spc="-1" strike="noStrike" u="sng">
                <a:solidFill>
                  <a:srgbClr val="000000"/>
                </a:solidFill>
                <a:uFillTx/>
                <a:latin typeface="Sakkal Majalla"/>
              </a:rPr>
              <a:t>18</a:t>
            </a:r>
            <a:r>
              <a:rPr b="0" lang="x-none" sz="2800" spc="-1" strike="noStrike" u="sng">
                <a:solidFill>
                  <a:srgbClr val="000000"/>
                </a:solidFill>
                <a:uFillTx/>
                <a:latin typeface="Sakkal Majalla"/>
              </a:rPr>
              <a:t> ولهم حقوق متفق عليها هي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83440" y="620640"/>
            <a:ext cx="752076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x-none" sz="3600" spc="-1" strike="noStrike" u="sng">
                <a:solidFill>
                  <a:srgbClr val="ff0000"/>
                </a:solidFill>
                <a:uFillTx/>
                <a:latin typeface="Sakkal Majalla"/>
              </a:rPr>
              <a:t>3</a:t>
            </a:r>
            <a:r>
              <a:rPr b="1" lang="x-none" sz="36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قانوني:</a:t>
            </a:r>
            <a:br>
              <a:rPr sz="3600"/>
            </a:br>
            <a:endParaRPr b="0" lang="x-none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0880"/>
            <a:ext cx="7583040" cy="10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حقوق الطفل</a:t>
            </a:r>
            <a:r>
              <a:rPr b="0" lang="x-none" sz="4000" spc="-1" strike="noStrike" u="sng">
                <a:solidFill>
                  <a:srgbClr val="ff0000"/>
                </a:solidFill>
                <a:uFillTx/>
                <a:latin typeface="Sakkal Majalla"/>
              </a:rPr>
              <a:t>:</a:t>
            </a:r>
            <a:endParaRPr b="0" lang="x-none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568720" cy="45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لا يجوز تقديمهم للمحاكمة أو قبول شهادتهم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لا يجوز استخدامهم او إجبارهم على العمل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معظم قوانين العالم تلزم ذويهم بإرسالهم الى المدارس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لا يجوز تعريضهم للمعاملة القاسية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marL="277560" indent="-277560" algn="r" rtl="1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AutoNum type="arabicPeriod"/>
            </a:pPr>
            <a:r>
              <a:rPr b="0" lang="x-none" sz="2800" spc="-1" strike="noStrike">
                <a:solidFill>
                  <a:srgbClr val="ffffff"/>
                </a:solidFill>
                <a:latin typeface="Sakkal Majalla"/>
              </a:rPr>
              <a:t> تركز معظم قوانين العالم على تحريم زج الاطفال بالصراعات العسكرية والاقتتال.</a:t>
            </a:r>
            <a:endParaRPr b="0" lang="x-none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 rtl="1">
              <a:lnSpc>
                <a:spcPct val="150000"/>
              </a:lnSpc>
              <a:spcBef>
                <a:spcPts val="2001"/>
              </a:spcBef>
              <a:buNone/>
            </a:pPr>
            <a:endParaRPr b="0" lang="x-none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مربع نص 1"/>
          <p:cNvSpPr/>
          <p:nvPr/>
        </p:nvSpPr>
        <p:spPr>
          <a:xfrm>
            <a:off x="396720" y="620640"/>
            <a:ext cx="82807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4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akkal Majalla"/>
              </a:rPr>
              <a:t>-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Sakkal Majalla"/>
                <a:cs typeface="Sakkal Majalla"/>
              </a:rPr>
              <a:t>مفهوم الطفولة من المنظور النفس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Sakkal Majalla"/>
                <a:cs typeface="Sakkal Majalla"/>
              </a:rPr>
              <a:t>تنقسم مراحل الطفولة من المنظور النفسي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المهد ” الرضاع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بدأ من نهاية مرحلة الوليد وتستمر حتى نهاية السنة الثا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2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” الطفولة المبكر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ن العام الثاني في حياة الطفل الى العام الساد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3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. </a:t>
            </a: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رحلة الطفولة المتأخ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هي المرحلة بين التاسعة والثانية عشر من العم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مربع نص 1"/>
          <p:cNvSpPr/>
          <p:nvPr/>
        </p:nvSpPr>
        <p:spPr>
          <a:xfrm>
            <a:off x="611640" y="692640"/>
            <a:ext cx="7992360" cy="68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chemeClr val="accent4"/>
                </a:solidFill>
                <a:uFillTx/>
                <a:latin typeface="Sakkal Majalla"/>
                <a:cs typeface="Sakkal Majalla"/>
              </a:rPr>
              <a:t>التطور التاريخي لحقوق الطف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عود الاهتمام الدولي في مجال توفير الحماية للأطفال الى بداية الثلاثينات من القرن العشرين وتحديدا بصدور ما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س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rgbClr val="000000"/>
                </a:solidFill>
                <a:latin typeface="Sakkal Majalla"/>
              </a:rPr>
              <a:t> “ إعلان جنيف لحقوق الطفل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لا هذه الخطوة خطوات عدة منذ إنشاء صندوق الدعامة الأساسية والرئيسية للمساعدة الدولية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مت الموافقة على أكثر من إعلان بشأن حقوق الطفل وفقاً لإعلان حقوق الطفل الصادر عن الجمعية العامة للأمم المتحدة عام </a:t>
            </a:r>
            <a:r>
              <a:rPr b="0" lang="x-none" sz="3200" spc="-1" strike="noStrike">
                <a:solidFill>
                  <a:srgbClr val="000000"/>
                </a:solidFill>
                <a:latin typeface="Sakkal Majalla"/>
              </a:rPr>
              <a:t>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Revolution">
  <a:themeElements>
    <a:clrScheme name="Revolution">
      <a:dk1>
        <a:srgbClr val="000000"/>
      </a:dk1>
      <a:lt1>
        <a:srgbClr val="ffffff"/>
      </a:lt1>
      <a:dk2>
        <a:srgbClr val="1b3861"/>
      </a:dk2>
      <a:lt2>
        <a:srgbClr val="38abed"/>
      </a:lt2>
      <a:accent1>
        <a:srgbClr val="0c5986"/>
      </a:accent1>
      <a:accent2>
        <a:srgbClr val="ddf53d"/>
      </a:accent2>
      <a:accent3>
        <a:srgbClr val="508709"/>
      </a:accent3>
      <a:accent4>
        <a:srgbClr val="bf5e00"/>
      </a:accent4>
      <a:accent5>
        <a:srgbClr val="9c0001"/>
      </a:accent5>
      <a:accent6>
        <a:srgbClr val="660075"/>
      </a:accent6>
      <a:hlink>
        <a:srgbClr val="abf24d"/>
      </a:hlink>
      <a:folHlink>
        <a:srgbClr val="a0e7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volution.thmx</Template>
  <TotalTime>626</TotalTime>
  <Application>LibreOffice/7.4.7.2$Linux_X86_64 LibreOffice_project/40$Build-2</Application>
  <AppVersion>15.0000</AppVersion>
  <Words>2072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0:16:30Z</dcterms:created>
  <dc:creator>user1</dc:creator>
  <dc:description/>
  <dc:language>en-US</dc:language>
  <cp:lastModifiedBy>Maha</cp:lastModifiedBy>
  <dcterms:modified xsi:type="dcterms:W3CDTF">2016-10-04T06:14:56Z</dcterms:modified>
  <cp:revision>6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4</vt:r8>
  </property>
</Properties>
</file>