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7B75-948A-4C3A-ABA4-8185080F9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6D40-DA0C-4F8D-B931-CDF7D225C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8CDE-03E5-4CEE-82C2-418FEEB61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D3BC-10D5-4958-8FBE-31ADB69C1B08}" type="slidenum">
              <a:rPr b="0" lang="en-US" sz="1200" spc="-1" strike="noStrike">
                <a:solidFill>
                  <a:srgbClr val="51484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84D1-E5D3-476E-AC26-A5743C329317}" type="slidenum">
              <a:rPr b="0" lang="en-US" sz="1200" spc="-1" strike="noStrike">
                <a:solidFill>
                  <a:srgbClr val="51484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513-68E0-43AF-9540-F7892540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527-B356-45D0-A2E7-C77564BC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A86-8E8A-4752-9114-B230EC10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ABE-CC17-45FC-94CC-2045D43B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896C-96AD-4046-BEF1-836C82A5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DDB1-C7B3-469D-9714-2E4C51C3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5D68-24F7-4683-9A1F-5A7B2ED0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441B-28CA-4A3C-A9A3-7AD39FF9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D9A5-63BD-40A4-9013-6508E03B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75E5-A382-4C93-9607-79FA8740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5D16-C310-4AAE-8B89-276A8806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85B-7DDC-4D7F-947D-6B5288AD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328B-DEE4-457F-A11E-228417FE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19F3-26BE-4AE8-8117-2794C864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F0DE-55B6-4382-8099-115125A8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FB36-2EE5-413D-A502-21B09DFE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9F15-2F8B-4318-A633-C530E38C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761-0A67-4C30-B247-3A95D951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64A-E289-4C2C-8C77-20FF63FC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BFA-361E-4C0B-A670-8FCA980E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4AD-06F7-480C-A696-AF060DD2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80A-9B9F-418A-9748-A472116E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4C5-5016-4FC2-A3EA-14EC5C88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E45-CA1C-4CA6-A90C-86A84B68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19E0-AE85-46AA-8CE1-22BC7C1ED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61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158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BF06-122C-4B01-BFAE-09E785E2D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Content Placeholder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94720" cy="3960720"/>
          </a:xfrm>
          <a:prstGeom prst="rect">
            <a:avLst/>
          </a:prstGeom>
          <a:ln w="0">
            <a:noFill/>
          </a:ln>
        </p:spPr>
      </p:pic>
      <p:sp>
        <p:nvSpPr>
          <p:cNvPr id="33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5BEA-9094-45DE-BF13-80BD3B543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companies operating internationally have more diverse and complex operating environments than those conduct business only at hom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12D2-1815-49F2-A683-E15615DBE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Need for International Busines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D1BE-F729-46BD-8030-DFCF7982F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Need for International Busines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06472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e and more firms around the world are going global, includ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facturing fir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companies (i.e. banks, insurance, consulting fi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, film, and music compan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Picture 4" descr="C:\Program Files\Common Files\Microsoft Shared\Clipart\cagcat50\bd05680_.wmf"/>
          <p:cNvPicPr/>
          <p:nvPr/>
        </p:nvPicPr>
        <p:blipFill>
          <a:blip r:embed="rId5"/>
          <a:stretch/>
        </p:blipFill>
        <p:spPr>
          <a:xfrm>
            <a:off x="6840360" y="4581360"/>
            <a:ext cx="2303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C8EB-07D5-477F-B9F3-8712F8291E41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864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Why Studying International Business is Important?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7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panies are either international or compete with international compan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ignificant differences exist in countries such 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Consumer tastes and prefere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Distribution chann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Culturally rooted value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Business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Legal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280" y="1123560"/>
            <a:ext cx="74790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y Studying International Business is Important?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95280" y="2349360"/>
            <a:ext cx="842472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se differences required that product features, product mix, marketing strategies and operating practices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re customized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o match conditions of a particular count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2C90-6D64-40FC-8D8D-28061947C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6FE5C105-FEE6-4364-A8D8-0970E1A1F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5880" y="836280"/>
            <a:ext cx="8213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ctors Contributing to Fast Growth of International Busines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in and expansion of techn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of services that support international busin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nsumer press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global compet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political situ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cross-national co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682A-ADF0-478F-A82A-3881FF3E4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228600" y="1905120"/>
            <a:ext cx="8686800" cy="449568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6600"/>
                </a:solidFill>
                <a:latin typeface="Times New Roman"/>
              </a:rPr>
              <a:t>What is International Business?</a:t>
            </a:r>
            <a:endParaRPr b="0" i="1" lang="en-US" sz="4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2349000"/>
            <a:ext cx="78501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nternational business: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commercial transactions between parties in two or more countries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transactions include the transfer of goods, services, technology, and capital to other countries, and involves exports and import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nternational Busines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0" name="Content Placeholder 3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742520" cy="432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95280" y="105264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 international business has many options for doing busines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t includ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porting and importing goods and service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ving license to produce goods in the host countr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rting a joint venture with a compan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ing a branch for producing &amp; distributing goods in the host countr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ing managerial services to companies in the host country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874A-6E69-4F86-8BA3-B69D86FDA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400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business is eith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overnmental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relationships conducted across political boundaries of the country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be f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rofi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non-profi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ent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mbine selling and buying goods/services across political boundaries of the country,  and it generally require to deal with multinational operations across national border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4174-515C-4FC9-A9AA-BEE909F73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B458077-6414-42AE-A50C-E1B48EF1A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Reasons That Firms Engage in International Business: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15328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. To expand sa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sson [Sweden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é [Switzerland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M [US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y [Japan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11" descr="j0222015"/>
          <p:cNvPicPr/>
          <p:nvPr/>
        </p:nvPicPr>
        <p:blipFill>
          <a:blip r:embed="rId1"/>
          <a:stretch/>
        </p:blipFill>
        <p:spPr>
          <a:xfrm>
            <a:off x="7086600" y="3886200"/>
            <a:ext cx="1398600" cy="1406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j0222019"/>
          <p:cNvPicPr/>
          <p:nvPr/>
        </p:nvPicPr>
        <p:blipFill>
          <a:blip r:embed="rId2"/>
          <a:stretch/>
        </p:blipFill>
        <p:spPr>
          <a:xfrm>
            <a:off x="7162920" y="2286000"/>
            <a:ext cx="1323720" cy="133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j0222021"/>
          <p:cNvPicPr/>
          <p:nvPr/>
        </p:nvPicPr>
        <p:blipFill>
          <a:blip r:embed="rId3"/>
          <a:stretch/>
        </p:blipFill>
        <p:spPr>
          <a:xfrm>
            <a:off x="5791320" y="3200400"/>
            <a:ext cx="1323720" cy="1330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j0222017"/>
          <p:cNvPicPr/>
          <p:nvPr/>
        </p:nvPicPr>
        <p:blipFill>
          <a:blip r:embed="rId4"/>
          <a:stretch/>
        </p:blipFill>
        <p:spPr>
          <a:xfrm>
            <a:off x="5715000" y="4800600"/>
            <a:ext cx="132408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0D44-392B-41B7-8895-EEDC51848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95640" y="2852640"/>
            <a:ext cx="5325840" cy="10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apter O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4360" y="4076640"/>
            <a:ext cx="7991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lobalization and International Busines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7FB9B95-E25A-4621-913F-E8193E86B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24720" cy="5834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 To acquire resourc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s compon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ca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To minimize risk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fy suppliers across count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ors’ advan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488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is International Business Management 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94920" y="184428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rnational Business Management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SzPct val="1028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management of business operations for an organization that conducts business in more than one countr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managemen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quires knowledge and ski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than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</a:rPr>
              <a:t>normal business expert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familiarity with the business regulations of the nations in which the organization operates, understanding of local customs and law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CDF7-E5D4-4055-8A01-114A4BD5B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089A81A-B5A4-4216-8649-664EBA118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nternational Business Managers Must Understand The Importance of:</a:t>
            </a:r>
            <a:br>
              <a:rPr sz="3600"/>
            </a:b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569080" cy="4608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 and international la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sc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olo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p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knowledgeable about the competitive dimensions of the international business environ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68000" y="214776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Business Managers should have the knowledge and the skills to manage and handl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ross-cultural proce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takeholders, the capability to conduct transactions that may involve multiple currencies and environments in a right w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657E-A2C1-4869-AB0E-532C3B303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nternational Business Manager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034DAA6-CFD4-4C4C-A68F-2BD4884F8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mplications/Conclusion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75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naging an international business differs from managing a domestic busines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because of 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untries and cultures are different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ternational business operations  are more  complex than domestic  operation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one country to another, a company’s  relative competitiveness will vary because of the differences in the local and foreign competitors that are present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</a:t>
            </a:r>
            <a:br>
              <a:rPr sz="4000"/>
            </a:b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4920" y="1844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ational dimension of management and business due main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become a major challeng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overn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stitu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ganiz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elps explain why the area of international management (IM) is becoming more important within the academic set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1DAE-3E77-42EC-A394-286CCC76E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D2F13AD-F2A1-410F-B67E-1B10C2AFB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400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6600"/>
                </a:solidFill>
                <a:uFillTx/>
                <a:latin typeface="Tahoma"/>
              </a:rPr>
              <a:t>Globalization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ngoing social, economic, and political process that extends the relationships and inter-dependencies amongst nations—their people, their firms, their organizations, and their govern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cc6600"/>
                </a:solidFill>
                <a:latin typeface="Tahoma"/>
              </a:rPr>
              <a:t>International business facilitates the </a:t>
            </a:r>
            <a:r>
              <a:rPr b="0" i="1" lang="en-US" sz="32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cc6600"/>
                </a:solidFill>
                <a:latin typeface="Tahoma"/>
              </a:rPr>
              <a:t>globalization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Globalization of Marke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Content Placeholder 5" descr=""/>
          <p:cNvPicPr/>
          <p:nvPr/>
        </p:nvPicPr>
        <p:blipFill>
          <a:blip r:embed="rId1"/>
          <a:stretch/>
        </p:blipFill>
        <p:spPr>
          <a:xfrm>
            <a:off x="822240" y="2133720"/>
            <a:ext cx="7499520" cy="3889080"/>
          </a:xfrm>
          <a:prstGeom prst="rect">
            <a:avLst/>
          </a:prstGeom>
          <a:ln w="0">
            <a:noFill/>
          </a:ln>
        </p:spPr>
      </p:pic>
      <p:sp>
        <p:nvSpPr>
          <p:cNvPr id="34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d8f88"/>
                </a:solidFill>
                <a:latin typeface="Times New Roman"/>
              </a:rPr>
              <a:t>Chapter 1-</a:t>
            </a:r>
            <a:fld id="{B6DBC5E3-A8F4-40C2-AF65-B8456062F35B}" type="slidenum">
              <a:rPr b="0" lang="en-US" sz="1400" spc="-1" strike="noStrike">
                <a:solidFill>
                  <a:srgbClr val="9d8f8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Globalization of Produc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6" name="Content Placeholder 5" descr=""/>
          <p:cNvPicPr/>
          <p:nvPr/>
        </p:nvPicPr>
        <p:blipFill>
          <a:blip r:embed="rId1"/>
          <a:stretch/>
        </p:blipFill>
        <p:spPr>
          <a:xfrm>
            <a:off x="822240" y="2133720"/>
            <a:ext cx="7547040" cy="432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orces Driving Globalization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chnological innova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"/>
          <p:cNvPicPr/>
          <p:nvPr/>
        </p:nvPicPr>
        <p:blipFill>
          <a:blip r:embed="rId1"/>
          <a:stretch/>
        </p:blipFill>
        <p:spPr>
          <a:xfrm>
            <a:off x="890640" y="2206800"/>
            <a:ext cx="7510320" cy="3670200"/>
          </a:xfrm>
          <a:prstGeom prst="rect">
            <a:avLst/>
          </a:prstGeom>
          <a:ln w="0">
            <a:noFill/>
          </a:ln>
        </p:spPr>
      </p:pic>
      <p:sp>
        <p:nvSpPr>
          <p:cNvPr id="349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d8f88"/>
                </a:solidFill>
                <a:latin typeface="Times New Roman"/>
              </a:rPr>
              <a:t>Chapter 1-</a:t>
            </a:r>
            <a:fld id="{2D644080-E1DC-4AB9-9F86-0630F8F6A7BF}" type="slidenum">
              <a:rPr b="0" lang="en-US" sz="1400" spc="-1" strike="noStrike">
                <a:solidFill>
                  <a:srgbClr val="9d8f8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1159"/>
          <p:cNvSpPr/>
          <p:nvPr/>
        </p:nvSpPr>
        <p:spPr>
          <a:xfrm>
            <a:off x="4857840" y="5334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Key Players in International Busines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2" name="Content Placeholder 3" descr=""/>
          <p:cNvPicPr/>
          <p:nvPr/>
        </p:nvPicPr>
        <p:blipFill>
          <a:blip r:embed="rId1"/>
          <a:stretch/>
        </p:blipFill>
        <p:spPr>
          <a:xfrm>
            <a:off x="822240" y="1700280"/>
            <a:ext cx="7510680" cy="466416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5"/>
          <p:cNvSpPr/>
          <p:nvPr/>
        </p:nvSpPr>
        <p:spPr>
          <a:xfrm>
            <a:off x="828720" y="1700280"/>
            <a:ext cx="7485120" cy="47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1280" y="930240"/>
            <a:ext cx="740736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0560" y="1699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way of doing business abroad may not be the same as the best way at home becaus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 company operates internationally, it will engag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d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business such as exporting and importing that vary from those in which it engages domestically and 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hysical, social, and competitive conditions vary among countries and affect the best ways to conduct busi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390C-09D8-4E7D-8A55-426285BC8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685800" y="762120"/>
            <a:ext cx="77724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Need for International Busine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9:58:44Z</dcterms:created>
  <dc:creator>FSU</dc:creator>
  <dc:description/>
  <dc:language>en-US</dc:language>
  <cp:lastModifiedBy>User</cp:lastModifiedBy>
  <dcterms:modified xsi:type="dcterms:W3CDTF">2017-02-19T04:57:59Z</dcterms:modified>
  <cp:revision>26</cp:revision>
  <dc:subject/>
  <dc:title>PowerPoint Presentation</dc:title>
</cp:coreProperties>
</file>