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A4A9-DF9C-4E8B-941D-270ED1A7E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1D77-6228-4E90-9A56-70C8257B6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7936-18B8-4649-BC0C-DEFF4943D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4AA9-4F85-4DBE-9E61-73FD4B2837A1}" type="slidenum">
              <a:rPr b="0" lang="en-US" sz="1200" spc="-1" strike="noStrike">
                <a:solidFill>
                  <a:srgbClr val="51484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830C-10FD-4DB0-9EF0-AF6209C01B19}" type="slidenum">
              <a:rPr b="0" lang="en-US" sz="1200" spc="-1" strike="noStrike">
                <a:solidFill>
                  <a:srgbClr val="51484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6E5-FD46-4545-B463-1E7B7004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91E-3C36-4B6F-BAAC-415D9A20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49C-25A4-4475-9330-74B7C727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7CF-529B-420C-B1F8-03B9B981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4738-51BB-40CE-90A8-C504660D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1B3E-7796-4758-80D5-FB02FFFE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1078-4D75-4897-82AF-459F600C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DA4F-0A4C-496D-8E43-302F4181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B6B3-75D9-4B8D-A8DE-46F0042F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030C-4C61-4E58-BFF0-1FC7F6A9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F9E6-AB23-49CE-8FCF-FC0D2092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F3A-CD3B-4E4E-8ADB-3FB74B08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EF5C-91D7-4B90-A53A-1C939CF7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1363-DDEF-436C-B374-EC945EEF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B74B-F5DB-4D98-810F-ADB360C8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F2E0-29CC-41B1-A163-F959587D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4C24-0A54-4AD4-834D-AAA24260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C2B-51A2-4440-AD71-D60771DB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5B8-869C-45EA-B9AE-728FD9DB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F41-E19E-4189-B75F-1D9F9945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83F3-12AF-426D-B8D4-E3C419F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3DF-3B46-4C57-ABF1-099594A4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D95-A4C4-4242-AF6B-E2F6CC56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4F1-8D48-4BC1-A3E7-FE90E521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4703-8698-40FF-8E0B-7F1897E18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61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158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E073-23D2-4DC7-9FB2-FF784D2C8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Content Placeholder 4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94720" cy="3960720"/>
          </a:xfrm>
          <a:prstGeom prst="rect">
            <a:avLst/>
          </a:prstGeom>
          <a:ln w="0">
            <a:noFill/>
          </a:ln>
        </p:spPr>
      </p:pic>
      <p:sp>
        <p:nvSpPr>
          <p:cNvPr id="33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F23D-70B2-45B1-8872-71017AF60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companies operating internationally have more diverse and complex operating environments than those conduct business only at hom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A8F1-8CB0-4756-BC93-1312F4580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Need for International Busines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3D36-DD75-4D4A-9463-B37684B25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Need for International Busines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06472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e and more firms around the world are going global, includ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facturing fir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companies (i.e. banks, insurance, consulting fi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, film, and music compan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Picture 4" descr="C:\Program Files\Common Files\Microsoft Shared\Clipart\cagcat50\bd05680_.wmf"/>
          <p:cNvPicPr/>
          <p:nvPr/>
        </p:nvPicPr>
        <p:blipFill>
          <a:blip r:embed="rId5"/>
          <a:stretch/>
        </p:blipFill>
        <p:spPr>
          <a:xfrm>
            <a:off x="6840360" y="4581360"/>
            <a:ext cx="2303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7AED-0CB2-44A5-95CD-30151AA7909D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864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Why Studying International Business is Important?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7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panies are either international or compete with international compan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ignificant differences exist in countries such 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Consumer tastes and preferen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Distribution channe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Culturally rooted value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Business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Legal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280" y="1123560"/>
            <a:ext cx="74790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y Studying International Business is Important?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95280" y="2349360"/>
            <a:ext cx="842472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se differences required that product features, product mix, marketing strategies and operating practices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re customized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o match conditions of a particular count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1F8A-84BC-49F4-A930-A10CB7502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C07BC15-61A7-4E20-9175-F9566D2E8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5880" y="836280"/>
            <a:ext cx="8213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ctors Contributing to Fast Growth of International Busines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in and expansion of techn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of services that support international busin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nsumer press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global compet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political situ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cross-national cooper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2C3D-0D87-463E-8863-8BD3983C4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228600" y="1905120"/>
            <a:ext cx="8686800" cy="449568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6600"/>
                </a:solidFill>
                <a:latin typeface="Times New Roman"/>
              </a:rPr>
              <a:t>What is International Business?</a:t>
            </a:r>
            <a:endParaRPr b="0" i="1" lang="en-US" sz="4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2349000"/>
            <a:ext cx="78501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International business: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commercial transactions between parties in two or more countries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transactions include the transfer of goods, services, technology, and capital to other countries, and involves exports and import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nternational Busines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0" name="Content Placeholder 3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742520" cy="432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95280" y="105264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 international business has many options for doing busines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t includ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porting and importing goods and service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ving license to produce goods in the host countr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rting a joint venture with a compan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ing a branch for producing &amp; distributing goods in the host countr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ing managerial services to companies in the host country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28E2-A425-41A5-A9AE-297322DD9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400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business is eith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overnmental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relationships conducted across political boundaries of the country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be for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rofi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non-profi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ent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ombine selling and buying goods/services across political boundaries of the country,  and it generally require to deal with multinational operations across national border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3CA6-A7B1-4460-B939-6ADC86560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E02D420-9D6D-4A01-8AFA-B145D8B75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Reasons That Firms Engage in International Business: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15328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. To expand sa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sson [Sweden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é [Switzerland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M [USA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y [Japan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8" name="Picture 11" descr="j0222015"/>
          <p:cNvPicPr/>
          <p:nvPr/>
        </p:nvPicPr>
        <p:blipFill>
          <a:blip r:embed="rId1"/>
          <a:stretch/>
        </p:blipFill>
        <p:spPr>
          <a:xfrm>
            <a:off x="7086600" y="3886200"/>
            <a:ext cx="1398600" cy="1406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j0222019"/>
          <p:cNvPicPr/>
          <p:nvPr/>
        </p:nvPicPr>
        <p:blipFill>
          <a:blip r:embed="rId2"/>
          <a:stretch/>
        </p:blipFill>
        <p:spPr>
          <a:xfrm>
            <a:off x="7162920" y="2286000"/>
            <a:ext cx="1323720" cy="133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j0222021"/>
          <p:cNvPicPr/>
          <p:nvPr/>
        </p:nvPicPr>
        <p:blipFill>
          <a:blip r:embed="rId3"/>
          <a:stretch/>
        </p:blipFill>
        <p:spPr>
          <a:xfrm>
            <a:off x="5791320" y="3200400"/>
            <a:ext cx="1323720" cy="1330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j0222017"/>
          <p:cNvPicPr/>
          <p:nvPr/>
        </p:nvPicPr>
        <p:blipFill>
          <a:blip r:embed="rId4"/>
          <a:stretch/>
        </p:blipFill>
        <p:spPr>
          <a:xfrm>
            <a:off x="5715000" y="4800600"/>
            <a:ext cx="132408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3790-AB6D-4055-B8CA-170F79DAF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95640" y="2852640"/>
            <a:ext cx="5325840" cy="10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apter O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4360" y="4076640"/>
            <a:ext cx="7991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lobalization and International Busines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A586725-0993-43FE-BA36-AEA74ABA8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 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24720" cy="5834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 To acquire resource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s compon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ca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To minimize risk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fy suppliers across count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ors’ advan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488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is International Business Management 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94920" y="184428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rnational Business Management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SzPct val="1028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management of business operations for an organization that conducts business in more than one countr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managemen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quires knowledge and ski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than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</a:rPr>
              <a:t>normal business experti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as familiarity with the business regulations of the nations in which the organization operates, understanding of local customs and law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039E-4E0B-40B8-99A7-DA57E0F79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CC82EC7-D6B5-4C50-AE4D-68A5BC276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nternational Business Managers Must Understand The Importance of:</a:t>
            </a:r>
            <a:br>
              <a:rPr sz="3600"/>
            </a:b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569080" cy="4608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 and international la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sc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olo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ph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knowledgeable about the competitive dimensions of the international business environ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68000" y="214776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Business Managers should have the knowledge and the skills to manage and handl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ross-cultural proces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takeholders, the capability to conduct transactions that may involve multiple currencies and environments in a right w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233D-3497-4FDF-8DC6-F67F636B4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nternational Business Manager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51715C2-6062-4631-95BA-8C2208A13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mplications/Conclusion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751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naging an international business differs from managing a domestic business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because of 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ountries and cultures are different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ternational business operations  are more  complex than domestic  operation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 one country to another, a company’s  relative competitiveness will vary because of the differences in the local and foreign competitors that are present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</a:t>
            </a:r>
            <a:br>
              <a:rPr sz="4000"/>
            </a:b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4920" y="184464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ational dimension of management and business due main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become a major challeng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overn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stitu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ganiz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helps explain why the area of international management (IM) is becoming more important within the academic set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3B51-54F6-48C9-B277-6A44F457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0CAD301A-8581-4B7F-A578-CB65951D1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07280" cy="5400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6600"/>
                </a:solidFill>
                <a:uFillTx/>
                <a:latin typeface="Tahoma"/>
              </a:rPr>
              <a:t>Globalization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ngoing social, economic, and political process that extends the relationships and inter-dependencies amongst nations—their people, their firms, their organizations, and their govern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cc6600"/>
                </a:solidFill>
                <a:latin typeface="Tahoma"/>
              </a:rPr>
              <a:t>International business facilitates the </a:t>
            </a:r>
            <a:r>
              <a:rPr b="0" i="1" lang="en-US" sz="32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cc6600"/>
                </a:solidFill>
                <a:latin typeface="Tahoma"/>
              </a:rPr>
              <a:t>globalization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Globalization of Marke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Content Placeholder 5" descr=""/>
          <p:cNvPicPr/>
          <p:nvPr/>
        </p:nvPicPr>
        <p:blipFill>
          <a:blip r:embed="rId1"/>
          <a:stretch/>
        </p:blipFill>
        <p:spPr>
          <a:xfrm>
            <a:off x="822240" y="2133720"/>
            <a:ext cx="7499520" cy="3889080"/>
          </a:xfrm>
          <a:prstGeom prst="rect">
            <a:avLst/>
          </a:prstGeom>
          <a:ln w="0">
            <a:noFill/>
          </a:ln>
        </p:spPr>
      </p:pic>
      <p:sp>
        <p:nvSpPr>
          <p:cNvPr id="34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d8f88"/>
                </a:solidFill>
                <a:latin typeface="Times New Roman"/>
              </a:rPr>
              <a:t>Chapter 1-</a:t>
            </a:r>
            <a:fld id="{77DECB1D-1524-4079-B6C6-323D1179CAC9}" type="slidenum">
              <a:rPr b="0" lang="en-US" sz="1400" spc="-1" strike="noStrike">
                <a:solidFill>
                  <a:srgbClr val="9d8f8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Globalization of Produc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6" name="Content Placeholder 5" descr=""/>
          <p:cNvPicPr/>
          <p:nvPr/>
        </p:nvPicPr>
        <p:blipFill>
          <a:blip r:embed="rId1"/>
          <a:stretch/>
        </p:blipFill>
        <p:spPr>
          <a:xfrm>
            <a:off x="822240" y="2133720"/>
            <a:ext cx="7547040" cy="432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orces Driving Globalization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echnological innova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"/>
          <p:cNvPicPr/>
          <p:nvPr/>
        </p:nvPicPr>
        <p:blipFill>
          <a:blip r:embed="rId1"/>
          <a:stretch/>
        </p:blipFill>
        <p:spPr>
          <a:xfrm>
            <a:off x="890640" y="2206800"/>
            <a:ext cx="7510320" cy="3670200"/>
          </a:xfrm>
          <a:prstGeom prst="rect">
            <a:avLst/>
          </a:prstGeom>
          <a:ln w="0">
            <a:noFill/>
          </a:ln>
        </p:spPr>
      </p:pic>
      <p:sp>
        <p:nvSpPr>
          <p:cNvPr id="349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d8f88"/>
                </a:solidFill>
                <a:latin typeface="Times New Roman"/>
              </a:rPr>
              <a:t>Chapter 1-</a:t>
            </a:r>
            <a:fld id="{DB5C5304-DC08-4F8B-9AEA-540C94861E5D}" type="slidenum">
              <a:rPr b="0" lang="en-US" sz="1400" spc="-1" strike="noStrike">
                <a:solidFill>
                  <a:srgbClr val="9d8f8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1159"/>
          <p:cNvSpPr/>
          <p:nvPr/>
        </p:nvSpPr>
        <p:spPr>
          <a:xfrm>
            <a:off x="4857840" y="5334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Key Players in International Busines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2" name="Content Placeholder 3" descr=""/>
          <p:cNvPicPr/>
          <p:nvPr/>
        </p:nvPicPr>
        <p:blipFill>
          <a:blip r:embed="rId1"/>
          <a:stretch/>
        </p:blipFill>
        <p:spPr>
          <a:xfrm>
            <a:off x="822240" y="1700280"/>
            <a:ext cx="7510680" cy="466416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5"/>
          <p:cNvSpPr/>
          <p:nvPr/>
        </p:nvSpPr>
        <p:spPr>
          <a:xfrm>
            <a:off x="828720" y="1700280"/>
            <a:ext cx="7485120" cy="47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1280" y="930240"/>
            <a:ext cx="740736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0560" y="1699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st way of doing business abroad may not be the same as the best way at home becaus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a company operates internationally, it will engag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d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business such as exporting and importing that vary from those in which it engages domestically and 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hysical, social, and competitive conditions vary among countries and affect the best ways to conduct busi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7AAD-F588-40E5-9252-8131BDD02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685800" y="762120"/>
            <a:ext cx="77724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Need for International Busine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9:58:44Z</dcterms:created>
  <dc:creator>FSU</dc:creator>
  <dc:description/>
  <dc:language>en-US</dc:language>
  <cp:lastModifiedBy>User</cp:lastModifiedBy>
  <dcterms:modified xsi:type="dcterms:W3CDTF">2017-02-19T04:57:59Z</dcterms:modified>
  <cp:revision>26</cp:revision>
  <dc:subject/>
  <dc:title>PowerPoint Presentation</dc:title>
</cp:coreProperties>
</file>