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D84E0-CBAE-431A-B237-2A998709A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9116-A787-4EAF-8A65-5169B3E3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0D59-9FB8-4FC7-8739-BF7981A34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377CE-0843-46F2-B4BB-A8C2A7C45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FE533-E933-4E7C-AB38-F7D2A4468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D931D-6DB1-405A-9C80-7956298A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32696-2071-44C6-BB33-AB5B0D7A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AAADF-2CEA-409C-AB63-F3949A33A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9B46-1858-4020-92FF-0759664A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7F40-1E79-4A88-BC09-8B43B4391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2533-66DA-4B12-8094-4922D6AA6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4F77-DE99-4A8B-AFEF-FB9899014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675F-3263-4E35-A99E-DB4834039AC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28600"/>
            <a:ext cx="76964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000000"/>
                </a:solidFill>
                <a:latin typeface="Calibri"/>
              </a:rPr>
              <a:t>المحاضرة الاولى</a:t>
            </a:r>
            <a:endParaRPr b="0" lang="en-US" sz="5900" spc="-1" strike="noStrike">
              <a:solidFill>
                <a:srgbClr val="000000"/>
              </a:solidFill>
              <a:latin typeface="Calibri"/>
            </a:endParaRPr>
          </a:p>
        </p:txBody>
      </p:sp>
      <p:sp>
        <p:nvSpPr>
          <p:cNvPr id="42" name="PlaceHolder 2"/>
          <p:cNvSpPr>
            <a:spLocks noGrp="1"/>
          </p:cNvSpPr>
          <p:nvPr>
            <p:ph type="subTitle"/>
          </p:nvPr>
        </p:nvSpPr>
        <p:spPr>
          <a:xfrm>
            <a:off x="228600" y="1142640"/>
            <a:ext cx="8686800" cy="53341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ea typeface="Al-Kharashi 4"/>
              </a:rPr>
              <a:t>317</a:t>
            </a:r>
            <a:r>
              <a:rPr b="0" lang="ar-SA" sz="4000" spc="-1" strike="noStrike">
                <a:solidFill>
                  <a:srgbClr val="000000"/>
                </a:solidFill>
                <a:latin typeface="Calibri"/>
                <a:cs typeface="Al-Kharashi 4"/>
              </a:rPr>
              <a:t>جغر تطبيقات الاستشعار عن بعد</a:t>
            </a: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l-Kharashi 4"/>
              </a:rPr>
              <a:t>اهمية الاستشعار عن بعد وتطبيقاته</a:t>
            </a:r>
            <a:endParaRPr b="0" lang="en-US" sz="40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04920"/>
            <a:ext cx="8229600" cy="5821200"/>
          </a:xfrm>
          <a:prstGeom prst="rect">
            <a:avLst/>
          </a:prstGeom>
          <a:noFill/>
          <a:ln w="0">
            <a:noFill/>
          </a:ln>
        </p:spPr>
        <p:txBody>
          <a:bodyPr anchor="t">
            <a:norm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هو من اكثر المجالات افادة من تقنيات الاستشعار عن بعد في دراسة الغطاء النباتي وتصنيفه واستخدامات الاراضي والتنبؤ بإنتاجيتها والامراض التي تصيبها . بحيث يمكن توجيه الخطط الزراعية والري بشكل ايجابي وذلك مع توفر الصور في فترات متتابعة عن نمو المحاصيل في الموسم الواحد مع ربطها بالإحصائيات الانتاجية الرسمية.</a:t>
            </a:r>
            <a:endParaRPr b="0" lang="en-US" sz="4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0" y="0"/>
            <a:ext cx="9144000" cy="685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0000"/>
                </a:solidFill>
                <a:latin typeface="Calibri"/>
              </a:rPr>
              <a:t>أهمية الاستشعار عن بعد في الغابات و المراعي</a:t>
            </a:r>
            <a:endParaRPr b="0" lang="en-US" sz="49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رصدها و التعرف على توزيعها و مساحاتها.</a:t>
            </a:r>
            <a:endParaRPr b="0" lang="en-US" sz="4000" spc="-1" strike="noStrike">
              <a:solidFill>
                <a:srgbClr val="000000"/>
              </a:solidFill>
              <a:latin typeface="Calibri"/>
            </a:endParaRPr>
          </a:p>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قدير مساحات الغابات المقطوعة سنويا أو التي تضررت بفعل الغابات الحرائق و الفيضانات.</a:t>
            </a:r>
            <a:endParaRPr b="0" lang="en-US" sz="4000" spc="-1" strike="noStrike">
              <a:solidFill>
                <a:srgbClr val="000000"/>
              </a:solidFill>
              <a:latin typeface="Calibri"/>
            </a:endParaRPr>
          </a:p>
          <a:p>
            <a:pPr marL="294840" indent="-2948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حديد المناطق الرعوية التي توشك على الانقراض(بفعل الإفراط في الرعي)</a:t>
            </a:r>
            <a:endParaRPr b="0" lang="en-US" sz="40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عنصر نائب للمحتوى 3" descr="download (5).jpg"/>
          <p:cNvPicPr/>
          <p:nvPr/>
        </p:nvPicPr>
        <p:blipFill>
          <a:blip r:embed="rId1"/>
          <a:stretch/>
        </p:blipFill>
        <p:spPr>
          <a:xfrm>
            <a:off x="0" y="0"/>
            <a:ext cx="9144000" cy="68580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Calibri"/>
              </a:rPr>
              <a:t>أهمية الاستشعار عن بعد في الخرائط</a:t>
            </a:r>
            <a:endParaRPr b="0" lang="en-US" sz="5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عداد خرائط للمناطق التي لم يسبق مسحها، وتحديث الخرائط الحالية.</a:t>
            </a:r>
            <a:endParaRPr b="0" lang="en-US" sz="4400" spc="-1" strike="noStrike">
              <a:solidFill>
                <a:srgbClr val="000000"/>
              </a:solidFill>
              <a:latin typeface="Calibri"/>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نتاج الخرائط باستخدام الحاسوب، بدلا من رسمها بالطرق التقليدية</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304920"/>
            <a:ext cx="8229600" cy="5821200"/>
          </a:xfrm>
          <a:prstGeom prst="rect">
            <a:avLst/>
          </a:prstGeom>
          <a:noFill/>
          <a:ln w="0">
            <a:noFill/>
          </a:ln>
        </p:spPr>
        <p:txBody>
          <a:bodyPr anchor="t">
            <a:normAutofit fontScale="95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ث يمكن اعتبار الصور الفضائية احد مصادر المعلومات لإنشاء الخرائط. خاصة بعد ادخال التحسينات التي طرأت على الدقة المكانية مع ظهور القمرين ايكونوس وايرس اللذان يوفران صورا فضائية ذات دقة مكانية عالية. ومع تطوير عمليات التحسين والتباين اللوني من خلال برامج الحاسب الالي الى تحسين النوعية العامة للصورة المطلوبة لإعداد الخرائط منها.</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ذلك يمكن القول بان اعداد الخرائط من الصور الفضائية دخلت في طور جديد من خلال سلسلة من مشاريع جديدة خاصة اجهزة التصوير المصممة لإعداد الخرائط الطبوغرافية ذات الدقة العالية.</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0000"/>
                </a:solidFill>
                <a:latin typeface="Calibri"/>
              </a:rPr>
              <a:t>أهمية الاستشعار عن بعد في الجيمورفولوجيا</a:t>
            </a:r>
            <a:endParaRPr b="0" lang="en-US" sz="49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صوير سطح الأرض(أي التضاريس)،و رسم خرائط تفصيلية(طبوغرافية)</a:t>
            </a:r>
            <a:endParaRPr b="0" lang="en-US" sz="4000" spc="-1" strike="noStrike">
              <a:solidFill>
                <a:srgbClr val="000000"/>
              </a:solidFill>
              <a:latin typeface="Calibri"/>
            </a:endParaRPr>
          </a:p>
          <a:p>
            <a:pPr marL="301680" indent="-3016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حديد المواقع المناسبة  لشق الطرق و بناء السدود و خطوط الأنابيب و السكك الحديدية و شبكات الكهرباء بناء على دراسة طبيعة البنية الارضية وتكويناتها الصخرية.</a:t>
            </a:r>
            <a:endParaRPr b="0" lang="en-US" sz="4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495000"/>
            <a:ext cx="8353440" cy="105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جيولوجيا</a:t>
            </a:r>
            <a:endParaRPr b="0" lang="en-US" sz="5400" spc="-1" strike="noStrike">
              <a:solidFill>
                <a:srgbClr val="000000"/>
              </a:solidFill>
              <a:latin typeface="Calibri"/>
            </a:endParaRPr>
          </a:p>
        </p:txBody>
      </p:sp>
      <p:sp>
        <p:nvSpPr>
          <p:cNvPr id="67" name=""/>
          <p:cNvSpPr txBox="1"/>
          <p:nvPr/>
        </p:nvSpPr>
        <p:spPr>
          <a:xfrm>
            <a:off x="380880" y="2287440"/>
            <a:ext cx="8382240" cy="327528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صوير الصخور السطحية و امتدادها</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حديد سمك الطبقات والتعرف على مناطق الانكسارات و الالتواءات.</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شف مخزونات المياه الجوفية و المواقع المحتملة للمعادن.</a:t>
            </a:r>
            <a:endParaRPr b="0" lang="en-US" sz="3600" spc="-1" strike="noStrike">
              <a:solidFill>
                <a:srgbClr val="000000"/>
              </a:solidFill>
              <a:latin typeface="Calibri"/>
            </a:endParaRPr>
          </a:p>
        </p:txBody>
      </p:sp>
      <p:pic>
        <p:nvPicPr>
          <p:cNvPr id="68" name="صورة 3" descr="images (9).jpg"/>
          <p:cNvPicPr/>
          <p:nvPr/>
        </p:nvPicPr>
        <p:blipFill>
          <a:blip r:embed="rId1"/>
          <a:stretch/>
        </p:blipFill>
        <p:spPr>
          <a:xfrm>
            <a:off x="3429000" y="4876920"/>
            <a:ext cx="2295360" cy="176184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4000" spc="-1" strike="noStrike">
                <a:solidFill>
                  <a:srgbClr val="000000"/>
                </a:solidFill>
                <a:latin typeface="Calibri"/>
              </a:rPr>
              <a:t>عمل الخرائط الجيولوجي</a:t>
            </a:r>
            <a:r>
              <a:rPr b="0" lang="ar-SA" sz="4000" spc="-1" strike="noStrike">
                <a:solidFill>
                  <a:srgbClr val="000000"/>
                </a:solidFill>
                <a:latin typeface="Calibri"/>
              </a:rPr>
              <a:t>ة</a:t>
            </a:r>
            <a:r>
              <a:rPr b="0" lang="ar-JO" sz="4000" spc="-1" strike="noStrike">
                <a:solidFill>
                  <a:srgbClr val="000000"/>
                </a:solidFill>
                <a:latin typeface="Calibri"/>
              </a:rPr>
              <a:t>.</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تحديد مواقع البراكين وتحديد تحرك الطبقات الأرضية</a:t>
            </a:r>
            <a:r>
              <a:rPr b="0" lang="ar-JO" sz="4000" spc="-1" strike="noStrike">
                <a:solidFill>
                  <a:srgbClr val="000000"/>
                </a:solidFill>
                <a:latin typeface="Calibri"/>
              </a:rPr>
              <a:t>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تحديد خطوط التصدعات المختلف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البحث عن المصادر الطبيعية والمواد الخام.</a:t>
            </a:r>
            <a:r>
              <a:rPr b="0" lang="ar-JO"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28600"/>
            <a:ext cx="8229600" cy="589752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خدم الصور الفضائية في التنقيب عن الثروات المعدنية والنفط والغاز حيث تقوم الصور بتصحيح كثير من معلوماتنا الجيولوجية عن المناطق المختلفة سواء بإنشاء خرائط حديثة لبعض المناطق التي لم يتم لها مسح او المناطق التي مسحت منذ فترات طويلة ولم تحدث بياناتها .خاصة وان الصور الفضائية تعطي نظرة شمولية ودقيقة لوحدات وتراكيب جيولوجية ذات امتداد كبير, كما تعطي المؤشرات الاولية للمواضع المعدنية والنفطية بما يسمى التكتونيك الخطي وهو الذي يوضح معالم السحنات الجيولوجية الخطية وهي طريقة يتم من خلالها تضخيم الخطوط المستقيمة وبالتالي يمكن اظهار خطوط الفوالق والانكسارات الخطية بوضوح.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457200" y="309600"/>
            <a:ext cx="8229600" cy="61675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80520"/>
            <a:ext cx="8229600" cy="5745240"/>
          </a:xfrm>
          <a:prstGeom prst="rect">
            <a:avLst/>
          </a:prstGeom>
          <a:noFill/>
          <a:ln w="0">
            <a:noFill/>
          </a:ln>
        </p:spPr>
        <p:txBody>
          <a:bodyPr anchor="t">
            <a:norm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في مجال الجيولوجيا الهندسية تستخدم الصور الفضائية لاختيار افضل المواقع لإقامة المنشآت العمرانية والصناعية والهندسية كالسدود والطرق والانفاق وسكك الحديدية والمرافئ,</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حيث يتم اختيار المنطقة التي تبعد عن الفوالق والانكسارات حتى لا يتأثر النفق .</a:t>
            </a:r>
            <a:endParaRPr b="0" lang="en-US" sz="4000" spc="-1" strike="noStrike">
              <a:solidFill>
                <a:srgbClr val="000000"/>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التربة</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4400" spc="-1" strike="noStrike">
                <a:solidFill>
                  <a:srgbClr val="000000"/>
                </a:solidFill>
                <a:latin typeface="Calibri"/>
              </a:rPr>
              <a:t>يتم تقسيم التربة وتصنيفها.</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عمل خرائط مناخية للتربة</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a:t>
            </a:r>
            <a:r>
              <a:rPr b="0" lang="ar-JO" sz="4400" spc="-1" strike="noStrike">
                <a:solidFill>
                  <a:srgbClr val="000000"/>
                </a:solidFill>
                <a:latin typeface="Calibri"/>
              </a:rPr>
              <a:t> دراسة إمكانية حفظ التربة وتحسينها.</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مراقبة جفاف الأراضي والبحيرات</a:t>
            </a:r>
            <a:endParaRPr b="0" lang="en-US" sz="4400" spc="-1" strike="noStrike">
              <a:solidFill>
                <a:srgbClr val="000000"/>
              </a:solidFill>
              <a:latin typeface="Calibri"/>
            </a:endParaRPr>
          </a:p>
          <a:p>
            <a:pPr marL="339480" indent="-3394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عنصر نائب للمحتوى 3" descr="download (4).jpg"/>
          <p:cNvPicPr/>
          <p:nvPr/>
        </p:nvPicPr>
        <p:blipFill>
          <a:blip r:embed="rId1"/>
          <a:stretch/>
        </p:blipFill>
        <p:spPr>
          <a:xfrm>
            <a:off x="0" y="0"/>
            <a:ext cx="914400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10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مياه</a:t>
            </a:r>
            <a:endParaRPr b="0" lang="en-US" sz="5400" spc="-1" strike="noStrike">
              <a:solidFill>
                <a:srgbClr val="000000"/>
              </a:solidFill>
              <a:latin typeface="Calibri"/>
            </a:endParaRPr>
          </a:p>
        </p:txBody>
      </p:sp>
      <p:sp>
        <p:nvSpPr>
          <p:cNvPr id="76" name=""/>
          <p:cNvSpPr txBox="1"/>
          <p:nvPr/>
        </p:nvSpPr>
        <p:spPr>
          <a:xfrm>
            <a:off x="380880" y="1066680"/>
            <a:ext cx="8229600" cy="5562720"/>
          </a:xfrm>
          <a:prstGeom prst="rect">
            <a:avLst/>
          </a:prstGeom>
          <a:noFill/>
          <a:ln w="0">
            <a:noFill/>
          </a:ln>
        </p:spPr>
        <p:txBody>
          <a:bodyPr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قدير حجم الموارد المائية العذب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رصد مناطق التلوث وتجمعات الأسماك.</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رصد المخاطر الطبيعي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قدير منسوب التدفق في الاودية والانه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وضع خرائط دقيقة للمناطق المائية</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دراسة تلوث مياه البحيرات والأنهار ( والكشف عن       </a:t>
            </a:r>
            <a:endParaRPr b="0" lang="en-US" sz="2800" spc="-1" strike="noStrike">
              <a:solidFill>
                <a:srgbClr val="000000"/>
              </a:solidFill>
              <a:latin typeface="Calibri"/>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البقع الزيتية التي تؤثر على الحياة البحرية والنهرية) </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تحديد مناطق الفيضانات</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مراقبة حركة الأنه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 البحث عن المياه الجوفية تحت رمال الصحراء عن  طريق صور الرادار</a:t>
            </a:r>
            <a:endParaRPr b="0" lang="en-US" sz="2800" spc="-1" strike="noStrike">
              <a:solidFill>
                <a:srgbClr val="000000"/>
              </a:solidFill>
              <a:latin typeface="Calibri"/>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عنصر نائب للمحتوى 3" descr="images (4).jpg"/>
          <p:cNvPicPr/>
          <p:nvPr/>
        </p:nvPicPr>
        <p:blipFill>
          <a:blip r:embed="rId1"/>
          <a:stretch/>
        </p:blipFill>
        <p:spPr>
          <a:xfrm>
            <a:off x="0" y="0"/>
            <a:ext cx="9144000" cy="6858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228600"/>
            <a:ext cx="8229600" cy="589752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في مجال الهيدرولوجيا استخدمت صور الاستشعار في حل كثير من مشاكل المياه السطحية والجوفية , حيث يمكن بسهولة تحديد المياه السطحية وامتداد الفيضانات على جانبي الانهار والوديان وتمتاز المياه بان لها اعلى حرارة نوعية وبالتالي يمكن الاحساس بالمياه والرطوبة باستخدام الطاقة الحرارية المنبعثة حيث تكون المياه باردة في الايام الدافئة , وتكون دافئة في الليالي الباردة وبواسطة معلومات الاقمار الصناعية الحرارية يمكن بسهولة التعرف على البرك المائية والانهار والبحار. اما بالنسبة للمياه الجوفية فلقد وجد ان هناك علاقة وثيقة بين درجة حرارة التربة واعماق مناسيب المياه. ومن هذه الخاصية يمكن تحديد مناسيب المياه .</a:t>
            </a:r>
            <a:endParaRPr b="0" lang="en-US" sz="32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صورة 2" descr="images (7).jpg"/>
          <p:cNvPicPr/>
          <p:nvPr/>
        </p:nvPicPr>
        <p:blipFill>
          <a:blip r:embed="rId1"/>
          <a:stretch/>
        </p:blipFill>
        <p:spPr>
          <a:xfrm>
            <a:off x="0" y="0"/>
            <a:ext cx="9144000" cy="68580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920880"/>
          </a:xfrm>
          <a:prstGeom prst="rect">
            <a:avLst/>
          </a:prstGeom>
          <a:solidFill>
            <a:srgbClr val="eeece1"/>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أهمية الاستشعار عن بعد في الارصاد الجوية</a:t>
            </a:r>
            <a:endParaRPr b="0" lang="en-US" sz="4400" spc="-1" strike="noStrike">
              <a:solidFill>
                <a:srgbClr val="000000"/>
              </a:solidFill>
              <a:latin typeface="Calibri"/>
            </a:endParaRPr>
          </a:p>
        </p:txBody>
      </p:sp>
      <p:sp>
        <p:nvSpPr>
          <p:cNvPr id="81" name=""/>
          <p:cNvSpPr txBox="1"/>
          <p:nvPr/>
        </p:nvSpPr>
        <p:spPr>
          <a:xfrm>
            <a:off x="301680" y="1676520"/>
            <a:ext cx="8540640" cy="3962160"/>
          </a:xfrm>
          <a:prstGeom prst="rect">
            <a:avLst/>
          </a:prstGeom>
          <a:solidFill>
            <a:srgbClr val="eeece1"/>
          </a:solidFill>
          <a:ln w="0">
            <a:noFill/>
          </a:ln>
        </p:spPr>
        <p:txBody>
          <a:bodyPr anchor="t">
            <a:normAutofit fontScale="89000"/>
          </a:bodyPr>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تنبؤ بحالة الطقس </a:t>
            </a:r>
            <a:endParaRPr b="0" lang="en-US" sz="4400" spc="-1" strike="noStrike">
              <a:solidFill>
                <a:srgbClr val="000000"/>
              </a:solidFill>
              <a:latin typeface="Calibri"/>
            </a:endParaRPr>
          </a:p>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شاف الأعاصير و العواصف قبل وصولها والتحذير منها ومتابعتها.</a:t>
            </a:r>
            <a:endParaRPr b="0" lang="en-US" sz="4400" spc="-1" strike="noStrike">
              <a:solidFill>
                <a:srgbClr val="000000"/>
              </a:solidFill>
              <a:latin typeface="Calibri"/>
            </a:endParaRPr>
          </a:p>
          <a:p>
            <a:pPr marL="305280" indent="-3052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رسم خرائط يومية لحركة الرياح والاعاصير والغيوم .</a:t>
            </a:r>
            <a:endParaRPr b="0" lang="en-US" sz="44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6172200"/>
          </a:xfrm>
          <a:prstGeom prst="rect">
            <a:avLst/>
          </a:prstGeom>
          <a:noFill/>
          <a:ln w="0">
            <a:noFill/>
          </a:ln>
        </p:spPr>
        <p:txBody>
          <a:bodyPr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 تحديد حركة الغيوم ونوعها وسمكها ودرجة حرارتها</a:t>
            </a:r>
            <a:r>
              <a:rPr b="0" lang="ar-JO" sz="3600" spc="-1" strike="noStrike">
                <a:solidFill>
                  <a:srgbClr val="000000"/>
                </a:solidFill>
                <a:latin typeface="Calibri"/>
              </a:rPr>
              <a:t>	</a:t>
            </a:r>
            <a:r>
              <a:rPr b="0" lang="ar-SA" sz="3600" spc="-1" strike="noStrike">
                <a:solidFill>
                  <a:srgbClr val="000000"/>
                </a:solidFill>
                <a:latin typeface="Calibri"/>
              </a:rPr>
              <a:t>.</a:t>
            </a:r>
            <a:r>
              <a:rPr b="0" lang="ar-JO" sz="3600" spc="-1" strike="noStrike">
                <a:solidFill>
                  <a:srgbClr val="000000"/>
                </a:solidFill>
                <a:latin typeface="Calibri"/>
              </a:rPr>
              <a:t>   </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ب- رصد المتغيرات المناخية مثل درجة حرارة سطح الأرض والمسطحات المائية والجبال الجليدية</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ج- إمكانية تحديد كمية الأمطار المتوقع هطولها</a:t>
            </a:r>
            <a:r>
              <a:rPr b="0" lang="ar-JO" sz="3600" spc="-1" strike="noStrike">
                <a:solidFill>
                  <a:srgbClr val="000000"/>
                </a:solidFill>
                <a:latin typeface="Calibri"/>
              </a:rPr>
              <a:t>	</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د- دراسة تلوث الهواء.</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alibri"/>
              </a:rPr>
              <a:t>هـ تساعد على إصدار تنبؤات جوية أكثر دقة حيث يتم بواسطتها تحديد مواقع وحركة المنخفضات الجوية والجبهات الهوائية والأعاصير(كما هو موضح بالصورة)</a:t>
            </a:r>
            <a:endParaRPr b="0" lang="en-US" sz="3600" spc="-1" strike="noStrike">
              <a:solidFill>
                <a:srgbClr val="000000"/>
              </a:solidFill>
              <a:latin typeface="Calibri"/>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البيئة</a:t>
            </a:r>
            <a:endParaRPr b="0" lang="en-US" sz="4400" spc="-1" strike="noStrike">
              <a:solidFill>
                <a:srgbClr val="000000"/>
              </a:solidFill>
              <a:latin typeface="Calibri"/>
            </a:endParaRPr>
          </a:p>
        </p:txBody>
      </p:sp>
      <p:sp>
        <p:nvSpPr>
          <p:cNvPr id="84" name=""/>
          <p:cNvSpPr txBox="1"/>
          <p:nvPr/>
        </p:nvSpPr>
        <p:spPr>
          <a:xfrm>
            <a:off x="457200" y="1599840"/>
            <a:ext cx="8229600" cy="480060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يلعب الاستشعار عن بعد دوراً مهماً في دراسة الكرة الأرضية وبيان التغيرات التي تظهر على سطحها وبالتالي نتعمق في مجال حماية البيئة الطبيعية في مكافحة التلوث بشتى أشكاله حيث يساعد الاستشعار عن بعد  على دراسة</a:t>
            </a:r>
            <a:r>
              <a:rPr b="0" lang="ar-SA" sz="3200" spc="-1" strike="noStrike">
                <a:solidFill>
                  <a:srgbClr val="000000"/>
                </a:solidFill>
                <a:latin typeface="Calibri"/>
              </a:rPr>
              <a:t> </a:t>
            </a:r>
            <a:r>
              <a:rPr b="0" lang="ar-JO"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  </a:t>
            </a:r>
            <a:r>
              <a:rPr b="0" lang="ar-JO" sz="3200" spc="-1" strike="noStrike">
                <a:solidFill>
                  <a:srgbClr val="000000"/>
                </a:solidFill>
                <a:latin typeface="Calibri"/>
              </a:rPr>
              <a:t> </a:t>
            </a:r>
            <a:r>
              <a:rPr b="0" lang="ar-SA" sz="3200" spc="-1" strike="noStrike">
                <a:solidFill>
                  <a:srgbClr val="000000"/>
                </a:solidFill>
                <a:latin typeface="Calibri"/>
              </a:rPr>
              <a:t>أ- </a:t>
            </a:r>
            <a:r>
              <a:rPr b="0" lang="ar-JO" sz="3200" spc="-1" strike="noStrike">
                <a:solidFill>
                  <a:srgbClr val="000000"/>
                </a:solidFill>
                <a:latin typeface="Calibri"/>
              </a:rPr>
              <a:t>تلوث الجو والهواء</a:t>
            </a:r>
            <a:r>
              <a:rPr b="0" lang="ar-JO" sz="3200" spc="-1" strike="noStrike">
                <a:solidFill>
                  <a:srgbClr val="000000"/>
                </a:solidFill>
                <a:latin typeface="Calibri"/>
              </a:rPr>
              <a:t>	</a:t>
            </a:r>
            <a:r>
              <a:rPr b="0" lang="ar-JO"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JO" sz="3200" spc="-1" strike="noStrike">
                <a:solidFill>
                  <a:srgbClr val="000000"/>
                </a:solidFill>
                <a:latin typeface="Calibri"/>
              </a:rPr>
              <a:t>ب</a:t>
            </a:r>
            <a:r>
              <a:rPr b="1" lang="ar-JO" sz="3200" spc="-1" strike="noStrike">
                <a:solidFill>
                  <a:srgbClr val="000000"/>
                </a:solidFill>
                <a:latin typeface="Calibri"/>
              </a:rPr>
              <a:t>-</a:t>
            </a:r>
            <a:r>
              <a:rPr b="0" lang="ar-JO" sz="3200" spc="-1" strike="noStrike">
                <a:solidFill>
                  <a:srgbClr val="000000"/>
                </a:solidFill>
                <a:latin typeface="Calibri"/>
              </a:rPr>
              <a:t> تلوث الماء</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	</a:t>
            </a:r>
            <a:r>
              <a:rPr b="0" lang="ar-JO" sz="3200" spc="-1" strike="noStrike">
                <a:solidFill>
                  <a:srgbClr val="000000"/>
                </a:solidFill>
                <a:latin typeface="Calibri"/>
              </a:rPr>
              <a:t>ج</a:t>
            </a:r>
            <a:r>
              <a:rPr b="1" lang="ar-JO" sz="3200" spc="-1" strike="noStrike">
                <a:solidFill>
                  <a:srgbClr val="000000"/>
                </a:solidFill>
                <a:latin typeface="Calibri"/>
              </a:rPr>
              <a:t>- </a:t>
            </a:r>
            <a:r>
              <a:rPr b="0" lang="ar-JO" sz="3200" spc="-1" strike="noStrike">
                <a:solidFill>
                  <a:srgbClr val="000000"/>
                </a:solidFill>
                <a:latin typeface="Calibri"/>
              </a:rPr>
              <a:t>تأثير المصانع على البيئة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r>
              <a:rPr b="0" lang="ar-JO" sz="3200" spc="-1" strike="noStrike">
                <a:solidFill>
                  <a:srgbClr val="000000"/>
                </a:solidFill>
                <a:latin typeface="Calibri"/>
              </a:rPr>
              <a:t>د- تأثير النفايات في تلوث البيئة</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533520" y="304920"/>
            <a:ext cx="8076960" cy="59436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4" descr=""/>
          <p:cNvPicPr/>
          <p:nvPr/>
        </p:nvPicPr>
        <p:blipFill>
          <a:blip r:embed="rId1"/>
          <a:stretch/>
        </p:blipFill>
        <p:spPr>
          <a:xfrm>
            <a:off x="-4680" y="85680"/>
            <a:ext cx="9153360" cy="668664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عنصر نائب للمحتوى 3" descr="download (3).jpg"/>
          <p:cNvPicPr/>
          <p:nvPr/>
        </p:nvPicPr>
        <p:blipFill>
          <a:blip r:embed="rId1"/>
          <a:stretch/>
        </p:blipFill>
        <p:spPr>
          <a:xfrm>
            <a:off x="0" y="0"/>
            <a:ext cx="91440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533520"/>
            <a:ext cx="8381880" cy="5867280"/>
          </a:xfrm>
          <a:prstGeom prst="rect">
            <a:avLst/>
          </a:prstGeom>
          <a:noFill/>
          <a:ln w="0">
            <a:noFill/>
          </a:ln>
        </p:spPr>
        <p:txBody>
          <a:bodyPr anchor="t">
            <a:normAutofit fontScale="96000"/>
          </a:bodyPr>
          <a:p>
            <a:pPr marL="329040" indent="-3290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ه</a:t>
            </a:r>
            <a:r>
              <a:rPr b="0" lang="ar-JO" sz="4400" spc="-1" strike="noStrike">
                <a:solidFill>
                  <a:srgbClr val="000000"/>
                </a:solidFill>
                <a:latin typeface="Calibri"/>
              </a:rPr>
              <a:t>ـ </a:t>
            </a:r>
            <a:r>
              <a:rPr b="0" lang="ar-SA" sz="4400" spc="-1" strike="noStrike">
                <a:solidFill>
                  <a:srgbClr val="000000"/>
                </a:solidFill>
                <a:latin typeface="Calibri"/>
              </a:rPr>
              <a:t>-</a:t>
            </a:r>
            <a:r>
              <a:rPr b="0" lang="ar-JO" sz="4400" spc="-1" strike="noStrike">
                <a:solidFill>
                  <a:srgbClr val="000000"/>
                </a:solidFill>
                <a:latin typeface="Calibri"/>
              </a:rPr>
              <a:t>عمل خرائط خاصة بالمناطق المحمية</a:t>
            </a:r>
            <a:r>
              <a:rPr b="0" lang="ar-SA" sz="4400" spc="-1" strike="noStrike">
                <a:solidFill>
                  <a:srgbClr val="000000"/>
                </a:solidFill>
                <a:latin typeface="Calibri"/>
              </a:rPr>
              <a:t>.</a:t>
            </a:r>
            <a:endParaRPr b="0" lang="en-US" sz="4400" spc="-1" strike="noStrike">
              <a:solidFill>
                <a:srgbClr val="000000"/>
              </a:solidFill>
              <a:latin typeface="Calibri"/>
            </a:endParaRPr>
          </a:p>
          <a:p>
            <a:pPr marL="329040" indent="-3290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rPr>
              <a:t>	</a:t>
            </a:r>
            <a:r>
              <a:rPr b="0" lang="ar-JO" sz="4400" spc="-1" strike="noStrike">
                <a:solidFill>
                  <a:srgbClr val="000000"/>
                </a:solidFill>
                <a:latin typeface="Calibri"/>
              </a:rPr>
              <a:t>و- مراقبة التغيرات البيئية وتأثير الطبيعة على الإنسان  والبيئة.</a:t>
            </a:r>
            <a:endParaRPr b="0" lang="en-US" sz="4400" spc="-1" strike="noStrike">
              <a:solidFill>
                <a:srgbClr val="000000"/>
              </a:solidFill>
              <a:latin typeface="Calibri"/>
            </a:endParaRPr>
          </a:p>
          <a:p>
            <a:pPr marL="329040" indent="-3290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rPr>
              <a:t>	</a:t>
            </a:r>
            <a:r>
              <a:rPr b="0" lang="ar-SA" sz="4000" spc="-1" strike="noStrike">
                <a:solidFill>
                  <a:srgbClr val="000000"/>
                </a:solidFill>
                <a:latin typeface="Calibri"/>
              </a:rPr>
              <a:t>كما </a:t>
            </a:r>
            <a:r>
              <a:rPr b="0" lang="ar-JO" sz="4000" spc="-1" strike="noStrike">
                <a:solidFill>
                  <a:srgbClr val="000000"/>
                </a:solidFill>
                <a:latin typeface="Calibri"/>
              </a:rPr>
              <a:t>ان المراقبة الدورية للبيئة الطبيعية من ارتفاعات مختلفة يعني إتاحة المجال أمامنا للحصول على نتائج مستمرة تمكننا من وضع الدراسات الصحيحة وكذلك الحلول الصحيحة.</a:t>
            </a:r>
            <a:endParaRPr b="0" lang="en-US" sz="4000" spc="-1" strike="noStrike">
              <a:solidFill>
                <a:srgbClr val="000000"/>
              </a:solidFill>
              <a:latin typeface="Calibri"/>
            </a:endParaRPr>
          </a:p>
          <a:p>
            <a:pPr marL="329040" indent="-329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مجال العمران</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واسطة الاستشعار عن بعد والتقنيات المصاحبة له (</a:t>
            </a:r>
            <a:r>
              <a:rPr b="0" lang="en-US" sz="3200" spc="-1" strike="noStrike">
                <a:solidFill>
                  <a:srgbClr val="000000"/>
                </a:solidFill>
                <a:latin typeface="Calibri"/>
              </a:rPr>
              <a:t>Gis</a:t>
            </a:r>
            <a:r>
              <a:rPr b="0" lang="ar-SA" sz="3200" spc="-1" strike="noStrike">
                <a:solidFill>
                  <a:srgbClr val="000000"/>
                </a:solidFill>
                <a:latin typeface="Calibri"/>
              </a:rPr>
              <a:t>) و (</a:t>
            </a:r>
            <a:r>
              <a:rPr b="0" lang="en-US" sz="3200" spc="-1" strike="noStrike">
                <a:solidFill>
                  <a:srgbClr val="000000"/>
                </a:solidFill>
                <a:latin typeface="Calibri"/>
              </a:rPr>
              <a:t>GPS</a:t>
            </a:r>
            <a:r>
              <a:rPr b="0" lang="ar-SA" sz="3200" spc="-1" strike="noStrike">
                <a:solidFill>
                  <a:srgbClr val="000000"/>
                </a:solidFill>
                <a:latin typeface="Calibri"/>
              </a:rPr>
              <a:t>)يمكن تنظيم المدن والمناطق العمرانية بشكل يوضح التشوهات والفوضى في التوسع العمراني العشوائي وتوجيهه في الاتجاه الصحيح ووضع خرائط لاستخدام الاراضي واستغلال الموارد في منطقة او اقليم معين. وفي نطاق المدن يمكن اعادة النظر بسرعة ودقة في تحديد شبكات المرافق العامة للمدن كشبكات الاتصالات والكهرباء والصرف الصحي , لذا استعانت شركات الاتصال ببيانات الاستشعار عن بعد في تحديد مواقع محطات التغطية.</a:t>
            </a:r>
            <a:endParaRPr b="0" lang="en-US" sz="32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دراسة علم الاثار</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بين مواقع المناطق الاثرية وحمايت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تاج خرائط للمناطق الاثرية .</a:t>
            </a:r>
            <a:endParaRPr b="0" lang="en-US" sz="3200" spc="-1" strike="noStrike">
              <a:solidFill>
                <a:srgbClr val="000000"/>
              </a:solidFill>
              <a:latin typeface="Calibri"/>
            </a:endParaRPr>
          </a:p>
        </p:txBody>
      </p:sp>
      <p:pic>
        <p:nvPicPr>
          <p:cNvPr id="91" name="صورة 3" descr="download (1).jpg"/>
          <p:cNvPicPr/>
          <p:nvPr/>
        </p:nvPicPr>
        <p:blipFill>
          <a:blip r:embed="rId1"/>
          <a:stretch/>
        </p:blipFill>
        <p:spPr>
          <a:xfrm>
            <a:off x="0" y="3505320"/>
            <a:ext cx="9144000" cy="335268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380520"/>
            <a:ext cx="8229600" cy="574524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يعتبر التنقيب عن المناطق الاثرية احد تطبيقات الاستشعار عن بعد المهمة عن طريق رؤية المظاهر السطحية الاثرية المهمة فتشمل الاثار المرئية والتلال والكتل الصخرية والاثار المبنية من قلاع وغيرها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قد استخدم التصوير الراداري لزيادة دقة التصوير والوصول لأعماق اكبر . وبواسطة هذه التقنية امكن الكشف عن مواقع اثرية عديدة في المملكة العربية السعودية في الربع الخالي وصحراء النفود.</a:t>
            </a:r>
            <a:endParaRPr b="0" lang="en-US" sz="36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همية الاستشعار عن بعد في التنبؤ عن الكوارث</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ar-JO" sz="4400" spc="-1" strike="noStrike">
                <a:solidFill>
                  <a:srgbClr val="000000"/>
                </a:solidFill>
                <a:latin typeface="Calibri"/>
              </a:rPr>
              <a:t>مثل </a:t>
            </a:r>
            <a:r>
              <a:rPr b="0" lang="ar-SA" sz="4400" spc="-1" strike="noStrike">
                <a:solidFill>
                  <a:srgbClr val="000000"/>
                </a:solidFill>
                <a:latin typeface="Calibri"/>
              </a:rPr>
              <a:t>تتبع مناطق </a:t>
            </a:r>
            <a:r>
              <a:rPr b="0" lang="ar-JO" sz="4400" spc="-1" strike="noStrike">
                <a:solidFill>
                  <a:srgbClr val="000000"/>
                </a:solidFill>
                <a:latin typeface="Calibri"/>
              </a:rPr>
              <a:t>الفيضانات والزلازل والسيول ومتابعة المنكوبين والبحث عنهم </a:t>
            </a:r>
            <a:r>
              <a:rPr b="0" lang="ar-SA" sz="4400" spc="-1" strike="noStrike">
                <a:solidFill>
                  <a:srgbClr val="000000"/>
                </a:solidFill>
                <a:latin typeface="Calibri"/>
              </a:rPr>
              <a:t>,</a:t>
            </a:r>
            <a:r>
              <a:rPr b="0" lang="ar-JO" sz="4400" spc="-1" strike="noStrike">
                <a:solidFill>
                  <a:srgbClr val="000000"/>
                </a:solidFill>
                <a:latin typeface="Calibri"/>
              </a:rPr>
              <a:t> وحرائق الغابات</a:t>
            </a:r>
            <a:r>
              <a:rPr b="0" lang="ar-SA" sz="4400" spc="-1" strike="noStrike">
                <a:solidFill>
                  <a:srgbClr val="000000"/>
                </a:solidFill>
                <a:latin typeface="Calibri"/>
              </a:rPr>
              <a:t> ومدى انتشارها وتحديد الاضرار والخسائر .</a:t>
            </a:r>
            <a:endParaRPr b="0" lang="en-US" sz="4400" spc="-1" strike="noStrike">
              <a:solidFill>
                <a:srgbClr val="000000"/>
              </a:solidFill>
              <a:latin typeface="Calibri"/>
            </a:endParaRPr>
          </a:p>
        </p:txBody>
      </p:sp>
      <p:pic>
        <p:nvPicPr>
          <p:cNvPr id="95" name="صورة 3" descr="download (2).jpg"/>
          <p:cNvPicPr/>
          <p:nvPr/>
        </p:nvPicPr>
        <p:blipFill>
          <a:blip r:embed="rId1"/>
          <a:stretch/>
        </p:blipFill>
        <p:spPr>
          <a:xfrm>
            <a:off x="0" y="4419720"/>
            <a:ext cx="9144000" cy="24382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52280"/>
            <a:ext cx="8229600" cy="5897520"/>
          </a:xfrm>
          <a:prstGeom prst="rect">
            <a:avLst/>
          </a:prstGeom>
          <a:noFill/>
          <a:ln w="0">
            <a:noFill/>
          </a:ln>
        </p:spPr>
        <p:txBody>
          <a:bodyPr anchor="t">
            <a:normAutofit fontScale="98000"/>
          </a:bodyPr>
          <a:p>
            <a:pPr marL="335880" indent="-3358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حيث تقوم صور الاستشعار عن بعد بإعطاء معلومات دقيقة وسريعة عن الكوارث قبل حدوثها او خلالها. او بعد حدوثها بوقت قصير . فقد امكن كشف مناطق النشاط المسبب للهزات الارضية بحيث يمكن اتخاذ الاجراءات الوقائية واخذ الحيطة بالسرعة الممكنة .</a:t>
            </a:r>
            <a:endParaRPr b="0" lang="en-US" sz="4400" spc="-1" strike="noStrike">
              <a:solidFill>
                <a:srgbClr val="000000"/>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بداللاه، عبدالفتاح صديق، (</a:t>
            </a:r>
            <a:r>
              <a:rPr b="0" lang="ar-SA" sz="3200" spc="-1" strike="noStrike">
                <a:solidFill>
                  <a:srgbClr val="000000"/>
                </a:solidFill>
                <a:latin typeface="Calibri"/>
              </a:rPr>
              <a:t>2005</a:t>
            </a:r>
            <a:r>
              <a:rPr b="0" lang="ar-SA" sz="3200" spc="-1" strike="noStrike">
                <a:solidFill>
                  <a:srgbClr val="000000"/>
                </a:solidFill>
                <a:latin typeface="Calibri"/>
              </a:rPr>
              <a:t>م)، أسس الصور الجوية والاستشعار عن بعد، مكتبة الرشد، الرياض.</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faculty.ksu.edu.sa/geography-alsaleh/default.aspx</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الاستشعار عن بعد    </a:t>
            </a:r>
            <a:r>
              <a:rPr b="1" lang="en-US" sz="3200" spc="-1" strike="noStrike">
                <a:solidFill>
                  <a:srgbClr val="000000"/>
                </a:solidFill>
                <a:latin typeface="Calibri"/>
              </a:rPr>
              <a:t>"</a:t>
            </a:r>
            <a:r>
              <a:rPr b="1" lang="en-US" sz="3200" spc="-1" strike="noStrike">
                <a:solidFill>
                  <a:srgbClr val="000000"/>
                </a:solidFill>
                <a:latin typeface="Calibri"/>
              </a:rPr>
              <a:t>Remote Sensing</a:t>
            </a:r>
            <a:r>
              <a:rPr b="1"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Calibri"/>
              </a:rPr>
              <a:t>جمال المو</a:t>
            </a:r>
            <a:r>
              <a:rPr b="1" i="1" lang="ar-SA" sz="3200" spc="-1" strike="noStrike">
                <a:solidFill>
                  <a:srgbClr val="000000"/>
                </a:solidFill>
                <a:latin typeface="Calibri"/>
              </a:rPr>
              <a:t>سى. </a:t>
            </a:r>
            <a:r>
              <a:rPr b="1" i="1" lang="ar-JO" sz="3200" spc="-1" strike="noStrike">
                <a:solidFill>
                  <a:srgbClr val="000000"/>
                </a:solidFill>
                <a:latin typeface="Calibri"/>
              </a:rPr>
              <a:t>دائرة الأرصاد الجو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143000"/>
            <a:ext cx="8229600" cy="541008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تعريف تطبيقات الاستشعار عن بعد بأنها استخدام صور الاستشعار عن بعد لتحقيق أهداف الدراسات المختلفة في الجغرافيا والجيولوجيا والزراعة والهندسة المدنية والتخطيط والآثار وغيرها.</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ا تطبيقات الاستشعار عن بعد في الجغرافيا فإنه يقصد بها استخدام صور الاستشعار عن بعد لتحقيق أهداف الدراسات الجغرا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ا هي تطبيقات الاستشعار عن بعد في الجغرافيا</a:t>
            </a:r>
            <a:endParaRPr b="0" lang="en-US" sz="4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28600"/>
            <a:ext cx="8229600" cy="58975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وعليه فإن مجال تطبيقات الاستشعار عن بعد في الجغرافيا في فرعيها الطبيعي والبشري كثيرة منها على سبيل المثال تطبيقات الاستشعار عن بعد في الجيومورفولوجيا وفي المناخ وفي المياه وفي التربة وفي المدن وفي السكان وفي غيرها من مجالات الجغرافيا الأخرى.</a:t>
            </a:r>
            <a:endParaRPr b="0" lang="en-US" sz="4000" spc="-1" strike="noStrike">
              <a:solidFill>
                <a:srgbClr val="000000"/>
              </a:solidFill>
              <a:latin typeface="Calibri"/>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أهمية الاستشعار عن بعد واستخداماته</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زراعة</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ابات و المراعي</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خرائط</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جيولوجيا</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ياه</a:t>
            </a:r>
            <a:endParaRPr b="0" lang="en-US" sz="4400" spc="-1" strike="noStrike">
              <a:solidFill>
                <a:srgbClr val="000000"/>
              </a:solidFill>
              <a:latin typeface="Calibri"/>
            </a:endParaRPr>
          </a:p>
          <a:p>
            <a:pPr marL="308520" indent="-308520" algn="r" rtl="1">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تخطيط  المدن (الجانب الحضري)</a:t>
            </a:r>
            <a:endParaRPr b="0" lang="en-US" sz="4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533160"/>
            <a:ext cx="8229600" cy="5592600"/>
          </a:xfrm>
          <a:prstGeom prst="rect">
            <a:avLst/>
          </a:prstGeom>
          <a:noFill/>
          <a:ln w="0">
            <a:noFill/>
          </a:ln>
        </p:spPr>
        <p:txBody>
          <a:bodyPr anchor="t">
            <a:normAutofit fontScale="80000"/>
          </a:bodyPr>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تعدين والكشف عن الثروات الطبيع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كشف عن الكوارث الطبيعية والتنبؤ بها.</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بحار والمحيطات ودراستها.</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كشف عن المياه الجوفيه.</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ناخ والدراسات الارصاد الجو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خدمة الاغراض العسكرية.</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ستخدامات الاراضي.</a:t>
            </a:r>
            <a:endParaRPr b="0" lang="en-US" sz="4400" spc="-1" strike="noStrike">
              <a:solidFill>
                <a:srgbClr val="000000"/>
              </a:solidFill>
              <a:latin typeface="Calibri"/>
            </a:endParaRPr>
          </a:p>
          <a:p>
            <a:pPr marL="274320" indent="-27432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تحديد وتوقع مقدار المحاصيل الزر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عمل الخرائط اللازمة لتحديد المناطق الزر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اكتشاف الآفات الزراعية وأمراض النباتات والأشجا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يساعد في وضع سياسة معينة لحفظ المناطق الزراع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من التلوث وذلك من خلال المراقبة المستمر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مراقبة التصحر </a:t>
            </a:r>
            <a:r>
              <a:rPr b="0" lang="ar-JO"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rPr>
              <a:t> مراقبة حرائق الغابات. </a:t>
            </a:r>
            <a:endParaRPr b="0" lang="en-US" sz="32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أهمية الاستشعار عن بعد في الزراعة</a:t>
            </a:r>
            <a:endParaRPr b="0" lang="en-US" sz="5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مع معلومات عن استخدام الارض</a:t>
            </a:r>
            <a:r>
              <a:rPr b="1" lang="en-US" sz="2800" spc="-1" strike="noStrike">
                <a:solidFill>
                  <a:srgbClr val="000000"/>
                </a:solidFill>
                <a:latin typeface="Calibri"/>
              </a:rPr>
              <a:t>(</a:t>
            </a:r>
            <a:r>
              <a:rPr b="1" lang="en-US" sz="2800" spc="-1" strike="noStrike">
                <a:solidFill>
                  <a:srgbClr val="000000"/>
                </a:solidFill>
                <a:latin typeface="Calibri"/>
              </a:rPr>
              <a:t>Land use</a:t>
            </a:r>
            <a:r>
              <a:rPr b="1" lang="en-US" sz="2800" spc="-1" strike="noStrike">
                <a:solidFill>
                  <a:srgbClr val="000000"/>
                </a:solidFill>
                <a:latin typeface="Calibri"/>
              </a:rPr>
              <a:t>) </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Calibri"/>
              </a:rPr>
              <a:t>استكشاف الأراضي </a:t>
            </a:r>
            <a:r>
              <a:rPr b="1" lang="ar-SA" sz="2800" spc="-1" strike="noStrike">
                <a:solidFill>
                  <a:srgbClr val="000000"/>
                </a:solidFill>
                <a:latin typeface="Calibri"/>
              </a:rPr>
              <a:t>القابلة للاستصلاح و الزارعة.</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نيف التربة تبعا لأنواعها و مشكلاتها مثل التلوث،الملوحة،الجفاف، التعرية.</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ستكشاف هجمات الجراد في وقت مبكر،لأنه يسبب ضرر كبير للمزروعات  حيث يقضي على النباتات أضرارا كبيرة، ويصل سرب الجراد قرابة </a:t>
            </a:r>
            <a:r>
              <a:rPr b="1" lang="ar-SA" sz="2800" spc="-1" strike="noStrike">
                <a:solidFill>
                  <a:srgbClr val="000000"/>
                </a:solidFill>
                <a:latin typeface="Calibri"/>
              </a:rPr>
              <a:t>50</a:t>
            </a:r>
            <a:r>
              <a:rPr b="1" lang="ar-SA" sz="2800" spc="-1" strike="noStrike">
                <a:solidFill>
                  <a:srgbClr val="000000"/>
                </a:solidFill>
                <a:latin typeface="Calibri"/>
              </a:rPr>
              <a:t> مليون جرادة في الكيلو متر مربع. اضافة الى الكشف عن الحشرات المتسببة في تلف المزروعات.</a:t>
            </a:r>
            <a:endParaRPr b="0" lang="en-US" sz="2800" spc="-1" strike="noStrike">
              <a:solidFill>
                <a:srgbClr val="000000"/>
              </a:solidFill>
              <a:latin typeface="Calibri"/>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4:35:58Z</dcterms:created>
  <dc:creator>Guest</dc:creator>
  <dc:description/>
  <dc:language>en-US</dc:language>
  <cp:lastModifiedBy>Asus</cp:lastModifiedBy>
  <dcterms:modified xsi:type="dcterms:W3CDTF">2013-04-09T22:47:09Z</dcterms:modified>
  <cp:revision>59</cp:revision>
  <dc:subject/>
  <dc:title>الاستشعار عن بعد</dc:title>
</cp:coreProperties>
</file>