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WHOOSH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6028-70B5-4D33-8645-82ED5E775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5252-A5A5-4DCE-B0F9-420A2871EDBE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BE47-7A6F-4231-AD41-3780899996B3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1708-ACE2-47AA-9A8A-0CBEB2E219AE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3A5-D6C8-48BA-A644-1C12F2A4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E1A-F33D-4F44-92CB-0F85808F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867-04A0-4939-B2BF-D65A0B78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295-1AC8-499A-A016-C410B2DE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357-ED1F-4956-BE4D-47E0F583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63B7-196B-4098-AD13-80A35ABE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1611-139B-400C-9658-C1018E82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45E1-C081-461B-A904-9DBF15DA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DEFF-1B5E-4C63-8101-C52DCBA6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078D-3D6F-4535-832C-ECE1F35A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35F-5040-4CB3-91F4-1B2A50D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234-5B90-4F0F-BC51-BC2F56B7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E82E-C650-4457-B4B1-AA96315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7BCA-F8B3-4F01-9D0F-CEF7C3A2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3F72-6F4F-436D-9624-B0A23806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57CA-E4F5-401A-99D4-D6910928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A841-ECA6-469E-B56E-5F931D37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0052-DA73-4812-80F1-F96FD5EE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9880-83B8-4A79-974A-E7EE4D73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D324-64FD-4018-8D2D-E573D1B9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2E63-5C5A-46CE-9998-540764CF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99CF-9D94-4D69-BACA-B62FAC8F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1DF-E446-43FE-BD5D-3B20394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8C89-7500-4FC3-AF4E-8B3B3790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78E2-3B3F-4D5A-A2AF-9C2EBFAE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AC04-214C-4259-98A9-B195A436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69CA-375A-4B8E-980C-25AF1BEF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F68D-FCED-4BC3-A190-92A31CD6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2ECF-9F1E-4DA2-9D6C-71F75ACB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6E36-F0D3-4F73-8CD9-B8D8081A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6BEE8-90B9-457A-B026-BE8273DD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F44F5-087F-4645-9C40-1DAEE66A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5DC7-BB2E-47EE-919B-766322A0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B20-7645-4CB3-9F33-0845073C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1BE2-27F5-4096-B45D-9C510D27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46AE-8F16-471C-B63C-C88B477B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124CF-429F-4213-876F-DA9FC460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D2324-1189-4082-AE0A-2D1FEE2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F7FD-CDD1-40C4-B7D1-296C311D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A672-CC4B-45D1-AD6A-A1B43697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7FF6D-02E9-4FF9-9C3C-77B31870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80A0F-17B8-4223-8B44-7ED4EA38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1B44-DDDE-4079-8A3A-6B159D25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07A20-0166-40B7-9B71-9EB750CE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5B1-0C40-45EA-A755-5F222490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24B81-9788-458D-B7FD-E29E6034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4E62B-F8D7-4C80-BD83-B1AE8C3F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231A0-E09C-49EF-BD5F-A9C5673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426D-5BD4-4D4F-8B19-69864DD4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79D5A-E9C2-4119-9CB2-C7F3C80E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A5C64-7712-4531-A7C4-B504B8E5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6BCC-EA4D-4DFF-B64B-820EDF21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85C6E-B7C5-4A6E-974B-DB4F27E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78A2-2087-4267-A9ED-FD5E6253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0B793-EA84-4CDD-B856-61CDC9E2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108-898F-4C25-8754-9AC5153A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B687E-5E57-4D4E-A48C-28F80722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6AE-EA4B-4879-9B25-E5A4EF70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464-16BA-4805-AD25-B9EE6E4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DD7-BC7F-43C0-B851-BE4FFE06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FE52-C409-4F89-8D39-697840E778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14400" y="3398760"/>
            <a:ext cx="1046484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87B2-6825-4931-B697-A6F9910C9A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74880" y="4599000"/>
            <a:ext cx="1046448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6A0-BC7B-4B3E-BA87-8F968A9369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6095520" y="1692360"/>
            <a:ext cx="180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B0A7-7A95-4161-A25B-9B3099B484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3700440" y="792000"/>
            <a:ext cx="144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54C-921A-46F6-9C25-671841B7EE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1701720"/>
            <a:ext cx="1046484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GC 211:DATA STRUCTURES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EK#1: OVERVIEW &amp; REVIEW</a:t>
            </a:r>
            <a:br>
              <a:rPr sz="5400"/>
            </a:b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04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76e"/>
                </a:solidFill>
                <a:latin typeface="Arial"/>
              </a:rPr>
              <a:t>Some slides are borrowed from Mr. Mohammad Alqahtani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lgorithm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55560" y="153324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finite set of instructions which accomplish a particular tas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method or process to solve a proble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ransforms input of a problem to outp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 = Input + Process + Outp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Algorithm development is an art – it needs practice, practice and only practice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 Good Algorithm?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92080" y="1499760"/>
            <a:ext cx="8136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corre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finite (in terms of time and siz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terminate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unambiguo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ch step is next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space and time efficien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rogram is an instance of an algorithm, written in some specific programming languag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imple Algorithm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96800" y="14997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blem: Find maximum of </a:t>
            </a:r>
            <a:r>
              <a:rPr b="0" lang="en-GB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a, b, 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put = </a:t>
            </a:r>
            <a:r>
              <a:rPr b="0" lang="en-GB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a, b, c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utput = </a:t>
            </a:r>
            <a:r>
              <a:rPr b="0" lang="en-GB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max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Let max = 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b &gt; max the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max =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c &gt; max the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max = 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Display max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rder is very important!!!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85560" y="626760"/>
            <a:ext cx="8715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VELOPMENT: BASIC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809360" y="1341000"/>
            <a:ext cx="8534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learly identify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is the input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output is required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steps are required to transform input into outpu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 crucial bi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eeds problem solving ski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roblem can be solved in many different way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ch solution, amongst the different possible solutions is optimal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express an algorithm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06360" y="1368360"/>
            <a:ext cx="8715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sequence of steps to solve a problem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a way to express this sequence of step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tural language (NL) is an obvious choice, but not a good choice. Why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Ls are notoriously ambiguous (unclear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gramming language (PL) is another choice, but again not a good choice. Why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 should be PL independ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some balanc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PL independ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clar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seudo-code provides the right bala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Pseudo-code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052280" y="1471320"/>
            <a:ext cx="100090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seudo-code is a short hand way of describing a computer progra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ather than using the specific syntax of a computer language, more general wording is us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is a mixture of NL and PL expressions, in a systematic wa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ing pseudo-code, it is easier for a non-programmer to understand the general workings of the progra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seudo-code: General Guidelines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69840" y="2000160"/>
            <a:ext cx="8715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 PLs construct that are consistent with modern high level languages, e.g. C++, Java, .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 appropriate comments for clar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simple and preci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11000" y="1604880"/>
            <a:ext cx="8715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press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ndard mathematical symbols are us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eft arrow sign (←) as the assignment operator in assignment statements (equivalent to the = operator in Jav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qual sign (=) as the equality relation in Boolean expressions (equivalent to the "= =" relation in Jav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←  0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← Sum + 5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is the final value of sum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33320" y="1499760"/>
            <a:ext cx="8715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ecision structures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(if-then-else logic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rue-actions [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false-actions]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use indentation to indicate what actions should be included in the true-actions and false-acti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marks &gt; 50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Congratulation, you are passed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Sorry, you are failed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i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 if marks are equal to 75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33320" y="1433160"/>
            <a:ext cx="8715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le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use indentation to indicate what actions should be included in the loop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unter &lt; 5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whi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 if counter is initialised to 0, 7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r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bjectives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familiar with problem solving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develop (and implement) algorithms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trace algorithms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select appropriate data structures and algorithms for given problems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variable-increment-definition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unter ← 0; counter &lt; 5; counter ← counter + 2 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fo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ost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o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&lt; 5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, if counter was initialised to 10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body of a post-condition loop must execute at least o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declara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turn_type   method_name  (parameter_list)  method_bo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ca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bject.method (arg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ycalculator.sum(num1, num2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retur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valu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resul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men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/* Multiple line comments go here. */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// Single line comments go he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me people prefer braces {}, for comme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rray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[i]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represents the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 cell in the array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cells of an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celled array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re indexed from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[0] to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− 1] (consistent with Java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sign: Practice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 algn="just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ample 1: Determining even/odd numb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number divisible by 2 is considered an even number, while a number which is not divisible by 2 is considered an odd number. Write pseudo-code to display first N odd/even number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566640" indent="-457200" algn="just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ample 2: Computing Weekly Wag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ross pay depends on the pay rate and the number of hours worked per week. However, if you work more than 40 hours, you get paid time-and-a-half for all hours worked over 40. Write the pseudo-code to compute gross pay given pay rate and hours work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n/ Odd Numbe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nput rang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 num←0; num&lt;=range; num←num+1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num % 2 = 0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num is ev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num is od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if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uting weekly wag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nput hours_worked, pay_rat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 hours_worked &lt;= 40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gross_pay ← pay_rate x hours_work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basic_pay ← pay_rate x 4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over_time ← hours_worked – 4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over_time_pay ← 1.5 x pay_rate x over_tim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gross_pay ← basic_pay + over_time_pa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gross_pa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ava Programming Basic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1706400" y="1566720"/>
            <a:ext cx="90601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oolea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oolean value: true or false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6-bit Unicode charact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8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6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1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34"/>
                </a:solidFill>
                <a:latin typeface="Arial"/>
              </a:rPr>
              <a:t>Prerequisites: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Variables and expressions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hods (functions or procedures 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Decision structures( like if-statements and switch-statements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Iteration structures (for-loops and while-loops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Classes and object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2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4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2-bit floating- point numb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4-bit floating- point numb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collection of facts from which conclusion may be drawn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.g. Data: Temperature 35°C;  Conclusion: It is hot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ypes of 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extual: For example, your name (Alya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umeric: For example, your ID (090254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udio: For example, your voic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Video: For example, your voice and pi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 structure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articular way of storing and organizing data in a computer so that it can be used efficiently and effectively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ta structure is the logical or mathematical model of a particular organization of data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group of data elements grouped together under one name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, an array of integer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752480" y="5735520"/>
            <a:ext cx="859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微軟正黑體"/>
              </a:rPr>
              <a:t>There are many, but we named a few. We’ll learn these data structures in great detail!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37" name="Group 49"/>
          <p:cNvGrpSpPr/>
          <p:nvPr/>
        </p:nvGrpSpPr>
        <p:grpSpPr>
          <a:xfrm>
            <a:off x="1905120" y="1279440"/>
            <a:ext cx="6705360" cy="533520"/>
            <a:chOff x="1905120" y="1279440"/>
            <a:chExt cx="6705360" cy="533520"/>
          </a:xfrm>
        </p:grpSpPr>
        <p:sp>
          <p:nvSpPr>
            <p:cNvPr id="238" name="Rectangle 3"/>
            <p:cNvSpPr/>
            <p:nvPr/>
          </p:nvSpPr>
          <p:spPr>
            <a:xfrm>
              <a:off x="19051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39" name="Rectangle 4"/>
            <p:cNvSpPr/>
            <p:nvPr/>
          </p:nvSpPr>
          <p:spPr>
            <a:xfrm>
              <a:off x="25146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31240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37339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43434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49528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55627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61722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67816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73915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80010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49" name="Group 50"/>
          <p:cNvGrpSpPr/>
          <p:nvPr/>
        </p:nvGrpSpPr>
        <p:grpSpPr>
          <a:xfrm>
            <a:off x="1981080" y="2346480"/>
            <a:ext cx="6553440" cy="533160"/>
            <a:chOff x="1981080" y="2346480"/>
            <a:chExt cx="6553440" cy="533160"/>
          </a:xfrm>
        </p:grpSpPr>
        <p:sp>
          <p:nvSpPr>
            <p:cNvPr id="250" name="Rectangle 14"/>
            <p:cNvSpPr/>
            <p:nvPr/>
          </p:nvSpPr>
          <p:spPr>
            <a:xfrm>
              <a:off x="198108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259056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297144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>
              <a:off x="358128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4" name="Rectangle 18"/>
            <p:cNvSpPr/>
            <p:nvPr/>
          </p:nvSpPr>
          <p:spPr>
            <a:xfrm>
              <a:off x="396216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>
              <a:off x="457200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6" name="Rectangle 20"/>
            <p:cNvSpPr/>
            <p:nvPr/>
          </p:nvSpPr>
          <p:spPr>
            <a:xfrm>
              <a:off x="495288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>
              <a:off x="556272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8" name="Rectangle 22"/>
            <p:cNvSpPr/>
            <p:nvPr/>
          </p:nvSpPr>
          <p:spPr>
            <a:xfrm>
              <a:off x="594360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655344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0" name="Rectangle 24"/>
            <p:cNvSpPr/>
            <p:nvPr/>
          </p:nvSpPr>
          <p:spPr>
            <a:xfrm>
              <a:off x="693432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>
              <a:off x="754416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2" name="Rectangle 26"/>
            <p:cNvSpPr/>
            <p:nvPr/>
          </p:nvSpPr>
          <p:spPr>
            <a:xfrm>
              <a:off x="792504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63" name="Group 51"/>
          <p:cNvGrpSpPr/>
          <p:nvPr/>
        </p:nvGrpSpPr>
        <p:grpSpPr>
          <a:xfrm>
            <a:off x="1828800" y="3413160"/>
            <a:ext cx="2133720" cy="1447920"/>
            <a:chOff x="1828800" y="3413160"/>
            <a:chExt cx="2133720" cy="1447920"/>
          </a:xfrm>
        </p:grpSpPr>
        <p:sp>
          <p:nvSpPr>
            <p:cNvPr id="264" name="Oval 27"/>
            <p:cNvSpPr/>
            <p:nvPr/>
          </p:nvSpPr>
          <p:spPr>
            <a:xfrm>
              <a:off x="2743200" y="341316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5" name="Oval 28"/>
            <p:cNvSpPr/>
            <p:nvPr/>
          </p:nvSpPr>
          <p:spPr>
            <a:xfrm>
              <a:off x="2286000" y="39466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6" name="Oval 29"/>
            <p:cNvSpPr/>
            <p:nvPr/>
          </p:nvSpPr>
          <p:spPr>
            <a:xfrm>
              <a:off x="1828800" y="448020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7" name="Line 30"/>
            <p:cNvSpPr/>
            <p:nvPr/>
          </p:nvSpPr>
          <p:spPr>
            <a:xfrm flipH="1">
              <a:off x="2514600" y="3641760"/>
              <a:ext cx="304560" cy="38088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8" name="Line 31"/>
            <p:cNvSpPr/>
            <p:nvPr/>
          </p:nvSpPr>
          <p:spPr>
            <a:xfrm flipH="1">
              <a:off x="2057400" y="4251600"/>
              <a:ext cx="304560" cy="30456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9" name="Oval 32"/>
            <p:cNvSpPr/>
            <p:nvPr/>
          </p:nvSpPr>
          <p:spPr>
            <a:xfrm>
              <a:off x="3200400" y="39466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0" name="Oval 33"/>
            <p:cNvSpPr/>
            <p:nvPr/>
          </p:nvSpPr>
          <p:spPr>
            <a:xfrm>
              <a:off x="3657960" y="448020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1" name="Line 34"/>
            <p:cNvSpPr/>
            <p:nvPr/>
          </p:nvSpPr>
          <p:spPr>
            <a:xfrm>
              <a:off x="3048120" y="3717720"/>
              <a:ext cx="228600" cy="22860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2" name="Line 35"/>
            <p:cNvSpPr/>
            <p:nvPr/>
          </p:nvSpPr>
          <p:spPr>
            <a:xfrm>
              <a:off x="3505320" y="4175280"/>
              <a:ext cx="228600" cy="38088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3" name="Oval 36"/>
            <p:cNvSpPr/>
            <p:nvPr/>
          </p:nvSpPr>
          <p:spPr>
            <a:xfrm>
              <a:off x="2514600" y="455652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4" name="Line 37"/>
            <p:cNvSpPr/>
            <p:nvPr/>
          </p:nvSpPr>
          <p:spPr>
            <a:xfrm>
              <a:off x="2514600" y="4251600"/>
              <a:ext cx="152280" cy="30456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75" name="Group 52"/>
          <p:cNvGrpSpPr/>
          <p:nvPr/>
        </p:nvGrpSpPr>
        <p:grpSpPr>
          <a:xfrm>
            <a:off x="4419720" y="3565440"/>
            <a:ext cx="3429000" cy="838440"/>
            <a:chOff x="4419720" y="3565440"/>
            <a:chExt cx="3429000" cy="838440"/>
          </a:xfrm>
        </p:grpSpPr>
        <p:sp>
          <p:nvSpPr>
            <p:cNvPr id="276" name="AutoShape 38"/>
            <p:cNvSpPr/>
            <p:nvPr/>
          </p:nvSpPr>
          <p:spPr>
            <a:xfrm>
              <a:off x="4952880" y="3565440"/>
              <a:ext cx="2362320" cy="838440"/>
            </a:xfrm>
            <a:prstGeom prst="flowChartMagneticDrum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7" name="Line 39"/>
            <p:cNvSpPr/>
            <p:nvPr/>
          </p:nvSpPr>
          <p:spPr>
            <a:xfrm>
              <a:off x="4419720" y="4022640"/>
              <a:ext cx="8380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8" name="Line 40"/>
            <p:cNvSpPr/>
            <p:nvPr/>
          </p:nvSpPr>
          <p:spPr>
            <a:xfrm>
              <a:off x="6934320" y="4022640"/>
              <a:ext cx="91440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79" name="Group 53"/>
          <p:cNvGrpSpPr/>
          <p:nvPr/>
        </p:nvGrpSpPr>
        <p:grpSpPr>
          <a:xfrm>
            <a:off x="8381880" y="3146400"/>
            <a:ext cx="1676520" cy="1638360"/>
            <a:chOff x="8381880" y="3146400"/>
            <a:chExt cx="1676520" cy="1638360"/>
          </a:xfrm>
        </p:grpSpPr>
        <p:sp>
          <p:nvSpPr>
            <p:cNvPr id="280" name="AutoShape 41"/>
            <p:cNvSpPr/>
            <p:nvPr/>
          </p:nvSpPr>
          <p:spPr>
            <a:xfrm>
              <a:off x="8686440" y="3580920"/>
              <a:ext cx="1219320" cy="1203840"/>
            </a:xfrm>
            <a:prstGeom prst="flowChartMagneticDisk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1" name="Freeform 42"/>
            <p:cNvSpPr/>
            <p:nvPr/>
          </p:nvSpPr>
          <p:spPr>
            <a:xfrm>
              <a:off x="8381880" y="3224160"/>
              <a:ext cx="723960" cy="557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56" h="400">
                  <a:moveTo>
                    <a:pt x="0" y="16"/>
                  </a:moveTo>
                  <a:cubicBezTo>
                    <a:pt x="156" y="8"/>
                    <a:pt x="312" y="0"/>
                    <a:pt x="384" y="64"/>
                  </a:cubicBezTo>
                  <a:cubicBezTo>
                    <a:pt x="456" y="128"/>
                    <a:pt x="424" y="344"/>
                    <a:pt x="432" y="400"/>
                  </a:cubicBezTo>
                </a:path>
              </a:pathLst>
            </a:custGeom>
            <a:noFill/>
            <a:ln w="9360">
              <a:solidFill>
                <a:srgbClr val="2929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2" name="Freeform 43"/>
            <p:cNvSpPr/>
            <p:nvPr/>
          </p:nvSpPr>
          <p:spPr>
            <a:xfrm>
              <a:off x="9347040" y="3146400"/>
              <a:ext cx="711360" cy="6354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448" h="456">
                  <a:moveTo>
                    <a:pt x="64" y="456"/>
                  </a:moveTo>
                  <a:cubicBezTo>
                    <a:pt x="32" y="300"/>
                    <a:pt x="0" y="144"/>
                    <a:pt x="64" y="72"/>
                  </a:cubicBezTo>
                  <a:cubicBezTo>
                    <a:pt x="128" y="0"/>
                    <a:pt x="384" y="32"/>
                    <a:pt x="448" y="24"/>
                  </a:cubicBezTo>
                </a:path>
              </a:pathLst>
            </a:custGeom>
            <a:noFill/>
            <a:ln w="9360">
              <a:solidFill>
                <a:srgbClr val="2929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283" name="Text Box 44"/>
          <p:cNvSpPr/>
          <p:nvPr/>
        </p:nvSpPr>
        <p:spPr>
          <a:xfrm>
            <a:off x="8754480" y="1355760"/>
            <a:ext cx="101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Array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Text Box 45"/>
          <p:cNvSpPr/>
          <p:nvPr/>
        </p:nvSpPr>
        <p:spPr>
          <a:xfrm>
            <a:off x="8736480" y="2346480"/>
            <a:ext cx="17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Linked List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Text Box 46"/>
          <p:cNvSpPr/>
          <p:nvPr/>
        </p:nvSpPr>
        <p:spPr>
          <a:xfrm>
            <a:off x="2394000" y="508968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Tre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6" name="Text Box 47"/>
          <p:cNvSpPr/>
          <p:nvPr/>
        </p:nvSpPr>
        <p:spPr>
          <a:xfrm>
            <a:off x="5241240" y="4861080"/>
            <a:ext cx="108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Queu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7" name="Text Box 48"/>
          <p:cNvSpPr/>
          <p:nvPr/>
        </p:nvSpPr>
        <p:spPr>
          <a:xfrm>
            <a:off x="8865720" y="4937040"/>
            <a:ext cx="94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Stack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Title 1"/>
          <p:cNvSpPr/>
          <p:nvPr/>
        </p:nvSpPr>
        <p:spPr>
          <a:xfrm>
            <a:off x="1981080" y="30780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Data Structures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639520" y="188640"/>
            <a:ext cx="7248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e Need for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828440" y="126828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oal: to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rganize data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riteria: to facilitate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orage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trieval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nipulatio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ign Issue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elect and desig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ppropriate data types  </a:t>
            </a:r>
            <a:br>
              <a:rPr sz="2000"/>
            </a:b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This is the main motivation to learn and understand data structure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(Demonstrate using class room example!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ravers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ccessing each data element exactly once so that certain items in the data may be process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earch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inding the location of the data element (key) in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ser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dding a new data element to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ele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moving a data element from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rt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rrange the data elements in a logical order (ascending/descending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rg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bining data elements from two or more data structures into 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1:48:50Z</dcterms:created>
  <dc:creator>K AlSultan</dc:creator>
  <dc:description/>
  <dc:language>en-US</dc:language>
  <cp:lastModifiedBy>Nouf</cp:lastModifiedBy>
  <dcterms:modified xsi:type="dcterms:W3CDTF">2016-01-20T06:24:03Z</dcterms:modified>
  <cp:revision>25</cp:revision>
  <dc:subject/>
  <dc:title>Introduction</dc:title>
</cp:coreProperties>
</file>