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WHOOSH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BDD0-7557-4490-8CB5-31D8189D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7F19-2B90-401E-BC30-C82794EFD09B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B8F8-AE82-40CE-8EF9-8603DA2C98F0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54C3-1E58-4830-8946-1450D154B501}" type="slidenum">
              <a:rPr b="0" lang="en-GB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746-EA70-42B3-A8EB-151AD9FE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E33-B96B-4FF2-AC26-7B8F875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F45-335B-4408-BF8B-28EE24E2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BE2-5F26-4105-A1EC-04AE615B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D701-531C-4B73-A474-58923E22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75E1-845E-4553-9C21-43D69DDB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3DDA-8232-4D89-8FFB-8E9006E3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6009-7BC2-43D8-BEFC-C512FF50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D0B4-C1C8-432F-B68C-9CD1E40D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409D-1FA0-420A-9BA3-EAD4CDFE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F60F-FD0B-4035-AFAF-28D3BA8B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269-185C-43DD-80A4-CAF02082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E0C3-D3A2-44F9-B40B-A3E71951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7401-D30F-4EFD-B481-D6FE63B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D2B6-E0D2-404F-8F0A-A13F20F0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9104-7113-41A1-A31D-21189A78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4FB1-0FD9-40AE-B818-4F0743BF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CC88-FB08-4358-A319-853A994B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F120-00F8-4ECF-A661-84B275AE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7E85-F221-4999-A0AD-8D2DCBF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E3F3-0A74-423B-814D-A2F9F690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BED2-8E4F-4A8B-99D7-E3AFE799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6F8-1726-4328-B822-89DA920E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21FB-E809-4B76-ACF9-A2B11DAF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CC57-ABDE-4A5D-B6B0-680767C1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8980-513B-4D7C-B42C-900F9433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3922-5E3B-43C7-AC67-29823C5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E43F-3817-42FB-BCB0-B5540BEC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5860-D5EA-4B4C-BDB0-C2EA5908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BB2B-EE99-4F33-8181-3757B2A2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74FE-DDD1-411C-9575-15553F53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37D5-08F7-4150-99C3-F56D05CC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358E-711F-4EDC-87E2-561BBCAE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801-93CE-47C8-ACE2-404B9937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29595-5A68-4674-BD98-39008DC4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A48CA-3413-44FF-B69E-B81A8A42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76AB-A331-4AED-B013-AD3E1943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4213-D006-4894-A03C-35D0D272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03F7A-1E22-46B2-A9CF-8C661C74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F1E8-1CF5-4A7F-ACD2-A3BA78F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D0AE2-E5E2-478A-BD3B-7192BBB7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DB79-17E7-4F6B-823E-33DA8FDD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C9B2-665B-46E8-9D1F-27CE3F2B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ED4F-9C3D-404C-AAA2-8647BF16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04B-2823-43F4-81EE-AAB6D4D6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20EF-53AB-433C-A290-F997635F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C12B3-078F-48D7-AFB5-61377893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975C2-9317-47AE-8280-E0C9C654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4B84-FFEA-49D3-9E5E-37EA197E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8A9B7-8682-4B81-A9E7-3E9D0C3C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00FF0-CF25-42EC-ADF6-1AF86D21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D3356-FC9C-4A77-9AA6-16050EA5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543BB-55A1-46C0-8507-81B3672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77ED6-B630-4CFB-A1E9-0E0B248C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1C81D-4F9D-41D7-9277-18A6F1D9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10972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7A3-85DC-4779-95B6-F0847F90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4147200"/>
            <a:ext cx="3533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9F355-0B5B-48CD-A5F0-6D920773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F1E-CFAA-4B71-A098-F708505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414720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185-E406-4614-B7C7-96DDA284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47200"/>
            <a:ext cx="10972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F8A-5565-492F-B56D-3865EF1C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2A9A-4389-4C46-8957-7A857F8ED1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14400" y="3398760"/>
            <a:ext cx="1046484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4F41-6CF8-48EC-804E-F584E5B8EE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74880" y="4599000"/>
            <a:ext cx="1046448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27FA-7991-416B-93AE-6D5751CD63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6095520" y="1692360"/>
            <a:ext cx="180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9165-8795-4A89-A18E-02DE00F262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1219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1219212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3700440" y="792000"/>
            <a:ext cx="144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18720"/>
            <a:ext cx="38610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0" y="18720"/>
            <a:ext cx="54864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10159560" y="18720"/>
            <a:ext cx="142236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62FD-A593-4B21-86D6-9BAAEF41AA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1701720"/>
            <a:ext cx="1046484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GC 211:DATA STRUCTURES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EK#1: OVERVIEW &amp; REVIEW</a:t>
            </a:r>
            <a:br>
              <a:rPr sz="5400"/>
            </a:b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04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76e"/>
                </a:solidFill>
                <a:latin typeface="Arial"/>
              </a:rPr>
              <a:t>Some slides are borrowed from Mr. Mohammad Alqahtani 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lgorithm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55560" y="153324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finite set of instructions which accomplish a particular tas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method or process to solve a proble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ransforms input of a problem to outp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 = Input + Process + Outpu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Algorithm development is an art – it needs practice, practice and only practice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 Good Algorithm?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92080" y="1499760"/>
            <a:ext cx="8136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corre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finite (in terms of time and siz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terminate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unambiguo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ch step is next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must be space and time efficien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rogram is an instance of an algorithm, written in some specific programming languag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imple Algorithm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96800" y="14997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blem: Find maximum of </a:t>
            </a:r>
            <a:r>
              <a:rPr b="0" lang="en-GB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a, b, 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put = </a:t>
            </a:r>
            <a:r>
              <a:rPr b="0" lang="en-GB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a, b, c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utput = </a:t>
            </a:r>
            <a:r>
              <a:rPr b="0" lang="en-GB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max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Let max = 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b &gt; max the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max =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c &gt; max then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max = 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Display max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rder is very important!!!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85560" y="626760"/>
            <a:ext cx="8715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VELOPMENT: BASIC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809360" y="1341000"/>
            <a:ext cx="8534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learly identify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is the input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output is required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steps are required to transform input into outpu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 crucial bi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eeds problem solving ski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roblem can be solved in many different way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ch solution, amongst the different possible solutions is optimal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express an algorithm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06360" y="1368360"/>
            <a:ext cx="8715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sequence of steps to solve a problem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a way to express this sequence of step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tural language (NL) is an obvious choice, but not a good choice. Why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Ls are notoriously ambiguous (unclear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ogramming language (PL) is another choice, but again not a good choice. Why?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lgorithm should be PL independ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some balanc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PL independ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need clar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seudo-code provides the right bala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Pseudo-code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052280" y="1471320"/>
            <a:ext cx="100090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seudo-code is a short hand way of describing a computer progra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ather than using the specific syntax of a computer language, more general wording is us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t is a mixture of NL and PL expressions, in a systematic wa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ing pseudo-code, it is easier for a non-programmer to understand the general workings of the progra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seudo-code: General Guidelines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69840" y="2000160"/>
            <a:ext cx="8715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 PLs construct that are consistent with modern high level languages, e.g. C++, Java, ..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 appropriate comments for clar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simple and preci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11000" y="1604880"/>
            <a:ext cx="8715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press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ndard mathematical symbols are us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eft arrow sign (←) as the assignment operator in assignment statements (equivalent to the = operator in Jav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qual sign (=) as the equality relation in Boolean expressions (equivalent to the "= =" relation in Java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-246240" algn="just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←  0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← Sum + 5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is the final value of sum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33320" y="1499760"/>
            <a:ext cx="8715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ecision structures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(if-then-else logic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rue-actions [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false-actions]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use indentation to indicate what actions should be included in the true-actions and false-acti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marks &gt; 50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Congratulation, you are passed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114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Sorry, you are failed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i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 if marks are equal to 75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33320" y="1433160"/>
            <a:ext cx="8715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ile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 use indentation to indicate what actions should be included in the loop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unter &lt; 5 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whil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 if counter is initialised to 0, 7?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r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bjectives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familiar with problem solving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develop (and implement) algorithms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trace algorithms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 able to select appropriate data structures and algorithms for given problems</a:t>
            </a: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variable-increment-definition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unter ← 0; counter &lt; 5; counter ← counter + 2 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end fo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ost-condition loop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o loops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ctions </a:t>
            </a:r>
            <a:r>
              <a:rPr b="1" lang="en-US" sz="16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conditio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292934"/>
                </a:solidFill>
                <a:latin typeface="Courier New"/>
                <a:ea typeface="Courier New"/>
              </a:rPr>
              <a:t>while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nter &lt; 5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at will be the output, if counter was initialised to 10?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body of a post-condition loop must execute at least o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declara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turn_type   method_name  (parameter_list)  method_bod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ca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bject.method (arg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ycalculator.sum(num1, num2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thod retur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valu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292934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resul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 algn="just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men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/* Multiple line comments go here. */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// Single line comments go he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me people prefer braces {}, for comme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rray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[i]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represents the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 cell in the array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cells of an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celled array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re indexed from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[0] to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− 1] (consistent with Java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sign: Practice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 algn="just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ample 1: Determining even/odd numbe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number divisible by 2 is considered an even number, while a number which is not divisible by 2 is considered an odd number. Write pseudo-code to display first N odd/even number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566640" indent="-457200" algn="just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ample 2: Computing Weekly Wag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ross pay depends on the pay rate and the number of hours worked per week. However, if you work more than 40 hours, you get paid time-and-a-half for all hours worked over 40. Write the pseudo-code to compute gross pay given pay rate and hours work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n/ Odd Numbe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nput rang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 num←0; num&lt;=range; num←num+1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do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f 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num % 2 = 0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num is ev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num is od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if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uting weekly wag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nput hours_worked, pay_rat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 hours_worked &lt;= 40 </a:t>
            </a: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gross_pay ← pay_rate x hours_work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basic_pay ← pay_rate x 4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over_time ← hours_worked – 4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over_time_pay ← 1.5 x pay_rate x over_tim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Courier New"/>
                <a:ea typeface="Courier New"/>
              </a:rPr>
              <a:t>gross_pay ← basic_pay + over_time_pa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ourier New"/>
                <a:ea typeface="Courier New"/>
              </a:rPr>
              <a:t>print gross_pa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ava Programming Basic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1706400" y="1566720"/>
            <a:ext cx="90601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oolea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oolean value: true or false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6-bit Unicode charact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8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6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1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34"/>
                </a:solidFill>
                <a:latin typeface="Arial"/>
              </a:rPr>
              <a:t>Prerequisites: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Variables and expressions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hods (functions or procedures 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Decision structures( like if-statements and switch-statements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Iteration structures (for-loops and while-loops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Classes and object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2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4-bit signed two’s complement integer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2-bit floating- point numb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64-bit floating- point number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collection of facts from which conclusion may be drawn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.g. Data: Temperature 35°C;  Conclusion: It is hot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ypes of dat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extual: For example, your name (Alya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umeric: For example, your ID (090254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udio: For example, your voic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Video: For example, your voice and pi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 structure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480" y="1599840"/>
            <a:ext cx="1097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particular way of storing and organizing data in a computer so that it can be used efficiently and effectively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ta structure is the logical or mathematical model of a particular organization of data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group of data elements grouped together under one name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or example, an array of integer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752480" y="5735520"/>
            <a:ext cx="859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Times New Roman"/>
                <a:ea typeface="微軟正黑體"/>
              </a:rPr>
              <a:t>There are many, but we named a few. We’ll learn these data structures in great detail!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37" name="Group 49"/>
          <p:cNvGrpSpPr/>
          <p:nvPr/>
        </p:nvGrpSpPr>
        <p:grpSpPr>
          <a:xfrm>
            <a:off x="1905120" y="1279440"/>
            <a:ext cx="6705360" cy="533520"/>
            <a:chOff x="1905120" y="1279440"/>
            <a:chExt cx="6705360" cy="533520"/>
          </a:xfrm>
        </p:grpSpPr>
        <p:sp>
          <p:nvSpPr>
            <p:cNvPr id="238" name="Rectangle 3"/>
            <p:cNvSpPr/>
            <p:nvPr/>
          </p:nvSpPr>
          <p:spPr>
            <a:xfrm>
              <a:off x="19051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39" name="Rectangle 4"/>
            <p:cNvSpPr/>
            <p:nvPr/>
          </p:nvSpPr>
          <p:spPr>
            <a:xfrm>
              <a:off x="25146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31240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37339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43434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49528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55627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61722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678168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739152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8001000" y="1279440"/>
              <a:ext cx="609480" cy="53352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49" name="Group 50"/>
          <p:cNvGrpSpPr/>
          <p:nvPr/>
        </p:nvGrpSpPr>
        <p:grpSpPr>
          <a:xfrm>
            <a:off x="1981080" y="2346480"/>
            <a:ext cx="6553440" cy="533160"/>
            <a:chOff x="1981080" y="2346480"/>
            <a:chExt cx="6553440" cy="533160"/>
          </a:xfrm>
        </p:grpSpPr>
        <p:sp>
          <p:nvSpPr>
            <p:cNvPr id="250" name="Rectangle 14"/>
            <p:cNvSpPr/>
            <p:nvPr/>
          </p:nvSpPr>
          <p:spPr>
            <a:xfrm>
              <a:off x="198108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259056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297144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>
              <a:off x="358128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4" name="Rectangle 18"/>
            <p:cNvSpPr/>
            <p:nvPr/>
          </p:nvSpPr>
          <p:spPr>
            <a:xfrm>
              <a:off x="396216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>
              <a:off x="457200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6" name="Rectangle 20"/>
            <p:cNvSpPr/>
            <p:nvPr/>
          </p:nvSpPr>
          <p:spPr>
            <a:xfrm>
              <a:off x="495288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>
              <a:off x="556272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8" name="Rectangle 22"/>
            <p:cNvSpPr/>
            <p:nvPr/>
          </p:nvSpPr>
          <p:spPr>
            <a:xfrm>
              <a:off x="594360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655344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0" name="Rectangle 24"/>
            <p:cNvSpPr/>
            <p:nvPr/>
          </p:nvSpPr>
          <p:spPr>
            <a:xfrm>
              <a:off x="693432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>
              <a:off x="7544160" y="2651040"/>
              <a:ext cx="3808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2" name="Rectangle 26"/>
            <p:cNvSpPr/>
            <p:nvPr/>
          </p:nvSpPr>
          <p:spPr>
            <a:xfrm>
              <a:off x="7925040" y="2346480"/>
              <a:ext cx="609480" cy="533160"/>
            </a:xfrm>
            <a:prstGeom prst="rect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63" name="Group 51"/>
          <p:cNvGrpSpPr/>
          <p:nvPr/>
        </p:nvGrpSpPr>
        <p:grpSpPr>
          <a:xfrm>
            <a:off x="1828800" y="3413160"/>
            <a:ext cx="2133720" cy="1447920"/>
            <a:chOff x="1828800" y="3413160"/>
            <a:chExt cx="2133720" cy="1447920"/>
          </a:xfrm>
        </p:grpSpPr>
        <p:sp>
          <p:nvSpPr>
            <p:cNvPr id="264" name="Oval 27"/>
            <p:cNvSpPr/>
            <p:nvPr/>
          </p:nvSpPr>
          <p:spPr>
            <a:xfrm>
              <a:off x="2743200" y="341316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5" name="Oval 28"/>
            <p:cNvSpPr/>
            <p:nvPr/>
          </p:nvSpPr>
          <p:spPr>
            <a:xfrm>
              <a:off x="2286000" y="39466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6" name="Oval 29"/>
            <p:cNvSpPr/>
            <p:nvPr/>
          </p:nvSpPr>
          <p:spPr>
            <a:xfrm>
              <a:off x="1828800" y="448020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7" name="Line 30"/>
            <p:cNvSpPr/>
            <p:nvPr/>
          </p:nvSpPr>
          <p:spPr>
            <a:xfrm flipH="1">
              <a:off x="2514600" y="3641760"/>
              <a:ext cx="304560" cy="38088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8" name="Line 31"/>
            <p:cNvSpPr/>
            <p:nvPr/>
          </p:nvSpPr>
          <p:spPr>
            <a:xfrm flipH="1">
              <a:off x="2057400" y="4251600"/>
              <a:ext cx="304560" cy="30456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69" name="Oval 32"/>
            <p:cNvSpPr/>
            <p:nvPr/>
          </p:nvSpPr>
          <p:spPr>
            <a:xfrm>
              <a:off x="3200400" y="394668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0" name="Oval 33"/>
            <p:cNvSpPr/>
            <p:nvPr/>
          </p:nvSpPr>
          <p:spPr>
            <a:xfrm>
              <a:off x="3657960" y="448020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1" name="Line 34"/>
            <p:cNvSpPr/>
            <p:nvPr/>
          </p:nvSpPr>
          <p:spPr>
            <a:xfrm>
              <a:off x="3048120" y="3717720"/>
              <a:ext cx="228600" cy="22860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2" name="Line 35"/>
            <p:cNvSpPr/>
            <p:nvPr/>
          </p:nvSpPr>
          <p:spPr>
            <a:xfrm>
              <a:off x="3505320" y="4175280"/>
              <a:ext cx="228600" cy="38088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3" name="Oval 36"/>
            <p:cNvSpPr/>
            <p:nvPr/>
          </p:nvSpPr>
          <p:spPr>
            <a:xfrm>
              <a:off x="2514600" y="4556520"/>
              <a:ext cx="304560" cy="304560"/>
            </a:xfrm>
            <a:prstGeom prst="ellipse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4" name="Line 37"/>
            <p:cNvSpPr/>
            <p:nvPr/>
          </p:nvSpPr>
          <p:spPr>
            <a:xfrm>
              <a:off x="2514600" y="4251600"/>
              <a:ext cx="152280" cy="304560"/>
            </a:xfrm>
            <a:prstGeom prst="line">
              <a:avLst/>
            </a:prstGeom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75" name="Group 52"/>
          <p:cNvGrpSpPr/>
          <p:nvPr/>
        </p:nvGrpSpPr>
        <p:grpSpPr>
          <a:xfrm>
            <a:off x="4419720" y="3565440"/>
            <a:ext cx="3429000" cy="838440"/>
            <a:chOff x="4419720" y="3565440"/>
            <a:chExt cx="3429000" cy="838440"/>
          </a:xfrm>
        </p:grpSpPr>
        <p:sp>
          <p:nvSpPr>
            <p:cNvPr id="276" name="AutoShape 38"/>
            <p:cNvSpPr/>
            <p:nvPr/>
          </p:nvSpPr>
          <p:spPr>
            <a:xfrm>
              <a:off x="4952880" y="3565440"/>
              <a:ext cx="2362320" cy="838440"/>
            </a:xfrm>
            <a:prstGeom prst="flowChartMagneticDrum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7" name="Line 39"/>
            <p:cNvSpPr/>
            <p:nvPr/>
          </p:nvSpPr>
          <p:spPr>
            <a:xfrm>
              <a:off x="4419720" y="4022640"/>
              <a:ext cx="8380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78" name="Line 40"/>
            <p:cNvSpPr/>
            <p:nvPr/>
          </p:nvSpPr>
          <p:spPr>
            <a:xfrm>
              <a:off x="6934320" y="4022640"/>
              <a:ext cx="91440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279" name="Group 53"/>
          <p:cNvGrpSpPr/>
          <p:nvPr/>
        </p:nvGrpSpPr>
        <p:grpSpPr>
          <a:xfrm>
            <a:off x="8381880" y="3146400"/>
            <a:ext cx="1676520" cy="1638360"/>
            <a:chOff x="8381880" y="3146400"/>
            <a:chExt cx="1676520" cy="1638360"/>
          </a:xfrm>
        </p:grpSpPr>
        <p:sp>
          <p:nvSpPr>
            <p:cNvPr id="280" name="AutoShape 41"/>
            <p:cNvSpPr/>
            <p:nvPr/>
          </p:nvSpPr>
          <p:spPr>
            <a:xfrm>
              <a:off x="8686440" y="3580920"/>
              <a:ext cx="1219320" cy="1203840"/>
            </a:xfrm>
            <a:prstGeom prst="flowChartMagneticDisk">
              <a:avLst/>
            </a:prstGeom>
            <a:solidFill>
              <a:srgbClr val="93a299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1" name="Freeform 42"/>
            <p:cNvSpPr/>
            <p:nvPr/>
          </p:nvSpPr>
          <p:spPr>
            <a:xfrm>
              <a:off x="8381880" y="3224160"/>
              <a:ext cx="723960" cy="557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56" h="400">
                  <a:moveTo>
                    <a:pt x="0" y="16"/>
                  </a:moveTo>
                  <a:cubicBezTo>
                    <a:pt x="156" y="8"/>
                    <a:pt x="312" y="0"/>
                    <a:pt x="384" y="64"/>
                  </a:cubicBezTo>
                  <a:cubicBezTo>
                    <a:pt x="456" y="128"/>
                    <a:pt x="424" y="344"/>
                    <a:pt x="432" y="400"/>
                  </a:cubicBezTo>
                </a:path>
              </a:pathLst>
            </a:custGeom>
            <a:noFill/>
            <a:ln w="9360">
              <a:solidFill>
                <a:srgbClr val="2929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282" name="Freeform 43"/>
            <p:cNvSpPr/>
            <p:nvPr/>
          </p:nvSpPr>
          <p:spPr>
            <a:xfrm>
              <a:off x="9347040" y="3146400"/>
              <a:ext cx="711360" cy="6354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448" h="456">
                  <a:moveTo>
                    <a:pt x="64" y="456"/>
                  </a:moveTo>
                  <a:cubicBezTo>
                    <a:pt x="32" y="300"/>
                    <a:pt x="0" y="144"/>
                    <a:pt x="64" y="72"/>
                  </a:cubicBezTo>
                  <a:cubicBezTo>
                    <a:pt x="128" y="0"/>
                    <a:pt x="384" y="32"/>
                    <a:pt x="448" y="24"/>
                  </a:cubicBezTo>
                </a:path>
              </a:pathLst>
            </a:custGeom>
            <a:noFill/>
            <a:ln w="9360">
              <a:solidFill>
                <a:srgbClr val="2929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283" name="Text Box 44"/>
          <p:cNvSpPr/>
          <p:nvPr/>
        </p:nvSpPr>
        <p:spPr>
          <a:xfrm>
            <a:off x="8754480" y="1355760"/>
            <a:ext cx="101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Array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Text Box 45"/>
          <p:cNvSpPr/>
          <p:nvPr/>
        </p:nvSpPr>
        <p:spPr>
          <a:xfrm>
            <a:off x="8736480" y="2346480"/>
            <a:ext cx="17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Linked List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Text Box 46"/>
          <p:cNvSpPr/>
          <p:nvPr/>
        </p:nvSpPr>
        <p:spPr>
          <a:xfrm>
            <a:off x="2394000" y="508968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Tre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6" name="Text Box 47"/>
          <p:cNvSpPr/>
          <p:nvPr/>
        </p:nvSpPr>
        <p:spPr>
          <a:xfrm>
            <a:off x="5241240" y="4861080"/>
            <a:ext cx="108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Queu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7" name="Text Box 48"/>
          <p:cNvSpPr/>
          <p:nvPr/>
        </p:nvSpPr>
        <p:spPr>
          <a:xfrm>
            <a:off x="8865720" y="4937040"/>
            <a:ext cx="94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Garamond"/>
                <a:ea typeface="微軟正黑體"/>
              </a:rPr>
              <a:t>Stack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Title 1"/>
          <p:cNvSpPr/>
          <p:nvPr/>
        </p:nvSpPr>
        <p:spPr>
          <a:xfrm>
            <a:off x="1981080" y="30780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Data Structures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639520" y="188640"/>
            <a:ext cx="7248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e Need for Data Structur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828440" y="126828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oal: to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rganize data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riteria: to facilitate </a:t>
            </a:r>
            <a:r>
              <a:rPr b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torage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trieval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nipulatio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of data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ign Issue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elect and design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ppropriate data types  </a:t>
            </a:r>
            <a:br>
              <a:rPr sz="2000"/>
            </a:b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This is the main motivation to learn and understand data structure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(Demonstrate using class room example!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ravers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ccessing each data element exactly once so that certain items in the data may be processe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earch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 algn="just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inding the location of the data element (key) in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ser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dding a new data element to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ele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Removing a data element from the stru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rt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rrange the data elements in a logical order (ascending/descending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erg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54200" indent="-34308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bining data elements from two or more data structures into 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1:48:50Z</dcterms:created>
  <dc:creator>K AlSultan</dc:creator>
  <dc:description/>
  <dc:language>en-US</dc:language>
  <cp:lastModifiedBy>Nouf</cp:lastModifiedBy>
  <dcterms:modified xsi:type="dcterms:W3CDTF">2016-01-20T06:24:03Z</dcterms:modified>
  <cp:revision>25</cp:revision>
  <dc:subject/>
  <dc:title>Introduction</dc:title>
</cp:coreProperties>
</file>