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BE7-46FF-4895-B4D0-2DC29470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767-C646-4049-9AA0-46154F0B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A1CE8-81BC-47D5-8A21-8EB70638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F6618-A072-4D68-86D0-B0FD6034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AB2F1-228D-417E-8887-969CD89A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1673C-C2A3-4096-AAB0-630F3BC2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545C6-1BB1-48EC-B297-2214446E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F9724-CA19-4875-B373-F63C9D32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ACA11-48E4-4A1F-82BD-07A6D5BB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81016-5EBB-402D-AC02-E542F187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3CC24-6BC6-4BC6-AEE1-9DEA5E61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8B5-BE0B-4436-A41B-9CC397EE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59D-A9C1-46E9-8744-DCDADB43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BC20-3F39-4D7B-B321-B141B123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533D-B915-498D-8BAE-C51AE517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8450-021A-4321-882F-A8804025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DAC5-A571-4DDC-9483-ECF8D149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E498-C0BC-4188-989A-CE012EAC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52A6-E0E6-4217-9F5A-428BC719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0E8F-F280-46DE-BBBB-086ABB9E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400-0352-4515-A60B-2D7E5750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755B-B05A-42BF-8BAD-C3AC2EFE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47AF-F7ED-4534-863F-76FBD766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86CA-03F3-45FB-8B0A-4F0E6C69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DEF6-C76A-41BC-8D80-139B7844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FBE3-48AC-45E9-A82B-B9C4510B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C7F47-9C0A-4251-BF42-798DE6BF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29932-32AC-4F05-8499-F8F26189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FD195-211C-4B45-A7AE-59F91625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1041-E56A-4194-A9E7-2AAF391E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F75D4-AF11-4DA5-A61B-7E5B160C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F7D-7F67-402A-89D2-FF4F13E8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20C9-5075-405F-8B17-B94135B2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7D82-7280-46D8-A2D0-2F30CD7F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1894-39D3-4A5B-8E9D-276E7996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88212-4AC6-4CBB-8C4E-902757DD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30A02-D324-42A7-8371-9785F822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254DB-AF62-4873-AE97-00478B7D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24BD6-275A-4CD0-9BCA-595FF3CC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64259-3F48-489E-AE58-D787CCB8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776EF-92A9-4120-9458-ECCD8A6E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A3A51-5A0F-44D1-8B1C-FEE5A4E2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46C-0136-440B-8E43-4E765718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D072E-FBB0-4EF9-9905-D08AF7B5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48A5E-0E0F-431E-84F3-45A37948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434C8-93BA-44FB-9A44-CB07A1E1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C971A-F04C-4DE0-9C9C-677FCA7E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C6916-ABE2-4A38-9538-7260A4BA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4E455-12E8-4A29-93F5-AD3EDC7C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A3CE5-0269-491B-A295-F1BCCF0E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09193-7DBA-41C2-8C2C-FC5F3BA1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6585-102B-447C-868E-6C9782CD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45EE8-C9E3-4F23-8499-C322725B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806-CB1C-43D0-B7E6-102A3435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94E03-43A7-4335-A9FD-7889F3B6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0E407-AC5B-4030-9759-916F4BCC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61A8D-BCA9-49F1-A09E-37F6FA28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F7123-B7B4-48E4-B80D-E4E80086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BEE24-7D18-40B6-AFEF-DFE2AADA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40FE9-EE5E-4F48-B5F7-0533DE6B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8687D-6494-41E8-A101-8E88ED76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9F894-A67F-44D0-9D19-F655E258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FF6F6-E424-4F56-A593-0B603C81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84FA5-63FB-40FC-9EF7-D8A6ECEF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A84-D6F4-475B-81EB-B4116468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D34B0-45B4-499A-8923-9EFDD5FE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6399E-B24F-4752-A35E-7FE1D37F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8FC5E-974B-4905-83D5-13F70D7D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27BFA-BD3E-4006-9B92-FCEB2AF6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8292F-E80D-4CD8-A95C-7B0331D7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7A9F2-76B5-41DB-8FEA-5280C1AA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949A9-382A-47A3-B58B-F50F4EFE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9D019-2B08-4C68-9940-9F67949B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65DAB-D664-4A3F-B63C-FB614961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D7FDB-8E6D-4515-BF51-77CD5CAE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D59-74BF-4D2D-82D3-D73BF68B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39D55-0A0C-4690-B682-458E66F1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94E3A-5867-4638-866B-89458ADE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2B304-B985-46EB-829E-C72C3535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A026F-5ADB-42F4-938C-725390AB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23F55-D87C-46F7-8C57-591D22D4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1D282-FC32-4027-88A2-41696BF4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C1BCF-A627-4302-A548-6E112E2F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87CF4-B2A8-4E13-B12C-EEBDF8DC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D547D-86D2-4C2B-8F49-BB05EFCF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18053-1886-4710-A03A-DE0C69E4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867-8A71-4806-8489-E1FA1F1E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1D025-6E84-462C-8CD8-732B47F1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9503C-C7A3-4D77-91A3-6FE7FD3F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483B3-9FE1-42B0-887B-C2F1AD1A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3BF83-3DB5-4329-A99A-1045DC21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17C9C-C8DC-457F-9AEB-538D9DAE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99B11-8F39-4F36-9816-4C1851DB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F9D9F-BBCD-4585-9A02-60C0BD48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001BA-ACF9-4CF6-B921-1739F2C7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6939E-5C6C-447A-984D-5A4817A8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722BB-4737-47F1-914C-B0CA26BD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4F50-EF9D-45E8-8D3F-7901691A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6F450-5F23-468C-A0D5-780E667A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9D852-A4DA-4D63-9925-B957A1A4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148D8-F6DB-488B-A48F-BE9BC709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F590E-1E4A-407A-87BF-0715A556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DE5A7-B805-4F09-8ACB-5658A9FC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07B00-08AB-4B50-8CF4-264E6A6C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0EDA9-933B-49AD-9F91-516EAB74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BB330-9C56-4BBC-BCAF-00EDA1BC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1977A-D6C9-4EF5-BC77-38AC2CA3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3578F-A14C-47CC-9E79-24726241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رابط مستقيم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رابط مستقيم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E218-40A0-47E2-B4DB-DDC98D73127F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رابط مستقيم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رابط مستقيم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رابط مستقيم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رابط مستقيم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رابط مستقيم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3777-7444-4426-97C7-931C3AF0ED7F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رابط مستقيم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رابط مستقيم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رابط مستقيم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رابط مستقيم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رابط مستقيم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رابط مستقيم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23CE-DAF0-4A1A-AC13-F39AD43E7514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رابط مستقيم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D538-D7C3-49FF-AFDE-5FDADBD7B9EA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رابط مستقيم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C31B-A1B0-4037-BFA5-85D17B936FAE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D19A-1593-4DC9-9053-BC43C79F4F74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رابط مستقيم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1D69-FE27-4456-9F63-93F8CFFDA8F8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E7CE-DA80-47A0-BDD5-BF42C2B04863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7486-5834-4CE5-A044-58B2FD0F636A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Indo-Iranian_languages" TargetMode="External"/><Relationship Id="rId3" Type="http://schemas.openxmlformats.org/officeDocument/2006/relationships/hyperlink" Target="http://en.wikipedia.org/wiki/Indo-European_languages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928800" y="3929040"/>
            <a:ext cx="8215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Franklin Gothic Book"/>
              </a:rPr>
              <a:t>Persian Language</a:t>
            </a:r>
            <a:r>
              <a:rPr b="1" lang="en-US" sz="3600" spc="-1" strike="noStrike">
                <a:solidFill>
                  <a:srgbClr val="443329"/>
                </a:solidFill>
                <a:latin typeface="Franklin Gothic Book"/>
              </a:rPr>
              <a:t>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Picture 2" descr="C:\Users\user\Desktop\36a2e15n.gif"/>
          <p:cNvPicPr/>
          <p:nvPr/>
        </p:nvPicPr>
        <p:blipFill>
          <a:blip r:embed="rId1"/>
          <a:stretch/>
        </p:blipFill>
        <p:spPr>
          <a:xfrm>
            <a:off x="0" y="0"/>
            <a:ext cx="9144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عنوان 1" descr=""/>
          <p:cNvPicPr/>
          <p:nvPr/>
        </p:nvPicPr>
        <p:blipFill>
          <a:blip r:embed="rId1"/>
          <a:stretch/>
        </p:blipFill>
        <p:spPr>
          <a:xfrm>
            <a:off x="109440" y="450720"/>
            <a:ext cx="888840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ersian is an Iranian language belonging to the 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Indo-Irania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 branch of th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Indo-Europea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amily of language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عنوان 1" descr=""/>
          <p:cNvPicPr/>
          <p:nvPr/>
        </p:nvPicPr>
        <p:blipFill>
          <a:blip r:embed="rId1"/>
          <a:stretch/>
        </p:blipFill>
        <p:spPr>
          <a:xfrm>
            <a:off x="19080" y="-42840"/>
            <a:ext cx="897876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"/>
          <p:cNvGraphicFramePr/>
          <p:nvPr/>
        </p:nvGraphicFramePr>
        <p:xfrm>
          <a:off x="214200" y="2714760"/>
          <a:ext cx="8686800" cy="182880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er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سل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e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نام شما چیست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hat’s your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اسم من هس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y name 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از ملاقات با شما خوشوقت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ice to meet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F:\Screen Shot 2014-12-21 at 8.37.39 PM.png"/>
          <p:cNvPicPr/>
          <p:nvPr/>
        </p:nvPicPr>
        <p:blipFill>
          <a:blip r:embed="rId2"/>
          <a:stretch/>
        </p:blipFill>
        <p:spPr>
          <a:xfrm>
            <a:off x="214200" y="285840"/>
            <a:ext cx="85726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Users\user\Downloads\Screen Shot 2014-12-23 at 2.26.35 AM.png"/>
          <p:cNvPicPr/>
          <p:nvPr/>
        </p:nvPicPr>
        <p:blipFill>
          <a:blip r:embed="rId2"/>
          <a:stretch/>
        </p:blipFill>
        <p:spPr>
          <a:xfrm>
            <a:off x="0" y="1214280"/>
            <a:ext cx="9144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عنوان 5" descr=""/>
          <p:cNvPicPr/>
          <p:nvPr/>
        </p:nvPicPr>
        <p:blipFill>
          <a:blip r:embed="rId1"/>
          <a:stretch/>
        </p:blipFill>
        <p:spPr>
          <a:xfrm>
            <a:off x="109440" y="450720"/>
            <a:ext cx="8888400" cy="1152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C:\Users\user\Downloads\Screen Shot 2014-12-23 at 2.28.34 AM.png"/>
          <p:cNvPicPr/>
          <p:nvPr/>
        </p:nvPicPr>
        <p:blipFill>
          <a:blip r:embed="rId2"/>
          <a:stretch/>
        </p:blipFill>
        <p:spPr>
          <a:xfrm>
            <a:off x="500040" y="2357280"/>
            <a:ext cx="77868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عنوان 1" descr=""/>
          <p:cNvPicPr/>
          <p:nvPr/>
        </p:nvPicPr>
        <p:blipFill>
          <a:blip r:embed="rId1"/>
          <a:stretch/>
        </p:blipFill>
        <p:spPr>
          <a:xfrm>
            <a:off x="49320" y="1322280"/>
            <a:ext cx="88567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22:45:36Z</dcterms:created>
  <dc:creator>user</dc:creator>
  <dc:description/>
  <dc:language>en-US</dc:language>
  <cp:lastModifiedBy>user</cp:lastModifiedBy>
  <dcterms:modified xsi:type="dcterms:W3CDTF">2014-12-22T23:31:48Z</dcterms:modified>
  <cp:revision>5</cp:revision>
  <dc:subject/>
  <dc:title>الشريحة 1</dc:title>
</cp:coreProperties>
</file>