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51A-B7F0-4456-B8A5-9459FF1C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408-0165-403E-AE7A-7AE389DA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07526-4691-4CEB-9DF7-10799845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F275C-5D5E-416C-A41E-931BE955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6570A-7542-4AD4-8B69-41132217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04B24-F26A-4F2F-93FD-0A146A65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5EB75-A648-4483-A939-C5465AFC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87C2E-6152-4AF7-9C10-1FB149E2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AD0D6-D35A-4330-82DB-1BEA5403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8D5CD-A5BC-49B1-AFF3-306795B3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6F0D9-968E-49D9-8B66-5375C01E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68D-9918-44E7-9C1A-6C7555D8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F3C-71A7-46CA-8978-A6ACD5D2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8D5B-7E20-4FFA-B53F-B4993CB9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CE5E-8A11-4BDC-AFD1-C32A9118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686A-FB5C-4743-B00D-09077805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F709-35FD-41D8-9DA0-84819C77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CDBF-E038-43B8-B264-160DDF49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01D1-854A-4BA4-95A9-EDDB5A65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E993-BF49-4FAC-A450-E09164DA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725-69EE-493C-8633-C160D81A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C792-2C50-4612-82E0-0DC72E5B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9BCE-D8BC-424E-9FB9-B33FB343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5C18-8047-4376-8EB0-13422C39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8691-265C-429C-8C83-3D794F50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FAAF-F7BA-465B-9457-ED96BF35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8252-7CC8-4719-B8F1-CA92CC2B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990B-1471-4BF3-909D-E72B0789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1125-39A6-4287-95DE-D0E39A16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169F-A239-45CF-A21C-A2D8C245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65CD-15B6-4BB0-B5D5-24A84977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8F1-DB02-49B5-9556-31F9E781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9C30-EE01-48C8-A7C0-C1832F58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9EE6-7B86-4585-B5EA-BAE1ED9E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B8796-E937-414A-980F-306B2B1D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161B6-5688-452F-82AC-E3007050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5DFF-16F0-44D4-9436-82A64A7F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FF6C-0859-4D18-9C07-B7552777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35263-043A-4CAA-9F92-3B7DB32D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5A49-D5C9-4672-B512-C6339A05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94DBB-78FE-42E3-93DE-46331B58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D9895-00E5-44BF-B126-F6BBF05C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B8E-4A57-4136-B0EE-B4EDB90F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4F1D2-E1B1-40D5-9A32-76EC3D66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A964F-A197-4C72-AE15-F8D6BE74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44E3E-9DEE-4BAC-920D-9BC55CAD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40D42-CF82-4370-85B0-64B15842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1FD95-A083-419F-AC22-62F0BED5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F9A95-3750-4CF1-A641-BF2EB3C1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C1BF6-226C-4AA0-9DC2-6D07D0C7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B142F-0491-4951-96EA-9F10E501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5C7D6-77DF-45B2-BC72-E90BC7C8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E1058-B555-4657-9C11-1F3264B4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3CC-9096-454C-BD06-87B58899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59042-A149-4200-B860-CE8D5BB5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C850C-018D-4FF1-86F5-9599D6AC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7153A-5B7F-4BE8-AFF3-B2077CF1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B8FC3-C7CC-4FD2-BC2E-0B54E9E1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0DBDF-F9AE-416D-A1CC-ADCD7AD3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D90C4-6561-4DBB-AA10-75CB72E1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4ADEE-643C-4DE9-ADA5-2BE5C833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39011-F382-4D35-A8DB-9F50F1D4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95E1B-98B4-42A2-BBF7-E2EF2F0A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F68BC-D1A1-43E3-9E87-C86D2CBF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6D0-15C1-4C5E-A144-D5DD15FD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B436-F44C-4A58-AB82-F47E977B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C5A7D-B1E7-4674-BCC8-F2A44804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FDDA1-AEB0-4A53-8D18-B7F9EB02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B8FB-66F0-4AFF-B1AC-CA0A12EB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E83E7-C19D-4899-A6A3-1F9792EC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D9069-1C8B-4FD1-99E0-54F324F2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1C95D-3074-41B0-9D0F-981E1DE7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8ADB-5AD0-4C2D-9D07-EF8B454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164DB-0B57-4E29-944E-6752B551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3A41A-B481-4333-9DDD-04189603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E2E-DF68-41FF-9C54-557E55C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8D01E-1F8D-4F2F-90DA-545D051D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341BF-E8E3-47CC-9DE3-B685FA24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2E6B2-707D-4DF8-BAB3-D2C65232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8E051-FF65-45E5-AF4E-D8AF33C3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5695E-0729-42B0-A59C-27FCCAF6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2DCDB-6964-4775-A53D-30337A82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366A0-CB94-4A38-8832-CAEF7215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CC8C8-7927-49BD-8903-D4FE2097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2FDAC-2421-45AF-82F0-25A1DE89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8BAB8-C676-4C00-BAF8-398BEB58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919-AB20-4B40-A947-5FF1E932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29898-D406-4DF0-8E01-B7247E45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4A33A-8B12-40B0-9285-4FA7D885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5E43D-C719-4D8E-8AFD-D99DE67E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11B48-16F2-4EBB-AA49-2A81A074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87237-D122-4C48-8298-C619EE9C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EEBA6-CC59-4479-A3BF-7A044042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4810A-6F7C-4C0A-B38E-28B0F732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0B2CA-3AE8-4CE1-BE99-AC74D5D7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FEB72-D0E3-429D-BDDF-0FFF1E3C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39F50-8E28-49A8-B4E2-012FAAFF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ED1-C131-433A-A340-8431D8B3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D5D47-C886-4221-9DB6-DB4A21F7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5FAAB-F25F-4BA7-98DC-FC9741F9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F48A5-4BBC-4A14-AD01-90B66108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5D26E-38BA-44AB-A333-01C4CB9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FE85D-B29D-43DC-B485-AE1465D3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F1BAC-39B3-4218-AB44-46F684C7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A2C4B-A16E-475B-801C-17B35E33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750BB-335F-426D-927C-A574DE3C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9B6A4-91DF-42C2-82D6-FC42EA1D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B146D-2EAD-466D-8C0C-2A369628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72F4-1A14-411B-A720-ABD2BF010D9D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رابط مستقيم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8908-A2C2-45A5-9F1B-029F97BC9667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4C67-E440-4374-AB4A-6BACA35A0D7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رابط مستقيم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4748-82D7-4ACF-9910-F10C948B3643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رابط مستقيم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8045-4790-4209-B76A-29D2F870A60D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0F38-B604-4F83-8D0C-910C3BE8475C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رابط مستقيم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C087-545C-4802-B2C5-E412D335DC18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FC2B-0256-406D-9DA1-2AF3AF0A2BA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9D8B-1861-4E4B-97D3-53562DC1B9D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Indo-Iranian_languages" TargetMode="External"/><Relationship Id="rId3" Type="http://schemas.openxmlformats.org/officeDocument/2006/relationships/hyperlink" Target="http://en.wikipedia.org/wiki/Indo-European_languages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928800" y="3929040"/>
            <a:ext cx="82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Franklin Gothic Book"/>
              </a:rPr>
              <a:t>Persian Language</a:t>
            </a:r>
            <a:r>
              <a:rPr b="1" lang="en-US" sz="3600" spc="-1" strike="noStrike">
                <a:solidFill>
                  <a:srgbClr val="443329"/>
                </a:solidFill>
                <a:latin typeface="Franklin Gothic Book"/>
              </a:rPr>
              <a:t>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2" descr="C:\Users\user\Desktop\36a2e15n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عنوان 1" descr=""/>
          <p:cNvPicPr/>
          <p:nvPr/>
        </p:nvPicPr>
        <p:blipFill>
          <a:blip r:embed="rId1"/>
          <a:stretch/>
        </p:blipFill>
        <p:spPr>
          <a:xfrm>
            <a:off x="109440" y="450720"/>
            <a:ext cx="888840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ersian is an Iranian language belonging to the 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Indo-Irania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 branch of th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Indo-Europea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amily of language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عنوان 1" descr=""/>
          <p:cNvPicPr/>
          <p:nvPr/>
        </p:nvPicPr>
        <p:blipFill>
          <a:blip r:embed="rId1"/>
          <a:stretch/>
        </p:blipFill>
        <p:spPr>
          <a:xfrm>
            <a:off x="19080" y="-42840"/>
            <a:ext cx="897876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214200" y="2714760"/>
          <a:ext cx="8686800" cy="18288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er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سل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e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نام شما چیست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hat’s your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اسم من هس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y name 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از ملاقات با شما خوشوقت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ce to meet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F:\Screen Shot 2014-12-21 at 8.37.39 PM.png"/>
          <p:cNvPicPr/>
          <p:nvPr/>
        </p:nvPicPr>
        <p:blipFill>
          <a:blip r:embed="rId2"/>
          <a:stretch/>
        </p:blipFill>
        <p:spPr>
          <a:xfrm>
            <a:off x="214200" y="285840"/>
            <a:ext cx="85726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Users\user\Downloads\Screen Shot 2014-12-23 at 2.26.35 AM.png"/>
          <p:cNvPicPr/>
          <p:nvPr/>
        </p:nvPicPr>
        <p:blipFill>
          <a:blip r:embed="rId2"/>
          <a:stretch/>
        </p:blipFill>
        <p:spPr>
          <a:xfrm>
            <a:off x="0" y="1214280"/>
            <a:ext cx="9144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عنوان 5" descr=""/>
          <p:cNvPicPr/>
          <p:nvPr/>
        </p:nvPicPr>
        <p:blipFill>
          <a:blip r:embed="rId1"/>
          <a:stretch/>
        </p:blipFill>
        <p:spPr>
          <a:xfrm>
            <a:off x="109440" y="450720"/>
            <a:ext cx="8888400" cy="1152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C:\Users\user\Downloads\Screen Shot 2014-12-23 at 2.28.34 AM.png"/>
          <p:cNvPicPr/>
          <p:nvPr/>
        </p:nvPicPr>
        <p:blipFill>
          <a:blip r:embed="rId2"/>
          <a:stretch/>
        </p:blipFill>
        <p:spPr>
          <a:xfrm>
            <a:off x="500040" y="2357280"/>
            <a:ext cx="77868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عنوان 1" descr=""/>
          <p:cNvPicPr/>
          <p:nvPr/>
        </p:nvPicPr>
        <p:blipFill>
          <a:blip r:embed="rId1"/>
          <a:stretch/>
        </p:blipFill>
        <p:spPr>
          <a:xfrm>
            <a:off x="49320" y="1322280"/>
            <a:ext cx="8856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22:45:36Z</dcterms:created>
  <dc:creator>user</dc:creator>
  <dc:description/>
  <dc:language>en-US</dc:language>
  <cp:lastModifiedBy>user</cp:lastModifiedBy>
  <dcterms:modified xsi:type="dcterms:W3CDTF">2014-12-22T23:31:48Z</dcterms:modified>
  <cp:revision>5</cp:revision>
  <dc:subject/>
  <dc:title>الشريحة 1</dc:title>
</cp:coreProperties>
</file>