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6.png" ContentType="image/png"/>
  <Override PartName="/ppt/media/image11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7440" y="-360"/>
            <a:ext cx="305568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305604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732-34A5-4DC7-B3BA-4210EFE4FE24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8720" y="701640"/>
            <a:ext cx="46767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7440" y="8886960"/>
            <a:ext cx="305568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1A7-F087-4954-ABD1-EF1D692DBB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319-51E5-413E-8E98-D5B7405B8BE3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5D7-33D7-4420-8466-C19232EC57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2F3-297C-4645-B43F-4ADE3D8A5863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542-BB3E-4742-AF81-BEA71B4006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AAAE-86F5-47C6-80E5-D27790377BFE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5644-9135-4147-98D7-967CB74457F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8D8-0055-4BEF-AD0C-32B21E53EF3B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EA0-2501-45B2-A903-1483D6C217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111-4189-4AE4-ADCE-7FB5309D5DCD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0D6-441D-4A5F-838F-B5BE2DD542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CD3B-33D3-40EB-B7AB-0B130ABB3DA4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C31-DB33-4B33-8337-8E0D430F4B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307-A7FC-4E72-B4E9-322ECD7ACA8D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914D-4DF0-44E4-9435-42099ED109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E6A-F2FC-4F40-A829-6EE582DF0A10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25B-C292-4AA1-817B-80E70E3F366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2D7-B4B5-472B-B799-A4EDCB8D1D00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826-C3FC-4B95-9D7A-6699F2CEC64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D89-66AC-4716-8848-3B9768705074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96C0-DF4F-4C83-8FBF-0E4E592A71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9745-3A3F-4402-AB47-E84946089AFF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012-0951-4027-BF78-C5827DA8ED0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C9A-C332-4E19-9942-1C8279A55F6F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24C-5C09-40C9-834E-A5C99FE918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DB90-DE28-4571-8877-F2C34367C01D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883-D6F5-4DCF-B7D9-BC81C9A6CCE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E11A-4AC2-4B46-AB1E-C6EEFE7EF69A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7675-F59B-4A7D-A7E9-AF85F3E417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9051-C996-46D2-92C2-14C5CEE7E1FD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DC73-3773-46EE-9277-4904F24311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352B-5E8D-4FE6-A515-3647D99E167E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866-4C1F-478D-BE51-8795412AB5F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3997440" y="0"/>
            <a:ext cx="3055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cturing systems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1440" y="0"/>
            <a:ext cx="3056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6DBD-92C3-450A-9D86-68F9559B1A6B}" type="datetime3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1440" y="8886960"/>
            <a:ext cx="3056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8D5F-69C5-40FC-8B52-7144DE68C6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76760" cy="3508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4880" y="4444560"/>
            <a:ext cx="564336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D5F-7051-4DEA-BDE2-282C3D7C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9BD-DD9A-4813-ACD7-EC344AF1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84B-3A5C-4882-9099-14B7C15E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CAC-9747-4A95-8D8C-91B74E6E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67C-F019-4971-A21F-64F23E6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38A-EDC6-4C7F-8218-32D4C6F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311-9685-4ADC-8322-77D93E20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53F-90C9-447C-AF81-29B7DFB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94B-8776-42E5-8AE0-129F2BD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595-4B12-4402-964E-E5C4788C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1D7-1D9D-4DE4-AA6B-FBF5D1E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5BE-C42C-4638-9D7F-E9D234D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5D5-1755-4F28-A9B8-6682098516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855-89AD-45A9-9D93-2443F4F431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57240" y="3505320"/>
            <a:ext cx="54295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- Introduction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د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B5A-22A4-4A89-BE92-0D34DA9D29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3"/>
          <p:cNvGrpSpPr/>
          <p:nvPr/>
        </p:nvGrpSpPr>
        <p:grpSpPr>
          <a:xfrm>
            <a:off x="947880" y="1055520"/>
            <a:ext cx="7281720" cy="5942160"/>
            <a:chOff x="947880" y="1055520"/>
            <a:chExt cx="7281720" cy="5942160"/>
          </a:xfrm>
        </p:grpSpPr>
        <p:sp>
          <p:nvSpPr>
            <p:cNvPr id="133" name="Rectangle 31"/>
            <p:cNvSpPr/>
            <p:nvPr/>
          </p:nvSpPr>
          <p:spPr>
            <a:xfrm>
              <a:off x="947880" y="1055520"/>
              <a:ext cx="7281720" cy="502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2381400" y="6172200"/>
              <a:ext cx="433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roduction System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نظام الإنتا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b- Manufacturing System Categories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طبقتي نظام الإنتا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8"/>
          <p:cNvSpPr/>
          <p:nvPr/>
        </p:nvSpPr>
        <p:spPr>
          <a:xfrm>
            <a:off x="1380960" y="1189080"/>
            <a:ext cx="6382080" cy="1828800"/>
          </a:xfrm>
          <a:prstGeom prst="flowChartAlternateProcess">
            <a:avLst/>
          </a:prstGeom>
          <a:solidFill>
            <a:srgbClr val="ccffcc">
              <a:alpha val="6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- Manufacturing system support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نظم التصنيع المسان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 design / CAD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planning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 planning and contr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operation and managemen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9"/>
          <p:cNvSpPr/>
          <p:nvPr/>
        </p:nvSpPr>
        <p:spPr>
          <a:xfrm>
            <a:off x="1081080" y="4038480"/>
            <a:ext cx="6943680" cy="1828800"/>
          </a:xfrm>
          <a:prstGeom prst="flowChartAlternateProcess">
            <a:avLst/>
          </a:prstGeom>
          <a:solidFill>
            <a:srgbClr val="ccffcc">
              <a:alpha val="6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2- Manufacturing system facilities 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تسهيلات التصنيع المسان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achines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 handling system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ion and control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age retrieval system technologi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343080" algn="just"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inspection system technologi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0"/>
          <p:cNvSpPr/>
          <p:nvPr/>
        </p:nvSpPr>
        <p:spPr>
          <a:xfrm rot="16200000">
            <a:off x="4097520" y="3154320"/>
            <a:ext cx="947520" cy="674640"/>
          </a:xfrm>
          <a:prstGeom prst="leftRightArrow">
            <a:avLst>
              <a:gd name="adj1" fmla="val 50000"/>
              <a:gd name="adj2" fmla="val 27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2CE-8601-4823-8C31-71F6D51A20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3"/>
          <p:cNvGrpSpPr/>
          <p:nvPr/>
        </p:nvGrpSpPr>
        <p:grpSpPr>
          <a:xfrm>
            <a:off x="228600" y="1162080"/>
            <a:ext cx="8782200" cy="2703600"/>
            <a:chOff x="228600" y="1162080"/>
            <a:chExt cx="8782200" cy="2703600"/>
          </a:xfrm>
        </p:grpSpPr>
        <p:sp>
          <p:nvSpPr>
            <p:cNvPr id="141" name="Rectangle 115"/>
            <p:cNvSpPr/>
            <p:nvPr/>
          </p:nvSpPr>
          <p:spPr>
            <a:xfrm>
              <a:off x="228600" y="1162080"/>
              <a:ext cx="8782200" cy="2703600"/>
            </a:xfrm>
            <a:prstGeom prst="rect">
              <a:avLst/>
            </a:prstGeom>
            <a:solidFill>
              <a:srgbClr val="99ffcc">
                <a:alpha val="3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94"/>
            <p:cNvSpPr/>
            <p:nvPr/>
          </p:nvSpPr>
          <p:spPr>
            <a:xfrm>
              <a:off x="6372360" y="1198080"/>
              <a:ext cx="2504880" cy="355320"/>
            </a:xfrm>
            <a:prstGeom prst="wedgeRoundRectCallout">
              <a:avLst>
                <a:gd name="adj1" fmla="val -30861"/>
                <a:gd name="adj2" fmla="val 32787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Sub-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24"/>
          <p:cNvGrpSpPr/>
          <p:nvPr/>
        </p:nvGrpSpPr>
        <p:grpSpPr>
          <a:xfrm>
            <a:off x="228600" y="3884760"/>
            <a:ext cx="8782200" cy="2706120"/>
            <a:chOff x="228600" y="3884760"/>
            <a:chExt cx="8782200" cy="2706120"/>
          </a:xfrm>
        </p:grpSpPr>
        <p:sp>
          <p:nvSpPr>
            <p:cNvPr id="144" name="Rectangle 114"/>
            <p:cNvSpPr/>
            <p:nvPr/>
          </p:nvSpPr>
          <p:spPr>
            <a:xfrm>
              <a:off x="228600" y="3884760"/>
              <a:ext cx="8782200" cy="2706120"/>
            </a:xfrm>
            <a:prstGeom prst="rect">
              <a:avLst/>
            </a:prstGeom>
            <a:solidFill>
              <a:srgbClr val="ffff66">
                <a:alpha val="2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21"/>
            <p:cNvSpPr/>
            <p:nvPr/>
          </p:nvSpPr>
          <p:spPr>
            <a:xfrm>
              <a:off x="7182000" y="6150240"/>
              <a:ext cx="1714320" cy="428400"/>
            </a:xfrm>
            <a:prstGeom prst="wedgeRoundRectCallout">
              <a:avLst>
                <a:gd name="adj1" fmla="val -24166"/>
                <a:gd name="adj2" fmla="val -5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9080"/>
            <a:ext cx="8686800" cy="9907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e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c- Manufacturing System 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قع نظام التصنيع في دورة الإنتا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25"/>
          <p:cNvGrpSpPr/>
          <p:nvPr/>
        </p:nvGrpSpPr>
        <p:grpSpPr>
          <a:xfrm>
            <a:off x="385920" y="1346400"/>
            <a:ext cx="8529480" cy="4793760"/>
            <a:chOff x="385920" y="1346400"/>
            <a:chExt cx="8529480" cy="4793760"/>
          </a:xfrm>
        </p:grpSpPr>
        <p:sp>
          <p:nvSpPr>
            <p:cNvPr id="148" name="Oval 35"/>
            <p:cNvSpPr/>
            <p:nvPr/>
          </p:nvSpPr>
          <p:spPr>
            <a:xfrm>
              <a:off x="7696080" y="1793880"/>
              <a:ext cx="1219320" cy="527040"/>
            </a:xfrm>
            <a:prstGeom prst="ellipse">
              <a:avLst/>
            </a:prstGeom>
            <a:solidFill>
              <a:srgbClr val="ff6600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- Mar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6019920" y="1870200"/>
              <a:ext cx="13539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-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1657440" y="1871640"/>
              <a:ext cx="23209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- Production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9"/>
            <p:cNvSpPr/>
            <p:nvPr/>
          </p:nvSpPr>
          <p:spPr>
            <a:xfrm>
              <a:off x="4572000" y="1574640"/>
              <a:ext cx="1152360" cy="96840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41"/>
            <p:cNvSpPr/>
            <p:nvPr/>
          </p:nvSpPr>
          <p:spPr>
            <a:xfrm>
              <a:off x="385920" y="2347920"/>
              <a:ext cx="15033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- 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2"/>
            <p:cNvSpPr/>
            <p:nvPr/>
          </p:nvSpPr>
          <p:spPr>
            <a:xfrm>
              <a:off x="3262320" y="4535640"/>
              <a:ext cx="28526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5- Manufactur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3"/>
            <p:cNvSpPr/>
            <p:nvPr/>
          </p:nvSpPr>
          <p:spPr>
            <a:xfrm>
              <a:off x="3924360" y="3627360"/>
              <a:ext cx="24480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- Quality Insp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44"/>
            <p:cNvSpPr/>
            <p:nvPr/>
          </p:nvSpPr>
          <p:spPr>
            <a:xfrm>
              <a:off x="557280" y="2989440"/>
              <a:ext cx="1150920" cy="52992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46"/>
            <p:cNvSpPr/>
            <p:nvPr/>
          </p:nvSpPr>
          <p:spPr>
            <a:xfrm>
              <a:off x="1984320" y="2914560"/>
              <a:ext cx="1620720" cy="671760"/>
            </a:xfrm>
            <a:prstGeom prst="diamond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i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pa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7"/>
            <p:cNvSpPr/>
            <p:nvPr/>
          </p:nvSpPr>
          <p:spPr>
            <a:xfrm>
              <a:off x="2208240" y="35290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69"/>
            <p:cNvSpPr/>
            <p:nvPr/>
          </p:nvSpPr>
          <p:spPr>
            <a:xfrm>
              <a:off x="576360" y="351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0"/>
            <p:cNvSpPr/>
            <p:nvPr/>
          </p:nvSpPr>
          <p:spPr>
            <a:xfrm>
              <a:off x="4149720" y="1743120"/>
              <a:ext cx="5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1"/>
            <p:cNvSpPr/>
            <p:nvPr/>
          </p:nvSpPr>
          <p:spPr>
            <a:xfrm>
              <a:off x="2763720" y="2604960"/>
              <a:ext cx="46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72"/>
            <p:cNvSpPr/>
            <p:nvPr/>
          </p:nvSpPr>
          <p:spPr>
            <a:xfrm>
              <a:off x="1481040" y="295416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73"/>
            <p:cNvSpPr/>
            <p:nvPr/>
          </p:nvSpPr>
          <p:spPr>
            <a:xfrm>
              <a:off x="5119560" y="147168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4"/>
            <p:cNvSpPr/>
            <p:nvPr/>
          </p:nvSpPr>
          <p:spPr>
            <a:xfrm>
              <a:off x="1862280" y="5148360"/>
              <a:ext cx="1368360" cy="507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ceiving &amp;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75"/>
            <p:cNvSpPr/>
            <p:nvPr/>
          </p:nvSpPr>
          <p:spPr>
            <a:xfrm>
              <a:off x="3262320" y="5141880"/>
              <a:ext cx="2852640" cy="482760"/>
            </a:xfrm>
            <a:prstGeom prst="rect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Mfg  System Components Design &amp;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6"/>
            <p:cNvSpPr/>
            <p:nvPr/>
          </p:nvSpPr>
          <p:spPr>
            <a:xfrm>
              <a:off x="6140520" y="5137200"/>
              <a:ext cx="1431720" cy="507240"/>
            </a:xfrm>
            <a:prstGeom prst="rect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rehouse &amp; 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AutoShape 99"/>
            <p:cNvCxnSpPr>
              <a:stCxn id="148" idx="2"/>
              <a:endCxn id="149" idx="3"/>
            </p:cNvCxnSpPr>
            <p:nvPr/>
          </p:nvCxnSpPr>
          <p:spPr>
            <a:xfrm flipH="1">
              <a:off x="7383240" y="2057400"/>
              <a:ext cx="303840" cy="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AutoShape 100"/>
            <p:cNvCxnSpPr>
              <a:stCxn id="149" idx="1"/>
              <a:endCxn id="151" idx="3"/>
            </p:cNvCxnSpPr>
            <p:nvPr/>
          </p:nvCxnSpPr>
          <p:spPr>
            <a:xfrm flipH="1" flipV="1">
              <a:off x="5733360" y="2058480"/>
              <a:ext cx="276840" cy="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AutoShape 101"/>
            <p:cNvCxnSpPr>
              <a:stCxn id="151" idx="1"/>
              <a:endCxn id="150" idx="3"/>
            </p:cNvCxnSpPr>
            <p:nvPr/>
          </p:nvCxnSpPr>
          <p:spPr>
            <a:xfrm flipH="1">
              <a:off x="3987000" y="2058840"/>
              <a:ext cx="575640" cy="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102"/>
            <p:cNvCxnSpPr>
              <a:stCxn id="151" idx="0"/>
              <a:endCxn id="152" idx="0"/>
            </p:cNvCxnSpPr>
            <p:nvPr/>
          </p:nvCxnSpPr>
          <p:spPr>
            <a:xfrm rot="5400000">
              <a:off x="2755800" y="-53280"/>
              <a:ext cx="774000" cy="4010760"/>
            </a:xfrm>
            <a:prstGeom prst="bentConnector3">
              <a:avLst>
                <a:gd name="adj1" fmla="val -28292"/>
              </a:avLst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0" name="AutoShape 103"/>
            <p:cNvCxnSpPr>
              <a:stCxn id="150" idx="1"/>
              <a:endCxn id="152" idx="0"/>
            </p:cNvCxnSpPr>
            <p:nvPr/>
          </p:nvCxnSpPr>
          <p:spPr>
            <a:xfrm flipV="1" rot="10800000">
              <a:off x="1137600" y="2064240"/>
              <a:ext cx="510120" cy="273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AutoShape 104"/>
            <p:cNvCxnSpPr>
              <a:stCxn id="152" idx="2"/>
              <a:endCxn id="155" idx="0"/>
            </p:cNvCxnSpPr>
            <p:nvPr/>
          </p:nvCxnSpPr>
          <p:spPr>
            <a:xfrm flipH="1">
              <a:off x="1132920" y="2742840"/>
              <a:ext cx="5400" cy="23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AutoShape 105"/>
            <p:cNvCxnSpPr>
              <a:stCxn id="155" idx="3"/>
              <a:endCxn id="156" idx="1"/>
            </p:cNvCxnSpPr>
            <p:nvPr/>
          </p:nvCxnSpPr>
          <p:spPr>
            <a:xfrm flipV="1">
              <a:off x="1717200" y="3250440"/>
              <a:ext cx="25812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AutoShape 107"/>
            <p:cNvCxnSpPr>
              <a:stCxn id="165" idx="3"/>
              <a:endCxn id="148" idx="4"/>
            </p:cNvCxnSpPr>
            <p:nvPr/>
          </p:nvCxnSpPr>
          <p:spPr>
            <a:xfrm flipV="1">
              <a:off x="7581600" y="2329560"/>
              <a:ext cx="724680" cy="30711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AutoShape 108"/>
            <p:cNvCxnSpPr>
              <a:stCxn id="155" idx="2"/>
              <a:endCxn id="165" idx="2"/>
            </p:cNvCxnSpPr>
            <p:nvPr/>
          </p:nvCxnSpPr>
          <p:spPr>
            <a:xfrm flipH="1" rot="16200000">
              <a:off x="2921760" y="1739520"/>
              <a:ext cx="2145240" cy="5723640"/>
            </a:xfrm>
            <a:prstGeom prst="bentConnector3">
              <a:avLst>
                <a:gd name="adj1" fmla="val 121752"/>
              </a:avLst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5" name="AutoShape 109"/>
            <p:cNvCxnSpPr>
              <a:stCxn id="156" idx="0"/>
              <a:endCxn id="150" idx="2"/>
            </p:cNvCxnSpPr>
            <p:nvPr/>
          </p:nvCxnSpPr>
          <p:spPr>
            <a:xfrm flipV="1">
              <a:off x="2795400" y="2266200"/>
              <a:ext cx="22680" cy="63900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76" name="AutoShape 112"/>
            <p:cNvCxnSpPr>
              <a:stCxn id="154" idx="2"/>
              <a:endCxn id="153" idx="0"/>
            </p:cNvCxnSpPr>
            <p:nvPr/>
          </p:nvCxnSpPr>
          <p:spPr>
            <a:xfrm rot="5400000">
              <a:off x="4666320" y="4044600"/>
              <a:ext cx="504000" cy="459720"/>
            </a:xfrm>
            <a:prstGeom prst="bentConnector3">
              <a:avLst>
                <a:gd name="adj1" fmla="val 49821"/>
              </a:avLst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AutoShape 119"/>
            <p:cNvCxnSpPr>
              <a:stCxn id="156" idx="2"/>
              <a:endCxn id="153" idx="1"/>
            </p:cNvCxnSpPr>
            <p:nvPr/>
          </p:nvCxnSpPr>
          <p:spPr>
            <a:xfrm flipH="1" rot="16200000">
              <a:off x="2457360" y="3933360"/>
              <a:ext cx="113436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8" name="Line 120"/>
            <p:cNvSpPr/>
            <p:nvPr/>
          </p:nvSpPr>
          <p:spPr>
            <a:xfrm>
              <a:off x="3733920" y="2266920"/>
              <a:ext cx="0" cy="22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433-B5FF-41C9-A387-38563E6283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b-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tion Cyc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anufactur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52"/>
          <p:cNvGrpSpPr/>
          <p:nvPr/>
        </p:nvGrpSpPr>
        <p:grpSpPr>
          <a:xfrm>
            <a:off x="152280" y="819000"/>
            <a:ext cx="8248680" cy="5812920"/>
            <a:chOff x="152280" y="819000"/>
            <a:chExt cx="8248680" cy="5812920"/>
          </a:xfrm>
        </p:grpSpPr>
        <p:sp>
          <p:nvSpPr>
            <p:cNvPr id="182" name="Text Box 4"/>
            <p:cNvSpPr/>
            <p:nvPr/>
          </p:nvSpPr>
          <p:spPr>
            <a:xfrm>
              <a:off x="1800360" y="6172200"/>
              <a:ext cx="66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formation Cycle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3905280" y="2352600"/>
              <a:ext cx="2095560" cy="211464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29"/>
            <p:cNvGrpSpPr/>
            <p:nvPr/>
          </p:nvGrpSpPr>
          <p:grpSpPr>
            <a:xfrm>
              <a:off x="4572000" y="1757520"/>
              <a:ext cx="2990880" cy="3190680"/>
              <a:chOff x="4572000" y="1757520"/>
              <a:chExt cx="2990880" cy="3190680"/>
            </a:xfrm>
          </p:grpSpPr>
          <p:sp>
            <p:nvSpPr>
              <p:cNvPr id="185" name="AutoShape 28"/>
              <p:cNvSpPr/>
              <p:nvPr/>
            </p:nvSpPr>
            <p:spPr>
              <a:xfrm rot="5400000">
                <a:off x="4471920" y="1857240"/>
                <a:ext cx="3190680" cy="2990880"/>
              </a:xfrm>
              <a:custGeom>
                <a:avLst/>
                <a:gdLst>
                  <a:gd name="textAreaLeft" fmla="*/ 241200 w 3190680"/>
                  <a:gd name="textAreaRight" fmla="*/ 2949480 w 319068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27"/>
              <p:cNvSpPr/>
              <p:nvPr/>
            </p:nvSpPr>
            <p:spPr>
              <a:xfrm rot="5400000">
                <a:off x="6009120" y="3008520"/>
                <a:ext cx="2114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Manufacturing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lanning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33"/>
            <p:cNvGrpSpPr/>
            <p:nvPr/>
          </p:nvGrpSpPr>
          <p:grpSpPr>
            <a:xfrm>
              <a:off x="3333240" y="2800440"/>
              <a:ext cx="3190680" cy="2993040"/>
              <a:chOff x="3333240" y="2800440"/>
              <a:chExt cx="3190680" cy="2993040"/>
            </a:xfrm>
          </p:grpSpPr>
          <p:sp>
            <p:nvSpPr>
              <p:cNvPr id="188" name="AutoShape 31"/>
              <p:cNvSpPr/>
              <p:nvPr/>
            </p:nvSpPr>
            <p:spPr>
              <a:xfrm rot="10800000">
                <a:off x="3333240" y="2800440"/>
                <a:ext cx="3190680" cy="2990880"/>
              </a:xfrm>
              <a:custGeom>
                <a:avLst/>
                <a:gdLst>
                  <a:gd name="textAreaLeft" fmla="*/ 241200 w 3190680"/>
                  <a:gd name="textAreaRight" fmla="*/ 2949480 w 319068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32"/>
              <p:cNvSpPr/>
              <p:nvPr/>
            </p:nvSpPr>
            <p:spPr>
              <a:xfrm>
                <a:off x="3848040" y="5029200"/>
                <a:ext cx="2114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Manufacturing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34"/>
            <p:cNvGrpSpPr/>
            <p:nvPr/>
          </p:nvGrpSpPr>
          <p:grpSpPr>
            <a:xfrm>
              <a:off x="2333520" y="1795320"/>
              <a:ext cx="2990880" cy="3191040"/>
              <a:chOff x="2333520" y="1795320"/>
              <a:chExt cx="2990880" cy="3191040"/>
            </a:xfrm>
          </p:grpSpPr>
          <p:sp>
            <p:nvSpPr>
              <p:cNvPr id="191" name="AutoShape 35"/>
              <p:cNvSpPr/>
              <p:nvPr/>
            </p:nvSpPr>
            <p:spPr>
              <a:xfrm rot="16200000">
                <a:off x="2233440" y="1895400"/>
                <a:ext cx="3191040" cy="2990880"/>
              </a:xfrm>
              <a:custGeom>
                <a:avLst/>
                <a:gdLst>
                  <a:gd name="textAreaLeft" fmla="*/ 241200 w 3191040"/>
                  <a:gd name="textAreaRight" fmla="*/ 2949840 w 3191040"/>
                  <a:gd name="textAreaTop" fmla="*/ 0 h 2990880"/>
                  <a:gd name="textAreaBottom" fmla="*/ 1123920 h 299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178" y="7245"/>
                    </a:moveTo>
                    <a:cubicBezTo>
                      <a:pt x="8132" y="6272"/>
                      <a:pt x="9437" y="5724"/>
                      <a:pt x="10800" y="5725"/>
                    </a:cubicBezTo>
                    <a:cubicBezTo>
                      <a:pt x="12162" y="5725"/>
                      <a:pt x="13467" y="6272"/>
                      <a:pt x="14421" y="7245"/>
                    </a:cubicBezTo>
                    <a:lnTo>
                      <a:pt x="18507" y="3234"/>
                    </a:lnTo>
                    <a:cubicBezTo>
                      <a:pt x="16476" y="1165"/>
                      <a:pt x="13699" y="-1"/>
                      <a:pt x="10799" y="0"/>
                    </a:cubicBezTo>
                    <a:cubicBezTo>
                      <a:pt x="7900" y="0"/>
                      <a:pt x="5123" y="1165"/>
                      <a:pt x="3092" y="3234"/>
                    </a:cubicBezTo>
                    <a:lnTo>
                      <a:pt x="7178" y="7245"/>
                    </a:lnTo>
                    <a:close/>
                  </a:path>
                </a:pathLst>
              </a:custGeom>
              <a:solidFill>
                <a:srgbClr val="ccffcc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36"/>
              <p:cNvSpPr/>
              <p:nvPr/>
            </p:nvSpPr>
            <p:spPr>
              <a:xfrm rot="16200000">
                <a:off x="1774440" y="2968920"/>
                <a:ext cx="211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Busines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8"/>
            <p:cNvGrpSpPr/>
            <p:nvPr/>
          </p:nvGrpSpPr>
          <p:grpSpPr>
            <a:xfrm>
              <a:off x="3376440" y="819000"/>
              <a:ext cx="3191040" cy="3378240"/>
              <a:chOff x="3376440" y="819000"/>
              <a:chExt cx="3191040" cy="3378240"/>
            </a:xfrm>
          </p:grpSpPr>
          <p:sp>
            <p:nvSpPr>
              <p:cNvPr id="194" name="AutoShape 20"/>
              <p:cNvSpPr/>
              <p:nvPr/>
            </p:nvSpPr>
            <p:spPr>
              <a:xfrm>
                <a:off x="3376440" y="819000"/>
                <a:ext cx="3191040" cy="3378240"/>
              </a:xfrm>
              <a:custGeom>
                <a:avLst/>
                <a:gdLst>
                  <a:gd name="textAreaLeft" fmla="*/ 215640 w 3191040"/>
                  <a:gd name="textAreaRight" fmla="*/ 2975400 w 3191040"/>
                  <a:gd name="textAreaTop" fmla="*/ 0 h 3378240"/>
                  <a:gd name="textAreaBottom" fmla="*/ 1235160 h 337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566" y="6872"/>
                    </a:moveTo>
                    <a:cubicBezTo>
                      <a:pt x="7659" y="5694"/>
                      <a:pt x="9193" y="5024"/>
                      <a:pt x="10800" y="5025"/>
                    </a:cubicBezTo>
                    <a:cubicBezTo>
                      <a:pt x="12406" y="5025"/>
                      <a:pt x="13940" y="5694"/>
                      <a:pt x="15033" y="6872"/>
                    </a:cubicBezTo>
                    <a:lnTo>
                      <a:pt x="18717" y="3454"/>
                    </a:lnTo>
                    <a:cubicBezTo>
                      <a:pt x="16673" y="1251"/>
                      <a:pt x="13804" y="-1"/>
                      <a:pt x="10799" y="0"/>
                    </a:cubicBezTo>
                    <a:cubicBezTo>
                      <a:pt x="7795" y="0"/>
                      <a:pt x="4926" y="1251"/>
                      <a:pt x="2882" y="3454"/>
                    </a:cubicBezTo>
                    <a:lnTo>
                      <a:pt x="6566" y="6872"/>
                    </a:lnTo>
                    <a:close/>
                  </a:path>
                </a:pathLst>
              </a:custGeom>
              <a:solidFill>
                <a:srgbClr val="ffcccc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7"/>
              <p:cNvSpPr/>
              <p:nvPr/>
            </p:nvSpPr>
            <p:spPr>
              <a:xfrm>
                <a:off x="4228920" y="838080"/>
                <a:ext cx="1438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roduct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Desig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AutoShape 39"/>
            <p:cNvSpPr/>
            <p:nvPr/>
          </p:nvSpPr>
          <p:spPr>
            <a:xfrm rot="2782200">
              <a:off x="5737680" y="186588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40"/>
            <p:cNvSpPr/>
            <p:nvPr/>
          </p:nvSpPr>
          <p:spPr>
            <a:xfrm rot="8340000">
              <a:off x="5767560" y="4451400"/>
              <a:ext cx="1095120" cy="496800"/>
            </a:xfrm>
            <a:prstGeom prst="rightArrow">
              <a:avLst>
                <a:gd name="adj1" fmla="val 55500"/>
                <a:gd name="adj2" fmla="val 779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41"/>
            <p:cNvSpPr/>
            <p:nvPr/>
          </p:nvSpPr>
          <p:spPr>
            <a:xfrm rot="18884400">
              <a:off x="2994480" y="182268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42"/>
            <p:cNvSpPr/>
            <p:nvPr/>
          </p:nvSpPr>
          <p:spPr>
            <a:xfrm rot="13663200">
              <a:off x="3000960" y="4390200"/>
              <a:ext cx="1095480" cy="496800"/>
            </a:xfrm>
            <a:prstGeom prst="rightArrow">
              <a:avLst>
                <a:gd name="adj1" fmla="val 55500"/>
                <a:gd name="adj2" fmla="val 7797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AutoShape 43"/>
            <p:cNvCxnSpPr>
              <a:stCxn id="195" idx="2"/>
              <a:endCxn id="183" idx="0"/>
            </p:cNvCxnSpPr>
            <p:nvPr/>
          </p:nvCxnSpPr>
          <p:spPr>
            <a:xfrm>
              <a:off x="4947840" y="1600200"/>
              <a:ext cx="5400" cy="75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AutoShape 44"/>
            <p:cNvCxnSpPr>
              <a:stCxn id="186" idx="2"/>
              <a:endCxn id="183" idx="6"/>
            </p:cNvCxnSpPr>
            <p:nvPr/>
          </p:nvCxnSpPr>
          <p:spPr>
            <a:xfrm flipH="1">
              <a:off x="6000120" y="3390480"/>
              <a:ext cx="686520" cy="19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Line 45"/>
            <p:cNvSpPr/>
            <p:nvPr/>
          </p:nvSpPr>
          <p:spPr>
            <a:xfrm>
              <a:off x="5324400" y="4406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7"/>
            <p:cNvSpPr/>
            <p:nvPr/>
          </p:nvSpPr>
          <p:spPr>
            <a:xfrm>
              <a:off x="4581360" y="4406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 flipH="1">
              <a:off x="3211200" y="312408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49"/>
            <p:cNvSpPr/>
            <p:nvPr/>
          </p:nvSpPr>
          <p:spPr>
            <a:xfrm>
              <a:off x="3268800" y="3735360"/>
              <a:ext cx="63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51"/>
            <p:cNvSpPr/>
            <p:nvPr/>
          </p:nvSpPr>
          <p:spPr>
            <a:xfrm>
              <a:off x="152280" y="2619360"/>
              <a:ext cx="2114640" cy="1212840"/>
            </a:xfrm>
            <a:prstGeom prst="rightArrow">
              <a:avLst>
                <a:gd name="adj1" fmla="val 50000"/>
                <a:gd name="adj2" fmla="val 435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umer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4C9-3D36-4662-BAC3-7729CF5346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كونات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d- Manufacturing Syste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971640" y="776160"/>
            <a:ext cx="5124240" cy="1496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1- Production Equipment  </a:t>
            </a:r>
            <a:r>
              <a:rPr b="1" lang="ar-SA" sz="2000" spc="-1" strike="noStrike" u="sng">
                <a:solidFill>
                  <a:srgbClr val="3333cc"/>
                </a:solidFill>
                <a:uFillTx/>
                <a:latin typeface="Times New Roman"/>
              </a:rPr>
              <a:t>معدات الإنتاج</a:t>
            </a: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فح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Tool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اكينات التشغيل والتشك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معالج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 Equipmen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عدات التجمي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0"/>
          <p:cNvSpPr/>
          <p:nvPr/>
        </p:nvSpPr>
        <p:spPr>
          <a:xfrm>
            <a:off x="933480" y="2403360"/>
            <a:ext cx="5162400" cy="1770480"/>
          </a:xfrm>
          <a:prstGeom prst="rect">
            <a:avLst/>
          </a:prstGeom>
          <a:solidFill>
            <a:srgbClr val="e5ffe5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2- Handling Equipment </a:t>
            </a:r>
            <a:r>
              <a:rPr b="1" lang="ar-SA" sz="2000" spc="-1" strike="noStrike" u="sng">
                <a:solidFill>
                  <a:srgbClr val="3333cc"/>
                </a:solidFill>
                <a:uFillTx/>
                <a:latin typeface="Times New Roman"/>
              </a:rPr>
              <a:t>معدات المن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ading/unloading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التحميل والتفري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Positioning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وضع على المع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Transport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التنق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et fixture &amp; work carrier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منصة التثبيت والتحم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7"/>
          <p:cNvSpPr/>
          <p:nvPr/>
        </p:nvSpPr>
        <p:spPr>
          <a:xfrm>
            <a:off x="1009800" y="4032360"/>
            <a:ext cx="3886200" cy="2562840"/>
          </a:xfrm>
          <a:prstGeom prst="rect">
            <a:avLst/>
          </a:prstGeom>
          <a:solidFill>
            <a:srgbClr val="ffcc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3- Control system  </a:t>
            </a:r>
            <a:r>
              <a:rPr b="1" lang="ar-SA" sz="1800" spc="-1" strike="noStrike" u="sng">
                <a:solidFill>
                  <a:srgbClr val="3333cc"/>
                </a:solidFill>
                <a:uFillTx/>
                <a:latin typeface="Times New Roman"/>
              </a:rPr>
              <a:t>أنظمة التحك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ork Instr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NC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ndling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ilure diagno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afety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5257800" y="4089240"/>
            <a:ext cx="3657600" cy="256284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4- Human Resources  </a:t>
            </a:r>
            <a:r>
              <a:rPr b="1" lang="ar-SA" sz="1800" spc="-1" strike="noStrike" u="sng">
                <a:solidFill>
                  <a:srgbClr val="3333cc"/>
                </a:solidFill>
                <a:uFillTx/>
                <a:latin typeface="Times New Roman"/>
              </a:rPr>
              <a:t>مصادر بش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rect labour to carry work or oper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rect labour to manage automated system as computer operator, programm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direct labour to maintain and repair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586-E675-45D2-90D3-83FA60C9C1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شطة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e- Manufacturing System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6"/>
          <p:cNvSpPr/>
          <p:nvPr/>
        </p:nvSpPr>
        <p:spPr>
          <a:xfrm>
            <a:off x="152280" y="797040"/>
            <a:ext cx="53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 main Manufacturing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8"/>
          <p:cNvSpPr/>
          <p:nvPr/>
        </p:nvSpPr>
        <p:spPr>
          <a:xfrm>
            <a:off x="204840" y="46260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ed technological equipments are used for these operations. Hence composing a manufacturing system has special productio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تستخدم معدات تقنية مركبة لهذه العمليات مكونة بذلك نظام تصنيع ذات خصوصية وخصائص إنتاجية معين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2914560" y="1428840"/>
            <a:ext cx="365760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-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Manufactur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pe changing and Material treatment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embly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pection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80"/>
          <p:cNvGrpSpPr/>
          <p:nvPr/>
        </p:nvGrpSpPr>
        <p:grpSpPr>
          <a:xfrm>
            <a:off x="2266920" y="3543120"/>
            <a:ext cx="4957920" cy="914400"/>
            <a:chOff x="2266920" y="3543120"/>
            <a:chExt cx="4957920" cy="914400"/>
          </a:xfrm>
        </p:grpSpPr>
        <p:grpSp>
          <p:nvGrpSpPr>
            <p:cNvPr id="219" name="Group 81"/>
            <p:cNvGrpSpPr/>
            <p:nvPr/>
          </p:nvGrpSpPr>
          <p:grpSpPr>
            <a:xfrm>
              <a:off x="2266920" y="3543480"/>
              <a:ext cx="4957920" cy="914040"/>
              <a:chOff x="2266920" y="3543480"/>
              <a:chExt cx="4957920" cy="914040"/>
            </a:xfrm>
          </p:grpSpPr>
          <p:sp>
            <p:nvSpPr>
              <p:cNvPr id="220" name="AutoShape 82"/>
              <p:cNvSpPr/>
              <p:nvPr/>
            </p:nvSpPr>
            <p:spPr>
              <a:xfrm>
                <a:off x="3217680" y="3880080"/>
                <a:ext cx="2852640" cy="577440"/>
              </a:xfrm>
              <a:prstGeom prst="cube">
                <a:avLst>
                  <a:gd name="adj" fmla="val 25000"/>
                </a:avLst>
              </a:prstGeom>
              <a:solidFill>
                <a:srgbClr val="fff3f3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800000"/>
                    </a:solidFill>
                    <a:uFillTx/>
                    <a:latin typeface="Times New Roman"/>
                  </a:rPr>
                  <a:t>3- Control Oper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83"/>
              <p:cNvSpPr/>
              <p:nvPr/>
            </p:nvSpPr>
            <p:spPr>
              <a:xfrm>
                <a:off x="7224840" y="3543480"/>
                <a:ext cx="0" cy="6174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84"/>
              <p:cNvSpPr/>
              <p:nvPr/>
            </p:nvSpPr>
            <p:spPr>
              <a:xfrm>
                <a:off x="6070320" y="4160880"/>
                <a:ext cx="115452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85"/>
              <p:cNvSpPr/>
              <p:nvPr/>
            </p:nvSpPr>
            <p:spPr>
              <a:xfrm>
                <a:off x="2266920" y="3543480"/>
                <a:ext cx="0" cy="67320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86"/>
              <p:cNvSpPr/>
              <p:nvPr/>
            </p:nvSpPr>
            <p:spPr>
              <a:xfrm>
                <a:off x="2266920" y="4216680"/>
                <a:ext cx="95076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Line 87"/>
            <p:cNvSpPr/>
            <p:nvPr/>
          </p:nvSpPr>
          <p:spPr>
            <a:xfrm flipV="1">
              <a:off x="4644000" y="3543120"/>
              <a:ext cx="0" cy="3366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95"/>
          <p:cNvGrpSpPr/>
          <p:nvPr/>
        </p:nvGrpSpPr>
        <p:grpSpPr>
          <a:xfrm>
            <a:off x="209520" y="1243800"/>
            <a:ext cx="8686800" cy="2291040"/>
            <a:chOff x="209520" y="1243800"/>
            <a:chExt cx="8686800" cy="2291040"/>
          </a:xfrm>
        </p:grpSpPr>
        <p:sp>
          <p:nvSpPr>
            <p:cNvPr id="227" name="AutoShape 71"/>
            <p:cNvSpPr/>
            <p:nvPr/>
          </p:nvSpPr>
          <p:spPr>
            <a:xfrm rot="16235400">
              <a:off x="5902200" y="1855440"/>
              <a:ext cx="2268720" cy="1068480"/>
            </a:xfrm>
            <a:prstGeom prst="can">
              <a:avLst>
                <a:gd name="adj" fmla="val 38953"/>
              </a:avLst>
            </a:prstGeom>
            <a:solidFill>
              <a:srgbClr val="ebffeb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7280" indent="-28728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Warehousing &amp; 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72"/>
            <p:cNvSpPr/>
            <p:nvPr/>
          </p:nvSpPr>
          <p:spPr>
            <a:xfrm rot="16135800">
              <a:off x="1185480" y="1815840"/>
              <a:ext cx="2270160" cy="1146240"/>
            </a:xfrm>
            <a:prstGeom prst="can">
              <a:avLst>
                <a:gd name="adj" fmla="val 44125"/>
              </a:avLst>
            </a:prstGeom>
            <a:solidFill>
              <a:srgbClr val="ebffeb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7280" indent="-28728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Receiving &amp; 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3"/>
            <p:cNvSpPr/>
            <p:nvPr/>
          </p:nvSpPr>
          <p:spPr>
            <a:xfrm>
              <a:off x="2598840" y="1255320"/>
              <a:ext cx="42447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4"/>
            <p:cNvSpPr/>
            <p:nvPr/>
          </p:nvSpPr>
          <p:spPr>
            <a:xfrm>
              <a:off x="2598840" y="3524400"/>
              <a:ext cx="40161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92"/>
            <p:cNvSpPr/>
            <p:nvPr/>
          </p:nvSpPr>
          <p:spPr>
            <a:xfrm>
              <a:off x="209520" y="2122560"/>
              <a:ext cx="1523880" cy="801720"/>
            </a:xfrm>
            <a:prstGeom prst="rightArrow">
              <a:avLst>
                <a:gd name="adj1" fmla="val 50000"/>
                <a:gd name="adj2" fmla="val 47519"/>
              </a:avLst>
            </a:prstGeom>
            <a:solidFill>
              <a:srgbClr val="99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w Mat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93"/>
            <p:cNvSpPr/>
            <p:nvPr/>
          </p:nvSpPr>
          <p:spPr>
            <a:xfrm>
              <a:off x="7601040" y="2086560"/>
              <a:ext cx="1295280" cy="801720"/>
            </a:xfrm>
            <a:prstGeom prst="rightArrow">
              <a:avLst>
                <a:gd name="adj1" fmla="val 50000"/>
                <a:gd name="adj2" fmla="val 40391"/>
              </a:avLst>
            </a:prstGeom>
            <a:solidFill>
              <a:srgbClr val="99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90"/>
          <p:cNvGrpSpPr/>
          <p:nvPr/>
        </p:nvGrpSpPr>
        <p:grpSpPr>
          <a:xfrm>
            <a:off x="1752480" y="2895480"/>
            <a:ext cx="6171840" cy="533520"/>
            <a:chOff x="1752480" y="2895480"/>
            <a:chExt cx="6171840" cy="533520"/>
          </a:xfrm>
        </p:grpSpPr>
        <p:sp>
          <p:nvSpPr>
            <p:cNvPr id="234" name="Line 78"/>
            <p:cNvSpPr/>
            <p:nvPr/>
          </p:nvSpPr>
          <p:spPr>
            <a:xfrm>
              <a:off x="1752480" y="3429000"/>
              <a:ext cx="617184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79"/>
            <p:cNvSpPr/>
            <p:nvPr/>
          </p:nvSpPr>
          <p:spPr>
            <a:xfrm>
              <a:off x="2846160" y="2895480"/>
              <a:ext cx="374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2- Material handling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861-1E91-41EA-8F9D-0EFB095DAD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شطة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f- Manufacturing System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280" y="797040"/>
            <a:ext cx="53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of  Manufacturing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8"/>
          <p:cNvGrpSpPr/>
          <p:nvPr/>
        </p:nvGrpSpPr>
        <p:grpSpPr>
          <a:xfrm>
            <a:off x="514440" y="1946160"/>
            <a:ext cx="8095680" cy="4194360"/>
            <a:chOff x="514440" y="1946160"/>
            <a:chExt cx="8095680" cy="4194360"/>
          </a:xfrm>
        </p:grpSpPr>
        <p:sp>
          <p:nvSpPr>
            <p:cNvPr id="240" name="Text Box 25"/>
            <p:cNvSpPr/>
            <p:nvPr/>
          </p:nvSpPr>
          <p:spPr>
            <a:xfrm>
              <a:off x="514440" y="3205080"/>
              <a:ext cx="1961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Production oper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3193920" y="1946160"/>
              <a:ext cx="5416200" cy="221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Add value Processes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ليب إضافة قيمة</a:t>
              </a:r>
              <a:r>
                <a:rPr b="1" lang="ar-SA" sz="20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hape Chang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غير الشك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Property Chang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غير الخصائ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urface Enhanc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تحسين السط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 algn="just">
                <a:spcBef>
                  <a:spcPts val="337"/>
                </a:spcBef>
                <a:buClr>
                  <a:srgbClr val="800000"/>
                </a:buClr>
                <a:buFont typeface="Times New Roman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Assembly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تجميع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3247920" y="3790800"/>
              <a:ext cx="5362200" cy="234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No add value Processes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ليب لا تضيف قيم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Handl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مناول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Storage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تخزي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Inspection &amp; Tests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فحص والاختب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8360" indent="-19836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Control  and adjusting Processes </a:t>
              </a:r>
              <a:r>
                <a:rPr b="1" lang="ar-SA" sz="1800" spc="-1" strike="noStrike">
                  <a:solidFill>
                    <a:srgbClr val="800000"/>
                  </a:solidFill>
                  <a:latin typeface="Times New Roman"/>
                </a:rPr>
                <a:t>أساليب الضبط والتحك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AutoShape 28"/>
            <p:cNvCxnSpPr>
              <a:stCxn id="240" idx="2"/>
              <a:endCxn id="242" idx="1"/>
            </p:cNvCxnSpPr>
            <p:nvPr/>
          </p:nvCxnSpPr>
          <p:spPr>
            <a:xfrm flipH="1" rot="16200000">
              <a:off x="2113200" y="3408840"/>
              <a:ext cx="516960" cy="17532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4" name="AutoShape 29"/>
            <p:cNvCxnSpPr>
              <a:stCxn id="240" idx="0"/>
              <a:endCxn id="241" idx="1"/>
            </p:cNvCxnSpPr>
            <p:nvPr/>
          </p:nvCxnSpPr>
          <p:spPr>
            <a:xfrm flipH="1" flipV="1" rot="5400000">
              <a:off x="2132280" y="2143440"/>
              <a:ext cx="424440" cy="169920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0C5-E3DD-432E-BDCD-72ED63FEF6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56880"/>
            <a:ext cx="8686800" cy="63180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واع الصناعا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a- Types of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3"/>
          <p:cNvGrpSpPr/>
          <p:nvPr/>
        </p:nvGrpSpPr>
        <p:grpSpPr>
          <a:xfrm>
            <a:off x="171360" y="936720"/>
            <a:ext cx="8591760" cy="5677560"/>
            <a:chOff x="171360" y="936720"/>
            <a:chExt cx="8591760" cy="5677560"/>
          </a:xfrm>
        </p:grpSpPr>
        <p:sp>
          <p:nvSpPr>
            <p:cNvPr id="248" name="Text Box 5"/>
            <p:cNvSpPr/>
            <p:nvPr/>
          </p:nvSpPr>
          <p:spPr>
            <a:xfrm>
              <a:off x="171360" y="3036960"/>
              <a:ext cx="2895840" cy="10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8360" indent="-198360"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International Standard Industrial Classification [ISIC]</a:t>
              </a:r>
              <a:r>
                <a:rPr b="1" lang="en-GB" sz="22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"/>
            <p:cNvSpPr/>
            <p:nvPr/>
          </p:nvSpPr>
          <p:spPr>
            <a:xfrm>
              <a:off x="3848040" y="936720"/>
              <a:ext cx="485784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Prima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ول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 basic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أساس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ining – Agriculture – Fishing – Quarries – Petroleum - Fore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AutoShape 8"/>
            <p:cNvCxnSpPr>
              <a:stCxn id="248" idx="2"/>
              <a:endCxn id="251" idx="1"/>
            </p:cNvCxnSpPr>
            <p:nvPr/>
          </p:nvCxnSpPr>
          <p:spPr>
            <a:xfrm flipH="1" rot="16200000">
              <a:off x="1875600" y="3876480"/>
              <a:ext cx="1715040" cy="22294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52" name="AutoShape 9"/>
            <p:cNvCxnSpPr>
              <a:stCxn id="248" idx="0"/>
              <a:endCxn id="249" idx="1"/>
            </p:cNvCxnSpPr>
            <p:nvPr/>
          </p:nvCxnSpPr>
          <p:spPr>
            <a:xfrm flipH="1" flipV="1" rot="5400000">
              <a:off x="1932120" y="1121040"/>
              <a:ext cx="1602720" cy="22294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53" name="Text Box 10"/>
            <p:cNvSpPr/>
            <p:nvPr/>
          </p:nvSpPr>
          <p:spPr>
            <a:xfrm>
              <a:off x="3848040" y="2678040"/>
              <a:ext cx="4915080" cy="181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Seconde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ثانوي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 transfer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تحويلية</a:t>
              </a: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lastic – Car – Aerospace – Electronics – textile – Publishing – Food processing – Power – wood processing, - glass &amp; ceramic – Paper – pharmaceuticals – Chemical -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3848040" y="5075280"/>
              <a:ext cx="4915080" cy="153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Tertiary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درجة ثالث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{Service </a:t>
              </a:r>
              <a:r>
                <a:rPr b="1" lang="ar-SA" sz="2000" spc="-1" strike="noStrike" u="sng">
                  <a:solidFill>
                    <a:srgbClr val="d60093"/>
                  </a:solidFill>
                  <a:uFillTx/>
                  <a:latin typeface="Arial"/>
                  <a:cs typeface="Arial"/>
                </a:rPr>
                <a:t>الخدمة</a:t>
              </a:r>
              <a:r>
                <a:rPr b="1" lang="en-GB" sz="2000" spc="-1" strike="noStrike" u="sng">
                  <a:solidFill>
                    <a:srgbClr val="d60093"/>
                  </a:solidFill>
                  <a:uFillTx/>
                  <a:latin typeface="Arial"/>
                  <a:ea typeface="Arial"/>
                </a:rPr>
                <a:t>} 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nking – Education – Government – Insurance – Real state – Repair and maintenance – Wholesale &amp; Retail trade – Tourism- transportation, etc.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AutoShape 12"/>
            <p:cNvCxnSpPr>
              <a:stCxn id="248" idx="3"/>
              <a:endCxn id="253" idx="1"/>
            </p:cNvCxnSpPr>
            <p:nvPr/>
          </p:nvCxnSpPr>
          <p:spPr>
            <a:xfrm>
              <a:off x="3066840" y="3586320"/>
              <a:ext cx="781560" cy="3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B68-D88F-4218-80AF-1F38F75A66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8686800" cy="53316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المنتج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Types of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28600" y="690480"/>
            <a:ext cx="8534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00"/>
                </a:solidFill>
                <a:uFillTx/>
                <a:latin typeface="Times New Roman"/>
              </a:rPr>
              <a:t>International Standard Industrial Classification [ISIC] for manufacturing se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0440" y="1441440"/>
          <a:ext cx="8724960" cy="4876920"/>
        </p:xfrm>
        <a:graphic>
          <a:graphicData uri="http://schemas.openxmlformats.org/drawingml/2006/table">
            <a:tbl>
              <a:tblPr/>
              <a:tblGrid>
                <a:gridCol w="900000"/>
                <a:gridCol w="782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Manufac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, Beverages, Tobac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ile, Wearing apparel, Leather goods, F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od and wood products, Cork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, paper products, printing, publishing, bookbi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ical, coal, petroleum, plastic, rubber, product fro these materials, pharmaceutic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amics, glass, non-metallic mineral products (i.e. cement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 metal (Aluminium, steel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bricated metal products, machineries, equipments (e.g. cars, aircraft, office equipment, cameras, computers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manufactured goods (e.g. jewellery, musical instruments, sporting goods, toys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8FA-FF90-462A-B805-DEC0E65A2F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911320" y="2857680"/>
            <a:ext cx="3299040" cy="715320"/>
          </a:xfrm>
          <a:prstGeom prst="rect">
            <a:avLst/>
          </a:prstGeom>
          <a:solidFill>
            <a:srgbClr val="ffccff">
              <a:alpha val="70000"/>
            </a:srgbClr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facturing System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نظام التصني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572160" y="2197080"/>
            <a:ext cx="2552760" cy="2200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 rtl="1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واد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طاق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علوما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رأس الما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إدار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7132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3a- manufacturing system </a:t>
            </a:r>
            <a:r>
              <a:rPr b="1" lang="en-GB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odelling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نموذج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8160" y="2362320"/>
            <a:ext cx="2495520" cy="2104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 rtl="1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Product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سلع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خدم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علوما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cts and Scrap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مواد المعيبة والفاض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33680" y="3048120"/>
            <a:ext cx="342720" cy="304560"/>
          </a:xfrm>
          <a:prstGeom prst="leftArrow">
            <a:avLst>
              <a:gd name="adj1" fmla="val 50000"/>
              <a:gd name="adj2" fmla="val 2813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381560" y="2066760"/>
            <a:ext cx="361800" cy="790920"/>
          </a:xfrm>
          <a:prstGeom prst="downArrow">
            <a:avLst>
              <a:gd name="adj1" fmla="val 50000"/>
              <a:gd name="adj2" fmla="val 54652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4381560" y="3638520"/>
            <a:ext cx="361800" cy="647640"/>
          </a:xfrm>
          <a:prstGeom prst="downArrow">
            <a:avLst>
              <a:gd name="adj1" fmla="val 50000"/>
              <a:gd name="adj2" fmla="val 44751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2759040" y="777960"/>
            <a:ext cx="3603600" cy="1419120"/>
          </a:xfrm>
          <a:prstGeom prst="flowChartAlternateProcess">
            <a:avLst/>
          </a:prstGeom>
          <a:solidFill>
            <a:srgbClr val="ff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External Factors 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عوامل خارج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nomica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al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6229440" y="3048120"/>
            <a:ext cx="342720" cy="304560"/>
          </a:xfrm>
          <a:prstGeom prst="leftArrow">
            <a:avLst>
              <a:gd name="adj1" fmla="val 50000"/>
              <a:gd name="adj2" fmla="val 2813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171880" y="4267080"/>
            <a:ext cx="4724280" cy="257184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Some Performance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ff3300"/>
                </a:solidFill>
                <a:latin typeface="Times New Roman"/>
              </a:rPr>
              <a:t>بعض وحدات قياس الأد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put Tim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زمن خلال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Ra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عدل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k in Process Inventory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تخزين بين العمل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ctive %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نسبة المئوية المعي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n time delivery %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نسبة المئوية لزمن التوريد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volumes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جم الإنتاج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تكلفة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0519-508F-4426-AAB4-14B01AE0AA6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609480" y="1162080"/>
            <a:ext cx="7772400" cy="2269080"/>
            <a:chOff x="609480" y="1162080"/>
            <a:chExt cx="7772400" cy="2269080"/>
          </a:xfrm>
        </p:grpSpPr>
        <p:sp>
          <p:nvSpPr>
            <p:cNvPr id="273" name="Text Box 4"/>
            <p:cNvSpPr/>
            <p:nvPr/>
          </p:nvSpPr>
          <p:spPr>
            <a:xfrm>
              <a:off x="2666880" y="1162080"/>
              <a:ext cx="3657600" cy="45972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ufacturing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5"/>
            <p:cNvSpPr/>
            <p:nvPr/>
          </p:nvSpPr>
          <p:spPr>
            <a:xfrm>
              <a:off x="685800" y="1219320"/>
              <a:ext cx="1905120" cy="380880"/>
            </a:xfrm>
            <a:prstGeom prst="rightArrow">
              <a:avLst>
                <a:gd name="adj1" fmla="val 50000"/>
                <a:gd name="adj2" fmla="val 12504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>
              <a:off x="6400800" y="1219320"/>
              <a:ext cx="1905120" cy="380880"/>
            </a:xfrm>
            <a:prstGeom prst="rightArrow">
              <a:avLst>
                <a:gd name="adj1" fmla="val 50000"/>
                <a:gd name="adj2" fmla="val 12504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609480" y="1660680"/>
              <a:ext cx="3962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e Fluct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aw material (Availability &amp; co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siness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cial Pres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sources and Pl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6400800" y="1600200"/>
              <a:ext cx="1981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ion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 Qu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pu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2438280" y="3032280"/>
              <a:ext cx="40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 (Arabic)"/>
                </a:rPr>
                <a:t>a) Overall View  (parnaby, 1978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10"/>
          <p:cNvGrpSpPr/>
          <p:nvPr/>
        </p:nvGrpSpPr>
        <p:grpSpPr>
          <a:xfrm>
            <a:off x="304920" y="4057560"/>
            <a:ext cx="8534160" cy="2421360"/>
            <a:chOff x="304920" y="4057560"/>
            <a:chExt cx="8534160" cy="2421360"/>
          </a:xfrm>
        </p:grpSpPr>
        <p:sp>
          <p:nvSpPr>
            <p:cNvPr id="280" name="Text Box 11"/>
            <p:cNvSpPr/>
            <p:nvPr/>
          </p:nvSpPr>
          <p:spPr>
            <a:xfrm>
              <a:off x="2706840" y="4057560"/>
              <a:ext cx="3730320" cy="45972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12"/>
            <p:cNvSpPr/>
            <p:nvPr/>
          </p:nvSpPr>
          <p:spPr>
            <a:xfrm>
              <a:off x="687240" y="4114800"/>
              <a:ext cx="1941840" cy="380880"/>
            </a:xfrm>
            <a:prstGeom prst="rightArrow">
              <a:avLst>
                <a:gd name="adj1" fmla="val 50000"/>
                <a:gd name="adj2" fmla="val 127457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AutoShape 13"/>
            <p:cNvSpPr/>
            <p:nvPr/>
          </p:nvSpPr>
          <p:spPr>
            <a:xfrm>
              <a:off x="6515280" y="4114800"/>
              <a:ext cx="1941480" cy="380880"/>
            </a:xfrm>
            <a:prstGeom prst="rightArrow">
              <a:avLst>
                <a:gd name="adj1" fmla="val 50000"/>
                <a:gd name="adj2" fmla="val 12743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304920" y="4630680"/>
              <a:ext cx="419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05800"/>
                  </a:solidFill>
                  <a:latin typeface="Times New Roman"/>
                </a:rPr>
                <a:t>INPUT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FACTORS OF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ans (equip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b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6515280" y="4495680"/>
              <a:ext cx="23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05800"/>
                  </a:solidFill>
                  <a:latin typeface="Times New Roman"/>
                </a:rPr>
                <a:t>OUTPUT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GO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ng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ang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1523880" y="6080040"/>
              <a:ext cx="60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 (Arabic)"/>
                </a:rPr>
                <a:t>b) Basic meaning of manufacturing  (Hitomi, 1979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677-5BE9-48C7-B46F-D360B6AC0D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2280" y="95400"/>
            <a:ext cx="8292960" cy="514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 Purpose of Mfg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غرض من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57240" y="1457280"/>
            <a:ext cx="8934480" cy="5709240"/>
            <a:chOff x="57240" y="1457280"/>
            <a:chExt cx="8934480" cy="5709240"/>
          </a:xfrm>
        </p:grpSpPr>
        <p:sp>
          <p:nvSpPr>
            <p:cNvPr id="54" name="Text Box 3"/>
            <p:cNvSpPr/>
            <p:nvPr/>
          </p:nvSpPr>
          <p:spPr>
            <a:xfrm>
              <a:off x="5029200" y="1457280"/>
              <a:ext cx="3962520" cy="570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غرض الأساسي  للنظام التصنيعي هو إنتاج منتجات سلعية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(تحقق الوظيفة المرغوب بها والمظهر الجمالي والسلامة عند التشغيل على الأفراد والبيئة وعالية الجودة وموثقة الأداء ومنخفضة الصيانة ومقبولة السعر) , </a:t>
              </a:r>
              <a:r>
                <a:rPr b="1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تعمل على  تزويد المجتمع بمكتسبات اجتماعية واقتصاد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كالتالي: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ين الثروة 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مكاسب وظيفية في المجتمع ومهارات تقنية متقدمة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ن السلوكيات الحضارية الاجتما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 rtl="1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حسن مستوى المعيشة وجودة الحياة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57240" y="1457280"/>
              <a:ext cx="4971960" cy="38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e main purpose of manufacturing is to provide desired products (goods)</a:t>
              </a:r>
              <a:r>
                <a:rPr b="1" lang="en-GB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(achieving the required quality of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unction, authentic, operation safety to people and environment, reliable, maintainable, and acceptable price. </a:t>
              </a: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t should provide social and economical gains including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Develop economical w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Develop jobs and technical skills</a:t>
              </a: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Improve civil &amp; social behavi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5640" indent="-295200" algn="just">
                <a:lnSpc>
                  <a:spcPct val="100000"/>
                </a:lnSpc>
                <a:spcBef>
                  <a:spcPts val="249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Improve standard of living quality of life</a:t>
              </a:r>
              <a:r>
                <a:rPr b="1" lang="ar-SA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29B-BDB8-400D-9C95-3A5FB69284E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71600" y="2239920"/>
            <a:ext cx="8039160" cy="2989800"/>
            <a:chOff x="471600" y="2239920"/>
            <a:chExt cx="8039160" cy="2989800"/>
          </a:xfrm>
        </p:grpSpPr>
        <p:sp>
          <p:nvSpPr>
            <p:cNvPr id="289" name="Text Box 4"/>
            <p:cNvSpPr/>
            <p:nvPr/>
          </p:nvSpPr>
          <p:spPr>
            <a:xfrm>
              <a:off x="2568600" y="2849400"/>
              <a:ext cx="3730680" cy="110844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nufactur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D VAL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5"/>
            <p:cNvSpPr/>
            <p:nvPr/>
          </p:nvSpPr>
          <p:spPr>
            <a:xfrm>
              <a:off x="549360" y="3230640"/>
              <a:ext cx="1941480" cy="380880"/>
            </a:xfrm>
            <a:prstGeom prst="rightArrow">
              <a:avLst>
                <a:gd name="adj1" fmla="val 50000"/>
                <a:gd name="adj2" fmla="val 12743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6"/>
            <p:cNvSpPr/>
            <p:nvPr/>
          </p:nvSpPr>
          <p:spPr>
            <a:xfrm>
              <a:off x="6377040" y="3198600"/>
              <a:ext cx="1941480" cy="381240"/>
            </a:xfrm>
            <a:prstGeom prst="rightArrow">
              <a:avLst>
                <a:gd name="adj1" fmla="val 50000"/>
                <a:gd name="adj2" fmla="val 127314"/>
              </a:avLst>
            </a:prstGeom>
            <a:solidFill>
              <a:srgbClr val="ffff99"/>
            </a:solidFill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471600" y="294012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INPU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8"/>
            <p:cNvSpPr/>
            <p:nvPr/>
          </p:nvSpPr>
          <p:spPr>
            <a:xfrm>
              <a:off x="7176960" y="2849400"/>
              <a:ext cx="13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OUTPU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1387440" y="4525920"/>
              <a:ext cx="60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) Wealth Creation by manufacturing  (Lupton, 1986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6377040" y="3230640"/>
              <a:ext cx="5713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V="1">
              <a:off x="6948360" y="2239920"/>
              <a:ext cx="0" cy="990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 flipH="1">
              <a:off x="1766520" y="2239920"/>
              <a:ext cx="51814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>
              <a:off x="1766880" y="2239920"/>
              <a:ext cx="0" cy="870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Arc 14"/>
            <p:cNvSpPr/>
            <p:nvPr/>
          </p:nvSpPr>
          <p:spPr>
            <a:xfrm flipH="1">
              <a:off x="1388880" y="3078000"/>
              <a:ext cx="400320" cy="825480"/>
            </a:xfrm>
            <a:custGeom>
              <a:avLst/>
              <a:gdLst>
                <a:gd name="textAreaLeft" fmla="*/ 360 w 400320"/>
                <a:gd name="textAreaRight" fmla="*/ 401040 w 40032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fill="none" w="25148" h="43200">
                  <a:moveTo>
                    <a:pt x="3547" y="0"/>
                  </a:moveTo>
                  <a:cubicBezTo>
                    <a:pt x="15477" y="0"/>
                    <a:pt x="25148" y="9670"/>
                    <a:pt x="25148" y="21600"/>
                  </a:cubicBezTo>
                  <a:cubicBezTo>
                    <a:pt x="25148" y="-32007"/>
                    <a:pt x="15477" y="-22336"/>
                    <a:pt x="3548" y="-22336"/>
                  </a:cubicBezTo>
                  <a:cubicBezTo>
                    <a:pt x="2359" y="-22336"/>
                    <a:pt x="1172" y="-22435"/>
                    <a:pt x="0" y="-22630"/>
                  </a:cubicBezTo>
                </a:path>
                <a:path stroke="0" w="25148" h="43200">
                  <a:moveTo>
                    <a:pt x="3547" y="0"/>
                  </a:moveTo>
                  <a:cubicBezTo>
                    <a:pt x="15477" y="0"/>
                    <a:pt x="25148" y="9670"/>
                    <a:pt x="25148" y="21600"/>
                  </a:cubicBezTo>
                  <a:cubicBezTo>
                    <a:pt x="25148" y="-32007"/>
                    <a:pt x="15477" y="-22336"/>
                    <a:pt x="3548" y="-22336"/>
                  </a:cubicBezTo>
                  <a:cubicBezTo>
                    <a:pt x="2359" y="-22336"/>
                    <a:pt x="1172" y="-22435"/>
                    <a:pt x="0" y="-22630"/>
                  </a:cubicBezTo>
                  <a:lnTo>
                    <a:pt x="3548" y="21600"/>
                  </a:lnTo>
                  <a:lnTo>
                    <a:pt x="3547" y="0"/>
                  </a:ln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1766880" y="3916440"/>
              <a:ext cx="0" cy="330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6"/>
            <p:cNvSpPr/>
            <p:nvPr/>
          </p:nvSpPr>
          <p:spPr>
            <a:xfrm>
              <a:off x="1119240" y="422100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W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3824280" y="223992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Reple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4B0-406F-46EC-B2B4-7A7E2F0ABC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 I/0 Mod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اذج مدخلات ومخرجات نظا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611280" y="6461280"/>
            <a:ext cx="78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 (Arabic)"/>
              </a:rPr>
              <a:t>d) Manufacturing system information and control  (Chang,et., 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0" y="3087720"/>
            <a:ext cx="9144000" cy="646200"/>
            <a:chOff x="0" y="3087720"/>
            <a:chExt cx="9144000" cy="646200"/>
          </a:xfrm>
        </p:grpSpPr>
        <p:sp>
          <p:nvSpPr>
            <p:cNvPr id="307" name="Line 5"/>
            <p:cNvSpPr/>
            <p:nvPr/>
          </p:nvSpPr>
          <p:spPr>
            <a:xfrm>
              <a:off x="4152960" y="3429000"/>
              <a:ext cx="41904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6"/>
            <p:cNvSpPr/>
            <p:nvPr/>
          </p:nvSpPr>
          <p:spPr>
            <a:xfrm>
              <a:off x="6616800" y="3124080"/>
              <a:ext cx="850680" cy="603360"/>
            </a:xfrm>
            <a:prstGeom prst="ellipse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4572000" y="3162240"/>
              <a:ext cx="717480" cy="525600"/>
            </a:xfrm>
            <a:prstGeom prst="ellipse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5486400" y="3162240"/>
              <a:ext cx="716040" cy="525600"/>
            </a:xfrm>
            <a:prstGeom prst="flowChartInputOutput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a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9"/>
            <p:cNvSpPr/>
            <p:nvPr/>
          </p:nvSpPr>
          <p:spPr>
            <a:xfrm>
              <a:off x="7848720" y="3124080"/>
              <a:ext cx="982440" cy="603360"/>
            </a:xfrm>
            <a:prstGeom prst="flowChartInputOutput">
              <a:avLst/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533520" y="3124080"/>
              <a:ext cx="799920" cy="603360"/>
            </a:xfrm>
            <a:prstGeom prst="hexagon">
              <a:avLst>
                <a:gd name="adj" fmla="val 33144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AutoShape 11"/>
            <p:cNvSpPr/>
            <p:nvPr/>
          </p:nvSpPr>
          <p:spPr>
            <a:xfrm>
              <a:off x="1600200" y="3087720"/>
              <a:ext cx="733320" cy="646200"/>
            </a:xfrm>
            <a:prstGeom prst="hexagon">
              <a:avLst>
                <a:gd name="adj" fmla="val 28370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12"/>
            <p:cNvSpPr/>
            <p:nvPr/>
          </p:nvSpPr>
          <p:spPr>
            <a:xfrm>
              <a:off x="2592360" y="3200400"/>
              <a:ext cx="455760" cy="430200"/>
            </a:xfrm>
            <a:prstGeom prst="hexagon">
              <a:avLst>
                <a:gd name="adj" fmla="val 26485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13"/>
            <p:cNvSpPr/>
            <p:nvPr/>
          </p:nvSpPr>
          <p:spPr>
            <a:xfrm>
              <a:off x="3352680" y="3132000"/>
              <a:ext cx="800280" cy="525600"/>
            </a:xfrm>
            <a:prstGeom prst="hexagon">
              <a:avLst>
                <a:gd name="adj" fmla="val 38065"/>
                <a:gd name="vf" fmla="val 115470"/>
              </a:avLst>
            </a:prstGeom>
            <a:noFill/>
            <a:ln w="3816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90"/>
                  </a:solidFill>
                  <a:latin typeface="Times New Roman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3048120" y="342900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2333520" y="340344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6"/>
            <p:cNvSpPr/>
            <p:nvPr/>
          </p:nvSpPr>
          <p:spPr>
            <a:xfrm>
              <a:off x="1333440" y="340344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5257800" y="3429000"/>
              <a:ext cx="2667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6126120" y="3429000"/>
              <a:ext cx="4906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>
              <a:off x="7505640" y="3429000"/>
              <a:ext cx="3430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>
              <a:off x="8763120" y="3429000"/>
              <a:ext cx="38088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>
              <a:off x="0" y="3429000"/>
              <a:ext cx="495360" cy="0"/>
            </a:xfrm>
            <a:prstGeom prst="line">
              <a:avLst/>
            </a:prstGeom>
            <a:ln w="38160">
              <a:solidFill>
                <a:srgbClr val="00009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28240" y="3403440"/>
            <a:ext cx="8687160" cy="2896560"/>
            <a:chOff x="228240" y="3403440"/>
            <a:chExt cx="8687160" cy="2896560"/>
          </a:xfrm>
        </p:grpSpPr>
        <p:sp>
          <p:nvSpPr>
            <p:cNvPr id="325" name="Text Box 23"/>
            <p:cNvSpPr/>
            <p:nvPr/>
          </p:nvSpPr>
          <p:spPr>
            <a:xfrm>
              <a:off x="914400" y="5992920"/>
              <a:ext cx="181296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fit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8915400" y="3429000"/>
              <a:ext cx="0" cy="2819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2743200" y="6248520"/>
              <a:ext cx="6172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>
              <a:off x="228600" y="3403440"/>
              <a:ext cx="0" cy="2845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7"/>
            <p:cNvSpPr/>
            <p:nvPr/>
          </p:nvSpPr>
          <p:spPr>
            <a:xfrm flipH="1">
              <a:off x="228240" y="624852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28"/>
          <p:cNvGrpSpPr/>
          <p:nvPr/>
        </p:nvGrpSpPr>
        <p:grpSpPr>
          <a:xfrm>
            <a:off x="1447920" y="3403440"/>
            <a:ext cx="6172200" cy="2439360"/>
            <a:chOff x="1447920" y="3403440"/>
            <a:chExt cx="6172200" cy="2439360"/>
          </a:xfrm>
        </p:grpSpPr>
        <p:sp>
          <p:nvSpPr>
            <p:cNvPr id="331" name="Text Box 29"/>
            <p:cNvSpPr/>
            <p:nvPr/>
          </p:nvSpPr>
          <p:spPr>
            <a:xfrm>
              <a:off x="1820880" y="5535720"/>
              <a:ext cx="181296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7620120" y="3429000"/>
              <a:ext cx="0" cy="23623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3657600" y="5791320"/>
              <a:ext cx="39625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 flipH="1">
              <a:off x="1447920" y="5791320"/>
              <a:ext cx="3808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3"/>
            <p:cNvSpPr/>
            <p:nvPr/>
          </p:nvSpPr>
          <p:spPr>
            <a:xfrm>
              <a:off x="1447920" y="3403440"/>
              <a:ext cx="0" cy="2387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34"/>
          <p:cNvGrpSpPr/>
          <p:nvPr/>
        </p:nvGrpSpPr>
        <p:grpSpPr>
          <a:xfrm>
            <a:off x="4267080" y="3403440"/>
            <a:ext cx="2210040" cy="1067760"/>
            <a:chOff x="4267080" y="3403440"/>
            <a:chExt cx="2210040" cy="1067760"/>
          </a:xfrm>
        </p:grpSpPr>
        <p:sp>
          <p:nvSpPr>
            <p:cNvPr id="337" name="Text Box 35"/>
            <p:cNvSpPr/>
            <p:nvPr/>
          </p:nvSpPr>
          <p:spPr>
            <a:xfrm>
              <a:off x="4419720" y="4164120"/>
              <a:ext cx="17366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uct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6"/>
            <p:cNvSpPr/>
            <p:nvPr/>
          </p:nvSpPr>
          <p:spPr>
            <a:xfrm>
              <a:off x="6477120" y="3429000"/>
              <a:ext cx="0" cy="914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7"/>
            <p:cNvSpPr/>
            <p:nvPr/>
          </p:nvSpPr>
          <p:spPr>
            <a:xfrm flipH="1">
              <a:off x="6202080" y="4343400"/>
              <a:ext cx="2746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8"/>
            <p:cNvSpPr/>
            <p:nvPr/>
          </p:nvSpPr>
          <p:spPr>
            <a:xfrm>
              <a:off x="4267080" y="3403440"/>
              <a:ext cx="0" cy="9399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9"/>
            <p:cNvSpPr/>
            <p:nvPr/>
          </p:nvSpPr>
          <p:spPr>
            <a:xfrm>
              <a:off x="4267080" y="4343400"/>
              <a:ext cx="152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40"/>
          <p:cNvGrpSpPr/>
          <p:nvPr/>
        </p:nvGrpSpPr>
        <p:grpSpPr>
          <a:xfrm>
            <a:off x="3200400" y="3352680"/>
            <a:ext cx="3276720" cy="1575720"/>
            <a:chOff x="3200400" y="3352680"/>
            <a:chExt cx="3276720" cy="1575720"/>
          </a:xfrm>
        </p:grpSpPr>
        <p:sp>
          <p:nvSpPr>
            <p:cNvPr id="343" name="Text Box 41"/>
            <p:cNvSpPr/>
            <p:nvPr/>
          </p:nvSpPr>
          <p:spPr>
            <a:xfrm>
              <a:off x="3657600" y="4621320"/>
              <a:ext cx="15098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 flipH="1">
              <a:off x="5167440" y="4876920"/>
              <a:ext cx="13096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3"/>
            <p:cNvSpPr/>
            <p:nvPr/>
          </p:nvSpPr>
          <p:spPr>
            <a:xfrm>
              <a:off x="3200400" y="3352680"/>
              <a:ext cx="0" cy="15242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44"/>
            <p:cNvSpPr/>
            <p:nvPr/>
          </p:nvSpPr>
          <p:spPr>
            <a:xfrm>
              <a:off x="3200400" y="4876920"/>
              <a:ext cx="457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45"/>
            <p:cNvSpPr/>
            <p:nvPr/>
          </p:nvSpPr>
          <p:spPr>
            <a:xfrm>
              <a:off x="6477120" y="4343400"/>
              <a:ext cx="0" cy="533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6"/>
          <p:cNvGrpSpPr/>
          <p:nvPr/>
        </p:nvGrpSpPr>
        <p:grpSpPr>
          <a:xfrm>
            <a:off x="2438280" y="3352680"/>
            <a:ext cx="4038840" cy="2032920"/>
            <a:chOff x="2438280" y="3352680"/>
            <a:chExt cx="4038840" cy="2032920"/>
          </a:xfrm>
        </p:grpSpPr>
        <p:sp>
          <p:nvSpPr>
            <p:cNvPr id="349" name="Text Box 47"/>
            <p:cNvSpPr/>
            <p:nvPr/>
          </p:nvSpPr>
          <p:spPr>
            <a:xfrm>
              <a:off x="2666880" y="5078520"/>
              <a:ext cx="2008440" cy="307080"/>
            </a:xfrm>
            <a:prstGeom prst="rect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verage Tard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8"/>
            <p:cNvSpPr/>
            <p:nvPr/>
          </p:nvSpPr>
          <p:spPr>
            <a:xfrm>
              <a:off x="4675320" y="5334120"/>
              <a:ext cx="1801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9"/>
            <p:cNvSpPr/>
            <p:nvPr/>
          </p:nvSpPr>
          <p:spPr>
            <a:xfrm>
              <a:off x="2438280" y="3352680"/>
              <a:ext cx="0" cy="198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0"/>
            <p:cNvSpPr/>
            <p:nvPr/>
          </p:nvSpPr>
          <p:spPr>
            <a:xfrm>
              <a:off x="2438280" y="5334120"/>
              <a:ext cx="2286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51"/>
            <p:cNvSpPr/>
            <p:nvPr/>
          </p:nvSpPr>
          <p:spPr>
            <a:xfrm>
              <a:off x="6477120" y="4876920"/>
              <a:ext cx="0" cy="457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52"/>
          <p:cNvGrpSpPr/>
          <p:nvPr/>
        </p:nvGrpSpPr>
        <p:grpSpPr>
          <a:xfrm>
            <a:off x="76320" y="685800"/>
            <a:ext cx="1066680" cy="2717280"/>
            <a:chOff x="76320" y="685800"/>
            <a:chExt cx="1066680" cy="2717280"/>
          </a:xfrm>
        </p:grpSpPr>
        <p:sp>
          <p:nvSpPr>
            <p:cNvPr id="355" name="AutoShape 53"/>
            <p:cNvSpPr/>
            <p:nvPr/>
          </p:nvSpPr>
          <p:spPr>
            <a:xfrm>
              <a:off x="82440" y="685800"/>
              <a:ext cx="1060560" cy="53352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54"/>
            <p:cNvGrpSpPr/>
            <p:nvPr/>
          </p:nvGrpSpPr>
          <p:grpSpPr>
            <a:xfrm>
              <a:off x="76320" y="1219320"/>
              <a:ext cx="992160" cy="2183760"/>
              <a:chOff x="76320" y="1219320"/>
              <a:chExt cx="992160" cy="2183760"/>
            </a:xfrm>
          </p:grpSpPr>
          <p:sp>
            <p:nvSpPr>
              <p:cNvPr id="357" name="Oval 55"/>
              <p:cNvSpPr/>
              <p:nvPr/>
            </p:nvSpPr>
            <p:spPr>
              <a:xfrm>
                <a:off x="76320" y="1807920"/>
                <a:ext cx="992160" cy="110412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pac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chedu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56"/>
              <p:cNvSpPr/>
              <p:nvPr/>
            </p:nvSpPr>
            <p:spPr>
              <a:xfrm>
                <a:off x="533520" y="1219320"/>
                <a:ext cx="0" cy="58860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57"/>
              <p:cNvSpPr/>
              <p:nvPr/>
            </p:nvSpPr>
            <p:spPr>
              <a:xfrm flipH="1">
                <a:off x="228240" y="2912400"/>
                <a:ext cx="304920" cy="4906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Group 58"/>
          <p:cNvGrpSpPr/>
          <p:nvPr/>
        </p:nvGrpSpPr>
        <p:grpSpPr>
          <a:xfrm>
            <a:off x="914400" y="685800"/>
            <a:ext cx="2743200" cy="2717640"/>
            <a:chOff x="914400" y="685800"/>
            <a:chExt cx="2743200" cy="2717640"/>
          </a:xfrm>
        </p:grpSpPr>
        <p:sp>
          <p:nvSpPr>
            <p:cNvPr id="361" name="Oval 59"/>
            <p:cNvSpPr/>
            <p:nvPr/>
          </p:nvSpPr>
          <p:spPr>
            <a:xfrm>
              <a:off x="9144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60"/>
            <p:cNvSpPr/>
            <p:nvPr/>
          </p:nvSpPr>
          <p:spPr>
            <a:xfrm>
              <a:off x="18288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61"/>
            <p:cNvSpPr/>
            <p:nvPr/>
          </p:nvSpPr>
          <p:spPr>
            <a:xfrm>
              <a:off x="2743200" y="1447920"/>
              <a:ext cx="914400" cy="5331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62"/>
            <p:cNvSpPr/>
            <p:nvPr/>
          </p:nvSpPr>
          <p:spPr>
            <a:xfrm>
              <a:off x="1905120" y="685800"/>
              <a:ext cx="1060200" cy="53352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3"/>
            <p:cNvSpPr/>
            <p:nvPr/>
          </p:nvSpPr>
          <p:spPr>
            <a:xfrm>
              <a:off x="2333520" y="1219320"/>
              <a:ext cx="0" cy="2286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4"/>
            <p:cNvSpPr/>
            <p:nvPr/>
          </p:nvSpPr>
          <p:spPr>
            <a:xfrm>
              <a:off x="1333440" y="1295280"/>
              <a:ext cx="18669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5"/>
            <p:cNvSpPr/>
            <p:nvPr/>
          </p:nvSpPr>
          <p:spPr>
            <a:xfrm>
              <a:off x="3200400" y="1295280"/>
              <a:ext cx="0" cy="152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6"/>
            <p:cNvSpPr/>
            <p:nvPr/>
          </p:nvSpPr>
          <p:spPr>
            <a:xfrm flipV="1">
              <a:off x="1333440" y="1295280"/>
              <a:ext cx="0" cy="152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7"/>
            <p:cNvSpPr/>
            <p:nvPr/>
          </p:nvSpPr>
          <p:spPr>
            <a:xfrm>
              <a:off x="144792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8"/>
            <p:cNvSpPr/>
            <p:nvPr/>
          </p:nvSpPr>
          <p:spPr>
            <a:xfrm>
              <a:off x="243828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9"/>
            <p:cNvSpPr/>
            <p:nvPr/>
          </p:nvSpPr>
          <p:spPr>
            <a:xfrm>
              <a:off x="3200400" y="1981080"/>
              <a:ext cx="0" cy="14223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70"/>
          <p:cNvGrpSpPr/>
          <p:nvPr/>
        </p:nvGrpSpPr>
        <p:grpSpPr>
          <a:xfrm>
            <a:off x="3657600" y="685800"/>
            <a:ext cx="1289160" cy="2743200"/>
            <a:chOff x="3657600" y="685800"/>
            <a:chExt cx="1289160" cy="2743200"/>
          </a:xfrm>
        </p:grpSpPr>
        <p:sp>
          <p:nvSpPr>
            <p:cNvPr id="373" name="Oval 71"/>
            <p:cNvSpPr/>
            <p:nvPr/>
          </p:nvSpPr>
          <p:spPr>
            <a:xfrm>
              <a:off x="3809880" y="2057400"/>
              <a:ext cx="914400" cy="53352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72"/>
            <p:cNvSpPr/>
            <p:nvPr/>
          </p:nvSpPr>
          <p:spPr>
            <a:xfrm>
              <a:off x="3657600" y="685800"/>
              <a:ext cx="1289160" cy="685800"/>
            </a:xfrm>
            <a:prstGeom prst="flowChartInputOutpu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3"/>
            <p:cNvSpPr/>
            <p:nvPr/>
          </p:nvSpPr>
          <p:spPr>
            <a:xfrm>
              <a:off x="4267080" y="1371600"/>
              <a:ext cx="0" cy="6858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4"/>
            <p:cNvSpPr/>
            <p:nvPr/>
          </p:nvSpPr>
          <p:spPr>
            <a:xfrm>
              <a:off x="4267080" y="2590920"/>
              <a:ext cx="0" cy="8380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45E-09EF-47DD-B3BF-DE48A14752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960" y="57240"/>
            <a:ext cx="8762760" cy="4204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ypes of Mfg System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13"/>
          <p:cNvGrpSpPr/>
          <p:nvPr/>
        </p:nvGrpSpPr>
        <p:grpSpPr>
          <a:xfrm>
            <a:off x="304920" y="4114800"/>
            <a:ext cx="8456400" cy="2666520"/>
            <a:chOff x="304920" y="4114800"/>
            <a:chExt cx="8456400" cy="2666520"/>
          </a:xfrm>
        </p:grpSpPr>
        <p:pic>
          <p:nvPicPr>
            <p:cNvPr id="380" name="Picture 14" descr="msotw9_temp0"/>
            <p:cNvPicPr/>
            <p:nvPr/>
          </p:nvPicPr>
          <p:blipFill>
            <a:blip r:embed="rId1"/>
            <a:stretch/>
          </p:blipFill>
          <p:spPr>
            <a:xfrm>
              <a:off x="304920" y="4114800"/>
              <a:ext cx="8442360" cy="47628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1" name="Picture 15" descr="msotw9_temp0"/>
            <p:cNvPicPr/>
            <p:nvPr/>
          </p:nvPicPr>
          <p:blipFill>
            <a:blip r:embed="rId2"/>
            <a:stretch/>
          </p:blipFill>
          <p:spPr>
            <a:xfrm>
              <a:off x="306360" y="4573080"/>
              <a:ext cx="8440920" cy="6055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2" name="Picture 16" descr="msotw9_temp0"/>
            <p:cNvPicPr/>
            <p:nvPr/>
          </p:nvPicPr>
          <p:blipFill>
            <a:blip r:embed="rId3"/>
            <a:stretch/>
          </p:blipFill>
          <p:spPr>
            <a:xfrm>
              <a:off x="304920" y="5178600"/>
              <a:ext cx="8456400" cy="69444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pic>
          <p:nvPicPr>
            <p:cNvPr id="383" name="Picture 17" descr="msotw9_temp0"/>
            <p:cNvPicPr/>
            <p:nvPr/>
          </p:nvPicPr>
          <p:blipFill>
            <a:blip r:embed="rId4"/>
            <a:stretch/>
          </p:blipFill>
          <p:spPr>
            <a:xfrm>
              <a:off x="304920" y="5873400"/>
              <a:ext cx="8447040" cy="9079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</p:grpSp>
      <p:grpSp>
        <p:nvGrpSpPr>
          <p:cNvPr id="384" name="Group 29"/>
          <p:cNvGrpSpPr/>
          <p:nvPr/>
        </p:nvGrpSpPr>
        <p:grpSpPr>
          <a:xfrm>
            <a:off x="4487760" y="665280"/>
            <a:ext cx="4427640" cy="3546720"/>
            <a:chOff x="4487760" y="665280"/>
            <a:chExt cx="4427640" cy="3546720"/>
          </a:xfrm>
        </p:grpSpPr>
        <p:sp>
          <p:nvSpPr>
            <p:cNvPr id="385" name="Text Box 28"/>
            <p:cNvSpPr/>
            <p:nvPr/>
          </p:nvSpPr>
          <p:spPr>
            <a:xfrm>
              <a:off x="4915080" y="1812960"/>
              <a:ext cx="1352520" cy="54828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dica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خط مكرس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1"/>
            <p:cNvSpPr/>
            <p:nvPr/>
          </p:nvSpPr>
          <p:spPr>
            <a:xfrm flipV="1">
              <a:off x="4915080" y="685440"/>
              <a:ext cx="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2"/>
            <p:cNvSpPr/>
            <p:nvPr/>
          </p:nvSpPr>
          <p:spPr>
            <a:xfrm>
              <a:off x="4915080" y="3581280"/>
              <a:ext cx="37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5992920" y="2076480"/>
              <a:ext cx="865080" cy="75564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peci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خاص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7288200" y="3660840"/>
              <a:ext cx="162720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 rot="16242600">
              <a:off x="3871080" y="1332360"/>
              <a:ext cx="180648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AutoShape 26"/>
            <p:cNvSpPr/>
            <p:nvPr/>
          </p:nvSpPr>
          <p:spPr>
            <a:xfrm rot="1628400">
              <a:off x="5157360" y="1471680"/>
              <a:ext cx="3400560" cy="420480"/>
            </a:xfrm>
            <a:prstGeom prst="leftArrow">
              <a:avLst>
                <a:gd name="adj1" fmla="val 53454"/>
                <a:gd name="adj2" fmla="val 133553"/>
              </a:avLst>
            </a:prstGeom>
            <a:solidFill>
              <a:srgbClr val="ffe3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ss production 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نتاج بسعة كبيرة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utoShape 27"/>
            <p:cNvSpPr/>
            <p:nvPr/>
          </p:nvSpPr>
          <p:spPr>
            <a:xfrm rot="1614600">
              <a:off x="6216480" y="1221840"/>
              <a:ext cx="2570400" cy="460440"/>
            </a:xfrm>
            <a:prstGeom prst="rightArrow">
              <a:avLst>
                <a:gd name="adj1" fmla="val 52093"/>
                <a:gd name="adj2" fmla="val 120333"/>
              </a:avLst>
            </a:prstGeom>
            <a:solidFill>
              <a:srgbClr val="f3f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exibility 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أنتاج مرن متنو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0"/>
            <p:cNvSpPr/>
            <p:nvPr/>
          </p:nvSpPr>
          <p:spPr>
            <a:xfrm>
              <a:off x="6686640" y="2387520"/>
              <a:ext cx="1023840" cy="75564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Flexi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عام ومرن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7562880" y="2685960"/>
              <a:ext cx="1274760" cy="923400"/>
            </a:xfrm>
            <a:prstGeom prst="rect">
              <a:avLst/>
            </a:prstGeom>
            <a:solidFill>
              <a:srgbClr val="ecfe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tandard Equipment </a:t>
              </a:r>
              <a:r>
                <a:rPr b="1" lang="ar-SA" sz="1700" spc="-1" strike="noStrike">
                  <a:solidFill>
                    <a:srgbClr val="000000"/>
                  </a:solidFill>
                  <a:latin typeface="Times New Roman"/>
                </a:rPr>
                <a:t>معدات قياسية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30"/>
          <p:cNvGrpSpPr/>
          <p:nvPr/>
        </p:nvGrpSpPr>
        <p:grpSpPr>
          <a:xfrm>
            <a:off x="145440" y="838080"/>
            <a:ext cx="4121640" cy="3370680"/>
            <a:chOff x="145440" y="838080"/>
            <a:chExt cx="4121640" cy="3370680"/>
          </a:xfrm>
        </p:grpSpPr>
        <p:sp>
          <p:nvSpPr>
            <p:cNvPr id="396" name="Line 7"/>
            <p:cNvSpPr/>
            <p:nvPr/>
          </p:nvSpPr>
          <p:spPr>
            <a:xfrm flipV="1">
              <a:off x="609480" y="8380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609480" y="35812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9"/>
            <p:cNvSpPr/>
            <p:nvPr/>
          </p:nvSpPr>
          <p:spPr>
            <a:xfrm>
              <a:off x="609480" y="1822320"/>
              <a:ext cx="1033560" cy="57528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ستم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1409760" y="2152800"/>
              <a:ext cx="1047600" cy="57528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متدف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533680" y="3657600"/>
              <a:ext cx="173340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 rot="16242600">
              <a:off x="-513000" y="1892520"/>
              <a:ext cx="1892160" cy="55116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2324160" y="2457360"/>
              <a:ext cx="933480" cy="57528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t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دفع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5"/>
            <p:cNvSpPr/>
            <p:nvPr/>
          </p:nvSpPr>
          <p:spPr>
            <a:xfrm>
              <a:off x="3081240" y="2778120"/>
              <a:ext cx="1052640" cy="575280"/>
            </a:xfrm>
            <a:prstGeom prst="rect">
              <a:avLst/>
            </a:prstGeom>
            <a:solidFill>
              <a:srgbClr val="ecfe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تعاقد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C7C-8BC7-45C1-960C-DED14772E6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 Types of Mfg System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9400"/>
                </a:solidFill>
                <a:latin typeface="Times New Roman"/>
              </a:rPr>
              <a:t>b) Types of Production Characteristic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0"/>
                </a:solidFill>
                <a:latin typeface="Times New Roman"/>
              </a:rPr>
              <a:t>L=Low,M=Medium,H=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457200" y="4011480"/>
            <a:ext cx="8077320" cy="1819440"/>
            <a:chOff x="457200" y="4011480"/>
            <a:chExt cx="8077320" cy="1819440"/>
          </a:xfrm>
        </p:grpSpPr>
        <p:sp>
          <p:nvSpPr>
            <p:cNvPr id="408" name="Rectangle 5"/>
            <p:cNvSpPr/>
            <p:nvPr/>
          </p:nvSpPr>
          <p:spPr>
            <a:xfrm>
              <a:off x="457200" y="55278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load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2743200" y="55278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114800" y="55278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86400" y="55278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F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7238880" y="55278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457200" y="522432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2743200" y="522432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114800" y="522432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Ea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5486400" y="522432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F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4"/>
            <p:cNvSpPr/>
            <p:nvPr/>
          </p:nvSpPr>
          <p:spPr>
            <a:xfrm>
              <a:off x="7238880" y="522432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Diffic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5"/>
            <p:cNvSpPr/>
            <p:nvPr/>
          </p:nvSpPr>
          <p:spPr>
            <a:xfrm>
              <a:off x="457200" y="49212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e-plan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6"/>
            <p:cNvSpPr/>
            <p:nvPr/>
          </p:nvSpPr>
          <p:spPr>
            <a:xfrm>
              <a:off x="2743200" y="49212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O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7"/>
            <p:cNvSpPr/>
            <p:nvPr/>
          </p:nvSpPr>
          <p:spPr>
            <a:xfrm>
              <a:off x="4114800" y="49212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F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8"/>
            <p:cNvSpPr/>
            <p:nvPr/>
          </p:nvSpPr>
          <p:spPr>
            <a:xfrm>
              <a:off x="5486400" y="49212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Co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9"/>
            <p:cNvSpPr/>
            <p:nvPr/>
          </p:nvSpPr>
          <p:spPr>
            <a:xfrm>
              <a:off x="7238880" y="49212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Comp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20"/>
            <p:cNvSpPr/>
            <p:nvPr/>
          </p:nvSpPr>
          <p:spPr>
            <a:xfrm>
              <a:off x="457200" y="46180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Job 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21"/>
            <p:cNvSpPr/>
            <p:nvPr/>
          </p:nvSpPr>
          <p:spPr>
            <a:xfrm>
              <a:off x="2743200" y="46180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2"/>
            <p:cNvSpPr/>
            <p:nvPr/>
          </p:nvSpPr>
          <p:spPr>
            <a:xfrm>
              <a:off x="4114800" y="46180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3"/>
            <p:cNvSpPr/>
            <p:nvPr/>
          </p:nvSpPr>
          <p:spPr>
            <a:xfrm>
              <a:off x="5486400" y="46180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4"/>
            <p:cNvSpPr/>
            <p:nvPr/>
          </p:nvSpPr>
          <p:spPr>
            <a:xfrm>
              <a:off x="7238880" y="46180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25"/>
            <p:cNvSpPr/>
            <p:nvPr/>
          </p:nvSpPr>
          <p:spPr>
            <a:xfrm>
              <a:off x="457200" y="43149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Super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2743200" y="43149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27"/>
            <p:cNvSpPr/>
            <p:nvPr/>
          </p:nvSpPr>
          <p:spPr>
            <a:xfrm>
              <a:off x="4114800" y="43149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8"/>
            <p:cNvSpPr/>
            <p:nvPr/>
          </p:nvSpPr>
          <p:spPr>
            <a:xfrm>
              <a:off x="5486400" y="43149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9"/>
            <p:cNvSpPr/>
            <p:nvPr/>
          </p:nvSpPr>
          <p:spPr>
            <a:xfrm>
              <a:off x="7238880" y="43149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457200" y="401148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er Sk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2743200" y="401148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4114800" y="401148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33"/>
            <p:cNvSpPr/>
            <p:nvPr/>
          </p:nvSpPr>
          <p:spPr>
            <a:xfrm>
              <a:off x="5486400" y="401148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7238880" y="401148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35"/>
            <p:cNvSpPr/>
            <p:nvPr/>
          </p:nvSpPr>
          <p:spPr>
            <a:xfrm>
              <a:off x="457200" y="43149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36"/>
            <p:cNvSpPr/>
            <p:nvPr/>
          </p:nvSpPr>
          <p:spPr>
            <a:xfrm>
              <a:off x="457200" y="46180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37"/>
            <p:cNvSpPr/>
            <p:nvPr/>
          </p:nvSpPr>
          <p:spPr>
            <a:xfrm>
              <a:off x="457200" y="49212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38"/>
            <p:cNvSpPr/>
            <p:nvPr/>
          </p:nvSpPr>
          <p:spPr>
            <a:xfrm>
              <a:off x="457200" y="52243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39"/>
            <p:cNvSpPr/>
            <p:nvPr/>
          </p:nvSpPr>
          <p:spPr>
            <a:xfrm>
              <a:off x="457200" y="55278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40"/>
            <p:cNvSpPr/>
            <p:nvPr/>
          </p:nvSpPr>
          <p:spPr>
            <a:xfrm>
              <a:off x="457200" y="58309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Line 41"/>
          <p:cNvSpPr/>
          <p:nvPr/>
        </p:nvSpPr>
        <p:spPr>
          <a:xfrm>
            <a:off x="723888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548640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3"/>
          <p:cNvSpPr/>
          <p:nvPr/>
        </p:nvSpPr>
        <p:spPr>
          <a:xfrm>
            <a:off x="4114800" y="1219320"/>
            <a:ext cx="0" cy="5521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4"/>
          <p:cNvSpPr/>
          <p:nvPr/>
        </p:nvSpPr>
        <p:spPr>
          <a:xfrm>
            <a:off x="2743200" y="1219320"/>
            <a:ext cx="0" cy="552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45"/>
          <p:cNvGrpSpPr/>
          <p:nvPr/>
        </p:nvGrpSpPr>
        <p:grpSpPr>
          <a:xfrm>
            <a:off x="457200" y="1219320"/>
            <a:ext cx="8077320" cy="669960"/>
            <a:chOff x="457200" y="1219320"/>
            <a:chExt cx="8077320" cy="669960"/>
          </a:xfrm>
        </p:grpSpPr>
        <p:sp>
          <p:nvSpPr>
            <p:cNvPr id="449" name="Rectangle 46"/>
            <p:cNvSpPr/>
            <p:nvPr/>
          </p:nvSpPr>
          <p:spPr>
            <a:xfrm>
              <a:off x="457200" y="1554120"/>
              <a:ext cx="228600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89400"/>
                  </a:solidFill>
                  <a:latin typeface="Times New Roman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457200" y="1219320"/>
              <a:ext cx="2286000" cy="334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89400"/>
                  </a:solidFill>
                  <a:latin typeface="Times New Roman"/>
                </a:rPr>
                <a:t>Type of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48"/>
            <p:cNvSpPr/>
            <p:nvPr/>
          </p:nvSpPr>
          <p:spPr>
            <a:xfrm>
              <a:off x="2743200" y="1219320"/>
              <a:ext cx="137160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05800"/>
                  </a:solidFill>
                  <a:latin typeface="Times New Roman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49"/>
            <p:cNvSpPr/>
            <p:nvPr/>
          </p:nvSpPr>
          <p:spPr>
            <a:xfrm>
              <a:off x="4114800" y="1219320"/>
              <a:ext cx="137124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283"/>
                  </a:solidFill>
                  <a:latin typeface="Times New Roman"/>
                </a:rPr>
                <a:t>M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50"/>
            <p:cNvSpPr/>
            <p:nvPr/>
          </p:nvSpPr>
          <p:spPr>
            <a:xfrm>
              <a:off x="5486400" y="1219320"/>
              <a:ext cx="17524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c00ae"/>
                  </a:solidFill>
                  <a:latin typeface="Times New Roman"/>
                </a:rPr>
                <a:t>B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51"/>
            <p:cNvSpPr/>
            <p:nvPr/>
          </p:nvSpPr>
          <p:spPr>
            <a:xfrm>
              <a:off x="7238880" y="1219320"/>
              <a:ext cx="12952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Job 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457200" y="15541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3"/>
            <p:cNvSpPr/>
            <p:nvPr/>
          </p:nvSpPr>
          <p:spPr>
            <a:xfrm>
              <a:off x="457200" y="18892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54"/>
            <p:cNvSpPr/>
            <p:nvPr/>
          </p:nvSpPr>
          <p:spPr>
            <a:xfrm>
              <a:off x="457200" y="121932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Line 55"/>
          <p:cNvSpPr/>
          <p:nvPr/>
        </p:nvSpPr>
        <p:spPr>
          <a:xfrm>
            <a:off x="457200" y="1219320"/>
            <a:ext cx="0" cy="5521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56"/>
          <p:cNvSpPr/>
          <p:nvPr/>
        </p:nvSpPr>
        <p:spPr>
          <a:xfrm>
            <a:off x="8534520" y="1219320"/>
            <a:ext cx="0" cy="5521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57"/>
          <p:cNvGrpSpPr/>
          <p:nvPr/>
        </p:nvGrpSpPr>
        <p:grpSpPr>
          <a:xfrm>
            <a:off x="457200" y="5830920"/>
            <a:ext cx="8077320" cy="909720"/>
            <a:chOff x="457200" y="5830920"/>
            <a:chExt cx="8077320" cy="909720"/>
          </a:xfrm>
        </p:grpSpPr>
        <p:sp>
          <p:nvSpPr>
            <p:cNvPr id="461" name="Rectangle 58"/>
            <p:cNvSpPr/>
            <p:nvPr/>
          </p:nvSpPr>
          <p:spPr>
            <a:xfrm>
              <a:off x="457200" y="643716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59"/>
            <p:cNvSpPr/>
            <p:nvPr/>
          </p:nvSpPr>
          <p:spPr>
            <a:xfrm>
              <a:off x="2743200" y="643716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60"/>
            <p:cNvSpPr/>
            <p:nvPr/>
          </p:nvSpPr>
          <p:spPr>
            <a:xfrm>
              <a:off x="4114800" y="643716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61"/>
            <p:cNvSpPr/>
            <p:nvPr/>
          </p:nvSpPr>
          <p:spPr>
            <a:xfrm>
              <a:off x="5486400" y="643716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2"/>
            <p:cNvSpPr/>
            <p:nvPr/>
          </p:nvSpPr>
          <p:spPr>
            <a:xfrm>
              <a:off x="7238880" y="643716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63"/>
            <p:cNvSpPr/>
            <p:nvPr/>
          </p:nvSpPr>
          <p:spPr>
            <a:xfrm>
              <a:off x="457200" y="61340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Handling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64"/>
            <p:cNvSpPr/>
            <p:nvPr/>
          </p:nvSpPr>
          <p:spPr>
            <a:xfrm>
              <a:off x="2743200" y="61340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Fixed b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5"/>
            <p:cNvSpPr/>
            <p:nvPr/>
          </p:nvSpPr>
          <p:spPr>
            <a:xfrm>
              <a:off x="4114800" y="61340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Fixed b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6"/>
            <p:cNvSpPr/>
            <p:nvPr/>
          </p:nvSpPr>
          <p:spPr>
            <a:xfrm>
              <a:off x="5486400" y="61340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7238880" y="61340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8"/>
            <p:cNvSpPr/>
            <p:nvPr/>
          </p:nvSpPr>
          <p:spPr>
            <a:xfrm>
              <a:off x="457200" y="58309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Equipment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9"/>
            <p:cNvSpPr/>
            <p:nvPr/>
          </p:nvSpPr>
          <p:spPr>
            <a:xfrm>
              <a:off x="2743200" y="58309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Spe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70"/>
            <p:cNvSpPr/>
            <p:nvPr/>
          </p:nvSpPr>
          <p:spPr>
            <a:xfrm>
              <a:off x="4114800" y="58309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Spe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71"/>
            <p:cNvSpPr/>
            <p:nvPr/>
          </p:nvSpPr>
          <p:spPr>
            <a:xfrm>
              <a:off x="5486400" y="58309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Special/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72"/>
            <p:cNvSpPr/>
            <p:nvPr/>
          </p:nvSpPr>
          <p:spPr>
            <a:xfrm>
              <a:off x="7238880" y="58309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73"/>
            <p:cNvSpPr/>
            <p:nvPr/>
          </p:nvSpPr>
          <p:spPr>
            <a:xfrm>
              <a:off x="457200" y="61340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4"/>
            <p:cNvSpPr/>
            <p:nvPr/>
          </p:nvSpPr>
          <p:spPr>
            <a:xfrm>
              <a:off x="457200" y="64371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>
              <a:off x="457200" y="674064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76"/>
          <p:cNvGrpSpPr/>
          <p:nvPr/>
        </p:nvGrpSpPr>
        <p:grpSpPr>
          <a:xfrm>
            <a:off x="457200" y="1889280"/>
            <a:ext cx="8077320" cy="2122200"/>
            <a:chOff x="457200" y="1889280"/>
            <a:chExt cx="8077320" cy="2122200"/>
          </a:xfrm>
        </p:grpSpPr>
        <p:sp>
          <p:nvSpPr>
            <p:cNvPr id="480" name="Rectangle 77"/>
            <p:cNvSpPr/>
            <p:nvPr/>
          </p:nvSpPr>
          <p:spPr>
            <a:xfrm>
              <a:off x="7238880" y="279864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78"/>
            <p:cNvSpPr/>
            <p:nvPr/>
          </p:nvSpPr>
          <p:spPr>
            <a:xfrm>
              <a:off x="5486400" y="279864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79"/>
            <p:cNvSpPr/>
            <p:nvPr/>
          </p:nvSpPr>
          <p:spPr>
            <a:xfrm>
              <a:off x="4114800" y="279864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0"/>
            <p:cNvSpPr/>
            <p:nvPr/>
          </p:nvSpPr>
          <p:spPr>
            <a:xfrm>
              <a:off x="2743200" y="279864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1"/>
            <p:cNvSpPr/>
            <p:nvPr/>
          </p:nvSpPr>
          <p:spPr>
            <a:xfrm>
              <a:off x="457200" y="279864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Work In-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2"/>
            <p:cNvSpPr/>
            <p:nvPr/>
          </p:nvSpPr>
          <p:spPr>
            <a:xfrm>
              <a:off x="7238880" y="18892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3"/>
            <p:cNvSpPr/>
            <p:nvPr/>
          </p:nvSpPr>
          <p:spPr>
            <a:xfrm>
              <a:off x="5486400" y="18892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4"/>
            <p:cNvSpPr/>
            <p:nvPr/>
          </p:nvSpPr>
          <p:spPr>
            <a:xfrm>
              <a:off x="4114800" y="18892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5"/>
            <p:cNvSpPr/>
            <p:nvPr/>
          </p:nvSpPr>
          <p:spPr>
            <a:xfrm>
              <a:off x="2743200" y="18892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6"/>
            <p:cNvSpPr/>
            <p:nvPr/>
          </p:nvSpPr>
          <p:spPr>
            <a:xfrm>
              <a:off x="457200" y="18892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oduct Varie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7"/>
            <p:cNvSpPr/>
            <p:nvPr/>
          </p:nvSpPr>
          <p:spPr>
            <a:xfrm>
              <a:off x="7238880" y="21924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"/>
            <p:cNvSpPr/>
            <p:nvPr/>
          </p:nvSpPr>
          <p:spPr>
            <a:xfrm>
              <a:off x="5486400" y="21924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9"/>
            <p:cNvSpPr/>
            <p:nvPr/>
          </p:nvSpPr>
          <p:spPr>
            <a:xfrm>
              <a:off x="4114800" y="21924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90"/>
            <p:cNvSpPr/>
            <p:nvPr/>
          </p:nvSpPr>
          <p:spPr>
            <a:xfrm>
              <a:off x="2743200" y="21924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91"/>
            <p:cNvSpPr/>
            <p:nvPr/>
          </p:nvSpPr>
          <p:spPr>
            <a:xfrm>
              <a:off x="457200" y="21924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92"/>
            <p:cNvSpPr/>
            <p:nvPr/>
          </p:nvSpPr>
          <p:spPr>
            <a:xfrm>
              <a:off x="457200" y="37083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93"/>
            <p:cNvSpPr/>
            <p:nvPr/>
          </p:nvSpPr>
          <p:spPr>
            <a:xfrm>
              <a:off x="2743200" y="37083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94"/>
            <p:cNvSpPr/>
            <p:nvPr/>
          </p:nvSpPr>
          <p:spPr>
            <a:xfrm>
              <a:off x="4114800" y="37083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95"/>
            <p:cNvSpPr/>
            <p:nvPr/>
          </p:nvSpPr>
          <p:spPr>
            <a:xfrm>
              <a:off x="5486400" y="37083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96"/>
            <p:cNvSpPr/>
            <p:nvPr/>
          </p:nvSpPr>
          <p:spPr>
            <a:xfrm>
              <a:off x="7238880" y="37083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97"/>
            <p:cNvSpPr/>
            <p:nvPr/>
          </p:nvSpPr>
          <p:spPr>
            <a:xfrm>
              <a:off x="457200" y="34052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Unit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98"/>
            <p:cNvSpPr/>
            <p:nvPr/>
          </p:nvSpPr>
          <p:spPr>
            <a:xfrm>
              <a:off x="2743200" y="34052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99"/>
            <p:cNvSpPr/>
            <p:nvPr/>
          </p:nvSpPr>
          <p:spPr>
            <a:xfrm>
              <a:off x="4114800" y="34052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00"/>
            <p:cNvSpPr/>
            <p:nvPr/>
          </p:nvSpPr>
          <p:spPr>
            <a:xfrm>
              <a:off x="5486400" y="34052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01"/>
            <p:cNvSpPr/>
            <p:nvPr/>
          </p:nvSpPr>
          <p:spPr>
            <a:xfrm>
              <a:off x="7238880" y="34052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02"/>
            <p:cNvSpPr/>
            <p:nvPr/>
          </p:nvSpPr>
          <p:spPr>
            <a:xfrm>
              <a:off x="457200" y="31021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Cycle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03"/>
            <p:cNvSpPr/>
            <p:nvPr/>
          </p:nvSpPr>
          <p:spPr>
            <a:xfrm>
              <a:off x="2743200" y="31021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04"/>
            <p:cNvSpPr/>
            <p:nvPr/>
          </p:nvSpPr>
          <p:spPr>
            <a:xfrm>
              <a:off x="4114800" y="31021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105"/>
            <p:cNvSpPr/>
            <p:nvPr/>
          </p:nvSpPr>
          <p:spPr>
            <a:xfrm>
              <a:off x="5486400" y="31021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06"/>
            <p:cNvSpPr/>
            <p:nvPr/>
          </p:nvSpPr>
          <p:spPr>
            <a:xfrm>
              <a:off x="7238880" y="31021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07"/>
            <p:cNvSpPr/>
            <p:nvPr/>
          </p:nvSpPr>
          <p:spPr>
            <a:xfrm>
              <a:off x="457200" y="24955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89400"/>
                  </a:solidFill>
                  <a:latin typeface="Times New Roman"/>
                </a:rPr>
                <a:t>Prod.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8"/>
            <p:cNvSpPr/>
            <p:nvPr/>
          </p:nvSpPr>
          <p:spPr>
            <a:xfrm>
              <a:off x="2743200" y="24955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09"/>
            <p:cNvSpPr/>
            <p:nvPr/>
          </p:nvSpPr>
          <p:spPr>
            <a:xfrm>
              <a:off x="4114800" y="24955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b283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10"/>
            <p:cNvSpPr/>
            <p:nvPr/>
          </p:nvSpPr>
          <p:spPr>
            <a:xfrm>
              <a:off x="5486400" y="24955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11"/>
            <p:cNvSpPr/>
            <p:nvPr/>
          </p:nvSpPr>
          <p:spPr>
            <a:xfrm>
              <a:off x="7238880" y="24955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12"/>
            <p:cNvSpPr/>
            <p:nvPr/>
          </p:nvSpPr>
          <p:spPr>
            <a:xfrm>
              <a:off x="457200" y="24955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13"/>
            <p:cNvSpPr/>
            <p:nvPr/>
          </p:nvSpPr>
          <p:spPr>
            <a:xfrm>
              <a:off x="457200" y="27986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14"/>
            <p:cNvSpPr/>
            <p:nvPr/>
          </p:nvSpPr>
          <p:spPr>
            <a:xfrm>
              <a:off x="457200" y="34052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15"/>
            <p:cNvSpPr/>
            <p:nvPr/>
          </p:nvSpPr>
          <p:spPr>
            <a:xfrm>
              <a:off x="457200" y="40114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16"/>
            <p:cNvSpPr/>
            <p:nvPr/>
          </p:nvSpPr>
          <p:spPr>
            <a:xfrm>
              <a:off x="457200" y="37083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17"/>
            <p:cNvSpPr/>
            <p:nvPr/>
          </p:nvSpPr>
          <p:spPr>
            <a:xfrm>
              <a:off x="457200" y="21924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18"/>
            <p:cNvSpPr/>
            <p:nvPr/>
          </p:nvSpPr>
          <p:spPr>
            <a:xfrm>
              <a:off x="457200" y="31021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CC6E-AEC8-49E2-9417-D645D1BD6E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7240"/>
            <a:ext cx="9144000" cy="4204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c- Continues &amp; discre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nufacturing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صنيع المستمر والمتقط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81"/>
          <p:cNvGrpSpPr/>
          <p:nvPr/>
        </p:nvGrpSpPr>
        <p:grpSpPr>
          <a:xfrm>
            <a:off x="209520" y="625320"/>
            <a:ext cx="8647200" cy="1053360"/>
            <a:chOff x="209520" y="625320"/>
            <a:chExt cx="8647200" cy="1053360"/>
          </a:xfrm>
        </p:grpSpPr>
        <p:sp>
          <p:nvSpPr>
            <p:cNvPr id="525" name="Text Box 29"/>
            <p:cNvSpPr/>
            <p:nvPr/>
          </p:nvSpPr>
          <p:spPr>
            <a:xfrm>
              <a:off x="4743360" y="914400"/>
              <a:ext cx="221004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30"/>
            <p:cNvSpPr/>
            <p:nvPr/>
          </p:nvSpPr>
          <p:spPr>
            <a:xfrm>
              <a:off x="2905200" y="914400"/>
              <a:ext cx="1838160" cy="700200"/>
            </a:xfrm>
            <a:prstGeom prst="rightArrow">
              <a:avLst>
                <a:gd name="adj1" fmla="val 50000"/>
                <a:gd name="adj2" fmla="val 656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31"/>
            <p:cNvSpPr/>
            <p:nvPr/>
          </p:nvSpPr>
          <p:spPr>
            <a:xfrm>
              <a:off x="6991200" y="928800"/>
              <a:ext cx="1865520" cy="699840"/>
            </a:xfrm>
            <a:prstGeom prst="rightArrow">
              <a:avLst>
                <a:gd name="adj1" fmla="val 50000"/>
                <a:gd name="adj2" fmla="val 666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38"/>
            <p:cNvSpPr/>
            <p:nvPr/>
          </p:nvSpPr>
          <p:spPr>
            <a:xfrm>
              <a:off x="209520" y="625320"/>
              <a:ext cx="2036880" cy="989280"/>
            </a:xfrm>
            <a:prstGeom prst="wedgeEllipseCallout">
              <a:avLst>
                <a:gd name="adj1" fmla="val 81564"/>
                <a:gd name="adj2" fmla="val 16611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tinuous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04"/>
          <p:cNvGrpSpPr/>
          <p:nvPr/>
        </p:nvGrpSpPr>
        <p:grpSpPr>
          <a:xfrm>
            <a:off x="304920" y="3371760"/>
            <a:ext cx="8540640" cy="911880"/>
            <a:chOff x="304920" y="3371760"/>
            <a:chExt cx="8540640" cy="911880"/>
          </a:xfrm>
        </p:grpSpPr>
        <p:sp>
          <p:nvSpPr>
            <p:cNvPr id="530" name="Text Box 32"/>
            <p:cNvSpPr/>
            <p:nvPr/>
          </p:nvSpPr>
          <p:spPr>
            <a:xfrm>
              <a:off x="4738680" y="351936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utoShape 33"/>
            <p:cNvSpPr/>
            <p:nvPr/>
          </p:nvSpPr>
          <p:spPr>
            <a:xfrm>
              <a:off x="4029120" y="3519360"/>
              <a:ext cx="709560" cy="699840"/>
            </a:xfrm>
            <a:prstGeom prst="rightArrow">
              <a:avLst>
                <a:gd name="adj1" fmla="val 50000"/>
                <a:gd name="adj2" fmla="val 253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utoShape 34"/>
            <p:cNvSpPr/>
            <p:nvPr/>
          </p:nvSpPr>
          <p:spPr>
            <a:xfrm>
              <a:off x="6986520" y="3533400"/>
              <a:ext cx="916200" cy="700200"/>
            </a:xfrm>
            <a:prstGeom prst="rightArrow">
              <a:avLst>
                <a:gd name="adj1" fmla="val 50000"/>
                <a:gd name="adj2" fmla="val 3271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35"/>
            <p:cNvSpPr/>
            <p:nvPr/>
          </p:nvSpPr>
          <p:spPr>
            <a:xfrm>
              <a:off x="3178080" y="3519360"/>
              <a:ext cx="623880" cy="699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36"/>
            <p:cNvSpPr/>
            <p:nvPr/>
          </p:nvSpPr>
          <p:spPr>
            <a:xfrm>
              <a:off x="8015400" y="3562200"/>
              <a:ext cx="830160" cy="700200"/>
            </a:xfrm>
            <a:prstGeom prst="rightArrow">
              <a:avLst>
                <a:gd name="adj1" fmla="val 50000"/>
                <a:gd name="adj2" fmla="val 2964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AutoShape 39"/>
            <p:cNvSpPr/>
            <p:nvPr/>
          </p:nvSpPr>
          <p:spPr>
            <a:xfrm>
              <a:off x="304920" y="3371760"/>
              <a:ext cx="2036520" cy="780840"/>
            </a:xfrm>
            <a:prstGeom prst="wedgeEllipseCallout">
              <a:avLst>
                <a:gd name="adj1" fmla="val 87333"/>
                <a:gd name="adj2" fmla="val 10162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tinuous (Bat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83"/>
          <p:cNvGrpSpPr/>
          <p:nvPr/>
        </p:nvGrpSpPr>
        <p:grpSpPr>
          <a:xfrm>
            <a:off x="285840" y="1724040"/>
            <a:ext cx="8234280" cy="1061280"/>
            <a:chOff x="285840" y="1724040"/>
            <a:chExt cx="8234280" cy="1061280"/>
          </a:xfrm>
        </p:grpSpPr>
        <p:sp>
          <p:nvSpPr>
            <p:cNvPr id="537" name="Text Box 40"/>
            <p:cNvSpPr/>
            <p:nvPr/>
          </p:nvSpPr>
          <p:spPr>
            <a:xfrm>
              <a:off x="4740480" y="202104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47"/>
            <p:cNvGrpSpPr/>
            <p:nvPr/>
          </p:nvGrpSpPr>
          <p:grpSpPr>
            <a:xfrm>
              <a:off x="3119760" y="2249640"/>
              <a:ext cx="1500120" cy="285840"/>
              <a:chOff x="3119760" y="2249640"/>
              <a:chExt cx="1500120" cy="285840"/>
            </a:xfrm>
          </p:grpSpPr>
          <p:sp>
            <p:nvSpPr>
              <p:cNvPr id="539" name="AutoShape 48"/>
              <p:cNvSpPr/>
              <p:nvPr/>
            </p:nvSpPr>
            <p:spPr>
              <a:xfrm>
                <a:off x="393876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AutoShape 49"/>
              <p:cNvSpPr/>
              <p:nvPr/>
            </p:nvSpPr>
            <p:spPr>
              <a:xfrm>
                <a:off x="434376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AutoShape 50"/>
              <p:cNvSpPr/>
              <p:nvPr/>
            </p:nvSpPr>
            <p:spPr>
              <a:xfrm>
                <a:off x="311976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AutoShape 51"/>
              <p:cNvSpPr/>
              <p:nvPr/>
            </p:nvSpPr>
            <p:spPr>
              <a:xfrm>
                <a:off x="352440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52"/>
            <p:cNvGrpSpPr/>
            <p:nvPr/>
          </p:nvGrpSpPr>
          <p:grpSpPr>
            <a:xfrm>
              <a:off x="6993000" y="2249640"/>
              <a:ext cx="1500120" cy="285840"/>
              <a:chOff x="6993000" y="2249640"/>
              <a:chExt cx="1500120" cy="285840"/>
            </a:xfrm>
          </p:grpSpPr>
          <p:sp>
            <p:nvSpPr>
              <p:cNvPr id="544" name="AutoShape 53"/>
              <p:cNvSpPr/>
              <p:nvPr/>
            </p:nvSpPr>
            <p:spPr>
              <a:xfrm>
                <a:off x="781200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AutoShape 54"/>
              <p:cNvSpPr/>
              <p:nvPr/>
            </p:nvSpPr>
            <p:spPr>
              <a:xfrm>
                <a:off x="821700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AutoShape 55"/>
              <p:cNvSpPr/>
              <p:nvPr/>
            </p:nvSpPr>
            <p:spPr>
              <a:xfrm>
                <a:off x="6993000" y="22496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AutoShape 56"/>
              <p:cNvSpPr/>
              <p:nvPr/>
            </p:nvSpPr>
            <p:spPr>
              <a:xfrm>
                <a:off x="7397640" y="22496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AutoShape 77"/>
            <p:cNvSpPr/>
            <p:nvPr/>
          </p:nvSpPr>
          <p:spPr>
            <a:xfrm>
              <a:off x="285840" y="1724040"/>
              <a:ext cx="2276640" cy="959040"/>
            </a:xfrm>
            <a:prstGeom prst="wedgeEllipseCallout">
              <a:avLst>
                <a:gd name="adj1" fmla="val 70782"/>
                <a:gd name="adj2" fmla="val 17550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screte units (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78"/>
            <p:cNvSpPr/>
            <p:nvPr/>
          </p:nvSpPr>
          <p:spPr>
            <a:xfrm>
              <a:off x="3262320" y="18367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79"/>
            <p:cNvSpPr/>
            <p:nvPr/>
          </p:nvSpPr>
          <p:spPr>
            <a:xfrm>
              <a:off x="7570800" y="188280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05"/>
          <p:cNvGrpSpPr/>
          <p:nvPr/>
        </p:nvGrpSpPr>
        <p:grpSpPr>
          <a:xfrm>
            <a:off x="438120" y="4711680"/>
            <a:ext cx="8418600" cy="948240"/>
            <a:chOff x="438120" y="4711680"/>
            <a:chExt cx="8418600" cy="948240"/>
          </a:xfrm>
        </p:grpSpPr>
        <p:grpSp>
          <p:nvGrpSpPr>
            <p:cNvPr id="552" name="Group 86"/>
            <p:cNvGrpSpPr/>
            <p:nvPr/>
          </p:nvGrpSpPr>
          <p:grpSpPr>
            <a:xfrm>
              <a:off x="6984720" y="5124240"/>
              <a:ext cx="905040" cy="285840"/>
              <a:chOff x="6984720" y="5124240"/>
              <a:chExt cx="905040" cy="285840"/>
            </a:xfrm>
          </p:grpSpPr>
          <p:sp>
            <p:nvSpPr>
              <p:cNvPr id="553" name="AutoShape 68"/>
              <p:cNvSpPr/>
              <p:nvPr/>
            </p:nvSpPr>
            <p:spPr>
              <a:xfrm>
                <a:off x="761364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AutoShape 70"/>
              <p:cNvSpPr/>
              <p:nvPr/>
            </p:nvSpPr>
            <p:spPr>
              <a:xfrm>
                <a:off x="698472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AutoShape 71"/>
              <p:cNvSpPr/>
              <p:nvPr/>
            </p:nvSpPr>
            <p:spPr>
              <a:xfrm>
                <a:off x="729432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84"/>
            <p:cNvSpPr/>
            <p:nvPr/>
          </p:nvSpPr>
          <p:spPr>
            <a:xfrm>
              <a:off x="4719600" y="4895640"/>
              <a:ext cx="2209680" cy="764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Manufacturing proces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AutoShape 85"/>
            <p:cNvSpPr/>
            <p:nvPr/>
          </p:nvSpPr>
          <p:spPr>
            <a:xfrm>
              <a:off x="438120" y="4743360"/>
              <a:ext cx="2246400" cy="780840"/>
            </a:xfrm>
            <a:prstGeom prst="wedgeEllipseCallout">
              <a:avLst>
                <a:gd name="adj1" fmla="val 64347"/>
                <a:gd name="adj2" fmla="val 23578"/>
              </a:avLst>
            </a:prstGeom>
            <a:solidFill>
              <a:srgbClr val="ffcccc">
                <a:alpha val="4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screte Units (Bat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00"/>
            <p:cNvGrpSpPr/>
            <p:nvPr/>
          </p:nvGrpSpPr>
          <p:grpSpPr>
            <a:xfrm>
              <a:off x="8270640" y="5133960"/>
              <a:ext cx="586080" cy="285480"/>
              <a:chOff x="8270640" y="5133960"/>
              <a:chExt cx="586080" cy="285480"/>
            </a:xfrm>
          </p:grpSpPr>
          <p:sp>
            <p:nvSpPr>
              <p:cNvPr id="559" name="AutoShape 89"/>
              <p:cNvSpPr/>
              <p:nvPr/>
            </p:nvSpPr>
            <p:spPr>
              <a:xfrm>
                <a:off x="8270640" y="5133960"/>
                <a:ext cx="276480" cy="28548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AutoShape 90"/>
              <p:cNvSpPr/>
              <p:nvPr/>
            </p:nvSpPr>
            <p:spPr>
              <a:xfrm>
                <a:off x="8580240" y="5133960"/>
                <a:ext cx="276480" cy="28548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91"/>
            <p:cNvGrpSpPr/>
            <p:nvPr/>
          </p:nvGrpSpPr>
          <p:grpSpPr>
            <a:xfrm>
              <a:off x="3762360" y="5124240"/>
              <a:ext cx="904320" cy="285840"/>
              <a:chOff x="3762360" y="5124240"/>
              <a:chExt cx="904320" cy="285840"/>
            </a:xfrm>
          </p:grpSpPr>
          <p:sp>
            <p:nvSpPr>
              <p:cNvPr id="562" name="AutoShape 92"/>
              <p:cNvSpPr/>
              <p:nvPr/>
            </p:nvSpPr>
            <p:spPr>
              <a:xfrm>
                <a:off x="4390920" y="5124240"/>
                <a:ext cx="27576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AutoShape 93"/>
              <p:cNvSpPr/>
              <p:nvPr/>
            </p:nvSpPr>
            <p:spPr>
              <a:xfrm>
                <a:off x="376236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AutoShape 94"/>
              <p:cNvSpPr/>
              <p:nvPr/>
            </p:nvSpPr>
            <p:spPr>
              <a:xfrm>
                <a:off x="407160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99"/>
            <p:cNvGrpSpPr/>
            <p:nvPr/>
          </p:nvGrpSpPr>
          <p:grpSpPr>
            <a:xfrm>
              <a:off x="2997000" y="5124240"/>
              <a:ext cx="595440" cy="285840"/>
              <a:chOff x="2997000" y="5124240"/>
              <a:chExt cx="595440" cy="285840"/>
            </a:xfrm>
          </p:grpSpPr>
          <p:sp>
            <p:nvSpPr>
              <p:cNvPr id="566" name="AutoShape 96"/>
              <p:cNvSpPr/>
              <p:nvPr/>
            </p:nvSpPr>
            <p:spPr>
              <a:xfrm>
                <a:off x="3316320" y="5124240"/>
                <a:ext cx="27612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AutoShape 98"/>
              <p:cNvSpPr/>
              <p:nvPr/>
            </p:nvSpPr>
            <p:spPr>
              <a:xfrm>
                <a:off x="2997000" y="5124240"/>
                <a:ext cx="276480" cy="28584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Text Box 102"/>
            <p:cNvSpPr/>
            <p:nvPr/>
          </p:nvSpPr>
          <p:spPr>
            <a:xfrm>
              <a:off x="2981160" y="474336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03"/>
            <p:cNvSpPr/>
            <p:nvPr/>
          </p:nvSpPr>
          <p:spPr>
            <a:xfrm>
              <a:off x="7196040" y="4711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522-D04E-492C-94F6-D298BCA0B0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a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905040" y="1295280"/>
            <a:ext cx="7171920" cy="1226160"/>
            <a:chOff x="905040" y="1295280"/>
            <a:chExt cx="7171920" cy="1226160"/>
          </a:xfrm>
        </p:grpSpPr>
        <p:sp>
          <p:nvSpPr>
            <p:cNvPr id="573" name="Text Box 5"/>
            <p:cNvSpPr/>
            <p:nvPr/>
          </p:nvSpPr>
          <p:spPr>
            <a:xfrm>
              <a:off x="905040" y="1295280"/>
              <a:ext cx="7171920" cy="4597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نمط الإنتاج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ion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6"/>
            <p:cNvSpPr/>
            <p:nvPr/>
          </p:nvSpPr>
          <p:spPr>
            <a:xfrm>
              <a:off x="6481440" y="1785600"/>
              <a:ext cx="1467720" cy="735840"/>
            </a:xfrm>
            <a:prstGeom prst="rect">
              <a:avLst/>
            </a:prstGeom>
            <a:solidFill>
              <a:srgbClr val="ecfed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عاقد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o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4618800" y="1785600"/>
              <a:ext cx="1467720" cy="680760"/>
            </a:xfrm>
            <a:prstGeom prst="rect">
              <a:avLst/>
            </a:prstGeom>
            <a:solidFill>
              <a:srgbClr val="f3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دفع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tch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8"/>
            <p:cNvSpPr/>
            <p:nvPr/>
          </p:nvSpPr>
          <p:spPr>
            <a:xfrm>
              <a:off x="1160640" y="1785600"/>
              <a:ext cx="1352880" cy="721440"/>
            </a:xfrm>
            <a:prstGeom prst="rect">
              <a:avLst/>
            </a:prstGeom>
            <a:solidFill>
              <a:srgbClr val="f8fec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ستم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w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2879280" y="1785600"/>
              <a:ext cx="1355040" cy="735840"/>
            </a:xfrm>
            <a:prstGeom prst="rect">
              <a:avLst/>
            </a:prstGeom>
            <a:solidFill>
              <a:srgbClr val="f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متدف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10"/>
          <p:cNvGrpSpPr/>
          <p:nvPr/>
        </p:nvGrpSpPr>
        <p:grpSpPr>
          <a:xfrm>
            <a:off x="457200" y="4952880"/>
            <a:ext cx="7507440" cy="1488600"/>
            <a:chOff x="457200" y="4952880"/>
            <a:chExt cx="7507440" cy="1488600"/>
          </a:xfrm>
        </p:grpSpPr>
        <p:sp>
          <p:nvSpPr>
            <p:cNvPr id="579" name="Text Box 11"/>
            <p:cNvSpPr/>
            <p:nvPr/>
          </p:nvSpPr>
          <p:spPr>
            <a:xfrm>
              <a:off x="457200" y="5981760"/>
              <a:ext cx="7507440" cy="4597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أنواع المخططا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yout 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681120" y="5292720"/>
              <a:ext cx="1625400" cy="648360"/>
            </a:xfrm>
            <a:prstGeom prst="rect">
              <a:avLst/>
            </a:prstGeom>
            <a:solidFill>
              <a:srgbClr val="f8fec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منت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2306520" y="4952880"/>
              <a:ext cx="2184480" cy="1292760"/>
            </a:xfrm>
            <a:prstGeom prst="rect">
              <a:avLst/>
            </a:prstGeom>
            <a:solidFill>
              <a:srgbClr val="f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تقنية المجموعات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oup 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4"/>
            <p:cNvSpPr/>
            <p:nvPr/>
          </p:nvSpPr>
          <p:spPr>
            <a:xfrm>
              <a:off x="4491000" y="5289480"/>
              <a:ext cx="1542960" cy="657720"/>
            </a:xfrm>
            <a:prstGeom prst="rect">
              <a:avLst/>
            </a:prstGeom>
            <a:solidFill>
              <a:srgbClr val="f3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عم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5"/>
            <p:cNvSpPr/>
            <p:nvPr/>
          </p:nvSpPr>
          <p:spPr>
            <a:xfrm>
              <a:off x="6059520" y="5029200"/>
              <a:ext cx="1685880" cy="1231560"/>
            </a:xfrm>
            <a:prstGeom prst="rect">
              <a:avLst/>
            </a:prstGeom>
            <a:solidFill>
              <a:srgbClr val="ecfed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خاص موقعي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Line 16"/>
          <p:cNvSpPr/>
          <p:nvPr/>
        </p:nvSpPr>
        <p:spPr>
          <a:xfrm flipH="1">
            <a:off x="1353960" y="2590920"/>
            <a:ext cx="446400" cy="2590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17"/>
          <p:cNvGrpSpPr/>
          <p:nvPr/>
        </p:nvGrpSpPr>
        <p:grpSpPr>
          <a:xfrm>
            <a:off x="1464840" y="2590920"/>
            <a:ext cx="2239920" cy="2666880"/>
            <a:chOff x="1464840" y="2590920"/>
            <a:chExt cx="2239920" cy="2666880"/>
          </a:xfrm>
        </p:grpSpPr>
        <p:sp>
          <p:nvSpPr>
            <p:cNvPr id="586" name="Line 18"/>
            <p:cNvSpPr/>
            <p:nvPr/>
          </p:nvSpPr>
          <p:spPr>
            <a:xfrm flipH="1">
              <a:off x="1464840" y="2590920"/>
              <a:ext cx="223956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9"/>
            <p:cNvSpPr/>
            <p:nvPr/>
          </p:nvSpPr>
          <p:spPr>
            <a:xfrm>
              <a:off x="3704760" y="2590920"/>
              <a:ext cx="0" cy="2176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20"/>
          <p:cNvGrpSpPr/>
          <p:nvPr/>
        </p:nvGrpSpPr>
        <p:grpSpPr>
          <a:xfrm>
            <a:off x="3930120" y="2514600"/>
            <a:ext cx="3027600" cy="2743200"/>
            <a:chOff x="3930120" y="2514600"/>
            <a:chExt cx="3027600" cy="2743200"/>
          </a:xfrm>
        </p:grpSpPr>
        <p:sp>
          <p:nvSpPr>
            <p:cNvPr id="589" name="Line 21"/>
            <p:cNvSpPr/>
            <p:nvPr/>
          </p:nvSpPr>
          <p:spPr>
            <a:xfrm flipH="1">
              <a:off x="3930120" y="2514600"/>
              <a:ext cx="1234440" cy="2409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2"/>
            <p:cNvSpPr/>
            <p:nvPr/>
          </p:nvSpPr>
          <p:spPr>
            <a:xfrm>
              <a:off x="5276160" y="2514600"/>
              <a:ext cx="223560" cy="27432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3"/>
            <p:cNvSpPr/>
            <p:nvPr/>
          </p:nvSpPr>
          <p:spPr>
            <a:xfrm>
              <a:off x="5388840" y="2595600"/>
              <a:ext cx="1568880" cy="24080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24"/>
          <p:cNvGrpSpPr/>
          <p:nvPr/>
        </p:nvGrpSpPr>
        <p:grpSpPr>
          <a:xfrm>
            <a:off x="5867280" y="2595600"/>
            <a:ext cx="1271520" cy="2738160"/>
            <a:chOff x="5867280" y="2595600"/>
            <a:chExt cx="1271520" cy="2738160"/>
          </a:xfrm>
        </p:grpSpPr>
        <p:sp>
          <p:nvSpPr>
            <p:cNvPr id="593" name="Line 25"/>
            <p:cNvSpPr/>
            <p:nvPr/>
          </p:nvSpPr>
          <p:spPr>
            <a:xfrm flipH="1">
              <a:off x="5867280" y="2595600"/>
              <a:ext cx="1231920" cy="2738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6"/>
            <p:cNvSpPr/>
            <p:nvPr/>
          </p:nvSpPr>
          <p:spPr>
            <a:xfrm>
              <a:off x="7138800" y="2636640"/>
              <a:ext cx="0" cy="2397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AC6-4146-4712-9309-5642919725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923760" y="3521160"/>
            <a:ext cx="7762680" cy="3336840"/>
            <a:chOff x="923760" y="3521160"/>
            <a:chExt cx="7762680" cy="3336840"/>
          </a:xfrm>
        </p:grpSpPr>
        <p:graphicFrame>
          <p:nvGraphicFramePr>
            <p:cNvPr id="597" name="Object 3"/>
            <p:cNvGraphicFramePr/>
            <p:nvPr/>
          </p:nvGraphicFramePr>
          <p:xfrm>
            <a:off x="923760" y="3521160"/>
            <a:ext cx="7762680" cy="333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23760" y="3521160"/>
                      <a:ext cx="7762680" cy="333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Rectangle 4"/>
            <p:cNvSpPr/>
            <p:nvPr/>
          </p:nvSpPr>
          <p:spPr>
            <a:xfrm>
              <a:off x="6485760" y="5192640"/>
              <a:ext cx="20484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duct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5"/>
          <p:cNvGrpSpPr/>
          <p:nvPr/>
        </p:nvGrpSpPr>
        <p:grpSpPr>
          <a:xfrm>
            <a:off x="4038480" y="396720"/>
            <a:ext cx="4953240" cy="3449880"/>
            <a:chOff x="4038480" y="396720"/>
            <a:chExt cx="4953240" cy="3449880"/>
          </a:xfrm>
        </p:grpSpPr>
        <p:graphicFrame>
          <p:nvGraphicFramePr>
            <p:cNvPr id="601" name="Object 6"/>
            <p:cNvGraphicFramePr/>
            <p:nvPr/>
          </p:nvGraphicFramePr>
          <p:xfrm>
            <a:off x="4038480" y="396720"/>
            <a:ext cx="4953240" cy="307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96720"/>
                      <a:ext cx="4953240" cy="30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3" name="Rectangle 7"/>
            <p:cNvSpPr/>
            <p:nvPr/>
          </p:nvSpPr>
          <p:spPr>
            <a:xfrm>
              <a:off x="4725720" y="3447720"/>
              <a:ext cx="18450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8"/>
          <p:cNvGrpSpPr/>
          <p:nvPr/>
        </p:nvGrpSpPr>
        <p:grpSpPr>
          <a:xfrm>
            <a:off x="304920" y="870120"/>
            <a:ext cx="3504600" cy="2880360"/>
            <a:chOff x="304920" y="870120"/>
            <a:chExt cx="3504600" cy="2880360"/>
          </a:xfrm>
        </p:grpSpPr>
        <p:graphicFrame>
          <p:nvGraphicFramePr>
            <p:cNvPr id="605" name="Object 9"/>
            <p:cNvGraphicFramePr/>
            <p:nvPr/>
          </p:nvGraphicFramePr>
          <p:xfrm>
            <a:off x="304920" y="870120"/>
            <a:ext cx="3504600" cy="243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870120"/>
                      <a:ext cx="3504600" cy="24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7" name="Rectangle 10"/>
            <p:cNvSpPr/>
            <p:nvPr/>
          </p:nvSpPr>
          <p:spPr>
            <a:xfrm>
              <a:off x="1152720" y="3351600"/>
              <a:ext cx="173052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07F5-0C20-4C7B-A77B-587F5F1DD9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c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61920" y="685800"/>
            <a:ext cx="9087120" cy="5943600"/>
            <a:chOff x="61920" y="685800"/>
            <a:chExt cx="9087120" cy="5943600"/>
          </a:xfrm>
        </p:grpSpPr>
        <p:graphicFrame>
          <p:nvGraphicFramePr>
            <p:cNvPr id="612" name="Object 4"/>
            <p:cNvGraphicFramePr/>
            <p:nvPr/>
          </p:nvGraphicFramePr>
          <p:xfrm>
            <a:off x="61920" y="685800"/>
            <a:ext cx="6019920" cy="594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920" y="685800"/>
                      <a:ext cx="6019920" cy="594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4" name="Rectangle 5"/>
            <p:cNvSpPr/>
            <p:nvPr/>
          </p:nvSpPr>
          <p:spPr>
            <a:xfrm>
              <a:off x="6077160" y="4951080"/>
              <a:ext cx="307188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roup Technology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>
              <a:off x="6156360" y="2014200"/>
              <a:ext cx="1845000" cy="398880"/>
            </a:xfrm>
            <a:prstGeom prst="rect">
              <a:avLst/>
            </a:prstGeom>
            <a:solidFill>
              <a:srgbClr val="e5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FBC-0640-4243-BA20-093E25203F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d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3" descr="msotw9_temp0"/>
          <p:cNvPicPr/>
          <p:nvPr/>
        </p:nvPicPr>
        <p:blipFill>
          <a:blip r:embed="rId1"/>
          <a:stretch/>
        </p:blipFill>
        <p:spPr>
          <a:xfrm>
            <a:off x="2266920" y="3886200"/>
            <a:ext cx="5238720" cy="128268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  <p:pic>
        <p:nvPicPr>
          <p:cNvPr id="619" name="Picture 4" descr="msotw9_temp0"/>
          <p:cNvPicPr/>
          <p:nvPr/>
        </p:nvPicPr>
        <p:blipFill>
          <a:blip r:embed="rId2"/>
          <a:stretch/>
        </p:blipFill>
        <p:spPr>
          <a:xfrm>
            <a:off x="1638360" y="1066680"/>
            <a:ext cx="5867280" cy="243864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D58-F413-410A-97C1-926A0125C9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e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438120" y="838080"/>
            <a:ext cx="8213400" cy="5689800"/>
            <a:chOff x="438120" y="838080"/>
            <a:chExt cx="8213400" cy="5689800"/>
          </a:xfrm>
        </p:grpSpPr>
        <p:pic>
          <p:nvPicPr>
            <p:cNvPr id="623" name="Picture 4" descr="msotw9_temp0"/>
            <p:cNvPicPr/>
            <p:nvPr/>
          </p:nvPicPr>
          <p:blipFill>
            <a:blip r:embed="rId1"/>
            <a:stretch/>
          </p:blipFill>
          <p:spPr>
            <a:xfrm>
              <a:off x="4807800" y="1100160"/>
              <a:ext cx="3843720" cy="1185840"/>
            </a:xfrm>
            <a:prstGeom prst="rect">
              <a:avLst/>
            </a:prstGeom>
            <a:ln w="28440">
              <a:solidFill>
                <a:srgbClr val="66ff99"/>
              </a:solidFill>
              <a:miter/>
            </a:ln>
          </p:spPr>
        </p:pic>
        <p:pic>
          <p:nvPicPr>
            <p:cNvPr id="624" name="Picture 5" descr="msotw9_temp0"/>
            <p:cNvPicPr/>
            <p:nvPr/>
          </p:nvPicPr>
          <p:blipFill>
            <a:blip r:embed="rId2"/>
            <a:stretch/>
          </p:blipFill>
          <p:spPr>
            <a:xfrm>
              <a:off x="438120" y="838080"/>
              <a:ext cx="3324600" cy="5689800"/>
            </a:xfrm>
            <a:prstGeom prst="rect">
              <a:avLst/>
            </a:prstGeom>
            <a:ln w="28440">
              <a:solidFill>
                <a:srgbClr val="66ff99"/>
              </a:solidFill>
              <a:miter/>
            </a:ln>
          </p:spPr>
        </p:pic>
      </p:grpSp>
      <p:grpSp>
        <p:nvGrpSpPr>
          <p:cNvPr id="625" name="Group 6"/>
          <p:cNvGrpSpPr/>
          <p:nvPr/>
        </p:nvGrpSpPr>
        <p:grpSpPr>
          <a:xfrm>
            <a:off x="5205240" y="2819520"/>
            <a:ext cx="2116440" cy="3620880"/>
            <a:chOff x="5205240" y="2819520"/>
            <a:chExt cx="2116440" cy="3620880"/>
          </a:xfrm>
        </p:grpSpPr>
        <p:pic>
          <p:nvPicPr>
            <p:cNvPr id="626" name="Picture 7" descr="msotw9_temp0"/>
            <p:cNvPicPr/>
            <p:nvPr/>
          </p:nvPicPr>
          <p:blipFill>
            <a:blip r:embed="rId3"/>
            <a:stretch/>
          </p:blipFill>
          <p:spPr>
            <a:xfrm>
              <a:off x="5205240" y="4648320"/>
              <a:ext cx="2110320" cy="179208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  <p:pic>
          <p:nvPicPr>
            <p:cNvPr id="627" name="Picture 8" descr="msotw9_temp0"/>
            <p:cNvPicPr/>
            <p:nvPr/>
          </p:nvPicPr>
          <p:blipFill>
            <a:blip r:embed="rId4"/>
            <a:stretch/>
          </p:blipFill>
          <p:spPr>
            <a:xfrm>
              <a:off x="5205240" y="2819520"/>
              <a:ext cx="2116440" cy="173484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E32-2A37-4BC2-BB2B-8A1A593270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95400"/>
            <a:ext cx="8292960" cy="514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 Purpose of Mfg System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غرض من نظا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2120" y="1120680"/>
            <a:ext cx="856944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importance of the Manufacturing role in society can be as shown in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وتظهر أهمية دور نظم التصنيع في الاقتصاد كشكل هرمي كما هو موضح :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2765520" y="3013200"/>
            <a:ext cx="3521160" cy="2263680"/>
            <a:chOff x="2765520" y="3013200"/>
            <a:chExt cx="3521160" cy="2263680"/>
          </a:xfrm>
        </p:grpSpPr>
        <p:sp>
          <p:nvSpPr>
            <p:cNvPr id="60" name="Line 5"/>
            <p:cNvSpPr/>
            <p:nvPr/>
          </p:nvSpPr>
          <p:spPr>
            <a:xfrm flipV="1">
              <a:off x="4525920" y="4120920"/>
              <a:ext cx="1760400" cy="722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"/>
            <p:cNvSpPr/>
            <p:nvPr/>
          </p:nvSpPr>
          <p:spPr>
            <a:xfrm flipV="1">
              <a:off x="4525920" y="3013200"/>
              <a:ext cx="0" cy="1830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2765520" y="3013200"/>
              <a:ext cx="1760400" cy="1107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525920" y="3013200"/>
              <a:ext cx="1760400" cy="1107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286680" y="412092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765520" y="4120920"/>
              <a:ext cx="1760400" cy="722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2765520" y="412092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4525920" y="4843440"/>
              <a:ext cx="0" cy="433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2765520" y="4554360"/>
              <a:ext cx="1760400" cy="72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 flipV="1">
              <a:off x="4525920" y="4554360"/>
              <a:ext cx="1760400" cy="722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15"/>
          <p:cNvSpPr/>
          <p:nvPr/>
        </p:nvSpPr>
        <p:spPr>
          <a:xfrm>
            <a:off x="152280" y="5338800"/>
            <a:ext cx="3791160" cy="789120"/>
          </a:xfrm>
          <a:prstGeom prst="wedgeRoundRectCallout">
            <a:avLst>
              <a:gd name="adj1" fmla="val 39990"/>
              <a:gd name="adj2" fmla="val -128069"/>
              <a:gd name="adj3" fmla="val 16667"/>
            </a:avLst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panding Economical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وسع القاعدة الاقتصاد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5194440" y="2552760"/>
            <a:ext cx="3892320" cy="762120"/>
          </a:xfrm>
          <a:prstGeom prst="wedgeRoundRectCallout">
            <a:avLst>
              <a:gd name="adj1" fmla="val -53916"/>
              <a:gd name="adj2" fmla="val 99583"/>
              <a:gd name="adj3" fmla="val 16667"/>
            </a:avLst>
          </a:prstGeom>
          <a:noFill/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ial &amp; Economical G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كتسبات الاجتماعية والاقتص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553-E85D-4EC0-B688-4B2022F4B4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" y="114120"/>
            <a:ext cx="880128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f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msotw9_temp0"/>
          <p:cNvPicPr/>
          <p:nvPr/>
        </p:nvPicPr>
        <p:blipFill>
          <a:blip r:embed="rId1"/>
          <a:stretch/>
        </p:blipFill>
        <p:spPr>
          <a:xfrm>
            <a:off x="4572000" y="3565440"/>
            <a:ext cx="3344760" cy="2835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631" name="Picture 4" descr="msotw9_temp0"/>
          <p:cNvPicPr/>
          <p:nvPr/>
        </p:nvPicPr>
        <p:blipFill>
          <a:blip r:embed="rId2"/>
          <a:stretch/>
        </p:blipFill>
        <p:spPr>
          <a:xfrm>
            <a:off x="4572000" y="1065240"/>
            <a:ext cx="3344760" cy="23637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632" name="Picture 5" descr="msotw9_temp0"/>
          <p:cNvPicPr/>
          <p:nvPr/>
        </p:nvPicPr>
        <p:blipFill>
          <a:blip r:embed="rId3"/>
          <a:stretch/>
        </p:blipFill>
        <p:spPr>
          <a:xfrm>
            <a:off x="577800" y="852480"/>
            <a:ext cx="3079800" cy="57006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C162-25E3-4771-9C3C-0F3CC17BAC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j- Types of Mfg Systems Layout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مخططات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"/>
          <p:cNvSpPr/>
          <p:nvPr/>
        </p:nvSpPr>
        <p:spPr>
          <a:xfrm>
            <a:off x="7238880" y="1709640"/>
            <a:ext cx="0" cy="40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5486400" y="1709640"/>
            <a:ext cx="0" cy="40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4114800" y="1709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2743200" y="1709640"/>
            <a:ext cx="0" cy="400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457200" y="1709640"/>
            <a:ext cx="8077320" cy="669960"/>
            <a:chOff x="457200" y="1709640"/>
            <a:chExt cx="8077320" cy="669960"/>
          </a:xfrm>
        </p:grpSpPr>
        <p:sp>
          <p:nvSpPr>
            <p:cNvPr id="640" name="Rectangle 8"/>
            <p:cNvSpPr/>
            <p:nvPr/>
          </p:nvSpPr>
          <p:spPr>
            <a:xfrm>
              <a:off x="457200" y="2044800"/>
              <a:ext cx="2286000" cy="334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4b000"/>
                  </a:solidFill>
                  <a:latin typeface="Times New Roman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"/>
            <p:cNvSpPr/>
            <p:nvPr/>
          </p:nvSpPr>
          <p:spPr>
            <a:xfrm>
              <a:off x="457200" y="1709640"/>
              <a:ext cx="2286000" cy="33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4b000"/>
                  </a:solidFill>
                  <a:latin typeface="Times New Roman"/>
                </a:rPr>
                <a:t>Type of Lay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10"/>
            <p:cNvSpPr/>
            <p:nvPr/>
          </p:nvSpPr>
          <p:spPr>
            <a:xfrm>
              <a:off x="2743200" y="1709640"/>
              <a:ext cx="137160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05800"/>
                  </a:solidFill>
                  <a:latin typeface="Times New Roman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11"/>
            <p:cNvSpPr/>
            <p:nvPr/>
          </p:nvSpPr>
          <p:spPr>
            <a:xfrm>
              <a:off x="4114800" y="1709640"/>
              <a:ext cx="137124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c00ae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12"/>
            <p:cNvSpPr/>
            <p:nvPr/>
          </p:nvSpPr>
          <p:spPr>
            <a:xfrm>
              <a:off x="5486400" y="1709640"/>
              <a:ext cx="17524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913ff"/>
                  </a:solidFill>
                  <a:latin typeface="Times New Roman"/>
                </a:rPr>
                <a:t>Group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3"/>
            <p:cNvSpPr/>
            <p:nvPr/>
          </p:nvSpPr>
          <p:spPr>
            <a:xfrm>
              <a:off x="7238880" y="1709640"/>
              <a:ext cx="1295280" cy="669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Fixed 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4"/>
            <p:cNvSpPr/>
            <p:nvPr/>
          </p:nvSpPr>
          <p:spPr>
            <a:xfrm>
              <a:off x="457200" y="20448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>
              <a:off x="457200" y="237960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6"/>
            <p:cNvSpPr/>
            <p:nvPr/>
          </p:nvSpPr>
          <p:spPr>
            <a:xfrm>
              <a:off x="457200" y="170964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Line 17"/>
          <p:cNvSpPr/>
          <p:nvPr/>
        </p:nvSpPr>
        <p:spPr>
          <a:xfrm>
            <a:off x="457200" y="1709640"/>
            <a:ext cx="0" cy="4005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8"/>
          <p:cNvSpPr/>
          <p:nvPr/>
        </p:nvSpPr>
        <p:spPr>
          <a:xfrm>
            <a:off x="8534520" y="1709640"/>
            <a:ext cx="0" cy="4005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Group 19"/>
          <p:cNvGrpSpPr/>
          <p:nvPr/>
        </p:nvGrpSpPr>
        <p:grpSpPr>
          <a:xfrm>
            <a:off x="457200" y="5108400"/>
            <a:ext cx="8077320" cy="606600"/>
            <a:chOff x="457200" y="5108400"/>
            <a:chExt cx="8077320" cy="606600"/>
          </a:xfrm>
        </p:grpSpPr>
        <p:sp>
          <p:nvSpPr>
            <p:cNvPr id="652" name="Rectangle 20"/>
            <p:cNvSpPr/>
            <p:nvPr/>
          </p:nvSpPr>
          <p:spPr>
            <a:xfrm>
              <a:off x="457200" y="54118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Super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1"/>
            <p:cNvSpPr/>
            <p:nvPr/>
          </p:nvSpPr>
          <p:spPr>
            <a:xfrm>
              <a:off x="2743200" y="54118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2"/>
            <p:cNvSpPr/>
            <p:nvPr/>
          </p:nvSpPr>
          <p:spPr>
            <a:xfrm>
              <a:off x="4114800" y="54118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23"/>
            <p:cNvSpPr/>
            <p:nvPr/>
          </p:nvSpPr>
          <p:spPr>
            <a:xfrm>
              <a:off x="5486400" y="54118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24"/>
            <p:cNvSpPr/>
            <p:nvPr/>
          </p:nvSpPr>
          <p:spPr>
            <a:xfrm>
              <a:off x="7238880" y="54118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25"/>
            <p:cNvSpPr/>
            <p:nvPr/>
          </p:nvSpPr>
          <p:spPr>
            <a:xfrm>
              <a:off x="457200" y="510840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er Sk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26"/>
            <p:cNvSpPr/>
            <p:nvPr/>
          </p:nvSpPr>
          <p:spPr>
            <a:xfrm>
              <a:off x="2743200" y="510840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7"/>
            <p:cNvSpPr/>
            <p:nvPr/>
          </p:nvSpPr>
          <p:spPr>
            <a:xfrm>
              <a:off x="4114800" y="510840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8"/>
            <p:cNvSpPr/>
            <p:nvPr/>
          </p:nvSpPr>
          <p:spPr>
            <a:xfrm>
              <a:off x="5486400" y="510840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9"/>
            <p:cNvSpPr/>
            <p:nvPr/>
          </p:nvSpPr>
          <p:spPr>
            <a:xfrm>
              <a:off x="7238880" y="510840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0"/>
            <p:cNvSpPr/>
            <p:nvPr/>
          </p:nvSpPr>
          <p:spPr>
            <a:xfrm>
              <a:off x="457200" y="54118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31"/>
            <p:cNvSpPr/>
            <p:nvPr/>
          </p:nvSpPr>
          <p:spPr>
            <a:xfrm>
              <a:off x="457200" y="5715000"/>
              <a:ext cx="80773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32"/>
          <p:cNvGrpSpPr/>
          <p:nvPr/>
        </p:nvGrpSpPr>
        <p:grpSpPr>
          <a:xfrm>
            <a:off x="457200" y="3895560"/>
            <a:ext cx="8077320" cy="1212840"/>
            <a:chOff x="457200" y="3895560"/>
            <a:chExt cx="8077320" cy="1212840"/>
          </a:xfrm>
        </p:grpSpPr>
        <p:sp>
          <p:nvSpPr>
            <p:cNvPr id="665" name="Rectangle 33"/>
            <p:cNvSpPr/>
            <p:nvPr/>
          </p:nvSpPr>
          <p:spPr>
            <a:xfrm>
              <a:off x="7238880" y="389556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34"/>
            <p:cNvSpPr/>
            <p:nvPr/>
          </p:nvSpPr>
          <p:spPr>
            <a:xfrm>
              <a:off x="5486400" y="389556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L-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5"/>
            <p:cNvSpPr/>
            <p:nvPr/>
          </p:nvSpPr>
          <p:spPr>
            <a:xfrm>
              <a:off x="4114800" y="389556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36"/>
            <p:cNvSpPr/>
            <p:nvPr/>
          </p:nvSpPr>
          <p:spPr>
            <a:xfrm>
              <a:off x="2743200" y="389556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7"/>
            <p:cNvSpPr/>
            <p:nvPr/>
          </p:nvSpPr>
          <p:spPr>
            <a:xfrm>
              <a:off x="457200" y="389556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Throughput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38"/>
            <p:cNvSpPr/>
            <p:nvPr/>
          </p:nvSpPr>
          <p:spPr>
            <a:xfrm>
              <a:off x="7238880" y="450216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9"/>
            <p:cNvSpPr/>
            <p:nvPr/>
          </p:nvSpPr>
          <p:spPr>
            <a:xfrm>
              <a:off x="5486400" y="450216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40"/>
            <p:cNvSpPr/>
            <p:nvPr/>
          </p:nvSpPr>
          <p:spPr>
            <a:xfrm>
              <a:off x="4114800" y="450216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41"/>
            <p:cNvSpPr/>
            <p:nvPr/>
          </p:nvSpPr>
          <p:spPr>
            <a:xfrm>
              <a:off x="2743200" y="450216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42"/>
            <p:cNvSpPr/>
            <p:nvPr/>
          </p:nvSpPr>
          <p:spPr>
            <a:xfrm>
              <a:off x="457200" y="450216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 In-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43"/>
            <p:cNvSpPr/>
            <p:nvPr/>
          </p:nvSpPr>
          <p:spPr>
            <a:xfrm>
              <a:off x="457200" y="480528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Unit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44"/>
            <p:cNvSpPr/>
            <p:nvPr/>
          </p:nvSpPr>
          <p:spPr>
            <a:xfrm>
              <a:off x="2743200" y="480528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45"/>
            <p:cNvSpPr/>
            <p:nvPr/>
          </p:nvSpPr>
          <p:spPr>
            <a:xfrm>
              <a:off x="4114800" y="480528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46"/>
            <p:cNvSpPr/>
            <p:nvPr/>
          </p:nvSpPr>
          <p:spPr>
            <a:xfrm>
              <a:off x="5486400" y="480528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7"/>
            <p:cNvSpPr/>
            <p:nvPr/>
          </p:nvSpPr>
          <p:spPr>
            <a:xfrm>
              <a:off x="7238880" y="480528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48"/>
            <p:cNvSpPr/>
            <p:nvPr/>
          </p:nvSpPr>
          <p:spPr>
            <a:xfrm>
              <a:off x="457200" y="41990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Prod.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9"/>
            <p:cNvSpPr/>
            <p:nvPr/>
          </p:nvSpPr>
          <p:spPr>
            <a:xfrm>
              <a:off x="2743200" y="41990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50"/>
            <p:cNvSpPr/>
            <p:nvPr/>
          </p:nvSpPr>
          <p:spPr>
            <a:xfrm>
              <a:off x="4114800" y="41990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51"/>
            <p:cNvSpPr/>
            <p:nvPr/>
          </p:nvSpPr>
          <p:spPr>
            <a:xfrm>
              <a:off x="5486400" y="41990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52"/>
            <p:cNvSpPr/>
            <p:nvPr/>
          </p:nvSpPr>
          <p:spPr>
            <a:xfrm>
              <a:off x="7238880" y="41990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53"/>
            <p:cNvSpPr/>
            <p:nvPr/>
          </p:nvSpPr>
          <p:spPr>
            <a:xfrm>
              <a:off x="457200" y="45021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4"/>
            <p:cNvSpPr/>
            <p:nvPr/>
          </p:nvSpPr>
          <p:spPr>
            <a:xfrm>
              <a:off x="457200" y="51084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5"/>
            <p:cNvSpPr/>
            <p:nvPr/>
          </p:nvSpPr>
          <p:spPr>
            <a:xfrm>
              <a:off x="457200" y="480528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56"/>
            <p:cNvSpPr/>
            <p:nvPr/>
          </p:nvSpPr>
          <p:spPr>
            <a:xfrm>
              <a:off x="457200" y="41990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57"/>
          <p:cNvGrpSpPr/>
          <p:nvPr/>
        </p:nvGrpSpPr>
        <p:grpSpPr>
          <a:xfrm>
            <a:off x="457200" y="2379600"/>
            <a:ext cx="8077320" cy="909720"/>
            <a:chOff x="457200" y="2379600"/>
            <a:chExt cx="8077320" cy="909720"/>
          </a:xfrm>
        </p:grpSpPr>
        <p:sp>
          <p:nvSpPr>
            <p:cNvPr id="690" name="Rectangle 58"/>
            <p:cNvSpPr/>
            <p:nvPr/>
          </p:nvSpPr>
          <p:spPr>
            <a:xfrm>
              <a:off x="7238880" y="29862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59"/>
            <p:cNvSpPr/>
            <p:nvPr/>
          </p:nvSpPr>
          <p:spPr>
            <a:xfrm>
              <a:off x="5486400" y="29862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60"/>
            <p:cNvSpPr/>
            <p:nvPr/>
          </p:nvSpPr>
          <p:spPr>
            <a:xfrm>
              <a:off x="4114800" y="29862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61"/>
            <p:cNvSpPr/>
            <p:nvPr/>
          </p:nvSpPr>
          <p:spPr>
            <a:xfrm>
              <a:off x="2743200" y="29862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62"/>
            <p:cNvSpPr/>
            <p:nvPr/>
          </p:nvSpPr>
          <p:spPr>
            <a:xfrm>
              <a:off x="457200" y="29862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Manufacturing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63"/>
            <p:cNvSpPr/>
            <p:nvPr/>
          </p:nvSpPr>
          <p:spPr>
            <a:xfrm>
              <a:off x="7238880" y="237960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64"/>
            <p:cNvSpPr/>
            <p:nvPr/>
          </p:nvSpPr>
          <p:spPr>
            <a:xfrm>
              <a:off x="5486400" y="237960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65"/>
            <p:cNvSpPr/>
            <p:nvPr/>
          </p:nvSpPr>
          <p:spPr>
            <a:xfrm>
              <a:off x="4114800" y="237960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66"/>
            <p:cNvSpPr/>
            <p:nvPr/>
          </p:nvSpPr>
          <p:spPr>
            <a:xfrm>
              <a:off x="2743200" y="237960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67"/>
            <p:cNvSpPr/>
            <p:nvPr/>
          </p:nvSpPr>
          <p:spPr>
            <a:xfrm>
              <a:off x="457200" y="237960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Product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68"/>
            <p:cNvSpPr/>
            <p:nvPr/>
          </p:nvSpPr>
          <p:spPr>
            <a:xfrm>
              <a:off x="7238880" y="2682720"/>
              <a:ext cx="12952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69"/>
            <p:cNvSpPr/>
            <p:nvPr/>
          </p:nvSpPr>
          <p:spPr>
            <a:xfrm>
              <a:off x="5486400" y="2682720"/>
              <a:ext cx="175248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70"/>
            <p:cNvSpPr/>
            <p:nvPr/>
          </p:nvSpPr>
          <p:spPr>
            <a:xfrm>
              <a:off x="4114800" y="2682720"/>
              <a:ext cx="137124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71"/>
            <p:cNvSpPr/>
            <p:nvPr/>
          </p:nvSpPr>
          <p:spPr>
            <a:xfrm>
              <a:off x="2743200" y="2682720"/>
              <a:ext cx="13716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72"/>
            <p:cNvSpPr/>
            <p:nvPr/>
          </p:nvSpPr>
          <p:spPr>
            <a:xfrm>
              <a:off x="457200" y="2682720"/>
              <a:ext cx="2286000" cy="30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Demand 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73"/>
            <p:cNvSpPr/>
            <p:nvPr/>
          </p:nvSpPr>
          <p:spPr>
            <a:xfrm>
              <a:off x="457200" y="26827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74"/>
            <p:cNvSpPr/>
            <p:nvPr/>
          </p:nvSpPr>
          <p:spPr>
            <a:xfrm>
              <a:off x="457200" y="298620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>
              <a:off x="457200" y="328932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76"/>
          <p:cNvGrpSpPr/>
          <p:nvPr/>
        </p:nvGrpSpPr>
        <p:grpSpPr>
          <a:xfrm>
            <a:off x="457200" y="3289320"/>
            <a:ext cx="8077320" cy="606240"/>
            <a:chOff x="457200" y="3289320"/>
            <a:chExt cx="8077320" cy="606240"/>
          </a:xfrm>
        </p:grpSpPr>
        <p:sp>
          <p:nvSpPr>
            <p:cNvPr id="709" name="Rectangle 77"/>
            <p:cNvSpPr/>
            <p:nvPr/>
          </p:nvSpPr>
          <p:spPr>
            <a:xfrm>
              <a:off x="7238880" y="359244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78"/>
            <p:cNvSpPr/>
            <p:nvPr/>
          </p:nvSpPr>
          <p:spPr>
            <a:xfrm>
              <a:off x="5486400" y="359244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79"/>
            <p:cNvSpPr/>
            <p:nvPr/>
          </p:nvSpPr>
          <p:spPr>
            <a:xfrm>
              <a:off x="4114800" y="359244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80"/>
            <p:cNvSpPr/>
            <p:nvPr/>
          </p:nvSpPr>
          <p:spPr>
            <a:xfrm>
              <a:off x="2743200" y="359244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81"/>
            <p:cNvSpPr/>
            <p:nvPr/>
          </p:nvSpPr>
          <p:spPr>
            <a:xfrm>
              <a:off x="457200" y="359244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Worker Ut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82"/>
            <p:cNvSpPr/>
            <p:nvPr/>
          </p:nvSpPr>
          <p:spPr>
            <a:xfrm>
              <a:off x="7238880" y="3289320"/>
              <a:ext cx="12952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83"/>
            <p:cNvSpPr/>
            <p:nvPr/>
          </p:nvSpPr>
          <p:spPr>
            <a:xfrm>
              <a:off x="5486400" y="3289320"/>
              <a:ext cx="175248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913ff"/>
                  </a:solidFill>
                  <a:latin typeface="Times New Roman"/>
                </a:rPr>
                <a:t>M-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84"/>
            <p:cNvSpPr/>
            <p:nvPr/>
          </p:nvSpPr>
          <p:spPr>
            <a:xfrm>
              <a:off x="4114800" y="3289320"/>
              <a:ext cx="137124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c00ae"/>
                  </a:solidFill>
                  <a:latin typeface="Times New Roman"/>
                </a:rPr>
                <a:t>M-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85"/>
            <p:cNvSpPr/>
            <p:nvPr/>
          </p:nvSpPr>
          <p:spPr>
            <a:xfrm>
              <a:off x="2743200" y="3289320"/>
              <a:ext cx="13716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058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86"/>
            <p:cNvSpPr/>
            <p:nvPr/>
          </p:nvSpPr>
          <p:spPr>
            <a:xfrm>
              <a:off x="457200" y="3289320"/>
              <a:ext cx="2286000" cy="30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4b000"/>
                  </a:solidFill>
                  <a:latin typeface="Times New Roman"/>
                </a:rPr>
                <a:t>Machine Uti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87"/>
            <p:cNvSpPr/>
            <p:nvPr/>
          </p:nvSpPr>
          <p:spPr>
            <a:xfrm>
              <a:off x="457200" y="359244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88"/>
            <p:cNvSpPr/>
            <p:nvPr/>
          </p:nvSpPr>
          <p:spPr>
            <a:xfrm>
              <a:off x="457200" y="3895560"/>
              <a:ext cx="807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Text Box 89"/>
          <p:cNvSpPr/>
          <p:nvPr/>
        </p:nvSpPr>
        <p:spPr>
          <a:xfrm>
            <a:off x="190440" y="10666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b000"/>
                </a:solidFill>
                <a:latin typeface="Times New Roman"/>
                <a:ea typeface="Times New Roman (Arabic)"/>
              </a:rPr>
              <a:t>Types of Layout Characteristic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 (Arabic)"/>
              </a:rPr>
              <a:t>L=Low,M=Medium,H=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304C-14A9-426E-847C-CA90046621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a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228600" y="669960"/>
            <a:ext cx="6648480" cy="3682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Manufacturing systems are classified according to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52280" y="1309680"/>
          <a:ext cx="8782200" cy="5332320"/>
        </p:xfrm>
        <a:graphic>
          <a:graphicData uri="http://schemas.openxmlformats.org/drawingml/2006/table">
            <a:tbl>
              <a:tblPr/>
              <a:tblGrid>
                <a:gridCol w="343080"/>
                <a:gridCol w="1942920"/>
                <a:gridCol w="971640"/>
                <a:gridCol w="2076480"/>
                <a:gridCol w="344808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operation perfor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m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stations  and System lay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, 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np=number of part/product , no= number of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with fixed route n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 np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with variable route, n&gt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np,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vel of 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el 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ning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id Semi automated 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l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/produc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roduct flex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model Identical products V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setup at 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tch hard product (substantial)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 setup as mode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ed soft product (some)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over in setup or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6" name="Object 349"/>
              <p:cNvSpPr txBox="1"/>
              <p:nvPr/>
            </p:nvSpPr>
            <p:spPr>
              <a:xfrm>
                <a:off x="6759720" y="4005360"/>
                <a:ext cx="2038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27" name="Ink 1" descr=""/>
          <p:cNvPicPr/>
          <p:nvPr/>
        </p:nvPicPr>
        <p:blipFill>
          <a:blip r:embed="rId1"/>
          <a:stretch/>
        </p:blipFill>
        <p:spPr>
          <a:xfrm>
            <a:off x="7453440" y="774720"/>
            <a:ext cx="963360" cy="1485720"/>
          </a:xfrm>
          <a:prstGeom prst="rect">
            <a:avLst/>
          </a:prstGeom>
          <a:ln w="0">
            <a:noFill/>
          </a:ln>
        </p:spPr>
      </p:pic>
      <p:pic>
        <p:nvPicPr>
          <p:cNvPr id="728" name="Ink 2" descr=""/>
          <p:cNvPicPr/>
          <p:nvPr/>
        </p:nvPicPr>
        <p:blipFill>
          <a:blip r:embed="rId2"/>
          <a:stretch/>
        </p:blipFill>
        <p:spPr>
          <a:xfrm>
            <a:off x="7626240" y="971640"/>
            <a:ext cx="8413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014-80EC-4EC1-B19A-4596040EBD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b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93" descr=""/>
          <p:cNvPicPr/>
          <p:nvPr/>
        </p:nvPicPr>
        <p:blipFill>
          <a:blip r:embed="rId1"/>
          <a:stretch/>
        </p:blipFill>
        <p:spPr>
          <a:xfrm>
            <a:off x="76320" y="861840"/>
            <a:ext cx="8953560" cy="522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2" name="Ink 3" descr=""/>
          <p:cNvPicPr/>
          <p:nvPr/>
        </p:nvPicPr>
        <p:blipFill>
          <a:blip r:embed="rId2"/>
          <a:stretch/>
        </p:blipFill>
        <p:spPr>
          <a:xfrm>
            <a:off x="7765920" y="650880"/>
            <a:ext cx="663840" cy="1158840"/>
          </a:xfrm>
          <a:prstGeom prst="rect">
            <a:avLst/>
          </a:prstGeom>
          <a:ln w="0">
            <a:noFill/>
          </a:ln>
        </p:spPr>
      </p:pic>
      <p:pic>
        <p:nvPicPr>
          <p:cNvPr id="733" name="Ink 4" descr=""/>
          <p:cNvPicPr/>
          <p:nvPr/>
        </p:nvPicPr>
        <p:blipFill>
          <a:blip r:embed="rId3"/>
          <a:stretch/>
        </p:blipFill>
        <p:spPr>
          <a:xfrm>
            <a:off x="7958160" y="654120"/>
            <a:ext cx="90468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3F90-E530-4C4A-B25E-3018A2B2D0B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120" y="114480"/>
            <a:ext cx="887724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c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5" descr=""/>
          <p:cNvPicPr/>
          <p:nvPr/>
        </p:nvPicPr>
        <p:blipFill>
          <a:blip r:embed="rId1"/>
          <a:stretch/>
        </p:blipFill>
        <p:spPr>
          <a:xfrm>
            <a:off x="38160" y="1676520"/>
            <a:ext cx="4495680" cy="34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7" name="Picture 6" descr=""/>
          <p:cNvPicPr/>
          <p:nvPr/>
        </p:nvPicPr>
        <p:blipFill>
          <a:blip r:embed="rId2"/>
          <a:stretch/>
        </p:blipFill>
        <p:spPr>
          <a:xfrm>
            <a:off x="4552920" y="1676520"/>
            <a:ext cx="4552920" cy="34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8" name="Ink 3" descr=""/>
          <p:cNvPicPr/>
          <p:nvPr/>
        </p:nvPicPr>
        <p:blipFill>
          <a:blip r:embed="rId3"/>
          <a:stretch/>
        </p:blipFill>
        <p:spPr>
          <a:xfrm>
            <a:off x="7421400" y="977760"/>
            <a:ext cx="1041480" cy="1584360"/>
          </a:xfrm>
          <a:prstGeom prst="rect">
            <a:avLst/>
          </a:prstGeom>
          <a:ln w="0">
            <a:noFill/>
          </a:ln>
        </p:spPr>
      </p:pic>
      <p:pic>
        <p:nvPicPr>
          <p:cNvPr id="739" name="Ink 4" descr=""/>
          <p:cNvPicPr/>
          <p:nvPr/>
        </p:nvPicPr>
        <p:blipFill>
          <a:blip r:embed="rId4"/>
          <a:stretch/>
        </p:blipFill>
        <p:spPr>
          <a:xfrm>
            <a:off x="7493040" y="900000"/>
            <a:ext cx="6681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3F4-4677-4686-A458-4E273ACF17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d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57240" y="1390680"/>
            <a:ext cx="8991360" cy="3419280"/>
            <a:chOff x="57240" y="1390680"/>
            <a:chExt cx="8991360" cy="3419280"/>
          </a:xfrm>
        </p:grpSpPr>
        <p:pic>
          <p:nvPicPr>
            <p:cNvPr id="743" name="Picture 6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44" name="Picture 7" descr=""/>
            <p:cNvPicPr/>
            <p:nvPr/>
          </p:nvPicPr>
          <p:blipFill>
            <a:blip r:embed="rId2"/>
            <a:stretch/>
          </p:blipFill>
          <p:spPr>
            <a:xfrm>
              <a:off x="57240" y="1895400"/>
              <a:ext cx="8991360" cy="2914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45" name="Ink 3" descr=""/>
          <p:cNvPicPr/>
          <p:nvPr/>
        </p:nvPicPr>
        <p:blipFill>
          <a:blip r:embed="rId3"/>
          <a:stretch/>
        </p:blipFill>
        <p:spPr>
          <a:xfrm>
            <a:off x="7291440" y="623880"/>
            <a:ext cx="743040" cy="1712880"/>
          </a:xfrm>
          <a:prstGeom prst="rect">
            <a:avLst/>
          </a:prstGeom>
          <a:ln w="0">
            <a:noFill/>
          </a:ln>
        </p:spPr>
      </p:pic>
      <p:pic>
        <p:nvPicPr>
          <p:cNvPr id="746" name="Ink 4" descr=""/>
          <p:cNvPicPr/>
          <p:nvPr/>
        </p:nvPicPr>
        <p:blipFill>
          <a:blip r:embed="rId4"/>
          <a:stretch/>
        </p:blipFill>
        <p:spPr>
          <a:xfrm>
            <a:off x="7326360" y="1071720"/>
            <a:ext cx="982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D244-8D6F-4252-ABAA-64110F3309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e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6"/>
          <p:cNvGrpSpPr/>
          <p:nvPr/>
        </p:nvGrpSpPr>
        <p:grpSpPr>
          <a:xfrm>
            <a:off x="57240" y="1390680"/>
            <a:ext cx="8991360" cy="3776760"/>
            <a:chOff x="57240" y="1390680"/>
            <a:chExt cx="8991360" cy="3776760"/>
          </a:xfrm>
        </p:grpSpPr>
        <p:pic>
          <p:nvPicPr>
            <p:cNvPr id="750" name="Picture 3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1" name="Picture 5" descr=""/>
            <p:cNvPicPr/>
            <p:nvPr/>
          </p:nvPicPr>
          <p:blipFill>
            <a:blip r:embed="rId2"/>
            <a:stretch/>
          </p:blipFill>
          <p:spPr>
            <a:xfrm>
              <a:off x="57240" y="1949400"/>
              <a:ext cx="8991360" cy="3218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52" name="Ink 3" descr=""/>
          <p:cNvPicPr/>
          <p:nvPr/>
        </p:nvPicPr>
        <p:blipFill>
          <a:blip r:embed="rId3"/>
          <a:stretch/>
        </p:blipFill>
        <p:spPr>
          <a:xfrm>
            <a:off x="6248520" y="1203480"/>
            <a:ext cx="1382760" cy="1450800"/>
          </a:xfrm>
          <a:prstGeom prst="rect">
            <a:avLst/>
          </a:prstGeom>
          <a:ln w="0">
            <a:noFill/>
          </a:ln>
        </p:spPr>
      </p:pic>
      <p:pic>
        <p:nvPicPr>
          <p:cNvPr id="753" name="Ink 4" descr=""/>
          <p:cNvPicPr/>
          <p:nvPr/>
        </p:nvPicPr>
        <p:blipFill>
          <a:blip r:embed="rId4"/>
          <a:stretch/>
        </p:blipFill>
        <p:spPr>
          <a:xfrm>
            <a:off x="6429240" y="923760"/>
            <a:ext cx="8208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2410-BB28-4A88-9E81-8F9E9DB9CCD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5040" y="114480"/>
            <a:ext cx="8915400" cy="3808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صنيف نظام التصني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f- Manufacturing System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55440" y="1390680"/>
            <a:ext cx="8993160" cy="4124160"/>
            <a:chOff x="55440" y="1390680"/>
            <a:chExt cx="8993160" cy="4124160"/>
          </a:xfrm>
        </p:grpSpPr>
        <p:pic>
          <p:nvPicPr>
            <p:cNvPr id="757" name="Picture 3" descr=""/>
            <p:cNvPicPr/>
            <p:nvPr/>
          </p:nvPicPr>
          <p:blipFill>
            <a:blip r:embed="rId1"/>
            <a:stretch/>
          </p:blipFill>
          <p:spPr>
            <a:xfrm>
              <a:off x="57240" y="1390680"/>
              <a:ext cx="899136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8" name="Picture 5" descr=""/>
            <p:cNvPicPr/>
            <p:nvPr/>
          </p:nvPicPr>
          <p:blipFill>
            <a:blip r:embed="rId2"/>
            <a:stretch/>
          </p:blipFill>
          <p:spPr>
            <a:xfrm>
              <a:off x="55440" y="1895400"/>
              <a:ext cx="8993160" cy="361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759" name="Ink 3" descr=""/>
          <p:cNvPicPr/>
          <p:nvPr/>
        </p:nvPicPr>
        <p:blipFill>
          <a:blip r:embed="rId3"/>
          <a:stretch/>
        </p:blipFill>
        <p:spPr>
          <a:xfrm>
            <a:off x="6572160" y="1644480"/>
            <a:ext cx="1306440" cy="1395720"/>
          </a:xfrm>
          <a:prstGeom prst="rect">
            <a:avLst/>
          </a:prstGeom>
          <a:ln w="0">
            <a:noFill/>
          </a:ln>
        </p:spPr>
      </p:pic>
      <p:pic>
        <p:nvPicPr>
          <p:cNvPr id="760" name="Ink 4" descr=""/>
          <p:cNvPicPr/>
          <p:nvPr/>
        </p:nvPicPr>
        <p:blipFill>
          <a:blip r:embed="rId4"/>
          <a:stretch/>
        </p:blipFill>
        <p:spPr>
          <a:xfrm>
            <a:off x="6670800" y="1090440"/>
            <a:ext cx="7603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6AFE-D30E-4EE4-ADEB-CE588B6510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2800" y="76320"/>
            <a:ext cx="8762760" cy="83808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al Model of  Mfg Syste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نموذج الاقتصادي لنظام التصني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9907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ضع نموذج لأهمية دور نظم التصنيع في الاقتصاد كنموذج كينسيان المبسط للاقتصاد المكب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Keynesian Macroeconomic Model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طور النموذج كالشكل التال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410080" y="5746680"/>
            <a:ext cx="250056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ناعات سلع رأس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ital product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410080" y="4070520"/>
            <a:ext cx="25146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ناعات سلع استهلا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oduct 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638680" y="2209680"/>
            <a:ext cx="17146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جتم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895480" y="3124080"/>
            <a:ext cx="16002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بنوك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2280" y="3124080"/>
            <a:ext cx="25146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حكوم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9"/>
          <p:cNvGrpSpPr/>
          <p:nvPr/>
        </p:nvGrpSpPr>
        <p:grpSpPr>
          <a:xfrm>
            <a:off x="3733560" y="2590920"/>
            <a:ext cx="1904760" cy="533160"/>
            <a:chOff x="3733560" y="2590920"/>
            <a:chExt cx="1904760" cy="533160"/>
          </a:xfrm>
        </p:grpSpPr>
        <p:sp>
          <p:nvSpPr>
            <p:cNvPr id="81" name="Line 10"/>
            <p:cNvSpPr/>
            <p:nvPr/>
          </p:nvSpPr>
          <p:spPr>
            <a:xfrm flipH="1">
              <a:off x="3733560" y="2590920"/>
              <a:ext cx="1904760" cy="0"/>
            </a:xfrm>
            <a:prstGeom prst="line">
              <a:avLst/>
            </a:prstGeom>
            <a:ln w="57240">
              <a:solidFill>
                <a:srgbClr val="ddd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3733920" y="2590920"/>
              <a:ext cx="0" cy="533160"/>
            </a:xfrm>
            <a:prstGeom prst="line">
              <a:avLst/>
            </a:prstGeom>
            <a:ln w="57240">
              <a:solidFill>
                <a:srgbClr val="ddd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6477120" y="2514240"/>
            <a:ext cx="2286000" cy="3886560"/>
            <a:chOff x="6477120" y="2514240"/>
            <a:chExt cx="2286000" cy="3886560"/>
          </a:xfrm>
        </p:grpSpPr>
        <p:sp>
          <p:nvSpPr>
            <p:cNvPr id="84" name="Line 13"/>
            <p:cNvSpPr/>
            <p:nvPr/>
          </p:nvSpPr>
          <p:spPr>
            <a:xfrm>
              <a:off x="7953480" y="6400800"/>
              <a:ext cx="73332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4"/>
            <p:cNvSpPr/>
            <p:nvPr/>
          </p:nvSpPr>
          <p:spPr>
            <a:xfrm flipV="1">
              <a:off x="8686800" y="2514240"/>
              <a:ext cx="0" cy="388620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7924680" y="4524120"/>
              <a:ext cx="76212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 flipH="1">
              <a:off x="7353360" y="2514600"/>
              <a:ext cx="1333440" cy="0"/>
            </a:xfrm>
            <a:prstGeom prst="line">
              <a:avLst/>
            </a:prstGeom>
            <a:ln w="7632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6477120" y="3047760"/>
              <a:ext cx="22860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دخل الوطن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ational Income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1295280" y="1981080"/>
            <a:ext cx="4343400" cy="1128600"/>
            <a:chOff x="1295280" y="1981080"/>
            <a:chExt cx="4343400" cy="1128600"/>
          </a:xfrm>
        </p:grpSpPr>
        <p:grpSp>
          <p:nvGrpSpPr>
            <p:cNvPr id="90" name="Group 19"/>
            <p:cNvGrpSpPr/>
            <p:nvPr/>
          </p:nvGrpSpPr>
          <p:grpSpPr>
            <a:xfrm>
              <a:off x="1295280" y="2346120"/>
              <a:ext cx="4343400" cy="763560"/>
              <a:chOff x="1295280" y="2346120"/>
              <a:chExt cx="4343400" cy="763560"/>
            </a:xfrm>
          </p:grpSpPr>
          <p:sp>
            <p:nvSpPr>
              <p:cNvPr id="91" name="Line 20"/>
              <p:cNvSpPr/>
              <p:nvPr/>
            </p:nvSpPr>
            <p:spPr>
              <a:xfrm flipV="1">
                <a:off x="1295280" y="2346120"/>
                <a:ext cx="0" cy="763560"/>
              </a:xfrm>
              <a:prstGeom prst="line">
                <a:avLst/>
              </a:prstGeom>
              <a:ln w="76320">
                <a:solidFill>
                  <a:srgbClr val="66ff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21"/>
              <p:cNvSpPr/>
              <p:nvPr/>
            </p:nvSpPr>
            <p:spPr>
              <a:xfrm flipV="1">
                <a:off x="1295280" y="2346480"/>
                <a:ext cx="4343400" cy="15840"/>
              </a:xfrm>
              <a:prstGeom prst="line">
                <a:avLst/>
              </a:prstGeom>
              <a:ln w="7632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22"/>
            <p:cNvSpPr/>
            <p:nvPr/>
          </p:nvSpPr>
          <p:spPr>
            <a:xfrm>
              <a:off x="1676520" y="198108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دخل الحكومي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vernment Incom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52280" y="3549600"/>
            <a:ext cx="5257800" cy="2927520"/>
            <a:chOff x="152280" y="3549600"/>
            <a:chExt cx="5257800" cy="2927520"/>
          </a:xfrm>
        </p:grpSpPr>
        <p:sp>
          <p:nvSpPr>
            <p:cNvPr id="95" name="Line 24"/>
            <p:cNvSpPr/>
            <p:nvPr/>
          </p:nvSpPr>
          <p:spPr>
            <a:xfrm>
              <a:off x="1295280" y="3549600"/>
              <a:ext cx="0" cy="2927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5"/>
            <p:cNvSpPr/>
            <p:nvPr/>
          </p:nvSpPr>
          <p:spPr>
            <a:xfrm>
              <a:off x="1295280" y="6477120"/>
              <a:ext cx="4114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1295280" y="4876920"/>
              <a:ext cx="4114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152280" y="4114800"/>
              <a:ext cx="12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طلب الحكومي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4876920" y="2819520"/>
            <a:ext cx="1295280" cy="1419120"/>
            <a:chOff x="4876920" y="2819520"/>
            <a:chExt cx="1295280" cy="1419120"/>
          </a:xfrm>
        </p:grpSpPr>
        <p:grpSp>
          <p:nvGrpSpPr>
            <p:cNvPr id="100" name="Group 29"/>
            <p:cNvGrpSpPr/>
            <p:nvPr/>
          </p:nvGrpSpPr>
          <p:grpSpPr>
            <a:xfrm>
              <a:off x="4938480" y="2819520"/>
              <a:ext cx="699840" cy="1419120"/>
              <a:chOff x="4938480" y="2819520"/>
              <a:chExt cx="699840" cy="1419120"/>
            </a:xfrm>
          </p:grpSpPr>
          <p:sp>
            <p:nvSpPr>
              <p:cNvPr id="101" name="Line 30"/>
              <p:cNvSpPr/>
              <p:nvPr/>
            </p:nvSpPr>
            <p:spPr>
              <a:xfrm>
                <a:off x="4952880" y="2819520"/>
                <a:ext cx="6854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4952880" y="2819520"/>
                <a:ext cx="0" cy="14191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 flipH="1">
                <a:off x="4938480" y="4190760"/>
                <a:ext cx="47124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3"/>
            <p:cNvSpPr/>
            <p:nvPr/>
          </p:nvSpPr>
          <p:spPr>
            <a:xfrm>
              <a:off x="4876920" y="312444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طلب المستهلكين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34"/>
          <p:cNvGrpSpPr/>
          <p:nvPr/>
        </p:nvGrpSpPr>
        <p:grpSpPr>
          <a:xfrm>
            <a:off x="6858000" y="4800600"/>
            <a:ext cx="1538280" cy="1295280"/>
            <a:chOff x="6858000" y="4800600"/>
            <a:chExt cx="1538280" cy="1295280"/>
          </a:xfrm>
        </p:grpSpPr>
        <p:sp>
          <p:nvSpPr>
            <p:cNvPr id="106" name="Line 35"/>
            <p:cNvSpPr/>
            <p:nvPr/>
          </p:nvSpPr>
          <p:spPr>
            <a:xfrm>
              <a:off x="7953480" y="4800600"/>
              <a:ext cx="442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8396280" y="4800600"/>
              <a:ext cx="0" cy="1295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H="1">
              <a:off x="7924680" y="6095880"/>
              <a:ext cx="4716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6858000" y="52574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طلب الصناعة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9"/>
          <p:cNvGrpSpPr/>
          <p:nvPr/>
        </p:nvGrpSpPr>
        <p:grpSpPr>
          <a:xfrm>
            <a:off x="3733920" y="3549600"/>
            <a:ext cx="1676160" cy="2394000"/>
            <a:chOff x="3733920" y="3549600"/>
            <a:chExt cx="1676160" cy="2394000"/>
          </a:xfrm>
        </p:grpSpPr>
        <p:sp>
          <p:nvSpPr>
            <p:cNvPr id="111" name="Line 40"/>
            <p:cNvSpPr/>
            <p:nvPr/>
          </p:nvSpPr>
          <p:spPr>
            <a:xfrm>
              <a:off x="3733920" y="3549600"/>
              <a:ext cx="0" cy="239400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1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3733920" y="5943600"/>
              <a:ext cx="1676160" cy="0"/>
            </a:xfrm>
            <a:prstGeom prst="line">
              <a:avLst/>
            </a:prstGeom>
            <a:ln w="76320">
              <a:solidFill>
                <a:srgbClr val="ddd8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Line 43"/>
          <p:cNvSpPr/>
          <p:nvPr/>
        </p:nvSpPr>
        <p:spPr>
          <a:xfrm>
            <a:off x="2666880" y="3352680"/>
            <a:ext cx="228600" cy="0"/>
          </a:xfrm>
          <a:prstGeom prst="line">
            <a:avLst/>
          </a:prstGeom>
          <a:ln w="57240">
            <a:solidFill>
              <a:srgbClr val="dd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C6A-023E-4BDA-897F-48B35F8773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" y="75960"/>
            <a:ext cx="8763120" cy="57132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1- Brief Histor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14097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تبر البيئة الصناعية بيئة ذات طبيعة متغيرة , نظرا للتطور والتجديد المستمر في التقنيات الصناعية [خبرات مهارة العمل-  المعدات والتجهيزات – المواد – تصميم الأنظمة -  التخطيط والرقابة – دراسة العمل -.......وغيرها].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مع ذلك يمكن تمييز ثلاث مراحل اساسية للتطور الصناعي واستراتيجيات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كالتالي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280" y="3462480"/>
            <a:ext cx="8610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-  مرحلة الحرفة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aftsmanship Phase (BC-1700)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: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عتمدت هذه المرحلة على استخدام الجهد الإنساني ومهاراته التشغيلية وذكاؤه للقيام بمهام عمليات التصنيع المختلفة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قد ركزت الإستراتيجيات التصنيع في هذه المرحلة على خفض التكلفة المباشرة للعمالة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A4DE-8D17-43A6-9A6D-466C94653F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2- Brief Histor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19200" y="1066680"/>
            <a:ext cx="7905600" cy="77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-  مرحلة الميكنة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chanization Phase (1700-1950)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:-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ميزت هذه المرحلة باستخدام الطاقات الجديدة (البخار –الكهرباء) لتوليد الحركة لآليات المعدات والماكينات , واعتمدت هذه المرحلة على استخدام جهد الماكينات ومهارات التشغيلية للإنسان وذكاؤه, وقد ظهرت مفاهيم مصاحبة لذلك منها على سبيل المثال : تقسيم وتخصص العمل – الإدارة العلمية – خطوط الإنتاج – دراسة العمل - التقيس والقياس للعمليات والمنتجات والمعدات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وقد ركزت الإستراتيجيات التصنيع في هذه المرحلة على ما يلي :-</a:t>
            </a:r>
            <a:r>
              <a:rPr b="1" lang="ar-SA" sz="2400" spc="-1" strike="noStrike">
                <a:solidFill>
                  <a:srgbClr val="b4b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قيس المعلومات الصناعية [منتجات – عمليات – تشغيل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ميكنة والأوتوماتية الثابتة فى خطوط الإنتا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طوير أنماط الإنتاج للإنتاج الكبير ومخططات المواقع لخطوط إنتاج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تحسين كفاءة الإنتاج للعمليات وتحقيق أعلى معدلات إنتاج ل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عمل على رفع مستوى جودة المنتجات بتطوير وسائل رقابة وضبط الجو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خفض التكاليف بالأخذ في الاعتبار التكاليف الكلية للإنتاج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131-50F7-462B-B10D-3217AA6EFC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3- Brief Histor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52280" y="762120"/>
            <a:ext cx="8839440" cy="77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-  مرحلة الأوتوماتية والمعلوماتية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utomation &amp; Information Phase (1950-Now)</a:t>
            </a:r>
            <a:r>
              <a:rPr b="1" lang="ar-SA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تميزت هذه المرحلة باستخدام مفاهيم الأتمتة المبرمجة والحاسبات ونظم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حيث اعتمدت هذه المرحلة على استخدام جهد الماكينات ورفع قدراتها التحكمية والتشغيلية (</a:t>
            </a:r>
            <a:r>
              <a:rPr b="0" lang="ar-SA" sz="2200" spc="-1" strike="noStrike">
                <a:solidFill>
                  <a:srgbClr val="ff3300"/>
                </a:solidFill>
                <a:latin typeface="Times New Roman"/>
              </a:rPr>
              <a:t>لتحل محل المهارات الإنسانية)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 وبناء الذكاء الصناعي </a:t>
            </a:r>
            <a:r>
              <a:rPr b="0" lang="ar-SA" sz="2200" spc="-1" strike="noStrike">
                <a:solidFill>
                  <a:srgbClr val="ff3300"/>
                </a:solidFill>
                <a:latin typeface="Times New Roman"/>
              </a:rPr>
              <a:t>(لتحل محل الذكاء الإنساني في أخذ القرارات المتوارثة)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قد ظهرت تقنيات لتطوير كلا من العتاد الصناعي والمعلومات الصناعية كالتالي 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1</a:t>
            </a: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- العتاد الصناعي </a:t>
            </a:r>
            <a:r>
              <a:rPr b="1" lang="en-US" sz="2400" spc="-1" strike="noStrike" u="sng">
                <a:solidFill>
                  <a:srgbClr val="ec00ae"/>
                </a:solidFill>
                <a:uFillTx/>
                <a:latin typeface="Times New Roman"/>
              </a:rPr>
              <a:t>Hardware</a:t>
            </a:r>
            <a:r>
              <a:rPr b="1" lang="ar-SA" sz="2400" spc="-1" strike="noStrike" u="sng">
                <a:solidFill>
                  <a:srgbClr val="ec00ae"/>
                </a:solidFill>
                <a:uFillTx/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تتعلق بتقنيات ماكينات ومعدات وأدوات التصنيع والمناول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وأجهزة الحاسبات والربط بينها لتتناول وتعالج أساليب التشغيل والتحكم وتشمل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حكم الرقم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merical Control (NC, CNC, DNC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ربوطات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botics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حكم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aptive Control (AC), Programmable Logic Controllers (PLC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رجاع والتخزين الأوتوماتى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Retrieval and Storage (R/S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فحص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Inspection (CM, MV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رقابة الإنتاج الأوتومات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tomated Production Control (FDC, AIM, BC, OCR, MV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شبكات الحاسب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r Networks (LANS ,Fiber Optics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0E1-FD0C-405F-A86D-23360C9047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533160"/>
          </a:xfrm>
          <a:prstGeom prst="rect">
            <a:avLst/>
          </a:prstGeom>
          <a:solidFill>
            <a:srgbClr val="ffeecd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4-Brief History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بذة تاريخ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685800"/>
            <a:ext cx="883944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2</a:t>
            </a: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- البرامج </a:t>
            </a:r>
            <a:r>
              <a:rPr b="1" lang="en-US" sz="2400" spc="-1" strike="noStrike" u="sng">
                <a:solidFill>
                  <a:srgbClr val="d60093"/>
                </a:solidFill>
                <a:uFillTx/>
                <a:latin typeface="Times New Roman"/>
              </a:rPr>
              <a:t>Software</a:t>
            </a:r>
            <a:r>
              <a:rPr b="1" lang="ar-SA" sz="2400" spc="-1" strike="noStrike" u="sng">
                <a:solidFill>
                  <a:srgbClr val="d60093"/>
                </a:solidFill>
                <a:uFillTx/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تعلق بتقنيات برمجة ونظم المعلومات لتناولها ومعالجتها باستخدام الحاسبات و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إدارة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usiness Information(CAB; Payroll-Accounting)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تصميم والتحليل الهندسي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ign [CAD], Engineering Analysis [CAE]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علومات التصنيع 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ufacturing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CAM; CAPP-NC Programs –CAQ –CAI –MRP -CAF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برامج اتصالات الحاسب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uter Communication [MAP, MAPI]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قواعد المعلومات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formation Data Bases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ذكاء الصناعي وأنظمة الخبرة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tificial Intelligence and expert Systems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قد ركزت الإستراتيجيات التصنيع في هذه المرحلة على ما يلي :-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تمتة المعلومات الصناعية [منتجات – عمليات – تشغيل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أتمتة المبرمجة لزيادة المرونة لتلبي الطلبات المتنوعة المنت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استخدام المكثف للأدوات الذكية والمجسات متطورة  والتقنيات المعق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تصميم القياسي لوحدات الخلايا الصناعية ومعدات التحكم لها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تحسين كفاءة الإنتاج للعمليات وتحقيق أعلى معدلات إنتاج ل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العمل على رفع مستوى جودة المنتجات بتطوير نظم الجود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 indent="-295200" algn="just" rtl="1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خفض التكاليف بجميع مكوناتها من التصميم حتى التوزيع</a:t>
            </a:r>
            <a:r>
              <a:rPr b="1" lang="ar-SA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F83-2E2B-4FFE-8DDC-147D2B2A53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71680"/>
          </a:xfrm>
          <a:prstGeom prst="rect">
            <a:avLst/>
          </a:prstGeom>
          <a:solidFill>
            <a:srgbClr val="d1fb99"/>
          </a:solidFill>
          <a:ln w="572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a- Manufacturing system :definition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نظام الإنتا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160" y="1136520"/>
            <a:ext cx="9067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is the production system which produces goods and parts assembled to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نظام لإنتاج سلع معينة والأجزاء المتممة لها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is a system composed of : 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هو مجموعة مركبة من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ardware composing the manufacturing facility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(groups of equipments and technologies),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العتاد الصناعي</a:t>
            </a:r>
            <a:r>
              <a:rPr b="1" lang="ar-SA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ftware composing manufacturing support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( group of programming tools and technologies),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برمجيات واستراتجيات وآليات العمل</a:t>
            </a:r>
            <a:r>
              <a:rPr b="1" lang="en-US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2100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oples composing manning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(group of operating and managing personals)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</a:rPr>
              <a:t>الأفراد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t is divided to two categor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A Al-Tamimi</cp:lastModifiedBy>
  <dcterms:modified xsi:type="dcterms:W3CDTF">2013-03-13T10:39:33Z</dcterms:modified>
  <cp:revision>78</cp:revision>
  <dc:subject/>
  <dc:title>عرض تقديمي من PowerPoint</dc:title>
</cp:coreProperties>
</file>