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0F2-F2A6-443D-A019-ADE21EB9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AC4-79C1-4EB9-ADDA-F4E32781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28C-6A97-48B4-97BB-CA8C246D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546-9DA3-4D7F-8C4B-12F034C5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0301-7E07-433A-99C6-54F6B861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9817-D9D4-404A-9E00-BB7361F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9901-96CF-4785-A1D6-F086DDB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644B-0473-45EE-A152-E7ACFFA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B850-D684-4F90-991B-4BF56AD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07C-427E-4466-BAE0-FA3F2D9C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E6E6-D962-4F08-BFB2-1105C9A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B38-8587-488A-B87C-3EE50B39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DDAD-128E-406E-A6E4-FD9BC99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75D7-C22B-47A8-9BD1-B1424DF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C354-62EB-4BFF-8D61-FC84FBC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97B4-A94C-45E3-A4ED-FFDA8DD7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2DAC-7F86-4D63-8B67-B2D834AD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686-EEF5-4E98-BC38-7C165C1E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6CE-90AB-4900-91B4-CFE0C435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628-9590-4FA9-8F8F-3D222E23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AAA-121D-49B3-8545-61A7A414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E77-697E-4517-9643-53C821A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6DB-A3B3-4905-9B84-2D7FD8A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DC2-E06F-4010-9B7A-95C92075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8522-8ABE-45FA-B4D3-8F49A40405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FE14-2574-4C21-B02F-EE7F580F73A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quia.com/shared/med/" TargetMode="External"/><Relationship Id="rId2" Type="http://schemas.openxmlformats.org/officeDocument/2006/relationships/hyperlink" Target="http://www.quia.com/shared/med/" TargetMode="External"/><Relationship Id="rId3" Type="http://schemas.openxmlformats.org/officeDocument/2006/relationships/hyperlink" Target="http://www.quia.com/shared/med/" TargetMode="External"/><Relationship Id="rId4" Type="http://schemas.openxmlformats.org/officeDocument/2006/relationships/hyperlink" Target="http://www.quia.com/shared/med/" TargetMode="External"/><Relationship Id="rId5" Type="http://schemas.openxmlformats.org/officeDocument/2006/relationships/hyperlink" Target="http://www.quia.com/shared/med/" TargetMode="External"/><Relationship Id="rId6" Type="http://schemas.openxmlformats.org/officeDocument/2006/relationships/hyperlink" Target="http://www.quia.com/shared/med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roduction to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edical Termin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1400040" cy="121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5791320"/>
            <a:ext cx="122868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9746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 syllable or word placed at the end of a word or 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Usually describes what is happening to the root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appendic</a:t>
            </a: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it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b8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nflammation of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 the appendix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Can be defined as a main word or represents a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Vowels are sometimes used to join together prefix, root word or suff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Vowels are not used if the letter is a part of another part of the medical te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54864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Common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a, e, i, ia, io, o,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Examples of Using Roo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Gast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Card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R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Qu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utting Med Terms Toge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Pseudoappenici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alse inflammation of the appendix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Gastroentit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– inflammation of the stom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Med Ter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index cards as flash c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us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games and using the internet gam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ed site: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quia.com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/shared/med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index cards as flash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games and using the interne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ed site: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www.quia.com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/shared/me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1219320"/>
            <a:ext cx="73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dical Termin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Med Ter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ocabulary used the world of healthcare. There are various components of </a:t>
            </a: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Med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Suf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Roo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Acronyms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bbrevi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hortened forms of words, usually just let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abbreviations may be just a letter that represents a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combined to create a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order or dire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bbreviations are symbo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-  bef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 -  af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-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 - with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ome letters have a line over the letter and some do n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905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438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971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505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tters of Abbrev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ab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bdom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b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lat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p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enever necessa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Used as a Dir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k TPR q4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Check Temperature, Pulse, and Respi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every four ho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Shorten version to give a direction, saves time and easier to wr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2286000"/>
            <a:ext cx="304920" cy="0"/>
          </a:xfrm>
          <a:prstGeom prst="line">
            <a:avLst/>
          </a:prstGeom>
          <a:ln w="255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1933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ymbols in Health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♂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 or abo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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2100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Examples of Using Symbols in Health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3 y/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♂</a:t>
            </a:r>
            <a:r>
              <a:rPr b="0" lang="en-US" sz="3200" spc="-1" strike="noStrike">
                <a:solidFill>
                  <a:srgbClr val="00b200"/>
                </a:solidFill>
                <a:latin typeface="Times New Roman"/>
                <a:ea typeface="Times New Roman"/>
              </a:rPr>
              <a:t> -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23</a:t>
            </a:r>
            <a:r>
              <a:rPr b="0" lang="en-US" sz="3200" spc="-1" strike="noStrike">
                <a:solidFill>
                  <a:srgbClr val="00b2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year old m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Hold med if BP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90/60 – hold medication if blood pressure less than 90 over 6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 syllable or word placed at the beginning of a word or 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Usually serves to define a root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hypo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tension</a:t>
            </a:r>
            <a:r>
              <a:rPr b="0" lang="en-US" sz="3200" spc="-1" strike="noStrike" u="sng">
                <a:solidFill>
                  <a:srgbClr val="ffb8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703d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Low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 press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5:08:24Z</dcterms:created>
  <dc:creator>prutherford</dc:creator>
  <dc:description/>
  <dc:language>en-US</dc:language>
  <cp:lastModifiedBy>juliane</cp:lastModifiedBy>
  <dcterms:modified xsi:type="dcterms:W3CDTF">2008-06-20T13:34:37Z</dcterms:modified>
  <cp:revision>7</cp:revision>
  <dc:subject/>
  <dc:title>Introduction to </dc:title>
</cp:coreProperties>
</file>