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BF3-9007-43BB-9254-71D568CF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886-3502-4250-BD1D-9F9448BE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7F1-F5CC-4446-ABEC-AEBC6DAF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D59-BE9E-4AEA-B7BD-B9DF33F4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D15D-C22B-4F1F-9A37-FBC44AB6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67DB-0ED4-4ACB-B6C6-1C4CD937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C36D-D595-4888-9EC6-BFF031CA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6BF-D935-4288-9B78-3388FE54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23B7-9B9C-43BC-AC5B-D7E4D80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D0E6-939F-4372-9E13-CABF8F76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9E80-88DC-4EC2-B197-76EB4210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6BC-B396-4292-A326-822E4898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BCA1-0553-4747-8DC7-D990455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B90B-F5A8-45D4-B744-A42BF7AD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9DBC-55BE-4781-99C5-01DC454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5828-E265-4C14-A8F6-711CDD02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D806-2772-4937-B862-061E53EA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A0E-1785-44DD-B042-B503FB92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0C9-FE81-4A55-9931-0D7BBCA0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FF1-B02D-42D4-9B43-11877088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E37-715A-445F-BF06-9B5B4DC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3EA-36D2-4FE0-9D24-CE340EE7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8C2-599F-4ECA-A798-5D3858FA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A48-2ED9-4EFD-955D-D13430C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DCD5-707D-4E81-AD64-33CFD68F15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1AD3-141C-4866-B000-1DC0D044B62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quia.com/shared/med/" TargetMode="External"/><Relationship Id="rId2" Type="http://schemas.openxmlformats.org/officeDocument/2006/relationships/hyperlink" Target="http://www.quia.com/shared/med/" TargetMode="External"/><Relationship Id="rId3" Type="http://schemas.openxmlformats.org/officeDocument/2006/relationships/hyperlink" Target="http://www.quia.com/shared/med/" TargetMode="External"/><Relationship Id="rId4" Type="http://schemas.openxmlformats.org/officeDocument/2006/relationships/hyperlink" Target="http://www.quia.com/shared/med/" TargetMode="External"/><Relationship Id="rId5" Type="http://schemas.openxmlformats.org/officeDocument/2006/relationships/hyperlink" Target="http://www.quia.com/shared/med/" TargetMode="External"/><Relationship Id="rId6" Type="http://schemas.openxmlformats.org/officeDocument/2006/relationships/hyperlink" Target="http://www.quia.com/shared/med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roduction to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edical Terminolo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1400040" cy="121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5791320"/>
            <a:ext cx="122868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705720" y="457200"/>
            <a:ext cx="19746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uf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 syllable or word placed at the end of a word or u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Usually describes what is happening to the root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appendic</a:t>
            </a: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it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b8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b8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inflammation of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 the appendix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Root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Can be defined as a main word or represents a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Vowels are sometimes used to join together prefix, root word or suffi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Vowels are not used if the letter is a part of another part of the medical ter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54864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Common 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a, e, i, ia, io, o,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Examples of Using Root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Gastr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Cardi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R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Qu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Putting Med Terms Toget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Pseudoappenici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alse inflammation of the appendix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Gastroentit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– inflammation of the stom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ing Med Ter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index cards as flash c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us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games and using the internet gam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ggested site: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quia.com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/shared/med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index cards as flash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games and using the interne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ggested site: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www.quia.com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/shared/me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1219320"/>
            <a:ext cx="7315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edical Termin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2400" spc="-1" strike="noStrike">
                <a:solidFill>
                  <a:srgbClr val="ffb800"/>
                </a:solidFill>
                <a:latin typeface="Comic Sans MS"/>
              </a:rPr>
              <a:t>Med Ter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ocabulary used the world of healthcare. There are various components of </a:t>
            </a:r>
            <a:r>
              <a:rPr b="1" i="1" lang="en-US" sz="2400" spc="-1" strike="noStrike">
                <a:solidFill>
                  <a:srgbClr val="ffb800"/>
                </a:solidFill>
                <a:latin typeface="Comic Sans MS"/>
              </a:rPr>
              <a:t>Med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Pre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Suf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Roo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Acronyms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Abbrevi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shortened forms of words, usually just let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abbreviations may be just a letter that represents a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combined to create a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order or direc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abbreviations are symbol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-  bef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 -  af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- wi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 - with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ome letters have a line over the letter and some do n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905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438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971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505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Letters of Abbrev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ab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bdom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bi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late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c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che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n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pr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whenever necessa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Used as a Dir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696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k TPR q4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Check Temperature, Pulse, and Respi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every four ho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Shorten version to give a direction, saves time and easier to wr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2286000"/>
            <a:ext cx="304920" cy="0"/>
          </a:xfrm>
          <a:prstGeom prst="line">
            <a:avLst/>
          </a:prstGeom>
          <a:ln w="255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1933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Symbols in Health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♂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 or abo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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han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2100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Examples of Using Symbols in Health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3 y/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♂</a:t>
            </a:r>
            <a:r>
              <a:rPr b="0" lang="en-US" sz="3200" spc="-1" strike="noStrike">
                <a:solidFill>
                  <a:srgbClr val="00b200"/>
                </a:solidFill>
                <a:latin typeface="Times New Roman"/>
                <a:ea typeface="Times New Roman"/>
              </a:rPr>
              <a:t> -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23</a:t>
            </a:r>
            <a:r>
              <a:rPr b="0" lang="en-US" sz="3200" spc="-1" strike="noStrike">
                <a:solidFill>
                  <a:srgbClr val="00b2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year old m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Hold med if BP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  <a:ea typeface="Times New Roman"/>
              </a:rPr>
              <a:t>90/60 – hold medication if blood pressure less than 90 over 6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A syllable or word placed at the beginning of a word or u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Usually serves to define a root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hypo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tension</a:t>
            </a:r>
            <a:r>
              <a:rPr b="0" lang="en-US" sz="3200" spc="-1" strike="noStrike" u="sng">
                <a:solidFill>
                  <a:srgbClr val="ffb8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703dff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Low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 press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5:08:24Z</dcterms:created>
  <dc:creator>prutherford</dc:creator>
  <dc:description/>
  <dc:language>en-US</dc:language>
  <cp:lastModifiedBy>juliane</cp:lastModifiedBy>
  <dcterms:modified xsi:type="dcterms:W3CDTF">2008-06-20T13:34:37Z</dcterms:modified>
  <cp:revision>7</cp:revision>
  <dc:subject/>
  <dc:title>Introduction to </dc:title>
</cp:coreProperties>
</file>