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457200" y="3322440"/>
            <a:ext cx="586728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3728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14720" y="160020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6020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3728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14720" y="3964320"/>
            <a:ext cx="2263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80840" y="228600"/>
            <a:ext cx="73105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563440" y="396432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020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3440" y="1600200"/>
            <a:ext cx="34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0200" y="3964320"/>
            <a:ext cx="7031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rcRect l="0" t="0" r="46677" b="0"/>
          <a:stretch/>
        </p:blipFill>
        <p:spPr>
          <a:xfrm>
            <a:off x="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40" name="Text Box 5"/>
          <p:cNvSpPr/>
          <p:nvPr/>
        </p:nvSpPr>
        <p:spPr>
          <a:xfrm>
            <a:off x="8258040" y="650700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F38C35D6-FB8E-4253-A367-4707F6A38022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1681200" y="6504120"/>
            <a:ext cx="57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Graw-Hill/Irwin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©2009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3"/>
          <a:srcRect l="46677" t="0" r="0" b="0"/>
          <a:stretch/>
        </p:blipFill>
        <p:spPr>
          <a:xfrm>
            <a:off x="7467480" y="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80840" y="228600"/>
            <a:ext cx="7310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60200" y="1600200"/>
            <a:ext cx="70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905120" y="1676520"/>
            <a:ext cx="70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rcRect l="46677" t="0" r="0" b="0"/>
          <a:stretch/>
        </p:blipFill>
        <p:spPr>
          <a:xfrm>
            <a:off x="7462800" y="-9360"/>
            <a:ext cx="168120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7936200" y="6611760"/>
            <a:ext cx="96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Book Antiqua"/>
              </a:rPr>
              <a:t>Tata McGr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2"/>
          <a:srcRect l="0" t="19193" r="0" b="22426"/>
          <a:stretch/>
        </p:blipFill>
        <p:spPr>
          <a:xfrm>
            <a:off x="1981080" y="1316160"/>
            <a:ext cx="5562720" cy="400356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7" descr=""/>
          <p:cNvPicPr/>
          <p:nvPr/>
        </p:nvPicPr>
        <p:blipFill>
          <a:blip r:embed="rId3"/>
          <a:stretch/>
        </p:blipFill>
        <p:spPr>
          <a:xfrm>
            <a:off x="-73080" y="0"/>
            <a:ext cx="168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848720" cy="21844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1432080" y="950760"/>
            <a:ext cx="74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oods-Services Continu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5CEAD09C-09B4-448E-A946-E8A535240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6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Development of 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8288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T and TQ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 Strategy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 Quality and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Quality Management and Quality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244A567A-3F0C-412F-87D2-C1B62184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001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Development of OM (cont’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52120" y="1676520"/>
            <a:ext cx="8077320" cy="412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Process Re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-Sigma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onic 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6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A36C643A-00CE-45A2-85EE-2D425DEE3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ssues in 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rdinate the relationships between mutually supportive but separate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mizing global supplier, production, and distribution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d co-production of good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8D744C06-749E-41EE-9670-653A7B88F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6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ssues in OM (cont’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74674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aging the customers experience during the service encou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2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sing the awareness of operations as a significant competitive weap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68F87B3-576B-4FF7-9569-910ED092E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1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 of Chapter 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EC11E4E7-EAA7-40C4-9195-8275D7AEE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685800" y="2362320"/>
            <a:ext cx="7848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1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th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362320" y="1294920"/>
            <a:ext cx="6456240" cy="34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Operations and Supply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Study Operations Manage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formation Processes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ces between Services and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mportance of Operation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storical Development of 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ssues in 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1447920" y="6858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3FAAE14E-C430-4462-8D9B-BCAEDDB69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Operations and Supply Management?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057400" y="1600200"/>
            <a:ext cx="6262560" cy="33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e1d1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Operations and Supply Management (OM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defined as the design, operation, and improvement of the system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create and deliver the firm’s primary products and 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71717A02-40C3-4566-9459-F25FECD69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19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Study Operations Management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838080" y="3225960"/>
            <a:ext cx="2384640" cy="925200"/>
          </a:xfrm>
          <a:prstGeom prst="roundRect">
            <a:avLst>
              <a:gd name="adj" fmla="val 12449"/>
            </a:avLst>
          </a:prstGeom>
          <a:solidFill>
            <a:srgbClr val="f4ff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910080" y="3478320"/>
            <a:ext cx="211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3467160" y="1447920"/>
            <a:ext cx="2504880" cy="968400"/>
          </a:xfrm>
          <a:prstGeom prst="roundRect">
            <a:avLst>
              <a:gd name="adj" fmla="val 12449"/>
            </a:avLst>
          </a:prstGeom>
          <a:solidFill>
            <a:srgbClr val="f4ff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3429360" y="1676520"/>
            <a:ext cx="2574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atic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Org.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3773520" y="1905120"/>
            <a:ext cx="181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7"/>
          <p:cNvSpPr/>
          <p:nvPr/>
        </p:nvSpPr>
        <p:spPr>
          <a:xfrm>
            <a:off x="6054840" y="3225960"/>
            <a:ext cx="2297160" cy="944280"/>
          </a:xfrm>
          <a:prstGeom prst="roundRect">
            <a:avLst>
              <a:gd name="adj" fmla="val 12449"/>
            </a:avLst>
          </a:prstGeom>
          <a:solidFill>
            <a:srgbClr val="f4ff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122880" y="3529080"/>
            <a:ext cx="220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er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311640" y="5495760"/>
            <a:ext cx="269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1"/>
          <p:cNvSpPr/>
          <p:nvPr/>
        </p:nvSpPr>
        <p:spPr>
          <a:xfrm>
            <a:off x="3405240" y="5168880"/>
            <a:ext cx="2355840" cy="944640"/>
          </a:xfrm>
          <a:prstGeom prst="roundRect">
            <a:avLst>
              <a:gd name="adj" fmla="val 12449"/>
            </a:avLst>
          </a:prstGeom>
          <a:solidFill>
            <a:srgbClr val="f4ff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3618360" y="5303880"/>
            <a:ext cx="21261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ss-Func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3997440" y="5549760"/>
            <a:ext cx="180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600360" y="2773440"/>
            <a:ext cx="2063880" cy="1982880"/>
          </a:xfrm>
          <a:prstGeom prst="ellipse">
            <a:avLst/>
          </a:prstGeom>
          <a:solidFill>
            <a:srgbClr val="93fa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810240" y="3429000"/>
            <a:ext cx="158796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3657240" y="3733920"/>
            <a:ext cx="18104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3195720" y="3754440"/>
            <a:ext cx="426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4687560" y="2462040"/>
            <a:ext cx="11160" cy="3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5676840" y="376380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4633920" y="476892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9EBD4ED5-CF2C-4088-A25E-3E9680A2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 Transformation Process?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2049120"/>
            <a:ext cx="68580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transformation proc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defined as a user of resources to transform inputs into some desired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EE5A311E-ADE8-46FF-AF34-0DBCBED15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62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9840" y="1294920"/>
            <a:ext cx="845820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--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tional--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hange--reta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age--ware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ological--health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al--tele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92C0501A-EE21-4E72-974C-B85248625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752480" y="762120"/>
            <a:ext cx="546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 and Suppl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y Chai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80880" y="28195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505320" y="23623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505320" y="39625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705720" y="28195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2286000" y="33526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212200" y="3429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5562720" y="3352680"/>
            <a:ext cx="9144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488920" y="3429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CCD0D419-B27F-42FA-9952-03DE6D93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391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 Service and What is a Goo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5640" y="1904760"/>
            <a:ext cx="6072120" cy="274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spcAft>
                <a:spcPts val="8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 drop it on your foot, it won’t hurt you.” (Good or servic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spcAft>
                <a:spcPts val="105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s never include goods and goods never include services.”  (True or false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8334360" y="0"/>
            <a:ext cx="80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</a:t>
            </a:r>
            <a:fld id="{2C97D3CE-A611-44B4-BB9C-35557F8BD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1c0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01T23:09:06Z</dcterms:created>
  <dc:creator>admin</dc:creator>
  <dc:description/>
  <dc:language>en-US</dc:language>
  <cp:lastModifiedBy>KSU S155-S9</cp:lastModifiedBy>
  <dcterms:modified xsi:type="dcterms:W3CDTF">2015-09-02T08:04:18Z</dcterms:modified>
  <cp:revision>73</cp:revision>
  <dc:subject/>
  <dc:title>Production  and Operations Management: Manufacturing and  Services</dc:title>
</cp:coreProperties>
</file>