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40" name="Text Box 5"/>
          <p:cNvSpPr/>
          <p:nvPr/>
        </p:nvSpPr>
        <p:spPr>
          <a:xfrm>
            <a:off x="8258040" y="650700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17B1ECF3-ADC8-472C-81D2-32470029E4A5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1681200" y="6504120"/>
            <a:ext cx="57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Graw-Hill/Irwi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©2009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3"/>
          <a:srcRect l="46677" t="0" r="0" b="0"/>
          <a:stretch/>
        </p:blipFill>
        <p:spPr>
          <a:xfrm>
            <a:off x="746748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905120" y="1676520"/>
            <a:ext cx="70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rcRect l="46677" t="0" r="0" b="0"/>
          <a:stretch/>
        </p:blipFill>
        <p:spPr>
          <a:xfrm>
            <a:off x="7462800" y="-936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7936200" y="6611760"/>
            <a:ext cx="9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Tata McGr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2"/>
          <a:srcRect l="0" t="19193" r="0" b="22426"/>
          <a:stretch/>
        </p:blipFill>
        <p:spPr>
          <a:xfrm>
            <a:off x="1981080" y="1316160"/>
            <a:ext cx="5562720" cy="400356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7" descr=""/>
          <p:cNvPicPr/>
          <p:nvPr/>
        </p:nvPicPr>
        <p:blipFill>
          <a:blip r:embed="rId3"/>
          <a:stretch/>
        </p:blipFill>
        <p:spPr>
          <a:xfrm>
            <a:off x="-73080" y="0"/>
            <a:ext cx="168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848720" cy="2184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1432080" y="950760"/>
            <a:ext cx="74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oods-Services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A7A2BE80-B3DC-4482-AF2D-C717B2E9D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Development of 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T and T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 Strategy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Quality and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Quality Management and Quality 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08EE58FD-EB34-4F34-8A51-32183DF7D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Development of OM (cont’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807732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Process Re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-Sigma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9823D41B-5CAC-415C-B527-A3B109C55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ssues in 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rdinate the relationships between mutually supportive but separate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ing global supplier, production, and distribution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d co-production of good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617B73D8-3E66-4B28-955B-EB61100F6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ssues in OM (cont’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ing the customers experience during the service encou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ing the awareness of operations as a significant competitive wea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90C518DA-E461-4294-9FA6-800662ED0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2" dur="1" fill="hold"/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 of Chapter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70C8728F-CCB0-479E-ACC3-5C2F9F8E4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685800" y="2362320"/>
            <a:ext cx="7848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th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362320" y="1294920"/>
            <a:ext cx="6456240" cy="34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Operations and Supply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Study Operations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ormation Processe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s between Services and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mportance of Operation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ical Development of 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ssues in 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447920" y="685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141A786C-71FF-4E33-8EDA-7FB6B8836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Operations and Supply Management?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1600200"/>
            <a:ext cx="626256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e1d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Operations and Supply Management (OM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defined as the design, operation, and improvement of the system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create and deliver the firm’s primary products and 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561FBB3C-176F-4B6A-933B-B724D8194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Study Operations Management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838080" y="3225960"/>
            <a:ext cx="2384640" cy="925200"/>
          </a:xfrm>
          <a:prstGeom prst="roundRect">
            <a:avLst>
              <a:gd name="adj" fmla="val 12449"/>
            </a:avLst>
          </a:prstGeom>
          <a:solidFill>
            <a:srgbClr val="f4ff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910080" y="3478320"/>
            <a:ext cx="211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3467160" y="1447920"/>
            <a:ext cx="2504880" cy="968400"/>
          </a:xfrm>
          <a:prstGeom prst="roundRect">
            <a:avLst>
              <a:gd name="adj" fmla="val 12449"/>
            </a:avLst>
          </a:prstGeom>
          <a:solidFill>
            <a:srgbClr val="f4ff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3429360" y="1676520"/>
            <a:ext cx="257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atic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Org.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3773520" y="1905120"/>
            <a:ext cx="181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6054840" y="3225960"/>
            <a:ext cx="2297160" cy="944280"/>
          </a:xfrm>
          <a:prstGeom prst="roundRect">
            <a:avLst>
              <a:gd name="adj" fmla="val 12449"/>
            </a:avLst>
          </a:prstGeom>
          <a:solidFill>
            <a:srgbClr val="f4ff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122880" y="3529080"/>
            <a:ext cx="220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311640" y="5495760"/>
            <a:ext cx="269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3405240" y="5168880"/>
            <a:ext cx="2355840" cy="944640"/>
          </a:xfrm>
          <a:prstGeom prst="roundRect">
            <a:avLst>
              <a:gd name="adj" fmla="val 12449"/>
            </a:avLst>
          </a:prstGeom>
          <a:solidFill>
            <a:srgbClr val="f4ff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618360" y="5303880"/>
            <a:ext cx="2126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-Func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3997440" y="5549760"/>
            <a:ext cx="18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600360" y="2773440"/>
            <a:ext cx="2063880" cy="1982880"/>
          </a:xfrm>
          <a:prstGeom prst="ellipse">
            <a:avLst/>
          </a:prstGeom>
          <a:solidFill>
            <a:srgbClr val="93fa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810240" y="3429000"/>
            <a:ext cx="1587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657240" y="3733920"/>
            <a:ext cx="18104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195720" y="3754440"/>
            <a:ext cx="426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4687560" y="2462040"/>
            <a:ext cx="11160" cy="3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5676840" y="376380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4633920" y="476892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23750E54-5229-444C-AB3C-A22E9B4F9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 Transformation Process?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2049120"/>
            <a:ext cx="68580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transformation proc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defined as a user of resources to transform inputs into some desired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2D6E0791-D7BA-47D8-9FB1-9FB58004A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62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294920"/>
            <a:ext cx="84582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--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onal--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hange--ret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age--ware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ological--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al--tele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06B91BCE-6274-4ED3-85C3-EDE7068D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752480" y="762120"/>
            <a:ext cx="54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and Suppl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Chai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28195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505320" y="23623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505320" y="39625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705720" y="28195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2286000" y="33526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212200" y="3429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5562720" y="33526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488920" y="3429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997CE8B6-7944-48ED-9D00-3CA3EE05C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91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 Service and What is a Goo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5640" y="1904760"/>
            <a:ext cx="6072120" cy="274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spcAft>
                <a:spcPts val="8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drop it on your foot, it won’t hurt you.” (Good or servic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spcAft>
                <a:spcPts val="10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s never include goods and goods never include services.”  (True or fals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6B45A5BE-DA2F-4B70-9FB7-FB56E6A90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1T23:09:06Z</dcterms:created>
  <dc:creator>admin</dc:creator>
  <dc:description/>
  <dc:language>en-US</dc:language>
  <cp:lastModifiedBy>KSU S155-S9</cp:lastModifiedBy>
  <dcterms:modified xsi:type="dcterms:W3CDTF">2015-09-02T08:04:18Z</dcterms:modified>
  <cp:revision>73</cp:revision>
  <dc:subject/>
  <dc:title>Production  and Operations Management: Manufacturing and  Services</dc:title>
</cp:coreProperties>
</file>