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E34B-87A1-42EB-8F86-9E05B58AB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CB54-17B4-415C-BDED-F3A7227D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484F1-DD03-45D2-BE8D-50ADFACF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8D215-55BB-4C45-8E22-6ABDF25B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06EB6-5B94-488A-BE9E-816FDDEF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BBB7B-4E9C-46C2-A92E-3E7E6A17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7751F-3981-45B5-9094-7765C65A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E7A9FE-D383-449C-AAD6-AA90DEBC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C4A109-1DB2-42AD-BBB8-95F65009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214711-834D-4D4F-B430-3FAF0B5D7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11C046-7DEF-4F80-9A71-C5B8CD7EA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A02A-7A52-40A8-B048-9E3D7BD6E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C730-203C-4997-B568-4AA161923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6D64-A207-41C2-9D24-78EA14EF7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B957-1A41-4256-90B1-260384CE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6788-5648-47CE-BBC5-DD9EE4CD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2B28-4639-4866-BE72-E7465A1D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EE04-9C37-4B1D-9235-3D6CF928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E862-CE7F-4A26-8FBC-4E58DDCD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06CB-43F9-419D-B725-F11F3AB5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3067-7152-4419-B2C7-E6747D6D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BB31-5B8D-4BB4-B231-F3A6A521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2E90-8253-452A-A2E9-C0D9C564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3EC7-4380-4D5F-B62E-9E7A3314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ADC2-E9BB-4949-B4D4-030268C83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296A-1DA2-4AAF-AE18-7747B6926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655BD-9083-4B55-815E-68242450F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288B0-6E03-4117-9FBB-9AD4EB83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6750A-1A3B-4A1D-B795-EE45648B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D25D2-F1FF-4232-BC5F-65004EBC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5D06A-899C-4B69-9F1B-46632FE9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C894-4914-4C95-B681-E4D1A5E8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46A90-696F-495C-BBBF-64A7296D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4D4C2-70C5-41F0-9D9C-1439575E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0780D-1DCD-465D-B7CD-539AB309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1CFDC-D3D4-4143-B7C9-C7A64B47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75E52-D8DD-4E07-ACC5-2BDB09F3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C6E18-6C03-477B-B572-8451EDF52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89807-A1A6-481C-BB65-DC70991D4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25972-09BB-483F-877B-79FAA7470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4CC05-6BDD-4083-BF3A-66ABE5DB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CEA1C-7D2F-4DE7-9626-C780E203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821B-848F-4F1A-8CE5-394498B6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053BB-ABEE-462B-9403-BBBCD935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8A2C7-97EC-4B5F-A42A-296F1B16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CC760-52F8-432A-90AD-4912E29F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00CA6-E707-40B1-BF02-DB2041AD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0C314-F68A-4C30-8D45-72460387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9B6C3-0511-40AE-AB90-D120B671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A043A-5121-428A-AC1C-AA0B7D44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B4358-B4FB-4B5D-8C6B-F9425609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511FD-3918-40BF-AE73-99043B75D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FE2A3-E58F-40F3-BE1F-82EAFA5B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EA97-0B15-4E6B-A830-196BB8B8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37C29-2D73-4235-A322-CEE522ED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93392-5D22-4573-A1EF-01207D87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D12F8-5B79-440E-92BC-202542DE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48096-A76B-4F1C-A2B6-221002F9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7FC37-2142-481E-8D34-F82ED3BC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30F08-349E-4253-B7CB-2442394C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0C699-B15E-4248-A123-76D56040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ED9FE-6A23-44E7-BA2D-CC6C9AEA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CEFA6-68E3-4E10-8EE8-0C3E476B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96D02-C190-46ED-9240-7D1AA36FC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F4FC-8B60-4D4C-8A93-88AE7A2B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0589D-5B0A-4DA4-8846-1D446CF0D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F62650-B5E7-49F6-B8A4-3DDA44F92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B42DE9-34C5-4AF5-9316-81E097DB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1D9A87-E20D-4EDA-8FC7-DD313F8F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F80C79-4B83-428B-9CF4-5B49A4C7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8FEE70-A9F1-4775-8D5C-672EF831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3BF54F-A195-4269-9493-87485578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40D7B6-D7C9-4BFE-B3ED-2A7BA208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DE0D5D-4282-41BA-ADA4-EA9276CB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0D98ED-02B8-4A61-ACC6-9371FAE3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071C-686C-4D04-AC0E-2A7DA7EC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C719CB-1D9C-4AAB-8EF4-4338EDA5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5C33CC-82FA-4A48-80DE-A08E0606E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8377A0-561B-4211-A75C-E1F1B9906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26885-D959-4680-81C4-B9758F58E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5221F-B168-45C5-827B-CBC5E7BC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54621-702A-4A90-9A41-4FAE2986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A0F51-FCBB-4225-8808-865569D3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332B5-152D-4F10-950F-5B88A749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99058-6B8F-4EFD-9D51-060FF5B2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6F225-65FB-47AE-8C22-BEA2C777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585A-E297-4937-B8EE-205B1836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2F0C6-3AC7-4D50-9430-B0F923D3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55227-8B9B-458F-989B-0187EB19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0085C-B1C4-49F8-BD43-BB02A916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0257F-A567-45AE-80A9-140E9E8F5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51770-E1CF-4469-A5E8-75E744D77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7C2B58-6518-44AF-B529-981A5F2BC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C1798F-2279-4457-B717-C51C75FB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E8B24B-67AB-495E-9BA8-CAD80F28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E937EC-C47D-4A0F-B60B-DF1329C0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A2D14B-73EB-4CDE-A638-C667AAAD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125A-C115-4E5B-8D3B-B748FBFE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EB635F-3B9D-4A55-84F6-11A93DF9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26CF9A-D5FA-4C86-B2A4-D01735BC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25891E-EC10-4692-A3C2-DE022FAE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9936E0-B1F8-4757-82E6-6112EA97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82C7DE-E767-40F2-BEFE-C1275AF4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F4A7DD-08E0-4B9B-A8D4-DFB3F6075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C254D6-EA21-406E-AE71-658B35997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6EA48-55C3-484A-B77B-2E82DAF7A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E9A27-C994-4AF5-BAD1-4BF6891F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D027A-DCE9-4DD2-A957-0ABA6F08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0C2B-9492-4D0E-A8A9-328B9607ECDD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43000" y="6408720"/>
            <a:ext cx="558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E-442 Human Factors 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l-Sherbeeny, PhD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1E69-4E0D-4CAA-BAD7-387EA7F37E4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KSU-Logo"/>
          <p:cNvPicPr/>
          <p:nvPr/>
        </p:nvPicPr>
        <p:blipFill>
          <a:blip r:embed="rId2"/>
          <a:stretch/>
        </p:blipFill>
        <p:spPr>
          <a:xfrm>
            <a:off x="76320" y="580068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3B8D-C7EA-44CB-A708-51FD1F8AD74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8F7E-BC19-4CF8-92DB-BE70606794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ight Triangle 6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8472-8B6F-4814-A690-2313E43F3149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80880" y="6416640"/>
            <a:ext cx="6019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086D-E5B7-48FC-B2B0-84522BD5192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reeform 6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7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8" name="Right Triangle 9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Straight Connector 10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31" name="Chevron 11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hevron 12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856D-81E1-4FD4-864A-ABAAE1BB267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7469-80B4-46BF-A2F0-1B7F9B6045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6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77" name="Right Triangle 9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Straight Connector 10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9DE1-8FCC-4369-8B99-EDFC5D2C3E4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FCDB-9C09-412A-AA10-6CD1066FB9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79AF-E8A6-4312-B565-12005B8D0836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56AA-733D-4255-84D6-FBD31BBA33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8"/>
          </p:nvPr>
        </p:nvSpPr>
        <p:spPr>
          <a:xfrm>
            <a:off x="456840" y="6408720"/>
            <a:ext cx="627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E-442 Human Factors 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l-Sherbeeny, PhD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reeform 6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7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65" name="Right Triangle 9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Straight Connector 10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1C3F-3203-4341-A496-54292A25272B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E9CC-8AFF-4E43-A059-6BBCDBC748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B6C3-EC4F-49C4-A8EB-606B6DC9AAD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2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8C00-C111-4563-9DFA-002BAAFD9F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24"/>
          </p:nvPr>
        </p:nvSpPr>
        <p:spPr>
          <a:xfrm>
            <a:off x="456840" y="6408720"/>
            <a:ext cx="627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E-442 Human Factors 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l-Sherbeeny, PhD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reeform 6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53" name="Right Triangle 9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5" name="Straight Connector 10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56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1D5D-C935-4D0A-92BB-948FB3927DA1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E025-EFF0-4FFD-8F65-D5CAAFB24FF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7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Rectangle 10" descr=""/>
          <p:cNvPicPr/>
          <p:nvPr/>
        </p:nvPicPr>
        <p:blipFill>
          <a:blip r:embed="rId1"/>
          <a:stretch/>
        </p:blipFill>
        <p:spPr>
          <a:xfrm>
            <a:off x="609480" y="536400"/>
            <a:ext cx="8309160" cy="388332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hapter 1. Introdu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Prepared by: Ahmed M. El-Sherbeeny, PhD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0122-CA84-4FDB-A94D-7BA1C0D0CA9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Rectangle 3" descr=""/>
          <p:cNvPicPr/>
          <p:nvPr/>
        </p:nvPicPr>
        <p:blipFill>
          <a:blip r:embed="rId1"/>
          <a:stretch/>
        </p:blipFill>
        <p:spPr>
          <a:xfrm>
            <a:off x="384120" y="3049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ystems are purposiv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ystems have 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≥ 1 objectiv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ystems can be hierarchica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ystems may have subsystem levels (1, 2, etc.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ystems operate in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nvironment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(i.e. inside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boundary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mmediate (e.g. chair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ntermediate (e.g. office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General (e.g. city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omponent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serve function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ensing (i.e. receiving information; e.g. speedometer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nformation storage (i.e. memory; e.g. disk, CD, flash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nformation processing and decisio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ction functions (output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hysical control (i.e. movement, handling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ommunication action (e.g. signal, voice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ee Figure 1-2, pp. 17 (Sanders and McCormick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933F-3D61-4E23-85B7-DCBA9346120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Rectangle 3" descr=""/>
          <p:cNvPicPr/>
          <p:nvPr/>
        </p:nvPicPr>
        <p:blipFill>
          <a:blip r:embed="rId1"/>
          <a:stretch/>
        </p:blipFill>
        <p:spPr>
          <a:xfrm>
            <a:off x="384120" y="3049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5DA9-0D20-4C54-B897-BF53D46770D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5"/>
          <p:cNvGrpSpPr/>
          <p:nvPr/>
        </p:nvGrpSpPr>
        <p:grpSpPr>
          <a:xfrm>
            <a:off x="0" y="2209680"/>
            <a:ext cx="9144000" cy="2438640"/>
            <a:chOff x="0" y="2209680"/>
            <a:chExt cx="9144000" cy="2438640"/>
          </a:xfrm>
        </p:grpSpPr>
        <p:sp>
          <p:nvSpPr>
            <p:cNvPr id="447" name="Rectangle 6"/>
            <p:cNvSpPr/>
            <p:nvPr/>
          </p:nvSpPr>
          <p:spPr>
            <a:xfrm>
              <a:off x="1576440" y="3303000"/>
              <a:ext cx="1497600" cy="1345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 Unicode"/>
                </a:rPr>
                <a:t>Sens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 Unicode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Sans Unicode"/>
                </a:rPr>
                <a:t>information receiving</a:t>
              </a:r>
              <a:r>
                <a:rPr b="0" lang="en-US" sz="1800" spc="-1" strike="noStrike">
                  <a:solidFill>
                    <a:srgbClr val="000000"/>
                  </a:solidFill>
                  <a:latin typeface="Lucida Sans Unicode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7"/>
            <p:cNvSpPr/>
            <p:nvPr/>
          </p:nvSpPr>
          <p:spPr>
            <a:xfrm>
              <a:off x="3310560" y="3303000"/>
              <a:ext cx="1970640" cy="1345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Lucida Sans Unicode"/>
                </a:rPr>
                <a:t>Information processing and decision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8"/>
            <p:cNvSpPr/>
            <p:nvPr/>
          </p:nvSpPr>
          <p:spPr>
            <a:xfrm>
              <a:off x="5518080" y="3303000"/>
              <a:ext cx="2049480" cy="1345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 Unicode"/>
                </a:rPr>
                <a:t>Action Fun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Unicode"/>
                </a:rPr>
                <a:t>(physical control or communic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Lucida Sans Unicode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9"/>
            <p:cNvSpPr/>
            <p:nvPr/>
          </p:nvSpPr>
          <p:spPr>
            <a:xfrm>
              <a:off x="2443680" y="2209680"/>
              <a:ext cx="4020120" cy="504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 Unicode"/>
                </a:rPr>
                <a:t>Information Storag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0"/>
            <p:cNvSpPr/>
            <p:nvPr/>
          </p:nvSpPr>
          <p:spPr>
            <a:xfrm>
              <a:off x="0" y="3303000"/>
              <a:ext cx="1339920" cy="134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 Unicode"/>
                </a:rPr>
                <a:t>Info in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1"/>
            <p:cNvSpPr/>
            <p:nvPr/>
          </p:nvSpPr>
          <p:spPr>
            <a:xfrm>
              <a:off x="7804080" y="3303000"/>
              <a:ext cx="1339920" cy="134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 Unicode"/>
                </a:rPr>
                <a:t>Info out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3" name="Straight Arrow Connector 12"/>
            <p:cNvCxnSpPr/>
            <p:nvPr/>
          </p:nvCxnSpPr>
          <p:spPr>
            <a:xfrm>
              <a:off x="7567560" y="3975480"/>
              <a:ext cx="2368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4" name="Straight Arrow Connector 13"/>
            <p:cNvCxnSpPr/>
            <p:nvPr/>
          </p:nvCxnSpPr>
          <p:spPr>
            <a:xfrm>
              <a:off x="5281560" y="3975480"/>
              <a:ext cx="2368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5" name="Straight Arrow Connector 14"/>
            <p:cNvCxnSpPr/>
            <p:nvPr/>
          </p:nvCxnSpPr>
          <p:spPr>
            <a:xfrm>
              <a:off x="3074040" y="3975480"/>
              <a:ext cx="2368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6" name="Straight Arrow Connector 15"/>
            <p:cNvCxnSpPr/>
            <p:nvPr/>
          </p:nvCxnSpPr>
          <p:spPr>
            <a:xfrm>
              <a:off x="1339920" y="3975480"/>
              <a:ext cx="2368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7" name="Straight Arrow Connector 16"/>
            <p:cNvCxnSpPr>
              <a:endCxn id="449" idx="0"/>
            </p:cNvCxnSpPr>
            <p:nvPr/>
          </p:nvCxnSpPr>
          <p:spPr>
            <a:xfrm>
              <a:off x="5833440" y="2713680"/>
              <a:ext cx="709920" cy="589320"/>
            </a:xfrm>
            <a:prstGeom prst="straightConnector1">
              <a:avLst/>
            </a:prstGeom>
            <a:ln w="25560">
              <a:solidFill>
                <a:srgbClr val="000000"/>
              </a:solidFill>
              <a:prstDash val="dash"/>
              <a:miter/>
              <a:headEnd len="lg" type="stealth" w="sm"/>
              <a:tailEnd len="lg" type="stealth" w="sm"/>
            </a:ln>
          </p:spPr>
        </p:cxnSp>
        <p:cxnSp>
          <p:nvCxnSpPr>
            <p:cNvPr id="458" name="Straight Arrow Connector 17"/>
            <p:cNvCxnSpPr>
              <a:endCxn id="447" idx="0"/>
            </p:cNvCxnSpPr>
            <p:nvPr/>
          </p:nvCxnSpPr>
          <p:spPr>
            <a:xfrm flipH="1">
              <a:off x="2324880" y="2713680"/>
              <a:ext cx="867600" cy="589320"/>
            </a:xfrm>
            <a:prstGeom prst="straightConnector1">
              <a:avLst/>
            </a:prstGeom>
            <a:ln w="25560">
              <a:solidFill>
                <a:srgbClr val="000000"/>
              </a:solidFill>
              <a:prstDash val="dash"/>
              <a:miter/>
              <a:headEnd len="lg" type="stealth" w="sm"/>
              <a:tailEnd len="lg" type="stealth" w="sm"/>
            </a:ln>
          </p:spPr>
        </p:cxnSp>
        <p:cxnSp>
          <p:nvCxnSpPr>
            <p:cNvPr id="459" name="Straight Arrow Connector 18"/>
            <p:cNvCxnSpPr>
              <a:endCxn id="448" idx="0"/>
            </p:cNvCxnSpPr>
            <p:nvPr/>
          </p:nvCxnSpPr>
          <p:spPr>
            <a:xfrm>
              <a:off x="4295880" y="2713680"/>
              <a:ext cx="1080" cy="589320"/>
            </a:xfrm>
            <a:prstGeom prst="straightConnector1">
              <a:avLst/>
            </a:prstGeom>
            <a:ln w="25560">
              <a:solidFill>
                <a:srgbClr val="000000"/>
              </a:solidFill>
              <a:prstDash val="dash"/>
              <a:miter/>
              <a:headEnd len="lg" type="stealth" w="sm"/>
              <a:tailEnd len="lg" type="stealth" w="sm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omponents interac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omponents work together to achieve a goa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omponents are at lowest level of analysi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ystems, subsystems, components have I/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: input(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O: output(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O’s of 1 system: can be I’s to another syste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’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hysical (materials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Mechanical forc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nformatio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E1B6-6D0A-401C-8F73-8B65E087E48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losed-loop system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Require continuous contro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Require continuous feedback (e.g. errors, updates, etc.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.g. car operatio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Open-loop system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Need no further control (e.g. car cruise-control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Feedback causes improved system operatio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2280-A12A-4C61-8C16-16A0AC8C2A9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Rectangle 3" descr=""/>
          <p:cNvPicPr/>
          <p:nvPr/>
        </p:nvPicPr>
        <p:blipFill>
          <a:blip r:embed="rId1"/>
          <a:stretch/>
        </p:blipFill>
        <p:spPr>
          <a:xfrm>
            <a:off x="384120" y="3049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f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“probability of successful operation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asure #1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uccess rati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.g. ATM gives correct cash: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9999 times out of 10,000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⇒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l. = 0.9999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Usually expressed to 4 d.p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asure # 2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ean time to failure (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MTF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.e. # of times system/human performs successfully (before failure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Used in continuous activit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0785-B090-4F88-A03A-BC3184AD6A4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Rectangle 3" descr=""/>
          <p:cNvPicPr/>
          <p:nvPr/>
        </p:nvPicPr>
        <p:blipFill>
          <a:blip r:embed="rId1"/>
          <a:stretch/>
        </p:blipFill>
        <p:spPr>
          <a:xfrm>
            <a:off x="384120" y="3049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uccessful operation of system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⇒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uccessful operation of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ALL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components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(i.e. machines, humans, etc.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ndition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Failure of 1 component 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⇒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failure of complete system!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Failures occur independently of each other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l. of system = Product of Rel. of all componen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.g. System has 100 componen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omponents all connected in seri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Rel. of each component = 99%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⇒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Rel. of system = 0.365 (why?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i.e. system will only work successfully: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365 out of 1,000 times!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onclusions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more components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⇒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less Rel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Max.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system Rel. = Rel. of least reliable componen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least Rel. component is usually human component (weakest link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In reality, system Rel.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≪ least Rel. componen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C1F7-83D6-48B0-AB67-534B1DC2421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Rectangle 3" descr=""/>
          <p:cNvPicPr/>
          <p:nvPr/>
        </p:nvPicPr>
        <p:blipFill>
          <a:blip r:embed="rId1"/>
          <a:stretch/>
        </p:blipFill>
        <p:spPr>
          <a:xfrm>
            <a:off x="384120" y="3049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≥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2 components perform same func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KA: backup redundancy (in case of failure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ystem failur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⇒ failure of ALL compon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.g. System has 4 compon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omponents connected in //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Rel. of each = 0.7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⇒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ystem Rel. =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1 – (1-Rel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Lucida Sans Unicode"/>
                <a:ea typeface="Lucida Sans Unicode"/>
              </a:rPr>
              <a:t>c1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)(1-Rel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Lucida Sans Unicode"/>
                <a:ea typeface="Lucida Sans Unicode"/>
              </a:rPr>
              <a:t>c2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)(1-Rel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Lucida Sans Unicode"/>
                <a:ea typeface="Lucida Sans Unicode"/>
              </a:rPr>
              <a:t>c3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)(1-Rel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Lucida Sans Unicode"/>
                <a:ea typeface="Lucida Sans Unicode"/>
              </a:rPr>
              <a:t>c4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) = 0.992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onclusion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more components in // ⇒ higher Rel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Note, Rel. ↓ with time (e.g. 10-year old car vs. new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F132-F3DB-45F4-8B93-BF43A01EE2C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ccessful design entails what ma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eed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ants (desire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an us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uman factors investigated by designer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nthropometry (Human physical size, limitation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hysiology: human body,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Reactions (hearing, seeing, touching, etc.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Funct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Limitat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apabiliti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rgonomics (“doing” vs. anthropometry: “being”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dynamic interaction of operator and machin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sychology: influence of mental condition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thers: social, climate, religion, etc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82AD-B183-4178-BFA8-81CDB980F35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bjectives of Human Factors (HF)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crease work efficienc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Increase effectiveness of work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Increase convenience and ease of use of machine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Increase productivity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Decrease error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tudy influence of design on peopl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hange designs to suit human needs, limita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crease human value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Increase safety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Increase comfort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Increase job satisfactio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Decrease fatigue and stres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Increase quality of lif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22E5-D949-4B50-941F-D8D59808C7A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finition 1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ystematic application of information about human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apabilities, limitations, and characteristic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   to the design of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objects and procedures that people use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,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and the environment in which they use them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finition 2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F discovers and applies information about human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Behavior, abilities, limitations, other characteristic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   to the design of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ools, machines, systems, jobs, tasks, environments for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roductive, safe, comfortable, effective human us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8CF4-CCCA-46D4-B652-3CECF092D88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F involves study of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uman response to environme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sponse as a basis for design, improvemen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haracteristics of HF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achines must be built to serve humans (not opp.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sign must take human differences into accou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signs influence human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sign process must include data and calculation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uman data must be tested scientificall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umans and machines are relat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OT just check lists and guidelin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OT: using oneself as model for desig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OT just common sens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F353-CEE2-4C37-A503-4A681750FC1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arly 1900’s: Frank and Lilian Gilbreth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Design of workstations for disabled (e.g. surgery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fter WWII (1945): HF profession was bor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949: HF books, publications, conferences, e.g.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Lucida Sans Unicode"/>
              </a:rPr>
              <a:t>HF in Engineering Design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, 1949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Lucida Sans Unicode"/>
              </a:rPr>
              <a:t>HF Society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(largest HF professional group), 1957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960-80: emphasis moved from military to industry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harmaceuticals, computers, cars, etc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980-90: HF in PC revoluti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rgonomically-designed” equipment, softwar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HF in the offic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Disasters caused due to HF considerat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e.g. Chernobyl, Soviet Union, 1986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HF in forensics (injury litigations, defective designs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&gt;1990’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Medical devices, devices for elderl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OSHA ergonomic regulat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0444-3CCF-4614-9CD4-36049F0627A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F Society member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sychology: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45.1%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ngineering: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9.1%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ople performing HF work (in general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usiness (private):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74%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overnment: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5%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cademia: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0%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F1EC-F5E9-4A25-B5B5-A38EA1573BB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ystem (Def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n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)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ntity that exists to carry out some purpose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omponents: humans, machines, other entiti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omponents must integrate to achieve purpose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(i.e. not possible by independent components)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Find, understand, and analyze purpos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Design system part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System must meet purpos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Machine (Def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  <a:ea typeface="Lucida Sans Unicode"/>
              </a:rPr>
              <a:t>n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)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hysical object, device, equipment, or facilit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used to perform an activit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uman-Machine system (Def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n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)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≥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1 Human + ≥1 physical component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nteraction using given input/command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Result: desired outpu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.g. man + nail + hammer to hang picture on wal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ee Figure 1-1, pp. 15 (Sanders and McCormick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BE8B-CFCD-46F1-9FE2-0CD0B609027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ypes of HM system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Manual system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operator + hand tools + physical energ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Mechanical system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(AKA semiautomatic systems)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operator (control) + integrated physical part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.g. powered machine tool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Automated system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little or no human intervention (e.g. Robot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Human: installs programs, reprograms, maintains, etc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nsider broomstick vs vacuum vs Roomb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T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4" name="Picture 5" descr="broom"/>
          <p:cNvPicPr/>
          <p:nvPr/>
        </p:nvPicPr>
        <p:blipFill>
          <a:blip r:embed="rId2"/>
          <a:stretch/>
        </p:blipFill>
        <p:spPr>
          <a:xfrm rot="18169200">
            <a:off x="1690560" y="4493880"/>
            <a:ext cx="698400" cy="25909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6" descr="Shark-Vacuum-Cleaner"/>
          <p:cNvPicPr/>
          <p:nvPr/>
        </p:nvPicPr>
        <p:blipFill>
          <a:blip r:embed="rId3"/>
          <a:stretch/>
        </p:blipFill>
        <p:spPr>
          <a:xfrm>
            <a:off x="3809880" y="4762440"/>
            <a:ext cx="1981440" cy="19814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7" descr="Roomba"/>
          <p:cNvPicPr/>
          <p:nvPr/>
        </p:nvPicPr>
        <p:blipFill>
          <a:blip r:embed="rId4"/>
          <a:stretch/>
        </p:blipFill>
        <p:spPr>
          <a:xfrm>
            <a:off x="6705720" y="4756320"/>
            <a:ext cx="2305080" cy="2065320"/>
          </a:xfrm>
          <a:prstGeom prst="rect">
            <a:avLst/>
          </a:prstGeom>
          <a:ln w="0">
            <a:noFill/>
          </a:ln>
        </p:spPr>
      </p:pic>
      <p:sp>
        <p:nvSpPr>
          <p:cNvPr id="437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EEF7-6272-44F9-9AD3-7CD68228860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9:40:45Z</dcterms:created>
  <dc:creator>IMedia</dc:creator>
  <dc:description/>
  <dc:language>en-US</dc:language>
  <cp:lastModifiedBy>User</cp:lastModifiedBy>
  <cp:lastPrinted>2012-09-11T18:13:07Z</cp:lastPrinted>
  <dcterms:modified xsi:type="dcterms:W3CDTF">2014-09-13T15:17:41Z</dcterms:modified>
  <cp:revision>307</cp:revision>
  <dc:subject/>
  <dc:title>Photo Album</dc:title>
</cp:coreProperties>
</file>