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FBF-7AE0-4547-8548-56216613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7D8-5459-41E4-AA22-9E9FA076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285B5-6D66-4518-835F-14461E69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31B24-00DC-43DB-A20F-20ECC4E4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AB375-4F9D-4401-A60C-D0627927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07C27-60AA-4434-B26E-B8831209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A5E84-4C33-4AB0-9371-BBD5F700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B9CE4-6D3D-4380-8861-7554AE00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1EF1D-4427-4013-A1A5-672DA70B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88020-8483-4435-98A8-BF607FF7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2B907-2FB9-4EE7-8F73-D6686C65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524-FC29-4CBC-B57A-CA902FCD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8F1-5479-42D4-A160-61E2D8ED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2E44-58C0-4B86-B65A-2C76576F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EB59-EDF1-4CEE-AE26-226D290B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2F2F-9ED6-4556-A811-6EAA4089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F15A-B63B-440F-8FE6-5A8405AB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BC5E-026C-4F08-BFEC-0A49E43B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8F0E-3ACB-4B9D-9977-E59AA683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C3FC-E02D-4E9B-9752-D8B134FF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A74-7272-4112-BBCA-5038A836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17A3-D0D6-4ADE-AD7F-70F62E8F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182F-A02A-4CCD-914F-E7ACE7B5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A198-1BC2-43F7-AD06-61EDA7B0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9D9C-D65D-4A60-BB09-D4116065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CA57-775A-4CBF-8638-809E43C4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73C2C-9B7A-4D2C-86B9-59113934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BA3D3-E2F7-48C8-BF70-15FDA032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AC3EF-9CCA-4B1E-B0B9-E0335838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B7431-29DE-48B5-80E2-23C7C1BC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5B361-1D03-485F-8FE0-5656A3CA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5822-C7BE-42C8-A59A-71868F35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2AE2-E281-48C7-9996-81111269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45F95-5A14-4FA8-BF86-05B0AE05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9854E-BC20-4980-8F5F-5A6CB4CA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C1F3D-09BD-4D62-8182-913393E7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8A945-EEBE-4445-8AA6-30BE53EB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F4F0-138C-43A2-AE15-17095010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B73B-243C-44A1-B3DD-4D72CA25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94733-8778-44A2-8670-A1E9F983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B4AF0-5365-4752-8E78-891A7C04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25066-51CF-4B34-B285-4C6E0FAE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723-07B5-4197-B9A0-54DE53D8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6214B-3313-4EC9-89E6-545F9E5D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E4418-B691-4832-99D9-F2041424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9AC32-DF29-49FE-824A-8738C3F1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24760-0E37-4943-AD81-13D38291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58DE3-55C0-499C-95B6-9565DF04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8E1F5-D200-4A54-AE33-B78EF4B5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1FF3A-AF80-4E13-89C1-609C4F16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D68D6-CB5F-48C8-B8CF-924AE177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B78E1-AEC2-4127-AF44-90E11428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B4873-E07D-4963-915D-E8AE4B25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633-F8D7-4085-8608-58D46D3C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F717C-B5E9-4AE5-AB5D-45489B9A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7B753-818E-4411-AE4D-8122328B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5D637-F71F-4103-A0B7-3D0D30E7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714D6-249C-45D4-AE08-FB550245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4311C-C32D-4D6D-9EAF-3DDFA312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927F1-0B33-423E-9788-E5C2060C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58E57-9711-456C-BCED-B8AC7858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FA7F0-219F-4273-ADAF-7D516F7B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776EC-DF4D-4568-8F95-631E5822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023CB-F492-4616-9DA8-2DDD253A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423-DE4D-4F62-A064-B9B3F96E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FEC2A-9536-4683-955F-1AC26A3F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BF0957-E3A1-4125-B5A3-BCE53DBC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0034A-785D-4F0A-95B4-8A55BD84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6F904-5604-4CF4-A9F7-2CF23520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688BD-BBF3-4426-9375-109D5127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E36949-DF07-4926-A0D2-D6E5DC63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67978-90E7-4826-950E-AA1C4723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42B32-D5E8-484D-8956-61F7DD16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2693A-D5F0-4688-A92A-553F877C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301C7-BCF1-4F59-8C48-F4463CB6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A50-F811-4CFF-A97C-F78E8E40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91E096-2D49-455B-A479-FC1D89BC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B563D2-EDC6-4CD8-9814-F91FA86C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E795B-C240-4FF4-9B2A-2A3CB50F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BB29A-EABE-42F6-9A71-5C6AD9C2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20DDA-9AC8-4281-82F9-206BFC8D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EBC91-D02F-4A26-A879-1FB09E67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6023F-1B1A-4BD4-8422-92FB519C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4991B-7049-4B89-A5AA-EFFC12AF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50ED6-5AB0-4094-8706-442329DC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79CD2-85AE-4DE5-966E-44B23106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8DE-5715-4672-84E3-91EAAE5D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4967C-2DA3-4C07-99B3-17D31E82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B18AF-A17F-4469-BE96-3AD4D84A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4AD95-7B99-4CEC-BC83-C62346F0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6E946-A18F-429E-9BA2-22EABA75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072A1-8674-4865-87AB-4972CBC7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79F7FB-069D-4EEF-9F3E-22C7D9C2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2FE2F8-4ACB-4387-B833-9E98F8C6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A8D113-E9B9-415A-8374-2D88C738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335958-47FA-417B-8625-6CA8D01C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27D362-C351-450B-B088-92B2A81C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4E4-4A7E-419A-844D-47348721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C05667-1603-4378-A6D0-78B3A1D8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CF5F81-6CC4-4FC0-8E5D-8AE355C5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D87A73-1833-4ABB-AAC7-7023EF87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C6F91E-3B9A-409A-BC35-EF14D165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CFADEC-1EDF-4039-8EBF-D2E610A5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C330D4-9B24-4CAB-B72C-DFF53EC7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BCB318-9C21-4221-B9E1-DAE7BE39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DDE6A-0E98-47F7-BCB1-B661AC1F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14512-AFF5-4A7F-980C-CD29D325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6F013-1231-47AC-9656-F410C3A1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6157-EAA5-4475-BF44-D14A7B86C158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43000" y="6408720"/>
            <a:ext cx="558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DA9D-CCFE-41C5-B23B-D9916B61E03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KSU-Logo"/>
          <p:cNvPicPr/>
          <p:nvPr/>
        </p:nvPicPr>
        <p:blipFill>
          <a:blip r:embed="rId2"/>
          <a:stretch/>
        </p:blipFill>
        <p:spPr>
          <a:xfrm>
            <a:off x="76320" y="58006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F6CB-F2F1-442B-BEFB-10D89FE2A5B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292B-CF29-400C-A85C-C9FE644706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ight Triangle 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4FF6-6A50-461C-982E-F1E506921D3A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80880" y="6416640"/>
            <a:ext cx="6019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0943-4BB6-43C6-AF60-1E4E3A6E37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1" name="Chevron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03DF-DBF0-43BD-87C8-D20C6B95CFD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BB6F-5700-4D45-854F-3B4DA4972E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7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CAD7-813A-4240-B324-56D7571983A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8264-3C89-4566-B65D-B54E84AC8F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5A2E-B4F8-41FA-A8FD-843953FF2BF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EF6F-7295-476E-A466-F4FD67DB72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65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42B8-20FA-4EE6-9B07-DFB5C0B93F6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0F36-D688-4CF4-91B6-F58DD177B1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00AA-AD19-4A6C-92B4-3D7221EB77E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86F5-04ED-486D-B512-1A8A0571C1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3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6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3ACE-6A3D-4C12-BAAB-F9D40E215A6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F397-47BD-482B-81D7-0911411A4B7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7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10" descr=""/>
          <p:cNvPicPr/>
          <p:nvPr/>
        </p:nvPicPr>
        <p:blipFill>
          <a:blip r:embed="rId1"/>
          <a:stretch/>
        </p:blipFill>
        <p:spPr>
          <a:xfrm>
            <a:off x="609480" y="536400"/>
            <a:ext cx="8309160" cy="38833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apter 1. Introdu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Prepared by: Ahmed M. El-Sherbeeny, Ph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E2F9-7580-4842-8B4B-6BE450AB13F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ystems are purposi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ystems have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≥ 1 objectiv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ystems can be hierarchic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ystems may have subsystem levels (1, 2, etc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ystems operate in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nvironment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(i.e. insid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oundar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mmediate (e.g. chai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termediate (e.g. offic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eneral (e.g. city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ponent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serve func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nsing (i.e. receiving information; e.g. speedomete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formation storage (i.e. memory; e.g. disk, CD, flash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formation processing and decis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ction functions (outpu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hysical control (i.e. movement, handling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munication action (e.g. signal, voice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e Figure 1-2, pp. 17 (Sanders and McCormick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7F5D-D785-44C4-B84F-6A479FE05C2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9B27-C9B9-411A-8B63-F89F68DAE9A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5"/>
          <p:cNvGrpSpPr/>
          <p:nvPr/>
        </p:nvGrpSpPr>
        <p:grpSpPr>
          <a:xfrm>
            <a:off x="0" y="2209680"/>
            <a:ext cx="9144000" cy="2438640"/>
            <a:chOff x="0" y="2209680"/>
            <a:chExt cx="9144000" cy="2438640"/>
          </a:xfrm>
        </p:grpSpPr>
        <p:sp>
          <p:nvSpPr>
            <p:cNvPr id="447" name="Rectangle 6"/>
            <p:cNvSpPr/>
            <p:nvPr/>
          </p:nvSpPr>
          <p:spPr>
            <a:xfrm>
              <a:off x="1576440" y="3303000"/>
              <a:ext cx="1497600" cy="1345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 Unicode"/>
                </a:rPr>
                <a:t>Sen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information receiving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3310560" y="3303000"/>
              <a:ext cx="1970640" cy="1345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Lucida Sans Unicode"/>
                </a:rPr>
                <a:t>Information processing and decision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8"/>
            <p:cNvSpPr/>
            <p:nvPr/>
          </p:nvSpPr>
          <p:spPr>
            <a:xfrm>
              <a:off x="5518080" y="3303000"/>
              <a:ext cx="2049480" cy="1345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 Unicode"/>
                </a:rPr>
                <a:t>Action Fun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(physical control or communic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9"/>
            <p:cNvSpPr/>
            <p:nvPr/>
          </p:nvSpPr>
          <p:spPr>
            <a:xfrm>
              <a:off x="2443680" y="2209680"/>
              <a:ext cx="4020120" cy="504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 Unicode"/>
                </a:rPr>
                <a:t>Information Storag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0"/>
            <p:cNvSpPr/>
            <p:nvPr/>
          </p:nvSpPr>
          <p:spPr>
            <a:xfrm>
              <a:off x="0" y="3303000"/>
              <a:ext cx="1339920" cy="134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Sans Unicode"/>
                </a:rPr>
                <a:t>Info in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1"/>
            <p:cNvSpPr/>
            <p:nvPr/>
          </p:nvSpPr>
          <p:spPr>
            <a:xfrm>
              <a:off x="7804080" y="3303000"/>
              <a:ext cx="1339920" cy="134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Info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3" name="Straight Arrow Connector 12"/>
            <p:cNvCxnSpPr/>
            <p:nvPr/>
          </p:nvCxnSpPr>
          <p:spPr>
            <a:xfrm>
              <a:off x="7567560" y="3975480"/>
              <a:ext cx="236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4" name="Straight Arrow Connector 13"/>
            <p:cNvCxnSpPr/>
            <p:nvPr/>
          </p:nvCxnSpPr>
          <p:spPr>
            <a:xfrm>
              <a:off x="5281560" y="3975480"/>
              <a:ext cx="236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5" name="Straight Arrow Connector 14"/>
            <p:cNvCxnSpPr/>
            <p:nvPr/>
          </p:nvCxnSpPr>
          <p:spPr>
            <a:xfrm>
              <a:off x="3074040" y="3975480"/>
              <a:ext cx="236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6" name="Straight Arrow Connector 15"/>
            <p:cNvCxnSpPr/>
            <p:nvPr/>
          </p:nvCxnSpPr>
          <p:spPr>
            <a:xfrm>
              <a:off x="1339920" y="3975480"/>
              <a:ext cx="2368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7" name="Straight Arrow Connector 16"/>
            <p:cNvCxnSpPr>
              <a:endCxn id="449" idx="0"/>
            </p:cNvCxnSpPr>
            <p:nvPr/>
          </p:nvCxnSpPr>
          <p:spPr>
            <a:xfrm>
              <a:off x="5833440" y="2713680"/>
              <a:ext cx="709920" cy="58932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  <a:headEnd len="lg" type="stealth" w="sm"/>
              <a:tailEnd len="lg" type="stealth" w="sm"/>
            </a:ln>
          </p:spPr>
        </p:cxnSp>
        <p:cxnSp>
          <p:nvCxnSpPr>
            <p:cNvPr id="458" name="Straight Arrow Connector 17"/>
            <p:cNvCxnSpPr>
              <a:endCxn id="447" idx="0"/>
            </p:cNvCxnSpPr>
            <p:nvPr/>
          </p:nvCxnSpPr>
          <p:spPr>
            <a:xfrm flipH="1">
              <a:off x="2324880" y="2713680"/>
              <a:ext cx="867600" cy="58932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  <a:headEnd len="lg" type="stealth" w="sm"/>
              <a:tailEnd len="lg" type="stealth" w="sm"/>
            </a:ln>
          </p:spPr>
        </p:cxnSp>
        <p:cxnSp>
          <p:nvCxnSpPr>
            <p:cNvPr id="459" name="Straight Arrow Connector 18"/>
            <p:cNvCxnSpPr>
              <a:endCxn id="448" idx="0"/>
            </p:cNvCxnSpPr>
            <p:nvPr/>
          </p:nvCxnSpPr>
          <p:spPr>
            <a:xfrm>
              <a:off x="4295880" y="2713680"/>
              <a:ext cx="1080" cy="58932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  <a:headEnd len="lg" type="stealth" w="sm"/>
              <a:tailEnd len="lg" type="stealth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ponents inte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ponents work together to achieve a goa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ponents are at lowest level of analysi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ystems, subsystems, components have I/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: input(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: output(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’s of 1 system: can be I’s to another syste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’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hysical (materials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echanical forc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form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CEEA-BADC-4D80-8B3C-E13EBDC0F04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losed-loop system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quire continuous contro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quire continuous feedback (e.g. errors, updates, etc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 car oper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pen-loop system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eed no further control (e.g. car cruise-control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eedback causes improved system oper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5290-866B-4A13-94B7-7F5E300846E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“probability of successful operation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e #1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uccess rati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 ATM gives correct cash: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9999 times out of 10,000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l. = 0.9999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sually expressed to 4 d.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e # 2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ean time to failure (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MTF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.e. # of times system/human performs successfully (before failur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sed in continuous activ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4989-FF1A-488C-875F-BEE66C4C70B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uccessful operation of system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uccessful operation of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ALL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components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(i.e. machines, humans, etc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dition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ailure of 1 component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failure of complete system!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ailures occur independently of each oth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l. of system = Product of Rel. of all compon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 System has 100 compon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mponents all connected in ser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l. of each component = 99%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l. of system = 0.365 (why?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.e. system will only work successfully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365 out of 1,000 times!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clusion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ore components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less Rel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Max.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system Rel. = Rel. of least reliable componen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least Rel. component is usually human component (weakest link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n reality, system Rel.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≪ least Rel. componen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1509-3DAD-4C12-A836-D44B0F5BD47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≥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 components perform same fun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KA: backup redundancy (in case of failur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ystem failur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 failure of ALL compon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 System has 4 compon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mponents connected in //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l. of each = 0.7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ystem Rel. =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 – (1-Re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c1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)(1-Re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c2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)(1-Re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c3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)(1-Rel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c4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) = 0.99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onclus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ore components in // ⇒ higher Rel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ote, Rel. ↓ with time (e.g. 10-year old car vs. new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9A5C-9947-4638-99C3-6D7991CD82B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ccessful design entails what m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ee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ants (desire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n u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man factors investigated by designer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nthropometry (Human physical size, limitation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hysiology: human body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actions (hearing, seeing, touching, etc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unc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apa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rgonomics (“doing” vs. anthropometry: “being”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ynamic interaction of operator and mach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sychology: influence of mental condi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thers: social, climate, religion, 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ADEA-B18E-4528-B6D9-BF63238DC4D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bjectives of Human Factors (HF)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crease work efficienc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crease effectiveness of work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crease convenience and ease of use of machin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crease productivity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ecrease error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udy influence of design on peop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ange designs to suit human needs, limit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crease human valu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crease safety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crease comfor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crease job satisfac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ecrease fatigue and stres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crease quality of lif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4CFD-1C7F-44C9-BF97-580BD139D55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nition 1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ystematic application of information about human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apabilities, limitations, and characteristic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   to the design of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bjects and procedures that people use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nd the environment in which they use them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nition 2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F discovers and applies information about human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ehavior, abilities, limitations, other characteristic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   to the design of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ools, machines, systems, jobs, tasks, environments for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ductive, safe, comfortable, effective human us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34C4-A063-4893-AB67-3558C2BEEF3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F involves study of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uman response to environ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sponse as a basis for design, improvem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racteristics of HF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chines must be built to serve humans (not opp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 must take human differences into accou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s influence huma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 process must include data and calcula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uman data must be tested scientificall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umans and machines are relat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 just check lists and guidelin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: using oneself as model for desig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 just common sen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7020-A5E1-4E05-A6BC-F9DFE6A5046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arly 1900’s: Frank and Lilian Gilbreth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esign of workstations for disabled (e.g. surgery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fter WWII (1945): HF profession was bor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949: HF books, publications, conferences, e.g.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Lucida Sans Unicode"/>
              </a:rPr>
              <a:t>HF in Engineering Design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, 194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Lucida Sans Unicode"/>
              </a:rPr>
              <a:t>HF Society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(largest HF professional group), 1957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960-80: emphasis moved from military to industry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harmaceuticals, computers, cars, etc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980-90: HF in PC revolu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rgonomically-designed” equipment, softwa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F in the offic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isasters caused due to HF considera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e.g. Chernobyl, Soviet Union, 1986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F in forensics (injury litigations, defective designs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&gt;1990’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Medical devices, devices for elderl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SHA ergonomic regula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67D1-DCE8-42ED-8B29-6EE8C7E7CAC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F Society member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sychology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45.1%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gineering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9.1%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ople performing HF work (in genera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usiness (private)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74%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overnment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5%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cademia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0%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C5A5-F28D-4968-A839-917636E552C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ystem (Def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ntity that exists to carry out some purpos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mponents: humans, machines, other ent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mponents must integrate to achieve purpos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(i.e. not possible by independent components)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ind, understand, and analyze purpos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Design system part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ystem must meet purpos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achine (Def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  <a:ea typeface="Lucida Sans Unicode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)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hysical object, device, equipment, or facil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used to perform an activ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uman-Machine system (Def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≥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 Human + ≥1 physical component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teraction using given input/comman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sult: desired outpu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 man + nail + hammer to hang picture on wal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e Figure 1-1, pp. 15 (Sanders and McCormick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F270-594F-49E5-A012-69B9D89D202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ypes of HM system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Manual system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perator + hand tools + physical energ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Mechanical system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(AKA semiautomatic systems)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perator (control) + integrated physical part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powered machine too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Automated system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ittle or no human intervention (e.g. Robo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uman: installs programs, reprograms, maintains, etc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sider broomstick vs vacuum vs Roomb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Picture 5" descr="broom"/>
          <p:cNvPicPr/>
          <p:nvPr/>
        </p:nvPicPr>
        <p:blipFill>
          <a:blip r:embed="rId2"/>
          <a:stretch/>
        </p:blipFill>
        <p:spPr>
          <a:xfrm rot="18169200">
            <a:off x="1690560" y="4493880"/>
            <a:ext cx="698400" cy="2590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Shark-Vacuum-Cleaner"/>
          <p:cNvPicPr/>
          <p:nvPr/>
        </p:nvPicPr>
        <p:blipFill>
          <a:blip r:embed="rId3"/>
          <a:stretch/>
        </p:blipFill>
        <p:spPr>
          <a:xfrm>
            <a:off x="3809880" y="476244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Roomba"/>
          <p:cNvPicPr/>
          <p:nvPr/>
        </p:nvPicPr>
        <p:blipFill>
          <a:blip r:embed="rId4"/>
          <a:stretch/>
        </p:blipFill>
        <p:spPr>
          <a:xfrm>
            <a:off x="6705720" y="4756320"/>
            <a:ext cx="2305080" cy="2065320"/>
          </a:xfrm>
          <a:prstGeom prst="rect">
            <a:avLst/>
          </a:prstGeom>
          <a:ln w="0">
            <a:noFill/>
          </a:ln>
        </p:spPr>
      </p:pic>
      <p:sp>
        <p:nvSpPr>
          <p:cNvPr id="437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5064-CE89-4F15-B5D8-D7019518637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40:45Z</dcterms:created>
  <dc:creator>IMedia</dc:creator>
  <dc:description/>
  <dc:language>en-US</dc:language>
  <cp:lastModifiedBy>User</cp:lastModifiedBy>
  <cp:lastPrinted>2012-09-11T18:13:07Z</cp:lastPrinted>
  <dcterms:modified xsi:type="dcterms:W3CDTF">2014-09-13T15:17:41Z</dcterms:modified>
  <cp:revision>307</cp:revision>
  <dc:subject/>
  <dc:title>Photo Album</dc:title>
</cp:coreProperties>
</file>