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gif" ContentType="image/gi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88872-8FD9-4A3A-A186-B8B4CD371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4224E-E116-4BB3-931A-756DFB9E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46A02-E478-43C6-BA03-591050F03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037F4-8BB7-4F4A-A65C-05275A799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97909-A74C-4AB6-BBE8-3B7513897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6CD22-9C48-41AC-B6E6-ED151B9D3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D36AE-7AF5-4EB6-9827-E16220017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40E13-92F0-4ABD-88FE-9751225E8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FDA5A-CE5D-40AE-881E-D3F1C6095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4146D-C481-4E2B-9CAF-AEC8134E5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3ABE-8D9E-4B00-9400-A27C66032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19C93-5C4A-4A76-8722-90371B300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94A0D-DE8A-4F11-B85D-2B52D029A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6C818-C3C0-485F-ABAD-1FE3EAB31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54D7E-4BC2-4F45-8464-A94F37CCF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6EC83-DA1C-413D-8F9D-A7D41DA90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4D226-5C68-4DF2-A0E8-1460D84EA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3D6BF1-1717-4455-9C6D-BD5E515E9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A6762-5BAB-49D2-95A8-E3EEE1D107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1A3CC-D960-4F9B-B4E1-FCD7411EC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AD3B1-4F85-4F19-8F9E-C7E7B2F93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7F977-5EB9-4C01-8CC0-F2B77E096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972F-F5F6-449A-B2FE-E51A16399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6E7B8-F764-47CC-A176-25B49A578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838BB-94CE-4FD4-B0A2-A25786C6A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936F9-6E0D-40B6-A397-E09546394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C286B-3BAC-49E8-82F1-004883885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09F98F-D922-48F8-80FD-896A383AC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BF70A-1290-4F7E-94D9-5127BF3CB9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0C2030-5096-4957-85C7-70D3E0860E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A7FFF2-00E1-4265-AD36-B3FCEC54A4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C56FE-DB66-4D47-909E-E68703976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40218-CB31-4E61-9CBA-1ACE1A597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7189-0BEC-483C-A60C-AA514C8E0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EBAC2-508E-494F-9D0B-A2AC1DF66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56EED-B242-419E-8079-CED4E009A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ED1EE-C194-4FF7-B646-F4E962B5C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6F16A-E1D9-4FDC-9EBC-9E691B37E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FFE84-7445-4D7C-A66D-73DBE2B09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23378-044A-4445-9E08-8F9568F26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168CB-9B78-417C-BC40-1A78E0196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63B798-9B37-4C66-9612-90134EB5C7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80E259-B9BE-4D25-B55D-97056BCFF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903643-CB64-44F0-A3C3-06CF73CF6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917E6-BA04-466E-A42B-15C790AE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B42BD-5DB6-445A-8A6E-D984FA513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3E1CB-9C97-40AE-911D-A0E9A892C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51998-E7F7-4775-BC64-6DDEFE52A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99FBE-C385-4135-AAE5-412F94FAB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D8770-4EC8-4014-89E5-C2FA0EAD24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EB45C-BB29-461F-B6BB-EBB49727F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317E7-502E-4659-BEA3-344025A12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85748-48A2-4994-A97A-481CA567F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BDECE-1E20-4A4C-9488-548CE22944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F1B820-A029-4E0A-813D-48E4357DDD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BF8F-75FF-4509-8DFA-88E61BE42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DAB64D-E955-476F-B6BC-944149ED96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D634C0-F183-4472-AF74-DA76529C29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DE407F-8BB9-4BC4-9383-0593DD234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55C0E-8B5C-4BFD-9131-C510540AB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A0BC9F-33ED-4AED-9E78-44EFB5E93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59103-0354-42F0-AB98-CC12B545BC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88EA0E-73C3-4B59-86C5-0DAD56A3C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2FAF3-CB32-4A44-AF5E-2E1FE7B9AE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6E566-2C14-48A5-8F6C-BD16DEAA0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6D768-EF4B-4B14-8A27-700D02B3B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FF27-EA1A-43CD-AE28-035FD858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3FB82-4D07-4E89-BFBE-B5F02F6A6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8266BD-E29B-401A-A25D-1E19E3F2BD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5A13D-A6E2-411D-8C34-2B0497F6A3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345606-453C-4F8D-8A26-9594E3F6C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F2A7F4-48EA-405C-8639-98E17233C0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86638A-BD33-4710-B754-C59692830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BD670E-3AD3-4617-8B3A-2AEC67E44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379E1E-7BAE-4A17-9797-39C9DA331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02DC4-DA36-41FA-8D5B-259D8C824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526324-B96E-458F-932A-CAAA874FC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6E1F-F6D3-41C2-976F-F152683A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766605-D39A-4C69-8A35-F7F6E1EEF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73F02-E8F7-45AF-9834-E1891DAFE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859E2-4063-4A3B-8811-B447E3B6D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754942-F1F9-4553-AD09-2C784C392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454C00-9D72-4975-BBF3-A4099B082D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E47760-333D-4A5B-8E6F-CFFF14F658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9F3B57-FE8E-4364-BF76-147E0C1AD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5390C-3A93-42CB-9C87-B0D44B2422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FBCD7-60C2-47AD-961F-4677C55457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1CECC-531B-4A8D-A0B1-D53CB96B3F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A4A9-BFA6-40E9-A41C-5220C577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1CCA64-9DB3-42C0-AC14-0BC3ADE9A1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4F6EA-81AD-4CA0-80D8-0BB8CA32C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259BA-33D5-4799-BEEC-C8DF1C238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88EB9-77AC-4CE1-8474-9EFFED577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3A897-EE84-4E3D-8EDF-C722D3939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4C984F-02E6-4D9B-9CCA-A83DB83CF1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31998E-CF07-496D-85C7-40EFAAF8F0D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D8F6-914F-408D-A7C1-E3E16DBF617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FFA3-F392-44CB-A056-389EED37129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4149-C245-483C-80A8-5326DB0AC054}"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4AB0-EBE3-4C27-A6E3-788642CADB1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AA08-C5DB-4B29-8BD8-3E5D8F88BBB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رابط مستقيم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3634-E8FE-4B8D-BA74-7D0FB53752F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F8A5-F28A-48FD-8062-F1F17A790F08}"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مثلث متساوي الساقين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4BF0-2645-46C7-9E1F-FE605ED44EC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cs typeface="Times New Roman"/>
              </a:rPr>
              <a:t>القانون البحري</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64653"/>
                </a:solidFill>
                <a:latin typeface="Bookman Old Style"/>
                <a:cs typeface="Times New Roman"/>
              </a:rPr>
              <a:t>ص</a:t>
            </a:r>
            <a:r>
              <a:rPr b="0" lang="ar-SA" sz="2000" spc="-1" strike="noStrike">
                <a:solidFill>
                  <a:srgbClr val="464653"/>
                </a:solidFill>
                <a:latin typeface="Bookman Old Style"/>
                <a:ea typeface="Times New Roman"/>
              </a:rPr>
              <a:t>19</a:t>
            </a:r>
            <a:r>
              <a:rPr b="0" lang="ar-SA" sz="2000" spc="-1" strike="noStrike">
                <a:solidFill>
                  <a:srgbClr val="464653"/>
                </a:solidFill>
                <a:latin typeface="Bookman Old Style"/>
                <a:ea typeface="Times New Roman"/>
              </a:rPr>
              <a:t> – ص</a:t>
            </a:r>
            <a:r>
              <a:rPr b="0" lang="ar-SA" sz="2000" spc="-1" strike="noStrike">
                <a:solidFill>
                  <a:srgbClr val="464653"/>
                </a:solidFill>
                <a:latin typeface="Bookman Old Style"/>
                <a:ea typeface="Times New Roman"/>
              </a:rPr>
              <a:t>35</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صور خلفيات إنمي 8af276a973.gif"/>
          <p:cNvPicPr/>
          <p:nvPr/>
        </p:nvPicPr>
        <p:blipFill>
          <a:blip r:embed="rId1"/>
          <a:stretch/>
        </p:blipFill>
        <p:spPr>
          <a:xfrm>
            <a:off x="108000" y="0"/>
            <a:ext cx="9015480" cy="6858000"/>
          </a:xfrm>
          <a:prstGeom prst="rect">
            <a:avLst/>
          </a:prstGeom>
          <a:ln w="0">
            <a:noFill/>
          </a:ln>
        </p:spPr>
      </p:pic>
      <p:sp>
        <p:nvSpPr>
          <p:cNvPr id="371" name="مربع نص 1"/>
          <p:cNvSpPr/>
          <p:nvPr/>
        </p:nvSpPr>
        <p:spPr>
          <a:xfrm>
            <a:off x="250920" y="620640"/>
            <a:ext cx="6265800" cy="37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70c0"/>
                </a:solidFill>
                <a:latin typeface="Gill Sans MT"/>
              </a:rPr>
              <a:t>نطاق تطبيق القانون البحري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مرام بنت عبدالعزيز  المطير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صور خلفيات إنمي 8af276a973.gif"/>
          <p:cNvPicPr/>
          <p:nvPr/>
        </p:nvPicPr>
        <p:blipFill>
          <a:blip r:embed="rId1"/>
          <a:stretch/>
        </p:blipFill>
        <p:spPr>
          <a:xfrm>
            <a:off x="128520" y="34920"/>
            <a:ext cx="9015480" cy="6858000"/>
          </a:xfrm>
          <a:prstGeom prst="rect">
            <a:avLst/>
          </a:prstGeom>
          <a:ln w="0">
            <a:noFill/>
          </a:ln>
        </p:spPr>
      </p:pic>
      <p:sp>
        <p:nvSpPr>
          <p:cNvPr id="373" name="مربع نص 4"/>
          <p:cNvSpPr/>
          <p:nvPr/>
        </p:nvSpPr>
        <p:spPr>
          <a:xfrm>
            <a:off x="468360" y="774720"/>
            <a:ext cx="6191280" cy="631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نطاق تطبيق القانون البحري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rPr>
              <a:t>ينطبق القانون البحري على الملاحة البحرية ، و لا يسري على الملاحة الداخلية كالملاحة في البحيرات ، و لا على الملاحة النه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ملاحة البحري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ill Sans MT"/>
              </a:rPr>
              <a:t>الراي الاول : هي الملاحة التي تقوم بها السفن   ولا يمكن التسليم بهذا الرأي لسبب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ill Sans MT"/>
              </a:rPr>
              <a:t>أولهما / أن السفينة ذاتها تعرف بأنها العائمة التي تخصص للملاحة البحرية ، و من ثم يتعين تعريف الملاحة البحرية ابتداءً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ill Sans MT"/>
              </a:rPr>
              <a:t>الثاني / أن من المراكب ما لا يختلف كثيراً عن السفن من حيث المظهر الخارجي و طريقه البناء و القدرة الملاحية و كثيراً ما تقوم السفن بالملاحة في الأنهار و ما تقوم المراكب بالملاحة في البحار .</a:t>
            </a:r>
            <a:endParaRPr b="0" lang="en-US" sz="2000" spc="-1" strike="noStrike">
              <a:solidFill>
                <a:srgbClr val="000000"/>
              </a:solidFill>
              <a:latin typeface="Arial"/>
            </a:endParaRPr>
          </a:p>
        </p:txBody>
      </p:sp>
      <p:sp>
        <p:nvSpPr>
          <p:cNvPr id="374" name="مربع نص 5"/>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صور خلفيات إنمي 8af276a973.gif"/>
          <p:cNvPicPr/>
          <p:nvPr/>
        </p:nvPicPr>
        <p:blipFill>
          <a:blip r:embed="rId1"/>
          <a:stretch/>
        </p:blipFill>
        <p:spPr>
          <a:xfrm>
            <a:off x="108000" y="0"/>
            <a:ext cx="9015480" cy="6858000"/>
          </a:xfrm>
          <a:prstGeom prst="rect">
            <a:avLst/>
          </a:prstGeom>
          <a:ln w="0">
            <a:noFill/>
          </a:ln>
        </p:spPr>
      </p:pic>
      <p:pic>
        <p:nvPicPr>
          <p:cNvPr id="376" name="مربع نص 2" descr=""/>
          <p:cNvPicPr/>
          <p:nvPr/>
        </p:nvPicPr>
        <p:blipFill>
          <a:blip r:embed="rId2"/>
          <a:stretch/>
        </p:blipFill>
        <p:spPr>
          <a:xfrm>
            <a:off x="274680" y="378000"/>
            <a:ext cx="6431040" cy="7759440"/>
          </a:xfrm>
          <a:prstGeom prst="rect">
            <a:avLst/>
          </a:prstGeom>
          <a:ln w="0">
            <a:noFill/>
          </a:ln>
        </p:spPr>
      </p:pic>
      <p:sp>
        <p:nvSpPr>
          <p:cNvPr id="377" name="مربع نص 4"/>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صور خلفيات إنمي 8af276a973.gif"/>
          <p:cNvPicPr/>
          <p:nvPr/>
        </p:nvPicPr>
        <p:blipFill>
          <a:blip r:embed="rId1"/>
          <a:stretch/>
        </p:blipFill>
        <p:spPr>
          <a:xfrm>
            <a:off x="9360" y="115920"/>
            <a:ext cx="9015480" cy="6858000"/>
          </a:xfrm>
          <a:prstGeom prst="rect">
            <a:avLst/>
          </a:prstGeom>
          <a:ln w="0">
            <a:noFill/>
          </a:ln>
        </p:spPr>
      </p:pic>
      <p:sp>
        <p:nvSpPr>
          <p:cNvPr id="379" name="مربع نص 2"/>
          <p:cNvSpPr/>
          <p:nvPr/>
        </p:nvSpPr>
        <p:spPr>
          <a:xfrm>
            <a:off x="250920" y="476280"/>
            <a:ext cx="6265800" cy="6860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و </a:t>
            </a:r>
            <a:r>
              <a:rPr b="1" lang="ar-SA" sz="2400" spc="-1" strike="noStrike" u="sng">
                <a:solidFill>
                  <a:srgbClr val="ff0000"/>
                </a:solidFill>
                <a:uFillTx/>
                <a:latin typeface="Gill Sans MT"/>
              </a:rPr>
              <a:t>تعاب</a:t>
            </a:r>
            <a:r>
              <a:rPr b="1" lang="ar-SA" sz="1800" spc="-1" strike="noStrike">
                <a:solidFill>
                  <a:srgbClr val="ff0000"/>
                </a:solidFill>
                <a:latin typeface="Gill Sans MT"/>
              </a:rPr>
              <a:t> </a:t>
            </a:r>
            <a:r>
              <a:rPr b="1" lang="ar-SA" sz="1800" spc="-1" strike="noStrike">
                <a:solidFill>
                  <a:srgbClr val="000000"/>
                </a:solidFill>
                <a:latin typeface="Gill Sans MT"/>
              </a:rPr>
              <a:t>هذه الآراء الثلاثة بأنها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Gill Sans MT"/>
              </a:rPr>
              <a:t>استنادها إلى قوانين مالية و إدارية لتحديد التفرقة بين ما يعد من الناحية القانونية بحراً أم نهر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Gill Sans MT"/>
              </a:rPr>
              <a:t>و من ثم نظر القضاء إلى هذا الموضوع </a:t>
            </a:r>
            <a:r>
              <a:rPr b="1" lang="ar-SA" sz="1800" spc="-1" strike="noStrike">
                <a:solidFill>
                  <a:srgbClr val="0070c0"/>
                </a:solidFill>
                <a:latin typeface="Gill Sans MT"/>
              </a:rPr>
              <a:t>نظرة واقعية </a:t>
            </a:r>
            <a:r>
              <a:rPr b="1" lang="ar-SA" sz="1800" spc="-1" strike="noStrike">
                <a:solidFill>
                  <a:srgbClr val="00b050"/>
                </a:solidFill>
                <a:latin typeface="Gill Sans MT"/>
              </a:rPr>
              <a:t>، و العلة في وضع تشريع خاص بالملاحة البحرية هي ما تتعرض له هذه الملاحة من مخاطر متميزة بسبب طبيعة المكان الذي تمارس فيه و من ثم ذهب إلى أن </a:t>
            </a:r>
            <a:r>
              <a:rPr b="1" lang="ar-SA" sz="1800" spc="-1" strike="noStrike">
                <a:solidFill>
                  <a:srgbClr val="0070c0"/>
                </a:solidFill>
                <a:latin typeface="Gill Sans MT"/>
              </a:rPr>
              <a:t>الملاحة في الأماكن التي يختلط فيها البحر بالنهر تعتبر ملاحة بحرية إذا تعرضت السفينة للمخاطر الخاصة التي تتعرض لها الرحلة البحرية ، </a:t>
            </a:r>
            <a:r>
              <a:rPr b="1" lang="ar-SA" sz="1800" spc="-1" strike="noStrike">
                <a:solidFill>
                  <a:srgbClr val="00b050"/>
                </a:solidFill>
                <a:latin typeface="Gill Sans MT"/>
              </a:rPr>
              <a:t>و استقر على هذا الرأي القضاء في مصر و فرنسا و جانب من الفقه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Gill Sans MT"/>
              </a:rPr>
              <a:t>و المعيار الصحيح </a:t>
            </a:r>
            <a:r>
              <a:rPr b="1" lang="ar-SA" sz="1800" spc="-1" strike="noStrike">
                <a:solidFill>
                  <a:srgbClr val="000000"/>
                </a:solidFill>
                <a:latin typeface="Gill Sans MT"/>
              </a:rPr>
              <a:t>في نظرنا هو ما ذهب إليه القضاء و ذلك </a:t>
            </a:r>
            <a:endParaRPr b="0" lang="en-US" sz="1800" spc="-1" strike="noStrike">
              <a:solidFill>
                <a:srgbClr val="000000"/>
              </a:solidFill>
              <a:latin typeface="Arial"/>
            </a:endParaRPr>
          </a:p>
          <a:p>
            <a:pPr algn="r" rtl="1">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أن مخاطر البحر هي التي استوجبت وضع تنظيم قانوني بحري مستقل بقواعده المتميزة .</a:t>
            </a:r>
            <a:endParaRPr b="0" lang="en-US" sz="1800" spc="-1" strike="noStrike">
              <a:solidFill>
                <a:srgbClr val="000000"/>
              </a:solidFill>
              <a:latin typeface="Arial"/>
            </a:endParaRPr>
          </a:p>
          <a:p>
            <a:pPr algn="r" rtl="1">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أن التشريعات تستلزم في ربابة السفن و بحارتها كفاءة خاصة لا تستلزمها بالنسبة لربابة و بحارة مراكب الأنهار .</a:t>
            </a:r>
            <a:endParaRPr b="0" lang="en-US" sz="1800" spc="-1" strike="noStrike">
              <a:solidFill>
                <a:srgbClr val="000000"/>
              </a:solidFill>
              <a:latin typeface="Arial"/>
            </a:endParaRPr>
          </a:p>
          <a:p>
            <a:pPr algn="r" rtl="1">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أن الملاحة البحرية تتعرض لمخاطر لا تتعرض لها الملاحة النهرية .</a:t>
            </a:r>
            <a:endParaRPr b="0" lang="en-US" sz="1800" spc="-1" strike="noStrike">
              <a:solidFill>
                <a:srgbClr val="000000"/>
              </a:solidFill>
              <a:latin typeface="Arial"/>
            </a:endParaRPr>
          </a:p>
        </p:txBody>
      </p:sp>
      <p:sp>
        <p:nvSpPr>
          <p:cNvPr id="380" name="مربع نص 4"/>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صور خلفيات إنمي 8af276a973.gif"/>
          <p:cNvPicPr/>
          <p:nvPr/>
        </p:nvPicPr>
        <p:blipFill>
          <a:blip r:embed="rId1"/>
          <a:stretch/>
        </p:blipFill>
        <p:spPr>
          <a:xfrm>
            <a:off x="108000" y="0"/>
            <a:ext cx="9015480" cy="6858000"/>
          </a:xfrm>
          <a:prstGeom prst="rect">
            <a:avLst/>
          </a:prstGeom>
          <a:ln w="0">
            <a:noFill/>
          </a:ln>
        </p:spPr>
      </p:pic>
      <p:sp>
        <p:nvSpPr>
          <p:cNvPr id="382" name="مربع نص 3"/>
          <p:cNvSpPr/>
          <p:nvPr/>
        </p:nvSpPr>
        <p:spPr>
          <a:xfrm>
            <a:off x="108000" y="476280"/>
            <a:ext cx="6767640" cy="484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cc00cc"/>
                </a:solidFill>
                <a:latin typeface="Gill Sans MT"/>
              </a:rPr>
              <a:t>و هناك من يقول بأن الملاحة النهرية قد تكون في بعض الأحوال معرضة لمخاطر تزيد في جسامتها على المخاطر التي تتعرض لها الملاحة البح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0070c0"/>
                </a:solidFill>
                <a:latin typeface="Gill Sans MT"/>
              </a:rPr>
              <a:t>و هذا القول مردود بأن مثل هذه الأحوال استثناء لا يصلح أساساً لوضع معيار عا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مربع نص 5"/>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صور خلفيات إنمي 8af276a973.gif"/>
          <p:cNvPicPr/>
          <p:nvPr/>
        </p:nvPicPr>
        <p:blipFill>
          <a:blip r:embed="rId1"/>
          <a:stretch/>
        </p:blipFill>
        <p:spPr>
          <a:xfrm>
            <a:off x="108000" y="0"/>
            <a:ext cx="9015480" cy="6858000"/>
          </a:xfrm>
          <a:prstGeom prst="rect">
            <a:avLst/>
          </a:prstGeom>
          <a:ln w="0">
            <a:noFill/>
          </a:ln>
        </p:spPr>
      </p:pic>
      <p:pic>
        <p:nvPicPr>
          <p:cNvPr id="385" name="مربع نص 3" descr=""/>
          <p:cNvPicPr/>
          <p:nvPr/>
        </p:nvPicPr>
        <p:blipFill>
          <a:blip r:embed="rId2"/>
          <a:stretch/>
        </p:blipFill>
        <p:spPr>
          <a:xfrm>
            <a:off x="401760" y="689040"/>
            <a:ext cx="5852880" cy="5315040"/>
          </a:xfrm>
          <a:prstGeom prst="rect">
            <a:avLst/>
          </a:prstGeom>
          <a:ln w="0">
            <a:noFill/>
          </a:ln>
        </p:spPr>
      </p:pic>
      <p:sp>
        <p:nvSpPr>
          <p:cNvPr id="386" name="مربع نص 5"/>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صور خلفيات إنمي 8af276a973.gif"/>
          <p:cNvPicPr/>
          <p:nvPr/>
        </p:nvPicPr>
        <p:blipFill>
          <a:blip r:embed="rId1"/>
          <a:stretch/>
        </p:blipFill>
        <p:spPr>
          <a:xfrm>
            <a:off x="108000" y="0"/>
            <a:ext cx="9015480" cy="6858000"/>
          </a:xfrm>
          <a:prstGeom prst="rect">
            <a:avLst/>
          </a:prstGeom>
          <a:ln w="0">
            <a:noFill/>
          </a:ln>
        </p:spPr>
      </p:pic>
      <p:sp>
        <p:nvSpPr>
          <p:cNvPr id="388" name="مربع نص 2"/>
          <p:cNvSpPr/>
          <p:nvPr/>
        </p:nvSpPr>
        <p:spPr>
          <a:xfrm>
            <a:off x="755640" y="741240"/>
            <a:ext cx="5184720" cy="5304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Gill Sans MT"/>
              </a:rPr>
              <a:t>أنواع الملاحة البحري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cc00cc"/>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cc"/>
                </a:solidFill>
                <a:uFillTx/>
                <a:latin typeface="Gill Sans MT"/>
              </a:rPr>
              <a:t>من حيث أهميتها : </a:t>
            </a:r>
            <a:r>
              <a:rPr b="0" lang="ar-SA" sz="2800" spc="-1" strike="noStrike">
                <a:solidFill>
                  <a:srgbClr val="00b050"/>
                </a:solidFill>
                <a:latin typeface="Gill Sans MT"/>
              </a:rPr>
              <a:t> أ/ ملاحة رئيس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ill Sans MT"/>
              </a:rPr>
              <a:t> ب/ ملاحة مساعد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cc"/>
                </a:solidFill>
                <a:uFillTx/>
                <a:latin typeface="Gill Sans MT"/>
              </a:rPr>
              <a:t>2</a:t>
            </a:r>
            <a:r>
              <a:rPr b="1" lang="ar-SA" sz="2400" spc="-1" strike="noStrike" u="sng">
                <a:solidFill>
                  <a:srgbClr val="cc00cc"/>
                </a:solidFill>
                <a:uFillTx/>
                <a:latin typeface="Gill Sans MT"/>
              </a:rPr>
              <a:t>. من حيث مسافة الرحلة البحرية : </a:t>
            </a:r>
            <a:r>
              <a:rPr b="0" lang="ar-SA" sz="2800" spc="-1" strike="noStrike">
                <a:solidFill>
                  <a:srgbClr val="00b050"/>
                </a:solidFill>
                <a:latin typeface="Gill Sans MT"/>
              </a:rPr>
              <a:t>أ / ملاحة لأعالي البح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ill Sans MT"/>
              </a:rPr>
              <a:t>ب / ملاحة ساح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cc"/>
                </a:solidFill>
                <a:uFillTx/>
                <a:latin typeface="Gill Sans MT"/>
              </a:rPr>
              <a:t>3</a:t>
            </a:r>
            <a:r>
              <a:rPr b="1" lang="ar-SA" sz="2400" spc="-1" strike="noStrike" u="sng">
                <a:solidFill>
                  <a:srgbClr val="cc00cc"/>
                </a:solidFill>
                <a:uFillTx/>
                <a:latin typeface="Gill Sans MT"/>
              </a:rPr>
              <a:t>. من حيث الغرض منها :  </a:t>
            </a:r>
            <a:r>
              <a:rPr b="0" lang="ar-SA" sz="2800" spc="-1" strike="noStrike">
                <a:solidFill>
                  <a:srgbClr val="00b050"/>
                </a:solidFill>
                <a:latin typeface="Gill Sans MT"/>
              </a:rPr>
              <a:t>أ / ملاحة تجارية   ب/ نزهة </a:t>
            </a:r>
            <a:endParaRPr b="0" lang="en-US" sz="2800" spc="-1" strike="noStrike">
              <a:solidFill>
                <a:srgbClr val="000000"/>
              </a:solidFill>
              <a:latin typeface="Arial"/>
            </a:endParaRPr>
          </a:p>
        </p:txBody>
      </p:sp>
      <p:sp>
        <p:nvSpPr>
          <p:cNvPr id="389" name="مربع نص 4"/>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74840" y="189000"/>
            <a:ext cx="8229600" cy="5904000"/>
          </a:xfrm>
          <a:prstGeom prst="rect">
            <a:avLst/>
          </a:prstGeom>
          <a:noFill/>
          <a:ln w="0">
            <a:noFill/>
          </a:ln>
        </p:spPr>
        <p:txBody>
          <a:bodyPr anchor="t">
            <a:normAutofit fontScale="94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أ) أنواع الملاحة البحرية من حيث أهميتها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الملاحة الرئيس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تندرج تحت الملاحة الرئيسية جميع أنواع الملاحة البحرية بحسب الغرض منها كنقل الاشخاص ونقل البضائع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الملاحة المساعد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هي الملاحة التي تقوم بها سفن معينة بقصد مساعدة السفينة في تحقيق الأغراض السالفة الذكر. مثل القطر والارشاد</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ب) أقسام الملاحة البحرية من حيث مسافة المرحلة البحر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الملاحة لأعالي البحار: هي أهم أنواع الملاحة البحرية و أكثرها تعرضا لمخاطر البحر ومن ثم يشترط من الناحية الإدارية توافر المؤهلات الخاصة في العاملين بملاحة أعالي البحار ، وشروط سلامة خاصة بالسفن ، ولم يتضمن نظام المحكمة التجارية تحديد للملاحة في اعالي البحار ، فتحدد بانها التي تتم بين موانئ سعودية وموانئ اجنب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الملاحة الساحلية: وهي الملاحة التي تتم بين الموانئ السعودية بعضها والبعض الآخر وهي تنقسم ----إلى ملاحة ساحلية كبرى اذا تمت بين ميناءين على بحرين مختلفين في دولة واحد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والى ملاحة ساحلية صغرى اذا تمت بين مينائين على بحر واحد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تحتفظ الدول بالملاحة الساحلية لنفسها تشجيعا للاقتصاد الوطني </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91" name="Picture 2" descr=""/>
          <p:cNvPicPr/>
          <p:nvPr/>
        </p:nvPicPr>
        <p:blipFill>
          <a:blip r:embed="rId1"/>
          <a:stretch/>
        </p:blipFill>
        <p:spPr>
          <a:xfrm>
            <a:off x="539640" y="6237360"/>
            <a:ext cx="8101080" cy="62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68360" y="189000"/>
            <a:ext cx="8229600" cy="6161040"/>
          </a:xfrm>
          <a:prstGeom prst="rect">
            <a:avLst/>
          </a:prstGeom>
          <a:noFill/>
          <a:ln w="0">
            <a:noFill/>
          </a:ln>
        </p:spPr>
        <p:txBody>
          <a:bodyPr anchor="t">
            <a:normAutofit fontScale="93000"/>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أقسام الملاحة البحرية بحسب الغرض منها:</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1</a:t>
            </a:r>
            <a:r>
              <a:rPr b="0" lang="ar-SA" sz="2000" spc="-1" strike="noStrike">
                <a:solidFill>
                  <a:srgbClr val="00b050"/>
                </a:solidFill>
                <a:latin typeface="Gill Sans MT"/>
              </a:rPr>
              <a:t>- الملاحة التجارية: وهي الملاحة التي يقصد منها تحقيق ربح من نقل المسافرين والبضائع وهي أهم أنواع الملاحة البحرية ونظمها المشرع باحكام القانون البحري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2</a:t>
            </a:r>
            <a:r>
              <a:rPr b="0" lang="ar-SA" sz="2000" spc="-1" strike="noStrike">
                <a:solidFill>
                  <a:srgbClr val="00b050"/>
                </a:solidFill>
                <a:latin typeface="Gill Sans MT"/>
              </a:rPr>
              <a:t>- ملاحة الصيد: وهي الملاحة التي تقوم بها السفن بقصد الصيد في البحر. وتخضع للقانون البحري ايضا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3</a:t>
            </a:r>
            <a:r>
              <a:rPr b="0" lang="ar-SA" sz="2000" spc="-1" strike="noStrike">
                <a:solidFill>
                  <a:srgbClr val="00b050"/>
                </a:solidFill>
                <a:latin typeface="Gill Sans MT"/>
              </a:rPr>
              <a:t>- ملاحة النزهة: هي الملاحة التي تقوم بها السفن المخصصة للنزهة في البحر كاليخوت وغيرها.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ولما كانت ملاحة النزهة لا يلازمها عنصر المضاربة </a:t>
            </a:r>
            <a:r>
              <a:rPr b="0" lang="ar-SA" sz="2000" spc="-1" strike="noStrike">
                <a:solidFill>
                  <a:srgbClr val="000000"/>
                </a:solidFill>
                <a:latin typeface="Gill Sans MT"/>
              </a:rPr>
              <a:t>ولا تقوم بدور في تداول الثروات فقد ذهب رأي في الفقه الى عدم خضوعها لأحكام القانون التجاري, وقد سار قانون البحري المصري بنفس الإتجاه.</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نلفت النظر الى ان هناك </a:t>
            </a:r>
            <a:r>
              <a:rPr b="0" lang="ar-SA" sz="2000" spc="-1" strike="noStrike">
                <a:solidFill>
                  <a:srgbClr val="ff0000"/>
                </a:solidFill>
                <a:latin typeface="Gill Sans MT"/>
              </a:rPr>
              <a:t>نوعا من الملاحة البحرية لا تسري عليه أحكام القانون البحري </a:t>
            </a:r>
            <a:r>
              <a:rPr b="0" lang="ar-SA" sz="2000" spc="-1" strike="noStrike">
                <a:solidFill>
                  <a:srgbClr val="000000"/>
                </a:solidFill>
                <a:latin typeface="Gill Sans MT"/>
              </a:rPr>
              <a:t>وهو الملاحة التي تقوم بها </a:t>
            </a:r>
            <a:r>
              <a:rPr b="0" lang="ar-SA" sz="2000" spc="-1" strike="noStrike">
                <a:solidFill>
                  <a:srgbClr val="0070c0"/>
                </a:solidFill>
                <a:latin typeface="Gill Sans MT"/>
              </a:rPr>
              <a:t>سفن الدولة بصفتها سلطة عامه </a:t>
            </a:r>
            <a:r>
              <a:rPr b="0" lang="ar-SA" sz="2000" spc="-1" strike="noStrike">
                <a:solidFill>
                  <a:srgbClr val="000000"/>
                </a:solidFill>
                <a:latin typeface="Gill Sans MT"/>
              </a:rPr>
              <a:t>والتي تعرف بالملاحة العامة ومن ذلك الملاحة التي تقوم بها </a:t>
            </a:r>
            <a:r>
              <a:rPr b="0" lang="ar-SA" sz="2000" spc="-1" strike="noStrike">
                <a:solidFill>
                  <a:srgbClr val="00b0f0"/>
                </a:solidFill>
                <a:latin typeface="Gill Sans MT"/>
              </a:rPr>
              <a:t>سفن البحرية والرقابة والمستشفيات والتموين والتعليم, </a:t>
            </a:r>
            <a:r>
              <a:rPr b="0" lang="ar-SA" sz="2000" spc="-1" strike="noStrike">
                <a:solidFill>
                  <a:srgbClr val="000000"/>
                </a:solidFill>
                <a:latin typeface="Gill Sans MT"/>
              </a:rPr>
              <a:t>وتعد السفن التي تقوم بهذه الملاحة من الأموال العامة التي لا يجوز التصرف فيها او الحجز عليها أو تملكها بالتقادم لأنها مخصصة للمنفعة العامة.</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f0"/>
                </a:solidFill>
                <a:latin typeface="Gill Sans MT"/>
              </a:rPr>
              <a:t>السفن والملاحة البحرية التي تقوم بها الدولة تخضع للقانون البحري في حالين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ill Sans MT"/>
              </a:rPr>
              <a:t>--- لو قامت الدولة باستغلال سفن تجارية بنفسها او عن طريق مجهزين</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ill Sans MT"/>
              </a:rPr>
              <a:t>---- لو قامت الدولة باستغلال سفن تجارية عن طريق الشركات العامة .</a:t>
            </a:r>
            <a:endParaRPr b="0" lang="en-US" sz="2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8360" y="260280"/>
            <a:ext cx="8229600" cy="608976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٣</a:t>
            </a:r>
            <a:r>
              <a:rPr b="1" lang="ar-SA" sz="2000" spc="-1" strike="noStrike">
                <a:solidFill>
                  <a:srgbClr val="000000"/>
                </a:solidFill>
                <a:latin typeface="Gill Sans MT"/>
              </a:rPr>
              <a:t> - الملاحة المختلط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يُقصد بالملاحة المختلطة تلك الملاحة التي تتم في البحر والنهر خلال رحلة واحدة فهي لاتعتبر بحرية محضة ولانهرية محضة وذلك  لكونها تسير في البحر والنهر في نفس الرحلة.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كثير من الرحلات البحرية تكون مختلطة مما يثير بحث القانون الذي يحكمها وما إذا كان القانون البحري هو من سينطبق عليها باعتبارها ملاحة بحرية أم أنها تخضع للقانون التجاري باعتبارها مياه داخل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قد تُحل هذه الصعوبة عن طريق تطبيق القانون البحري على الجزء الذي تم بالبحر والقانون التجاري على الجزء الذي تم في النهر ولكن تطبيق هذا النوع من الحلول يثير صعوبة عملية لأن بمقتضاه ستخضع الرحلة إلى نظاميين مختلفين.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rPr>
              <a:t>وقد استقر الرأي على أن العبرة بالجزء الغالب من الرحلة ومن ثم يرجع تحديد الملاحة المختلطة إلى الملاحة الأكثر أهمية أو الرئيسية والملاحة التبعية أو الفرعية تتبع الملاحة الأكثر أهمية لأن الفرع يتبع الأصل وتحديد الملاحة تخضع لتقدير محكمة الموضوع </a:t>
            </a:r>
            <a:r>
              <a:rPr b="1" lang="ar-SA" sz="2000" spc="-1" strike="noStrike">
                <a:solidFill>
                  <a:srgbClr val="ff0000"/>
                </a:solidFill>
                <a:latin typeface="Gill Sans MT"/>
              </a:rPr>
              <a:t>وفي حال انعدام عناصر الترجيح بين الملاحة البحرية والملاحة النهرية بالنسبة لرحله واحدة فلا يوجد بديل عن خضوع كل من نوعي الملاحة للنظام القانوني الذي يحكمه.</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عريف القانون البحري </a:t>
            </a:r>
            <a:endParaRPr b="0" lang="en-US" sz="3200" spc="-1" strike="noStrike">
              <a:solidFill>
                <a:srgbClr val="464653"/>
              </a:solidFill>
              <a:latin typeface="Bookman Old Style"/>
            </a:endParaRPr>
          </a:p>
        </p:txBody>
      </p:sp>
      <p:sp>
        <p:nvSpPr>
          <p:cNvPr id="355" name=""/>
          <p:cNvSpPr txBox="1"/>
          <p:nvPr/>
        </p:nvSpPr>
        <p:spPr>
          <a:xfrm>
            <a:off x="468360" y="1341360"/>
            <a:ext cx="8229600" cy="49370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هو القانون الذي ينظم العلاقات التي تنشأ عن استخدام البحار في الملاحة البحرية..</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ذا التعريف يشمل فرعين للقانون البحري : القانون البحري العام والقانون البحري الخاص </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القانون البحري العام هو : مجموع القواعد التي تنطبق على العلاقات التي تترتب على الملاحة البحرية والتي تكون الدولة طرفا فيها بوصفها صاحبة السيادة على اقليمها ومن ثم تنطوي تحته قواعد القانون الدولي العام البحري الذي ينظم العلاقات البحرية بين الدول في وقت السلم والحرب ..</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انواعه : القانون البحري العام القانون الاداري البحري كقواعد استخدام الربابنه والبحارة وشروط استخدامهم ..</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القانون الجنائي البحري ويشمل القواعد الخاصة بالجرائم المتعلقة بالملاحة البحرية .. </a:t>
            </a:r>
            <a:endParaRPr b="0" lang="en-US" sz="2600" spc="-1" strike="noStrike">
              <a:solidFill>
                <a:srgbClr val="000000"/>
              </a:solidFill>
              <a:latin typeface="Gill Sans MT"/>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475920"/>
            <a:ext cx="82296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64653"/>
                </a:solidFill>
                <a:latin typeface="Bookman Old Style"/>
                <a:cs typeface="Times New Roman"/>
              </a:rPr>
              <a:t>رابعاً: مصادر القانون البحري:</a:t>
            </a:r>
            <a:br>
              <a:rPr sz="2900"/>
            </a:br>
            <a:endParaRPr b="0" lang="en-US" sz="2900" spc="-1" strike="noStrike">
              <a:solidFill>
                <a:srgbClr val="464653"/>
              </a:solidFill>
              <a:latin typeface="Bookman Old Style"/>
            </a:endParaRPr>
          </a:p>
        </p:txBody>
      </p:sp>
      <p:sp>
        <p:nvSpPr>
          <p:cNvPr id="395" name=""/>
          <p:cNvSpPr txBox="1"/>
          <p:nvPr/>
        </p:nvSpPr>
        <p:spPr>
          <a:xfrm>
            <a:off x="468360" y="1557360"/>
            <a:ext cx="8229600" cy="493704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أولا: المصادر الملزم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١</a:t>
            </a:r>
            <a:r>
              <a:rPr b="0" lang="ar-SA" sz="2800" spc="-1" strike="noStrike">
                <a:solidFill>
                  <a:srgbClr val="ff0000"/>
                </a:solidFill>
                <a:latin typeface="Gill Sans MT"/>
              </a:rPr>
              <a:t>- النصوص الشرعي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٢</a:t>
            </a:r>
            <a:r>
              <a:rPr b="0" lang="ar-SA" sz="2800" spc="-1" strike="noStrike">
                <a:solidFill>
                  <a:srgbClr val="ff0000"/>
                </a:solidFill>
                <a:latin typeface="Gill Sans MT"/>
              </a:rPr>
              <a:t>- العرف.</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٣</a:t>
            </a:r>
            <a:r>
              <a:rPr b="0" lang="ar-SA" sz="2800" spc="-1" strike="noStrike">
                <a:solidFill>
                  <a:srgbClr val="ff0000"/>
                </a:solidFill>
                <a:latin typeface="Gill Sans MT"/>
              </a:rPr>
              <a:t>- العادات البحري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ثانيا: المصادر التفسيرية:</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٤</a:t>
            </a:r>
            <a:r>
              <a:rPr b="0" lang="ar-SA" sz="2800" spc="-1" strike="noStrike">
                <a:solidFill>
                  <a:srgbClr val="ff0000"/>
                </a:solidFill>
                <a:latin typeface="Gill Sans MT"/>
              </a:rPr>
              <a:t>- أحكام القضاء.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٥</a:t>
            </a:r>
            <a:r>
              <a:rPr b="0" lang="ar-SA" sz="2800" spc="-1" strike="noStrike">
                <a:solidFill>
                  <a:srgbClr val="ff0000"/>
                </a:solidFill>
                <a:latin typeface="Gill Sans MT"/>
              </a:rPr>
              <a:t>- آراء الشراح.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التشريع</a:t>
            </a:r>
            <a:endParaRPr b="0" lang="en-US" sz="2900" spc="-1" strike="noStrike">
              <a:solidFill>
                <a:srgbClr val="464653"/>
              </a:solidFill>
              <a:latin typeface="Bookman Old Style"/>
            </a:endParaRPr>
          </a:p>
        </p:txBody>
      </p:sp>
      <p:sp>
        <p:nvSpPr>
          <p:cNvPr id="397" name=""/>
          <p:cNvSpPr txBox="1"/>
          <p:nvPr/>
        </p:nvSpPr>
        <p:spPr>
          <a:xfrm>
            <a:off x="468360" y="1413000"/>
            <a:ext cx="8229600" cy="4937040"/>
          </a:xfrm>
          <a:prstGeom prst="rect">
            <a:avLst/>
          </a:prstGeom>
          <a:noFill/>
          <a:ln w="0">
            <a:noFill/>
          </a:ln>
        </p:spPr>
        <p:txBody>
          <a:bodyPr anchor="t">
            <a:normAutofit fontScale="82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ill Sans MT"/>
              </a:rPr>
              <a:t>يعتبر نظام المحكمة التجارية الصادر في عام </a:t>
            </a:r>
            <a:r>
              <a:rPr b="1" lang="ar-SA" sz="2200" spc="-1" strike="noStrike">
                <a:solidFill>
                  <a:srgbClr val="ff0000"/>
                </a:solidFill>
                <a:latin typeface="Gill Sans MT"/>
              </a:rPr>
              <a:t>١٣٥٠</a:t>
            </a:r>
            <a:r>
              <a:rPr b="1" lang="ar-SA" sz="2200" spc="-1" strike="noStrike">
                <a:solidFill>
                  <a:srgbClr val="ff0000"/>
                </a:solidFill>
                <a:latin typeface="Gill Sans MT"/>
              </a:rPr>
              <a:t> هو التشريع الرئيسي في المواد البحرية </a:t>
            </a:r>
            <a:r>
              <a:rPr b="1" lang="ar-SA" sz="2200" spc="-1" strike="noStrike">
                <a:solidFill>
                  <a:srgbClr val="000000"/>
                </a:solidFill>
                <a:latin typeface="Gill Sans MT"/>
              </a:rPr>
              <a:t>وقد كان </a:t>
            </a:r>
            <a:r>
              <a:rPr b="1" lang="ar-SA" sz="2200" spc="-1" strike="noStrike">
                <a:solidFill>
                  <a:srgbClr val="0070c0"/>
                </a:solidFill>
                <a:latin typeface="Gill Sans MT"/>
              </a:rPr>
              <a:t>نظام مديرية خفر السواحل الصادر عام </a:t>
            </a:r>
            <a:r>
              <a:rPr b="1" lang="ar-SA" sz="2200" spc="-1" strike="noStrike">
                <a:solidFill>
                  <a:srgbClr val="0070c0"/>
                </a:solidFill>
                <a:latin typeface="Gill Sans MT"/>
              </a:rPr>
              <a:t>١٣٥٤</a:t>
            </a:r>
            <a:r>
              <a:rPr b="1" lang="ar-SA" sz="2200" spc="-1" strike="noStrike">
                <a:solidFill>
                  <a:srgbClr val="0070c0"/>
                </a:solidFill>
                <a:latin typeface="Gill Sans MT"/>
              </a:rPr>
              <a:t> ينظم العمل في الموانئ وأحكامه </a:t>
            </a:r>
            <a:r>
              <a:rPr b="1" lang="ar-SA" sz="2200" spc="-1" strike="noStrike">
                <a:solidFill>
                  <a:srgbClr val="000000"/>
                </a:solidFill>
                <a:latin typeface="Gill Sans MT"/>
              </a:rPr>
              <a:t>إلا أن أغلب أحكامها الغيت بالمرسوم الملكي الصادر </a:t>
            </a:r>
            <a:r>
              <a:rPr b="1" lang="ar-SA" sz="2200" spc="-1" strike="noStrike">
                <a:solidFill>
                  <a:srgbClr val="7030a0"/>
                </a:solidFill>
                <a:latin typeface="Gill Sans MT"/>
              </a:rPr>
              <a:t>عام </a:t>
            </a:r>
            <a:r>
              <a:rPr b="1" lang="ar-SA" sz="2200" spc="-1" strike="noStrike">
                <a:solidFill>
                  <a:srgbClr val="7030a0"/>
                </a:solidFill>
                <a:latin typeface="Gill Sans MT"/>
              </a:rPr>
              <a:t>١٣٩٤</a:t>
            </a:r>
            <a:r>
              <a:rPr b="1" lang="ar-SA" sz="2200" spc="-1" strike="noStrike">
                <a:solidFill>
                  <a:srgbClr val="7030a0"/>
                </a:solidFill>
                <a:latin typeface="Gill Sans MT"/>
              </a:rPr>
              <a:t> المتعلق بنظام الموانئ والمنابر البحرية </a:t>
            </a:r>
            <a:r>
              <a:rPr b="1" lang="ar-SA" sz="2200" spc="-1" strike="noStrike">
                <a:solidFill>
                  <a:srgbClr val="000000"/>
                </a:solidFill>
                <a:latin typeface="Gill Sans MT"/>
              </a:rPr>
              <a:t>وقد نُص على أن هذا النظام يحل مكان النظام السابق وقد نص النظام أيضا على أن يُصدر وزير المواصلات اللوائح اللازمة لتنظيم أهم المسائل المتصلة بالملاحة كالتحقق من شروط السلامة والأمن في وسائط النقل البحري وإثبات ملكيتها وتسجيل سفن أعالي البحار والتصرفات التي ترد عليها وعمليات الإرشاد البحري وقد </a:t>
            </a:r>
            <a:r>
              <a:rPr b="1" lang="ar-SA" sz="2200" spc="-1" strike="noStrike">
                <a:solidFill>
                  <a:srgbClr val="cc00cc"/>
                </a:solidFill>
                <a:latin typeface="Gill Sans MT"/>
              </a:rPr>
              <a:t>صدر تنفيذاً لذلك قرار وزير المواصلات الصادر عام </a:t>
            </a:r>
            <a:r>
              <a:rPr b="1" lang="ar-SA" sz="2200" spc="-1" strike="noStrike">
                <a:solidFill>
                  <a:srgbClr val="cc00cc"/>
                </a:solidFill>
                <a:latin typeface="Gill Sans MT"/>
              </a:rPr>
              <a:t>١٣٩٥</a:t>
            </a:r>
            <a:r>
              <a:rPr b="1" lang="ar-SA" sz="2200" spc="-1" strike="noStrike">
                <a:solidFill>
                  <a:srgbClr val="cc00cc"/>
                </a:solidFill>
                <a:latin typeface="Gill Sans MT"/>
              </a:rPr>
              <a:t> باعتماد لائحة المواني والمرافئ والمنائر البحرية وهي تنظم مسائل هامة كالقطر البحري وشحن وتفريغ البضائع والإرشاد البحري ومتعهدي الشحن والتفريغ والتوكيلات البحرية والرقابة والتفتيش على السفن وتسجيل السفن التي ترفع علم المملكة وإكسابها الجنسية السعودية وترخيص الملاحة وشهادات السلامة وشهادة خطوط الشحن وقياس حمولة السفينة ومنع تلوث مياه البحر بالزيت وفضلات السفن وشرط مزاولة المهن البحرية</a:t>
            </a:r>
            <a:endParaRPr b="0" lang="en-US" sz="2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99" name=""/>
          <p:cNvSpPr txBox="1"/>
          <p:nvPr/>
        </p:nvSpPr>
        <p:spPr>
          <a:xfrm>
            <a:off x="468360" y="1341360"/>
            <a:ext cx="8229600" cy="49370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ما نص على عقوبات توقع على مخالفة أحكامه </a:t>
            </a:r>
            <a:r>
              <a:rPr b="0" lang="ar-SA" sz="2400" spc="-1" strike="noStrike">
                <a:solidFill>
                  <a:srgbClr val="cc00cc"/>
                </a:solidFill>
                <a:latin typeface="Gill Sans MT"/>
              </a:rPr>
              <a:t>وتحولت إدارة المواني إلى مؤسسة عامة بمقتضى المرسوم الملكي الصادر عام </a:t>
            </a:r>
            <a:r>
              <a:rPr b="0" lang="ar-SA" sz="2400" spc="-1" strike="noStrike">
                <a:solidFill>
                  <a:srgbClr val="cc00cc"/>
                </a:solidFill>
                <a:latin typeface="Gill Sans MT"/>
              </a:rPr>
              <a:t>١٣٩٦</a:t>
            </a:r>
            <a:r>
              <a:rPr b="0" lang="ar-SA" sz="2400" spc="-1" strike="noStrike">
                <a:solidFill>
                  <a:srgbClr val="cc00cc"/>
                </a:solidFill>
                <a:latin typeface="Gill Sans MT"/>
              </a:rPr>
              <a:t> وهي ترتبط بمجلس الوزراء ويعين رئيسها وأعضاء مجلس إداراتها بأمر ملكي.</a:t>
            </a:r>
            <a:r>
              <a:rPr b="0" lang="ar-SA" sz="2400" spc="-1" strike="noStrike">
                <a:solidFill>
                  <a:srgbClr val="000000"/>
                </a:solidFill>
                <a:latin typeface="Gill Sans MT"/>
              </a:rPr>
              <a:t> </a:t>
            </a:r>
            <a:r>
              <a:rPr b="0" lang="ar-SA" sz="2400" spc="-1" strike="noStrike">
                <a:solidFill>
                  <a:srgbClr val="002060"/>
                </a:solidFill>
                <a:latin typeface="Gill Sans MT"/>
              </a:rPr>
              <a:t>والغرض الرئيسي منها وضع القواعد اللازمة لإدارة الموانئ بمقتضى المادة الرابعة للمؤسسة العامة للموانئ السعودية إصدار القرارات واللوائح الداخلية المتعلقة بالشؤون الإدارية والفنية </a:t>
            </a:r>
            <a:r>
              <a:rPr b="0" lang="ar-SA" sz="2400" spc="-1" strike="noStrike">
                <a:solidFill>
                  <a:srgbClr val="000000"/>
                </a:solidFill>
                <a:latin typeface="Gill Sans MT"/>
              </a:rPr>
              <a:t>للموانئ وقد أصدرت المؤسسة في عام </a:t>
            </a:r>
            <a:r>
              <a:rPr b="0" lang="ar-SA" sz="2400" spc="-1" strike="noStrike">
                <a:solidFill>
                  <a:srgbClr val="000000"/>
                </a:solidFill>
                <a:latin typeface="Gill Sans MT"/>
              </a:rPr>
              <a:t>١٤٠٠</a:t>
            </a:r>
            <a:r>
              <a:rPr b="0" lang="ar-SA" sz="2400" spc="-1" strike="noStrike">
                <a:solidFill>
                  <a:srgbClr val="000000"/>
                </a:solidFill>
                <a:latin typeface="Gill Sans MT"/>
              </a:rPr>
              <a:t> </a:t>
            </a:r>
            <a:r>
              <a:rPr b="0" lang="ar-SA" sz="2400" spc="-1" strike="noStrike">
                <a:solidFill>
                  <a:srgbClr val="00b0f0"/>
                </a:solidFill>
                <a:latin typeface="Gill Sans MT"/>
              </a:rPr>
              <a:t>قواعد وتعليمات الموانئ البحرية في أربعة أجزاء وهي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أول : خاص بالسفن بالموانئ.</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ثاني : خاص في عمليات الموانئ.</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ثالث : خاص في السلامة في الموانئ.</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رابع : خاص في قواعد خاصة بالملاحة.</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ea typeface="Times New Roman"/>
              </a:rPr>
              <a:t> المعاهدات والإتفاقيات الدولية التي انضمت إليها المملكة</a:t>
            </a:r>
            <a:br>
              <a:rPr sz="2900"/>
            </a:br>
            <a:endParaRPr b="0" lang="en-US" sz="2900" spc="-1" strike="noStrike">
              <a:solidFill>
                <a:srgbClr val="464653"/>
              </a:solidFill>
              <a:latin typeface="Bookman Old Style"/>
            </a:endParaRPr>
          </a:p>
        </p:txBody>
      </p:sp>
      <p:sp>
        <p:nvSpPr>
          <p:cNvPr id="401" name=""/>
          <p:cNvSpPr txBox="1"/>
          <p:nvPr/>
        </p:nvSpPr>
        <p:spPr>
          <a:xfrm>
            <a:off x="468360" y="1483920"/>
            <a:ext cx="8229600" cy="4938840"/>
          </a:xfrm>
          <a:prstGeom prst="rect">
            <a:avLst/>
          </a:prstGeom>
          <a:noFill/>
          <a:ln w="0">
            <a:noFill/>
          </a:ln>
        </p:spPr>
        <p:txBody>
          <a:bodyPr anchor="t">
            <a:normAutofit fontScale="87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f0"/>
                </a:solidFill>
                <a:latin typeface="Gill Sans MT"/>
              </a:rPr>
              <a:t>انضمت المملكة لعدد من المعاهدات منها المعاهدة الدولية لسلامة الأرواح في البحار المبرمة في لندن  المبرمة عام </a:t>
            </a:r>
            <a:r>
              <a:rPr b="1" lang="ar-SA" sz="2000" spc="-1" strike="noStrike">
                <a:solidFill>
                  <a:srgbClr val="00b0f0"/>
                </a:solidFill>
                <a:latin typeface="Gill Sans MT"/>
              </a:rPr>
              <a:t>١٩٦٠</a:t>
            </a:r>
            <a:r>
              <a:rPr b="1" lang="ar-SA" sz="2000" spc="-1" strike="noStrike">
                <a:solidFill>
                  <a:srgbClr val="000000"/>
                </a:solidFill>
                <a:latin typeface="Gill Sans MT"/>
              </a:rPr>
              <a:t> كما انضمت لمعاهدة </a:t>
            </a:r>
            <a:r>
              <a:rPr b="1" lang="ar-SA" sz="2000" spc="-1" strike="noStrike">
                <a:solidFill>
                  <a:srgbClr val="ff0066"/>
                </a:solidFill>
                <a:latin typeface="Gill Sans MT"/>
              </a:rPr>
              <a:t>منع التصادم في البحار الصادرة عام </a:t>
            </a:r>
            <a:r>
              <a:rPr b="1" lang="ar-SA" sz="2000" spc="-1" strike="noStrike">
                <a:solidFill>
                  <a:srgbClr val="ff0066"/>
                </a:solidFill>
                <a:latin typeface="Gill Sans MT"/>
              </a:rPr>
              <a:t>١٩٧٢</a:t>
            </a:r>
            <a:r>
              <a:rPr b="1" lang="ar-SA" sz="2000" spc="-1" strike="noStrike">
                <a:solidFill>
                  <a:srgbClr val="7030a0"/>
                </a:solidFill>
                <a:latin typeface="Gill Sans MT"/>
              </a:rPr>
              <a:t> </a:t>
            </a:r>
            <a:r>
              <a:rPr b="1" lang="ar-SA" sz="2000" spc="-1" strike="noStrike">
                <a:solidFill>
                  <a:srgbClr val="000000"/>
                </a:solidFill>
                <a:latin typeface="Gill Sans MT"/>
              </a:rPr>
              <a:t>أيضا انضمت إلى </a:t>
            </a:r>
            <a:r>
              <a:rPr b="1" lang="ar-SA" sz="2000" spc="-1" strike="noStrike">
                <a:solidFill>
                  <a:srgbClr val="002060"/>
                </a:solidFill>
                <a:latin typeface="Gill Sans MT"/>
              </a:rPr>
              <a:t>معاهدة منع تلوث مياه البحر بالزيت الصادرة عام </a:t>
            </a:r>
            <a:r>
              <a:rPr b="1" lang="ar-SA" sz="2000" spc="-1" strike="noStrike">
                <a:solidFill>
                  <a:srgbClr val="002060"/>
                </a:solidFill>
                <a:latin typeface="Gill Sans MT"/>
              </a:rPr>
              <a:t>١٩٥٤</a:t>
            </a:r>
            <a:r>
              <a:rPr b="1" lang="ar-SA" sz="2000" spc="-1" strike="noStrike">
                <a:solidFill>
                  <a:srgbClr val="002060"/>
                </a:solidFill>
                <a:latin typeface="Gill Sans MT"/>
              </a:rPr>
              <a:t> </a:t>
            </a:r>
            <a:r>
              <a:rPr b="1" lang="ar-SA" sz="2000" spc="-1" strike="noStrike">
                <a:solidFill>
                  <a:srgbClr val="000000"/>
                </a:solidFill>
                <a:latin typeface="Gill Sans MT"/>
              </a:rPr>
              <a:t>كما انضمت </a:t>
            </a:r>
            <a:r>
              <a:rPr b="1" lang="ar-SA" sz="2000" spc="-1" strike="noStrike">
                <a:solidFill>
                  <a:srgbClr val="cc00cc"/>
                </a:solidFill>
                <a:latin typeface="Gill Sans MT"/>
              </a:rPr>
              <a:t>لمعاهدة انشاء منظمة دولية استشارية للملاحة البحرية التي ابرمت في جنيف وبتاريخ </a:t>
            </a:r>
            <a:r>
              <a:rPr b="1" lang="ar-SA" sz="2000" spc="-1" strike="noStrike">
                <a:solidFill>
                  <a:srgbClr val="cc00cc"/>
                </a:solidFill>
                <a:latin typeface="Gill Sans MT"/>
              </a:rPr>
              <a:t>١٩٧٥</a:t>
            </a:r>
            <a:r>
              <a:rPr b="1" lang="ar-SA" sz="2000" spc="-1" strike="noStrike">
                <a:solidFill>
                  <a:srgbClr val="00b050"/>
                </a:solidFill>
                <a:latin typeface="Gill Sans MT"/>
              </a:rPr>
              <a:t> وانضمت المملكة أيضاً للمعاهدة الدولية لخطوط الشحن الموقع عليها بلندن عام </a:t>
            </a:r>
            <a:r>
              <a:rPr b="1" lang="ar-SA" sz="2000" spc="-1" strike="noStrike">
                <a:solidFill>
                  <a:srgbClr val="00b050"/>
                </a:solidFill>
                <a:latin typeface="Gill Sans MT"/>
              </a:rPr>
              <a:t>١٩٦٦</a:t>
            </a:r>
            <a:r>
              <a:rPr b="1" lang="ar-SA" sz="2000" spc="-1" strike="noStrike">
                <a:solidFill>
                  <a:srgbClr val="000000"/>
                </a:solidFill>
                <a:latin typeface="Gill Sans MT"/>
              </a:rPr>
              <a:t> وكذلك </a:t>
            </a:r>
            <a:r>
              <a:rPr b="1" lang="ar-SA" sz="2000" spc="-1" strike="noStrike">
                <a:solidFill>
                  <a:srgbClr val="002060"/>
                </a:solidFill>
                <a:latin typeface="Gill Sans MT"/>
              </a:rPr>
              <a:t>انضمت للمعاهدة الدولية لقياس حمولة السفن المبرمة عام </a:t>
            </a:r>
            <a:r>
              <a:rPr b="1" lang="ar-SA" sz="2000" spc="-1" strike="noStrike">
                <a:solidFill>
                  <a:srgbClr val="002060"/>
                </a:solidFill>
                <a:latin typeface="Gill Sans MT"/>
              </a:rPr>
              <a:t>١٩٦٩</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بالإضافة للمعاهدات السابقة انضمت إلى عدد من المعاهدات الأخرى ومنها اتفاقية سفن رحلات الركاب وانضمامها لبروتوكول الفراغات المطلوبة للسفن سالفة الذكر وانضمامها أيضا للمعاهدة الدولية لسلامة الحاويات  وانضمت المملكة أيضاً إلى </a:t>
            </a:r>
            <a:r>
              <a:rPr b="1" lang="ar-SA" sz="2000" spc="-1" strike="noStrike">
                <a:solidFill>
                  <a:srgbClr val="00b050"/>
                </a:solidFill>
                <a:latin typeface="Gill Sans MT"/>
              </a:rPr>
              <a:t>الاتفاقية الدولية لسلامة الأرواح في البحار المبرمة عام </a:t>
            </a:r>
            <a:r>
              <a:rPr b="1" lang="ar-SA" sz="2000" spc="-1" strike="noStrike">
                <a:solidFill>
                  <a:srgbClr val="00b050"/>
                </a:solidFill>
                <a:latin typeface="Gill Sans MT"/>
              </a:rPr>
              <a:t>١٩٧٤</a:t>
            </a:r>
            <a:r>
              <a:rPr b="1" lang="ar-SA" sz="2000" spc="-1" strike="noStrike">
                <a:solidFill>
                  <a:srgbClr val="00b050"/>
                </a:solidFill>
                <a:latin typeface="Gill Sans MT"/>
              </a:rPr>
              <a:t>وذلك بناءً على المرسوم الملكي الصادر عام </a:t>
            </a:r>
            <a:r>
              <a:rPr b="1" lang="ar-SA" sz="2000" spc="-1" strike="noStrike">
                <a:solidFill>
                  <a:srgbClr val="00b050"/>
                </a:solidFill>
                <a:latin typeface="Gill Sans MT"/>
              </a:rPr>
              <a:t>١٤٠٤</a:t>
            </a:r>
            <a:r>
              <a:rPr b="1" lang="ar-SA" sz="2000" spc="-1" strike="noStrike">
                <a:solidFill>
                  <a:srgbClr val="00b050"/>
                </a:solidFill>
                <a:latin typeface="Gill Sans MT"/>
              </a:rPr>
              <a:t>.</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تعد القوانين واللوائح المتصلة بالملاحة البحرية جزءاً مكملاً للتشريع وتعد قواعد القانون التجاري بمثابة قواعد عامة للقانون البحري تطبق عند عدم وجود نص أو عرف وتعتبر المعاهدات الدولية نافذة المفعول من بين مصادر التشريع البحري إذا كانت متعلقة بالملاحة البحرية. </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64653"/>
                </a:solidFill>
                <a:latin typeface="Bookman Old Style"/>
                <a:cs typeface="Times New Roman"/>
              </a:rPr>
              <a:t>العرف و العادات البحرية</a:t>
            </a:r>
            <a:br>
              <a:rPr sz="2600"/>
            </a:br>
            <a:endParaRPr b="0" lang="en-US" sz="2600" spc="-1" strike="noStrike">
              <a:solidFill>
                <a:srgbClr val="464653"/>
              </a:solidFill>
              <a:latin typeface="Bookman Old Style"/>
            </a:endParaRPr>
          </a:p>
        </p:txBody>
      </p:sp>
      <p:sp>
        <p:nvSpPr>
          <p:cNvPr id="403" name=""/>
          <p:cNvSpPr txBox="1"/>
          <p:nvPr/>
        </p:nvSpPr>
        <p:spPr>
          <a:xfrm>
            <a:off x="468360" y="1773360"/>
            <a:ext cx="8229600" cy="4937040"/>
          </a:xfrm>
          <a:prstGeom prst="rect">
            <a:avLst/>
          </a:prstGeom>
          <a:noFill/>
          <a:ln w="0">
            <a:noFill/>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 أن الصورة التي أخذتها القواعد المنظمة للملاحة البحرية هي عرف بحري استقر بعد ظهور هذه الملاحة و </a:t>
            </a:r>
            <a:r>
              <a:rPr b="1" lang="ar-SA" sz="2000" spc="-1" strike="noStrike">
                <a:solidFill>
                  <a:srgbClr val="00b050"/>
                </a:solidFill>
                <a:latin typeface="Gill Sans MT"/>
              </a:rPr>
              <a:t>ما زال له دوراً هام في القانون البحري إذ يرجع للعرف عند ما لا يجد القاضي نصاً في التشريع البحري</a:t>
            </a:r>
            <a:r>
              <a:rPr b="1" lang="ar-SA" sz="2000" spc="-1" strike="noStrike">
                <a:solidFill>
                  <a:srgbClr val="000000"/>
                </a:solidFill>
                <a:latin typeface="Gill Sans MT"/>
              </a:rPr>
              <a:t>، ومن المقرر أن </a:t>
            </a:r>
            <a:r>
              <a:rPr b="1" lang="ar-SA" sz="2000" spc="-1" strike="noStrike">
                <a:solidFill>
                  <a:srgbClr val="0070c0"/>
                </a:solidFill>
                <a:latin typeface="Gill Sans MT"/>
              </a:rPr>
              <a:t>العرف أقل قوة من التشريع و من ثم لا يلغي العرف نصاً تشريعياً، إلا أن العرف توصل في بعض الحالات إلى تعطيل نصوص تشريعية، </a:t>
            </a:r>
            <a:r>
              <a:rPr b="1" lang="ar-SA" sz="2000" spc="-1" strike="noStrike">
                <a:solidFill>
                  <a:srgbClr val="000000"/>
                </a:solidFill>
                <a:latin typeface="Gill Sans MT"/>
              </a:rPr>
              <a:t>من ذلك أن المادة </a:t>
            </a:r>
            <a:r>
              <a:rPr b="1" lang="ar-SA" sz="2000" spc="-1" strike="noStrike">
                <a:solidFill>
                  <a:srgbClr val="000000"/>
                </a:solidFill>
                <a:latin typeface="Gill Sans MT"/>
              </a:rPr>
              <a:t>251</a:t>
            </a:r>
            <a:r>
              <a:rPr b="1" lang="ar-SA" sz="2000" spc="-1" strike="noStrike">
                <a:solidFill>
                  <a:srgbClr val="000000"/>
                </a:solidFill>
                <a:latin typeface="Gill Sans MT"/>
              </a:rPr>
              <a:t> </a:t>
            </a:r>
            <a:r>
              <a:rPr b="1" lang="ar-SA" sz="2000" spc="-1" strike="noStrike">
                <a:solidFill>
                  <a:srgbClr val="ff0000"/>
                </a:solidFill>
                <a:latin typeface="Gill Sans MT"/>
              </a:rPr>
              <a:t>من نظام المحكمة التجارية توجب تحرير سند الشحن البحري من أربع نسخ أصلية على الأقل، وعلى خلاف ذلك جرى العرف بأن يحرر من نسختين أو ثلاث.</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rPr>
              <a:t>و العادات البحرية دون العرف في المرتبة، و هي تستمد قوتها من اتجاه نية الافراد إلى إعمال حكمها صراحة أو ضمناً</a:t>
            </a:r>
            <a:r>
              <a:rPr b="1" lang="ar-SA" sz="2000" spc="-1" strike="noStrike">
                <a:solidFill>
                  <a:srgbClr val="000000"/>
                </a:solidFill>
                <a:latin typeface="Gill Sans MT"/>
              </a:rPr>
              <a:t>، وقد تكون العادات البحرية دولية يعمل بها في جميع البلاد البحرية، وقد </a:t>
            </a:r>
            <a:r>
              <a:rPr b="1" lang="ar-SA" sz="2000" spc="-1" strike="noStrike">
                <a:solidFill>
                  <a:srgbClr val="528693"/>
                </a:solidFill>
                <a:latin typeface="Gill Sans MT"/>
              </a:rPr>
              <a:t>تكون عامة تسري في جميع موانئ الدولة، وقد تقتصر على ميناء معين، </a:t>
            </a:r>
            <a:r>
              <a:rPr b="1" lang="ar-SA" sz="2000" spc="-1" strike="noStrike">
                <a:solidFill>
                  <a:srgbClr val="000000"/>
                </a:solidFill>
                <a:latin typeface="Gill Sans MT"/>
              </a:rPr>
              <a:t>ويحيل المشرع إلى العادات البحرية في كثير من المسائل، من ذلك أنه </a:t>
            </a:r>
            <a:r>
              <a:rPr b="1" lang="ar-SA" sz="2000" spc="-1" strike="noStrike">
                <a:solidFill>
                  <a:srgbClr val="ff0066"/>
                </a:solidFill>
                <a:latin typeface="Gill Sans MT"/>
              </a:rPr>
              <a:t>اذا لم يتم الاتفاق في عقد النقل البحري على ميعاد محدد أو التفريغ يتم الرجوع إلى ما جرت به العادة في الميناء.</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لما كانت العادات غير مكتوبة، فيقع على من يتمسك بحكم ما جرت به العادة أن يقيم الدليل على استقرار هذه العادة، و يستعان في ذلك بالرجوع إلى الغرف التجارية.</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68360" y="907920"/>
            <a:ext cx="8229600" cy="55152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Gill Sans MT"/>
              </a:rPr>
              <a:t>احكام القضاء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Gill Sans MT"/>
              </a:rPr>
              <a:t>يلجأ القضاء إلى الأحكام القضائية ليستأنس فيها في تفسير النصوص التشريعية و لكنه لايلتزم بأحكام المحاكم مهما كانت درجتها.</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Gill Sans MT"/>
              </a:rPr>
              <a:t>الفقه</a:t>
            </a: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يقوم شراح القانون البحري بدور هام في تفسير النصوص التشريعية و تحليل الأحكام القضائية، ويسترشد القاضي بآراء الفقهاء و لا يلتزم برأي منها.</a:t>
            </a: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خامساً: منهج الكتاب</a:t>
            </a:r>
            <a:endParaRPr b="0" lang="en-US" sz="2900" spc="-1" strike="noStrike">
              <a:solidFill>
                <a:srgbClr val="464653"/>
              </a:solidFill>
              <a:latin typeface="Bookman Old Style"/>
            </a:endParaRPr>
          </a:p>
        </p:txBody>
      </p:sp>
      <p:sp>
        <p:nvSpPr>
          <p:cNvPr id="406" name=""/>
          <p:cNvSpPr txBox="1"/>
          <p:nvPr/>
        </p:nvSpPr>
        <p:spPr>
          <a:xfrm>
            <a:off x="468360" y="1483920"/>
            <a:ext cx="8229600" cy="493884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القسم الاول: السفينة كأدة للملاحة البحرية و نظامها القانوني و ملكيتها و الحقوق الأخرى التي ترد عليها، كذلك اشخاص الملاحة البحرية الذين يعملون في البحر وهم المجهز والربان والبحارة، والذين يساهمون بجهدهم في الاستغلال البحري و عملهم على البر وهم أمين السفينة وأمين الحمولة ومقاول الشحن والتفريغ والسمسار البحري، ثم ندرس الملاحة المساعدة و هي الإرشاد و القطر البحريين.</a:t>
            </a: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القسم الثاني: ندرس العقود البحرية وهي عقد إيجار السفينة ،وعقد النقل البحري، و البيوع البحرية، وصوراً خاصة من النقل البحري، هي النقل المتتابع و نقل الاشخاص، ثم نوضح أحكام القرض البحري.</a:t>
            </a: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القسم الثالث: ندرس الحوادث البحرية، وهي التصادم و الجنوح البحري و المساعدة والإنقاذ، والخسارات البحرية المشتركة</a:t>
            </a:r>
            <a:r>
              <a:rPr b="0" lang="ar-SA" sz="2400" spc="-1" strike="noStrike">
                <a:solidFill>
                  <a:srgbClr val="000000"/>
                </a:solidFill>
                <a:latin typeface="Gill Sans MT"/>
              </a:rPr>
              <a:t>.</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408" name=""/>
          <p:cNvSpPr txBox="1"/>
          <p:nvPr/>
        </p:nvSpPr>
        <p:spPr>
          <a:xfrm>
            <a:off x="468360" y="1557360"/>
            <a:ext cx="8229600" cy="493704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عداد:</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ريم العتيبي</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خلود العتيبي </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رام المطيري </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هنوف الشريدي</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غيداء المحيسن</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هود الاسمري</a:t>
            </a: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قانون البحري الخاص : هو مجموعة القواعد التي تنظم العلاقات القانونية التي تنشأ عن استغلال السفن في الملاحة البحرية سواء أكان أطراف العلاقة أشخاص طبيعيين أم كان بينهم اشخاص معنويون من اشخاص القانون العام( الوزارات . او اشخاص القانون الخاص ( الشركات)</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اهو معيار التفرفة بين القانون البحري العام والقانون البحري الخاص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وضوعات القانون وليس الاشخاص.</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على ذلك تسري احكام القانون التجاري البحري على كل علاقة قانونية تنشأ عن استغلال السفن في الملاحة البحري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اريخ القانون البحري وتطوره </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عتبر من اقدم القوانين وقد نشأ في صورة عادات وأعراف بحرية لم تقنن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حضارات :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1</a:t>
            </a:r>
            <a:r>
              <a:rPr b="0" lang="ar-SA" sz="2600" spc="-1" strike="noStrike">
                <a:solidFill>
                  <a:srgbClr val="000000"/>
                </a:solidFill>
                <a:latin typeface="Gill Sans MT"/>
              </a:rPr>
              <a:t>/ الفينيقيون : عرفوا بعض النظم البحرية أهمها قانون رودس في شأن الخسارات البحرية المشترك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يقضي بأنه إذا ماقام الربان بإلقاء بعض البضائع في البحر ليخفف من حمولة السفينة عند تعرضها لخطر الغرق . فإن لصاحب البضاعة الملقاة حق مطالبة مالك السفينه وأصحاب البضائع الاخرى التي تم انقاذها .. – تكون البضاعه مما ثقل وزنة وقلة قيمته-</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1" name=""/>
          <p:cNvSpPr txBox="1"/>
          <p:nvPr/>
        </p:nvSpPr>
        <p:spPr>
          <a:xfrm>
            <a:off x="457200" y="1219320"/>
            <a:ext cx="8229600" cy="4937040"/>
          </a:xfrm>
          <a:prstGeom prst="rect">
            <a:avLst/>
          </a:prstGeom>
          <a:noFill/>
          <a:ln w="0">
            <a:noFill/>
          </a:ln>
        </p:spPr>
        <p:txBody>
          <a:bodyPr anchor="t">
            <a:normAutofit fontScale="98000"/>
          </a:bodyPr>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2</a:t>
            </a:r>
            <a:r>
              <a:rPr b="0" lang="ar-SA" sz="2600" spc="-1" strike="noStrike">
                <a:solidFill>
                  <a:srgbClr val="000000"/>
                </a:solidFill>
                <a:latin typeface="Gill Sans MT"/>
              </a:rPr>
              <a:t>/ الاغريق : عرفةا عقد قرض المخاطر الجسيمة وبموجبة يقرض شخص مبلغا للربان يحتاجه للقيام بالرحلة البحرية . إذا انتهت الرحلة بسلام استرد القرض بإلاضافة إلى نسبة مرتفعة من الربح أما لو غرقت فإن المقرض يفقد حقه في المطالبة بدينة ..</a:t>
            </a:r>
            <a:endParaRPr b="0" lang="en-US" sz="26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3</a:t>
            </a:r>
            <a:r>
              <a:rPr b="0" lang="ar-SA" sz="2600" spc="-1" strike="noStrike">
                <a:solidFill>
                  <a:srgbClr val="000000"/>
                </a:solidFill>
                <a:latin typeface="Gill Sans MT"/>
              </a:rPr>
              <a:t>/ الرومان : احتقروا التجارة البحرية والبرية وتركوا القيام بها للعبيد والأجانب بإستثناء إقرارهم الفكرة التي تقضي بأن الربان نائب عن المجهز ومن ثم يستطيع من يتعامل مع الربان ان يرفع دعواه على المجهز مباشرة  .. </a:t>
            </a:r>
            <a:endParaRPr b="0" lang="en-US" sz="26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4</a:t>
            </a:r>
            <a:r>
              <a:rPr b="0" lang="ar-SA" sz="2600" spc="-1" strike="noStrike">
                <a:solidFill>
                  <a:srgbClr val="000000"/>
                </a:solidFill>
                <a:latin typeface="Gill Sans MT"/>
              </a:rPr>
              <a:t>/ العصر الوسيط كان العرب فضل كبير على الملاحة البحرية وسموا بسادة البحار إذ ترتب على فتوحاتهم تأمين طرق المواصلات البرية والبحرية .</a:t>
            </a:r>
            <a:endParaRPr b="0" lang="en-US" sz="26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3" name=""/>
          <p:cNvSpPr txBox="1"/>
          <p:nvPr/>
        </p:nvSpPr>
        <p:spPr>
          <a:xfrm>
            <a:off x="468360" y="1341360"/>
            <a:ext cx="8229600" cy="49370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بدأت في العصر الوسيط حركة تدوين العادات و الأعراف البحرية، ومن أهم المجموعات التي تم تدوينها مجموعة قواعد أوليرون التي أستمدت من أحكام المحاكم البحرية في الموانئ الفرنسية التي تقع على المحيط الأطلنطي.</a:t>
            </a:r>
            <a:br>
              <a:rPr sz="2400"/>
            </a:b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كذلك مجموعة قنصلية البحر وهي تجميع للعادات البحرية التي كانت سائدة في غرب البحر الأبيض المتوسط، وكان قناصل البحر يطبقونها عند الفصل في المنازعات البحرية، ومن هذه المجموعات مرشد البحر وهو مجموعة خاصة بالتأمين البحري ثم جمعها في مدينة روان بفرنسا، ومجموعة وسبي التي اشتملت على العادات البحرية التي كانت سائدة في موانئ بحر البلطيق.</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5" name=""/>
          <p:cNvSpPr txBox="1"/>
          <p:nvPr/>
        </p:nvSpPr>
        <p:spPr>
          <a:xfrm>
            <a:off x="468360" y="1267920"/>
            <a:ext cx="8229600" cy="49388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في العصر الحديث ظهرت أول قوانين بحرية صدرت في صورة تشريعات وأولها أمر البحرية عام </a:t>
            </a:r>
            <a:r>
              <a:rPr b="0" lang="ar-SA" sz="2400" spc="-1" strike="noStrike">
                <a:solidFill>
                  <a:srgbClr val="000000"/>
                </a:solidFill>
                <a:latin typeface="Gill Sans MT"/>
              </a:rPr>
              <a:t>١٦٨١</a:t>
            </a:r>
            <a:r>
              <a:rPr b="0" lang="ar-SA" sz="2400" spc="-1" strike="noStrike">
                <a:solidFill>
                  <a:srgbClr val="000000"/>
                </a:solidFill>
                <a:latin typeface="Gill Sans MT"/>
              </a:rPr>
              <a:t>م المنظم للتجارة البحرية وقد أصدره لويس الرابع عشر ملك فرنسا، وقد استمدت أغلب أحكامه من العادات و الأعراف البحرية.</a:t>
            </a: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Gill Sans MT"/>
              </a:rPr>
              <a:t>وعندما صدرت المجموعة التجارية الفرنسية في عهد نابليون عام </a:t>
            </a:r>
            <a:r>
              <a:rPr b="0" lang="ar-SA" sz="2400" spc="-1" strike="noStrike">
                <a:solidFill>
                  <a:srgbClr val="000000"/>
                </a:solidFill>
                <a:latin typeface="Gill Sans MT"/>
              </a:rPr>
              <a:t>١٨٠٧</a:t>
            </a:r>
            <a:r>
              <a:rPr b="0" lang="ar-SA" sz="2400" spc="-1" strike="noStrike">
                <a:solidFill>
                  <a:srgbClr val="000000"/>
                </a:solidFill>
                <a:latin typeface="Gill Sans MT"/>
              </a:rPr>
              <a:t> م كان أمر البحرية سالف الذكر مصادر الأحكام التي تضمنها الكتاب الثاني من المجموعة والخاص بالتجارة البحرية.</a:t>
            </a: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في المملكة العربية السعودية تضمن نظام المحكمة التجارية الذي صدر في </a:t>
            </a:r>
            <a:r>
              <a:rPr b="0" lang="ar-SA" sz="2400" spc="-1" strike="noStrike">
                <a:solidFill>
                  <a:srgbClr val="000000"/>
                </a:solidFill>
                <a:latin typeface="Gill Sans MT"/>
              </a:rPr>
              <a:t>١٥</a:t>
            </a:r>
            <a:r>
              <a:rPr b="0" lang="ar-SA" sz="2400" spc="-1" strike="noStrike">
                <a:solidFill>
                  <a:srgbClr val="000000"/>
                </a:solidFill>
                <a:latin typeface="Gill Sans MT"/>
              </a:rPr>
              <a:t> محرم سنة </a:t>
            </a:r>
            <a:r>
              <a:rPr b="0" lang="ar-SA" sz="2400" spc="-1" strike="noStrike">
                <a:solidFill>
                  <a:srgbClr val="000000"/>
                </a:solidFill>
                <a:latin typeface="Gill Sans MT"/>
              </a:rPr>
              <a:t>١٣٥٠</a:t>
            </a:r>
            <a:r>
              <a:rPr b="0" lang="ar-SA" sz="2400" spc="-1" strike="noStrike">
                <a:solidFill>
                  <a:srgbClr val="000000"/>
                </a:solidFill>
                <a:latin typeface="Gill Sans MT"/>
              </a:rPr>
              <a:t> هـ تتعلق بالتجارة البرية .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7" name=""/>
          <p:cNvSpPr txBox="1"/>
          <p:nvPr/>
        </p:nvSpPr>
        <p:spPr>
          <a:xfrm>
            <a:off x="468360" y="1341360"/>
            <a:ext cx="8229600" cy="4937040"/>
          </a:xfrm>
          <a:prstGeom prst="rect">
            <a:avLst/>
          </a:prstGeom>
          <a:noFill/>
          <a:ln w="0">
            <a:noFill/>
          </a:ln>
        </p:spPr>
        <p:txBody>
          <a:bodyPr anchor="t">
            <a:normAutofit fontScale="90000"/>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ذلك صدر عام </a:t>
            </a:r>
            <a:r>
              <a:rPr b="0" lang="ar-SA" sz="2200" spc="-1" strike="noStrike">
                <a:solidFill>
                  <a:srgbClr val="000000"/>
                </a:solidFill>
                <a:latin typeface="Gill Sans MT"/>
              </a:rPr>
              <a:t>١٣٥٤</a:t>
            </a:r>
            <a:r>
              <a:rPr b="0" lang="ar-SA" sz="2200" spc="-1" strike="noStrike">
                <a:solidFill>
                  <a:srgbClr val="000000"/>
                </a:solidFill>
                <a:latin typeface="Gill Sans MT"/>
              </a:rPr>
              <a:t> نظام مديرية خفر السواحل وتوابعها مشتملاً على بعض أحكام تسجيل السفن السعودية، وما يطرأ عليها من نقل للملكية وتنظيم العمل في الموانئ ثم صدر المرسوم عام </a:t>
            </a:r>
            <a:r>
              <a:rPr b="0" lang="ar-SA" sz="2200" spc="-1" strike="noStrike">
                <a:solidFill>
                  <a:srgbClr val="000000"/>
                </a:solidFill>
                <a:latin typeface="Gill Sans MT"/>
              </a:rPr>
              <a:t>١٣٩٤</a:t>
            </a:r>
            <a:r>
              <a:rPr b="0" lang="ar-SA" sz="2200" spc="-1" strike="noStrike">
                <a:solidFill>
                  <a:srgbClr val="000000"/>
                </a:solidFill>
                <a:latin typeface="Gill Sans MT"/>
              </a:rPr>
              <a:t> هـ بنظام الموانئ والمرافئ البحرية ونصت المادة على أن يحل هذا النظام محل نظام مديرية خفر السواحل في كل ما يتعلق بالموانئ والمرافئ و المناثر و يلغي كل ما يتعارض معه من أنظمة أخرى، كذلك صدر مرسوم عام </a:t>
            </a:r>
            <a:r>
              <a:rPr b="0" lang="ar-SA" sz="2200" spc="-1" strike="noStrike">
                <a:solidFill>
                  <a:srgbClr val="000000"/>
                </a:solidFill>
                <a:latin typeface="Gill Sans MT"/>
              </a:rPr>
              <a:t>١٣٩٦</a:t>
            </a:r>
            <a:r>
              <a:rPr b="0" lang="ar-SA" sz="2200" spc="-1" strike="noStrike">
                <a:solidFill>
                  <a:srgbClr val="000000"/>
                </a:solidFill>
                <a:latin typeface="Gill Sans MT"/>
              </a:rPr>
              <a:t> بتحويل إدارة الموانئ إلى مؤسسة عامة، ومرسوم عام </a:t>
            </a:r>
            <a:r>
              <a:rPr b="0" lang="ar-SA" sz="2200" spc="-1" strike="noStrike">
                <a:solidFill>
                  <a:srgbClr val="000000"/>
                </a:solidFill>
                <a:latin typeface="Gill Sans MT"/>
              </a:rPr>
              <a:t>١٣٩٧</a:t>
            </a:r>
            <a:r>
              <a:rPr b="0" lang="ar-SA" sz="2200" spc="-1" strike="noStrike">
                <a:solidFill>
                  <a:srgbClr val="000000"/>
                </a:solidFill>
                <a:latin typeface="Gill Sans MT"/>
              </a:rPr>
              <a:t> بنظام المؤسسة العامة للموانئ السعودية و التي قامت في شهر رجب عام </a:t>
            </a:r>
            <a:r>
              <a:rPr b="0" lang="ar-SA" sz="2200" spc="-1" strike="noStrike">
                <a:solidFill>
                  <a:srgbClr val="000000"/>
                </a:solidFill>
                <a:latin typeface="Gill Sans MT"/>
              </a:rPr>
              <a:t>١٤٠٠</a:t>
            </a:r>
            <a:r>
              <a:rPr b="0" lang="ar-SA" sz="2200" spc="-1" strike="noStrike">
                <a:solidFill>
                  <a:srgbClr val="000000"/>
                </a:solidFill>
                <a:latin typeface="Gill Sans MT"/>
              </a:rPr>
              <a:t> بإصدار مجموعة قواعد و تعليمات الموانئ البحرية.</a:t>
            </a:r>
            <a:br>
              <a:rPr sz="2200"/>
            </a:br>
            <a:endParaRPr b="0" lang="en-US" sz="2200" spc="-1" strike="noStrike">
              <a:solidFill>
                <a:srgbClr val="000000"/>
              </a:solidFill>
              <a:latin typeface="Gill Sans MT"/>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لما كانت القوانين البحرية متشابهة في نشأتها وتطورها، كما أن المخاطر البحرية التي استوجبت وضع قواعد خاصة تنظم التجارة البحرية غير تلك التي تنظم التجارة البرية فقد ظهر اتجاه إلى توحيد قواعد القانون البحري في قوانين الدول المختلفة لأن اختلاف هذه القوانين تظهر معه مشكلة تنازع القوانين.</a:t>
            </a:r>
            <a:endParaRPr b="0" lang="en-US" sz="2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9" name=""/>
          <p:cNvSpPr txBox="1"/>
          <p:nvPr/>
        </p:nvSpPr>
        <p:spPr>
          <a:xfrm>
            <a:off x="468360" y="1483920"/>
            <a:ext cx="8229600" cy="49388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لما كانت أغلب العلاقات البحرية علاقات دولية تتضمن عنصراً أجنبياً أو أكثر فقد اتجه البعض إلى حل مشكلة تنازع القوانين عن طريق تطبيق قانون علم السفينة.</a:t>
            </a:r>
            <a:br>
              <a:rPr sz="2400"/>
            </a:b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الاتجاة الغالب هو توحيد القانون البحري ذاته وذلك بطرب مختلفة منها توحيد القواعد الاتفاقيك كقواعد يورك وانفرس و قواعد فارسوفيا و معاهدة بروكسل.</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لاشك أن أكثر وسائل التوحيد فعالية هي وضع تشريع بحري موحد في جميع الدول، وهو أمر قد يصعب تحققه بين الاتجاهات المختلفة للنظم البحرية وأهمها النظام الفرنسي و الانجلوسكسوني والالماني</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16:02:03Z</dcterms:created>
  <dc:creator>user</dc:creator>
  <dc:description/>
  <dc:language>en-US</dc:language>
  <cp:lastModifiedBy>eman</cp:lastModifiedBy>
  <dcterms:modified xsi:type="dcterms:W3CDTF">2016-09-28T21:45:47Z</dcterms:modified>
  <cp:revision>23</cp:revision>
  <dc:subject/>
  <dc:title>عرض تقديمي في PowerPoint</dc:title>
</cp:coreProperties>
</file>