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gradFill rotWithShape="0">
            <a:gsLst>
              <a:gs pos="0">
                <a:srgbClr val="000066">
                  <a:alpha val="38039"/>
                </a:srgbClr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1116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-20520" y="-11160"/>
            <a:ext cx="401400" cy="6858000"/>
          </a:xfrm>
          <a:prstGeom prst="rect">
            <a:avLst/>
          </a:prstGeom>
          <a:gradFill rotWithShape="0">
            <a:gsLst>
              <a:gs pos="0">
                <a:srgbClr val="336699">
                  <a:alpha val="73333"/>
                </a:srgbClr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87200"/>
            <a:ext cx="304920" cy="644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1e1b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617400" y="1447920"/>
            <a:ext cx="8526600" cy="50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8496360" y="-114480"/>
            <a:ext cx="68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-</a:t>
            </a:r>
            <a:fld id="{636E4A94-C37A-4E54-869E-F3FAC416A05B}" type="slidenum">
              <a:rPr b="1" lang="en-US" sz="2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116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-20520" y="-11160"/>
            <a:ext cx="401400" cy="6858000"/>
          </a:xfrm>
          <a:prstGeom prst="rect">
            <a:avLst/>
          </a:prstGeom>
          <a:gradFill rotWithShape="0">
            <a:gsLst>
              <a:gs pos="0">
                <a:srgbClr val="336699">
                  <a:alpha val="73333"/>
                </a:srgbClr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187200"/>
            <a:ext cx="304920" cy="644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1e1b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533520" y="1447920"/>
            <a:ext cx="8526240" cy="50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609480" y="304920"/>
            <a:ext cx="8479080" cy="1143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Master Title Style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8496360" y="-114480"/>
            <a:ext cx="685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</a:t>
            </a:r>
            <a:fld id="{D2EF57CB-BFEE-48C3-A764-E925583F8016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533520" y="1447920"/>
            <a:ext cx="81532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A large department store collects data on sales made by each of its salespeople.  The number of sales made on a given day by each  of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20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alespeople is shown on the next slid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see also file sales.sav).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urther, the data has been sorted in magnitude.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quired: Descriptive Measures.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Example - Sales  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70" name="Line 5"/>
          <p:cNvSpPr/>
          <p:nvPr/>
        </p:nvSpPr>
        <p:spPr>
          <a:xfrm>
            <a:off x="1981080" y="1219320"/>
            <a:ext cx="5486400" cy="0"/>
          </a:xfrm>
          <a:prstGeom prst="line">
            <a:avLst/>
          </a:prstGeom>
          <a:ln w="76320">
            <a:solidFill>
              <a:srgbClr val="cdc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Example (Continued) -</a:t>
            </a:r>
            <a:r>
              <a:rPr b="1" lang="en-US" sz="3800" spc="-1" strike="noStrike">
                <a:solidFill>
                  <a:srgbClr val="1e1b4b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Sales and Sorted Sales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860560" y="1424160"/>
            <a:ext cx="3441960" cy="50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993300"/>
                </a:solidFill>
                <a:uFillTx/>
                <a:latin typeface="Times New Roman"/>
              </a:rPr>
              <a:t>Sales</a:t>
            </a:r>
            <a:r>
              <a:rPr b="1" lang="en-US" sz="2400" spc="-1" strike="noStrike" u="sng">
                <a:solidFill>
                  <a:srgbClr val="9933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993300"/>
                </a:solidFill>
                <a:uFillTx/>
                <a:latin typeface="Times New Roman"/>
              </a:rPr>
              <a:t>Sorted Sa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9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9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2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2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2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2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3"/>
          <p:cNvSpPr/>
          <p:nvPr/>
        </p:nvSpPr>
        <p:spPr>
          <a:xfrm>
            <a:off x="700200" y="1652760"/>
            <a:ext cx="2755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Sorte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9               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9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2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2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2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2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1981080" y="3200400"/>
            <a:ext cx="1054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1981080" y="4343400"/>
            <a:ext cx="9781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1981080" y="5410080"/>
            <a:ext cx="9781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052080" y="3048120"/>
            <a:ext cx="137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First Quarti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3048120" y="4114800"/>
            <a:ext cx="84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Media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2974680" y="5257800"/>
            <a:ext cx="147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Third Quarti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4771800" y="1617840"/>
            <a:ext cx="125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Times New Roman"/>
              </a:rPr>
              <a:t>(n+1)P/10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4513320" y="2944800"/>
            <a:ext cx="220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20+1)25/100=5.2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4574880" y="3975120"/>
            <a:ext cx="19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20+1)50/100=10.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4582800" y="5167440"/>
            <a:ext cx="208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20+1)75/100=15.7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Line 14"/>
          <p:cNvSpPr/>
          <p:nvPr/>
        </p:nvSpPr>
        <p:spPr>
          <a:xfrm>
            <a:off x="4495680" y="1295280"/>
            <a:ext cx="0" cy="5245200"/>
          </a:xfrm>
          <a:prstGeom prst="line">
            <a:avLst/>
          </a:prstGeom>
          <a:ln w="12600">
            <a:solidFill>
              <a:srgbClr val="00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Line 15"/>
          <p:cNvSpPr/>
          <p:nvPr/>
        </p:nvSpPr>
        <p:spPr>
          <a:xfrm>
            <a:off x="6705720" y="1295280"/>
            <a:ext cx="0" cy="5245200"/>
          </a:xfrm>
          <a:prstGeom prst="line">
            <a:avLst/>
          </a:prstGeom>
          <a:ln w="12600">
            <a:solidFill>
              <a:srgbClr val="00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Rectangle 16"/>
          <p:cNvSpPr/>
          <p:nvPr/>
        </p:nvSpPr>
        <p:spPr>
          <a:xfrm>
            <a:off x="6851520" y="2868480"/>
            <a:ext cx="21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3 + (.25)(1) = 13.2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Rectangle 17"/>
          <p:cNvSpPr/>
          <p:nvPr/>
        </p:nvSpPr>
        <p:spPr>
          <a:xfrm>
            <a:off x="7051680" y="3975120"/>
            <a:ext cx="172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6 + (.5)(0) = 16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6880320" y="5167440"/>
            <a:ext cx="206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8+ (.75)(1) = 18.7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Rectangle 19"/>
          <p:cNvSpPr/>
          <p:nvPr/>
        </p:nvSpPr>
        <p:spPr>
          <a:xfrm>
            <a:off x="7300800" y="1617840"/>
            <a:ext cx="11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Times New Roman"/>
              </a:rPr>
              <a:t>Quartil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1b4b"/>
                </a:solidFill>
                <a:latin typeface="Arial"/>
              </a:rPr>
              <a:t>Example : Finding Quartiles</a:t>
            </a:r>
            <a:endParaRPr b="0" lang="en-US" sz="36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91" name="Rectangle 21"/>
          <p:cNvSpPr/>
          <p:nvPr/>
        </p:nvSpPr>
        <p:spPr>
          <a:xfrm>
            <a:off x="4343400" y="1922400"/>
            <a:ext cx="220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Posi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914400" y="1657440"/>
            <a:ext cx="2755800" cy="49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5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r>
              <a:rPr b="1" lang="en-US" sz="1500" spc="-1" strike="noStrike" u="sng">
                <a:solidFill>
                  <a:srgbClr val="a50021"/>
                </a:solidFill>
                <a:uFillTx/>
                <a:latin typeface="Times New Roman"/>
              </a:rPr>
              <a:t>Sorted  Sales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9  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  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  9 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0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2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3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5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7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7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8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8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9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20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21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22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2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1981080" y="4122720"/>
            <a:ext cx="9781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3048120" y="3970440"/>
            <a:ext cx="84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Media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5635800" y="2295360"/>
            <a:ext cx="2139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di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th Percent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4574880" y="3354480"/>
            <a:ext cx="19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20+1)50/100=10.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7050240" y="3354480"/>
            <a:ext cx="172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16 + (.5)(0) = 16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4710240" y="4230720"/>
            <a:ext cx="412740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media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s the middle value of data sorted in order of magnitude.  It is the 50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percentil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4b"/>
                </a:solidFill>
                <a:latin typeface="Arial"/>
              </a:rPr>
              <a:t>Example – Median (Data is used from Example )</a:t>
            </a:r>
            <a:endParaRPr b="0" lang="en-US" sz="2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1676520" y="2624040"/>
            <a:ext cx="6095880" cy="14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66ff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                                          </a:t>
            </a:r>
            <a:r>
              <a:rPr b="1" lang="en-US" sz="2800" spc="-1" strike="noStrike">
                <a:solidFill>
                  <a:srgbClr val="d8b228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  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:  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8b228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---------------------------------------------------------------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6        9 10   12 13 14 15 16 17 18 19 20 21 22    2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Line 4"/>
          <p:cNvSpPr/>
          <p:nvPr/>
        </p:nvSpPr>
        <p:spPr>
          <a:xfrm>
            <a:off x="4419720" y="4148280"/>
            <a:ext cx="0" cy="9014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3656880" y="4910040"/>
            <a:ext cx="155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Mode = 1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747720" y="5581800"/>
            <a:ext cx="6718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mod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s the most frequently occurring value.  It is the value with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ighest frequency</a:t>
            </a:r>
            <a:r>
              <a:rPr b="0" lang="en-US" sz="2400" spc="-1" strike="noStrike">
                <a:solidFill>
                  <a:srgbClr val="79001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3200" y="152280"/>
            <a:ext cx="847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4b"/>
                </a:solidFill>
                <a:latin typeface="Arial"/>
              </a:rPr>
              <a:t>Example -  Mode (Data is used from Example )</a:t>
            </a:r>
            <a:endParaRPr b="0" lang="en-US" sz="2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9"/>
          <p:cNvGrpSpPr/>
          <p:nvPr/>
        </p:nvGrpSpPr>
        <p:grpSpPr>
          <a:xfrm>
            <a:off x="4419720" y="2133720"/>
            <a:ext cx="3279600" cy="1296720"/>
            <a:chOff x="4419720" y="2133720"/>
            <a:chExt cx="3279600" cy="1296720"/>
          </a:xfrm>
        </p:grpSpPr>
        <p:sp>
          <p:nvSpPr>
            <p:cNvPr id="506" name="Rectangle 28"/>
            <p:cNvSpPr/>
            <p:nvPr/>
          </p:nvSpPr>
          <p:spPr>
            <a:xfrm>
              <a:off x="4419720" y="2133720"/>
              <a:ext cx="3279600" cy="12967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66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7" name="Line 9"/>
            <p:cNvSpPr/>
            <p:nvPr/>
          </p:nvSpPr>
          <p:spPr>
            <a:xfrm>
              <a:off x="4694400" y="2841480"/>
              <a:ext cx="13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8" name="Line 10"/>
            <p:cNvSpPr/>
            <p:nvPr/>
          </p:nvSpPr>
          <p:spPr>
            <a:xfrm>
              <a:off x="5159520" y="2925720"/>
              <a:ext cx="5000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9" name="Line 11"/>
            <p:cNvSpPr/>
            <p:nvPr/>
          </p:nvSpPr>
          <p:spPr>
            <a:xfrm>
              <a:off x="5989680" y="2925720"/>
              <a:ext cx="471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0" name="Rectangle 12"/>
            <p:cNvSpPr/>
            <p:nvPr/>
          </p:nvSpPr>
          <p:spPr>
            <a:xfrm>
              <a:off x="4682520" y="2733840"/>
              <a:ext cx="1364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1" name="Rectangle 13"/>
            <p:cNvSpPr/>
            <p:nvPr/>
          </p:nvSpPr>
          <p:spPr>
            <a:xfrm>
              <a:off x="5512680" y="2373480"/>
              <a:ext cx="1364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2" name="Rectangle 14"/>
            <p:cNvSpPr/>
            <p:nvPr/>
          </p:nvSpPr>
          <p:spPr>
            <a:xfrm>
              <a:off x="5332320" y="2963880"/>
              <a:ext cx="15300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3" name="Rectangle 15"/>
            <p:cNvSpPr/>
            <p:nvPr/>
          </p:nvSpPr>
          <p:spPr>
            <a:xfrm>
              <a:off x="5206680" y="2754360"/>
              <a:ext cx="43560" cy="1828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4" name="Rectangle 16"/>
            <p:cNvSpPr/>
            <p:nvPr/>
          </p:nvSpPr>
          <p:spPr>
            <a:xfrm>
              <a:off x="5270040" y="2219400"/>
              <a:ext cx="77040" cy="1828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5" name="Rectangle 17"/>
            <p:cNvSpPr/>
            <p:nvPr/>
          </p:nvSpPr>
          <p:spPr>
            <a:xfrm>
              <a:off x="4871880" y="2700360"/>
              <a:ext cx="24300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6" name="Rectangle 18"/>
            <p:cNvSpPr/>
            <p:nvPr/>
          </p:nvSpPr>
          <p:spPr>
            <a:xfrm>
              <a:off x="5703840" y="2700360"/>
              <a:ext cx="24300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7" name="Rectangle 19"/>
            <p:cNvSpPr/>
            <p:nvPr/>
          </p:nvSpPr>
          <p:spPr>
            <a:xfrm>
              <a:off x="6505560" y="2700360"/>
              <a:ext cx="24300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8" name="Rectangle 20"/>
            <p:cNvSpPr/>
            <p:nvPr/>
          </p:nvSpPr>
          <p:spPr>
            <a:xfrm>
              <a:off x="5244120" y="2736720"/>
              <a:ext cx="120960" cy="1828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9" name="Rectangle 21"/>
            <p:cNvSpPr/>
            <p:nvPr/>
          </p:nvSpPr>
          <p:spPr>
            <a:xfrm>
              <a:off x="5168880" y="2290680"/>
              <a:ext cx="284040" cy="4878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Rectangle 22"/>
            <p:cNvSpPr/>
            <p:nvPr/>
          </p:nvSpPr>
          <p:spPr>
            <a:xfrm>
              <a:off x="5344920" y="2754360"/>
              <a:ext cx="77040" cy="1828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Rectangle 23"/>
            <p:cNvSpPr/>
            <p:nvPr/>
          </p:nvSpPr>
          <p:spPr>
            <a:xfrm>
              <a:off x="6001920" y="2543040"/>
              <a:ext cx="45792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17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Rectangle 24"/>
            <p:cNvSpPr/>
            <p:nvPr/>
          </p:nvSpPr>
          <p:spPr>
            <a:xfrm>
              <a:off x="6086160" y="2963880"/>
              <a:ext cx="3056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Rectangle 25"/>
            <p:cNvSpPr/>
            <p:nvPr/>
          </p:nvSpPr>
          <p:spPr>
            <a:xfrm>
              <a:off x="6762240" y="2733840"/>
              <a:ext cx="3056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Rectangle 26"/>
            <p:cNvSpPr/>
            <p:nvPr/>
          </p:nvSpPr>
          <p:spPr>
            <a:xfrm>
              <a:off x="7090920" y="2733840"/>
              <a:ext cx="3056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Rectangle 27"/>
            <p:cNvSpPr/>
            <p:nvPr/>
          </p:nvSpPr>
          <p:spPr>
            <a:xfrm>
              <a:off x="7038720" y="2733840"/>
              <a:ext cx="770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26" name="Group 4"/>
          <p:cNvGrpSpPr/>
          <p:nvPr/>
        </p:nvGrpSpPr>
        <p:grpSpPr>
          <a:xfrm>
            <a:off x="1911240" y="1649520"/>
            <a:ext cx="831960" cy="4978800"/>
            <a:chOff x="1911240" y="1649520"/>
            <a:chExt cx="831960" cy="4978800"/>
          </a:xfrm>
        </p:grpSpPr>
        <p:sp>
          <p:nvSpPr>
            <p:cNvPr id="527" name="Rectangle 5"/>
            <p:cNvSpPr/>
            <p:nvPr/>
          </p:nvSpPr>
          <p:spPr>
            <a:xfrm>
              <a:off x="1967040" y="1649520"/>
              <a:ext cx="776160" cy="46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a50021"/>
                  </a:solidFill>
                  <a:uFillTx/>
                  <a:latin typeface="Times New Roman"/>
                </a:rPr>
                <a:t>Sales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9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6  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3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5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6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4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4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2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2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9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Line 6"/>
            <p:cNvSpPr/>
            <p:nvPr/>
          </p:nvSpPr>
          <p:spPr>
            <a:xfrm>
              <a:off x="1911240" y="6220080"/>
              <a:ext cx="520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Rectangle 7"/>
            <p:cNvSpPr/>
            <p:nvPr/>
          </p:nvSpPr>
          <p:spPr>
            <a:xfrm>
              <a:off x="1965960" y="6296040"/>
              <a:ext cx="487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317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4b"/>
                </a:solidFill>
                <a:latin typeface="Arial"/>
              </a:rPr>
              <a:t>Example – Mean (Data is used from Example)</a:t>
            </a:r>
            <a:endParaRPr b="0" lang="en-US" sz="2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747720" y="1693800"/>
            <a:ext cx="2755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Sorte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Rank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9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1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9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2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3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6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7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8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9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"/>
          <p:cNvSpPr/>
          <p:nvPr/>
        </p:nvSpPr>
        <p:spPr>
          <a:xfrm>
            <a:off x="1987560" y="3259080"/>
            <a:ext cx="1054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5"/>
          <p:cNvSpPr/>
          <p:nvPr/>
        </p:nvSpPr>
        <p:spPr>
          <a:xfrm>
            <a:off x="1987560" y="5475240"/>
            <a:ext cx="97776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037680" y="3106800"/>
            <a:ext cx="137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First Quarti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036600" y="5322960"/>
            <a:ext cx="147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Third Quarti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8"/>
          <p:cNvSpPr/>
          <p:nvPr/>
        </p:nvSpPr>
        <p:spPr>
          <a:xfrm>
            <a:off x="4927680" y="2873520"/>
            <a:ext cx="312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9933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= 13 + (.25)(1) = 13.2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4927680" y="4854600"/>
            <a:ext cx="3057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9933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= 18+ (.75)(1) = 18.7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Line 10"/>
          <p:cNvSpPr/>
          <p:nvPr/>
        </p:nvSpPr>
        <p:spPr>
          <a:xfrm>
            <a:off x="2063880" y="2274840"/>
            <a:ext cx="1054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Line 11"/>
          <p:cNvSpPr/>
          <p:nvPr/>
        </p:nvSpPr>
        <p:spPr>
          <a:xfrm>
            <a:off x="2063880" y="6465960"/>
            <a:ext cx="1054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Rectangle 12"/>
          <p:cNvSpPr/>
          <p:nvPr/>
        </p:nvSpPr>
        <p:spPr>
          <a:xfrm>
            <a:off x="3125160" y="2122560"/>
            <a:ext cx="105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Minimu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Rectangle 13"/>
          <p:cNvSpPr/>
          <p:nvPr/>
        </p:nvSpPr>
        <p:spPr>
          <a:xfrm>
            <a:off x="3200760" y="6237360"/>
            <a:ext cx="1085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Maximu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42" name="Group 14"/>
          <p:cNvGrpSpPr/>
          <p:nvPr/>
        </p:nvGrpSpPr>
        <p:grpSpPr>
          <a:xfrm>
            <a:off x="4724280" y="1765440"/>
            <a:ext cx="3873240" cy="901440"/>
            <a:chOff x="4724280" y="1765440"/>
            <a:chExt cx="3873240" cy="901440"/>
          </a:xfrm>
        </p:grpSpPr>
        <p:sp>
          <p:nvSpPr>
            <p:cNvPr id="543" name="Rectangle 15"/>
            <p:cNvSpPr/>
            <p:nvPr/>
          </p:nvSpPr>
          <p:spPr>
            <a:xfrm>
              <a:off x="4724280" y="1765440"/>
              <a:ext cx="3873240" cy="9014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16"/>
            <p:cNvSpPr/>
            <p:nvPr/>
          </p:nvSpPr>
          <p:spPr>
            <a:xfrm>
              <a:off x="4779720" y="1793880"/>
              <a:ext cx="1019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Times New Roman"/>
                </a:rPr>
                <a:t>Range: 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17"/>
            <p:cNvSpPr/>
            <p:nvPr/>
          </p:nvSpPr>
          <p:spPr>
            <a:xfrm>
              <a:off x="6154560" y="1811520"/>
              <a:ext cx="23378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Times New Roman"/>
                </a:rPr>
                <a:t>Maximum - Minimum</a:t>
              </a: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 =</a:t>
              </a: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24 - 6 = 18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46" name="Group 18"/>
          <p:cNvGrpSpPr/>
          <p:nvPr/>
        </p:nvGrpSpPr>
        <p:grpSpPr>
          <a:xfrm>
            <a:off x="4959360" y="5616720"/>
            <a:ext cx="3873600" cy="701640"/>
            <a:chOff x="4959360" y="5616720"/>
            <a:chExt cx="3873600" cy="701640"/>
          </a:xfrm>
        </p:grpSpPr>
        <p:sp>
          <p:nvSpPr>
            <p:cNvPr id="547" name="Rectangle 19"/>
            <p:cNvSpPr/>
            <p:nvPr/>
          </p:nvSpPr>
          <p:spPr>
            <a:xfrm>
              <a:off x="4962600" y="5616720"/>
              <a:ext cx="166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Times New Roman"/>
                </a:rPr>
                <a:t>Interquartile Range: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20"/>
            <p:cNvSpPr/>
            <p:nvPr/>
          </p:nvSpPr>
          <p:spPr>
            <a:xfrm>
              <a:off x="6766560" y="5638680"/>
              <a:ext cx="17373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Times New Roman"/>
                </a:rPr>
                <a:t>Q3 - Q1 =</a:t>
              </a: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18.75 - 13.25 = 5.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21"/>
            <p:cNvSpPr/>
            <p:nvPr/>
          </p:nvSpPr>
          <p:spPr>
            <a:xfrm>
              <a:off x="4959360" y="5645160"/>
              <a:ext cx="3873600" cy="6732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b4b"/>
                </a:solidFill>
                <a:latin typeface="Arial"/>
              </a:rPr>
              <a:t>Example - Range and Interquartile Range (Data is used from Example)</a:t>
            </a:r>
            <a:endParaRPr b="0" lang="en-US" sz="32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4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326880" y="1682640"/>
            <a:ext cx="5423040" cy="50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9.8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97.022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3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6.8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46.922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8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5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34.222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3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14.8225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4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2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8.1225                       16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1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3.422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             196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1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3.4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9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0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0.7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2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0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0.0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5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0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0.0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5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0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0.0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5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1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1.3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8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1.1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1.3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8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2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4.6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32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2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4.6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32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3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9.9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36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4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17.2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5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26.5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44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6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37.8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48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8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66.4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57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317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0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378.5500                     5403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2048"/>
              <p:cNvSpPr txBox="1"/>
              <p:nvPr/>
            </p:nvSpPr>
            <p:spPr>
              <a:xfrm>
                <a:off x="1413000" y="1600200"/>
                <a:ext cx="1036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2049"/>
              <p:cNvSpPr txBox="1"/>
              <p:nvPr/>
            </p:nvSpPr>
            <p:spPr>
              <a:xfrm>
                <a:off x="498600" y="1676520"/>
                <a:ext cx="1036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2050"/>
              <p:cNvSpPr txBox="1"/>
              <p:nvPr/>
            </p:nvSpPr>
            <p:spPr>
              <a:xfrm>
                <a:off x="2627280" y="1600200"/>
                <a:ext cx="1298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2051"/>
              <p:cNvSpPr txBox="1"/>
              <p:nvPr/>
            </p:nvSpPr>
            <p:spPr>
              <a:xfrm>
                <a:off x="4062240" y="1676520"/>
                <a:ext cx="129888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7" name="Line 10"/>
          <p:cNvSpPr/>
          <p:nvPr/>
        </p:nvSpPr>
        <p:spPr>
          <a:xfrm>
            <a:off x="428760" y="1905120"/>
            <a:ext cx="4330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8" name="Group 22"/>
          <p:cNvGrpSpPr/>
          <p:nvPr/>
        </p:nvGrpSpPr>
        <p:grpSpPr>
          <a:xfrm>
            <a:off x="1031760" y="1895400"/>
            <a:ext cx="2590560" cy="4335480"/>
            <a:chOff x="1031760" y="1895400"/>
            <a:chExt cx="2590560" cy="4335480"/>
          </a:xfrm>
        </p:grpSpPr>
        <p:sp>
          <p:nvSpPr>
            <p:cNvPr id="559" name="Line 11"/>
            <p:cNvSpPr/>
            <p:nvPr/>
          </p:nvSpPr>
          <p:spPr>
            <a:xfrm>
              <a:off x="1031760" y="1895400"/>
              <a:ext cx="0" cy="4335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Line 12"/>
            <p:cNvSpPr/>
            <p:nvPr/>
          </p:nvSpPr>
          <p:spPr>
            <a:xfrm>
              <a:off x="3470040" y="1895400"/>
              <a:ext cx="0" cy="4335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Line 13"/>
            <p:cNvSpPr/>
            <p:nvPr/>
          </p:nvSpPr>
          <p:spPr>
            <a:xfrm>
              <a:off x="2327040" y="1895400"/>
              <a:ext cx="0" cy="4335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Line 14"/>
            <p:cNvSpPr/>
            <p:nvPr/>
          </p:nvSpPr>
          <p:spPr>
            <a:xfrm>
              <a:off x="3622320" y="1895400"/>
              <a:ext cx="0" cy="4335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63" name="Line 15"/>
          <p:cNvSpPr/>
          <p:nvPr/>
        </p:nvSpPr>
        <p:spPr>
          <a:xfrm>
            <a:off x="200160" y="6237360"/>
            <a:ext cx="4559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5076720" y="1698480"/>
            <a:ext cx="3797280" cy="485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2052"/>
              <p:cNvSpPr txBox="1"/>
              <p:nvPr/>
            </p:nvSpPr>
            <p:spPr>
              <a:xfrm>
                <a:off x="5164200" y="1719360"/>
                <a:ext cx="3659040" cy="47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684</m:t>
                        </m:r>
                      </m:e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</m:e>
                            </m:nary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03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03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048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0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684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68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6" name="Line 17"/>
          <p:cNvSpPr/>
          <p:nvPr/>
        </p:nvSpPr>
        <p:spPr>
          <a:xfrm>
            <a:off x="5105520" y="3208320"/>
            <a:ext cx="3797280" cy="0"/>
          </a:xfrm>
          <a:prstGeom prst="line">
            <a:avLst/>
          </a:prstGeom>
          <a:ln w="1260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Line 18"/>
          <p:cNvSpPr/>
          <p:nvPr/>
        </p:nvSpPr>
        <p:spPr>
          <a:xfrm>
            <a:off x="5105520" y="6124680"/>
            <a:ext cx="3809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alculation of Sample Variance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14:32:40Z</dcterms:created>
  <dc:creator>EDP</dc:creator>
  <dc:description/>
  <dc:language>en-US</dc:language>
  <cp:lastModifiedBy>Nadia MS</cp:lastModifiedBy>
  <dcterms:modified xsi:type="dcterms:W3CDTF">2017-04-19T21:41:56Z</dcterms:modified>
  <cp:revision>119</cp:revision>
  <dc:subject/>
  <dc:title>No Slide Title</dc:title>
</cp:coreProperties>
</file>