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fld id="{F41D15FB-7B25-44E0-9B49-9CB58CB83394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33520" y="1447920"/>
            <a:ext cx="852624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609480" y="304920"/>
            <a:ext cx="847908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Master Title Style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8496360" y="-114480"/>
            <a:ext cx="685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</a:t>
            </a:r>
            <a:fld id="{7C1001D6-E4DA-4D37-9979-55ED60FB564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533520" y="1447920"/>
            <a:ext cx="8153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large department store collects data on sales made by each of its salespeople.  The number of sales made on a given day by each  of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alespeople is shown on the next slid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see also file sales.sav).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urther, the data has been sorted in magnitude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quired: Descriptive Measures.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- Sales  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1981080" y="1219320"/>
            <a:ext cx="5486400" cy="0"/>
          </a:xfrm>
          <a:prstGeom prst="line">
            <a:avLst/>
          </a:prstGeom>
          <a:ln w="76320">
            <a:solidFill>
              <a:srgbClr val="cdc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(Continued) -</a:t>
            </a:r>
            <a:r>
              <a:rPr b="1" lang="en-US" sz="3800" spc="-1" strike="noStrike">
                <a:solidFill>
                  <a:srgbClr val="1e1b4b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Sales and Sorted Sales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860560" y="1424160"/>
            <a:ext cx="344196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ales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orted Sa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700200" y="165276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    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981080" y="320040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981080" y="434340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1981080" y="541008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052080" y="304812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048120" y="411480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2974680" y="525780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771800" y="1617840"/>
            <a:ext cx="125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(n+1)P/1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4513320" y="2944800"/>
            <a:ext cx="22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25/100=5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4574880" y="397512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4582800" y="5167440"/>
            <a:ext cx="208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75/100=15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49568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70572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6851520" y="2868480"/>
            <a:ext cx="21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7051680" y="397512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6880320" y="5167440"/>
            <a:ext cx="206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7300800" y="1617840"/>
            <a:ext cx="11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Quartil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1b4b"/>
                </a:solidFill>
                <a:latin typeface="Arial"/>
              </a:rPr>
              <a:t>Example : Finding Quartiles</a:t>
            </a:r>
            <a:endParaRPr b="0" lang="en-US" sz="36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91" name="Rectangle 21"/>
          <p:cNvSpPr/>
          <p:nvPr/>
        </p:nvSpPr>
        <p:spPr>
          <a:xfrm>
            <a:off x="4343400" y="1922400"/>
            <a:ext cx="220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914400" y="1657440"/>
            <a:ext cx="275580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orted  Sales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9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1981080" y="412272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048120" y="397044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5635800" y="2295360"/>
            <a:ext cx="2139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th Percent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4574880" y="335448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050240" y="335448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4710240" y="4230720"/>
            <a:ext cx="41274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the middle value of data sorted in order of magnitude.  It is the 50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percentil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dian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1676520" y="2624040"/>
            <a:ext cx="6095880" cy="14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66ff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: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---------------------------------------------------------------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6        9 10   12 13 14 15 16 17 18 19 20 21 22    2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4419720" y="4148280"/>
            <a:ext cx="0" cy="9014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3656880" y="4910040"/>
            <a:ext cx="155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 = 1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747720" y="5581800"/>
            <a:ext cx="6718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the most frequently occurring value.  It is the value with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ighest frequency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3200" y="152280"/>
            <a:ext cx="847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-  Mode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9"/>
          <p:cNvGrpSpPr/>
          <p:nvPr/>
        </p:nvGrpSpPr>
        <p:grpSpPr>
          <a:xfrm>
            <a:off x="4419720" y="2133720"/>
            <a:ext cx="3279600" cy="1296720"/>
            <a:chOff x="4419720" y="2133720"/>
            <a:chExt cx="3279600" cy="1296720"/>
          </a:xfrm>
        </p:grpSpPr>
        <p:sp>
          <p:nvSpPr>
            <p:cNvPr id="506" name="Rectangle 28"/>
            <p:cNvSpPr/>
            <p:nvPr/>
          </p:nvSpPr>
          <p:spPr>
            <a:xfrm>
              <a:off x="4419720" y="2133720"/>
              <a:ext cx="3279600" cy="12967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Line 9"/>
            <p:cNvSpPr/>
            <p:nvPr/>
          </p:nvSpPr>
          <p:spPr>
            <a:xfrm>
              <a:off x="4694400" y="2841480"/>
              <a:ext cx="13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Line 10"/>
            <p:cNvSpPr/>
            <p:nvPr/>
          </p:nvSpPr>
          <p:spPr>
            <a:xfrm>
              <a:off x="5159520" y="2925720"/>
              <a:ext cx="500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5989680" y="2925720"/>
              <a:ext cx="471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Rectangle 12"/>
            <p:cNvSpPr/>
            <p:nvPr/>
          </p:nvSpPr>
          <p:spPr>
            <a:xfrm>
              <a:off x="4682520" y="273384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Rectangle 13"/>
            <p:cNvSpPr/>
            <p:nvPr/>
          </p:nvSpPr>
          <p:spPr>
            <a:xfrm>
              <a:off x="5512680" y="237348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Rectangle 14"/>
            <p:cNvSpPr/>
            <p:nvPr/>
          </p:nvSpPr>
          <p:spPr>
            <a:xfrm>
              <a:off x="5332320" y="2963880"/>
              <a:ext cx="15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Rectangle 15"/>
            <p:cNvSpPr/>
            <p:nvPr/>
          </p:nvSpPr>
          <p:spPr>
            <a:xfrm>
              <a:off x="5206680" y="2754360"/>
              <a:ext cx="435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5270040" y="221940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Rectangle 17"/>
            <p:cNvSpPr/>
            <p:nvPr/>
          </p:nvSpPr>
          <p:spPr>
            <a:xfrm>
              <a:off x="487188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Rectangle 18"/>
            <p:cNvSpPr/>
            <p:nvPr/>
          </p:nvSpPr>
          <p:spPr>
            <a:xfrm>
              <a:off x="570384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Rectangle 19"/>
            <p:cNvSpPr/>
            <p:nvPr/>
          </p:nvSpPr>
          <p:spPr>
            <a:xfrm>
              <a:off x="650556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5244120" y="2736720"/>
              <a:ext cx="1209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5168880" y="2290680"/>
              <a:ext cx="284040" cy="4878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22"/>
            <p:cNvSpPr/>
            <p:nvPr/>
          </p:nvSpPr>
          <p:spPr>
            <a:xfrm>
              <a:off x="5344920" y="275436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23"/>
            <p:cNvSpPr/>
            <p:nvPr/>
          </p:nvSpPr>
          <p:spPr>
            <a:xfrm>
              <a:off x="6001920" y="2543040"/>
              <a:ext cx="45792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7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24"/>
            <p:cNvSpPr/>
            <p:nvPr/>
          </p:nvSpPr>
          <p:spPr>
            <a:xfrm>
              <a:off x="6086160" y="296388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25"/>
            <p:cNvSpPr/>
            <p:nvPr/>
          </p:nvSpPr>
          <p:spPr>
            <a:xfrm>
              <a:off x="676224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26"/>
            <p:cNvSpPr/>
            <p:nvPr/>
          </p:nvSpPr>
          <p:spPr>
            <a:xfrm>
              <a:off x="709092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27"/>
            <p:cNvSpPr/>
            <p:nvPr/>
          </p:nvSpPr>
          <p:spPr>
            <a:xfrm>
              <a:off x="7038720" y="2733840"/>
              <a:ext cx="770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6" name="Group 4"/>
          <p:cNvGrpSpPr/>
          <p:nvPr/>
        </p:nvGrpSpPr>
        <p:grpSpPr>
          <a:xfrm>
            <a:off x="1911240" y="1649520"/>
            <a:ext cx="831960" cy="4978800"/>
            <a:chOff x="1911240" y="1649520"/>
            <a:chExt cx="831960" cy="4978800"/>
          </a:xfrm>
        </p:grpSpPr>
        <p:sp>
          <p:nvSpPr>
            <p:cNvPr id="527" name="Rectangle 5"/>
            <p:cNvSpPr/>
            <p:nvPr/>
          </p:nvSpPr>
          <p:spPr>
            <a:xfrm>
              <a:off x="1967040" y="1649520"/>
              <a:ext cx="776160" cy="46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Sale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9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6  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3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5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>
              <a:off x="1911240" y="6220080"/>
              <a:ext cx="520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1965960" y="6296040"/>
              <a:ext cx="487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317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an (Data is used from Example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747720" y="169380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Ran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987560" y="325908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1987560" y="5475240"/>
            <a:ext cx="9777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037680" y="310680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036600" y="532296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4927680" y="2873520"/>
            <a:ext cx="312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99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4927680" y="4854600"/>
            <a:ext cx="3057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99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>
            <a:off x="2063880" y="227484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2063880" y="646596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3125160" y="212256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in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3200760" y="6237360"/>
            <a:ext cx="108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ax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2" name="Group 14"/>
          <p:cNvGrpSpPr/>
          <p:nvPr/>
        </p:nvGrpSpPr>
        <p:grpSpPr>
          <a:xfrm>
            <a:off x="4724280" y="1765440"/>
            <a:ext cx="3873240" cy="901440"/>
            <a:chOff x="4724280" y="1765440"/>
            <a:chExt cx="3873240" cy="901440"/>
          </a:xfrm>
        </p:grpSpPr>
        <p:sp>
          <p:nvSpPr>
            <p:cNvPr id="543" name="Rectangle 15"/>
            <p:cNvSpPr/>
            <p:nvPr/>
          </p:nvSpPr>
          <p:spPr>
            <a:xfrm>
              <a:off x="4724280" y="1765440"/>
              <a:ext cx="3873240" cy="9014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16"/>
            <p:cNvSpPr/>
            <p:nvPr/>
          </p:nvSpPr>
          <p:spPr>
            <a:xfrm>
              <a:off x="4779720" y="1793880"/>
              <a:ext cx="101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Range: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17"/>
            <p:cNvSpPr/>
            <p:nvPr/>
          </p:nvSpPr>
          <p:spPr>
            <a:xfrm>
              <a:off x="6154560" y="1811520"/>
              <a:ext cx="2337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Maximum - Minimum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=</a:t>
              </a: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24 - 6 = 18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6" name="Group 18"/>
          <p:cNvGrpSpPr/>
          <p:nvPr/>
        </p:nvGrpSpPr>
        <p:grpSpPr>
          <a:xfrm>
            <a:off x="4959360" y="5616720"/>
            <a:ext cx="3873600" cy="701640"/>
            <a:chOff x="4959360" y="5616720"/>
            <a:chExt cx="3873600" cy="701640"/>
          </a:xfrm>
        </p:grpSpPr>
        <p:sp>
          <p:nvSpPr>
            <p:cNvPr id="547" name="Rectangle 19"/>
            <p:cNvSpPr/>
            <p:nvPr/>
          </p:nvSpPr>
          <p:spPr>
            <a:xfrm>
              <a:off x="4962600" y="5616720"/>
              <a:ext cx="166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Interquartile Range: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6766560" y="5638680"/>
              <a:ext cx="1737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Q3 - Q1 =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18.75 - 13.25 = 5.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4959360" y="5645160"/>
              <a:ext cx="3873600" cy="6732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4b"/>
                </a:solidFill>
                <a:latin typeface="Arial"/>
              </a:rPr>
              <a:t>Example - Range and Interquartile Range (Data is used from Example)</a:t>
            </a:r>
            <a:endParaRPr b="0" lang="en-US" sz="32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4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26880" y="1682640"/>
            <a:ext cx="5423040" cy="50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9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7.0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6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6.9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5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4.2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3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14.8225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2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8.1225                       16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             196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0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7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.9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6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4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17.2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5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26.5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4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6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37.8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8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66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57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378.5500                     5403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048"/>
              <p:cNvSpPr txBox="1"/>
              <p:nvPr/>
            </p:nvSpPr>
            <p:spPr>
              <a:xfrm>
                <a:off x="1413000" y="160020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049"/>
              <p:cNvSpPr txBox="1"/>
              <p:nvPr/>
            </p:nvSpPr>
            <p:spPr>
              <a:xfrm>
                <a:off x="498600" y="167652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050"/>
              <p:cNvSpPr txBox="1"/>
              <p:nvPr/>
            </p:nvSpPr>
            <p:spPr>
              <a:xfrm>
                <a:off x="2627280" y="1600200"/>
                <a:ext cx="1298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051"/>
              <p:cNvSpPr txBox="1"/>
              <p:nvPr/>
            </p:nvSpPr>
            <p:spPr>
              <a:xfrm>
                <a:off x="4062240" y="1676520"/>
                <a:ext cx="12988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7" name="Line 10"/>
          <p:cNvSpPr/>
          <p:nvPr/>
        </p:nvSpPr>
        <p:spPr>
          <a:xfrm>
            <a:off x="428760" y="1905120"/>
            <a:ext cx="4330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8" name="Group 22"/>
          <p:cNvGrpSpPr/>
          <p:nvPr/>
        </p:nvGrpSpPr>
        <p:grpSpPr>
          <a:xfrm>
            <a:off x="1031760" y="1895400"/>
            <a:ext cx="2590560" cy="4335480"/>
            <a:chOff x="1031760" y="1895400"/>
            <a:chExt cx="2590560" cy="4335480"/>
          </a:xfrm>
        </p:grpSpPr>
        <p:sp>
          <p:nvSpPr>
            <p:cNvPr id="559" name="Line 11"/>
            <p:cNvSpPr/>
            <p:nvPr/>
          </p:nvSpPr>
          <p:spPr>
            <a:xfrm>
              <a:off x="103176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3470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13"/>
            <p:cNvSpPr/>
            <p:nvPr/>
          </p:nvSpPr>
          <p:spPr>
            <a:xfrm>
              <a:off x="2327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Line 14"/>
            <p:cNvSpPr/>
            <p:nvPr/>
          </p:nvSpPr>
          <p:spPr>
            <a:xfrm>
              <a:off x="362232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3" name="Line 15"/>
          <p:cNvSpPr/>
          <p:nvPr/>
        </p:nvSpPr>
        <p:spPr>
          <a:xfrm>
            <a:off x="200160" y="6237360"/>
            <a:ext cx="4559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5076720" y="1698480"/>
            <a:ext cx="3797280" cy="485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052"/>
              <p:cNvSpPr txBox="1"/>
              <p:nvPr/>
            </p:nvSpPr>
            <p:spPr>
              <a:xfrm>
                <a:off x="5164200" y="1719360"/>
                <a:ext cx="365904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</m:e>
                            </m:nary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48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68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Line 17"/>
          <p:cNvSpPr/>
          <p:nvPr/>
        </p:nvSpPr>
        <p:spPr>
          <a:xfrm>
            <a:off x="5105520" y="3208320"/>
            <a:ext cx="3797280" cy="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5105520" y="612468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alculation of Sample Variance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4:32:40Z</dcterms:created>
  <dc:creator>EDP</dc:creator>
  <dc:description/>
  <dc:language>en-US</dc:language>
  <cp:lastModifiedBy>Nadia MS</cp:lastModifiedBy>
  <dcterms:modified xsi:type="dcterms:W3CDTF">2017-04-19T21:41:56Z</dcterms:modified>
  <cp:revision>119</cp:revision>
  <dc:subject/>
  <dc:title>No Slide Title</dc:title>
</cp:coreProperties>
</file>