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93200" y="151920"/>
            <a:ext cx="8479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1520" y="4044600"/>
            <a:ext cx="850248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8240" y="144756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152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998240" y="4044600"/>
            <a:ext cx="414900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1612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391080" y="144756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15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51612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391080" y="4044600"/>
            <a:ext cx="2737440" cy="23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gradFill rotWithShape="0">
            <a:gsLst>
              <a:gs pos="0">
                <a:srgbClr val="000066">
                  <a:alpha val="38039"/>
                </a:srgbClr>
              </a:gs>
              <a:gs pos="100000">
                <a:srgbClr val="cce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617400" y="1447920"/>
            <a:ext cx="85266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7" name="Text Box 12"/>
          <p:cNvSpPr/>
          <p:nvPr/>
        </p:nvSpPr>
        <p:spPr>
          <a:xfrm>
            <a:off x="8496360" y="-114480"/>
            <a:ext cx="685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fld id="{B8EB08BD-AB47-4038-9C60-9B24987AF1D9}" type="slidenum">
              <a:rPr b="1" lang="en-US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1160" y="0"/>
            <a:ext cx="468360" cy="68580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8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-20520" y="-11160"/>
            <a:ext cx="401400" cy="6858000"/>
          </a:xfrm>
          <a:prstGeom prst="rect">
            <a:avLst/>
          </a:prstGeom>
          <a:gradFill rotWithShape="0">
            <a:gsLst>
              <a:gs pos="0">
                <a:srgbClr val="336699">
                  <a:alpha val="73333"/>
                </a:srgbClr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187200"/>
            <a:ext cx="304920" cy="6443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1e1b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33520" y="1447920"/>
            <a:ext cx="852624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609480" y="304920"/>
            <a:ext cx="8479080" cy="114300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82f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Master Title Style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8496360" y="-114480"/>
            <a:ext cx="685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</a:t>
            </a:r>
            <a:fld id="{09F5B652-553C-4F76-9E52-B6E25C5CDD6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41520" y="1447560"/>
            <a:ext cx="8502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68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255680" indent="-2268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1600200" indent="-228600">
              <a:spcBef>
                <a:spcPts val="601"/>
              </a:spcBef>
              <a:buClr>
                <a:srgbClr val="d8b2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1600200" indent="-228600"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33520" y="1447920"/>
            <a:ext cx="81532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A large department store collects data on sales made by each of its salespeople.  The number of sales made on a given day by each  of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alespeople is shown on the next slid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see also file sales.sav). 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Further, the data has been sorted in magnitude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quired: Descriptive Measures.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- Sales  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0" name="Line 5"/>
          <p:cNvSpPr/>
          <p:nvPr/>
        </p:nvSpPr>
        <p:spPr>
          <a:xfrm>
            <a:off x="1981080" y="1219320"/>
            <a:ext cx="5486400" cy="0"/>
          </a:xfrm>
          <a:prstGeom prst="line">
            <a:avLst/>
          </a:prstGeom>
          <a:ln w="76320">
            <a:solidFill>
              <a:srgbClr val="cdcb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Example (Continued) -</a:t>
            </a:r>
            <a:r>
              <a:rPr b="1" lang="en-US" sz="3800" spc="-1" strike="noStrike">
                <a:solidFill>
                  <a:srgbClr val="1e1b4b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Sales and Sorted Sales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860560" y="1424160"/>
            <a:ext cx="3441960" cy="50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ales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1" lang="en-US" sz="2400" spc="-1" strike="noStrike" u="sng">
                <a:solidFill>
                  <a:srgbClr val="993300"/>
                </a:solidFill>
                <a:uFillTx/>
                <a:latin typeface="Times New Roman"/>
              </a:rPr>
              <a:t>Sorted Sa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700200" y="165276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9               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9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2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1981080" y="320040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1981080" y="434340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1981080" y="541008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052080" y="304812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048120" y="411480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2974680" y="525780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771800" y="161784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(n+1)P/1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513320" y="2944800"/>
            <a:ext cx="220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25/100=5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74880" y="397512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4582800" y="5167440"/>
            <a:ext cx="208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75/100=15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Line 14"/>
          <p:cNvSpPr/>
          <p:nvPr/>
        </p:nvSpPr>
        <p:spPr>
          <a:xfrm>
            <a:off x="449568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Line 15"/>
          <p:cNvSpPr/>
          <p:nvPr/>
        </p:nvSpPr>
        <p:spPr>
          <a:xfrm>
            <a:off x="6705720" y="1295280"/>
            <a:ext cx="0" cy="5245200"/>
          </a:xfrm>
          <a:prstGeom prst="line">
            <a:avLst/>
          </a:prstGeom>
          <a:ln w="1260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16"/>
          <p:cNvSpPr/>
          <p:nvPr/>
        </p:nvSpPr>
        <p:spPr>
          <a:xfrm>
            <a:off x="6851520" y="2868480"/>
            <a:ext cx="212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17"/>
          <p:cNvSpPr/>
          <p:nvPr/>
        </p:nvSpPr>
        <p:spPr>
          <a:xfrm>
            <a:off x="7051680" y="397512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18"/>
          <p:cNvSpPr/>
          <p:nvPr/>
        </p:nvSpPr>
        <p:spPr>
          <a:xfrm>
            <a:off x="6880320" y="5167440"/>
            <a:ext cx="206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19"/>
          <p:cNvSpPr/>
          <p:nvPr/>
        </p:nvSpPr>
        <p:spPr>
          <a:xfrm>
            <a:off x="7300800" y="1617840"/>
            <a:ext cx="11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Times New Roman"/>
              </a:rPr>
              <a:t>Quartil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1b4b"/>
                </a:solidFill>
                <a:latin typeface="Arial"/>
              </a:rPr>
              <a:t>Example : Finding Quartiles</a:t>
            </a:r>
            <a:endParaRPr b="0" lang="en-US" sz="3600" spc="-1" strike="noStrike">
              <a:solidFill>
                <a:srgbClr val="1e1b4b"/>
              </a:solidFill>
              <a:latin typeface="Arial"/>
            </a:endParaRPr>
          </a:p>
        </p:txBody>
      </p:sp>
      <p:sp>
        <p:nvSpPr>
          <p:cNvPr id="491" name="Rectangle 21"/>
          <p:cNvSpPr/>
          <p:nvPr/>
        </p:nvSpPr>
        <p:spPr>
          <a:xfrm>
            <a:off x="4343400" y="1922400"/>
            <a:ext cx="220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914400" y="1657440"/>
            <a:ext cx="2755800" cy="49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500" spc="-1" strike="noStrike" u="sng">
                <a:solidFill>
                  <a:srgbClr val="a50021"/>
                </a:solidFill>
                <a:uFillTx/>
                <a:latin typeface="Times New Roman"/>
              </a:rPr>
              <a:t>Sorted  Sales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  9 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3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5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1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2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     24</a:t>
            </a:r>
            <a:r>
              <a:rPr b="1" lang="en-US" sz="15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1981080" y="4122720"/>
            <a:ext cx="9781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3048120" y="3970440"/>
            <a:ext cx="84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5635800" y="2295360"/>
            <a:ext cx="2139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dia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0th Percentil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4574880" y="3354480"/>
            <a:ext cx="19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20+1)50/100=10.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8"/>
          <p:cNvSpPr/>
          <p:nvPr/>
        </p:nvSpPr>
        <p:spPr>
          <a:xfrm>
            <a:off x="7050240" y="3354480"/>
            <a:ext cx="1720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6 + (.5)(0) = 1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9"/>
          <p:cNvSpPr/>
          <p:nvPr/>
        </p:nvSpPr>
        <p:spPr>
          <a:xfrm>
            <a:off x="4710240" y="4230720"/>
            <a:ext cx="412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media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the middle value of data sorted in order of magnitude.  It is the 50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percentil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dian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1676520" y="2624040"/>
            <a:ext cx="6095880" cy="1490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: 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d8b228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---------------------------------------------------------------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6        9 10   12 13 14 15 16 17 18 19 20 21 22    2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>
            <a:off x="4419720" y="4148280"/>
            <a:ext cx="0" cy="9014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3656880" y="4910040"/>
            <a:ext cx="155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 = 1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747720" y="5581800"/>
            <a:ext cx="6718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993300"/>
                </a:solidFill>
                <a:latin typeface="Times New Roman"/>
              </a:rPr>
              <a:t>mod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s the most frequently occurring value.  It is the value with th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hest frequency</a:t>
            </a:r>
            <a:r>
              <a:rPr b="0" lang="en-US" sz="2400" spc="-1" strike="noStrike">
                <a:solidFill>
                  <a:srgbClr val="79001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3200" y="152280"/>
            <a:ext cx="8479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-  Mode (Data is used from Example 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9"/>
          <p:cNvGrpSpPr/>
          <p:nvPr/>
        </p:nvGrpSpPr>
        <p:grpSpPr>
          <a:xfrm>
            <a:off x="4419720" y="2133720"/>
            <a:ext cx="3279600" cy="1296720"/>
            <a:chOff x="4419720" y="2133720"/>
            <a:chExt cx="3279600" cy="1296720"/>
          </a:xfrm>
        </p:grpSpPr>
        <p:sp>
          <p:nvSpPr>
            <p:cNvPr id="506" name="Rectangle 28"/>
            <p:cNvSpPr/>
            <p:nvPr/>
          </p:nvSpPr>
          <p:spPr>
            <a:xfrm>
              <a:off x="4419720" y="2133720"/>
              <a:ext cx="3279600" cy="129672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66"/>
              </a:solidFill>
              <a:miter/>
            </a:ln>
            <a:effectLst>
              <a:outerShdw dist="107932" dir="18900000" blurRad="0" rotWithShape="0">
                <a:srgbClr val="0033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7" name="Line 9"/>
            <p:cNvSpPr/>
            <p:nvPr/>
          </p:nvSpPr>
          <p:spPr>
            <a:xfrm>
              <a:off x="4694400" y="2841480"/>
              <a:ext cx="1332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8" name="Line 10"/>
            <p:cNvSpPr/>
            <p:nvPr/>
          </p:nvSpPr>
          <p:spPr>
            <a:xfrm>
              <a:off x="5159520" y="2925720"/>
              <a:ext cx="5000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9" name="Line 11"/>
            <p:cNvSpPr/>
            <p:nvPr/>
          </p:nvSpPr>
          <p:spPr>
            <a:xfrm>
              <a:off x="5989680" y="2925720"/>
              <a:ext cx="471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0" name="Rectangle 12"/>
            <p:cNvSpPr/>
            <p:nvPr/>
          </p:nvSpPr>
          <p:spPr>
            <a:xfrm>
              <a:off x="4682520" y="273384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1" name="Rectangle 13"/>
            <p:cNvSpPr/>
            <p:nvPr/>
          </p:nvSpPr>
          <p:spPr>
            <a:xfrm>
              <a:off x="5512680" y="2373480"/>
              <a:ext cx="1364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2" name="Rectangle 14"/>
            <p:cNvSpPr/>
            <p:nvPr/>
          </p:nvSpPr>
          <p:spPr>
            <a:xfrm>
              <a:off x="5332320" y="2963880"/>
              <a:ext cx="15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3" name="Rectangle 15"/>
            <p:cNvSpPr/>
            <p:nvPr/>
          </p:nvSpPr>
          <p:spPr>
            <a:xfrm>
              <a:off x="5206680" y="2754360"/>
              <a:ext cx="435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4" name="Rectangle 16"/>
            <p:cNvSpPr/>
            <p:nvPr/>
          </p:nvSpPr>
          <p:spPr>
            <a:xfrm>
              <a:off x="5270040" y="221940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5" name="Rectangle 17"/>
            <p:cNvSpPr/>
            <p:nvPr/>
          </p:nvSpPr>
          <p:spPr>
            <a:xfrm>
              <a:off x="487188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6" name="Rectangle 18"/>
            <p:cNvSpPr/>
            <p:nvPr/>
          </p:nvSpPr>
          <p:spPr>
            <a:xfrm>
              <a:off x="570384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7" name="Rectangle 19"/>
            <p:cNvSpPr/>
            <p:nvPr/>
          </p:nvSpPr>
          <p:spPr>
            <a:xfrm>
              <a:off x="6505560" y="2700360"/>
              <a:ext cx="24300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5244120" y="2736720"/>
              <a:ext cx="12096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5168880" y="2290680"/>
              <a:ext cx="284040" cy="4878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Rectangle 22"/>
            <p:cNvSpPr/>
            <p:nvPr/>
          </p:nvSpPr>
          <p:spPr>
            <a:xfrm>
              <a:off x="5344920" y="2754360"/>
              <a:ext cx="77040" cy="1828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Rectangle 23"/>
            <p:cNvSpPr/>
            <p:nvPr/>
          </p:nvSpPr>
          <p:spPr>
            <a:xfrm>
              <a:off x="6001920" y="2543040"/>
              <a:ext cx="45792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Rectangle 24"/>
            <p:cNvSpPr/>
            <p:nvPr/>
          </p:nvSpPr>
          <p:spPr>
            <a:xfrm>
              <a:off x="6086160" y="296388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Rectangle 25"/>
            <p:cNvSpPr/>
            <p:nvPr/>
          </p:nvSpPr>
          <p:spPr>
            <a:xfrm>
              <a:off x="676224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4" name="Rectangle 26"/>
            <p:cNvSpPr/>
            <p:nvPr/>
          </p:nvSpPr>
          <p:spPr>
            <a:xfrm>
              <a:off x="7090920" y="2733840"/>
              <a:ext cx="3056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5" name="Rectangle 27"/>
            <p:cNvSpPr/>
            <p:nvPr/>
          </p:nvSpPr>
          <p:spPr>
            <a:xfrm>
              <a:off x="7038720" y="2733840"/>
              <a:ext cx="77040" cy="3661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26" name="Group 4"/>
          <p:cNvGrpSpPr/>
          <p:nvPr/>
        </p:nvGrpSpPr>
        <p:grpSpPr>
          <a:xfrm>
            <a:off x="1911240" y="1649520"/>
            <a:ext cx="831960" cy="4978800"/>
            <a:chOff x="1911240" y="1649520"/>
            <a:chExt cx="831960" cy="4978800"/>
          </a:xfrm>
        </p:grpSpPr>
        <p:sp>
          <p:nvSpPr>
            <p:cNvPr id="527" name="Rectangle 5"/>
            <p:cNvSpPr/>
            <p:nvPr/>
          </p:nvSpPr>
          <p:spPr>
            <a:xfrm>
              <a:off x="1967040" y="1649520"/>
              <a:ext cx="776160" cy="46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a50021"/>
                  </a:solidFill>
                  <a:uFillTx/>
                  <a:latin typeface="Times New Roman"/>
                </a:rPr>
                <a:t>Sales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9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6  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3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5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4 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66"/>
                  </a:solidFill>
                  <a:latin typeface="Times New Roman"/>
                </a:rPr>
                <a:t>17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>
              <a:off x="1911240" y="6220080"/>
              <a:ext cx="520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9" name="Rectangle 7"/>
            <p:cNvSpPr/>
            <p:nvPr/>
          </p:nvSpPr>
          <p:spPr>
            <a:xfrm>
              <a:off x="1965960" y="6296040"/>
              <a:ext cx="487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317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1b4b"/>
                </a:solidFill>
                <a:latin typeface="Arial"/>
              </a:rPr>
              <a:t>Example – Mean (Data is used from Example)</a:t>
            </a:r>
            <a:endParaRPr b="0" lang="en-US" sz="2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747720" y="1693800"/>
            <a:ext cx="2755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</a:t>
            </a:r>
            <a:r>
              <a:rPr b="1" lang="en-US" sz="1600" spc="-1" strike="noStrike">
                <a:solidFill>
                  <a:srgbClr val="a50021"/>
                </a:solidFill>
                <a:latin typeface="Times New Roman"/>
              </a:rPr>
              <a:t>Sorted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Sales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	</a:t>
            </a:r>
            <a:r>
              <a:rPr b="1" lang="en-US" sz="1600" spc="-1" strike="noStrike" u="sng">
                <a:solidFill>
                  <a:srgbClr val="a50021"/>
                </a:solidFill>
                <a:uFillTx/>
                <a:latin typeface="Times New Roman"/>
              </a:rPr>
              <a:t>Ran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9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"/>
          <p:cNvSpPr/>
          <p:nvPr/>
        </p:nvSpPr>
        <p:spPr>
          <a:xfrm>
            <a:off x="1987560" y="325908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1987560" y="5475240"/>
            <a:ext cx="9777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037680" y="310680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First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036600" y="532296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Third Quartile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4927680" y="2873520"/>
            <a:ext cx="312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3 + (.25)(1) = 13.2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4927680" y="4854600"/>
            <a:ext cx="3057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= 18+ (.75)(1) = 18.7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10"/>
          <p:cNvSpPr/>
          <p:nvPr/>
        </p:nvSpPr>
        <p:spPr>
          <a:xfrm>
            <a:off x="2063880" y="227484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11"/>
          <p:cNvSpPr/>
          <p:nvPr/>
        </p:nvSpPr>
        <p:spPr>
          <a:xfrm>
            <a:off x="2063880" y="6465960"/>
            <a:ext cx="10540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Rectangle 12"/>
          <p:cNvSpPr/>
          <p:nvPr/>
        </p:nvSpPr>
        <p:spPr>
          <a:xfrm>
            <a:off x="3125160" y="2122560"/>
            <a:ext cx="105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in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3200760" y="6237360"/>
            <a:ext cx="1085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Times New Roman"/>
              </a:rPr>
              <a:t>Maximum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2" name="Group 14"/>
          <p:cNvGrpSpPr/>
          <p:nvPr/>
        </p:nvGrpSpPr>
        <p:grpSpPr>
          <a:xfrm>
            <a:off x="4724280" y="1765440"/>
            <a:ext cx="3873240" cy="901440"/>
            <a:chOff x="4724280" y="1765440"/>
            <a:chExt cx="3873240" cy="901440"/>
          </a:xfrm>
        </p:grpSpPr>
        <p:sp>
          <p:nvSpPr>
            <p:cNvPr id="543" name="Rectangle 15"/>
            <p:cNvSpPr/>
            <p:nvPr/>
          </p:nvSpPr>
          <p:spPr>
            <a:xfrm>
              <a:off x="4724280" y="1765440"/>
              <a:ext cx="3873240" cy="9014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4779720" y="1793880"/>
              <a:ext cx="1019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Range: 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17"/>
            <p:cNvSpPr/>
            <p:nvPr/>
          </p:nvSpPr>
          <p:spPr>
            <a:xfrm>
              <a:off x="6154560" y="1811520"/>
              <a:ext cx="23378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Maximum - Minimum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=</a:t>
              </a: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24 - 6 = 18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46" name="Group 18"/>
          <p:cNvGrpSpPr/>
          <p:nvPr/>
        </p:nvGrpSpPr>
        <p:grpSpPr>
          <a:xfrm>
            <a:off x="4959360" y="5616720"/>
            <a:ext cx="3873600" cy="701640"/>
            <a:chOff x="4959360" y="5616720"/>
            <a:chExt cx="3873600" cy="701640"/>
          </a:xfrm>
        </p:grpSpPr>
        <p:sp>
          <p:nvSpPr>
            <p:cNvPr id="547" name="Rectangle 19"/>
            <p:cNvSpPr/>
            <p:nvPr/>
          </p:nvSpPr>
          <p:spPr>
            <a:xfrm>
              <a:off x="4962600" y="5616720"/>
              <a:ext cx="16653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Times New Roman"/>
                </a:rPr>
                <a:t>Interquartile Range: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6766560" y="5638680"/>
              <a:ext cx="17373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Times New Roman"/>
                </a:rPr>
                <a:t>Q3 - Q1 =</a:t>
              </a: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Times New Roman"/>
                </a:rPr>
                <a:t>18.75 - 13.25 = 5.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4959360" y="5645160"/>
              <a:ext cx="3873600" cy="6732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3200" y="151920"/>
            <a:ext cx="847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b4b"/>
                </a:solidFill>
                <a:latin typeface="Arial"/>
              </a:rPr>
              <a:t>Example - Range and Interquartile Range (Data is used from Example)</a:t>
            </a:r>
            <a:endParaRPr b="0" lang="en-US" sz="32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4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326880" y="1682640"/>
            <a:ext cx="5423040" cy="50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9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7.0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6.8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6.9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5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4.222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3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14.8225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2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8.1225                       16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             196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1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3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-0.8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7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6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0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0.0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5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1.15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1.3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8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2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4.6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2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19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3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  9.9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6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4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17.2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1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5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26.5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41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2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6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37.8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484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24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8.15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 66.4225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576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317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0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 378.5500                     5403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048"/>
              <p:cNvSpPr txBox="1"/>
              <p:nvPr/>
            </p:nvSpPr>
            <p:spPr>
              <a:xfrm>
                <a:off x="1413000" y="160020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049"/>
              <p:cNvSpPr txBox="1"/>
              <p:nvPr/>
            </p:nvSpPr>
            <p:spPr>
              <a:xfrm>
                <a:off x="498600" y="1676520"/>
                <a:ext cx="1036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050"/>
              <p:cNvSpPr txBox="1"/>
              <p:nvPr/>
            </p:nvSpPr>
            <p:spPr>
              <a:xfrm>
                <a:off x="2627280" y="1600200"/>
                <a:ext cx="1298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051"/>
              <p:cNvSpPr txBox="1"/>
              <p:nvPr/>
            </p:nvSpPr>
            <p:spPr>
              <a:xfrm>
                <a:off x="4062240" y="1676520"/>
                <a:ext cx="129888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7" name="Line 10"/>
          <p:cNvSpPr/>
          <p:nvPr/>
        </p:nvSpPr>
        <p:spPr>
          <a:xfrm>
            <a:off x="428760" y="1905120"/>
            <a:ext cx="4330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8" name="Group 22"/>
          <p:cNvGrpSpPr/>
          <p:nvPr/>
        </p:nvGrpSpPr>
        <p:grpSpPr>
          <a:xfrm>
            <a:off x="1031760" y="1895400"/>
            <a:ext cx="2590560" cy="4335480"/>
            <a:chOff x="1031760" y="1895400"/>
            <a:chExt cx="2590560" cy="4335480"/>
          </a:xfrm>
        </p:grpSpPr>
        <p:sp>
          <p:nvSpPr>
            <p:cNvPr id="559" name="Line 11"/>
            <p:cNvSpPr/>
            <p:nvPr/>
          </p:nvSpPr>
          <p:spPr>
            <a:xfrm>
              <a:off x="103176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3470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Line 13"/>
            <p:cNvSpPr/>
            <p:nvPr/>
          </p:nvSpPr>
          <p:spPr>
            <a:xfrm>
              <a:off x="232704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Line 14"/>
            <p:cNvSpPr/>
            <p:nvPr/>
          </p:nvSpPr>
          <p:spPr>
            <a:xfrm>
              <a:off x="3622320" y="1895400"/>
              <a:ext cx="0" cy="43354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63" name="Line 15"/>
          <p:cNvSpPr/>
          <p:nvPr/>
        </p:nvSpPr>
        <p:spPr>
          <a:xfrm>
            <a:off x="200160" y="6237360"/>
            <a:ext cx="4559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5076720" y="1698480"/>
            <a:ext cx="3797280" cy="485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8a6a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66"/>
            </a:solidFill>
            <a:miter/>
          </a:ln>
          <a:effectLst>
            <a:outerShdw dist="107932" dir="189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052"/>
              <p:cNvSpPr txBox="1"/>
              <p:nvPr/>
            </p:nvSpPr>
            <p:spPr>
              <a:xfrm>
                <a:off x="5164200" y="1719360"/>
                <a:ext cx="3659040" cy="479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</m:e>
                            </m:nary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nary>
                                          <m:naryPr>
                                            <m:chr m:val="∑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=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nary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0048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40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3684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2368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Line 17"/>
          <p:cNvSpPr/>
          <p:nvPr/>
        </p:nvSpPr>
        <p:spPr>
          <a:xfrm>
            <a:off x="5105520" y="3208320"/>
            <a:ext cx="3797280" cy="0"/>
          </a:xfrm>
          <a:prstGeom prst="line">
            <a:avLst/>
          </a:prstGeom>
          <a:ln w="1260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5105520" y="612468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0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e1b4b"/>
                </a:solidFill>
                <a:latin typeface="Arial"/>
              </a:rPr>
              <a:t>Calculation of Sample Variance</a:t>
            </a:r>
            <a:endParaRPr b="0" lang="en-US" sz="3800" spc="-1" strike="noStrike">
              <a:solidFill>
                <a:srgbClr val="1e1b4b"/>
              </a:solidFill>
              <a:latin typeface="Arial"/>
            </a:endParaRPr>
          </a:p>
        </p:txBody>
      </p:sp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4:32:40Z</dcterms:created>
  <dc:creator>EDP</dc:creator>
  <dc:description/>
  <dc:language>en-US</dc:language>
  <cp:lastModifiedBy>user</cp:lastModifiedBy>
  <dcterms:modified xsi:type="dcterms:W3CDTF">2012-04-21T06:23:29Z</dcterms:modified>
  <cp:revision>119</cp:revision>
  <dc:subject/>
  <dc:title>No Slide Title</dc:title>
</cp:coreProperties>
</file>