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3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87.wmf" ContentType="image/x-wmf"/>
  <Override PartName="/ppt/media/image106.wmf" ContentType="image/x-wmf"/>
  <Override PartName="/ppt/media/image99.wmf" ContentType="image/x-wmf"/>
  <Override PartName="/ppt/media/image62.wmf" ContentType="image/x-wmf"/>
  <Override PartName="/ppt/media/image105.wmf" ContentType="image/x-wmf"/>
  <Override PartName="/ppt/media/image98.wmf" ContentType="image/x-wmf"/>
  <Override PartName="/ppt/media/image61.wmf" ContentType="image/x-wmf"/>
  <Override PartName="/ppt/media/image104.wmf" ContentType="image/x-wmf"/>
  <Override PartName="/ppt/media/image97.wmf" ContentType="image/x-wmf"/>
  <Override PartName="/ppt/media/image60.wmf" ContentType="image/x-wmf"/>
  <Override PartName="/ppt/media/image103.wmf" ContentType="image/x-wmf"/>
  <Override PartName="/ppt/media/image96.wmf" ContentType="image/x-wmf"/>
  <Override PartName="/ppt/media/image89.wmf" ContentType="image/x-wmf"/>
  <Override PartName="/ppt/media/image102.wmf" ContentType="image/x-wmf"/>
  <Override PartName="/ppt/media/image95.wmf" ContentType="image/x-wmf"/>
  <Override PartName="/ppt/media/image88.wmf" ContentType="image/x-wmf"/>
  <Override PartName="/ppt/media/image79.wmf" ContentType="image/x-wmf"/>
  <Override PartName="/ppt/media/image101.wmf" ContentType="image/x-wmf"/>
  <Override PartName="/ppt/media/image64.wmf" ContentType="image/x-wmf"/>
  <Override PartName="/ppt/media/image63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110.wmf" ContentType="image/x-wmf"/>
  <Override PartName="/ppt/media/image24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4.wmf" ContentType="image/x-wmf"/>
  <Override PartName="/ppt/media/image16.wmf" ContentType="image/x-wmf"/>
  <Override PartName="/ppt/media/image8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2006 Brooks/Cole, a division of Thomson Learning, Inc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3.wmf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0.wmf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8.wmf"/><Relationship Id="rId1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3.wmf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8.wmf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1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5.wmf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3.wmf"/><Relationship Id="rId1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5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9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7.wmf"/><Relationship Id="rId1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0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Footer Placeholder 2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2006 Brooks/Cole, a division of Thomson Learning, Inc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Text Box 2"/>
          <p:cNvSpPr/>
          <p:nvPr/>
        </p:nvSpPr>
        <p:spPr>
          <a:xfrm>
            <a:off x="304920" y="3049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fferent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219320" y="457200"/>
            <a:ext cx="121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447920" y="1600200"/>
            <a:ext cx="7696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Rules of Differ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duct and Quotient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ain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ginal Functions in Econom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Order Deriv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icit Differentiation and Related R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3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2006 Brooks/Cole, a division of Thomson Learning, Inc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hain Rul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Object 3"/>
          <p:cNvGraphicFramePr/>
          <p:nvPr/>
        </p:nvGraphicFramePr>
        <p:xfrm>
          <a:off x="1828800" y="1219320"/>
          <a:ext cx="3735360" cy="63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373536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Text Box 6"/>
          <p:cNvSpPr/>
          <p:nvPr/>
        </p:nvSpPr>
        <p:spPr>
          <a:xfrm>
            <a:off x="1143000" y="1295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Object 7"/>
          <p:cNvGraphicFramePr/>
          <p:nvPr/>
        </p:nvGraphicFramePr>
        <p:xfrm>
          <a:off x="1600200" y="1905120"/>
          <a:ext cx="2154240" cy="104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1905120"/>
                    <a:ext cx="215424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8"/>
          <p:cNvGraphicFramePr/>
          <p:nvPr/>
        </p:nvGraphicFramePr>
        <p:xfrm>
          <a:off x="2209680" y="3124080"/>
          <a:ext cx="3353040" cy="101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3124080"/>
                    <a:ext cx="335304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9"/>
          <p:cNvGraphicFramePr/>
          <p:nvPr/>
        </p:nvGraphicFramePr>
        <p:xfrm>
          <a:off x="2209680" y="4191120"/>
          <a:ext cx="4930920" cy="101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09680" y="4191120"/>
                    <a:ext cx="493092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10"/>
          <p:cNvGraphicFramePr/>
          <p:nvPr/>
        </p:nvGraphicFramePr>
        <p:xfrm>
          <a:off x="2209680" y="5181480"/>
          <a:ext cx="4767480" cy="887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6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09680" y="5181480"/>
                    <a:ext cx="476748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Text Box 11"/>
          <p:cNvSpPr/>
          <p:nvPr/>
        </p:nvSpPr>
        <p:spPr>
          <a:xfrm>
            <a:off x="6858000" y="3505320"/>
            <a:ext cx="167652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in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2"/>
          <p:cNvSpPr/>
          <p:nvPr/>
        </p:nvSpPr>
        <p:spPr>
          <a:xfrm flipH="1">
            <a:off x="4191120" y="3809880"/>
            <a:ext cx="266688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2006 Brooks/Cole, a division of Thomson Learning, Inc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ginal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685800" y="1219320"/>
            <a:ext cx="8001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Marginal Cost Func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s the change in the actual cost of producing an additional un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685800" y="2286000"/>
            <a:ext cx="8001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Marginal Average Cost 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asures the rate of change of the average cost function with respect to the number of units produc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609480" y="5181480"/>
            <a:ext cx="8001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Marginal Profit Func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s the rate of change of the profit function.  It approximates the profit from the sale of an additional un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609480" y="3733920"/>
            <a:ext cx="8001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Marginal Revenue 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asures the rate of change of the revenue function.  It approximates the revenue from the sale of an additional un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2006 Brooks/Cole, a division of Thomson Learning, Inc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990720" y="10666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cost function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1752480" y="17524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arginal Cost 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Object 5"/>
          <p:cNvGraphicFramePr/>
          <p:nvPr/>
        </p:nvGraphicFramePr>
        <p:xfrm>
          <a:off x="3809880" y="2362320"/>
          <a:ext cx="1098720" cy="60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362320"/>
                    <a:ext cx="1098720" cy="6062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1" name="Text Box 6"/>
          <p:cNvSpPr/>
          <p:nvPr/>
        </p:nvSpPr>
        <p:spPr>
          <a:xfrm>
            <a:off x="1752480" y="30481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verage Cost 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Object 7"/>
          <p:cNvGraphicFramePr/>
          <p:nvPr/>
        </p:nvGraphicFramePr>
        <p:xfrm>
          <a:off x="3581280" y="3657600"/>
          <a:ext cx="1855800" cy="117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3657600"/>
                    <a:ext cx="1855800" cy="11746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4" name="Text Box 8"/>
          <p:cNvSpPr/>
          <p:nvPr/>
        </p:nvSpPr>
        <p:spPr>
          <a:xfrm>
            <a:off x="1752480" y="48769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arginal Average Cost 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Object 9"/>
          <p:cNvGraphicFramePr/>
          <p:nvPr/>
        </p:nvGraphicFramePr>
        <p:xfrm>
          <a:off x="3809880" y="5467320"/>
          <a:ext cx="1136880" cy="911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9880" y="5467320"/>
                    <a:ext cx="1136880" cy="9111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2006 Brooks/Cole, a division of Thomson Learning, Inc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en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990720" y="10666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revenue function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752480" y="167652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arginal Revenue 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Object 5"/>
          <p:cNvGraphicFramePr/>
          <p:nvPr/>
        </p:nvGraphicFramePr>
        <p:xfrm>
          <a:off x="3809880" y="2286000"/>
          <a:ext cx="1098720" cy="6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286000"/>
                    <a:ext cx="1098720" cy="606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3" name="Text Box 10"/>
          <p:cNvSpPr/>
          <p:nvPr/>
        </p:nvSpPr>
        <p:spPr>
          <a:xfrm>
            <a:off x="990720" y="441972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profit function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1752480" y="495288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arginal Profit 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Object 12"/>
          <p:cNvGraphicFramePr/>
          <p:nvPr/>
        </p:nvGraphicFramePr>
        <p:xfrm>
          <a:off x="3809880" y="5638680"/>
          <a:ext cx="109872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5638680"/>
                    <a:ext cx="1098720" cy="606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7" name="Rectangle 13"/>
          <p:cNvSpPr/>
          <p:nvPr/>
        </p:nvSpPr>
        <p:spPr>
          <a:xfrm>
            <a:off x="2286000" y="3276720"/>
            <a:ext cx="4876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fit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2006 Brooks/Cole, a division of Thomson Learning, Inc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asticity of Dem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Object 3"/>
          <p:cNvGraphicFramePr/>
          <p:nvPr/>
        </p:nvGraphicFramePr>
        <p:xfrm>
          <a:off x="3352680" y="1828800"/>
          <a:ext cx="1847880" cy="5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828800"/>
                    <a:ext cx="184788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Text Box 4"/>
          <p:cNvSpPr/>
          <p:nvPr/>
        </p:nvSpPr>
        <p:spPr>
          <a:xfrm>
            <a:off x="838080" y="12952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differentiable demand function defin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762120" y="236232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the elasticity of demand at pri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given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Object 6"/>
          <p:cNvGraphicFramePr/>
          <p:nvPr/>
        </p:nvGraphicFramePr>
        <p:xfrm>
          <a:off x="2819520" y="2971800"/>
          <a:ext cx="2895480" cy="121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971800"/>
                    <a:ext cx="2895480" cy="12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Text Box 7"/>
          <p:cNvSpPr/>
          <p:nvPr/>
        </p:nvSpPr>
        <p:spPr>
          <a:xfrm>
            <a:off x="1143000" y="4495680"/>
            <a:ext cx="6172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and i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la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&gt;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nit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ela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&lt;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3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2006 Brooks/Cole, a division of Thomson Learning, Inc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asticity of Dem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38080" y="129528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demand is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las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 an increase in unit price causes a decrease in revenue.  A decrease in unit price causes an increase in reven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762120" y="312408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demand is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nit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 with an increase in unit price the revenue will stay about the s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762120" y="457200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demand is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elas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 an increase in unit price causes an increase in revenue.  A decrease in unit price causes a decrease in reven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6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2006 Brooks/Cole, a division of Thomson Learning, Inc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demand equ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describes the relationship between the unit pri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dollars and the quantity demand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Acrosonic model F loudspeaker systems. Find the elasticity of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Object 4"/>
          <p:cNvGraphicFramePr/>
          <p:nvPr/>
        </p:nvGraphicFramePr>
        <p:xfrm>
          <a:off x="1143000" y="1295280"/>
          <a:ext cx="601992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95280"/>
                    <a:ext cx="60199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7"/>
          <p:cNvGraphicFramePr/>
          <p:nvPr/>
        </p:nvGraphicFramePr>
        <p:xfrm>
          <a:off x="1058760" y="3657600"/>
          <a:ext cx="6950160" cy="27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58760" y="3657600"/>
                    <a:ext cx="695016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9"/>
          <p:cNvGraphicFramePr/>
          <p:nvPr/>
        </p:nvGraphicFramePr>
        <p:xfrm>
          <a:off x="3733920" y="3276720"/>
          <a:ext cx="838080" cy="4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0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3276720"/>
                    <a:ext cx="83808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3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2006 Brooks/Cole, a division of Thomson Learning, Inc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762120" y="10666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nthly demand for T-shirts is given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1616040" y="1600200"/>
          <a:ext cx="493560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1600200"/>
                    <a:ext cx="49356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838080" y="2209680"/>
            <a:ext cx="7696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notes the wholesale unit price in dollars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notes the quantity demanded.  The monthly cost function for these T-shirts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Object 6"/>
          <p:cNvGraphicFramePr/>
          <p:nvPr/>
        </p:nvGraphicFramePr>
        <p:xfrm>
          <a:off x="1905120" y="3581280"/>
          <a:ext cx="43686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3581280"/>
                    <a:ext cx="4368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7"/>
          <p:cNvSpPr/>
          <p:nvPr/>
        </p:nvSpPr>
        <p:spPr>
          <a:xfrm>
            <a:off x="762120" y="43434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Find the revenue and profit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762120" y="58672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 Find the marginal average cost function.   …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762120" y="487692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Find the marginal cost, marginal revenue, and                 marginal profit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2006 Brooks/Cole, a division of Thomson Learning, Inc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Object 4"/>
          <p:cNvGraphicFramePr/>
          <p:nvPr/>
        </p:nvGraphicFramePr>
        <p:xfrm>
          <a:off x="2514600" y="1905120"/>
          <a:ext cx="5627520" cy="66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905120"/>
                    <a:ext cx="562752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6"/>
          <p:cNvGraphicFramePr/>
          <p:nvPr/>
        </p:nvGraphicFramePr>
        <p:xfrm>
          <a:off x="2209680" y="2895480"/>
          <a:ext cx="6191280" cy="75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895480"/>
                    <a:ext cx="6191280" cy="7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Text Box 7"/>
          <p:cNvSpPr/>
          <p:nvPr/>
        </p:nvSpPr>
        <p:spPr>
          <a:xfrm>
            <a:off x="533520" y="9907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Find the revenue and profit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533520" y="419112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Find the marginal cost, marginal revenue, and   marginal profit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1066680" y="14479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nue 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1143000" y="25146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it  = revenue –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Object 12"/>
          <p:cNvGraphicFramePr/>
          <p:nvPr/>
        </p:nvGraphicFramePr>
        <p:xfrm>
          <a:off x="2209680" y="3505320"/>
          <a:ext cx="3646440" cy="533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3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3505320"/>
                    <a:ext cx="36464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Text Box 13"/>
          <p:cNvSpPr/>
          <p:nvPr/>
        </p:nvSpPr>
        <p:spPr>
          <a:xfrm>
            <a:off x="1143000" y="51814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ginal Cost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Object 14"/>
          <p:cNvGraphicFramePr/>
          <p:nvPr/>
        </p:nvGraphicFramePr>
        <p:xfrm>
          <a:off x="3657600" y="5257800"/>
          <a:ext cx="91440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6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7600" y="5257800"/>
                    <a:ext cx="9144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15"/>
          <p:cNvGraphicFramePr/>
          <p:nvPr/>
        </p:nvGraphicFramePr>
        <p:xfrm>
          <a:off x="1514520" y="5867280"/>
          <a:ext cx="5878440" cy="439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8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14520" y="5867280"/>
                    <a:ext cx="5878440" cy="4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2006 Brooks/Cole, a division of Thomson Learning, Inc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609480" y="44197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 Find the marginal average cost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609480" y="99072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(cont.) Find the marginal revenue and marginal profit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1677960" y="1981080"/>
            <a:ext cx="298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ginal revenue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Object 12"/>
          <p:cNvGraphicFramePr/>
          <p:nvPr/>
        </p:nvGraphicFramePr>
        <p:xfrm>
          <a:off x="4572000" y="2057400"/>
          <a:ext cx="91440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057400"/>
                    <a:ext cx="9144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13"/>
          <p:cNvGraphicFramePr/>
          <p:nvPr/>
        </p:nvGraphicFramePr>
        <p:xfrm>
          <a:off x="4343400" y="2590920"/>
          <a:ext cx="1981080" cy="43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2590920"/>
                    <a:ext cx="198108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14"/>
          <p:cNvGraphicFramePr/>
          <p:nvPr/>
        </p:nvGraphicFramePr>
        <p:xfrm>
          <a:off x="4267080" y="3809880"/>
          <a:ext cx="2357640" cy="439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9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3809880"/>
                    <a:ext cx="2357640" cy="4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15"/>
          <p:cNvGraphicFramePr/>
          <p:nvPr/>
        </p:nvGraphicFramePr>
        <p:xfrm>
          <a:off x="4572000" y="3276720"/>
          <a:ext cx="91440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3276720"/>
                    <a:ext cx="9144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Rectangle 16"/>
          <p:cNvSpPr/>
          <p:nvPr/>
        </p:nvSpPr>
        <p:spPr>
          <a:xfrm>
            <a:off x="1981800" y="3200400"/>
            <a:ext cx="26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ginal profit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Object 18"/>
          <p:cNvGraphicFramePr/>
          <p:nvPr/>
        </p:nvGraphicFramePr>
        <p:xfrm>
          <a:off x="2209680" y="4952880"/>
          <a:ext cx="4346640" cy="596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4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09680" y="4952880"/>
                    <a:ext cx="43466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Object 19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6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21"/>
          <p:cNvGraphicFramePr/>
          <p:nvPr/>
        </p:nvGraphicFramePr>
        <p:xfrm>
          <a:off x="2286000" y="5562720"/>
          <a:ext cx="3749760" cy="753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8" name="Object 2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86000" y="5562720"/>
                    <a:ext cx="374976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ooter Placeholder 3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2006 Brooks/Cole, a division of Thomson Learning, Inc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Basic Differenti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1295280" y="1905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676520" y="28195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1295280" y="4191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Object 7"/>
          <p:cNvGraphicFramePr/>
          <p:nvPr/>
        </p:nvGraphicFramePr>
        <p:xfrm>
          <a:off x="1752480" y="1752480"/>
          <a:ext cx="397044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752480"/>
                    <a:ext cx="3970440" cy="8794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1" name="Object 8"/>
          <p:cNvGraphicFramePr/>
          <p:nvPr/>
        </p:nvGraphicFramePr>
        <p:xfrm>
          <a:off x="2362320" y="2895480"/>
          <a:ext cx="1371600" cy="99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2895480"/>
                    <a:ext cx="137160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9"/>
          <p:cNvSpPr/>
          <p:nvPr/>
        </p:nvSpPr>
        <p:spPr>
          <a:xfrm>
            <a:off x="1676520" y="5181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Object 10"/>
          <p:cNvGraphicFramePr/>
          <p:nvPr/>
        </p:nvGraphicFramePr>
        <p:xfrm>
          <a:off x="1752480" y="4038480"/>
          <a:ext cx="5218200" cy="87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4038480"/>
                    <a:ext cx="5218200" cy="8794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6" name="Object 11"/>
          <p:cNvGraphicFramePr/>
          <p:nvPr/>
        </p:nvGraphicFramePr>
        <p:xfrm>
          <a:off x="2362320" y="5181480"/>
          <a:ext cx="1692000" cy="1168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5181480"/>
                    <a:ext cx="169200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2006 Brooks/Cole, a division of Thomson Learning, Inc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gher Deriv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914400" y="12193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cond derivative of a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derivative of the derivativ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a poi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domain of the first deriva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3505320" y="2666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1752480" y="304812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1752480" y="25909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8"/>
          <p:cNvSpPr/>
          <p:nvPr/>
        </p:nvSpPr>
        <p:spPr>
          <a:xfrm>
            <a:off x="4800600" y="30481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9"/>
          <p:cNvSpPr/>
          <p:nvPr/>
        </p:nvSpPr>
        <p:spPr>
          <a:xfrm>
            <a:off x="6095880" y="30481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4038480" y="25909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Object 12"/>
          <p:cNvGraphicFramePr/>
          <p:nvPr/>
        </p:nvGraphicFramePr>
        <p:xfrm>
          <a:off x="3809880" y="5410080"/>
          <a:ext cx="657360" cy="5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5410080"/>
                    <a:ext cx="65736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13"/>
          <p:cNvGraphicFramePr/>
          <p:nvPr/>
        </p:nvGraphicFramePr>
        <p:xfrm>
          <a:off x="3886200" y="4038480"/>
          <a:ext cx="51444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4038480"/>
                    <a:ext cx="514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14"/>
          <p:cNvGraphicFramePr/>
          <p:nvPr/>
        </p:nvGraphicFramePr>
        <p:xfrm>
          <a:off x="3886200" y="3276720"/>
          <a:ext cx="45720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3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327672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Object 15"/>
          <p:cNvGraphicFramePr/>
          <p:nvPr/>
        </p:nvGraphicFramePr>
        <p:xfrm>
          <a:off x="3809880" y="4724280"/>
          <a:ext cx="657360" cy="54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5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4724280"/>
                    <a:ext cx="65736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Rectangle 18"/>
          <p:cNvSpPr/>
          <p:nvPr/>
        </p:nvSpPr>
        <p:spPr>
          <a:xfrm>
            <a:off x="1905120" y="32004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19"/>
          <p:cNvSpPr/>
          <p:nvPr/>
        </p:nvSpPr>
        <p:spPr>
          <a:xfrm>
            <a:off x="19810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20"/>
          <p:cNvSpPr/>
          <p:nvPr/>
        </p:nvSpPr>
        <p:spPr>
          <a:xfrm>
            <a:off x="1982160" y="48006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1"/>
          <p:cNvSpPr/>
          <p:nvPr/>
        </p:nvSpPr>
        <p:spPr>
          <a:xfrm>
            <a:off x="2134800" y="5486400"/>
            <a:ext cx="57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0" name="Object 25"/>
          <p:cNvGraphicFramePr/>
          <p:nvPr/>
        </p:nvGraphicFramePr>
        <p:xfrm>
          <a:off x="5181480" y="3124080"/>
          <a:ext cx="490680" cy="68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1" name="Object 2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81480" y="3124080"/>
                    <a:ext cx="490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Object 28"/>
          <p:cNvGraphicFramePr/>
          <p:nvPr/>
        </p:nvGraphicFramePr>
        <p:xfrm>
          <a:off x="5181480" y="3886200"/>
          <a:ext cx="470160" cy="685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3" name="Object 2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81480" y="3886200"/>
                    <a:ext cx="4701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29"/>
          <p:cNvGraphicFramePr/>
          <p:nvPr/>
        </p:nvGraphicFramePr>
        <p:xfrm>
          <a:off x="5181480" y="4648320"/>
          <a:ext cx="489240" cy="685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5" name="Object 2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81480" y="4648320"/>
                    <a:ext cx="4892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Object 31"/>
          <p:cNvGraphicFramePr/>
          <p:nvPr/>
        </p:nvGraphicFramePr>
        <p:xfrm>
          <a:off x="5181480" y="5410080"/>
          <a:ext cx="489240" cy="685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7" name="Object 3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81480" y="5410080"/>
                    <a:ext cx="4892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3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2006 Brooks/Cole, a division of Thomson Learning, Inc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Higher Deriv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Object 3"/>
          <p:cNvGraphicFramePr/>
          <p:nvPr/>
        </p:nvGraphicFramePr>
        <p:xfrm>
          <a:off x="2209680" y="1371600"/>
          <a:ext cx="2971800" cy="5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371600"/>
                    <a:ext cx="297180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Text Box 4"/>
          <p:cNvSpPr/>
          <p:nvPr/>
        </p:nvSpPr>
        <p:spPr>
          <a:xfrm>
            <a:off x="1219320" y="13716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5257800" y="1371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4" name="Object 6"/>
          <p:cNvGraphicFramePr/>
          <p:nvPr/>
        </p:nvGraphicFramePr>
        <p:xfrm>
          <a:off x="5943600" y="1371600"/>
          <a:ext cx="106668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1371600"/>
                    <a:ext cx="10666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Object 7"/>
          <p:cNvGraphicFramePr/>
          <p:nvPr/>
        </p:nvGraphicFramePr>
        <p:xfrm>
          <a:off x="1981080" y="2209680"/>
          <a:ext cx="3124440" cy="65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209680"/>
                    <a:ext cx="312444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Object 9"/>
          <p:cNvGraphicFramePr/>
          <p:nvPr/>
        </p:nvGraphicFramePr>
        <p:xfrm>
          <a:off x="1981080" y="3048120"/>
          <a:ext cx="3276720" cy="664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3048120"/>
                    <a:ext cx="327672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10"/>
          <p:cNvGraphicFramePr/>
          <p:nvPr/>
        </p:nvGraphicFramePr>
        <p:xfrm>
          <a:off x="1981080" y="3962520"/>
          <a:ext cx="3353040" cy="67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1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81080" y="3962520"/>
                    <a:ext cx="3353040" cy="67932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2006 Brooks/Cole, a division of Thomson Learning, Inc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Higher Deriv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1981080" y="16765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11"/>
          <p:cNvGraphicFramePr/>
          <p:nvPr/>
        </p:nvGraphicFramePr>
        <p:xfrm>
          <a:off x="2971800" y="1523880"/>
          <a:ext cx="195264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523880"/>
                    <a:ext cx="195264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Text Box 12"/>
          <p:cNvSpPr/>
          <p:nvPr/>
        </p:nvSpPr>
        <p:spPr>
          <a:xfrm>
            <a:off x="5029200" y="16765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Object 13"/>
          <p:cNvGraphicFramePr/>
          <p:nvPr/>
        </p:nvGraphicFramePr>
        <p:xfrm>
          <a:off x="5791320" y="1676520"/>
          <a:ext cx="1006200" cy="48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1676520"/>
                    <a:ext cx="1006200" cy="48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Object 14"/>
          <p:cNvGraphicFramePr/>
          <p:nvPr/>
        </p:nvGraphicFramePr>
        <p:xfrm>
          <a:off x="990720" y="2743200"/>
          <a:ext cx="7642080" cy="1106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2743200"/>
                    <a:ext cx="7642080" cy="11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15"/>
          <p:cNvGraphicFramePr/>
          <p:nvPr/>
        </p:nvGraphicFramePr>
        <p:xfrm>
          <a:off x="990720" y="4038480"/>
          <a:ext cx="4924440" cy="104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3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4038480"/>
                    <a:ext cx="492444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Object 16"/>
          <p:cNvGraphicFramePr/>
          <p:nvPr/>
        </p:nvGraphicFramePr>
        <p:xfrm>
          <a:off x="990720" y="5181480"/>
          <a:ext cx="4572000" cy="1150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5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90720" y="5181480"/>
                    <a:ext cx="4572000" cy="115092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ooter Placeholder 3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2006 Brooks/Cole, a division of Thomson Learning, Inc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icit Different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Object 1024"/>
          <p:cNvGraphicFramePr/>
          <p:nvPr/>
        </p:nvGraphicFramePr>
        <p:xfrm>
          <a:off x="3124080" y="1447920"/>
          <a:ext cx="2438640" cy="55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447920"/>
                    <a:ext cx="243864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Text Box 4"/>
          <p:cNvSpPr/>
          <p:nvPr/>
        </p:nvSpPr>
        <p:spPr>
          <a:xfrm>
            <a:off x="2362320" y="2362320"/>
            <a:ext cx="548640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express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licit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func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5"/>
          <p:cNvSpPr/>
          <p:nvPr/>
        </p:nvSpPr>
        <p:spPr>
          <a:xfrm flipV="1">
            <a:off x="3048120" y="1980720"/>
            <a:ext cx="152280" cy="3812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2" name="Object 1025"/>
          <p:cNvGraphicFramePr/>
          <p:nvPr/>
        </p:nvGraphicFramePr>
        <p:xfrm>
          <a:off x="3200400" y="2971800"/>
          <a:ext cx="2205000" cy="55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3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2971800"/>
                    <a:ext cx="2205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Text Box 7"/>
          <p:cNvSpPr/>
          <p:nvPr/>
        </p:nvSpPr>
        <p:spPr>
          <a:xfrm>
            <a:off x="2286000" y="3733920"/>
            <a:ext cx="563868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express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licit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func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8"/>
          <p:cNvSpPr/>
          <p:nvPr/>
        </p:nvSpPr>
        <p:spPr>
          <a:xfrm flipV="1">
            <a:off x="3276720" y="3504960"/>
            <a:ext cx="0" cy="228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9"/>
          <p:cNvSpPr/>
          <p:nvPr/>
        </p:nvSpPr>
        <p:spPr>
          <a:xfrm flipV="1">
            <a:off x="4114800" y="3504960"/>
            <a:ext cx="0" cy="228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685800" y="43434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ifferentiate the implicit equation, we wri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n plac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Object 1026"/>
          <p:cNvGraphicFramePr/>
          <p:nvPr/>
        </p:nvGraphicFramePr>
        <p:xfrm>
          <a:off x="2590920" y="5334120"/>
          <a:ext cx="3686040" cy="66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9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5334120"/>
                    <a:ext cx="36860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2006 Brooks/Cole, a division of Thomson Learning, Inc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icit Differentiation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1219320" y="1295280"/>
            <a:ext cx="6095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differenti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the chain ru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Object 1024"/>
          <p:cNvGraphicFramePr/>
          <p:nvPr/>
        </p:nvGraphicFramePr>
        <p:xfrm>
          <a:off x="3886200" y="1219320"/>
          <a:ext cx="368604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219320"/>
                    <a:ext cx="36860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Object 1025"/>
          <p:cNvGraphicFramePr/>
          <p:nvPr/>
        </p:nvGraphicFramePr>
        <p:xfrm>
          <a:off x="2133720" y="2590920"/>
          <a:ext cx="478944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2590920"/>
                    <a:ext cx="47894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1026"/>
          <p:cNvGraphicFramePr/>
          <p:nvPr/>
        </p:nvGraphicFramePr>
        <p:xfrm>
          <a:off x="2286000" y="3886200"/>
          <a:ext cx="2612880" cy="550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8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3886200"/>
                    <a:ext cx="26128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Text Box 15"/>
          <p:cNvSpPr/>
          <p:nvPr/>
        </p:nvSpPr>
        <p:spPr>
          <a:xfrm>
            <a:off x="1219320" y="33526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can be written in the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6"/>
          <p:cNvSpPr/>
          <p:nvPr/>
        </p:nvSpPr>
        <p:spPr>
          <a:xfrm>
            <a:off x="5334120" y="3886200"/>
            <a:ext cx="182880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bing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Object 1027"/>
          <p:cNvGraphicFramePr/>
          <p:nvPr/>
        </p:nvGraphicFramePr>
        <p:xfrm>
          <a:off x="2209680" y="4495680"/>
          <a:ext cx="2698920" cy="696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2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09680" y="4495680"/>
                    <a:ext cx="269892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Object 1028"/>
          <p:cNvGraphicFramePr/>
          <p:nvPr/>
        </p:nvGraphicFramePr>
        <p:xfrm>
          <a:off x="2590920" y="5257800"/>
          <a:ext cx="1798560" cy="987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4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90920" y="5257800"/>
                    <a:ext cx="179856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Text Box 19"/>
          <p:cNvSpPr/>
          <p:nvPr/>
        </p:nvSpPr>
        <p:spPr>
          <a:xfrm>
            <a:off x="5410080" y="4648320"/>
            <a:ext cx="182880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20"/>
          <p:cNvSpPr/>
          <p:nvPr/>
        </p:nvSpPr>
        <p:spPr>
          <a:xfrm flipH="1">
            <a:off x="4952520" y="495288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21"/>
          <p:cNvSpPr/>
          <p:nvPr/>
        </p:nvSpPr>
        <p:spPr>
          <a:xfrm flipH="1">
            <a:off x="4571640" y="5105520"/>
            <a:ext cx="1066680" cy="685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ooter Placeholder 3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2006 Brooks/Cole, a division of Thomson Learning, Inc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ed 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914400" y="11430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 at how the rate of change of one quantity is related to the rate of change of another quant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990720" y="23623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5"/>
          <p:cNvSpPr/>
          <p:nvPr/>
        </p:nvSpPr>
        <p:spPr>
          <a:xfrm>
            <a:off x="1600200" y="2362320"/>
            <a:ext cx="6400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cars leave an intersection at the same time.  One car travels north at 35 mi./hr., the other travels west at 60 mi./hr.  How fast is the distance between them changing after 2 hou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762120" y="4952880"/>
            <a:ext cx="7848360" cy="82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  The rate of change of the distance between them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l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rate at which the cars are trave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oter Placeholder 3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2006 Brooks/Cole, a division of Thomson Learning, Inc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ed 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7"/>
          <p:cNvSpPr/>
          <p:nvPr/>
        </p:nvSpPr>
        <p:spPr>
          <a:xfrm>
            <a:off x="380880" y="10666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solve a related rate probl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8"/>
          <p:cNvSpPr/>
          <p:nvPr/>
        </p:nvSpPr>
        <p:spPr>
          <a:xfrm>
            <a:off x="1143000" y="1523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ssign a variable to each quantit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9"/>
          <p:cNvSpPr/>
          <p:nvPr/>
        </p:nvSpPr>
        <p:spPr>
          <a:xfrm>
            <a:off x="1145880" y="1905120"/>
            <a:ext cx="54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 a diagram if appropri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0"/>
          <p:cNvSpPr/>
          <p:nvPr/>
        </p:nvSpPr>
        <p:spPr>
          <a:xfrm>
            <a:off x="1143000" y="2438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Write down the known values/r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1"/>
          <p:cNvSpPr/>
          <p:nvPr/>
        </p:nvSpPr>
        <p:spPr>
          <a:xfrm>
            <a:off x="1143000" y="29718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Relate variables with an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2"/>
          <p:cNvSpPr/>
          <p:nvPr/>
        </p:nvSpPr>
        <p:spPr>
          <a:xfrm>
            <a:off x="1143000" y="35053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Differentiate the equation implici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3"/>
          <p:cNvSpPr/>
          <p:nvPr/>
        </p:nvSpPr>
        <p:spPr>
          <a:xfrm>
            <a:off x="1143000" y="40384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Plug in values and sol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ooter Placeholder 3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2006 Brooks/Cole, a division of Thomson Learning, Inc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304920" y="228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90720" y="30492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cars leave an intersection at the same time.  One car travels north at 35 mi./hr., the other travels east at 60 mi./hr.  How fast is the distance between them changing after 2 hou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8"/>
          <p:cNvSpPr/>
          <p:nvPr/>
        </p:nvSpPr>
        <p:spPr>
          <a:xfrm flipV="1">
            <a:off x="3352680" y="1981080"/>
            <a:ext cx="0" cy="99072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9"/>
          <p:cNvSpPr/>
          <p:nvPr/>
        </p:nvSpPr>
        <p:spPr>
          <a:xfrm>
            <a:off x="3886200" y="3200400"/>
            <a:ext cx="990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10"/>
          <p:cNvSpPr/>
          <p:nvPr/>
        </p:nvSpPr>
        <p:spPr>
          <a:xfrm>
            <a:off x="3276720" y="2895480"/>
            <a:ext cx="1522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11"/>
          <p:cNvSpPr/>
          <p:nvPr/>
        </p:nvSpPr>
        <p:spPr>
          <a:xfrm>
            <a:off x="3581280" y="3124080"/>
            <a:ext cx="304920" cy="1526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2"/>
          <p:cNvSpPr/>
          <p:nvPr/>
        </p:nvSpPr>
        <p:spPr>
          <a:xfrm>
            <a:off x="3429000" y="1981080"/>
            <a:ext cx="1447920" cy="11430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3"/>
          <p:cNvSpPr/>
          <p:nvPr/>
        </p:nvSpPr>
        <p:spPr>
          <a:xfrm>
            <a:off x="4876920" y="2057400"/>
            <a:ext cx="190476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4"/>
          <p:cNvSpPr/>
          <p:nvPr/>
        </p:nvSpPr>
        <p:spPr>
          <a:xfrm flipH="1">
            <a:off x="4419720" y="228600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5"/>
          <p:cNvSpPr/>
          <p:nvPr/>
        </p:nvSpPr>
        <p:spPr>
          <a:xfrm>
            <a:off x="4038480" y="3276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6"/>
          <p:cNvSpPr/>
          <p:nvPr/>
        </p:nvSpPr>
        <p:spPr>
          <a:xfrm>
            <a:off x="2819520" y="2209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5" name="Object 1024"/>
          <p:cNvGraphicFramePr/>
          <p:nvPr/>
        </p:nvGraphicFramePr>
        <p:xfrm>
          <a:off x="1676520" y="2438280"/>
          <a:ext cx="914400" cy="6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438280"/>
                    <a:ext cx="914400" cy="6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Object 1025"/>
          <p:cNvGraphicFramePr/>
          <p:nvPr/>
        </p:nvGraphicFramePr>
        <p:xfrm>
          <a:off x="533520" y="2438280"/>
          <a:ext cx="914400" cy="6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8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438280"/>
                    <a:ext cx="914400" cy="6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Object 1026"/>
          <p:cNvGraphicFramePr/>
          <p:nvPr/>
        </p:nvGraphicFramePr>
        <p:xfrm>
          <a:off x="1676520" y="3276720"/>
          <a:ext cx="758880" cy="35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0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3276720"/>
                    <a:ext cx="75888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Object 1027"/>
          <p:cNvGraphicFramePr/>
          <p:nvPr/>
        </p:nvGraphicFramePr>
        <p:xfrm>
          <a:off x="533520" y="3276720"/>
          <a:ext cx="869760" cy="312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2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3276720"/>
                    <a:ext cx="869760" cy="31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Object 1028"/>
          <p:cNvGraphicFramePr/>
          <p:nvPr/>
        </p:nvGraphicFramePr>
        <p:xfrm>
          <a:off x="3200400" y="3733920"/>
          <a:ext cx="1981080" cy="617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4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00400" y="3733920"/>
                    <a:ext cx="198108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Object 1029"/>
          <p:cNvGraphicFramePr/>
          <p:nvPr/>
        </p:nvGraphicFramePr>
        <p:xfrm>
          <a:off x="2286000" y="4267080"/>
          <a:ext cx="3352680" cy="954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96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6000" y="4267080"/>
                    <a:ext cx="3352680" cy="9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1030"/>
          <p:cNvGraphicFramePr/>
          <p:nvPr/>
        </p:nvGraphicFramePr>
        <p:xfrm>
          <a:off x="1676520" y="5105520"/>
          <a:ext cx="5715000" cy="928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98" name="Object 103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5105520"/>
                    <a:ext cx="571500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Text Box 24"/>
          <p:cNvSpPr/>
          <p:nvPr/>
        </p:nvSpPr>
        <p:spPr>
          <a:xfrm>
            <a:off x="6553080" y="3429000"/>
            <a:ext cx="2057400" cy="82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original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25"/>
          <p:cNvSpPr/>
          <p:nvPr/>
        </p:nvSpPr>
        <p:spPr>
          <a:xfrm flipH="1">
            <a:off x="6476760" y="4267080"/>
            <a:ext cx="609480" cy="99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1" name="Object 1031"/>
          <p:cNvGraphicFramePr/>
          <p:nvPr/>
        </p:nvGraphicFramePr>
        <p:xfrm>
          <a:off x="3200400" y="5715000"/>
          <a:ext cx="2514600" cy="896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2" name="Object 103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00400" y="5715000"/>
                    <a:ext cx="2514600" cy="8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Footer Placeholder 3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2006 Brooks/Cole, a division of Thomson Learning, Inc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3"/>
          <p:cNvSpPr/>
          <p:nvPr/>
        </p:nvSpPr>
        <p:spPr>
          <a:xfrm>
            <a:off x="914400" y="1905120"/>
            <a:ext cx="70866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crement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presents a change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s defin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6" name="Object 0"/>
          <p:cNvGraphicFramePr/>
          <p:nvPr/>
        </p:nvGraphicFramePr>
        <p:xfrm>
          <a:off x="2819520" y="2819520"/>
          <a:ext cx="1904760" cy="5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819520"/>
                    <a:ext cx="190476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Text Box 5"/>
          <p:cNvSpPr/>
          <p:nvPr/>
        </p:nvSpPr>
        <p:spPr>
          <a:xfrm>
            <a:off x="609480" y="3352680"/>
            <a:ext cx="198144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“delt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6"/>
          <p:cNvSpPr/>
          <p:nvPr/>
        </p:nvSpPr>
        <p:spPr>
          <a:xfrm flipV="1">
            <a:off x="2590920" y="3276720"/>
            <a:ext cx="380880" cy="380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7"/>
          <p:cNvSpPr/>
          <p:nvPr/>
        </p:nvSpPr>
        <p:spPr>
          <a:xfrm>
            <a:off x="838080" y="41911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crement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presents a chang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s defin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1" name="Object 1"/>
          <p:cNvGraphicFramePr/>
          <p:nvPr/>
        </p:nvGraphicFramePr>
        <p:xfrm>
          <a:off x="2209680" y="5257800"/>
          <a:ext cx="3519720" cy="51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2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5257800"/>
                    <a:ext cx="35197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Footer Placeholder 3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2006 Brooks/Cole, a division of Thomson Learning, Inc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533520" y="175248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differentiable function, then th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fferential o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enot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s such that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6" name="Object 4"/>
          <p:cNvGraphicFramePr/>
          <p:nvPr/>
        </p:nvGraphicFramePr>
        <p:xfrm>
          <a:off x="6400800" y="2209680"/>
          <a:ext cx="137160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2209680"/>
                    <a:ext cx="1371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Rectangle 5"/>
          <p:cNvSpPr/>
          <p:nvPr/>
        </p:nvSpPr>
        <p:spPr>
          <a:xfrm>
            <a:off x="534240" y="2590920"/>
            <a:ext cx="51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fferent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enot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9" name="Object 6"/>
          <p:cNvGraphicFramePr/>
          <p:nvPr/>
        </p:nvGraphicFramePr>
        <p:xfrm>
          <a:off x="1981080" y="3809880"/>
          <a:ext cx="4943520" cy="68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809880"/>
                    <a:ext cx="4943520" cy="6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Text Box 7"/>
          <p:cNvSpPr/>
          <p:nvPr/>
        </p:nvSpPr>
        <p:spPr>
          <a:xfrm>
            <a:off x="914400" y="49528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2" name="Object 8"/>
          <p:cNvGraphicFramePr/>
          <p:nvPr/>
        </p:nvGraphicFramePr>
        <p:xfrm>
          <a:off x="1828800" y="4952880"/>
          <a:ext cx="5778360" cy="60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4952880"/>
                    <a:ext cx="57783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Object 9"/>
          <p:cNvGraphicFramePr/>
          <p:nvPr/>
        </p:nvGraphicFramePr>
        <p:xfrm>
          <a:off x="1828800" y="5486400"/>
          <a:ext cx="6904080" cy="600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5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28800" y="5486400"/>
                    <a:ext cx="690408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3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2006 Brooks/Cole, a division of Thomson Learning, Inc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Basic Differenti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295280" y="1905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676520" y="28195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295280" y="4343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6"/>
          <p:cNvGraphicFramePr/>
          <p:nvPr/>
        </p:nvGraphicFramePr>
        <p:xfrm>
          <a:off x="1752480" y="1752480"/>
          <a:ext cx="598356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752480"/>
                    <a:ext cx="5983560" cy="8794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5" name="Object 7"/>
          <p:cNvGraphicFramePr/>
          <p:nvPr/>
        </p:nvGraphicFramePr>
        <p:xfrm>
          <a:off x="2362320" y="2743200"/>
          <a:ext cx="1574640" cy="55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2743200"/>
                    <a:ext cx="15746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8"/>
          <p:cNvSpPr/>
          <p:nvPr/>
        </p:nvSpPr>
        <p:spPr>
          <a:xfrm>
            <a:off x="1676520" y="5181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Object 9"/>
          <p:cNvGraphicFramePr/>
          <p:nvPr/>
        </p:nvGraphicFramePr>
        <p:xfrm>
          <a:off x="1828800" y="4114800"/>
          <a:ext cx="6012000" cy="87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4114800"/>
                    <a:ext cx="6012000" cy="8794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0" name="Object 10"/>
          <p:cNvGraphicFramePr/>
          <p:nvPr/>
        </p:nvGraphicFramePr>
        <p:xfrm>
          <a:off x="2362320" y="5181480"/>
          <a:ext cx="2012760" cy="55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5181480"/>
                    <a:ext cx="201276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11"/>
          <p:cNvGraphicFramePr/>
          <p:nvPr/>
        </p:nvGraphicFramePr>
        <p:xfrm>
          <a:off x="2286000" y="3276720"/>
          <a:ext cx="3048120" cy="671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3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0" y="3276720"/>
                    <a:ext cx="304812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12"/>
          <p:cNvGraphicFramePr/>
          <p:nvPr/>
        </p:nvGraphicFramePr>
        <p:xfrm>
          <a:off x="2286000" y="5715000"/>
          <a:ext cx="3470400" cy="555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5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6000" y="5715000"/>
                    <a:ext cx="347040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Footer Placeholder 3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2006 Brooks/Cole, a division of Thomson Learning, Inc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8" name="Object 3"/>
          <p:cNvGraphicFramePr/>
          <p:nvPr/>
        </p:nvGraphicFramePr>
        <p:xfrm>
          <a:off x="1447920" y="1143000"/>
          <a:ext cx="3735360" cy="69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143000"/>
                    <a:ext cx="373536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Object 4"/>
          <p:cNvGraphicFramePr/>
          <p:nvPr/>
        </p:nvGraphicFramePr>
        <p:xfrm>
          <a:off x="762120" y="3276720"/>
          <a:ext cx="7464240" cy="58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276720"/>
                    <a:ext cx="746424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Text Box 6"/>
          <p:cNvSpPr/>
          <p:nvPr/>
        </p:nvSpPr>
        <p:spPr>
          <a:xfrm>
            <a:off x="457200" y="12193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3" name="Object 7"/>
          <p:cNvGraphicFramePr/>
          <p:nvPr/>
        </p:nvGraphicFramePr>
        <p:xfrm>
          <a:off x="838080" y="2133720"/>
          <a:ext cx="6116760" cy="58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2133720"/>
                    <a:ext cx="611676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Object 8"/>
          <p:cNvGraphicFramePr/>
          <p:nvPr/>
        </p:nvGraphicFramePr>
        <p:xfrm>
          <a:off x="2057400" y="2666880"/>
          <a:ext cx="3809880" cy="544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6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2666880"/>
                    <a:ext cx="380988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9"/>
          <p:cNvGraphicFramePr/>
          <p:nvPr/>
        </p:nvGraphicFramePr>
        <p:xfrm>
          <a:off x="2133720" y="3809880"/>
          <a:ext cx="3651120" cy="592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8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33720" y="3809880"/>
                    <a:ext cx="36511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10"/>
          <p:cNvGraphicFramePr/>
          <p:nvPr/>
        </p:nvGraphicFramePr>
        <p:xfrm>
          <a:off x="2743200" y="4343400"/>
          <a:ext cx="4419720" cy="52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0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43200" y="4343400"/>
                    <a:ext cx="44197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11"/>
          <p:cNvGraphicFramePr/>
          <p:nvPr/>
        </p:nvGraphicFramePr>
        <p:xfrm>
          <a:off x="2209680" y="4800600"/>
          <a:ext cx="4876920" cy="773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42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09680" y="4800600"/>
                    <a:ext cx="487692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Object 12"/>
          <p:cNvGraphicFramePr/>
          <p:nvPr/>
        </p:nvGraphicFramePr>
        <p:xfrm>
          <a:off x="2819520" y="5486400"/>
          <a:ext cx="4413240" cy="741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44" name="Object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19520" y="5486400"/>
                    <a:ext cx="441324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oter Placeholder 3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2006 Brooks/Cole, a division of Thomson Learning, Inc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7" name="Object 0"/>
          <p:cNvGraphicFramePr/>
          <p:nvPr/>
        </p:nvGraphicFramePr>
        <p:xfrm>
          <a:off x="609480" y="5715000"/>
          <a:ext cx="7239240" cy="9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5715000"/>
                    <a:ext cx="723924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" name="Text Box 5"/>
          <p:cNvSpPr/>
          <p:nvPr/>
        </p:nvSpPr>
        <p:spPr>
          <a:xfrm>
            <a:off x="457200" y="12193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otal cost incurred in operating a certain type of truck on a 500-mile trip, traveling at an average spee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h, is estimated to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0" name="Object 1"/>
          <p:cNvGraphicFramePr/>
          <p:nvPr/>
        </p:nvGraphicFramePr>
        <p:xfrm>
          <a:off x="2209680" y="2514600"/>
          <a:ext cx="487692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1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514600"/>
                    <a:ext cx="48769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Object 2"/>
          <p:cNvGraphicFramePr/>
          <p:nvPr/>
        </p:nvGraphicFramePr>
        <p:xfrm>
          <a:off x="609480" y="4191120"/>
          <a:ext cx="8070840" cy="142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3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4191120"/>
                    <a:ext cx="8070840" cy="14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Text Box 12"/>
          <p:cNvSpPr/>
          <p:nvPr/>
        </p:nvSpPr>
        <p:spPr>
          <a:xfrm>
            <a:off x="533520" y="32767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approximate change in the total operating cost w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verage speed is increased from 55 mph to 58 mp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3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2006 Brooks/Cole, a division of Thomson Learning, Inc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ore Differenti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295280" y="9907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600200" y="2743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7"/>
          <p:cNvGraphicFramePr/>
          <p:nvPr/>
        </p:nvGraphicFramePr>
        <p:xfrm>
          <a:off x="2286000" y="2666880"/>
          <a:ext cx="49006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666880"/>
                    <a:ext cx="49006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9"/>
          <p:cNvGraphicFramePr/>
          <p:nvPr/>
        </p:nvGraphicFramePr>
        <p:xfrm>
          <a:off x="1676520" y="1447920"/>
          <a:ext cx="7202520" cy="87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1447920"/>
                    <a:ext cx="7202520" cy="8794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4" name="Text Box 13"/>
          <p:cNvSpPr/>
          <p:nvPr/>
        </p:nvSpPr>
        <p:spPr>
          <a:xfrm>
            <a:off x="1752480" y="990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Object 14"/>
          <p:cNvGraphicFramePr/>
          <p:nvPr/>
        </p:nvGraphicFramePr>
        <p:xfrm>
          <a:off x="533520" y="3505320"/>
          <a:ext cx="8342280" cy="70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3505320"/>
                    <a:ext cx="83422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15"/>
          <p:cNvGraphicFramePr/>
          <p:nvPr/>
        </p:nvGraphicFramePr>
        <p:xfrm>
          <a:off x="609480" y="5791320"/>
          <a:ext cx="7855200" cy="556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5791320"/>
                    <a:ext cx="785520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19"/>
          <p:cNvSpPr/>
          <p:nvPr/>
        </p:nvSpPr>
        <p:spPr>
          <a:xfrm>
            <a:off x="1371600" y="4419720"/>
            <a:ext cx="1752480" cy="11912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ivative of the first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0"/>
          <p:cNvSpPr/>
          <p:nvPr/>
        </p:nvSpPr>
        <p:spPr>
          <a:xfrm>
            <a:off x="6781680" y="4343400"/>
            <a:ext cx="2133720" cy="11912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ivative of the seco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26"/>
          <p:cNvSpPr/>
          <p:nvPr/>
        </p:nvSpPr>
        <p:spPr>
          <a:xfrm flipV="1">
            <a:off x="2209680" y="4038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7"/>
          <p:cNvSpPr/>
          <p:nvPr/>
        </p:nvSpPr>
        <p:spPr>
          <a:xfrm flipV="1">
            <a:off x="7848720" y="403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3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2006 Brooks/Cole, a division of Thomson Learning, Inc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ore Differenti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295280" y="9907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Object 6"/>
          <p:cNvGraphicFramePr/>
          <p:nvPr/>
        </p:nvGraphicFramePr>
        <p:xfrm>
          <a:off x="1981080" y="1676520"/>
          <a:ext cx="6494760" cy="14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676520"/>
                    <a:ext cx="6494760" cy="1447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8" name="Text Box 7"/>
          <p:cNvSpPr/>
          <p:nvPr/>
        </p:nvSpPr>
        <p:spPr>
          <a:xfrm>
            <a:off x="1752480" y="990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otient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Object 12"/>
          <p:cNvGraphicFramePr/>
          <p:nvPr/>
        </p:nvGraphicFramePr>
        <p:xfrm>
          <a:off x="2030400" y="4343400"/>
          <a:ext cx="4251240" cy="99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30400" y="4343400"/>
                    <a:ext cx="4251240" cy="9921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1" name="Text Box 13"/>
          <p:cNvSpPr/>
          <p:nvPr/>
        </p:nvSpPr>
        <p:spPr>
          <a:xfrm>
            <a:off x="1600200" y="35812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remembered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2006 Brooks/Cole, a division of Thomson Learning, Inc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ore Differenti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295280" y="9907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600200" y="1828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Object 5"/>
          <p:cNvGraphicFramePr/>
          <p:nvPr/>
        </p:nvGraphicFramePr>
        <p:xfrm>
          <a:off x="2286000" y="1676520"/>
          <a:ext cx="201312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676520"/>
                    <a:ext cx="201312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 Box 7"/>
          <p:cNvSpPr/>
          <p:nvPr/>
        </p:nvSpPr>
        <p:spPr>
          <a:xfrm>
            <a:off x="1752480" y="9907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otient Rule 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8"/>
          <p:cNvGraphicFramePr/>
          <p:nvPr/>
        </p:nvGraphicFramePr>
        <p:xfrm>
          <a:off x="2209680" y="3200400"/>
          <a:ext cx="4346640" cy="143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3200400"/>
                    <a:ext cx="4346640" cy="14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9"/>
          <p:cNvGraphicFramePr/>
          <p:nvPr/>
        </p:nvGraphicFramePr>
        <p:xfrm>
          <a:off x="3048120" y="4648320"/>
          <a:ext cx="2420640" cy="13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4648320"/>
                    <a:ext cx="242064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Text Box 10"/>
          <p:cNvSpPr/>
          <p:nvPr/>
        </p:nvSpPr>
        <p:spPr>
          <a:xfrm>
            <a:off x="228600" y="2743200"/>
            <a:ext cx="2057400" cy="825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ivative of the num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6705720" y="2286000"/>
            <a:ext cx="2209680" cy="825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ivative of the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3"/>
          <p:cNvSpPr/>
          <p:nvPr/>
        </p:nvSpPr>
        <p:spPr>
          <a:xfrm>
            <a:off x="2286000" y="3124080"/>
            <a:ext cx="1066680" cy="3812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4"/>
          <p:cNvSpPr/>
          <p:nvPr/>
        </p:nvSpPr>
        <p:spPr>
          <a:xfrm flipH="1">
            <a:off x="5181480" y="2743200"/>
            <a:ext cx="1524240" cy="609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2006 Brooks/Cole, a division of Thomson Learning, Inc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ore Differenti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295280" y="9907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 The Chain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Object 5"/>
          <p:cNvGraphicFramePr/>
          <p:nvPr/>
        </p:nvGraphicFramePr>
        <p:xfrm>
          <a:off x="2209680" y="1523880"/>
          <a:ext cx="4038840" cy="6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523880"/>
                    <a:ext cx="403884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6"/>
          <p:cNvGraphicFramePr/>
          <p:nvPr/>
        </p:nvGraphicFramePr>
        <p:xfrm>
          <a:off x="2286000" y="2362320"/>
          <a:ext cx="4038480" cy="70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2362320"/>
                    <a:ext cx="4038480" cy="707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4" name="Text Box 7"/>
          <p:cNvSpPr/>
          <p:nvPr/>
        </p:nvSpPr>
        <p:spPr>
          <a:xfrm>
            <a:off x="1523880" y="335268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e:  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a composite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Object 8"/>
          <p:cNvGraphicFramePr/>
          <p:nvPr/>
        </p:nvGraphicFramePr>
        <p:xfrm>
          <a:off x="1104840" y="4495680"/>
          <a:ext cx="7265880" cy="69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4495680"/>
                    <a:ext cx="726588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9"/>
          <p:cNvGraphicFramePr/>
          <p:nvPr/>
        </p:nvGraphicFramePr>
        <p:xfrm>
          <a:off x="3429000" y="5334120"/>
          <a:ext cx="2052720" cy="99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5334120"/>
                    <a:ext cx="2052720" cy="9936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Text Box 10"/>
          <p:cNvSpPr/>
          <p:nvPr/>
        </p:nvSpPr>
        <p:spPr>
          <a:xfrm>
            <a:off x="3200400" y="3962520"/>
            <a:ext cx="266688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Ver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2006 Brooks/Cole, a division of Thomson Learning, Inc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ore Differenti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295280" y="13716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eneral Power Ru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Object 4"/>
          <p:cNvGraphicFramePr/>
          <p:nvPr/>
        </p:nvGraphicFramePr>
        <p:xfrm>
          <a:off x="1371600" y="1905120"/>
          <a:ext cx="5316480" cy="77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05120"/>
                    <a:ext cx="531648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5"/>
          <p:cNvGraphicFramePr/>
          <p:nvPr/>
        </p:nvGraphicFramePr>
        <p:xfrm>
          <a:off x="1828800" y="2743200"/>
          <a:ext cx="4321080" cy="8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2743200"/>
                    <a:ext cx="4321080" cy="812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7" name="Text Box 10"/>
          <p:cNvSpPr/>
          <p:nvPr/>
        </p:nvSpPr>
        <p:spPr>
          <a:xfrm>
            <a:off x="1600200" y="37339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Object 11"/>
          <p:cNvGraphicFramePr/>
          <p:nvPr/>
        </p:nvGraphicFramePr>
        <p:xfrm>
          <a:off x="2209680" y="3581280"/>
          <a:ext cx="5257800" cy="89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3581280"/>
                    <a:ext cx="5257800" cy="8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12"/>
          <p:cNvGraphicFramePr/>
          <p:nvPr/>
        </p:nvGraphicFramePr>
        <p:xfrm>
          <a:off x="2133720" y="4419720"/>
          <a:ext cx="5181480" cy="10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1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33720" y="4419720"/>
                    <a:ext cx="518148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13"/>
          <p:cNvGraphicFramePr/>
          <p:nvPr/>
        </p:nvGraphicFramePr>
        <p:xfrm>
          <a:off x="3048120" y="5334120"/>
          <a:ext cx="2125440" cy="1163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3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8120" y="5334120"/>
                    <a:ext cx="212544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14"/>
          <p:cNvSpPr/>
          <p:nvPr/>
        </p:nvSpPr>
        <p:spPr>
          <a:xfrm>
            <a:off x="1293480" y="914400"/>
            <a:ext cx="321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ain Rule leads 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2006 Brooks/Cole, a division of Thomson Learning, Inc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hain Rul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43000" y="1143000"/>
          <a:ext cx="2860560" cy="124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143000"/>
                    <a:ext cx="286056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5"/>
          <p:cNvGraphicFramePr/>
          <p:nvPr/>
        </p:nvGraphicFramePr>
        <p:xfrm>
          <a:off x="1143000" y="2286000"/>
          <a:ext cx="73692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286000"/>
                    <a:ext cx="7369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10"/>
          <p:cNvGraphicFramePr/>
          <p:nvPr/>
        </p:nvGraphicFramePr>
        <p:xfrm>
          <a:off x="1219320" y="4038480"/>
          <a:ext cx="7405560" cy="148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038480"/>
                    <a:ext cx="740556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Text Box 11"/>
          <p:cNvSpPr/>
          <p:nvPr/>
        </p:nvSpPr>
        <p:spPr>
          <a:xfrm>
            <a:off x="457200" y="14479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2T15:11:55Z</dcterms:created>
  <dc:creator>Computer Services</dc:creator>
  <dc:description/>
  <dc:language>en-US</dc:language>
  <cp:lastModifiedBy>malmousa</cp:lastModifiedBy>
  <dcterms:modified xsi:type="dcterms:W3CDTF">2017-09-19T07:52:11Z</dcterms:modified>
  <cp:revision>81</cp:revision>
  <dc:subject/>
  <dc:title>PowerPoint Presentation</dc:title>
</cp:coreProperties>
</file>