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3C7D-85D5-4D25-B2AF-64E5FE05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3A5-0F20-4A2B-A956-2FB261063B8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0126-FF02-4B6B-A7C2-CB65CC30A8F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985D-73D4-4190-9673-C0FF8427668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427B-AAE0-4A9E-B83F-040015DFE75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FC3-CF42-4280-A4CC-116890580AC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D6A9-DF61-4B55-BF29-38A86250609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42E2-8D8D-4245-B93E-2A21CA3F077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B5F-3974-4F71-8C17-677D3E53879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140D31B1-7199-44DA-AF06-96C09D8DED7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4C182419-7EA5-4B75-BC26-7B5B02D88C3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38088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Copyright © 2013 Pearson Education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5"/>
          <p:cNvSpPr/>
          <p:nvPr/>
        </p:nvSpPr>
        <p:spPr>
          <a:xfrm>
            <a:off x="380880" y="6248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Copyright © 2013 Pearson Education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5"/>
          <p:cNvSpPr/>
          <p:nvPr/>
        </p:nvSpPr>
        <p:spPr>
          <a:xfrm>
            <a:off x="380880" y="64911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Copyright © 2013 Pearson Education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5"/>
          <p:cNvSpPr/>
          <p:nvPr/>
        </p:nvSpPr>
        <p:spPr>
          <a:xfrm>
            <a:off x="380880" y="63388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Copyright © 2013 Pearson Education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Introduction  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270000" y="1314360"/>
            <a:ext cx="860256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Variables: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# units to produce (decision variabl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Z = total profit (in $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odel: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Z = $20x - $5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(objective functio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4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100 lb of steel (resource constraint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rameters: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$20, $5, 4 lbs, 100 lbs (known values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Formal Specification of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aximize Z = $15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bject to 4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2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-538920" y="0"/>
            <a:ext cx="91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752480" y="1523880"/>
            <a:ext cx="69343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olve the constraint equ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4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(4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)/4 = (100)/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25 uni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bstitute this value into the profit func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Z  =   $15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=   (15)(25)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=    $37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(Produce 25 units, to yield a profit of $375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0" y="12002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odel Solu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dditional 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Now suppose that there is a second product, y, that has a profit of $10 and requires 2 pounds of steel to make (in addition to the example considered earlier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of x and y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dditional Example of Model Construction 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-527040" y="304920"/>
            <a:ext cx="101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dditional Example of Model Construction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0" y="12002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New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1371600" y="19051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ximize Z = 15 x + 10 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ubject t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4 x + 2 y = 1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, y &gt;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MS / OR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aramond"/>
              </a:rPr>
              <a:t>Definition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anagement Scienc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(MS)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or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perations Research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(OR)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 is th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Garamond"/>
              </a:rPr>
              <a:t>scientific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 discipline devoted to the analysis and solution of complex decision making problem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57200" y="2743200"/>
            <a:ext cx="822960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  <a:ea typeface="Arial"/>
              </a:rPr>
              <a:t>The discipline of applying advanced analytical methods to help make better decisions.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  <a:ea typeface="Arial"/>
              </a:rPr>
              <a:t>Devoted to solving managerial-type problems using quantitative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Approach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is a scientific approach to solving management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is used in a variety of organizations to solve many different types of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encompasses a logical mathematical approach to problem solv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, also known as operations research, quantitative methods, etc., involves a philosophy of problem solving in a logical manner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539640" y="40464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Application Areas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1066680" y="3652920"/>
            <a:ext cx="701064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533520" y="1143000"/>
            <a:ext cx="80769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Applications of 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  <a:ea typeface="Arial"/>
              </a:rPr>
              <a:t>Forecasting, capital budgeting, portfolio analysis, capacity planning, scheduling, marketing, inventory management, project management, and production planning.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Proces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438120" y="12952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50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143000" y="59436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:  The management science proces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eps in the Management Science Proces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2286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serv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Identification of a problem that exists (or may occur soon) in a system or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finition of the Proble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problem must be clearly and consistently defined, showing its boundaries and interactions with the objectives of the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u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Development of the functional mathematical relationships that describe the decision variables, objective function and constraints of the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Solu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Models solved using management science techniq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Implement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Actual use of the model or its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1371600" y="1579680"/>
            <a:ext cx="70102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MAX (MIN):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(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…, X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S.T.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        </a:t>
            </a: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(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…, X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)&lt;=b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(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…, X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)&gt;=b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(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…, X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)=b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Modeling</a:t>
            </a:r>
            <a:br>
              <a:rPr sz="6600"/>
            </a:b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i="1" lang="en-US" sz="6600" spc="-1" strike="noStrike">
                <a:solidFill>
                  <a:srgbClr val="ff0000"/>
                </a:solidFill>
                <a:latin typeface="Garamond"/>
              </a:rPr>
              <a:t>&amp;</a:t>
            </a: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Formulation</a:t>
            </a:r>
            <a:endParaRPr b="1" lang="en-US" sz="6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685800" y="3657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 </a:t>
            </a:r>
            <a:endParaRPr b="0" lang="en-US" sz="6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Optimization Models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Garamond"/>
              </a:rPr>
              <a:t>We have to satisfy our Objectiv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Constraints and Constrained Optimiza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08520" indent="-308520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Garamond"/>
              </a:rPr>
              <a:t>Realize objective: (maximize profit…minimize cost)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marL="308520" indent="-308520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Garamond"/>
              </a:rPr>
              <a:t>Subject to limitations (constraints)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lvl="1" marL="66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Garamond"/>
              </a:rPr>
              <a:t>Time-Budget-Space-Capacity-Energy-Demand- Material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lvl="1" marL="66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Results: Optimal Decis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firm makes and sells a  steel produc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costs $5 to produ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sells for $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requires 4 pounds of steel to mak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rm has 100 pounds of steel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Sasidhar</cp:lastModifiedBy>
  <cp:lastPrinted>2001-04-05T18:48:46Z</cp:lastPrinted>
  <dcterms:modified xsi:type="dcterms:W3CDTF">2013-01-13T15:26:19Z</dcterms:modified>
  <cp:revision>201</cp:revision>
  <dc:subject/>
  <dc:title>No Slide Title</dc:title>
</cp:coreProperties>
</file>