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C6E2-CFB8-49DE-B1C5-457EA9990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773-BBCA-4980-BB06-B06DB00836B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785A-937A-4F9A-BC82-57CF63C1C88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A0F0-4D5E-43FD-97D9-7C50BA56C26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EBDD-C4DD-455D-9394-0103418D72B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82CC-1885-40D7-A734-E95C6DA5822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25F-B386-4A32-970A-01DC54EB7B41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A852-DFFB-49E8-A35E-BD94614A3EE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B8B-C823-431F-B830-7BD35C6B5AF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BBAC690F-75E6-4172-9519-1D9862D5862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E81B00C3-17E2-44CE-86C4-19BC741C486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38088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38088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5"/>
          <p:cNvSpPr/>
          <p:nvPr/>
        </p:nvSpPr>
        <p:spPr>
          <a:xfrm>
            <a:off x="38088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5"/>
          <p:cNvSpPr/>
          <p:nvPr/>
        </p:nvSpPr>
        <p:spPr>
          <a:xfrm>
            <a:off x="380880" y="6338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Copyright © 2013 Pearson Education</a:t>
            </a: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Introduction  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Variables: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Z = $20x - $5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rameters: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aximize Z = $15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bject to 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752480" y="1523880"/>
            <a:ext cx="69343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4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Z  =   $15</a:t>
            </a:r>
            <a:r>
              <a:rPr b="0" i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=   (15)(25)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0" y="12002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dditional 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Now suppose that there is a second product, y, that has a profit of $10 and requires 2 pounds of steel to make (in addition to the example considered earlier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of x and y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dditional Example of Model Construction 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-527040" y="304920"/>
            <a:ext cx="101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dditional Example of Model Construction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0" y="12002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New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1371600" y="19051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aximize Z = 15 x + 10 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ubject t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4 x + 2 y = 1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x, y &gt;=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MS / OR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aramond"/>
              </a:rPr>
              <a:t>Definition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Management Science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MS) 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or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perations Research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(OR)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 is th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Garamond"/>
              </a:rPr>
              <a:t>scientific</a:t>
            </a: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 discipline devoted to the analysis and solution of complex decision making problem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57200" y="2743200"/>
            <a:ext cx="822960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  <a:ea typeface="Arial"/>
              </a:rPr>
              <a:t>The discipline of applying advanced analytical methods to help make better decisions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  <a:ea typeface="Arial"/>
              </a:rPr>
              <a:t>Devoted to solving managerial-type problems using quantitative model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i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539640" y="40464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Application Areas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1066680" y="3652920"/>
            <a:ext cx="701064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533520" y="1143000"/>
            <a:ext cx="80769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Applications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  <a:ea typeface="Arial"/>
              </a:rPr>
              <a:t>Forecasting, capital budgeting, portfolio analysis, capacity planning, scheduling, marketing, inventory management, project management, and production planning.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438120" y="12952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50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143000" y="59436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:  The management science proces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1371600" y="1579680"/>
            <a:ext cx="70102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MAX (MIN):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S.T.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        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&lt;=b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&gt;=b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f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(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X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, …, X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)=b</a:t>
            </a:r>
            <a:r>
              <a:rPr b="1" i="1" lang="en-US" sz="3200" spc="-1" strike="noStrike" baseline="-25000">
                <a:solidFill>
                  <a:srgbClr val="ffffcc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Modeling</a:t>
            </a:r>
            <a:br>
              <a:rPr sz="6600"/>
            </a:b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Garamond"/>
              </a:rPr>
              <a:t>&amp;</a:t>
            </a: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Formulation</a:t>
            </a:r>
            <a:endParaRPr b="1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685800" y="3657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cc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Optimization Models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Garamond"/>
              </a:rPr>
              <a:t>We have to satisfy our Objectiv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Constraints and Constrained Optimiza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08520" indent="-308520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Garamond"/>
              </a:rPr>
              <a:t>Realize objective: (maximize profit…minimize cost)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08520" indent="-308520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Garamond"/>
              </a:rPr>
              <a:t>Subject to limitations (constraints)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lvl="1" marL="66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Garamond"/>
              </a:rPr>
              <a:t>Time-Budget-Space-Capacity-Energy-Demand- Material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lvl="1" marL="66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Garamond"/>
              </a:rPr>
              <a:t>Results: Optimal Decis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08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Sasidhar</cp:lastModifiedBy>
  <cp:lastPrinted>2001-04-05T18:48:46Z</cp:lastPrinted>
  <dcterms:modified xsi:type="dcterms:W3CDTF">2013-01-13T15:26:19Z</dcterms:modified>
  <cp:revision>201</cp:revision>
  <dc:subject/>
  <dc:title>No Slide Title</dc:title>
</cp:coreProperties>
</file>