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33CA6-C46F-41C7-995E-EDFBCF369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E21ED-7A5C-4ACF-B67A-F9DA230E3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4A575C-B3EE-490F-BD9D-538191504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9721F-C260-40A5-9282-7A4EC9E0F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3DD04-BC96-4D84-9993-E67EEEBDFE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904BC-5A71-47E8-9695-2FCAFCC76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80D033-C9DF-4461-A4B2-EDEF19831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C1417-0B01-42A4-BB99-437C465965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43526F-8F85-4F9F-9EA4-E2B5CF30E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6BF355-4FF0-4696-B7A1-FADB4FEAA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088F38-9B25-4D0F-B1B3-3070161E3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C7D9AF-F392-499C-A482-5703CAD110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284A0-29B3-4701-9C9F-0F04D3814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177BE8-45B6-4ECB-9782-CF70B4F26C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34C4F2-840E-4B13-B1BC-6D32FBC3D7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0EC3A-CC93-4183-8B8D-9FBEA931C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BBF9D2-E8BB-4798-9EC2-0A92542B5C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8A0DAD-686B-4D37-A8EC-A2BFF3A465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E91B91-F108-4AE7-9DE9-1A2AC8AB5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9A6CD5-4E48-4354-B313-D69A89B6B9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1D197D-EA66-495C-8538-6D7E86AD26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1B70C1-C967-4648-8C46-30E0F6CC5C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7E4974-B882-42DC-9FAF-84ECCDFE35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4528A-C0BA-4525-A2C7-931085485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B56F7A-F868-47D4-9823-434C1BE7C4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6E9A0C-594A-448D-8F3D-6A0D96F82F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205862-7D44-4779-9ADB-988CB9C208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11BEE8-7258-4DB6-A016-7A7AEF17F3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BA7909-D61C-451E-987A-BEE8F26238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599552-0A71-4161-968A-30ABEE9F2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37669F-B930-4093-B1D7-17EB84C4C2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69F9E8-3972-4ADA-A5B2-34C89E1A92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EE81A-F285-423D-A1B2-DB3902FF4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160BAA-BCC0-407E-A301-3A687BEEC2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D7E94-0E75-4C4F-AC6E-B0BBF627B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33D034-67A1-4BFA-BB9C-0592C5D9BA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A940AD-F153-4A2C-BC16-9FD1C68B2C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076FB3-1E8A-4CE8-B4DA-2DE9B4C933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AA78E5-B927-49C0-A336-C80DD06985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FE94B5-E774-4043-B210-4E95A521C6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C12A91-047E-4CE5-86E7-630A7D35B9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D18EB5-6034-4425-9C70-0B3C150B53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6987EA-8CC6-4885-961F-DD5DF20C28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4BB01A-829A-4DB0-BD77-AB20D64083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191DFB-8385-481A-B45A-293EE4E4DF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FFFB5-6D44-44F9-A2AB-AACD38A86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0D972C-4591-41AC-AF42-CC47F3DAE1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60DBDF-2E9E-40AF-965E-426CF60745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C5E96E-9ABD-4C83-BA66-DB9BE94BE7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8A93B8-E71B-4590-B98F-E0084150A3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694B0D-D53E-400D-87C8-04A107D750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D822D67-F45B-41EA-BA6F-E707E571CE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BFC11A-8750-432B-8BA3-8B116F90B0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73BAB4-7354-4A54-8EED-A36A1FF0AD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7DF639-59A3-4FD1-8107-15FB0D5E45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BDCF59-54FA-48A7-947D-422588004C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238B9-F58A-43C5-BFCF-B6592E3FD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0810AF-C4FA-4E11-B1A3-609CF71E90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FA658B-ECAE-4B09-9D47-6993F6BEE5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AE49AF-3721-426D-8A79-CC95256051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8D0363-2FED-4FBA-9004-181907AD68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25B1AD-593F-4E59-897D-8B4E278DE6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D81410-1D14-4A5C-AA8D-64886596D62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7AAE4B8-A00A-4B5A-870C-C005E58FA9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03E72A-CCAB-4903-95A5-35FF0EE5DE3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5CBCEC-BE06-4A41-B19F-7A795D5D80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6EAF3E-24DE-4847-9D08-06E7AEDCAC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66F1A-ED51-430E-8E74-4B8AF1F8F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D288EE-3C34-4F8F-9AA9-06E2DF5D56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ACE5F7-7CC5-4EB3-8F1C-B1E98AF827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434D37-7A36-4C05-BEBB-EB9A17D4EE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88D46A-5873-4D28-B2AA-92F7AEC391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C4B36B-D05E-4AAB-910B-FCD2925F57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6B17FA-9835-4425-8A4E-EF48D0B4B3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F12722-2E06-441B-91D7-2DAEBA331D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A668D3-4B38-4582-935E-D53B5F8E8D6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910B4B-D7B9-48E7-8847-FF76832EAD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8E34DCB-B957-4FC1-ADC0-B8256C4A52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084EF-3605-4654-B1C2-7F664ABDB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CE05A4-22DE-455D-B8A3-1634AC0814E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65345E-C27A-4D69-9A7E-8630CBA0510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70B07A-DBCC-4199-86F4-19132309E3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06EE20-35B7-498D-BC74-4F688731A3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FFD6F6-5760-4486-911A-BAC0A105DC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2E2843-1CEA-44BB-9708-26261AD8E8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A36FC8-FFBC-4D6B-B300-3201DD07CA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1F0ED3-8126-4338-9062-DAFE5AC61E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6DFD24-38B5-4B69-A3A1-D1CA5BD0DF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F3969D-E849-4093-8922-0E70B87E49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085F1-AB13-4B45-97C6-8465194D6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31011AB-509F-488F-AB99-2EE3C344A6F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3E78F62-E2F5-4DCD-99D2-1C39A87D12B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573E79-87D1-434C-9FF4-DE33308812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9C21D3-2B01-4752-B516-A90A0299BA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8E25A2-E806-4824-A82A-9951202683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2681AB-7F01-4078-8E45-9D482228F5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FCBD80-9329-4065-8562-EF5F50E2477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45FF1E-AE3A-484F-B822-271DD7CA08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FF2259-22BE-42A2-8FA8-EC2D9DD17A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5995E2-FB31-4131-AA05-B52927F5A9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F8E2-66C8-4084-9390-D02EB718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AA4C5BA-9FE6-4A49-A110-DC319B5E1A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DA73E3F-A185-45A4-8EC0-3C3196E7DF3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EC0E9C2-AE47-488D-8BEF-9FF0789208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8C87708-4FFF-468F-B864-03D22665BB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94104C-8A2E-4EA5-9DF7-E5D5201D61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CAF3EB7-CA90-4507-ABA8-51077E90C7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511FBB-8C86-4293-BB3C-F20B9CAD70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1375A2-6705-43EE-884B-3368A0EF5C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B512C6-5C05-4163-8841-FF3924694B4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E95E42-F59C-4B81-9C4D-75299939BB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76430-7BE9-4B18-B85D-0B36D1EC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47D90-4971-4612-B7D1-D7C595E63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5938E5-3029-48A9-AD91-B8E8F8D341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4A5357-84A9-43F4-AE44-298C5C9063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F000940-E8C1-454F-9148-88DF48B783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242E7AA-0F11-447E-826F-1CB879E1ADB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DA83EFC-1CDE-4512-BE80-DF833790046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6A6DA6-581C-434E-8D9A-A829FE2BFD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B1ADE0-FB80-4FBE-A77B-47EDF3ACEF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1EEDCAA-B037-4594-8EBD-517F6783A9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3EC6456-D3F3-4DE7-970F-DE3F7C82A2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7F3DD3B-AA3B-4096-B285-FA50CD94BA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B8625-678F-4FDC-A8A9-D41E27616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CF30AC9-75AD-427F-AA7C-E123E0F796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590B632-1F01-45AE-9257-B7D7A45DCE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4154B5C-3005-4021-AF18-41790A93B9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6A2E94-54F4-4EC4-A803-064E3578EF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66B94A1-74D8-4D66-BF07-7B8441FAAA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DCCB8B-A5A2-4BD3-AF55-C2B62D2E2F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E21D89A-8034-4FC6-8DAC-7FE097D127C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3936591-6A93-439D-8DFF-35E10B343D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6C7162-0316-4176-8A13-DF0AE0398FD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5C2199-DE19-4241-8D38-A65CD5C2509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7E973-09B9-4FA1-BF83-5B41F13AA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FCED35-F230-4C44-9BD6-4B825D71E9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B2AF653-8684-4412-9E77-7BC69AABAD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389F201-D52C-4F93-8AEA-24DFFA48CF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5E190F-9D62-431B-A8D5-9891D834A56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DAF839-69CC-42D5-AE48-A7B0A4C714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6FBCFE2-7C22-413B-A2CA-A44B2067AF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300A9EE-1791-4385-B563-E60D5D685BA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8F95782-8271-4BEF-B7B8-46EE4421718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C3F2780-4CB6-4FF8-A11E-B13F37614A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F42DDD3-F67D-42AF-83C5-62BE01CFA09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C0EB9-7EF8-4BA7-B045-2BC2EF508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2A8B8C-9035-4E7D-9029-2C9AD18B0FB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F8782C-B336-41A8-B8F3-51EB8482AA0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CABC551-109E-4EDC-A4D8-E086E8EF2D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778577-3C1E-42BF-A72E-D5198698710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4CBB3A-2650-4B80-8658-9C7AE81F6DA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F21394-35A8-430A-A93F-85570DB0B16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6786F6-8646-402A-A722-3AFB7739B0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414D9E-8822-4689-BE82-38A9702C80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C6C60D7-3CFE-447C-9697-F5BA0CEF14C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C3278EF-E47D-41C2-8889-BB20419E1B4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43E42-EF1B-4A57-8D94-38BA32E99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9A127D7-DDA1-47F3-ABCE-082DC13580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E7249-4A85-4B46-A5C8-05A776111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08900-960E-4C69-851A-4AA560F2D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6BA44-3729-47B9-A682-8FA188CE0C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976241-3A07-4383-B92B-1A1D51C00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90ABBE-0DBF-4A50-8A83-7F630805B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17268-3FDD-44C6-A46D-69741109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E96D4-48B0-45F1-B725-10C590900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E330D-48E5-4DA0-A6B3-59B2DFC56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3214C-0EF5-41F7-936C-12E38AE6B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600A4-69AF-4DA0-BBBE-65D01D0F5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624EA6-6E03-4F52-BC1F-BECB17306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4CBAE1-85EC-4F15-B647-B00B3AAAF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BDFA24-4AE6-4305-A24D-0AC1FADCD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92021F-6A53-42EA-AF95-8A58B823F8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193B3-9FDF-4A06-9D9A-D659A2122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38F44-7106-4092-9D80-7B8DFEBC1E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41A7-9AA6-439B-A713-FE66ECD18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45ECA-30C8-467A-A45B-DA14C9C53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FA92C-EA4C-4115-BDA8-7FC8351D3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8C25B-F856-4092-B2C1-937420F6D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B14EC-5F70-4C86-B25A-B66D43FC6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22B3E-A38B-4D87-AA59-27AD225A8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E6DDC-DD25-4838-835C-63F62F0DF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A5A60D-CDAA-4F36-88B3-71DF66342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335CF-933A-4D7C-B371-2F27046EAC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8806E6-428E-4D0C-9043-F29C797F5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AFC52-CE9D-42CC-8C20-0F128C0FB0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55A3-3CAE-4ADF-9279-5FA505FAF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D659F-5E50-4E14-950C-36EAAF33F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4083A-9BEB-40D1-B11F-C2B171D79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47CFE-21D1-4A16-ACA9-D245545F5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ED0AFA-CF8D-4E59-A68A-BDDDA1AE4C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B103B-A6C5-480D-B27D-739CC044A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FD3B3-C4A2-4D80-85CD-31A4CDC06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C5CCB-76FC-4245-A187-6D5F9153D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2461D-1B26-435C-A085-B4DC27D6E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12CEDD-4B6A-4FB5-9A3F-46B0F8140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43BCBF-16F8-4834-9D1E-310C94160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D3F6C-383C-40C4-97C8-7607949E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3AA13-FC1E-4E01-B722-5DE704B6B1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FE02B5-7D24-4A1B-A89A-688BCBDFCC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6179B6-E13B-4693-A115-6D88358F6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F00D8-1620-48CF-A9EE-BBFD37982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F78FF-25C9-4BD6-9DE4-2808B1631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4F855-06F9-4ACB-A997-D27C19461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32EE8-3291-4E7F-98C2-6D5B40876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757A8-1471-4416-8664-269E3F428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B64D7-3CDF-4E30-92E2-54781A4AC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3808A-AD7E-4D71-94B8-3C77A8B2B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29DD-F16C-4F30-9A76-CD88272B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ACB01-C30B-4AFD-9BBD-F7424CDAF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0C84C9-FF0D-4ACF-880C-85277BCE29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D67756-F163-4A31-BADB-C1B6658DEC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FD158B-2CC6-45A1-AABE-5A2E31A70C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E3499B-EB1E-41CD-BFD8-0A2066A1A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2A3BE-3D51-4565-8FDA-3CB6DD7C1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11AC3-7AF9-49E4-9158-E409C229D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E1EE09-33A6-48A2-A0EF-556387996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369E7-57B1-4CBB-81C0-E49B4CEDF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0E0EC-B396-44FA-B3D1-17B8DFA15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7E66-5788-4A1B-A419-C4378B79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F6739-4F09-4844-BA60-6217FB910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BEA02-603C-4CA0-8343-F6D130837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3A418-A628-465A-9A3C-1B96149F8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F91A51-1E67-4B76-A43F-2547C6726D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2EAF0-D603-4728-85DB-D93B55A83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460847-28DF-4A2E-B07B-A5EF5B2226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2C09D-29FB-4C79-8FBC-9ECE17DB6C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3F2112-119D-49CE-AB02-1C882F3F2E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6ABEE-C616-4B41-AA50-8FCC47BD63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A80551-B030-4ACD-B179-C9FAAF8C5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C7742-B1AD-431C-90F9-2C0651D73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326C89-3E40-4EED-BFB9-5555B4BC3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02304-BA95-4FFD-9500-CB6710D95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2B75A-B33C-49CD-B232-682C3FCB7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D59DF-59F0-45FE-8043-5C90A5EE8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FEC3B-6767-4161-8E8A-6193E7A2A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D9D748-D650-4A0C-AEB2-1F9D0D2E95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253E09-84DE-4225-AE46-687AFEE57F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9E8102-1AAE-46E7-A1BC-1D18572ADF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46BFC1-08D5-4B14-B412-A1043CC065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854AF3-7BE4-4836-A526-DBB7676684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C663-94FD-4222-8771-8106E3852A5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9210-57A2-4E5F-A683-64737A619F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B95E-15EF-4C0E-AED6-2A74480149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FFFC-D94A-41D4-AA3C-686D93E24B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1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62E0-7126-46C8-985C-521CCFE65F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6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FAFA-5737-4C7F-816B-E7116136B4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EAE2-190F-44ED-B52B-079C8D670E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4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C4A6-2B3C-423F-B5E1-2347165A65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8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A3A8-8981-451C-88DF-1499A34D08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8D2C-2BAB-4450-8986-097D116836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D4BF-987E-4358-90B5-5F0237DEDC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B1B5-9FB8-4AD2-B419-A7276861A0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8005-9213-4738-9089-F1344C3468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1"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5948-3496-441F-9403-B08C87B032B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0"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4"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3046-C554-4E4E-8C54-48B279FF4D2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9"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4786-C12C-4093-A462-72820E3C62F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2"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3CAF-B690-4EBC-B0F8-979FFEBA484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66"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632D-0DB9-4698-BF56-4ED57AF8613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05"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30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0"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82C4-1BCE-463C-9D9D-4F98CC55331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4"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55"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5C98-D0FF-44BD-BA04-CC532F69C53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cs typeface="Times New Roman"/>
              </a:rPr>
              <a:t>الفصل الاول</a:t>
            </a:r>
            <a:r>
              <a:rPr b="0" lang="ar-SA" sz="3200" spc="-1" strike="noStrike">
                <a:solidFill>
                  <a:srgbClr val="000000"/>
                </a:solidFill>
                <a:latin typeface="Bookman Old Style"/>
                <a:ea typeface="Times New Roman"/>
              </a:rPr>
              <a:t> </a:t>
            </a:r>
            <a:endParaRPr b="0" lang="en-US" sz="3200" spc="-1" strike="noStrike">
              <a:solidFill>
                <a:srgbClr val="464653"/>
              </a:solidFill>
              <a:latin typeface="Bookman Old Style"/>
            </a:endParaRPr>
          </a:p>
        </p:txBody>
      </p:sp>
      <p:sp>
        <p:nvSpPr>
          <p:cNvPr id="845"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64653"/>
                </a:solidFill>
                <a:latin typeface="Bookman Old Style"/>
                <a:cs typeface="Times New Roman"/>
              </a:rPr>
              <a:t>محاسبة التأمين</a:t>
            </a:r>
            <a:endParaRPr b="0" lang="en-US" sz="2000" spc="-1" strike="noStrike">
              <a:solidFill>
                <a:srgbClr val="000000"/>
              </a:solidFill>
              <a:latin typeface="Gill Sans MT"/>
            </a:endParaRPr>
          </a:p>
        </p:txBody>
      </p:sp>
      <p:sp>
        <p:nvSpPr>
          <p:cNvPr id="846" name="TextBox 1"/>
          <p:cNvSpPr/>
          <p:nvPr/>
        </p:nvSpPr>
        <p:spPr>
          <a:xfrm>
            <a:off x="5638680" y="632448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خر تعديل :هناء العقي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2280"/>
            <a:ext cx="82296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53"/>
                </a:solidFill>
                <a:latin typeface="Bookman Old Style"/>
                <a:cs typeface="Times New Roman"/>
              </a:rPr>
              <a:t>حساب ايرادات ومصروفات فرع التأمين ضد</a:t>
            </a:r>
            <a:r>
              <a:rPr b="0" lang="ar-SA" sz="2700" spc="-1" strike="noStrike">
                <a:solidFill>
                  <a:srgbClr val="464653"/>
                </a:solidFill>
                <a:latin typeface="Bookman Old Style"/>
                <a:ea typeface="Times New Roman"/>
              </a:rPr>
              <a:t> </a:t>
            </a:r>
            <a:r>
              <a:rPr b="0" lang="ar-SA" sz="2700" spc="-1" strike="noStrike">
                <a:solidFill>
                  <a:srgbClr val="464653"/>
                </a:solidFill>
                <a:latin typeface="Bookman Old Style"/>
                <a:ea typeface="Times New Roman"/>
              </a:rPr>
              <a:t>...... </a:t>
            </a:r>
            <a:endParaRPr b="0" lang="en-US" sz="2700" spc="-1" strike="noStrike">
              <a:solidFill>
                <a:srgbClr val="464653"/>
              </a:solidFill>
              <a:latin typeface="Bookman Old Style"/>
            </a:endParaRPr>
          </a:p>
        </p:txBody>
      </p:sp>
      <p:graphicFrame>
        <p:nvGraphicFramePr>
          <p:cNvPr id="864" name=""/>
          <p:cNvGraphicFramePr/>
          <p:nvPr/>
        </p:nvGraphicFramePr>
        <p:xfrm>
          <a:off x="457200" y="685800"/>
          <a:ext cx="8229600" cy="3543480"/>
        </p:xfrm>
        <a:graphic>
          <a:graphicData uri="http://schemas.openxmlformats.org/drawingml/2006/table">
            <a:tbl>
              <a:tblPr/>
              <a:tblGrid>
                <a:gridCol w="4114800"/>
                <a:gridCol w="411480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ايرادات (</a:t>
                      </a:r>
                      <a:r>
                        <a:rPr b="1" lang="ar-SA" sz="1800" spc="-1" strike="noStrike">
                          <a:solidFill>
                            <a:srgbClr val="dde9ec"/>
                          </a:solidFill>
                          <a:latin typeface="Gill Sans MT"/>
                        </a:rPr>
                        <a:t>الجانب الدائن </a:t>
                      </a:r>
                      <a:r>
                        <a:rPr b="1" lang="ar-SA" sz="1800" spc="-1" strike="noStrike">
                          <a:solidFill>
                            <a:srgbClr val="ffffff"/>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de9ec"/>
                          </a:solidFill>
                          <a:latin typeface="Gill Sans MT"/>
                        </a:rPr>
                        <a:t>المصروفات(الجانب المد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3836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خطار سارية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ضافي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تحت التسوية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اقسا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دخل الاستثمار(الفوائ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رباح بيع الاستثم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رامات تأمين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شراف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صدار اوتعديل وثائق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دمغة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رحل الى الارباح والخسائر (في حالة الخسار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تعويض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عمو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خسارة بيع الاستثم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شراف مدفو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صروفات ادارية وعموم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دمغة مدفو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خطار سارية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ضافي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تحت التسوية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رحل الى الارباح والخسائر (في حالة الرب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bl>
          </a:graphicData>
        </a:graphic>
      </p:graphicFrame>
      <p:sp>
        <p:nvSpPr>
          <p:cNvPr id="865" name="TextBox 4"/>
          <p:cNvSpPr/>
          <p:nvPr/>
        </p:nvSpPr>
        <p:spPr>
          <a:xfrm>
            <a:off x="304920" y="4603680"/>
            <a:ext cx="815328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تعويضات مباشرة + تعويضات عن اعادة تأمين وارد – تعويضات عن اعادة تأمين صادر = صافي تعويضات</a:t>
            </a:r>
            <a:endParaRPr b="0" lang="en-US" sz="18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عمولة عن التأمين المباشر+عمولة عن اعادة التأمين الوارد-عمولة عن اعادة التأمين الصادر= صافي العمولة</a:t>
            </a:r>
            <a:endParaRPr b="0" lang="en-US" sz="18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اقساط مباشرة +اقساط عن اعادة التامين الوارد- اقساط عن اعادة التامين الصادر=صافي الاقسا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2280"/>
            <a:ext cx="8229600" cy="457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تمرين </a:t>
            </a:r>
            <a:r>
              <a:rPr b="0" lang="ar-SA" sz="2900" spc="-1" strike="noStrike">
                <a:solidFill>
                  <a:srgbClr val="464653"/>
                </a:solidFill>
                <a:latin typeface="Bookman Old Style"/>
                <a:ea typeface="Times New Roman"/>
              </a:rPr>
              <a:t>1</a:t>
            </a:r>
            <a:endParaRPr b="0" lang="en-US" sz="2900" spc="-1" strike="noStrike">
              <a:solidFill>
                <a:srgbClr val="464653"/>
              </a:solidFill>
              <a:latin typeface="Bookman Old Style"/>
            </a:endParaRPr>
          </a:p>
        </p:txBody>
      </p:sp>
      <p:sp>
        <p:nvSpPr>
          <p:cNvPr id="867"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بلغت الاقساط المباشرة المستحقة خلال السنة في احدى شركات التأمين </a:t>
            </a:r>
            <a:r>
              <a:rPr b="0" lang="ar-SA" sz="2600" spc="-1" strike="noStrike">
                <a:solidFill>
                  <a:srgbClr val="000000"/>
                </a:solidFill>
                <a:latin typeface="Gill Sans MT"/>
                <a:ea typeface="Arial"/>
              </a:rPr>
              <a:t>600000</a:t>
            </a:r>
            <a:r>
              <a:rPr b="0" lang="ar-SA" sz="2600" spc="-1" strike="noStrike">
                <a:solidFill>
                  <a:srgbClr val="000000"/>
                </a:solidFill>
                <a:latin typeface="Gill Sans MT"/>
                <a:ea typeface="Arial"/>
              </a:rPr>
              <a:t> ريال ،كما بلغت اقساط اعادة التأمين الوارد </a:t>
            </a:r>
            <a:r>
              <a:rPr b="0" lang="ar-SA" sz="2600" spc="-1" strike="noStrike">
                <a:solidFill>
                  <a:srgbClr val="000000"/>
                </a:solidFill>
                <a:latin typeface="Gill Sans MT"/>
                <a:ea typeface="Arial"/>
              </a:rPr>
              <a:t>200000</a:t>
            </a:r>
            <a:r>
              <a:rPr b="0" lang="ar-SA" sz="2600" spc="-1" strike="noStrike">
                <a:solidFill>
                  <a:srgbClr val="000000"/>
                </a:solidFill>
                <a:latin typeface="Gill Sans MT"/>
                <a:ea typeface="Arial"/>
              </a:rPr>
              <a:t> ريال، واقساط اعادة التأمين الصادر </a:t>
            </a:r>
            <a:r>
              <a:rPr b="0" lang="ar-SA" sz="2600" spc="-1" strike="noStrike">
                <a:solidFill>
                  <a:srgbClr val="000000"/>
                </a:solidFill>
                <a:latin typeface="Gill Sans MT"/>
                <a:ea typeface="Arial"/>
              </a:rPr>
              <a:t>150000</a:t>
            </a:r>
            <a:r>
              <a:rPr b="0" lang="ar-SA" sz="2600" spc="-1" strike="noStrike">
                <a:solidFill>
                  <a:srgbClr val="000000"/>
                </a:solidFill>
                <a:latin typeface="Gill Sans MT"/>
                <a:ea typeface="Arial"/>
              </a:rPr>
              <a:t> ريال</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مطلوب تحديد اجمالي الاقساط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مطلوب تحديد صافي الاقساط؟</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تأمين</a:t>
            </a:r>
            <a:br>
              <a:rPr sz="4400"/>
            </a:br>
            <a:r>
              <a:rPr b="0" lang="ar-SA" sz="2800" spc="-1" strike="noStrike">
                <a:solidFill>
                  <a:srgbClr val="c00000"/>
                </a:solidFill>
                <a:latin typeface="Calibri"/>
                <a:cs typeface="Times New Roman"/>
              </a:rPr>
              <a:t>يتبع.......</a:t>
            </a:r>
            <a:endParaRPr b="0" lang="en-US" sz="2800" spc="-1" strike="noStrike">
              <a:solidFill>
                <a:srgbClr val="000000"/>
              </a:solidFill>
              <a:latin typeface="Calibri"/>
            </a:endParaRPr>
          </a:p>
        </p:txBody>
      </p:sp>
      <p:sp>
        <p:nvSpPr>
          <p:cNvPr id="8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خصصات الاحتياطيات في التأمين العام : </a:t>
            </a:r>
            <a:endParaRPr b="0" lang="en-US" sz="3000" spc="-1" strike="noStrike">
              <a:solidFill>
                <a:srgbClr val="000000"/>
              </a:solidFill>
              <a:latin typeface="Calibri"/>
            </a:endParaRPr>
          </a:p>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لطبيعة المخاطر المتعلقة بالتأمينات العامة يجب على شركات التأمين الاحتفاظ بعدة انواع من الاحتياطات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حتياطي الاخطار السارية</a:t>
            </a:r>
            <a:endParaRPr b="0" lang="en-US" sz="3200" spc="-1" strike="noStrike">
              <a:solidFill>
                <a:srgbClr val="464653"/>
              </a:solidFill>
              <a:latin typeface="Bookman Old Style"/>
            </a:endParaRPr>
          </a:p>
        </p:txBody>
      </p:sp>
      <p:sp>
        <p:nvSpPr>
          <p:cNvPr id="871" name=""/>
          <p:cNvSpPr txBox="1"/>
          <p:nvPr/>
        </p:nvSpPr>
        <p:spPr>
          <a:xfrm>
            <a:off x="457200" y="1219320"/>
            <a:ext cx="8229600" cy="4937040"/>
          </a:xfrm>
          <a:prstGeom prst="rect">
            <a:avLst/>
          </a:prstGeom>
          <a:noFill/>
          <a:ln w="0">
            <a:noFill/>
          </a:ln>
        </p:spPr>
        <p:txBody>
          <a:bodyPr anchor="t">
            <a:normAutofit fontScale="97000"/>
          </a:bodyPr>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عندما لا يتفق تاريخ إصدار الوثيقة مع بداية السنة الحالية بحيث  يكون جزء من الفترة التي تغطيها الوثيقة في السنة المالية التالية ،ولان القسط يتم تحصيله مقدماً عند بداية التأمين فيترتب على ذلك أن جزءاً من القسط يعتبر غير مكتسب لأنه قد تم تحصيله مقدماً عن فترة مالية تالية، ويطلق على هذا الجزء غير المكتسب من الأقساط في مجال التأمينات العامة اسم مخصص أو احتياطي الأخطار السارية ، ولذلك لابد من حجز جزء من الأقساط لمقابلة الأخطار التي قد تحدث خلال تلك الفترة ، وقد حدد المشرع نسبة جزافية لتكوين </a:t>
            </a:r>
            <a:r>
              <a:rPr b="0" lang="ar-SA" sz="2800" spc="-1" strike="noStrike">
                <a:solidFill>
                  <a:srgbClr val="ff0000"/>
                </a:solidFill>
                <a:latin typeface="Gill Sans MT"/>
                <a:cs typeface="Arial"/>
              </a:rPr>
              <a:t>مخصص الأخطار السارية في </a:t>
            </a:r>
            <a:r>
              <a:rPr b="0" lang="ar-SA" sz="2800" spc="-1" strike="noStrike">
                <a:solidFill>
                  <a:srgbClr val="ff0000"/>
                </a:solidFill>
                <a:latin typeface="Gill Sans MT"/>
                <a:ea typeface="Arial"/>
              </a:rPr>
              <a:t>12/30</a:t>
            </a:r>
            <a:r>
              <a:rPr b="0" lang="ar-SA" sz="2800" spc="-1" strike="noStrike">
                <a:solidFill>
                  <a:srgbClr val="ff0000"/>
                </a:solidFill>
                <a:latin typeface="Gill Sans MT"/>
                <a:ea typeface="Arial"/>
              </a:rPr>
              <a:t> =</a:t>
            </a:r>
            <a:r>
              <a:rPr b="0" lang="ar-SA" sz="2600" spc="-1" strike="noStrike">
                <a:solidFill>
                  <a:srgbClr val="000000"/>
                </a:solidFill>
                <a:latin typeface="Gill Sans MT"/>
                <a:ea typeface="Arial"/>
              </a:rPr>
              <a:t> </a:t>
            </a:r>
            <a:r>
              <a:rPr b="0" lang="ar-SA" sz="2600" spc="-1" strike="noStrike">
                <a:solidFill>
                  <a:srgbClr val="ff0000"/>
                </a:solidFill>
                <a:latin typeface="Gill Sans MT"/>
                <a:ea typeface="Arial"/>
              </a:rPr>
              <a:t>40</a:t>
            </a:r>
            <a:r>
              <a:rPr b="0" lang="ar-SA" sz="2600" spc="-1" strike="noStrike">
                <a:solidFill>
                  <a:srgbClr val="ff0000"/>
                </a:solidFill>
                <a:latin typeface="Gill Sans MT"/>
                <a:ea typeface="Arial"/>
              </a:rPr>
              <a:t> % *صافي الاقساط</a:t>
            </a:r>
            <a:endParaRPr b="0" lang="en-US" sz="26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احتياطي الاضافي</a:t>
            </a:r>
            <a:endParaRPr b="0" lang="en-US" sz="3200" spc="-1" strike="noStrike">
              <a:solidFill>
                <a:srgbClr val="464653"/>
              </a:solidFill>
              <a:latin typeface="Bookman Old Style"/>
            </a:endParaRPr>
          </a:p>
        </p:txBody>
      </p:sp>
      <p:sp>
        <p:nvSpPr>
          <p:cNvPr id="873"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تجنباً للأضرار التي قد تنتج من تكوين احتياطي الأخطار السارية درج العرف على إنشاء مخصص احتياطي يطلق عليه مخصص أو احتياطي إضافي ويغطي المخصص الفرق بين الرقم الحقيقي للأخطار السارية وبين الرقم الجزافي على أساس النسبة السابقة ويحسب بعدة طرق ،سنتعرف على طريقتين فقط:( طريقة العرف الجاري وطريقة الأقساط ربع السنوية )</a:t>
            </a:r>
            <a:endParaRPr b="0" lang="en-US" sz="2800" spc="-1" strike="noStrike">
              <a:solidFill>
                <a:srgbClr val="000000"/>
              </a:solidFill>
              <a:latin typeface="Gill Sans MT"/>
            </a:endParaRPr>
          </a:p>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Arial"/>
              </a:rPr>
              <a:t>طريقة العرف الجاري</a:t>
            </a:r>
            <a:endParaRPr b="0" lang="en-US" sz="2400" spc="-1" strike="noStrike">
              <a:solidFill>
                <a:srgbClr val="000000"/>
              </a:solidFill>
              <a:latin typeface="Gill Sans MT"/>
            </a:endParaRPr>
          </a:p>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4" name="Rounded Rectangle 3"/>
          <p:cNvSpPr/>
          <p:nvPr/>
        </p:nvSpPr>
        <p:spPr>
          <a:xfrm>
            <a:off x="1928880" y="4786200"/>
            <a:ext cx="6143400" cy="85752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احتياطي الاضافي</a:t>
            </a:r>
            <a:r>
              <a:rPr b="0" lang="ar-SA" sz="2400" spc="-1" strike="noStrike">
                <a:solidFill>
                  <a:srgbClr val="000000"/>
                </a:solidFill>
                <a:latin typeface="Gill Sans MT"/>
              </a:rPr>
              <a:t>12/30</a:t>
            </a:r>
            <a:r>
              <a:rPr b="0" lang="ar-SA" sz="2400" spc="-1" strike="noStrike">
                <a:solidFill>
                  <a:srgbClr val="000000"/>
                </a:solidFill>
                <a:latin typeface="Gill Sans MT"/>
              </a:rPr>
              <a:t> =صافي الاقساط * </a:t>
            </a:r>
            <a:r>
              <a:rPr b="0" lang="ar-SA" sz="2400" spc="-1" strike="noStrike">
                <a:solidFill>
                  <a:srgbClr val="000000"/>
                </a:solidFill>
                <a:latin typeface="Gill Sans MT"/>
              </a:rPr>
              <a:t>5</a:t>
            </a:r>
            <a:r>
              <a:rPr b="0" lang="ar-SA" sz="2400" spc="-1" strike="noStrike">
                <a:solidFill>
                  <a:srgbClr val="000000"/>
                </a:solidFill>
                <a:latin typeface="Gill Sans M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احتياطي الاضافي</a:t>
            </a:r>
            <a:endParaRPr b="0" lang="en-US" sz="3200" spc="-1" strike="noStrike">
              <a:solidFill>
                <a:srgbClr val="464653"/>
              </a:solidFill>
              <a:latin typeface="Bookman Old Style"/>
            </a:endParaRPr>
          </a:p>
        </p:txBody>
      </p:sp>
      <p:sp>
        <p:nvSpPr>
          <p:cNvPr id="876"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Arial"/>
              </a:rPr>
              <a:t>طريقة الاقساط ربع السنوية</a:t>
            </a:r>
            <a:endParaRPr b="0" lang="en-US" sz="2400" spc="-1" strike="noStrike">
              <a:solidFill>
                <a:srgbClr val="000000"/>
              </a:solidFill>
              <a:latin typeface="Gill Sans MT"/>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Arial"/>
              </a:rPr>
              <a:t>   </a:t>
            </a:r>
            <a:endParaRPr b="0" lang="en-US" sz="2400" spc="-1" strike="noStrike">
              <a:solidFill>
                <a:srgbClr val="000000"/>
              </a:solidFill>
              <a:latin typeface="Gill Sans MT"/>
            </a:endParaRPr>
          </a:p>
        </p:txBody>
      </p:sp>
      <p:sp>
        <p:nvSpPr>
          <p:cNvPr id="877" name="Rounded Rectangle 3"/>
          <p:cNvSpPr/>
          <p:nvPr/>
        </p:nvSpPr>
        <p:spPr>
          <a:xfrm>
            <a:off x="2643120" y="2071800"/>
            <a:ext cx="5715000" cy="364320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Box 4"/>
          <p:cNvSpPr/>
          <p:nvPr/>
        </p:nvSpPr>
        <p:spPr>
          <a:xfrm>
            <a:off x="3286080" y="2143080"/>
            <a:ext cx="4714920" cy="3751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قساط الربع الاول *</a:t>
            </a:r>
            <a:r>
              <a:rPr b="0" lang="ar-SA" sz="2400" spc="-1" strike="noStrike">
                <a:solidFill>
                  <a:srgbClr val="000000"/>
                </a:solidFill>
                <a:latin typeface="Calibri"/>
              </a:rPr>
              <a:t>1/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ثاني *</a:t>
            </a:r>
            <a:r>
              <a:rPr b="0" lang="ar-SA" sz="2400" spc="-1" strike="noStrike">
                <a:solidFill>
                  <a:srgbClr val="000000"/>
                </a:solidFill>
                <a:latin typeface="Calibri"/>
              </a:rPr>
              <a:t>3/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ثالث *</a:t>
            </a:r>
            <a:r>
              <a:rPr b="0" lang="ar-SA" sz="2400" spc="-1" strike="noStrike">
                <a:solidFill>
                  <a:srgbClr val="000000"/>
                </a:solidFill>
                <a:latin typeface="Calibri"/>
              </a:rPr>
              <a:t>5/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رابع *</a:t>
            </a:r>
            <a:r>
              <a:rPr b="0" lang="ar-SA" sz="2400" spc="-1" strike="noStrike">
                <a:solidFill>
                  <a:srgbClr val="000000"/>
                </a:solidFill>
                <a:latin typeface="Calibri"/>
              </a:rPr>
              <a:t>7/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مجموع الاقساط</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20%</a:t>
            </a:r>
            <a:r>
              <a:rPr b="0" lang="ar-SA" sz="2400" spc="-1" strike="noStrike">
                <a:solidFill>
                  <a:srgbClr val="000000"/>
                </a:solidFill>
                <a:latin typeface="Calibri"/>
              </a:rPr>
              <a:t> من مجموع الاقساط (تكاليف انتاج)</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حتياطي اقساط سارية فعل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ختياط اقساط سارية الجزاف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لاحتياطي الاضافي الفعلي </a:t>
            </a:r>
            <a:r>
              <a:rPr b="0" lang="ar-SA" sz="2400" spc="-1" strike="noStrike">
                <a:solidFill>
                  <a:srgbClr val="000000"/>
                </a:solidFill>
                <a:latin typeface="Calibri"/>
              </a:rPr>
              <a:t>12/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حتياطي تعويضات تحت التسديد</a:t>
            </a:r>
            <a:endParaRPr b="0" lang="en-US" sz="3200" spc="-1" strike="noStrike">
              <a:solidFill>
                <a:srgbClr val="464653"/>
              </a:solidFill>
              <a:latin typeface="Bookman Old Style"/>
            </a:endParaRPr>
          </a:p>
        </p:txBody>
      </p:sp>
      <p:sp>
        <p:nvSpPr>
          <p:cNvPr id="880"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يمثل مخصص تعويضات تحت التسوية قيمة التعويضات التي استحقت عن أخطار تحققت فعلاً خلال السنة المالية ولكن قيمتها لم تدفع حتى تاريخ إعداد الحسابات الختامية</a:t>
            </a:r>
            <a:endParaRPr b="0" lang="en-US" sz="2800" spc="-1" strike="noStrike">
              <a:solidFill>
                <a:srgbClr val="000000"/>
              </a:solidFill>
              <a:latin typeface="Gill Sans MT"/>
            </a:endParaRPr>
          </a:p>
        </p:txBody>
      </p:sp>
      <p:sp>
        <p:nvSpPr>
          <p:cNvPr id="881" name="Rounded Rectangle 3"/>
          <p:cNvSpPr/>
          <p:nvPr/>
        </p:nvSpPr>
        <p:spPr>
          <a:xfrm>
            <a:off x="571680" y="3357720"/>
            <a:ext cx="8215200" cy="207144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احتياطي التعويضات تحت التسديد </a:t>
            </a:r>
            <a:r>
              <a:rPr b="0" lang="ar-SA" sz="2800" spc="-1" strike="noStrike">
                <a:solidFill>
                  <a:srgbClr val="000000"/>
                </a:solidFill>
                <a:latin typeface="Gill Sans MT"/>
              </a:rPr>
              <a:t>1/1</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 التعويضات المستحقة عن السنوات السابقة وتم سدادها خلال العام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التعويضات المستحقة والتي لم تسدد حتى نهاية هذا العا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 احتياطي تعويضات تحت التسديد </a:t>
            </a:r>
            <a:r>
              <a:rPr b="0" lang="ar-SA" sz="2800" spc="-1" strike="noStrike">
                <a:solidFill>
                  <a:srgbClr val="c00000"/>
                </a:solidFill>
                <a:latin typeface="Gill Sans MT"/>
              </a:rPr>
              <a:t>12/3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240"/>
            <a:ext cx="8229600" cy="609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2</a:t>
            </a:r>
            <a:endParaRPr b="0" lang="en-US" sz="3200" spc="-1" strike="noStrike">
              <a:solidFill>
                <a:srgbClr val="464653"/>
              </a:solidFill>
              <a:latin typeface="Bookman Old Style"/>
            </a:endParaRPr>
          </a:p>
        </p:txBody>
      </p:sp>
      <p:sp>
        <p:nvSpPr>
          <p:cNvPr id="883" name="Rectangle 2"/>
          <p:cNvSpPr/>
          <p:nvPr/>
        </p:nvSpPr>
        <p:spPr>
          <a:xfrm>
            <a:off x="2286000" y="-10051920"/>
            <a:ext cx="4572000" cy="85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3"/>
          <p:cNvSpPr/>
          <p:nvPr/>
        </p:nvSpPr>
        <p:spPr>
          <a:xfrm>
            <a:off x="152280" y="853920"/>
            <a:ext cx="8839440" cy="349776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ظهر ‏في ميزانية شركة الشرق للتأمين فرع التأمينات العامة في </a:t>
            </a:r>
            <a:r>
              <a:rPr b="0" lang="ar-SA" sz="1600" spc="-1" strike="noStrike">
                <a:solidFill>
                  <a:srgbClr val="000000"/>
                </a:solidFill>
                <a:latin typeface="Calibri"/>
              </a:rPr>
              <a:t>31</a:t>
            </a:r>
            <a:r>
              <a:rPr b="0" lang="ar-SA" sz="1600" spc="-1" strike="noStrike">
                <a:solidFill>
                  <a:srgbClr val="000000"/>
                </a:solidFill>
                <a:latin typeface="Calibri"/>
              </a:rPr>
              <a:t> ديسمبر </a:t>
            </a:r>
            <a:r>
              <a:rPr b="0" lang="ar-SA" sz="1600" spc="-1" strike="noStrike">
                <a:solidFill>
                  <a:srgbClr val="000000"/>
                </a:solidFill>
                <a:latin typeface="Calibri"/>
              </a:rPr>
              <a:t>2014</a:t>
            </a:r>
            <a:r>
              <a:rPr b="0" lang="ar-SA" sz="1600" spc="-1" strike="noStrike">
                <a:solidFill>
                  <a:srgbClr val="000000"/>
                </a:solidFill>
                <a:latin typeface="Calibri"/>
              </a:rPr>
              <a:t> م ما يلي</a:t>
            </a:r>
            <a:r>
              <a:rPr b="0" lang="en-US" sz="1600" spc="-1" strike="noStrike">
                <a:solidFill>
                  <a:srgbClr val="000000"/>
                </a:solidFill>
                <a:latin typeface="Calibri"/>
              </a:rPr>
              <a:t>:</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حتياط الأخطار السارية فرع الحريق    </a:t>
            </a:r>
            <a:r>
              <a:rPr b="0" lang="ar-SA" sz="1600" spc="-1" strike="noStrike">
                <a:solidFill>
                  <a:srgbClr val="000000"/>
                </a:solidFill>
                <a:latin typeface="Calibri"/>
              </a:rPr>
              <a:t>160,000</a:t>
            </a:r>
            <a:r>
              <a:rPr b="0" lang="ar-SA" sz="1600" spc="-1" strike="noStrike">
                <a:solidFill>
                  <a:srgbClr val="000000"/>
                </a:solidFill>
                <a:latin typeface="Calibri"/>
              </a:rPr>
              <a:t> ريال ،الاحتياط الإضافي </a:t>
            </a:r>
            <a:r>
              <a:rPr b="0" lang="ar-SA" sz="1600" spc="-1" strike="noStrike">
                <a:solidFill>
                  <a:srgbClr val="000000"/>
                </a:solidFill>
                <a:latin typeface="Calibri"/>
              </a:rPr>
              <a:t>5</a:t>
            </a:r>
            <a:r>
              <a:rPr b="0" lang="ar-SA" sz="1600" spc="-1" strike="noStrike">
                <a:solidFill>
                  <a:srgbClr val="000000"/>
                </a:solidFill>
                <a:latin typeface="Calibri"/>
              </a:rPr>
              <a:t>% من الأقساط     </a:t>
            </a:r>
            <a:r>
              <a:rPr b="0" lang="ar-SA" sz="1600" spc="-1" strike="noStrike">
                <a:solidFill>
                  <a:srgbClr val="000000"/>
                </a:solidFill>
                <a:latin typeface="Calibri"/>
              </a:rPr>
              <a:t>20,000</a:t>
            </a:r>
            <a:r>
              <a:rPr b="0" lang="ar-SA" sz="1600" spc="-1" strike="noStrike">
                <a:solidFill>
                  <a:srgbClr val="000000"/>
                </a:solidFill>
                <a:latin typeface="Calibri"/>
              </a:rPr>
              <a:t> ريال</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Calibri"/>
              </a:rPr>
              <a:t>‏وفي خلال سنة </a:t>
            </a:r>
            <a:r>
              <a:rPr b="0" lang="ar-SA" sz="1600" spc="-1" strike="noStrike">
                <a:solidFill>
                  <a:srgbClr val="000000"/>
                </a:solidFill>
                <a:latin typeface="Calibri"/>
              </a:rPr>
              <a:t>2015</a:t>
            </a:r>
            <a:r>
              <a:rPr b="0" lang="ar-SA" sz="1600" spc="-1" strike="noStrike">
                <a:solidFill>
                  <a:srgbClr val="000000"/>
                </a:solidFill>
                <a:latin typeface="Calibri"/>
              </a:rPr>
              <a:t> م بلغت أقساط الحريق بعد اضافة أقساط إعادة التأمين الوارد وخصم أقساط إعادة التأمين الصادر </a:t>
            </a:r>
            <a:r>
              <a:rPr b="0" lang="ar-SA" sz="1600" spc="-1" strike="noStrike">
                <a:solidFill>
                  <a:srgbClr val="000000"/>
                </a:solidFill>
                <a:latin typeface="Calibri"/>
              </a:rPr>
              <a:t>468,000</a:t>
            </a:r>
            <a:r>
              <a:rPr b="0" lang="ar-SA" sz="1600" spc="-1" strike="noStrike">
                <a:solidFill>
                  <a:srgbClr val="000000"/>
                </a:solidFill>
                <a:latin typeface="Calibri"/>
              </a:rPr>
              <a:t> ريال وقد اتضح أن صافي الأقساط الشهريه بعد اضافة إعادة التأمين الوارد وخصم إعادة التأمين الصادر كانت كما يلي</a:t>
            </a:r>
            <a:r>
              <a:rPr b="0" lang="en-US" sz="1600" spc="-1" strike="noStrike">
                <a:solidFill>
                  <a:srgbClr val="000000"/>
                </a:solidFill>
                <a:latin typeface="Calibri"/>
              </a:rPr>
              <a:t>:</a:t>
            </a:r>
            <a:r>
              <a:rPr b="0" lang="ar-SA" sz="1600" spc="-1" strike="noStrike">
                <a:solidFill>
                  <a:srgbClr val="000000"/>
                </a:solidFill>
                <a:latin typeface="Calibri"/>
              </a:rPr>
              <a:t>‏الربع الاول </a:t>
            </a:r>
            <a:r>
              <a:rPr b="0" lang="ar-SA" sz="1600" spc="-1" strike="noStrike">
                <a:solidFill>
                  <a:srgbClr val="000000"/>
                </a:solidFill>
                <a:latin typeface="Calibri"/>
              </a:rPr>
              <a:t>76000</a:t>
            </a:r>
            <a:r>
              <a:rPr b="0" lang="ar-SA" sz="1600" spc="-1" strike="noStrike">
                <a:solidFill>
                  <a:srgbClr val="000000"/>
                </a:solidFill>
                <a:latin typeface="Calibri"/>
              </a:rPr>
              <a:t> ريال ،الربع الثاني </a:t>
            </a:r>
            <a:r>
              <a:rPr b="0" lang="ar-SA" sz="1600" spc="-1" strike="noStrike">
                <a:solidFill>
                  <a:srgbClr val="000000"/>
                </a:solidFill>
                <a:latin typeface="Calibri"/>
              </a:rPr>
              <a:t>90000</a:t>
            </a:r>
            <a:r>
              <a:rPr b="0" lang="ar-SA" sz="1600" spc="-1" strike="noStrike">
                <a:solidFill>
                  <a:srgbClr val="000000"/>
                </a:solidFill>
                <a:latin typeface="Calibri"/>
              </a:rPr>
              <a:t> ريال ، الربع الثالث </a:t>
            </a:r>
            <a:r>
              <a:rPr b="0" lang="ar-SA" sz="1600" spc="-1" strike="noStrike">
                <a:solidFill>
                  <a:srgbClr val="000000"/>
                </a:solidFill>
                <a:latin typeface="Calibri"/>
              </a:rPr>
              <a:t>98000</a:t>
            </a:r>
            <a:r>
              <a:rPr b="0" lang="ar-SA" sz="1600" spc="-1" strike="noStrike">
                <a:solidFill>
                  <a:srgbClr val="000000"/>
                </a:solidFill>
                <a:latin typeface="Calibri"/>
              </a:rPr>
              <a:t> ريال، الربع الرابع </a:t>
            </a:r>
            <a:r>
              <a:rPr b="0" lang="ar-SA" sz="1600" spc="-1" strike="noStrike">
                <a:solidFill>
                  <a:srgbClr val="000000"/>
                </a:solidFill>
                <a:latin typeface="Calibri"/>
              </a:rPr>
              <a:t>204000</a:t>
            </a:r>
            <a:r>
              <a:rPr b="0" lang="ar-SA" sz="1600" spc="-1" strike="noStrike">
                <a:solidFill>
                  <a:srgbClr val="000000"/>
                </a:solidFill>
                <a:latin typeface="Calibri"/>
              </a:rPr>
              <a:t> ريال الاجمالي </a:t>
            </a:r>
            <a:r>
              <a:rPr b="0" lang="ar-SA" sz="1600" spc="-1" strike="noStrike">
                <a:solidFill>
                  <a:srgbClr val="000000"/>
                </a:solidFill>
                <a:latin typeface="Calibri"/>
              </a:rPr>
              <a:t>468,000</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مطلوب:</a:t>
            </a:r>
            <a:r>
              <a:rPr b="0" lang="ar-SA" sz="1600" spc="-1" strike="noStrike">
                <a:solidFill>
                  <a:srgbClr val="000000"/>
                </a:solidFill>
                <a:latin typeface="Calibri"/>
              </a:rPr>
              <a:t>1</a:t>
            </a:r>
            <a:r>
              <a:rPr b="0" lang="ar-SA" sz="1600" spc="-1" strike="noStrike">
                <a:solidFill>
                  <a:srgbClr val="000000"/>
                </a:solidFill>
                <a:latin typeface="Calibri"/>
              </a:rPr>
              <a:t>- ‏إعداد حساب احتياط الأخطار السارية وحساب الاحتياطي الإضافي في نهاية سنة </a:t>
            </a:r>
            <a:r>
              <a:rPr b="0" lang="ar-SA" sz="1600" spc="-1" strike="noStrike">
                <a:solidFill>
                  <a:srgbClr val="000000"/>
                </a:solidFill>
                <a:latin typeface="Calibri"/>
              </a:rPr>
              <a:t>2015</a:t>
            </a:r>
            <a:r>
              <a:rPr b="0" lang="ar-SA" sz="1600" spc="-1" strike="noStrike">
                <a:solidFill>
                  <a:srgbClr val="000000"/>
                </a:solidFill>
                <a:latin typeface="Calibri"/>
              </a:rPr>
              <a:t> حسب العرف  الجاري العمل عليه  ، كيف تظهر في ح/الايرادات والمصروفات لفرع الحريق</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2</a:t>
            </a:r>
            <a:r>
              <a:rPr b="0" lang="ar-SA" sz="1600" spc="-1" strike="noStrike">
                <a:solidFill>
                  <a:srgbClr val="000000"/>
                </a:solidFill>
                <a:latin typeface="Calibri"/>
              </a:rPr>
              <a:t>- إعداد حساب احتياط الأخطار السارية وحساب الاحتياطي الإضافي في نهاية سنة </a:t>
            </a:r>
            <a:r>
              <a:rPr b="0" lang="ar-SA" sz="1600" spc="-1" strike="noStrike">
                <a:solidFill>
                  <a:srgbClr val="000000"/>
                </a:solidFill>
                <a:latin typeface="Calibri"/>
              </a:rPr>
              <a:t>2015</a:t>
            </a:r>
            <a:r>
              <a:rPr b="0" lang="ar-SA" sz="1600" spc="-1" strike="noStrike">
                <a:solidFill>
                  <a:srgbClr val="000000"/>
                </a:solidFill>
                <a:latin typeface="Calibri"/>
              </a:rPr>
              <a:t> بطريقة الأقساط الربع سنوية ،كيف تظهر في ح/الايرادات والمصروفات لفرع الحريق </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2</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2280"/>
            <a:ext cx="8229600" cy="914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3</a:t>
            </a:r>
            <a:endParaRPr b="0" lang="en-US" sz="3200" spc="-1" strike="noStrike">
              <a:solidFill>
                <a:srgbClr val="464653"/>
              </a:solidFill>
              <a:latin typeface="Bookman Old Style"/>
            </a:endParaRPr>
          </a:p>
        </p:txBody>
      </p:sp>
      <p:sp>
        <p:nvSpPr>
          <p:cNvPr id="887" name="Rectangle 2"/>
          <p:cNvSpPr/>
          <p:nvPr/>
        </p:nvSpPr>
        <p:spPr>
          <a:xfrm>
            <a:off x="343080" y="1295280"/>
            <a:ext cx="8458200" cy="20617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ظهر  في دفاتر إحدى شركات التأمين فرع الحريق ما يلي:</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تحت السداد في أول يناير </a:t>
            </a:r>
            <a:r>
              <a:rPr b="0" lang="ar-SA" sz="1600" spc="-1" strike="noStrike">
                <a:solidFill>
                  <a:srgbClr val="000000"/>
                </a:solidFill>
                <a:latin typeface="Calibri"/>
              </a:rPr>
              <a:t>2011</a:t>
            </a:r>
            <a:r>
              <a:rPr b="0" lang="ar-SA" sz="1600" spc="-1" strike="noStrike">
                <a:solidFill>
                  <a:srgbClr val="000000"/>
                </a:solidFill>
                <a:latin typeface="Calibri"/>
              </a:rPr>
              <a:t>          </a:t>
            </a:r>
            <a:r>
              <a:rPr b="0" lang="ar-SA" sz="1600" spc="-1" strike="noStrike">
                <a:solidFill>
                  <a:srgbClr val="000000"/>
                </a:solidFill>
                <a:latin typeface="Calibri"/>
              </a:rPr>
              <a:t>36,000</a:t>
            </a:r>
            <a:r>
              <a:rPr b="0" lang="ar-SA" sz="1600" spc="-1" strike="noStrike">
                <a:solidFill>
                  <a:srgbClr val="000000"/>
                </a:solidFill>
                <a:latin typeface="Calibri"/>
              </a:rPr>
              <a:t> ريال</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سددت خلال </a:t>
            </a:r>
            <a:r>
              <a:rPr b="0" lang="ar-SA" sz="1600" spc="-1" strike="noStrike">
                <a:solidFill>
                  <a:srgbClr val="000000"/>
                </a:solidFill>
                <a:latin typeface="Calibri"/>
              </a:rPr>
              <a:t>2011</a:t>
            </a:r>
            <a:r>
              <a:rPr b="0" lang="ar-SA" sz="1600" spc="-1" strike="noStrike">
                <a:solidFill>
                  <a:srgbClr val="000000"/>
                </a:solidFill>
                <a:latin typeface="Calibri"/>
              </a:rPr>
              <a:t>                        </a:t>
            </a:r>
            <a:r>
              <a:rPr b="0" lang="ar-SA" sz="1600" spc="-1" strike="noStrike">
                <a:solidFill>
                  <a:srgbClr val="000000"/>
                </a:solidFill>
                <a:latin typeface="Calibri"/>
              </a:rPr>
              <a:t>240,000</a:t>
            </a:r>
            <a:r>
              <a:rPr b="0" lang="ar-SA" sz="1600" spc="-1" strike="noStrike">
                <a:solidFill>
                  <a:srgbClr val="000000"/>
                </a:solidFill>
                <a:latin typeface="Calibri"/>
              </a:rPr>
              <a:t> ريال منها </a:t>
            </a:r>
            <a:r>
              <a:rPr b="0" lang="ar-SA" sz="1600" spc="-1" strike="noStrike">
                <a:solidFill>
                  <a:srgbClr val="000000"/>
                </a:solidFill>
                <a:latin typeface="Calibri"/>
              </a:rPr>
              <a:t>20,000</a:t>
            </a:r>
            <a:r>
              <a:rPr b="0" lang="ar-SA" sz="1600" spc="-1" strike="noStrike">
                <a:solidFill>
                  <a:srgbClr val="000000"/>
                </a:solidFill>
                <a:latin typeface="Calibri"/>
              </a:rPr>
              <a:t> ريال من أصل المستحق قبل سنة </a:t>
            </a:r>
            <a:r>
              <a:rPr b="0" lang="ar-SA" sz="1600" spc="-1" strike="noStrike">
                <a:solidFill>
                  <a:srgbClr val="000000"/>
                </a:solidFill>
                <a:latin typeface="Calibri"/>
              </a:rPr>
              <a:t>2011</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تخصص سنة </a:t>
            </a:r>
            <a:r>
              <a:rPr b="0" lang="ar-SA" sz="1600" spc="-1" strike="noStrike">
                <a:solidFill>
                  <a:srgbClr val="000000"/>
                </a:solidFill>
                <a:latin typeface="Calibri"/>
              </a:rPr>
              <a:t>2011</a:t>
            </a:r>
            <a:r>
              <a:rPr b="0" lang="ar-SA" sz="1600" spc="-1" strike="noStrike">
                <a:solidFill>
                  <a:srgbClr val="000000"/>
                </a:solidFill>
                <a:latin typeface="Calibri"/>
              </a:rPr>
              <a:t> ولم تسدد بعد       </a:t>
            </a:r>
            <a:r>
              <a:rPr b="0" lang="ar-SA" sz="1600" spc="-1" strike="noStrike">
                <a:solidFill>
                  <a:srgbClr val="000000"/>
                </a:solidFill>
                <a:latin typeface="Calibri"/>
              </a:rPr>
              <a:t>30,000</a:t>
            </a:r>
            <a:r>
              <a:rPr b="0" lang="ar-SA" sz="1600" spc="-1" strike="noStrike">
                <a:solidFill>
                  <a:srgbClr val="000000"/>
                </a:solidFill>
                <a:latin typeface="Calibri"/>
              </a:rPr>
              <a:t> ريال </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rPr>
              <a:t>مطلوب : حساب الإيرادات و المصروفات لفرع الحري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ا هو التأمين</a:t>
            </a:r>
            <a:endParaRPr b="0" lang="en-US" sz="3200" spc="-1" strike="noStrike">
              <a:solidFill>
                <a:srgbClr val="464653"/>
              </a:solidFill>
              <a:latin typeface="Bookman Old Style"/>
            </a:endParaRPr>
          </a:p>
        </p:txBody>
      </p:sp>
      <p:sp>
        <p:nvSpPr>
          <p:cNvPr id="848" name=""/>
          <p:cNvSpPr txBox="1"/>
          <p:nvPr/>
        </p:nvSpPr>
        <p:spPr>
          <a:xfrm>
            <a:off x="457200" y="1219320"/>
            <a:ext cx="8229600" cy="4937040"/>
          </a:xfrm>
          <a:prstGeom prst="rect">
            <a:avLst/>
          </a:prstGeom>
          <a:noFill/>
          <a:ln w="0">
            <a:noFill/>
          </a:ln>
        </p:spPr>
        <p:txBody>
          <a:bodyPr anchor="t">
            <a:normAutofit fontScale="94000"/>
          </a:bodyPr>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ill Sans MT"/>
                <a:cs typeface="Arial"/>
              </a:rPr>
              <a:t>هو عقد بين طرفين هما </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Arial"/>
              </a:rPr>
              <a:t> </a:t>
            </a:r>
            <a:r>
              <a:rPr b="0" lang="ar-SA" sz="2600" spc="-1" strike="noStrike">
                <a:solidFill>
                  <a:srgbClr val="0070c0"/>
                </a:solidFill>
                <a:latin typeface="Gill Sans MT"/>
                <a:cs typeface="Arial"/>
              </a:rPr>
              <a:t>المؤمن له </a:t>
            </a:r>
            <a:r>
              <a:rPr b="0" lang="ar-SA" sz="2600" spc="-1" strike="noStrike">
                <a:solidFill>
                  <a:srgbClr val="000000"/>
                </a:solidFill>
                <a:latin typeface="Gill Sans MT"/>
                <a:ea typeface="Arial"/>
              </a:rPr>
              <a:t>: (ويسمى المستأمن وحامل وثيقة التأمين) واللذي عليه سداد الاقساط المتفق عليها لشركة التأمين في مواعيد استحقاقها مقابل استلام مبلغ التعويض المتفق عليه عند حدوث الضرر</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ill Sans MT"/>
                <a:cs typeface="Arial"/>
              </a:rPr>
              <a:t>المؤمن</a:t>
            </a:r>
            <a:r>
              <a:rPr b="0" lang="ar-SA" sz="2600" spc="-1" strike="noStrike">
                <a:solidFill>
                  <a:srgbClr val="000000"/>
                </a:solidFill>
                <a:latin typeface="Gill Sans MT"/>
                <a:ea typeface="Arial"/>
              </a:rPr>
              <a:t> : (الشركة المصدرة لوثيقة التأمين) وهي تستلم الاقساط</a:t>
            </a:r>
            <a:r>
              <a:rPr b="0" lang="en-US" sz="2600" spc="-1" strike="noStrike">
                <a:solidFill>
                  <a:srgbClr val="000000"/>
                </a:solidFill>
                <a:latin typeface="Gill Sans MT"/>
              </a:rPr>
              <a:t> </a:t>
            </a:r>
            <a:r>
              <a:rPr b="0" lang="ar-SA" sz="2600" spc="-1" strike="noStrike">
                <a:solidFill>
                  <a:srgbClr val="000000"/>
                </a:solidFill>
                <a:latin typeface="Gill Sans MT"/>
                <a:cs typeface="Arial"/>
              </a:rPr>
              <a:t>المرتبطة بالوثيقة من المؤمن له مقابل دفع تعويض متفق عليه في حالة حدوث الضرر المرتبط بالوثيقة </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ill Sans MT"/>
                <a:ea typeface="Arial"/>
              </a:rPr>
              <a:t>(فكرة التأمين الاساسية هي توزيع الخطر بحيث لا يتحملها شخص واحد او شركة واحدة)</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sp>
        <p:nvSpPr>
          <p:cNvPr id="889" name=""/>
          <p:cNvSpPr txBox="1"/>
          <p:nvPr/>
        </p:nvSpPr>
        <p:spPr>
          <a:xfrm>
            <a:off x="285840" y="571320"/>
            <a:ext cx="8572320" cy="5554440"/>
          </a:xfrm>
          <a:prstGeom prst="rect">
            <a:avLst/>
          </a:prstGeom>
          <a:noFill/>
          <a:ln w="0">
            <a:noFill/>
          </a:ln>
        </p:spPr>
        <p:txBody>
          <a:bodyPr anchor="t">
            <a:normAutofit/>
          </a:bodyPr>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تزاول شركة التأمين الاهلية انواع مختلفة من التأمينات العامة ومنها التأمين عن الحريق </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وكانت الارصدة الافتتاحية لفرع التأمين عن الحريق في</a:t>
            </a:r>
            <a:r>
              <a:rPr b="0" lang="ar-SA" sz="1500" spc="-1" strike="noStrike">
                <a:solidFill>
                  <a:srgbClr val="000000"/>
                </a:solidFill>
                <a:latin typeface="Gill Sans MT"/>
                <a:ea typeface="Arial"/>
              </a:rPr>
              <a:t>1/1</a:t>
            </a:r>
            <a:r>
              <a:rPr b="0" lang="ar-SA" sz="1500" spc="-1" strike="noStrike">
                <a:solidFill>
                  <a:srgbClr val="000000"/>
                </a:solidFill>
                <a:latin typeface="Gill Sans MT"/>
                <a:cs typeface="Arial"/>
              </a:rPr>
              <a:t>كما يلي : </a:t>
            </a:r>
            <a:r>
              <a:rPr b="0" lang="ar-SA" sz="1500" spc="-1" strike="noStrike">
                <a:solidFill>
                  <a:srgbClr val="000000"/>
                </a:solidFill>
                <a:latin typeface="Gill Sans MT"/>
                <a:ea typeface="Arial"/>
              </a:rPr>
              <a:t>60000</a:t>
            </a:r>
            <a:r>
              <a:rPr b="0" lang="ar-SA" sz="1500" spc="-1" strike="noStrike">
                <a:solidFill>
                  <a:srgbClr val="000000"/>
                </a:solidFill>
                <a:latin typeface="Gill Sans MT"/>
                <a:ea typeface="Arial"/>
              </a:rPr>
              <a:t> احتياطي اخطار سارية ، </a:t>
            </a:r>
            <a:r>
              <a:rPr b="0" lang="ar-SA" sz="1500" spc="-1" strike="noStrike">
                <a:solidFill>
                  <a:srgbClr val="000000"/>
                </a:solidFill>
                <a:latin typeface="Gill Sans MT"/>
                <a:ea typeface="Arial"/>
              </a:rPr>
              <a:t>7500</a:t>
            </a:r>
            <a:r>
              <a:rPr b="0" lang="ar-SA" sz="1500" spc="-1" strike="noStrike">
                <a:solidFill>
                  <a:srgbClr val="000000"/>
                </a:solidFill>
                <a:latin typeface="Gill Sans MT"/>
                <a:ea typeface="Arial"/>
              </a:rPr>
              <a:t> احتياطي اضافي </a:t>
            </a:r>
            <a:r>
              <a:rPr b="0" lang="ar-SA" sz="1500" spc="-1" strike="noStrike">
                <a:solidFill>
                  <a:srgbClr val="000000"/>
                </a:solidFill>
                <a:latin typeface="Gill Sans MT"/>
                <a:ea typeface="Arial"/>
              </a:rPr>
              <a:t>5</a:t>
            </a:r>
            <a:r>
              <a:rPr b="0" lang="ar-SA" sz="1500" spc="-1" strike="noStrike">
                <a:solidFill>
                  <a:srgbClr val="000000"/>
                </a:solidFill>
                <a:latin typeface="Gill Sans MT"/>
                <a:ea typeface="Arial"/>
              </a:rPr>
              <a:t>% ، </a:t>
            </a:r>
            <a:r>
              <a:rPr b="0" lang="ar-SA" sz="1500" spc="-1" strike="noStrike">
                <a:solidFill>
                  <a:srgbClr val="000000"/>
                </a:solidFill>
                <a:latin typeface="Gill Sans MT"/>
                <a:ea typeface="Arial"/>
              </a:rPr>
              <a:t>15000</a:t>
            </a:r>
            <a:r>
              <a:rPr b="0" lang="ar-SA" sz="1500" spc="-1" strike="noStrike">
                <a:solidFill>
                  <a:srgbClr val="000000"/>
                </a:solidFill>
                <a:latin typeface="Gill Sans MT"/>
                <a:ea typeface="Arial"/>
              </a:rPr>
              <a:t> احتياطي تعويضات تحت السداد</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وفيما يلي ملخص عمليات السنة المنتهية في </a:t>
            </a:r>
            <a:r>
              <a:rPr b="0" lang="ar-SA" sz="1500" spc="-1" strike="noStrike">
                <a:solidFill>
                  <a:srgbClr val="000000"/>
                </a:solidFill>
                <a:latin typeface="Gill Sans MT"/>
                <a:ea typeface="Arial"/>
              </a:rPr>
              <a:t>12/30</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عند الجرد في </a:t>
            </a:r>
            <a:r>
              <a:rPr b="0" lang="ar-SA" sz="1500" spc="-1" strike="noStrike">
                <a:solidFill>
                  <a:srgbClr val="000000"/>
                </a:solidFill>
                <a:latin typeface="Gill Sans MT"/>
                <a:ea typeface="Arial"/>
              </a:rPr>
              <a:t>12/30</a:t>
            </a:r>
            <a:r>
              <a:rPr b="0" lang="ar-SA" sz="1500" spc="-1" strike="noStrike">
                <a:solidFill>
                  <a:srgbClr val="000000"/>
                </a:solidFill>
                <a:latin typeface="Gill Sans MT"/>
                <a:cs typeface="Arial"/>
              </a:rPr>
              <a:t>تبين مايلي: </a:t>
            </a:r>
            <a:r>
              <a:rPr b="0" lang="ar-SA" sz="1500" spc="-1" strike="noStrike">
                <a:solidFill>
                  <a:srgbClr val="000000"/>
                </a:solidFill>
                <a:latin typeface="Gill Sans MT"/>
                <a:ea typeface="Arial"/>
              </a:rPr>
              <a:t>5000</a:t>
            </a:r>
            <a:r>
              <a:rPr b="0" lang="ar-SA" sz="1500" spc="-1" strike="noStrike">
                <a:solidFill>
                  <a:srgbClr val="000000"/>
                </a:solidFill>
                <a:latin typeface="Gill Sans MT"/>
                <a:cs typeface="Arial"/>
              </a:rPr>
              <a:t>رسوم الاشراف المستحقة لمصلة التأمين ، </a:t>
            </a:r>
            <a:r>
              <a:rPr b="0" lang="ar-SA" sz="1500" spc="-1" strike="noStrike">
                <a:solidFill>
                  <a:srgbClr val="000000"/>
                </a:solidFill>
                <a:latin typeface="Gill Sans MT"/>
                <a:ea typeface="Arial"/>
              </a:rPr>
              <a:t>2500</a:t>
            </a:r>
            <a:r>
              <a:rPr b="0" lang="ar-SA" sz="1500" spc="-1" strike="noStrike">
                <a:solidFill>
                  <a:srgbClr val="000000"/>
                </a:solidFill>
                <a:latin typeface="Gill Sans MT"/>
                <a:cs typeface="Arial"/>
              </a:rPr>
              <a:t>رسوم الدفعة المستحقة لمصلة الضرائب</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تقرر العدول عن تكوين الاحتياطي الاضافي بالنسبة الجزافية السابقة </a:t>
            </a:r>
            <a:r>
              <a:rPr b="0" lang="ar-SA" sz="1500" spc="-1" strike="noStrike">
                <a:solidFill>
                  <a:srgbClr val="000000"/>
                </a:solidFill>
                <a:latin typeface="Gill Sans MT"/>
                <a:ea typeface="Arial"/>
              </a:rPr>
              <a:t>5</a:t>
            </a:r>
            <a:r>
              <a:rPr b="0" lang="ar-SA" sz="1500" spc="-1" strike="noStrike">
                <a:solidFill>
                  <a:srgbClr val="000000"/>
                </a:solidFill>
                <a:latin typeface="Gill Sans MT"/>
                <a:ea typeface="Arial"/>
              </a:rPr>
              <a:t>%، وتكوينه محتسب على اساس متوسط الاقساط ربع السنوية ،وكانت القيمة الصافية للاقساط كما يلي: </a:t>
            </a:r>
            <a:r>
              <a:rPr b="0" lang="ar-SA" sz="1500" spc="-1" strike="noStrike">
                <a:solidFill>
                  <a:srgbClr val="000000"/>
                </a:solidFill>
                <a:latin typeface="Gill Sans MT"/>
                <a:ea typeface="Arial"/>
              </a:rPr>
              <a:t>20000</a:t>
            </a:r>
            <a:r>
              <a:rPr b="0" lang="ar-SA" sz="1500" spc="-1" strike="noStrike">
                <a:solidFill>
                  <a:srgbClr val="000000"/>
                </a:solidFill>
                <a:latin typeface="Gill Sans MT"/>
                <a:ea typeface="Arial"/>
              </a:rPr>
              <a:t> اقساط الربع الاول من السنة، </a:t>
            </a:r>
            <a:r>
              <a:rPr b="0" lang="ar-SA" sz="1500" spc="-1" strike="noStrike">
                <a:solidFill>
                  <a:srgbClr val="000000"/>
                </a:solidFill>
                <a:latin typeface="Gill Sans MT"/>
                <a:ea typeface="Arial"/>
              </a:rPr>
              <a:t>30000</a:t>
            </a:r>
            <a:r>
              <a:rPr b="0" lang="ar-SA" sz="1500" spc="-1" strike="noStrike">
                <a:solidFill>
                  <a:srgbClr val="000000"/>
                </a:solidFill>
                <a:latin typeface="Gill Sans MT"/>
                <a:ea typeface="Arial"/>
              </a:rPr>
              <a:t> اقساط الربع الثاني، </a:t>
            </a:r>
            <a:r>
              <a:rPr b="0" lang="ar-SA" sz="1500" spc="-1" strike="noStrike">
                <a:solidFill>
                  <a:srgbClr val="000000"/>
                </a:solidFill>
                <a:latin typeface="Gill Sans MT"/>
                <a:ea typeface="Arial"/>
              </a:rPr>
              <a:t>30000</a:t>
            </a:r>
            <a:r>
              <a:rPr b="0" lang="ar-SA" sz="1500" spc="-1" strike="noStrike">
                <a:solidFill>
                  <a:srgbClr val="000000"/>
                </a:solidFill>
                <a:latin typeface="Gill Sans MT"/>
                <a:ea typeface="Arial"/>
              </a:rPr>
              <a:t> اقساط الربع الثالث، </a:t>
            </a:r>
            <a:r>
              <a:rPr b="0" lang="ar-SA" sz="1500" spc="-1" strike="noStrike">
                <a:solidFill>
                  <a:srgbClr val="000000"/>
                </a:solidFill>
                <a:latin typeface="Gill Sans MT"/>
                <a:ea typeface="Arial"/>
              </a:rPr>
              <a:t>80000</a:t>
            </a:r>
            <a:r>
              <a:rPr b="0" lang="ar-SA" sz="1500" spc="-1" strike="noStrike">
                <a:solidFill>
                  <a:srgbClr val="000000"/>
                </a:solidFill>
                <a:latin typeface="Gill Sans MT"/>
                <a:ea typeface="Arial"/>
              </a:rPr>
              <a:t> اقساط الربع الاخير</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التعويضات تحت التسديد عن السنة الجارية (بخلاف المتأخر من السنوات السابقة) قدرها </a:t>
            </a:r>
            <a:r>
              <a:rPr b="0" lang="ar-SA" sz="1500" spc="-1" strike="noStrike">
                <a:solidFill>
                  <a:srgbClr val="000000"/>
                </a:solidFill>
                <a:latin typeface="Gill Sans MT"/>
                <a:ea typeface="Arial"/>
              </a:rPr>
              <a:t>13000</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c00000"/>
                </a:solidFill>
                <a:latin typeface="Gill Sans MT"/>
                <a:cs typeface="Arial"/>
              </a:rPr>
              <a:t>المطلوب :اعداد حساب الايرادات والمصروفات لفرع الحريق</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graphicFrame>
        <p:nvGraphicFramePr>
          <p:cNvPr id="890" name=""/>
          <p:cNvGraphicFramePr/>
          <p:nvPr/>
        </p:nvGraphicFramePr>
        <p:xfrm>
          <a:off x="785880" y="1714680"/>
          <a:ext cx="7786800" cy="2170080"/>
        </p:xfrm>
        <a:graphic>
          <a:graphicData uri="http://schemas.openxmlformats.org/drawingml/2006/table">
            <a:tbl>
              <a:tblPr/>
              <a:tblGrid>
                <a:gridCol w="1038240"/>
                <a:gridCol w="2520720"/>
                <a:gridCol w="1038240"/>
                <a:gridCol w="3189600"/>
              </a:tblGrid>
              <a:tr h="51804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rPr>
                        <a:t>8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اعادة تأمين صاد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rPr>
                        <a:t>11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مباشرة (منها </a:t>
                      </a:r>
                      <a:r>
                        <a:rPr b="0" lang="ar-SA" sz="1400" spc="-1" strike="noStrike">
                          <a:solidFill>
                            <a:srgbClr val="000000"/>
                          </a:solidFill>
                          <a:latin typeface="Gill Sans MT"/>
                        </a:rPr>
                        <a:t>10000</a:t>
                      </a:r>
                      <a:r>
                        <a:rPr b="0" lang="ar-SA" sz="1400" spc="-1" strike="noStrike">
                          <a:solidFill>
                            <a:srgbClr val="000000"/>
                          </a:solidFill>
                          <a:latin typeface="Gill Sans MT"/>
                        </a:rPr>
                        <a:t> عن سنوات سابق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عمولة لشركات اعادة التأمين</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4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اعادة تأمين صاد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5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لعمولة المدفوع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20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مباشرة </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اصدار وتعديل الوثائق</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اعادة تأمين وارد</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6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رباح بيع استثمارات</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4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اعادة تأمين وارد</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4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دمغة محصل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8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مصروفات ادارية </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25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اشراف محصل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2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صافي دخل الاستثما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حل 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graphicFrame>
        <p:nvGraphicFramePr>
          <p:cNvPr id="892" name=""/>
          <p:cNvGraphicFramePr/>
          <p:nvPr/>
        </p:nvGraphicFramePr>
        <p:xfrm>
          <a:off x="285840" y="571680"/>
          <a:ext cx="8572320" cy="5943600"/>
        </p:xfrm>
        <a:graphic>
          <a:graphicData uri="http://schemas.openxmlformats.org/drawingml/2006/table">
            <a:tbl>
              <a:tblPr/>
              <a:tblGrid>
                <a:gridCol w="4286160"/>
                <a:gridCol w="42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solidFill>
                      <a:srgbClr val="ebecf0"/>
                    </a:solid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حل 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pic>
        <p:nvPicPr>
          <p:cNvPr id="894" name="" descr=""/>
          <p:cNvPicPr/>
          <p:nvPr/>
        </p:nvPicPr>
        <p:blipFill>
          <a:blip r:embed="rId1"/>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نواع التأمين</a:t>
            </a:r>
            <a:endParaRPr b="0" lang="en-US" sz="3200" spc="-1" strike="noStrike">
              <a:solidFill>
                <a:srgbClr val="464653"/>
              </a:solidFill>
              <a:latin typeface="Bookman Old Style"/>
            </a:endParaRPr>
          </a:p>
        </p:txBody>
      </p:sp>
      <p:sp>
        <p:nvSpPr>
          <p:cNvPr id="85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أمين الحيا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ات العامة (فروع التأمين الاخرى بخلاف تأمين الحياة</a:t>
            </a:r>
            <a:r>
              <a:rPr b="0" lang="en-US" sz="2600" spc="-1" strike="noStrike">
                <a:solidFill>
                  <a:srgbClr val="000000"/>
                </a:solidFill>
                <a:latin typeface="Gill Sans MT"/>
              </a:rPr>
              <a:t> </a:t>
            </a:r>
            <a:r>
              <a:rPr b="0" lang="ar-SA" sz="2600" spc="-1" strike="noStrike">
                <a:solidFill>
                  <a:srgbClr val="000000"/>
                </a:solidFill>
                <a:latin typeface="Gill Sans MT"/>
                <a:cs typeface="Arial"/>
              </a:rPr>
              <a:t>وهو موضوعنا لهذا الفصل بأذن الله وتسمى تأمينات الاخطار)</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تأمينات العامة</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شمل التأمينات العامة فروع التأمين الاتي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أمين الحوادث والمسؤلية (حوادث شخصية ،اصابات العمل ، حوادث السير و وسائل النقل وتأمين االسيارات ،ضد السرقة ،خيانة الامان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Arial"/>
              </a:rPr>
              <a:t> التأمين ضد الحريق والاخطار المصاحبة له</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 من اخطار النقل البري والنهري والجوي والبحر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 من الاخطار الاخرى التي لم ترد في الفقرات السابق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عناصر التأمين</a:t>
            </a:r>
            <a:endParaRPr b="0" lang="en-US" sz="3200" spc="-1" strike="noStrike">
              <a:solidFill>
                <a:srgbClr val="464653"/>
              </a:solidFill>
              <a:latin typeface="Bookman Old Style"/>
            </a:endParaRPr>
          </a:p>
        </p:txBody>
      </p:sp>
      <p:sp>
        <p:nvSpPr>
          <p:cNvPr id="854" name=""/>
          <p:cNvSpPr txBox="1"/>
          <p:nvPr/>
        </p:nvSpPr>
        <p:spPr>
          <a:xfrm>
            <a:off x="457200" y="1219320"/>
            <a:ext cx="8229600" cy="4937040"/>
          </a:xfrm>
          <a:prstGeom prst="rect">
            <a:avLst/>
          </a:prstGeom>
          <a:noFill/>
          <a:ln w="0">
            <a:noFill/>
          </a:ln>
        </p:spPr>
        <p:txBody>
          <a:bodyPr anchor="t">
            <a:normAutofit fontScale="4000"/>
          </a:bodyPr>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ستأم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ؤم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ستفيد</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عقد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خطر</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قسط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مدة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تعويض</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Gill Sans MT"/>
                <a:cs typeface="Arial"/>
              </a:rPr>
              <a:t>التعويض:</a:t>
            </a:r>
            <a:endParaRPr b="0" lang="en-US" sz="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عادة التأمين</a:t>
            </a:r>
            <a:br>
              <a:rPr sz="2900"/>
            </a:br>
            <a:endParaRPr b="0" lang="en-US" sz="2900" spc="-1" strike="noStrike">
              <a:solidFill>
                <a:srgbClr val="464653"/>
              </a:solidFill>
              <a:latin typeface="Bookman Old Style"/>
            </a:endParaRPr>
          </a:p>
        </p:txBody>
      </p:sp>
      <p:sp>
        <p:nvSpPr>
          <p:cNvPr id="856" name=""/>
          <p:cNvSpPr txBox="1"/>
          <p:nvPr/>
        </p:nvSpPr>
        <p:spPr>
          <a:xfrm>
            <a:off x="457200" y="1219320"/>
            <a:ext cx="8229600" cy="4937040"/>
          </a:xfrm>
          <a:prstGeom prst="rect">
            <a:avLst/>
          </a:prstGeom>
          <a:noFill/>
          <a:ln w="0">
            <a:noFill/>
          </a:ln>
        </p:spPr>
        <p:txBody>
          <a:bodyPr anchor="t">
            <a:normAutofit fontScale="93000"/>
          </a:bodyPr>
          <a:p>
            <a:pPr marL="425160" indent="-253440" algn="r" rtl="1">
              <a:lnSpc>
                <a:spcPct val="115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يجب على شركات التأمين أن تعيد تأمين جزء من عملياتها لدى شركات التأمين الاخرى لتوزيع المخاطر بين شركات التأمين وتسمى العملية </a:t>
            </a:r>
            <a:r>
              <a:rPr b="1" lang="ar-SA" sz="2600" spc="-1" strike="noStrike">
                <a:solidFill>
                  <a:srgbClr val="00b050"/>
                </a:solidFill>
                <a:latin typeface="Gill Sans MT"/>
                <a:cs typeface="Arial"/>
              </a:rPr>
              <a:t>اعادة تأمين صادر منها للغير </a:t>
            </a:r>
            <a:r>
              <a:rPr b="0" lang="ar-SA" sz="2600" spc="-1" strike="noStrike">
                <a:solidFill>
                  <a:srgbClr val="000000"/>
                </a:solidFill>
                <a:latin typeface="Gill Sans MT"/>
                <a:ea typeface="Arial"/>
              </a:rPr>
              <a:t>(وتسمى الشركة التي اعادت تأمين جزء من عملياتها بالشركة  الأصلية  أو البائعة أو المتنازلة ويتوجب عليها دفع الاقساط للشركة المتنازل لها )</a:t>
            </a: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وبالمقابل تقبل اعادت تأمين من شركات تأمين اخرى فتسمى العملية </a:t>
            </a:r>
            <a:r>
              <a:rPr b="1" lang="ar-SA" sz="2600" spc="-1" strike="noStrike">
                <a:solidFill>
                  <a:srgbClr val="00b050"/>
                </a:solidFill>
                <a:latin typeface="Gill Sans MT"/>
                <a:cs typeface="Arial"/>
              </a:rPr>
              <a:t>اعادة تأمين وارد من الغير اليها </a:t>
            </a:r>
            <a:r>
              <a:rPr b="0" lang="ar-SA" sz="2600" spc="-1" strike="noStrike">
                <a:solidFill>
                  <a:srgbClr val="000000"/>
                </a:solidFill>
                <a:latin typeface="Gill Sans MT"/>
                <a:ea typeface="Arial"/>
              </a:rPr>
              <a:t>(وتسمى الشركة التي قبلت اعادة التأمين الوارد بالشركة المتنازل لها او المشترية او </a:t>
            </a:r>
            <a:r>
              <a:rPr b="0" lang="ar-SA" sz="2600" spc="-1" strike="noStrike" u="sng">
                <a:solidFill>
                  <a:srgbClr val="000000"/>
                </a:solidFill>
                <a:uFillTx/>
                <a:latin typeface="Gill Sans MT"/>
                <a:cs typeface="Arial"/>
              </a:rPr>
              <a:t>شركة اعادة التأمين)</a:t>
            </a:r>
            <a:r>
              <a:rPr b="0" lang="ar-SA" sz="2600" spc="-1" strike="noStrike">
                <a:solidFill>
                  <a:srgbClr val="000000"/>
                </a:solidFill>
                <a:latin typeface="Gill Sans MT"/>
                <a:ea typeface="Arial"/>
              </a:rPr>
              <a:t> ويتوجب عليها دفع -التعويض في حالة الضرر وعمولة مقابل الاقساط - للشركة الاصلية </a:t>
            </a: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صطلحات مستخدمة </a:t>
            </a:r>
            <a:endParaRPr b="0" lang="en-US" sz="3200" spc="-1" strike="noStrike">
              <a:solidFill>
                <a:srgbClr val="464653"/>
              </a:solidFill>
              <a:latin typeface="Bookman Old Style"/>
            </a:endParaRPr>
          </a:p>
        </p:txBody>
      </p:sp>
      <p:sp>
        <p:nvSpPr>
          <p:cNvPr id="858" name=""/>
          <p:cNvSpPr txBox="1"/>
          <p:nvPr/>
        </p:nvSpPr>
        <p:spPr>
          <a:xfrm>
            <a:off x="457200" y="1219320"/>
            <a:ext cx="8229600" cy="4937040"/>
          </a:xfrm>
          <a:prstGeom prst="rect">
            <a:avLst/>
          </a:prstGeom>
          <a:noFill/>
          <a:ln w="0">
            <a:noFill/>
          </a:ln>
        </p:spPr>
        <p:txBody>
          <a:bodyPr anchor="t">
            <a:normAutofit fontScale="96000"/>
          </a:bodyPr>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شركة التأمين ن تستخدم المصطلحات التالية فماذا تعني بالنسبة لها؟</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أقساط مباشرة (اقساط التأمين المستلمة من العميل)- ايراد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مباشرة (تدفع للوكيل او للمنتج او للمندوب) - مصروف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عويض مباشر (يدفع للعميل) – مصروف</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قساط اعادة التأمين الصادر (تدفعها الشركة ن لشركة التأمين المتنازل لها) - مصروف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عن اعادة التأمين الصادر(تحصلها الشركة ن من شركة التأمين المتنازل لها)- ايراد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عويض عن إعادة تأمين صادر(تحصله الشركة ن من الشركة المتنازل لها) - إيراد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صطلحات مستخدمة </a:t>
            </a:r>
            <a:endParaRPr b="0" lang="en-US" sz="3200" spc="-1" strike="noStrike">
              <a:solidFill>
                <a:srgbClr val="464653"/>
              </a:solidFill>
              <a:latin typeface="Bookman Old Style"/>
            </a:endParaRPr>
          </a:p>
        </p:txBody>
      </p:sp>
      <p:sp>
        <p:nvSpPr>
          <p:cNvPr id="86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يتبع..........</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قساط اعادة التامين الوارد(الاقساط التي ترد الى الشركة ن من شركة التامين المتنازلة) - ايراد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عن اعادة التأمين الوارد (تدفعها الشركة ن لشركة التأمين المتنازلة) –مصروف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عويض عن إعادة تأمين وارد (تدفعها الشركة ن لشركة التأمين المتنازلة) - مصروف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اخطار ساري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اضاف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2280"/>
            <a:ext cx="822960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لمحاسبة في شركات التأمين</a:t>
            </a:r>
            <a:r>
              <a:rPr b="0" lang="ar-SA" sz="2900" spc="-1" strike="noStrike">
                <a:solidFill>
                  <a:srgbClr val="464653"/>
                </a:solidFill>
                <a:latin typeface="Bookman Old Style"/>
                <a:ea typeface="Times New Roman"/>
              </a:rPr>
              <a:t> </a:t>
            </a:r>
            <a:endParaRPr b="0" lang="en-US" sz="2900" spc="-1" strike="noStrike">
              <a:solidFill>
                <a:srgbClr val="464653"/>
              </a:solidFill>
              <a:latin typeface="Bookman Old Style"/>
            </a:endParaRPr>
          </a:p>
        </p:txBody>
      </p:sp>
      <p:sp>
        <p:nvSpPr>
          <p:cNvPr id="862" name=""/>
          <p:cNvSpPr txBox="1"/>
          <p:nvPr/>
        </p:nvSpPr>
        <p:spPr>
          <a:xfrm>
            <a:off x="457200" y="1219320"/>
            <a:ext cx="8229600" cy="4937040"/>
          </a:xfrm>
          <a:prstGeom prst="rect">
            <a:avLst/>
          </a:prstGeom>
          <a:noFill/>
          <a:ln w="0">
            <a:noFill/>
          </a:ln>
        </p:spPr>
        <p:txBody>
          <a:bodyPr anchor="t">
            <a:normAutofit fontScale="91000"/>
          </a:bodyPr>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تقوم المنشأة نهاية العام باعداد حساب الايرادات والمصروفات لكل فرع على حده وذلك للوصول الى فائض الفرع / العجز، ثم يعد حساب الارباح والخسائر للشركة ككل لمعرفة نتيجة اعمالها من ربح/خسارة ، وتعد الميزانية العمومية للشركة والتي يتضح منها مركزها المالي </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حددت اللائحة نموذج واحد يطبق بجميع فروع التأمين العام</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يستخدم اساس الاستحقاق في حساب ايرادات ومصروفات التأمين (اي يتم تحميل الايرادات والمصروفات بما يخص السنة بصرف النظر عن واقعة السداد او التحصيل)</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المخصصات الفنية اخر الفترة تكون دائنة وتحمل على حساب ايرادات ومصروفات التأمين في الجانب المدين ،وتظهر في الميزانية في جانب الخصوم</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المخصصات الفنية اول الفترة ترحل في حساب ايرادات ومصروفات التأمين في الجانب الدائن</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4:24:45Z</dcterms:created>
  <dc:creator>Hana Alageel</dc:creator>
  <dc:description/>
  <dc:language>en-US</dc:language>
  <cp:lastModifiedBy>Hana Ageel Alageel</cp:lastModifiedBy>
  <cp:lastPrinted>2015-09-01T06:10:53Z</cp:lastPrinted>
  <dcterms:modified xsi:type="dcterms:W3CDTF">2017-02-14T04:35:56Z</dcterms:modified>
  <cp:revision>54</cp:revision>
  <dc:subject/>
  <dc:title>الفصل الاول</dc:title>
</cp:coreProperties>
</file>