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6963-46DC-440E-8599-F2A553B31D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C6BD-B2E2-45C6-A8F8-E9C35EFB84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E9E7-FAE5-4FAA-AF06-C27620AC6A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0AB8-32B2-42A1-BA91-D53292BA530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287-7C52-4E5C-A1A6-7C837AE40C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C161-94A3-4DBE-8A15-49CCF5BC0E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FD14-CC01-4A83-B6A4-6E04B656F3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5147-3D29-44AE-B7EC-16AE7F0775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B663-1D7B-4A3B-933C-51FB8BC105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3F63-7401-44D1-A6AE-20574BB942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7BA0-4931-4D50-9445-B8EF5A6162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9B12-5E58-4740-B2C5-47B83FFE77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AD5D-24B9-4671-9B97-0FBB10AF02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5AA8-E1B8-49C3-ACE6-994B9FD649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9704-5D85-40E7-B9E2-9F5543953A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BBD7-E626-416C-8987-1F07857728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DED5-E1D6-4C14-A020-EBAEB41D55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3DB8-4F50-4810-AA44-A000B3F3C9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B6E8-88C4-4411-A416-9F40577D65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537-263F-4DBF-BF58-48EAD4310A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A501-205E-40AE-A8F7-7A6A147C67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265-4580-440B-A7DC-9B7636F7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889-3703-462B-8882-F4C90C48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B1A-1079-4EAF-8267-65638A7C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3F5-C97D-49A2-8B7C-3C45B800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722F-A139-425F-8F72-641102E6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53D2-8D09-4774-856E-E931C790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2A4-EABC-4FC3-B0DA-65011F53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C674-E5DF-47DB-ADEA-84805BCB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574C-E18A-4F3B-B106-119CC40D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3BFA-0F45-45BA-B52A-52724C25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F9D7-4079-4649-86D6-080BB766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07C-1A9F-4A65-9FD9-36D32272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9C21-13DA-4D19-AFCC-95026D0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EFED-79E3-4C2E-835B-B5E77E24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DEDA-AC87-47CF-9BE8-B4D7A0F5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E5DC-4835-45C1-87EC-690A7B77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66D7-A1E8-4E18-AFDD-B5BA4D3B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6D2-D542-4F34-A889-30D5FF0D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B5E-15FF-4597-AF7D-0C3A6AF6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3C1-5E92-4826-9469-F0A1EFCA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18B-C5DD-4E0A-9F57-5F4E1180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448-8F3E-4753-853E-C67A3AC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C25-C7A2-4A3B-9F68-C017B53F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C15-ADC5-47C7-8264-601D502F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3548-D883-4D63-9DA7-9301664489F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76E-0A0D-409F-AFE1-466EEDAE7DB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84EC-AC78-4E30-A159-8F02C880DB80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914040"/>
            <a:ext cx="8267760" cy="27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 31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s  of Growth &amp; Develop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446D-658F-4F5B-B942-F1B2C96ACC46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4400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6600"/>
                </a:solidFill>
                <a:uFillTx/>
                <a:latin typeface="Verdana"/>
              </a:rPr>
              <a:t>Later childhood: </a:t>
            </a:r>
            <a:r>
              <a:rPr b="0" lang="en-US" sz="3600" spc="-1" strike="noStrike" u="sng">
                <a:solidFill>
                  <a:srgbClr val="cc6600"/>
                </a:solidFill>
                <a:uFillTx/>
                <a:latin typeface="Verdana"/>
              </a:rPr>
              <a:t>12 to 18 ye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ce: 12 to 18 year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ce period is considered to be a tumultuous transitional period that begins at the onset of puberty and extends to adulthood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&amp; emotional growth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16B6-8527-4F88-9E7A-B9BD9BBB4C1B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Verdana"/>
              </a:rPr>
              <a:t>Adulthood and Ag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ult years are a period of competency and ability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ult years do not have a sequence of precisely timed physiological ev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lso true of the aging years from 65 years until death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923C-2B3A-42F1-8B3A-89ABF335FBD3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mportant to consider human growth and development across the whole lifespa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cy (0–1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childhood (1–6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 childhood (6-12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childhood (adolescence) (12–18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adulthood (19–45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 adulthood (46–65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adulthood (65+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0C53-8D8B-45E1-BB14-D9E3CAD60628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atterns of growth and develop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825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c6600"/>
                </a:solidFill>
                <a:uFillTx/>
                <a:latin typeface="Verdana"/>
              </a:rPr>
              <a:t>Directional trend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phalocaudal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or “head-to-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dir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the head is developed before the trunk , child uses eyes before hands, and hands before fee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ximodista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midline to peripheral, hands then fing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ferent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simple to complex, cell to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84A9-9BD4-4305-B040-F2BC18AB72EB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4723920"/>
            <a:ext cx="7696080" cy="10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phalocaudal            Proximodis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2743200" cy="4267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5D9E-456C-4DFB-9E1D-DE594E58A432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6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Sequential trend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is a definite and predictable sequence in which the development occ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0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Developmental pac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The rate of development is not fixed through all stage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6234-3460-4C12-BE1A-4EE394AB1CBB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Development of Skills and 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need to learn about the development of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kills and abilitie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and fine motor skill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abilit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developm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skill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skill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0E6-E183-420B-9A0D-97F84C256A7E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2204640"/>
            <a:ext cx="6769440" cy="21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6600"/>
                </a:solidFill>
                <a:latin typeface="Verdana"/>
              </a:rPr>
              <a:t>Factors affecting growth &amp; development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9086-AE57-4674-A1CA-6AB9909C6A98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, (genetic ) factors and how these factors interact with environmental influ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-economic factors, including the effect of income, housing, nutrition, education and access to health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global environmental influences, for example the impact of pollution on heal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33520" y="685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Verdana"/>
              </a:rPr>
              <a:t>Factors Affecting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4D15-39C7-4EFC-89EA-1BFCC8C40FAB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00"/>
                </a:solidFill>
                <a:latin typeface="Verdana"/>
              </a:rPr>
              <a:t>The following factors can affect human growth and developmen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nicity and relig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 Inheri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32A9-A14F-415D-990B-CB8C64B518F0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Verdana"/>
              </a:rPr>
              <a:t>Growth &amp; Develop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Verdana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in quantity and results when cells divide and synthesize new 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in size &amp; weight of the whole or any of the body 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Verdana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Development = A gradual change in abilities, emotions and skills as people get o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DEEA-8737-4A97-85D0-543E530C1187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Experiences (birth, marriage, death and divorc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 posses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 / un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relation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 and type of physical 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al experi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health and welfare serv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 of illness or dise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A6CF-5D09-4253-AD73-7F01B770E1A5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Mat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crease in competence and adaptability; ag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used to describe a qualitative 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5F5A-46F9-4B76-B91E-F58CC04E56B6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Developmental task</a:t>
            </a:r>
            <a:r>
              <a:rPr b="0" lang="en-US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kills and competencies peculiar to each developmental stage that children must accomplish or master in order to deal effectively with their environ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9807-E9A3-4DD3-B25B-3EBE784BB883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Verdana"/>
              </a:rPr>
              <a:t>Developmental age perio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CC87-2AA3-49C3-A722-15610891CFB5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Verdana"/>
              </a:rPr>
              <a:t>Prenatal 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period: </a:t>
            </a: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onception (fertilization) to birt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minal : conception to 12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yonic: 2 to 8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tal : 8 to 40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pid growth rate and total depend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critical and important stage of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condition determines fetal growth and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EC4-E16D-44EE-9931-B50FCBE7D016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6600"/>
                </a:solidFill>
                <a:latin typeface="Verdana"/>
              </a:rPr>
              <a:t>Infancy period : </a:t>
            </a:r>
            <a:r>
              <a:rPr b="0" lang="en-US" sz="3100" spc="-1" strike="noStrike">
                <a:solidFill>
                  <a:srgbClr val="cc6600"/>
                </a:solidFill>
                <a:latin typeface="Verdana"/>
              </a:rPr>
              <a:t>Birth to 12 months</a:t>
            </a:r>
            <a:br>
              <a:rPr sz="4300"/>
            </a:b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al: the first month of lif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cy : 1 to 12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motor, social and cognitive develop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nth of infancy considered to different from the remainder period due to its dramatical and extrauterine adjustments and adaptation with par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5050-F503-41DE-B5FB-D9FB1F39D698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Verdana"/>
              </a:rPr>
              <a:t>Early childhood: </a:t>
            </a:r>
            <a:r>
              <a:rPr b="0" lang="en-US" sz="4000" spc="-1" strike="noStrike">
                <a:solidFill>
                  <a:srgbClr val="cc6600"/>
                </a:solidFill>
                <a:latin typeface="Verdana"/>
              </a:rPr>
              <a:t>1 to 6 yea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dler : 1 to 3 yea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chooler: 3 to 6 yea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 discovery and activ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cquire language and wide their social relationship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to develop Self concep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7EC5-E00A-419F-A8F7-709C11BBF8E5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6600"/>
                </a:solidFill>
                <a:latin typeface="Verdana"/>
              </a:rPr>
              <a:t>Middle childhood</a:t>
            </a:r>
            <a:r>
              <a:rPr b="0" lang="en-US" sz="3700" spc="-1" strike="noStrike">
                <a:solidFill>
                  <a:srgbClr val="cc6600"/>
                </a:solidFill>
                <a:latin typeface="Verdana"/>
              </a:rPr>
              <a:t>: 6 to 12 years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lso called </a:t>
            </a:r>
            <a:r>
              <a:rPr b="0" i="1" lang="en-US" sz="3300" spc="-1" strike="noStrike">
                <a:solidFill>
                  <a:srgbClr val="000000"/>
                </a:solidFill>
                <a:latin typeface="Verdana"/>
              </a:rPr>
              <a:t>“school age”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Establish new peer relationships with colleagues and the teacher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Emphasis on developing skill competencie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22:37Z</dcterms:created>
  <dc:creator>naawad</dc:creator>
  <dc:description/>
  <dc:language>en-US</dc:language>
  <cp:lastModifiedBy>Othman Jawdat Taani</cp:lastModifiedBy>
  <dcterms:modified xsi:type="dcterms:W3CDTF">2017-09-17T07:30:55Z</dcterms:modified>
  <cp:revision>48</cp:revision>
  <dc:subject/>
  <dc:title>I Don’t Wanna Grow Up!! Principles of Growth &amp; Development</dc:title>
</cp:coreProperties>
</file>