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10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518112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10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544B-559A-4ECB-B6CB-682A162279E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8772-65F3-47F8-97DD-C656A96EE17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CB2D-919E-4687-BF78-E1AC26844BD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C7AA-4C80-40FA-A1A7-C8B0FC07315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9D25-04D9-43C9-9547-59FD2CFD0BC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202F-7BCE-4F6E-8FCD-3015C900F15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ED7B-4FD5-4C10-82FD-E14AC64AACD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04D2-CA5F-4F90-815F-F1E430ECEC4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BCE3-5FBC-4DBB-B214-4B7FD7E9C95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A3AE-D636-4199-8259-A81802FDD3A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EC81-FBE9-4D17-8873-4632610706D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8FB3-D20D-404A-9A6D-8D8AD2D1E50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DC82-EB01-4B3B-9239-5A3BC9BC18C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F241-5D6D-431A-BC3D-EF87E513EFD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790E-F157-4B6A-9C4D-B403F9C3321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70FF-0C7D-40A3-92A5-6C97DD2917C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7FB9-3F32-4A50-9D8F-2D1F5DF21B3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02D3-DFBD-4E6E-BE73-10ECE9976D2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CE87-30A6-4F00-84DA-751ADCCD6EF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9998-51FC-4D17-A9AC-43140E13FDE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964F-2568-45DE-842C-D00BEFD6A14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6C9A-44C1-48D6-8A56-E688B2DBB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4488-9C58-40DE-8200-5347358A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02BC-33B1-4B75-8755-13E8E13F0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3301-F47C-4F5F-995F-394C0BC64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C892-410D-47E5-A865-F7849D24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A0CA-A835-488A-B6DE-32BC3C84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A714-A0A8-43EA-AAF3-08788412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2C7B-7C50-4DC5-8339-F33BE26B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8BEF-1CC0-4631-995D-E76885AE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CD8F-5CB8-41AE-8A9B-A3B02452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37B1-DF9D-470A-9C4D-7E45A627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92DC-6A2F-4F1F-8512-DA994C1E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B175-8164-46C2-9D1D-E450BCF6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BE23-8E42-46FB-8290-BF688AB8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B430-A3EF-4EE8-B08B-227F6B95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03AC-1241-43B6-BE33-CBD03287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B62B-F402-4FD1-B5DC-D9E12B3E0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CBA2-DBA0-40D9-85B1-6B6862B3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C27E-3AD2-4737-9DB3-55B5F610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3B46-876F-4A3D-AE74-B4EAD7A2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37D1-EBCB-415E-90FF-C006317D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ADD1-0408-4901-BE91-B493921C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D778-0301-4F91-A8EE-9606F23B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C9FF-A93D-4D07-BC1F-F29B0155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E256-2F71-400A-A9B8-26C602A3004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6E0D-5D11-4A81-AAEE-E757A3680D9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3BD0-915E-4585-83E1-3A6061CB7BCD}" type="slidenum">
              <a:rPr b="0" lang="ar-SA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914040"/>
            <a:ext cx="8267760" cy="275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Growth and Developmen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 31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s  of Growth &amp; Developmen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938E-0D5F-456A-8077-400470D6D0BD}" type="slidenum">
              <a:rPr b="0" lang="ar-SA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44000" cy="727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6600"/>
                </a:solidFill>
                <a:uFillTx/>
                <a:latin typeface="Verdana"/>
              </a:rPr>
              <a:t>Later childhood: </a:t>
            </a:r>
            <a:r>
              <a:rPr b="0" lang="en-US" sz="3600" spc="-1" strike="noStrike" u="sng">
                <a:solidFill>
                  <a:srgbClr val="cc6600"/>
                </a:solidFill>
                <a:uFillTx/>
                <a:latin typeface="Verdana"/>
              </a:rPr>
              <a:t>12 to 18 yea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lescence: 12 to 18 years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lescence period is considered to be a tumultuous transitional period that begins at the onset of puberty and extends to adulthood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&amp; emotional growth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6BF3-AFA7-4BB6-B08D-6EA5919651B3}" type="slidenum">
              <a:rPr b="0" lang="ar-SA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Verdana"/>
              </a:rPr>
              <a:t>Adulthood and Ag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dult years are a period of competency and ability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dult years do not have a sequence of precisely timed physiological even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lso true of the aging years from 65 years until death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B4D9-5698-403B-9660-3E193C2B6E0D}" type="slidenum">
              <a:rPr b="0" lang="ar-SA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important to consider human growth and development across the whole lifespan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ancy (0–1 years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y childhood (1–6 years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dle childhood (6-12 years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 childhood (adolescence) (12–18 years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y adulthood (19–45 years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dle adulthood (46–65 years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r adulthood (65+)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E7F8-8D6F-4762-B744-BDFB0EF77274}" type="slidenum">
              <a:rPr b="0" lang="ar-SA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atterns of growth and develop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825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cc6600"/>
                </a:solidFill>
                <a:uFillTx/>
                <a:latin typeface="Verdana"/>
              </a:rPr>
              <a:t>Directional trend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1720" indent="-261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1720" indent="-261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ephalocaudal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or “head-to-ta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direc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1720" indent="-261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which the head is developed before the trunk , child uses eyes before hands, and hands before feet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1720" indent="-261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1720" indent="-261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ximodistal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midline to peripheral, hands then fing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1720" indent="-261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1720" indent="-261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fferenti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om simple to complex, cell to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BEF4-044A-43A0-AD3C-594FA8812F31}" type="slidenum">
              <a:rPr b="0" lang="ar-SA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4723920"/>
            <a:ext cx="7696080" cy="10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phalocaudal            Proximodist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1"/>
          <a:stretch/>
        </p:blipFill>
        <p:spPr>
          <a:xfrm>
            <a:off x="5486400" y="380880"/>
            <a:ext cx="2743200" cy="42674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"/>
          <p:cNvPicPr/>
          <p:nvPr/>
        </p:nvPicPr>
        <p:blipFill>
          <a:blip r:embed="rId2"/>
          <a:stretch/>
        </p:blipFill>
        <p:spPr>
          <a:xfrm>
            <a:off x="1523880" y="304920"/>
            <a:ext cx="289584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3C64-15A3-402C-B456-F4BFA84DA97B}" type="slidenum">
              <a:rPr b="0" lang="ar-SA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7621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36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Sequential trends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re is a definite and predictable sequence in which the development occu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10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Developmental pac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The rate of development is not fixed through all stages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41DD-BD34-4260-9599-46ACACD3B647}" type="slidenum">
              <a:rPr b="0" lang="ar-SA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Development of Skills and Abiliti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need to learn about the development of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llowing skills and abilities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ss and fine motor skills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lectual ability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otional development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skills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 skills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3110-181B-4674-84A0-CA4597864308}" type="slidenum">
              <a:rPr b="0" lang="ar-SA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87280" y="2204640"/>
            <a:ext cx="6769440" cy="210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6600"/>
                </a:solidFill>
                <a:latin typeface="Verdana"/>
              </a:rPr>
              <a:t>Factors affecting growth &amp; development: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904A-F2EB-4F21-B24F-8550C5044F55}" type="slidenum">
              <a:rPr b="0" lang="ar-SA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erited, (genetic ) factors and how these factors interact with environmental influ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o-economic factors, including the effect of income, housing, nutrition, education and access to health serv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and global environmental influences, for example the impact of pollution on heal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533520" y="6858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Verdana"/>
              </a:rPr>
              <a:t>Factors Affecting Develop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8FC7-6E45-4033-B03D-4D22DB1B8F00}" type="slidenum">
              <a:rPr b="0" lang="ar-SA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6600"/>
                </a:solidFill>
                <a:latin typeface="Verdana"/>
              </a:rPr>
              <a:t>The following factors can affect human growth and development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d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l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nicity and relig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tic Inherit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ing condi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iendshi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645A-6FF8-4227-8848-EB694B65ACEC}" type="slidenum">
              <a:rPr b="0" lang="ar-SA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Verdana"/>
              </a:rPr>
              <a:t>Growth &amp; Developmen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6600"/>
                </a:solidFill>
                <a:uFillTx/>
                <a:latin typeface="Verdana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nge in quantity and results when cells divide and synthesize new prote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 in size &amp; weight of the whole or any of the body 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6600"/>
                </a:solidFill>
                <a:uFillTx/>
                <a:latin typeface="Verdana"/>
              </a:rPr>
              <a:t>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- Development = A gradual change in abilities, emotions and skills as people get ol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219F-8CDB-48A3-B11A-A56556B9DD81}" type="slidenum">
              <a:rPr b="0" lang="ar-SA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fe Experiences (birth, marriage, death and divorc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rial possess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loyment / unemploy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mily relationshi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ount and type of physical 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ational experi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health and welfare servi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ence of illness or disea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D0C7-F30D-46A8-8439-B05914A20C2F}" type="slidenum">
              <a:rPr b="0" lang="ar-SA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Matur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crease in competence and adaptability; aging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used to describe a qualitative chang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4199-688B-4C50-B8A0-A47A893142FA}" type="slidenum">
              <a:rPr b="0" lang="ar-SA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Developmental task</a:t>
            </a:r>
            <a:r>
              <a:rPr b="0" lang="en-US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kills and competencies peculiar to each developmental stage that children must accomplish or master in order to deal effectively with their environmen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A811-33BA-4760-8B85-9FE16292181C}" type="slidenum">
              <a:rPr b="0" lang="ar-SA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Verdana"/>
              </a:rPr>
              <a:t>Developmental age period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C243-7DBF-46E6-BB5C-B4F6CBF2B1EC}" type="slidenum">
              <a:rPr b="0" lang="ar-SA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Verdana"/>
              </a:rPr>
              <a:t>Prenatal </a:t>
            </a:r>
            <a:r>
              <a:rPr b="0" lang="en-US" sz="3600" spc="-1" strike="noStrike">
                <a:solidFill>
                  <a:srgbClr val="cc6600"/>
                </a:solidFill>
                <a:latin typeface="Verdana"/>
              </a:rPr>
              <a:t>period: </a:t>
            </a:r>
            <a:r>
              <a:rPr b="0" i="1" lang="en-US" sz="3600" spc="-1" strike="noStrike">
                <a:solidFill>
                  <a:srgbClr val="cc6600"/>
                </a:solidFill>
                <a:latin typeface="Verdana"/>
              </a:rPr>
              <a:t>Conception (fertilization) to birth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rminal : conception to 12 wee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ryonic: 2 to 8 wee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tal : 8 to 40 wee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apid growth rate and total dependen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critical and important stage of develop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her condition determines fetal growth and develop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8220-3B90-4B47-A9F5-7D7E90035A2C}" type="slidenum">
              <a:rPr b="0" lang="ar-SA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6600"/>
                </a:solidFill>
                <a:latin typeface="Verdana"/>
              </a:rPr>
              <a:t>Infancy period : </a:t>
            </a:r>
            <a:r>
              <a:rPr b="0" lang="en-US" sz="3100" spc="-1" strike="noStrike">
                <a:solidFill>
                  <a:srgbClr val="cc6600"/>
                </a:solidFill>
                <a:latin typeface="Verdana"/>
              </a:rPr>
              <a:t>Birth to 12 months</a:t>
            </a:r>
            <a:br>
              <a:rPr sz="4300"/>
            </a:b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onatal: the first month of lif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ancy : 1 to 12 month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id motor, social and cognitive develop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month of infancy considered to different from the remainder period due to its dramatical and extrauterine adjustments and adaptation with paren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E430-1655-495C-B702-0D7F6BE3A1FB}" type="slidenum">
              <a:rPr b="0" lang="ar-SA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Verdana"/>
              </a:rPr>
              <a:t>Early childhood: </a:t>
            </a:r>
            <a:r>
              <a:rPr b="0" lang="en-US" sz="4000" spc="-1" strike="noStrike">
                <a:solidFill>
                  <a:srgbClr val="cc6600"/>
                </a:solidFill>
                <a:latin typeface="Verdana"/>
              </a:rPr>
              <a:t>1 to 6 year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dler : 1 to 3 year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chooler: 3 to 6 year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zed by discovery and activit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acquire language and wide their social relationship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to develop Self concep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310B-89C5-49CF-A3C8-46FF412FFC90}" type="slidenum">
              <a:rPr b="0" lang="ar-SA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6600"/>
                </a:solidFill>
                <a:latin typeface="Verdana"/>
              </a:rPr>
              <a:t>Middle childhood</a:t>
            </a:r>
            <a:r>
              <a:rPr b="0" lang="en-US" sz="3700" spc="-1" strike="noStrike">
                <a:solidFill>
                  <a:srgbClr val="cc6600"/>
                </a:solidFill>
                <a:latin typeface="Verdana"/>
              </a:rPr>
              <a:t>: 6 to 12 years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8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8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Also called </a:t>
            </a:r>
            <a:r>
              <a:rPr b="0" i="1" lang="en-US" sz="3300" spc="-1" strike="noStrike">
                <a:solidFill>
                  <a:srgbClr val="000000"/>
                </a:solidFill>
                <a:latin typeface="Verdana"/>
              </a:rPr>
              <a:t>“school age”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8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8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Establish new peer relationships with colleagues and the teacher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8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8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Emphasis on developing skill competencies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4:22:37Z</dcterms:created>
  <dc:creator>naawad</dc:creator>
  <dc:description/>
  <dc:language>en-US</dc:language>
  <cp:lastModifiedBy>Othman Jawdat Taani</cp:lastModifiedBy>
  <dcterms:modified xsi:type="dcterms:W3CDTF">2017-09-17T07:30:55Z</dcterms:modified>
  <cp:revision>48</cp:revision>
  <dc:subject/>
  <dc:title>I Don’t Wanna Grow Up!! Principles of Growth &amp; Development</dc:title>
</cp:coreProperties>
</file>