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86C-9BE6-4DE0-865A-CA532902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97A-D6AB-4564-B992-F0D73B47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23F0A-7978-4DED-AFCB-A24EFEA5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8BC6C-F48A-47B9-B79F-17ABA29F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0D332-AD04-42E5-B49B-2525CD01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1841D-E9E0-4A98-AD05-05835C02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E5F92-0283-462B-A7CE-EAA9A4FE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FF557-4718-4873-9A3D-2AFE115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75BA0-834B-4B42-8833-31F931B1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38072-5F5F-4D2E-A694-37F0C8D4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57468-88EC-4ADF-AE0E-B6991774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B5F-4BB2-49EB-946F-7345BA5E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2F9-4197-4477-8CDE-7581DA21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9E88-7F3F-4109-A89C-B008FCF9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F831-F869-40BE-9CC1-4DFA17E2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8117-E4FC-4548-AE58-EAF039B6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56B3-9880-475B-AB6D-1FCFD953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7EAE-846F-4A12-BDC8-2DB228A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D968-4FFD-46FD-84DD-1424A985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BE0F-0A4B-403C-849E-617863A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EBA-59E7-4EDE-A1D5-0FF1B53C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F1D5-05B3-4E42-8091-D57ABF0D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A68-C7F4-4835-8B4F-D6EFF09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100B-2AF7-4CD9-B00D-1AB2665A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4A4B-FDAD-4026-84C3-6BCC9298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EA24-A091-421E-B50F-9500B650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D570-5E2B-4F06-B2E1-2513F1B0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AD3D-C8EB-410E-86DD-03431474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76D2-F3C2-4A5D-9CD7-5CE55BF9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E9E7-5167-4EA5-BF48-E06065A6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56CE4-FE33-4ED6-B17C-B5259BE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069-751A-4E3A-B1DF-F1D08CF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5344-E577-4423-A61C-B1E7AF4C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B6AA-0F59-4D7D-94FD-C1D239B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962F-F026-44EF-822D-D38D0893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9E7B-470C-4F0A-86C1-0C4B3AA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5793-F99F-462A-80C9-B6B87A81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BEAB-3C54-46E4-878E-BC8B1B93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9B9A-617B-43D9-BF4E-A2EE371C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E0EF-3B8B-4872-8CEC-297265C3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2BE4-6953-4008-8C56-95B3F12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71A4-D2AB-48E4-AECA-F639E9BF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42F-3CBE-4FE5-9618-1101605C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9D876-B9A5-4EC0-B313-F0DD8588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4934-0406-456D-9E04-BDFF9173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DE2A-4C89-48D6-89D6-544323EB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EA68-7983-4F9F-9B14-2490EC3C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8B2D4-D761-4A2D-9E4C-3AB8C428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C7AA-F984-44A6-8A1C-2F64D7C2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0362-95D0-4C5A-B31C-2E212905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0FE7-44B5-4925-9CFD-6E4BB067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3556-171A-4A54-AB1D-1E322533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B7205-40DD-43F0-8CFD-4D9DE364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69B-B4D1-43B1-B402-0EB09A13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943D-BEDE-451E-8E1E-6CE6D541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2ABB-E43D-46E8-AD74-A4FBD14E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D2FB-8750-43CF-B4F9-D73D99B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C3FD5-2EC2-4219-A79C-09144DA6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66AA3-CD90-456E-9072-1C7B8455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E700-577A-4265-A47F-2B3AD516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954B-D2B7-49B2-8004-70AD9882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CFED9-BBE0-47F5-9A61-46187C23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3797E-8861-40BF-B5DB-B0A2BFA1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A9F3A-000E-4D18-8E6D-3C7DC235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605-2BF8-4F84-AD80-4F7CCA8E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D37F-C578-42ED-A939-717A6B05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46676-72D7-4332-A19C-516FB640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26F47-5B4E-4392-A870-D474A764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C3AC-DA91-429C-A38F-2931C4E5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17CCF-D29D-4E68-B490-BD237D0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97B1-CE70-476C-9A05-F3FCAC76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7D0A5-53AF-4A30-8500-3497BDA2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E52BC-11D1-427A-B8DD-8C7B6F6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6612-7BDD-41DC-8334-1FFACA3B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9825-3918-40F5-96B9-0E42EA9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DFF-F993-4975-9355-73BE1E80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7031-4274-4DC6-AC9C-8385265B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16A1F-E16B-43C4-A68B-93E15BBF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A469-75F7-40BA-BCCC-562CAF5B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69D80-C037-424A-BB91-AFE04135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11A62-D079-4CD5-A9E1-4C04972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442F8-AAA3-47DD-9C77-4090A7B3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26773-5681-4906-B1E2-D83CCF4C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08DC3-5F33-4486-8C0A-F1EFF0A3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9D34-C7DF-4A42-8B32-438000DA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6677-D80B-4238-BDAA-357FC7A8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3BA-DB54-44B9-B232-4FD6F01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A71A4-8D5B-49DC-A024-96737C09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AF5A2-D859-4CDB-9764-3DCBFED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13B38-A419-4C30-9213-9B8479E4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19463-3523-4495-A2CE-C3C2D195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45A2-EA17-4679-A280-585CB5DC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EDEC4-9C9D-4024-A175-8ADE3BA9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69014-69A0-4585-8059-421B1DD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38EDD-5F13-49B4-8838-4415CF75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A64E7-79A5-4982-9166-F99351A7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91F8A-3336-4F7D-BD72-DFE878E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42C-2941-4F85-940D-6ECD8C7C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C5E1A-644E-4FA9-86C4-286597A1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B7F9-0878-40D7-8C6D-CEEEDCB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B6A9-65A7-4568-AF07-1B7BB90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0A58-B444-46BF-9FD3-888DA258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9C20A-D91D-4B26-8A77-4871250C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C916-0D36-4B56-BA0A-4DDBC910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ADF5B-1929-40C4-9EF0-414C255F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7C51D-9DF9-4AFC-B46C-7B1829DC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ED769-5F1D-4F42-96B3-BB6724E8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0835D-3CF7-4445-9742-FE00308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153A-77E3-4230-BC1D-FE17319DC6B1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رابط مستقيم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EDF6-E456-4F82-85B9-1B6CBC986F0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E448-C73C-4259-8402-A9FFD5FB82C5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رابط مستقيم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14EF-BD9B-47B5-8A53-E8A43116819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رابط مستقيم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DA8A-6D5D-4D00-85C2-D5B8849F415B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4C5-008A-4743-813F-33223BD76D95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رابط مستقيم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9AC9-DCE9-4A29-9F23-7DC1B5E359A1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11A5-C376-499C-AF5F-F54D895E83A3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2758-2E22-430E-A5D3-32D8C02C54A0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عنوان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43329"/>
                </a:solidFill>
                <a:latin typeface="Franklin Gothic Book"/>
              </a:rPr>
              <a:t>تعريف الاتجاه ، انواعه ، مكوناته ، اهداف دراسته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43329"/>
                </a:solidFill>
                <a:latin typeface="Franklin Gothic Book"/>
              </a:rPr>
              <a:t>الاتجاه الواقعي \ كومينو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عنوان 1" descr=""/>
          <p:cNvPicPr/>
          <p:nvPr/>
        </p:nvPicPr>
        <p:blipFill>
          <a:blip r:embed="rId1"/>
          <a:stretch/>
        </p:blipFill>
        <p:spPr>
          <a:xfrm>
            <a:off x="-42840" y="450720"/>
            <a:ext cx="9040680" cy="1170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هتم بالطفول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طفل هبه من الله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انسان خير بالفطر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خير نموذج يحتذى لتربية الاطفال هو الطبيع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طفل كبذرة النبات – كالطائر الصغير – الربيع يمثل مرحلة الطفول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كتشاف الطبيع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دريب العمل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نهج الباناسوفيا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اهتمام بالمدار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سلم التعليمي منظ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دريب الحوا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لغة الام ، المعرفة لاتصل العقل الا باستخدام الحواس ، التحلي بالفضيلة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هم فكرتين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قليد الطبيعة في الترب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عرفة الشامل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نظام التعليم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درسة الا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درسة الاول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رحلة الثانوي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جامع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مناهج الدراسة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علو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لغات الاجنبية + لغة الا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طريقة التدريس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حوا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صفات المعلم الجي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ستثارة رغبة المتعلمي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جوائ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رايه في العقاب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الفهم يسبق الحف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عدم فصل الموا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ختصرا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ربية البنات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حو الام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عليم المهني والحرف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عنوان 1" descr=""/>
          <p:cNvPicPr/>
          <p:nvPr/>
        </p:nvPicPr>
        <p:blipFill>
          <a:blip r:embed="rId1"/>
          <a:stretch/>
        </p:blipFill>
        <p:spPr>
          <a:xfrm>
            <a:off x="-36360" y="450720"/>
            <a:ext cx="9034200" cy="1170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الحواس ثم الذاكرة ثم الفكر ثم الملكة الناقد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تنمية الحواس ( من 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1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-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6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 سنوات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كتاب ( عالم الصور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استغلال المواهب الطبيعية : الحواس والعقل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اصول طريقة التدريس عند كومينوس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العلوم التي يجب ان يبدا اهتمام الطفل بها منذ سنوات حياته المبكر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 قواعد التربية الخلقي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كيف نساعد الاباء في تربية اطفالهم قبل المدرسة الاولي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مافوائد الكتاب المصور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تعريف الاتجاه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عرف "كامبل" الاتجاه تعريفا اجرائيا بانه (محصلة دائمة من الاستجابات المتماثلة نحو من المواقف الاجتماعية 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الحالة الوجدانية القائمة وراء راي الشخص واعتقاده فيما يتعلق بموضوع معين من حيث رفضه او قبوله ودرجة الرفض والقبول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توجه ثابت بمكونات ثلاثية معرفية ، وجدانية ، سلوكي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وعرفت الاتجاهات الوالدية بانها ( مايراه الابوان ومايتمسكان به من اساليب في معاملة الطفل في مواقف الحياة المختلفة 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انواع الاتجاهات 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فردية وجماعي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موجبة وسالب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خاصة وعام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سرية ومعلن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99972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ثالثا : مكونات الاتجاه</a:t>
            </a: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عاطفي ( شعور عام يؤثر في استجابة الفرد : قبول موضوع الاتجاه او رفضه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معرفي ( ينطوي على وجهة نظرالفرد ذات العلاقة بموقفه من موضوع الاتجاه وتتكون من خلال المعلومات والحقائق المتوفرة حول موضوع الاتجاه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سلوكي (نزعة للسلوك من انماط محدد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رابعا : اهداف دراسة الاتجاهات الحديثة في تربية الطفل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فهم الاتجاهات الحديثة والمعاصرة في تربية الطفل في المجالات المختلفة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مهمة في تاثيرها على السلوك التعليمي والتربوي لمعلمات رياض الاطفال والمربيات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الاستفادة من تلك الاتجاهات في وضع برامج ومناهج رياض الاطفال وتجديدها لمواكبة المسيرة الحديثة في التربية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ساد الاتجاه الواقعي اوروبا منذ عصر النهضة أي بعد العصور الوسطى ( عصور الظلام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سميت التربية في عصر النهضة =</a:t>
            </a:r>
            <a:r>
              <a:rPr b="0" lang="ar-SA" sz="3200" spc="-1" strike="noStrike">
                <a:solidFill>
                  <a:srgbClr val="ff0000"/>
                </a:solidFill>
                <a:latin typeface="Franklin Gothic Book"/>
              </a:rPr>
              <a:t> التربية الحديث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عنوان 1" descr=""/>
          <p:cNvPicPr/>
          <p:nvPr/>
        </p:nvPicPr>
        <p:blipFill>
          <a:blip r:embed="rId1"/>
          <a:stretch/>
        </p:blipFill>
        <p:spPr>
          <a:xfrm>
            <a:off x="-42840" y="450720"/>
            <a:ext cx="9040680" cy="1176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c4c2c"/>
                </a:solidFill>
                <a:latin typeface="Franklin Gothic Book"/>
              </a:rPr>
              <a:t>التربية ف عصر النهضة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دريب الجس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حرير العقل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ركيز على الدراسات الواقعي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27242"/>
                </a:solidFill>
                <a:latin typeface="Franklin Gothic Book"/>
              </a:rPr>
              <a:t>التربية في العصور الوسط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قسوة – قهر الجسد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ضييق الحرية في التفكير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ركيز على الدراسات اللفظية والجدلي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سياسة .....  ظهرت القوميات واستعاد الملوك قوتهم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دين ... ضعفت سلطة الكنيسة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مجتمع ... ثورة الفلاحين ، التجار ، الصناع ( تطور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اقتصاد ... التجارة ، الصناعة ، البنوك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فكر .. الاهتمام بالفرد ( ظهر الاتجاه الانساني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        انتقاد الكنيسة ( ظهرت حركة الاصلاح الديني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حركة الاصلاح الديني      و     الحركة الانسان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               </a:t>
            </a:r>
            <a:r>
              <a:rPr b="0" lang="ar-SA" sz="3200" spc="-1" strike="noStrike">
                <a:solidFill>
                  <a:srgbClr val="7c4b3b"/>
                </a:solidFill>
                <a:latin typeface="Franklin Gothic Book"/>
              </a:rPr>
              <a:t>اصيبت بالجموووووو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c4b3b"/>
                </a:solidFill>
                <a:latin typeface="Franklin Gothic Book"/>
              </a:rPr>
              <a:t>          اصبحت مدارسهم شكلية تهتم باللغة اللاتين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ـــــــــــاذا نتـــــــــــــــج عن ذلــــــــــــــــــــــك ؟؟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عنوان 1" descr=""/>
          <p:cNvPicPr/>
          <p:nvPr/>
        </p:nvPicPr>
        <p:blipFill>
          <a:blip r:embed="rId1"/>
          <a:stretch/>
        </p:blipFill>
        <p:spPr>
          <a:xfrm>
            <a:off x="-42840" y="450720"/>
            <a:ext cx="9040680" cy="1170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24139"/>
                </a:solidFill>
                <a:latin typeface="Franklin Gothic Book"/>
              </a:rPr>
              <a:t>على ماذا ركز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فكير – تسييد قيم العقل – نبذ السلطات على العقل سواء دينية او سياسية او اجتماعية – الانسان ذو عقل ناق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 الواقعية اللفظية ( الانسانية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الواقعية الاجتماع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الواقعية الحسية ( العلمية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8:45:04Z</dcterms:created>
  <dc:creator>ام يزيد</dc:creator>
  <dc:description/>
  <dc:language>en-US</dc:language>
  <cp:lastModifiedBy>aaaa</cp:lastModifiedBy>
  <dcterms:modified xsi:type="dcterms:W3CDTF">2013-02-08T20:24:48Z</dcterms:modified>
  <cp:revision>19</cp:revision>
  <dc:subject/>
  <dc:title>المحاضرة الاولى</dc:title>
</cp:coreProperties>
</file>