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D78-5D25-47D1-87A7-AD42BD2A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4BB1-E237-41FD-B30F-689373DA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F2761-36F5-4A1B-8CFC-A9337A3A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C6F88-426A-4092-90B1-57255775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C540C-26B0-47FD-AE49-442150D4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3C817-7F76-406F-B402-0CCA106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51082-B9B5-4567-9BF1-83523EEE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AB3E9-460E-471E-AC5B-7E0BA39C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8E161-09E8-4FD4-9A61-B21A42C3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72C18-9817-499C-86D3-3CB6F691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365CC-FE6F-4D48-883B-2A2F103B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36C-1E9E-4350-A03D-AF73B9A5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C6A-564F-495A-80C8-4417C063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CC27-4F20-4BE0-BDF4-E66C4C6A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1307-0CE2-43E1-8608-31076333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2A7C-85D2-444C-89AE-B34F11B5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9EEF-9C9C-4833-BA91-2CFFB82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E69B-570C-4387-AF90-471F9E8D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6C8C-EE66-4B88-91BE-4DBFD1AB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6ECF-E1E7-4091-AE21-5F65FA5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F12-92FB-460E-BA91-F91BC8B9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A39-5E37-43AF-8A01-29995F21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D915-59A9-4BD4-BAA3-4503C6C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6A9B-4073-4D44-BB3E-EE96D37C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2225-8969-4175-8DAE-4B3CFB82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0005-1CE0-4259-ACCC-F452E272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A927A-45F1-42CD-ACD1-14915FB1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56F7-31F7-4C2E-9592-E85726BB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70D08-BFA5-493C-AD50-5B32844A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B15B-D654-4DE5-AFC5-C096FFF7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8218-5761-4CE7-9E40-5476BD5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698-E01F-45F1-93A6-C4B6A3E7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F8AC-82A2-4731-9FBC-CD67EF34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0991-814F-45A6-8463-BAECD05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695C-768A-4421-8A1E-A4663E78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5505C-3CF5-47CD-B13A-D2BBE10E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FCE1D-AC06-4965-B022-244EFF21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CE725-C603-4F6D-8EB0-53093C70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0240-2564-485D-8485-B4542DF6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259D-4402-428A-A5F5-926F36FD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85E9D-A45F-40A6-8C62-41FAC8C3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9787-DE74-44EE-AF35-F25E2660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D74-0C0E-4DB0-B98F-C6C50C54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5356-4164-49AD-A801-6B0D5DC8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3C17-D3BE-4AE0-AB65-E6DB82A0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F7DB1-1E5C-4670-A347-D21E4A77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7E11-8D83-48B0-BB57-58FA2248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F502-70DB-4EC4-948B-5F33ACD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7B25-AC55-426B-A793-21B7525E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59FC6-E530-4F55-8BB3-A66E7AE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DCD5E-CE2E-4AD0-BAD6-FDBDA815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ABFA-FE2A-42B8-BCF6-90B442F4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68A8A-B84C-4F18-B764-DD043E38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095-0E34-4CDC-941D-53F6E8B2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D4E06-7956-44ED-B693-986C9945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1629-0D8B-43C7-9A90-3F06EAE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39C7F-24B9-43C9-BEC8-3CD361C6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ED832-15FC-4A0E-B619-BA549105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5DFE-58D6-4175-97E9-F56A9E7D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7B552-C8EA-4F54-8D14-7D5BD74B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3350-DB70-4D52-9121-675919C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28FF2-C42D-4FFC-9D33-AA9F107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4AB8C-CBB9-44C4-9209-8E6B06E7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A64D-D623-4871-B34E-95ABC6D2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FE1-DCBA-4C4C-9166-016C17F2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1EEC3-508E-4CAD-9D93-1F75203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0E5E-5118-4F57-9603-88C83777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BCD3C-718E-4184-B68F-94B78ADC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E440B-B26F-47AB-8081-2E3920A0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6BB1A-928C-43CB-A98D-C2475A9A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12904-CA8F-47F5-A355-D42D9FEE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8003E-A9BA-40A2-9CFF-BCD3E6CD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5C94-DEC2-4CA3-82D8-EAB32A0E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4AF43-3EFE-4AEE-B3FA-D1F091A5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6EE29-83A1-4E54-9EA0-786BBDF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FFF-A515-4EBC-8D2A-94096624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75D7E-81E6-43C5-92AB-28820642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0B1E2-33AF-4A3E-9658-97F5676E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01888-F267-456A-B18E-623A613A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2A88E-655A-4BB9-B440-31DF46E1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96C7B-614F-44A8-820F-6FF98D47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3116D-9AB2-47FA-9E75-9DB0D406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9B00-408C-4B99-AC21-92A3F13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CEC77-98EF-4D55-81F2-9F239B4C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7612-4993-49C2-BAB8-43A622E8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A5B62-74CA-4421-9756-3DED5AF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50C9-9BD8-4347-8046-23550E7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CD39D-85AB-407A-B82A-93472C26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7F2F-F263-43FE-93B1-48A99139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FBAFC-59B6-44A3-B5E6-47951B2D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58A08-E9FC-45F9-9232-B7B06FFA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6BC04-C248-448B-9E1A-D0165FC9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5F4FF-BF4D-45AA-9899-AED03037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4BE28-F276-4370-9D79-3B628AA6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2E897-78D1-49F8-B742-218662D2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F2D0C-8AFE-4FAE-B258-05538356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A0CCB-00B7-4EEF-8CEA-61C1E3BE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D72-D875-4168-9549-7F33554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F139D-70C7-47D8-9A1B-662FFC2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C8150-4110-44A8-BDA5-E6159445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47B97-D609-48F1-90C5-F7085C75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77E77-327A-4F22-A93A-BF2E00DD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8B120-7D66-44F9-AD02-E7C5304C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A7E29-F3CE-4E2B-B24D-D622E532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8B979-F72D-4628-A9C8-AE5B3F8F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94C77-ACDF-436A-9DB6-AA10088F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91AA1-D51D-4969-AFF6-D181381A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E558A-9C07-482F-83CA-635DCD3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DC3E-0988-4BF4-9536-09C58F53154F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رابط مستقيم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8B96-8157-4EC2-BC07-117F31C1644A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رابط مستقيم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رابط مستقيم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رابط مستقيم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رابط مستقيم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رابط مستقيم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رابط مستقيم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8F7A-1B3E-4D46-A26F-B917130E812F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رابط مستقيم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4473-581D-4854-BD55-4C5CE60AE60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رابط مستقيم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5DF1-E60F-41F7-A01E-C3DAB2126D71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61C0-6CBD-449C-A997-2EDF942019F0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رابط مستقيم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رابط مستقيم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295B-AAE7-4918-9181-31055EBFB02D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97AE-6726-406C-BC48-53423B3C5A6E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2A65-A732-4DF9-B3F5-EACF76376FE6}" type="slidenum">
              <a:rPr b="0" lang="ar-SA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عنوان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43329"/>
                </a:solidFill>
                <a:latin typeface="Franklin Gothic Book"/>
              </a:rPr>
              <a:t>تعريف الاتجاه ، انواعه ، مكوناته ، اهداف دراسته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43329"/>
                </a:solidFill>
                <a:latin typeface="Franklin Gothic Book"/>
              </a:rPr>
              <a:t>الاتجاه الواقعي \ كومينو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عنوان 1" descr=""/>
          <p:cNvPicPr/>
          <p:nvPr/>
        </p:nvPicPr>
        <p:blipFill>
          <a:blip r:embed="rId1"/>
          <a:stretch/>
        </p:blipFill>
        <p:spPr>
          <a:xfrm>
            <a:off x="-42840" y="450720"/>
            <a:ext cx="9040680" cy="1170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هتم بالطفول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طفل هبه من الله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انسان خير بالفطر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خير نموذج يحتذى لتربية الاطفال هو الطبيع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طفل كبذرة النبات – كالطائر الصغير – الربيع يمثل مرحلة الطفول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كتشاف الطبيع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دريب العمل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نهج الباناسوفيا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اهتمام بالمدار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سلم التعليمي منظ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دريب الحوا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لغة الام ، المعرفة لاتصل العقل الا باستخدام الحواس ، التحلي بالفضيلة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هم فكرتين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قليد الطبيعة في الترب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عرفة الشامل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نظام التعليم 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درسة الا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درسة الاول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رحلة الثانوية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جامع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مناهج الدراسة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علو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لغات الاجنبية + لغة الام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طريقة التدريس 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حواس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صفات المعلم الجي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ستثارة رغبة المتعلمي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جوائ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رايه في العقاب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الفهم يسبق الحفظ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عدم فصل الموا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مختصرا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تربية البنات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حو الام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عليم المهني والحرف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عنوان 1" descr=""/>
          <p:cNvPicPr/>
          <p:nvPr/>
        </p:nvPicPr>
        <p:blipFill>
          <a:blip r:embed="rId1"/>
          <a:stretch/>
        </p:blipFill>
        <p:spPr>
          <a:xfrm>
            <a:off x="-36360" y="450720"/>
            <a:ext cx="9034200" cy="1170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الحواس ثم الذاكرة ثم الفكر ثم الملكة الناقد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تنمية الحواس ( من 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1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-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6</a:t>
            </a: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 سنوات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كتاب ( عالم الصور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b2c24"/>
                </a:solidFill>
                <a:latin typeface="Franklin Gothic Book"/>
              </a:rPr>
              <a:t>استغلال المواهب الطبيعية : الحواس والعقل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اصول طريقة التدريس عند كومينوس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العلوم التي يجب ان يبدا اهتمام الطفل بها منذ سنوات حياته المبكر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 قواعد التربية الخلقي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كيف نساعد الاباء في تربية اطفالهم قبل المدرسة الاولية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Franklin Gothic Book"/>
              </a:rPr>
              <a:t>مافوائد الكتاب المصور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07172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تعريف الاتجاه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عرف "كامبل" الاتجاه تعريفا اجرائيا بانه (محصلة دائمة من الاستجابات المتماثلة نحو من المواقف الاجتماعية 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الحالة الوجدانية القائمة وراء راي الشخص واعتقاده فيما يتعلق بموضوع معين من حيث رفضه او قبوله ودرجة الرفض والقبول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توجه ثابت بمكونات ثلاثية معرفية ، وجدانية ، سلوكي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وعرفت الاتجاهات الوالدية بانها ( مايراه الابوان ومايتمسكان به من اساليب في معاملة الطفل في مواقف الحياة المختلفة )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 u="sng">
                <a:solidFill>
                  <a:srgbClr val="4e3b30"/>
                </a:solidFill>
                <a:uFillTx/>
                <a:latin typeface="Franklin Gothic Book"/>
              </a:rPr>
              <a:t>انواع الاتجاهات :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فردية وجماعي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موجبة وسالب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خاصة وعام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4e3b30"/>
                </a:solidFill>
                <a:latin typeface="Franklin Gothic Book"/>
              </a:rPr>
              <a:t>* سرية ومعلنة 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6840" y="999720"/>
            <a:ext cx="8186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ثالثا : مكونات الاتجاه</a:t>
            </a: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عاطفي ( شعور عام يؤثر في استجابة الفرد : قبول موضوع الاتجاه او رفضه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معرفي ( ينطوي على وجهة نظرالفرد ذات العلاقة بموقفه من موضوع الاتجاه وتتكون من خلال المعلومات والحقائق المتوفرة حول موضوع الاتجاه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المكون السلوكي (نزعة للسلوك من انماط محددة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رابعا : اهداف دراسة الاتجاهات الحديثة في تربية الطفل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فهم الاتجاهات الحديثة والمعاصرة في تربية الطفل في المجالات المختلفة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مهمة في تاثيرها على السلوك التعليمي والتربوي لمعلمات رياض الاطفال والمربيات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e3b30"/>
                </a:solidFill>
                <a:latin typeface="Franklin Gothic Book"/>
              </a:rPr>
              <a:t>* الاستفادة من تلك الاتجاهات في وضع برامج ومناهج رياض الاطفال وتجديدها لمواكبة المسيرة الحديثة في التربية 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ساد الاتجاه الواقعي اوروبا منذ عصر النهضة أي بعد العصور الوسطى ( عصور الظلام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سميت التربية في عصر النهضة =</a:t>
            </a:r>
            <a:r>
              <a:rPr b="0" lang="ar-SA" sz="3200" spc="-1" strike="noStrike">
                <a:solidFill>
                  <a:srgbClr val="ff0000"/>
                </a:solidFill>
                <a:latin typeface="Franklin Gothic Book"/>
              </a:rPr>
              <a:t> التربية الحديث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عنوان 1" descr=""/>
          <p:cNvPicPr/>
          <p:nvPr/>
        </p:nvPicPr>
        <p:blipFill>
          <a:blip r:embed="rId1"/>
          <a:stretch/>
        </p:blipFill>
        <p:spPr>
          <a:xfrm>
            <a:off x="-42840" y="450720"/>
            <a:ext cx="9040680" cy="11764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c4c2c"/>
                </a:solidFill>
                <a:latin typeface="Franklin Gothic Book"/>
              </a:rPr>
              <a:t>التربية ف عصر النهضة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دريب الجسد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حرير العقل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ركيز على الدراسات الواقعي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a27242"/>
                </a:solidFill>
                <a:latin typeface="Franklin Gothic Book"/>
              </a:rPr>
              <a:t>التربية في العصور الوسط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قسوة – قهر الجسد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ضييق الحرية في التفكير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e3b30"/>
                </a:solidFill>
                <a:latin typeface="Franklin Gothic Book"/>
              </a:rPr>
              <a:t>تركيز على الدراسات اللفظية والجدلية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سياسة .....  ظهرت القوميات واستعاد الملوك قوتهم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دين ... ضعفت سلطة الكنيسة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مجتمع ... ثورة الفلاحين ، التجار ، الصناع ( تطور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اقتصاد ... التجارة ، الصناعة ، البنوك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الفكر .. الاهتمام بالفرد ( ظهر الاتجاه الانساني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4e3b30"/>
                </a:solidFill>
                <a:latin typeface="Franklin Gothic Book"/>
              </a:rPr>
              <a:t>        انتقاد الكنيسة ( ظهرت حركة الاصلاح الديني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حركة الاصلاح الديني      و     الحركة الانسان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                </a:t>
            </a:r>
            <a:r>
              <a:rPr b="0" lang="ar-SA" sz="3200" spc="-1" strike="noStrike">
                <a:solidFill>
                  <a:srgbClr val="7c4b3b"/>
                </a:solidFill>
                <a:latin typeface="Franklin Gothic Book"/>
              </a:rPr>
              <a:t>اصيبت بالجموووووو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c4b3b"/>
                </a:solidFill>
                <a:latin typeface="Franklin Gothic Book"/>
              </a:rPr>
              <a:t>          اصبحت مدارسهم شكلية تهتم باللغة اللاتين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مـــــــــــاذا نتـــــــــــــــج عن ذلــــــــــــــــــــــك ؟؟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عنوان 1" descr=""/>
          <p:cNvPicPr/>
          <p:nvPr/>
        </p:nvPicPr>
        <p:blipFill>
          <a:blip r:embed="rId1"/>
          <a:stretch/>
        </p:blipFill>
        <p:spPr>
          <a:xfrm>
            <a:off x="-42840" y="450720"/>
            <a:ext cx="9040680" cy="1170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24139"/>
                </a:solidFill>
                <a:latin typeface="Franklin Gothic Book"/>
              </a:rPr>
              <a:t>على ماذا ركز 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التفكير – تسييد قيم العقل – نبذ السلطات على العقل سواء دينية او سياسية او اجتماعية – الانسان ذو عقل ناق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عنوان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70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 الواقعية اللفظية ( الانسانية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الواقعية الاجتماعية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ar-SA" sz="3200" spc="-1" strike="noStrike">
                <a:solidFill>
                  <a:srgbClr val="4e3b30"/>
                </a:solidFill>
                <a:latin typeface="Franklin Gothic Book"/>
              </a:rPr>
              <a:t>- الواقعية الحسية ( العلمية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18:45:04Z</dcterms:created>
  <dc:creator>ام يزيد</dc:creator>
  <dc:description/>
  <dc:language>en-US</dc:language>
  <cp:lastModifiedBy>aaaa</cp:lastModifiedBy>
  <dcterms:modified xsi:type="dcterms:W3CDTF">2013-02-08T20:24:48Z</dcterms:modified>
  <cp:revision>19</cp:revision>
  <dc:subject/>
  <dc:title>المحاضرة الاولى</dc:title>
</cp:coreProperties>
</file>