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070-2DC8-4740-BC5B-E70E8571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0ED-67C3-43A4-AA88-3041BD5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B78-368D-4091-A8D5-F74048F8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49E-BAA0-40B1-A7CA-DD5529FB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8EF-1C58-4A9E-AEF4-2FEA1866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18D-2691-4FB2-917F-31CBD6A2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468-7775-474F-BAF7-20B5E609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8C4-826A-4DC4-AB83-3AE3E515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E81-DFA7-4CEC-A855-4151AB9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072-6FA5-409B-B99E-EC5C2ED4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DCC-44C6-410A-B235-1E5B473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1A1-02B1-42E6-9FA1-4EE20BA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E9D-CB6D-46B0-A50F-2C923A7A9A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ndalus"/>
                <a:cs typeface="Andalus"/>
              </a:rPr>
              <a:t>المحاضرة الأولى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ماهية التربية الدينية واهميتها واهداف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من ص 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7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 الى ص 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19</a:t>
            </a: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cc"/>
                </a:solidFill>
                <a:latin typeface="Calibri"/>
              </a:rPr>
              <a:t>معنى الأخلا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عنصر نائب للمحتوى 2" descr=""/>
          <p:cNvPicPr/>
          <p:nvPr/>
        </p:nvPicPr>
        <p:blipFill>
          <a:blip r:embed="rId2"/>
          <a:stretch/>
        </p:blipFill>
        <p:spPr>
          <a:xfrm>
            <a:off x="298440" y="1335240"/>
            <a:ext cx="83948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ماهي الوظائف التي يؤديها الخلق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- يجعل سلوك الإنسان متصفا بالثبات والتماسك والتواف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يمكن التنبؤ بتصرف الشخص وسلوكه في المواقف ال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جعل الفرد يتجه بانتظام وباستمرار نحو غاياته العظم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984807"/>
                </a:solidFill>
                <a:latin typeface="Calibri"/>
              </a:rPr>
              <a:t>يمكن الفرد من اختيار المسلك السليم مهما كان الاختيار قاسيا ومسلكه صعب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دين الإسلامي والأخلا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ff"/>
                </a:solidFill>
                <a:latin typeface="Calibri"/>
              </a:rPr>
              <a:t>الأخلاق الإسلامية منبعثة من الدين الإسلامي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4b4b"/>
                </a:solidFill>
                <a:latin typeface="Calibri"/>
              </a:rPr>
              <a:t>وهي غير مرتبطة بمنفعة أو مصلح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لذلك فهي ثابتة ولا تتغير لان المسلم يتلقى الأوامر من الله عزوج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ff00"/>
                </a:solidFill>
                <a:latin typeface="Calibri"/>
              </a:rPr>
              <a:t>وهناك عدد من النصوص الدينية التي تحث على التحلي بحسن الخلق ومكارم 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66"/>
                </a:solidFill>
                <a:latin typeface="Arabic Typesetting"/>
                <a:cs typeface="Arabic Typesetting"/>
              </a:rPr>
              <a:t>قال رسول الله صلى الله عليه وسلم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( إنما بعثت لأتمم مكارم الأخلا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( إن أحبكم إلي وأقربكم مني منازل يوم القيامة احاسنكم     أخلاق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 ( خير مااعطي الناس خلقٌ حسن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( إن أفضل شئ في الميزان الخلق الحسن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     ( أن خياركم احاسنكم أخلاقا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أخلاق والسلو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</a:rPr>
              <a:t>إن الخلق الفاضل يدفع صاحبه إلى أن يسعى ويعمل بعقل وروية على تخير الوسائل التي يدرك بها الغرض الأسم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الغاية والوسيلة في الأخلاق اسمان لشئ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Calibri"/>
              </a:rPr>
              <a:t>الأخلاق ليست وسيلة إلى خير الجماعة فقط ولكنها غاية في حد ذات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والتربية تكون ناقصة إذا لم تهتم ب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Calibri"/>
              </a:rPr>
              <a:t>التربية الكاملة هي التي تتخذ الأخلاق أساسا ل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والتربية تهدف إلى تهذيب الأخلاق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53735"/>
                </a:solidFill>
                <a:latin typeface="Arabic Typesetting"/>
                <a:cs typeface="Arabic Typesetting"/>
              </a:rPr>
              <a:t>أهمية التربية الدينية والخلقية للأطفال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Calibri"/>
              </a:rPr>
              <a:t>أهم الاعتبارات الأساسية التي تستمد منها التربية أهميتها وخاصة في مرحلة الطفولة مايل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000" spc="-1" strike="noStrike">
                <a:solidFill>
                  <a:srgbClr val="558ed5"/>
                </a:solidFill>
                <a:latin typeface="Calibri"/>
              </a:rPr>
              <a:t>- مااقره الإسلام من عقيدة التوحيد ومن تنظيم لحياة الإنسان والمجتمع لذا فالتربية الدينية تغرس في الأطفال التمسك بالعقيدة الإسلامية باعتبارها مصدر الخير والقو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000" spc="-1" strike="noStrike">
                <a:solidFill>
                  <a:srgbClr val="953735"/>
                </a:solidFill>
                <a:latin typeface="Calibri"/>
              </a:rPr>
              <a:t>الحاجة الأصيلة في النفس البشرية إلى العقيدة الدينية فالإيمان لازم في حياة الإنسان وهو مصدر القوة والاطمئنان وفق ماتؤكده الدراسات النفس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000" spc="-1" strike="noStrike">
                <a:solidFill>
                  <a:srgbClr val="7030a0"/>
                </a:solidFill>
                <a:latin typeface="Calibri"/>
              </a:rPr>
              <a:t>ماتشكو منه الحضارات المعاصرة من انحلال وتبذل وانغماس في الشهوات نتيجة البعد عن الدين وعدم التمسك بالقيم الدين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داف التربية الدينية والخلقية للأطف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إيقاظ إحساس الأطفال بقدرة الله : ويتم ذلك عن طريق تشجيع ميل الأطفال التلقائي إلى استطلاع عجائب الكون التي تدل على عظمة الخالق ، ومن خلال إجابات الكبار بصدق عن أسئلة الأطفال وأيضا ملاحظة الأطفال لنمو النبات والحيوان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نمية إيمان الأطفال بالله خالق الكون : ويتم ذلك من خلال تحفيظ الأطفال بعض السور القصيرة وتعويدهم على شكر نعمة الله واصطحاب الأطفال إلى المساجد والاستماع إلى قصص الأنبياء وأبطال الإسل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6600ff"/>
                </a:solidFill>
                <a:latin typeface="Calibri"/>
              </a:rPr>
              <a:t>استثارة عاطفة التراحم والشفقة : ويتم ذلك من خلال زيارة مؤسسات ترعى الفقراء وحث الأطفال على تقديم هدايا لنزلائها والتصدق وتعويدهم على مد يد العون للآخر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</a:rPr>
              <a:t>تغذية النزعة الجمالية في الأطفال : بإتاحة الفرصة لهم بالاستمتاع بمشاهدة الطبيعة وتذوق جمالها والتعبير عن الفنون المختلف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3200" spc="-1" strike="noStrike">
                <a:solidFill>
                  <a:srgbClr val="660066"/>
                </a:solidFill>
                <a:latin typeface="Calibri"/>
              </a:rPr>
              <a:t>مساعدة الأطفال على تطبيق القيم الإسلامية : وذلك من خلال ممارسة العادات الصحيحة في حياتهم اليومية وتمييزهم بين الصواب والخطأ واحترام قواعد السلو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071360"/>
            <a:ext cx="7686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نتهت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المحاضرة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3" descr="اححمر.jpg"/>
          <p:cNvPicPr/>
          <p:nvPr/>
        </p:nvPicPr>
        <p:blipFill>
          <a:blip r:embed="rId2"/>
          <a:stretch/>
        </p:blipFill>
        <p:spPr>
          <a:xfrm>
            <a:off x="500040" y="1071720"/>
            <a:ext cx="25002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6c0a"/>
                </a:solidFill>
                <a:latin typeface="Andalus"/>
                <a:cs typeface="Andalus"/>
              </a:rPr>
              <a:t>ماهية التربية الدينية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04a7b"/>
                </a:solidFill>
                <a:latin typeface="Calibri"/>
              </a:rPr>
              <a:t>تهتم التربية الدينية بــ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ترسيخ الإيمان بالله في نفوس الأطفا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الإسلام خاتم رسالات السماء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ما اقره الدين من مكانة الإنسان في الوجود وفي المجتم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بغرس القيم الإنسانية النبيلة التي نادى بها الدين الإسلامي في نفوس الأطفال ، وتنشئتهم على الأخلاق الفاضلة وعلى المحبة والتعاون بين أفراد المجتم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ndalus"/>
                <a:cs typeface="Andalus"/>
              </a:rPr>
              <a:t>معنى الدي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الاستسلام والخضوع والانقياد لل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معنى اللغوي للد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4b4b"/>
                </a:solidFill>
                <a:latin typeface="Calibri"/>
              </a:rPr>
              <a:t>يشتق الدين في اللغة من الفعل دان ومعناه خضع واطا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في اللغة دان أي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</a:rPr>
              <a:t>ملكه وحكمه ، او ساسه ودبره ، او قهره وحاسبه ، او جازاه وكافأ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lnSpc>
                <a:spcPct val="90000"/>
              </a:lnSpc>
              <a:spcBef>
                <a:spcPts val="601"/>
              </a:spcBef>
              <a:buClr>
                <a:srgbClr val="8eb4e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يوم الد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3200" spc="-1" strike="noStrike">
                <a:solidFill>
                  <a:srgbClr val="4a452a"/>
                </a:solidFill>
                <a:latin typeface="Calibri"/>
              </a:rPr>
              <a:t>يوم الحساب والجز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ويقال دان فلان لفلان : </a:t>
            </a:r>
            <a:r>
              <a:rPr b="0" lang="ar-SA" sz="3200" spc="-1" strike="noStrike">
                <a:solidFill>
                  <a:srgbClr val="009900"/>
                </a:solidFill>
                <a:latin typeface="Calibri"/>
              </a:rPr>
              <a:t>أي خضع له واطاعه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ويقال دان فلان بكذا : </a:t>
            </a:r>
            <a:r>
              <a:rPr b="0" lang="ar-SA" sz="3200" spc="-1" strike="noStrike">
                <a:solidFill>
                  <a:srgbClr val="ff0066"/>
                </a:solidFill>
                <a:latin typeface="Calibri"/>
              </a:rPr>
              <a:t>أي اعتقده واعتاده واتخذه مذهباً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ل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من هنا كان الدين لغة 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العادة والشأ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ان الهدف النهائي من الدين هو أن يتحول الدين إلى مجموعة من السلوكيات التي يعتادها الإنسا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جاء في المعجم الوسيط ان الدي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مايتدين به الإنسان . وهو الاعتقاد بالجنان . والإقرار باللسان . وعمل الجوارح بالأركان 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</a:rPr>
              <a:t>ويحدد الدين بأنه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عادة ، والسيرة ، والحال ، والشأن ، والور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76092"/>
                </a:solidFill>
                <a:latin typeface="Arabic Typesetting"/>
                <a:cs typeface="Arabic Typesetting"/>
              </a:rPr>
              <a:t>المعنى الاصطلاحي للدين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يمان بشئ معين ، والسير على هداه 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 rtl="1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معنى الدين في الشريعة الإسلامية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رى علماء الدين الإسلامي أن الد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مجموعة من العقائد والقواعد والأحكام التي شرعها الله لعباده باختيارهم الرشيد الحميد إلى ماينفعهم وتصلح به حياته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6c0a"/>
                </a:solidFill>
                <a:latin typeface="Comic Sans MS"/>
              </a:rPr>
              <a:t>بماذا فُسر الدين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فُسر الدين بمعن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شريعة في </a:t>
            </a: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إن الدين عند الله الإسلام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فُسر الدين بمعن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الطاعة في </a:t>
            </a: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قوله تعال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” ومن احسن ديناً ممن اسلم وجهه لله وهو محسن 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84807"/>
                </a:solidFill>
                <a:latin typeface="Arabic Typesetting"/>
                <a:cs typeface="Arabic Typesetting"/>
              </a:rPr>
              <a:t>الدين والارتقاء العقلي والاجتماعي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هتم الدين الإسلامي بالحث على تعليم الأطفال تعاليم الدين منذ طفولتهم المبك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وبما أن الأصول الدينية عبارة عن مجردات فهي تحتاج من اجل فهمها إلى بعض القدرات العقلية كالتخيل والتصو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الأطفال في سنواتهم الأولى وحتى العاشرة ليس لديهم قدرة على التفكير المجرد وإنما تفكيرهم يكون حسياً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Calibri"/>
              </a:rPr>
              <a:t>وكلما تقدم الأطفال في العمر يميل تفكيرهم إلى الموضوع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Calibri"/>
              </a:rPr>
              <a:t>ويصبحون أكثر قدرة على فهم المجردات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ماهي علاقة الطفل بالدين في الطفولة المبكرة 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علاقة نفعية من طرف واحد ( علاقة أنانية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6c0a"/>
                </a:solidFill>
                <a:latin typeface="Calibri"/>
              </a:rPr>
              <a:t>حيث يعتقد بأن الله هو ربه وحده فق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ان الدين الذي يعتنقه هو وأسرته لايعتنقه احد سوا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ومع تقدم الطفل في العمر يتمكن من إدراك أن الله هو رب العالمين جميعاً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وان الدين الذي يؤمن به هو دين يؤمن به أطفال آخرون في اسر أخرى كثير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76092"/>
                </a:solidFill>
                <a:latin typeface="Calibri"/>
              </a:rPr>
              <a:t>أي انه يخرج من حدود ذاته الضيقة ويتمكن من الربط بين ذاته وبين العالم في آن واحد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دين والاخلا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7933c"/>
                </a:solidFill>
                <a:latin typeface="Calibri"/>
              </a:rPr>
              <a:t>ترتبط الأخلاق بالدين ارتباطاً وثيقاً ، وتتفق جميع الديانات على أهمية الدين ، والأخلاق هي الحارس الذي يحمي المجتمعات من الانهيار والانحلال والضيا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58ed5"/>
                </a:solidFill>
                <a:latin typeface="Calibri"/>
              </a:rPr>
              <a:t>يقول ويلز عن أهمية الأخلاق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53735"/>
                </a:solidFill>
                <a:latin typeface="Calibri"/>
              </a:rPr>
              <a:t>لو بذل الإنسان في سبيل السيطرة على كبح جماع نفسه بعض مابذله من الجهد في السيطرة على قوى الطبيعة ، لكان عالمنا اليوم عالم طهــــــــــــــــارة وسعــــــــــــــــاد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1:06:39Z</dcterms:created>
  <dc:creator>FFC</dc:creator>
  <dc:description/>
  <dc:language>en-US</dc:language>
  <cp:lastModifiedBy>DELL</cp:lastModifiedBy>
  <dcterms:modified xsi:type="dcterms:W3CDTF">2011-12-11T16:49:30Z</dcterms:modified>
  <cp:revision>40</cp:revision>
  <dc:subject/>
  <dc:title>المحاضرة الأولى</dc:title>
</cp:coreProperties>
</file>