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01A-A677-4AAB-988F-AAB8B665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CBC-FFF8-46C1-B0E0-E3849EB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6A3-C5BB-42B7-8380-9502BECA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230-C109-42D3-8C67-68CEAB7A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D3B-9BB5-4325-9A8E-BD7DC77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95E-AC79-4BEC-9B93-D4B33724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B92-2E1B-4FE4-AFA8-49E60E88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A3-7AA7-42C7-BC20-3E7806E3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08B-992F-4297-B0B3-3039A77E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87E-6354-4F98-B192-803F929B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61D-0BF3-4F85-AD7A-3EECFC80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1BD-741C-4C7D-8EEC-6E7F7C0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538-D447-4FC4-80B1-607C7976CF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ndalus"/>
                <a:cs typeface="Andalus"/>
              </a:rPr>
              <a:t>المحاضرة الأولى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ماهية التربية الدينية واهميتها واهداف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من ص 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7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 الى ص 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19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cc"/>
                </a:solidFill>
                <a:latin typeface="Calibri"/>
              </a:rPr>
              <a:t>معنى الأخلا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98440" y="1335240"/>
            <a:ext cx="83948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ماهي الوظائف التي يؤديها الخلق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يجعل سلوك الإنسان متصفا بالثبات والتماسك والتواف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يمكن التنبؤ بتصرف الشخص وسلوكه في المواقف ال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جعل الفرد يتجه بانتظام وباستمرار نحو غاياته العظم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984807"/>
                </a:solidFill>
                <a:latin typeface="Calibri"/>
              </a:rPr>
              <a:t>يمكن الفرد من اختيار المسلك السليم مهما كان الاختيار قاسيا ومسلكه صعب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دين الإسلامي والأخلا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ff"/>
                </a:solidFill>
                <a:latin typeface="Calibri"/>
              </a:rPr>
              <a:t>الأخلاق الإسلامية منبعثة من الدين الإسلام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4b4b"/>
                </a:solidFill>
                <a:latin typeface="Calibri"/>
              </a:rPr>
              <a:t>وهي غير مرتبطة بمنفعة أو مصلح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لذلك فهي ثابتة ولا تتغير لان المسلم يتلقى الأوامر من الله عزوج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Calibri"/>
              </a:rPr>
              <a:t>وهناك عدد من النصوص الدينية التي تحث على التحلي بحسن الخلق ومكارم 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abic Typesetting"/>
                <a:cs typeface="Arabic Typesetting"/>
              </a:rPr>
              <a:t>قال رسول الله صلى الله عليه وسلم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( إنما بعثت لأتمم مكارم الأخلا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( إن أحبكم إلي وأقربكم مني منازل يوم القيامة احاسنكم     أخلاق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 ( خير مااعطي الناس خلقٌ حسن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( إن أفضل شئ في الميزان الخلق الحسن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( أن خياركم احاسنكم أخلاق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أخلاق والسلو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</a:rPr>
              <a:t>إن الخلق الفاضل يدفع صاحبه إلى أن يسعى ويعمل بعقل وروية على تخير الوسائل التي يدرك بها الغرض الأسم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الغاية والوسيلة في الأخلاق اسمان لشئ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Calibri"/>
              </a:rPr>
              <a:t>الأخلاق ليست وسيلة إلى خير الجماعة فقط ولكنها غاية في حد ذات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والتربية تكون ناقصة إذا لم تهتم ب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Calibri"/>
              </a:rPr>
              <a:t>التربية الكاملة هي التي تتخذ الأخلاق أساسا ل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والتربية تهدف إلى تهذيب 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53735"/>
                </a:solidFill>
                <a:latin typeface="Arabic Typesetting"/>
                <a:cs typeface="Arabic Typesetting"/>
              </a:rPr>
              <a:t>أهمية التربية الدينية والخلقية للأطفال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</a:rPr>
              <a:t>أهم الاعتبارات الأساسية التي تستمد منها التربية أهميتها وخاصة في مرحلة الطفولة مايل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000" spc="-1" strike="noStrike">
                <a:solidFill>
                  <a:srgbClr val="558ed5"/>
                </a:solidFill>
                <a:latin typeface="Calibri"/>
              </a:rPr>
              <a:t>- مااقره الإسلام من عقيدة التوحيد ومن تنظيم لحياة الإنسان والمجتمع لذا فالتربية الدينية تغرس في الأطفال التمسك بالعقيدة الإسلامية باعتبارها مصدر الخير والقو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000" spc="-1" strike="noStrike">
                <a:solidFill>
                  <a:srgbClr val="953735"/>
                </a:solidFill>
                <a:latin typeface="Calibri"/>
              </a:rPr>
              <a:t>الحاجة الأصيلة في النفس البشرية إلى العقيدة الدينية فالإيمان لازم في حياة الإنسان وهو مصدر القوة والاطمئنان وفق ماتؤكده الدراسات النفس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</a:rPr>
              <a:t>ماتشكو منه الحضارات المعاصرة من انحلال وتبذل وانغماس في الشهوات نتيجة البعد عن الدين وعدم التمسك بالقيم الدين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داف التربية الدينية والخلقية للأطف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إيقاظ إحساس الأطفال بقدرة الله : ويتم ذلك عن طريق تشجيع ميل الأطفال التلقائي إلى استطلاع عجائب الكون التي تدل على عظمة الخالق ، ومن خلال إجابات الكبار بصدق عن أسئلة الأطفال وأيضا ملاحظة الأطفال لنمو النبات والحيوان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نمية إيمان الأطفال بالله خالق الكون : ويتم ذلك من خلال تحفيظ الأطفال بعض السور القصيرة وتعويدهم على شكر نعمة الله واصطحاب الأطفال إلى المساجد والاستماع إلى قصص الأنبياء وأبطال الإسل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6600ff"/>
                </a:solidFill>
                <a:latin typeface="Calibri"/>
              </a:rPr>
              <a:t>استثارة عاطفة التراحم والشفقة : ويتم ذلك من خلال زيارة مؤسسات ترعى الفقراء وحث الأطفال على تقديم هدايا لنزلائها والتصدق وتعويدهم على مد يد العون للآخر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</a:rPr>
              <a:t>تغذية النزعة الجمالية في الأطفال : بإتاحة الفرصة لهم بالاستمتاع بمشاهدة الطبيعة وتذوق جمالها والتعبير عن الفنون ال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660066"/>
                </a:solidFill>
                <a:latin typeface="Calibri"/>
              </a:rPr>
              <a:t>مساعدة الأطفال على تطبيق القيم الإسلامية : وذلك من خلال ممارسة العادات الصحيحة في حياتهم اليومية وتمييزهم بين الصواب والخطأ واحترام قواعد السلو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071360"/>
            <a:ext cx="7686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نتهت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لمحاضرة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3" descr="اححمر.jpg"/>
          <p:cNvPicPr/>
          <p:nvPr/>
        </p:nvPicPr>
        <p:blipFill>
          <a:blip r:embed="rId2"/>
          <a:stretch/>
        </p:blipFill>
        <p:spPr>
          <a:xfrm>
            <a:off x="500040" y="1071720"/>
            <a:ext cx="25002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6c0a"/>
                </a:solidFill>
                <a:latin typeface="Andalus"/>
                <a:cs typeface="Andalus"/>
              </a:rPr>
              <a:t>ماهية التربية الدينية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Calibri"/>
              </a:rPr>
              <a:t>تهتم التربية الدينية بــ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ترسيخ الإيمان بالله في نفوس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الإسلام خاتم رسالات السم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ما اقره الدين من مكانة الإنسان في الوجود وفي المجتم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غرس القيم الإنسانية النبيلة التي نادى بها الدين الإسلامي في نفوس الأطفال ، وتنشئتهم على الأخلاق الفاضلة وعلى المحبة والتعاون بين أفراد المجتم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معنى الدي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الاستسلام والخضوع والانقياد ل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معنى اللغوي للد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4b4b"/>
                </a:solidFill>
                <a:latin typeface="Calibri"/>
              </a:rPr>
              <a:t>يشتق الدين في اللغة من الفعل دان ومعناه خضع واطا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في اللغة دان أ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</a:rPr>
              <a:t>ملكه وحكمه ، او ساسه ودبره ، او قهره وحاسبه ، او جازاه وكافأ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lnSpc>
                <a:spcPct val="90000"/>
              </a:lnSpc>
              <a:spcBef>
                <a:spcPts val="601"/>
              </a:spcBef>
              <a:buClr>
                <a:srgbClr val="8eb4e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يوم الد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3200" spc="-1" strike="noStrike">
                <a:solidFill>
                  <a:srgbClr val="4a452a"/>
                </a:solidFill>
                <a:latin typeface="Calibri"/>
              </a:rPr>
              <a:t>يوم الحساب والجز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يقال دان فلان لفلان : </a:t>
            </a:r>
            <a:r>
              <a:rPr b="0" lang="ar-SA" sz="3200" spc="-1" strike="noStrike">
                <a:solidFill>
                  <a:srgbClr val="009900"/>
                </a:solidFill>
                <a:latin typeface="Calibri"/>
              </a:rPr>
              <a:t>أي خضع له واطاع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ويقال دان فلان بكذا : </a:t>
            </a:r>
            <a:r>
              <a:rPr b="0" lang="ar-SA" sz="3200" spc="-1" strike="noStrike">
                <a:solidFill>
                  <a:srgbClr val="ff0066"/>
                </a:solidFill>
                <a:latin typeface="Calibri"/>
              </a:rPr>
              <a:t>أي اعتقده واعتاده واتخذه مذهباً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ل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من هنا كان الدين لغة 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عادة والشأ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ان الهدف النهائي من الدين هو أن يتحول الدين إلى مجموعة من السلوكيات التي يعتادها الإنس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جاء في المعجم الوسيط ان الد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مايتدين به الإنسان . وهو الاعتقاد بالجنان . والإقرار باللسان . وعمل الجوارح بالأركان 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</a:rPr>
              <a:t>ويحدد الدين بأنه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عادة ، والسيرة ، والحال ، والشأن ، والور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76092"/>
                </a:solidFill>
                <a:latin typeface="Arabic Typesetting"/>
                <a:cs typeface="Arabic Typesetting"/>
              </a:rPr>
              <a:t>المعنى الاصطلاحي للدين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يمان بشئ معين ، والسير على هداه 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 rtl="1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معنى الدين في الشريعة الإسلامية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رى علماء الدين الإسلامي أن الد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مجموعة من العقائد والقواعد والأحكام التي شرعها الله لعباده باختيارهم الرشيد الحميد إلى ماينفعهم وتصلح به حياته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6c0a"/>
                </a:solidFill>
                <a:latin typeface="Comic Sans MS"/>
              </a:rPr>
              <a:t>بماذا فُسر الدين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فُسر الدين بمعن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شريعة في </a:t>
            </a: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إن الدين عند الله الإسلام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فُسر الدين بمعن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طاعة في </a:t>
            </a: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ومن احسن ديناً ممن اسلم وجهه لله وهو محسن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84807"/>
                </a:solidFill>
                <a:latin typeface="Arabic Typesetting"/>
                <a:cs typeface="Arabic Typesetting"/>
              </a:rPr>
              <a:t>الدين والارتقاء العقلي والاجتماعي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هتم الدين الإسلامي بالحث على تعليم الأطفال تعاليم الدين منذ طفولتهم المبك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وبما أن الأصول الدينية عبارة عن مجردات فهي تحتاج من اجل فهمها إلى بعض القدرات العقلية كالتخيل والتصو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الأطفال في سنواتهم الأولى وحتى العاشرة ليس لديهم قدرة على التفكير المجرد وإنما تفكيرهم يكون حسياً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Calibri"/>
              </a:rPr>
              <a:t>وكلما تقدم الأطفال في العمر يميل تفكيرهم إلى الموضو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Calibri"/>
              </a:rPr>
              <a:t>ويصبحون أكثر قدرة على فهم المجرد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ماهي علاقة الطفل بالدين في الطفولة المبكرة 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علاقة نفعية من طرف واحد ( علاقة أنانية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حيث يعتقد بأن الله هو ربه وحده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ان الدين الذي يعتنقه هو وأسرته لايعتنقه احد سوا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مع تقدم الطفل في العمر يتمكن من إدراك أن الله هو رب العالمين جميع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وان الدين الذي يؤمن به هو دين يؤمن به أطفال آخرون في اسر أخرى كثي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أي انه يخرج من حدود ذاته الضيقة ويتمكن من الربط بين ذاته وبين العالم في آن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دين والاخلا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ترتبط الأخلاق بالدين ارتباطاً وثيقاً ، وتتفق جميع الديانات على أهمية الدين ، والأخلاق هي الحارس الذي يحمي المجتمعات من الانهيار والانحلال والضيا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قول ويلز عن أهمية الأخلاق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لو بذل الإنسان في سبيل السيطرة على كبح جماع نفسه بعض مابذله من الجهد في السيطرة على قوى الطبيعة ، لكان عالمنا اليوم عالم طهــــــــــــــــارة وسعــــــــــــــــا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06:39Z</dcterms:created>
  <dc:creator>FFC</dc:creator>
  <dc:description/>
  <dc:language>en-US</dc:language>
  <cp:lastModifiedBy>DELL</cp:lastModifiedBy>
  <dcterms:modified xsi:type="dcterms:W3CDTF">2011-12-11T16:49:30Z</dcterms:modified>
  <cp:revision>40</cp:revision>
  <dc:subject/>
  <dc:title>المحاضرة الأولى</dc:title>
</cp:coreProperties>
</file>