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E9EC-3BE5-46C7-A25B-B7B033C25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961B-E141-4C0A-BAE0-2D53320F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3315-C70B-4E44-A557-BF7ACC53C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E4A8-96A4-4724-B6DF-F5AFA23D2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22CC-2FBB-45BF-82C0-6CE83F666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058F-ADB1-436F-BB32-6B91D47B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430D-F089-4BEC-97AA-8E4C815B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E8E-CEA9-40C8-9E05-51FEB9512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7C5-4D90-43D5-ACFE-3FA1F377C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485E-E959-462B-B924-CAE931406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C85F-5A47-4D10-B812-AF502FE7D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FACF-B154-4A35-80C7-AF357E87E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2EEE-1D7D-4EB5-9880-6B087783C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2A5E-45B1-496C-BA80-58E1AE7F5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F924-6720-4430-B6CE-FBACCCDC4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1E6-6577-4CA8-8B19-85A439B491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72F-EF04-42AC-9BFB-9CF4C3FF65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E73-3896-45C1-B9FB-01FF36C6A5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B82-9D9E-45FA-A145-9DAAE3E08C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61C-7221-48FB-926F-329C3004E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75B1-B4F4-4252-8F89-E6A93D5AC8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7EB-D9A2-4B10-87A6-E51F62B494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606-205B-4070-B35B-E2FECC202B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153-8F60-4FDE-9353-BAF5824FF6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123-8CC4-419A-9890-732C8952C4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27B-7A96-49BA-AF12-4BC77CA704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575-E50F-4FAF-868D-B8F87BF864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647-F051-42F1-A0A0-EF8D4F6389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ED2B-BEB1-49AE-B9EF-97A01DD61E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5FF3-399A-479A-BA3B-25423FC28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49DB-E337-4C31-BDFD-910A04CCF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9C1E-2550-4DB3-A942-9801FA456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1C96-2465-4AC5-867C-98DB35BCC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345E-B86F-48EF-B2A1-0B944A7BE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333F1D1D-93BA-424C-A700-C408F7A4584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Interest Rate Risk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1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7B1FDAA1-8A09-4E12-97F9-CDA8569F92B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is.org/" TargetMode="External"/><Relationship Id="rId2" Type="http://schemas.openxmlformats.org/officeDocument/2006/relationships/hyperlink" Target="http://www.sec.gov/" TargetMode="External"/><Relationship Id="rId3" Type="http://schemas.openxmlformats.org/officeDocument/2006/relationships/hyperlink" Target="http://www.wsj.com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emiannual Cash Flow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t is important to see that we must express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in years, and the present values are computed using the appropriate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periodic</a:t>
            </a:r>
            <a:r>
              <a:rPr b="1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rate. For semiannual cash flows, Macaulay duration, D is equal to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FB9CBD99-8676-4BEA-A024-4FBFEF49E07D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657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Duration of Zero-Coupon Bond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a zero-coupon bond, Macaulay duration equals maturity since 100% of its present value is generated by the payment of the face value, at 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all other bonds, duration &lt; 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AE48CC5E-FCEC-47E6-92E0-7E50A27723D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mputing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sider a 2-year, 8% coupon bond, with a face value of $1,000 and yield-to-maturity of 12%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upons are paid semi-annuall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refore, each coupon payment is $40 and the per period YTM is (1/2) × 12% = 6%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esent value of each cash flow equals C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÷ (1+ 0.06)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where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is the period numbe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C4AB2CDF-8F8B-4F17-BFC2-CDC5A2B1CE3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  </a:t>
            </a: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Duration of 2-year, 8% bond: </a:t>
            </a:r>
            <a:br>
              <a:rPr sz="3600"/>
            </a:b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   Face value = $1,000, YTM = 12%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380880" y="2014560"/>
          <a:ext cx="8358480" cy="45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14560"/>
                    <a:ext cx="835848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pecial Cas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urity of a consol (perpetuity)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 =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of a consol (perpetuity)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 = 1 + 1/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190391DB-1A2E-4551-BCC9-58F9C2F650C8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Features of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and 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increases with M, but at a decreasing rat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and yield-to-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decreases as yield increa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and coupon interes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decreases as coupon increa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C25FF633-086A-4C91-8FA5-4EC7C3694A78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conomic Interpretation 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is a measure of interest rate sensitivity or elasticity of a liability or asset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/P]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 = -D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r equivalently,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/P = -D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 = -MD × 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here MD is modified dur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5C5CBE5B-B3A5-42B5-8D9A-3E7814756F1A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conomic Interpret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o estimate the change in price, we can rewrite this a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 = -D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P = -(MD) × (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) × (P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ote the direct 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linear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relationship between 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 and -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51FA4FC9-B1D6-4143-B571-293D40223D6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ollar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ollar duration equals modified duration times pric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ollar duration = MD × Pric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sing dollar duration, we can compute the change in price a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Δ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-Dollar duration × 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</a:rPr>
              <a:t>Δ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R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44D19B9D-21D9-4052-9FBA-025E7E745494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Semi-annual Coupon Payments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ith semi-annual coupon payments the percentage change in price i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/P = -D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(R/2)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3EA5491D-14A3-4260-947B-DD388D4E956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verview</a:t>
            </a: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1417320"/>
            <a:ext cx="83822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s chapter discusses a market value-based model for assessing and managing interest rate risk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putation of 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conomic interpret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munization using 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roblems in applying 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EE593632-A388-4C2C-B6D1-8F4305A8C34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muniz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ching the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maturity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of an asset investment with a future payout responsibility does not necessarily eliminate interest rate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ching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durations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will immunize against changes in interest rat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41954095-8959-40E2-A2B3-343744B4A6A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An Exampl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sider three loan plans, all of which have maturities of 2 years. The loan amount is $1,000 and the current interest rate is 3%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#1 is a two-payment loan with two equal payments of $522.61 each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#2 is structured as a 3% annual coupon bond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#3 is a discount loan, which has a single payment of $1,060.90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92B6B9D0-D887-4AA0-8560-F4182529298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Duration as Index of Interest Rate Risk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graphicFrame>
        <p:nvGraphicFramePr>
          <p:cNvPr id="247" name="Object 2"/>
          <p:cNvGraphicFramePr/>
          <p:nvPr/>
        </p:nvGraphicFramePr>
        <p:xfrm>
          <a:off x="711360" y="1660680"/>
          <a:ext cx="79372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60680"/>
                    <a:ext cx="79372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Balance Sheet Immuniz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is a measure of the interest rate risk exposure for an FI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f the durations of liabilities and assets are not matched, then there is a risk that adverse changes in the interest rate will increase the present value of the liabilities more than the present value of assets is increas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4550638A-083C-46EC-9953-845089FBC5C5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 Gap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uppose that a 2-year coupon bond is the only loan asset (A) of an FI. A 2-year certificate of deposit is the only liability (L). If the duration of the coupon bond is 1.8 years, then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urity gap: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-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2 -2 = 0, bu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Gap: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-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1.8 - 2.0 = -0.2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posit has greater interest rate sensitivity than the bond, so DGAP is negativ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exposed to rising interest rat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A9480DF8-6AC5-4321-8F9F-DE5872A03282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Immunizing the Balance Sheet of an FI</a:t>
            </a: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Gap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rom the balance sheet, E=A-L. Therefore,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=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-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. In the same manner used to determine the change in bond prices, we can find the change in value of equity using duration.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 = [-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 +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]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/(1+R) o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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-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k]A(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/(1+R)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6B0E3AF7-5C8F-44E7-8C17-469EC9A1212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 and Immuniz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formula shows 3 effect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everage adjusted D-Gap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size of the FI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size of the interest rate shoc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82FA611D-7D7C-4209-9AEC-4DA67A20C4D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An Exampl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uppose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5 years,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3 years and rates are expected to rise from 10% to 11%. (Rates change by 1%). Also, A = 100, L = 90 and E = 10. Find change in E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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-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k]A[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= -[5 - 3(90/100)]100[.01/1.1] = - $2.09.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ethods of immunizing balance sheet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djust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,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or k.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C12E20A3-C4BD-44CA-A10B-8728B40A5CF6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     </a:t>
            </a: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Immunization and Regulatory Concerns</a:t>
            </a:r>
            <a:r>
              <a:rPr b="0" lang="en-US" sz="24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gulators set target ratios for an FI’s capital (net worth)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apital (Net worth) ratio = E/A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f target is to se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(E/A) = 0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ut, to se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 = 0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k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7A468683-C671-4166-8253-F695195B8490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Limitations of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228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munizing the entire balance sheet need not be costl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uration can be employed in combination with hedge positions to immuniz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munization is a dynamic process since duration depends on instantaneous 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arge interest rate change effects not accurately captur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19960" indent="-22392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nvexity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ore complex if nonparallel shift in yield curv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C297F177-BAFB-4C9D-A757-827853593B6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Price Sensitivity and Matur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general, the longer the term to maturity, the greater the sensitivity to interest rate chang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longer maturity bond has the greater drop in price because the payment is discounted a greater number of times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8ABB0F8F-49D4-44DD-BD62-EFCA2305D8E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nvex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duration measure is a linear approximation of a non-linear function. If there are large changes in R, the approximation is much less accurate. All fixed-income securities are convex. Convexity is desirable, but greater convexity causes larger errors in the duration-based estimate of price changes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352454AC-F9AF-4CB9-9E75-E91F625B3D6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nvex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ose who are familiar with calculus may recognize that duration involves only the first derivative of the price function. We can improve on the estimate using a Taylor expansion. In practice, the expansion rarely goes beyond second order (using the second derivative). This second order expansion is the convexity adjustment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C9EDFA0D-1B01-4089-9B3B-119AE9B4A75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Modified Duration &amp; Convex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/P = -D[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/(1+R)] + (1/2) CX (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or 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/P = -MD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  + (1/2) CX (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Where MD implies modified duration and CX is a measure of the curvature effect.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X = Scaling factor × [capital loss from 1bp rise in yield + capital gain from 1bp fall in yield]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monly used scaling factor is 10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F25477AB-5307-4735-B7FE-9AD367902416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Calculation of CX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ample: convexity of 8% coupon, 8% yield, six-year maturity Eurobond priced at $1,000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X = 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[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0" lang="en-US" sz="4000" spc="-1" strike="noStrike" baseline="30000">
                <a:solidFill>
                  <a:srgbClr val="333399"/>
                </a:solidFill>
                <a:latin typeface="Century Gothic"/>
              </a:rPr>
              <a:t>-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/P +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/P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= 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[(999.53785-1,000)/1,000 +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(1,000.46243-1,000)/1,000)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= 28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3D8FB58E-0178-403E-9492-063A5E6D84B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Contingent Claim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rate changes also affect value of off-balance sheet clai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uration gap hedging strategy must include the effects on off-balance sheet items such as futures, options, swaps, caps, and other contingent claim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C499C612-D2B0-489F-B5E0-A35738ED96DA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Pertinent Websites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nk for International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ttlemen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curities Exchange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mission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Wall Street Journal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0D72C5B4-09C9-491B-9E11-6A318711CDD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5181480" y="1600200"/>
            <a:ext cx="3657600" cy="2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bi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sec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wsj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upon Effec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onds with identical maturities will respond differently to interest rate changes when the coupons differ. This is easily understood by recognizing that coupon bonds consist of a bundle of “zero-coupon” bonds. With higher coupons, more of the bond’s value is generated by cash flows which take place sooner in time. Consequently, it is less sensitive to changes in R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A1C27542-DA45-4F0E-8215-FD87D230ACC5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emarks on Preceding Slid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general, longer maturity bonds experience greater price changes in response to any change in the discount rat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range of prices is greater when the coupon is lowe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 6% bond will have a larger change in price in response to a 2% change than an 8% bon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6% bond has greater interest rate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781680" y="6324480"/>
            <a:ext cx="1981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6A4A977D-4D57-4059-BEB9-248834298448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Extreme Examples With Equal Maturities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nsider two ten-year maturity instruments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A ten-year zero coupon bon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A two-cash flow “bond” that pays $999.99 almost immediately and one penny ten years henc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mall changes in yield will have a large effect on the value of the zero but almost no impact on the hypothetical bon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ost bonds are between these extrem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e higher the coupon rate, the more similar the bond is to our hypothetical bond with higher value of cash flows arriving sooner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D6FBB3B9-14C5-40F6-A8E5-E11C1AEC059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Weighted average time to maturity using the relative present values of the cash flows as weigh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bines the effects of differences in coupon rates and differences in maturity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sed on elasticity of bond price with respect to interest rat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units of duration are year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D280706F-F4C6-4ECC-996B-2898635A03FB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Macaulay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caulay Duration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her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= Macaulay duration (in years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 = number of periods in the futur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cash flow to be delivered in t period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= time-to-maturity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discount factor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D88A7538-C9EF-43C3-9B50-EB3DA2386C78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29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1426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nce the price (P) of the bond equals the sum of the present values of all its cash flows, we can state the duration formula another way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9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Notice the weights correspond to the </a:t>
            </a:r>
            <a:r>
              <a:rPr b="0" i="1" lang="en-US" sz="3600" spc="-1" strike="noStrike">
                <a:solidFill>
                  <a:srgbClr val="333399"/>
                </a:solidFill>
                <a:latin typeface="Century Gothic"/>
              </a:rPr>
              <a:t>relative</a:t>
            </a: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 present values of the cash flows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8317ADBF-0FC3-4B20-A4AD-31E57F510BF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20574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8:12:47Z</dcterms:created>
  <dc:creator>Kenneth R. Stanton</dc:creator>
  <dc:description/>
  <dc:language>en-US</dc:language>
  <cp:lastModifiedBy>monera</cp:lastModifiedBy>
  <dcterms:modified xsi:type="dcterms:W3CDTF">2015-01-27T06:47:58Z</dcterms:modified>
  <cp:revision>177</cp:revision>
  <dc:subject>Depository Institutions</dc:subject>
  <dc:title>Chapter 2</dc:title>
</cp:coreProperties>
</file>