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8599-8E33-45C9-B4B3-76DE6878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71D-46D0-47FF-9890-247FB46E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2F4-B728-4202-BF33-E1C70487E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DD49-137B-4ABC-A1C5-B495C7869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2E0-A7C4-445B-8CC9-FADD47B0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6941-AD23-4198-9AF4-950CC6EC7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084C-3799-4313-9F8E-B3A88610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080-2AD0-49C3-AB3C-B875B31D6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D8B8-F2F4-4D91-99C5-AC3EC59E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569-7823-4A77-A219-FC5CB084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598E-CBCB-419A-99BE-30772EBC2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72E9-1741-4DD5-9814-831028C0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5582-62E6-4164-885E-DE5E269EC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3AEA-45B8-4448-A532-C9A6E8AEA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CBDA-7962-4423-85F7-B7899F741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F1E-59E8-4DC3-B839-05832FF20B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307-5820-4224-AB1E-EBB140FD6E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FAF-9DAC-4EE8-9BE8-A76982BBC3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2E9-46CF-4D14-9A15-10347C4F0D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114-BA1C-4C94-9F27-91980FF8C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FD72-FF29-4CD3-A47D-3634A407D6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616-508A-4D66-8796-018ACDB1C1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1FA-7015-4FC2-9244-1180E90DD7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832-FD54-4954-AC82-127FD6FEFA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1D3-B2E7-4F2C-AD30-DB39EE1F38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A78-0308-4CE1-BFA9-09221B03FC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A7E-BF83-48EB-85CE-61D217B38A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E55-82D8-444A-AA82-79B12E2837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EC60-0C82-4286-9C32-2BD8FA32EE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5081-9238-4193-8EA4-F3F18A498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206E-2A8B-4D7D-B5DF-050224F67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6A9E-6E18-47D3-AD28-1A21610D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A9E0-009E-4219-A2F2-28CF7E937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155C-74E2-4C40-BEDC-07B6D598B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7-</a:t>
            </a:r>
            <a:fld id="{2FFC8FAD-37C4-480A-A8E8-420E7322909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2"/>
          <p:cNvSpPr/>
          <p:nvPr/>
        </p:nvSpPr>
        <p:spPr>
          <a:xfrm>
            <a:off x="0" y="231840"/>
            <a:ext cx="914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ef"/>
                </a:solidFill>
                <a:latin typeface="Arial"/>
              </a:rPr>
              <a:t>Interest Rate Risk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1752480"/>
            <a:ext cx="91710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472392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1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85764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9B009414-6DF9-48E2-909B-03B42AEFF2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is.org/" TargetMode="External"/><Relationship Id="rId2" Type="http://schemas.openxmlformats.org/officeDocument/2006/relationships/hyperlink" Target="http://www.sec.gov/" TargetMode="External"/><Relationship Id="rId3" Type="http://schemas.openxmlformats.org/officeDocument/2006/relationships/hyperlink" Target="http://www.wsj.com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4724280" y="66103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Copyright © 2014 by the McGraw-Hill Companies, Inc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emiannual Cash Flow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t is important to see that we must express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in years, and the present values are computed using the appropriate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periodic</a:t>
            </a:r>
            <a:r>
              <a:rPr b="1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rate. For semiannual cash flows, Macaulay duration, D is equal to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5055C7D8-1E9C-48E4-A63B-4A2F5FA1EAEA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657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Duration of Zero-Coupon Bond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a zero-coupon bond, Macaulay duration equals maturity since 100% of its present value is generated by the payment of the face value, at 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r all other bonds, duration &lt; 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0BD5EDDF-2968-490E-8088-F45C8FDA1A6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mputing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sider a 2-year, 8% coupon bond, with a face value of $1,000 and yield-to-maturity of 12%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upons are paid semi-annuall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refore, each coupon payment is $40 and the per period YTM is (1/2) × 12% = 6%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esent value of each cash flow equals C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÷ (1+ 0.06)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where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is the period numbe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97151AB4-F8E3-4A49-8462-7D0D32ABE08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  </a:t>
            </a: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Duration of 2-year, 8% bond: </a:t>
            </a:r>
            <a:br>
              <a:rPr sz="3600"/>
            </a:b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   Face value = $1,000, YTM = 12%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380880" y="2014560"/>
          <a:ext cx="8358480" cy="45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14560"/>
                    <a:ext cx="835848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Special Cas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urity of a consol (perpetuity)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 =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of a consol (perpetuity)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 = 1 + 1/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13FAD18A-846A-4D19-AFEA-BADA16C936F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Features of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and 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increases with M, but at a decreasing rat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and yield-to-maturity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decreases as yield increa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and coupon interes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decreases as coupon increas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BA66D2F8-E543-42BA-958F-89504F32C5E5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conomic Interpretation 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is a measure of interest rate sensitivity or elasticity of a liability or asset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/P]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 = -D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r equivalently,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/P = -D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 = -MD × 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here MD is modified dur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A209E2DA-451B-4D3A-9F9F-796F6DE6F22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Economic Interpret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o estimate the change in price, we can rewrite this a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 = -D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P = -(MD) × (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) × (P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ote the direct </a:t>
            </a:r>
            <a:r>
              <a:rPr b="0" i="1" lang="en-US" sz="2800" spc="-1" strike="noStrike">
                <a:solidFill>
                  <a:srgbClr val="333399"/>
                </a:solidFill>
                <a:latin typeface="Century Gothic"/>
              </a:rPr>
              <a:t>linear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relationship between 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 and -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DA9AE196-3D20-4235-87D1-C2867393F2F6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ollar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ollar duration equals modified duration times pric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ollar duration = MD × Pric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sing dollar duration, we can compute the change in price a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Δ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-Dollar duration × 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</a:rPr>
              <a:t>Δ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R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A35A3BCD-2EAE-4288-A991-844F7EDDBBA4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Semi-annual Coupon Payments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ith semi-annual coupon payments the percentage change in price i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/P = -D[</a:t>
            </a:r>
            <a:r>
              <a:rPr b="0" lang="el-GR" sz="3200" spc="-1" strike="noStrike">
                <a:solidFill>
                  <a:srgbClr val="333399"/>
                </a:solidFill>
                <a:latin typeface="Century Gothic"/>
                <a:ea typeface="Arial"/>
              </a:rPr>
              <a:t>Δ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(R/2)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B924F810-8F8C-485A-AF6D-A9AAA088FEEA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Overview</a:t>
            </a: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1417320"/>
            <a:ext cx="83822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s chapter discusses a market value-based model for assessing and managing interest rate risk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putation of 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conomic interpret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munization using 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roblems in applying duration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41FB1E8C-A157-45DB-A3F9-F03162F751F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Immuniz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ching the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maturity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of an asset investment with a future payout responsibility does not necessarily eliminate interest rate ris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ching </a:t>
            </a:r>
            <a:r>
              <a:rPr b="0" i="1" lang="en-US" sz="3200" spc="-1" strike="noStrike">
                <a:solidFill>
                  <a:srgbClr val="333399"/>
                </a:solidFill>
                <a:latin typeface="Century Gothic"/>
              </a:rPr>
              <a:t>durations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will immunize against changes in interest rat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F596EEE3-0F07-4195-87DE-C1345198136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An Exampl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onsider three loan plans, all of which have maturities of 2 years. The loan amount is $1,000 and the current interest rate is 3%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#1 is a two-payment loan with two equal payments of $522.61 each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#2 is structured as a 3% annual coupon bond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an #3 is a discount loan, which has a single payment of $1,060.90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CAF782E5-7125-4404-8006-3F9588EFC0D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Duration as Index of Interest Rate Risk</a:t>
            </a:r>
            <a:endParaRPr b="0" lang="en-US" sz="3600" spc="-1" strike="noStrike">
              <a:solidFill>
                <a:srgbClr val="6b6bcf"/>
              </a:solidFill>
              <a:latin typeface="Century Gothic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711360" y="1660680"/>
          <a:ext cx="79372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60680"/>
                    <a:ext cx="79372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Balance Sheet Immuniz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is a measure of the interest rate risk exposure for an FI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f the durations of liabilities and assets are not matched, then there is a risk that adverse changes in the interest rate will increase the present value of the liabilities more than the present value of assets is increased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102816C7-28F9-458B-A714-BEE7BAD63896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 Gap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uppose that a 2-year coupon bond is the only loan asset (A) of an FI. A 2-year certificate of deposit is the only liability (L). If the duration of the coupon bond is 1.8 years, then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turity gap: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-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2 -2 = 0, bu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Gap: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-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1.8 - 2.0 = -0.2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eposit has greater interest rate sensitivity than the bond, so DGAP is negativ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exposed to rising interest rat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39625B5A-B1D4-4BFB-B18A-161CF1B0503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entury Gothic"/>
              </a:rPr>
              <a:t>Immunizing the Balance Sheet of an FI</a:t>
            </a:r>
            <a:r>
              <a:rPr b="0" lang="en-US" sz="28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 Gap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rom the balance sheet, E=A-L. Therefore,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=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-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. In the same manner used to determine the change in bond prices, we can find the change in value of equity using duration.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 = [-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 +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]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/(1+R) o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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-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k]A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/(1+R)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0BBC4097-D3F9-4764-94A7-5750292395EF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 and Immunizing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formula shows 3 effects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everage adjusted D-Gap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size of the FI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size of the interest rate shock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6BD9B3AF-3199-4D2E-A4F7-957E2DF8C7ED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An Example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uppose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5 years,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= 3 years and rates are expected to rise from 10% to 11%. (Rates change by 1%). Also, A = 100, L = 90 and E = 10. Find change in E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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- D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k]A[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/(1+R)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= -[5 - 3(90/100)]100[.01/1.1] = - $2.09.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ethods of immunizing balance sheet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djust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,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or k.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73BD7FA4-2566-4380-AF37-E2EC30FAE98A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     </a:t>
            </a: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Immunization and Regulatory Concerns</a:t>
            </a:r>
            <a:r>
              <a:rPr b="0" lang="en-US" sz="2400" spc="-1" strike="noStrike">
                <a:solidFill>
                  <a:srgbClr val="6b6bc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Regulators set target ratios for an FI’s capital (net worth)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apital (Net worth) ratio = E/A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f target is to se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(E/A) = 0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ut, to se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 = 0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k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2EFDA329-C5F5-4960-B101-C03BFDB030E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Limitations of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228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munizing the entire balance sheet need not be costl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uration can be employed in combination with hedge positions to immuniz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mmunization is a dynamic process since duration depends on instantaneous 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Large interest rate change effects not accurately capture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119960" indent="-22392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onvexity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ore complex if nonparallel shift in yield curv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0623DDF4-984B-4913-81B2-7FF7C6F02F41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Price Sensitivity and Matur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general, the longer the term to maturity, the greater the sensitivity to interest rate change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longer maturity bond has the greater drop in price because the payment is discounted a greater number of times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85C4C5F5-275F-41CA-B144-39642ECBF23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nvex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duration measure is a linear approximation of a non-linear function. If there are large changes in R, the approximation is much less accurate. All fixed-income securities are convex. Convexity is desirable, but greater convexity causes larger errors in the duration-based estimate of price changes.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1D61C212-0006-4E86-9EDD-51E7938740A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nvex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ose who are familiar with calculus may recognize that duration involves only the first derivative of the price function. We can improve on the estimate using a Taylor expansion. In practice, the expansion rarely goes beyond second order (using the second derivative). This second order expansion is the convexity adjustment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7B12B1C9-AA51-4571-B557-5CE5E685CEF9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Modified Duration &amp; Convexity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/P = -D[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/(1+R)] + (1/2) CX 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or 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/P = -MD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  + (1/2) CX 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R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Where MD implies modified duration and CX is a measure of the curvature effect.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X = Scaling factor × [capital loss from 1bp rise in yield + capital gain from 1bp fall in yield]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monly used scaling factor is 10</a:t>
            </a:r>
            <a:r>
              <a:rPr b="0" lang="en-US" sz="2800" spc="-1" strike="noStrike" baseline="30000">
                <a:solidFill>
                  <a:srgbClr val="333399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4022A4C9-0A3F-436C-A6C4-EBD3E8E9B19D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Calculation of CX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xample: convexity of 8% coupon, 8% yield, six-year maturity Eurobond priced at $1,000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X = 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[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0" lang="en-US" sz="4000" spc="-1" strike="noStrike" baseline="30000">
                <a:solidFill>
                  <a:srgbClr val="333399"/>
                </a:solidFill>
                <a:latin typeface="Century Gothic"/>
              </a:rPr>
              <a:t>-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/P +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/P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= 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entury Gothic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[(999.53785-1,000)/1,000 +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(1,000.46243-1,000)/1,000)]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= 28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966892F3-CB21-448D-818B-BDBB9B3992EB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*Contingent Claim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terest rate changes also affect value of off-balance sheet clai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uration gap hedging strategy must include the effects on off-balance sheet items such as futures, options, swaps, caps, and other contingent claim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49D436B7-182C-432F-BA4E-218426336A94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bcf"/>
                </a:solidFill>
                <a:latin typeface="Century Gothic"/>
              </a:rPr>
              <a:t>Pertinent Websites</a:t>
            </a:r>
            <a:endParaRPr b="0" lang="en-US" sz="40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nk for International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ttlemen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ecurities Exchange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mission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Wall Street Journal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85375C35-3564-4419-BD05-B2D310C94D44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5181480" y="1600200"/>
            <a:ext cx="3657600" cy="2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bi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sec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wsj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Coupon Effect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Bonds with identical maturities will respond differently to interest rate changes when the coupons differ. This is easily understood by recognizing that coupon bonds consist of a bundle of “zero-coupon” bonds. With higher coupons, more of the bond’s value is generated by cash flows which take place sooner in time. Consequently, it is less sensitive to changes in R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941CFD5A-5E4F-47C3-B7AF-C9F916AC856C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Remarks on Preceding Slides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In general, longer maturity bonds experience greater price changes in response to any change in the discount rat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e range of prices is greater when the coupon is lower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A 6% bond will have a larger change in price in response to a 2% change than an 8% bon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6% bond has greater interest rate risk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781680" y="6324480"/>
            <a:ext cx="1981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924E07C1-4BB6-454A-8284-1D5D54D24596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entury Gothic"/>
              </a:rPr>
              <a:t>Extreme Examples With Equal Maturities</a:t>
            </a:r>
            <a:endParaRPr b="0" lang="en-US" sz="32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nsider two ten-year maturity instruments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A ten-year zero coupon bon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A two-cash flow “bond” that pays $999.99 almost immediately and one penny ten years henc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mall changes in yield will have a large effect on the value of the zero but almost no impact on the hypothetical bond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Most bonds are between these extrem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The higher the coupon rate, the more similar the bond is to our hypothetical bond with higher value of cash flows arriving sooner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04220400-982A-487B-9A7A-2E07C46BA93E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Duration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Weighted average time to maturity using the relative present values of the cash flows as weight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ombines the effects of differences in coupon rates and differences in maturity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Based on elasticity of bond price with respect to interest rat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he units of duration are year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6CAEEDE1-2710-436C-9181-D2EA9F874876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Macaulay 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Macaulay Duration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Wher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 = Macaulay duration (in years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 = number of periods in the futur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cash flow to be delivered in t period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N= time-to-maturity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DF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Century Gothic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 = discount factor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AE0E0D4D-DEBD-4EE5-A954-4D609CB1C5C3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29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entury Gothic"/>
              </a:rPr>
              <a:t>Duration</a:t>
            </a:r>
            <a:endParaRPr b="0" lang="en-US" sz="4400" spc="-1" strike="noStrike">
              <a:solidFill>
                <a:srgbClr val="6b6bc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1426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nce the price (P) of the bond equals the sum of the present values of all its cash flows, we can state the duration formula another way: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  <a:p>
            <a:pPr marL="322200" indent="-322200">
              <a:spcBef>
                <a:spcPts val="9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Notice the weights correspond to the </a:t>
            </a:r>
            <a:r>
              <a:rPr b="0" i="1" lang="en-US" sz="3600" spc="-1" strike="noStrike">
                <a:solidFill>
                  <a:srgbClr val="333399"/>
                </a:solidFill>
                <a:latin typeface="Century Gothic"/>
              </a:rPr>
              <a:t>relative</a:t>
            </a: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 present values of the cash flows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858000" y="6324480"/>
            <a:ext cx="198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Ch 9-</a:t>
            </a:r>
            <a:fld id="{25C76D8D-CD59-450D-BD7E-05D420839BC2}" type="slidenum"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20574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12:47Z</dcterms:created>
  <dc:creator>Kenneth R. Stanton</dc:creator>
  <dc:description/>
  <dc:language>en-US</dc:language>
  <cp:lastModifiedBy>monera</cp:lastModifiedBy>
  <dcterms:modified xsi:type="dcterms:W3CDTF">2015-01-27T06:47:58Z</dcterms:modified>
  <cp:revision>177</cp:revision>
  <dc:subject>Depository Institutions</dc:subject>
  <dc:title>Chapter 2</dc:title>
</cp:coreProperties>
</file>