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camera.wav" ContentType="audio/x-wav"/>
  <Override PartName="/ppt/media/image2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C91-316A-4966-83B8-71DBD9158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AEF1-03E2-4FCE-8D3B-F544B5A71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EB0-CD36-407F-A32D-3DCDEEC0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25F-AD3D-4617-A87A-8BD1685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F4D-D27B-4755-9AE6-B86FD86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81D-E041-415B-8CF9-BC187A55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1E3-C548-4996-9F36-E4DA2A9F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47C-682D-4A6F-87E4-2EB20EDD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70E4-EC8B-4577-85A3-0FAFD151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BD2-E901-4627-8871-B71E32E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B3A4-A8B6-40DB-9600-2D3A0C4D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9FD-FFAA-4675-AE51-927F636B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D75-A7EE-4D8D-BF75-414DAF7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585-25BD-4B43-8B2D-46B82F61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7B33-4A8C-4DD4-9C17-17F6927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F17-E799-4FD3-B2A9-898E9BE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2D1-749E-4848-AC7F-28B2AA0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1D22-2D75-4DB4-9726-2F11E846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524-230A-4DD2-9E39-9FCEB2E5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F45C-7764-4B10-9F94-FF65F96E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7BF2-74D4-4B9A-AC97-199A677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BBE6-3F6F-42F2-8995-C4BB595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0469-EF1A-4E9D-BF2F-B94D2ED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290B-F5AB-4D4E-9822-739C6C3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ADA-BA0D-4384-B910-23F8EE5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00A4-4E61-4B7D-9AD3-99EF6A61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51C3-37E9-43BA-9500-BA8A54D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DBF8-A30B-4D1F-AF4A-D31FAB5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DF45-092D-4E5B-A50F-AADFD41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4267-7891-460C-AEC7-E648E6E1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7A32-6C01-4B12-B191-5763D7AC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8768-7EE7-43C8-BDEC-DCED0B18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125-8A27-4DE0-AFD0-B41E08B9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A22-8D66-4248-B3A4-76D818A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F5C-A20D-4864-B9F6-E7A0930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4A8-95AB-41CD-A66B-D5EC660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29-4491-4A4E-9466-DD928BE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379-4729-456F-ACD9-07E7605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DE0-EA70-42DB-83AA-96936E3D77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8CD-E1D1-469E-BF3A-B090C44D5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8DC4-37AA-47EB-AD44-69AD7ACCFE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22860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828800" y="12952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52680" y="175248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419720" y="609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6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181480" y="1568520"/>
            <a:ext cx="39006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5"/>
          <p:cNvGrpSpPr/>
          <p:nvPr/>
        </p:nvGrpSpPr>
        <p:grpSpPr>
          <a:xfrm>
            <a:off x="685800" y="2212920"/>
            <a:ext cx="7696080" cy="4416480"/>
            <a:chOff x="685800" y="2212920"/>
            <a:chExt cx="7696080" cy="4416480"/>
          </a:xfrm>
        </p:grpSpPr>
        <p:pic>
          <p:nvPicPr>
            <p:cNvPr id="244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685800" y="2212920"/>
              <a:ext cx="769608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"/>
            <p:cNvSpPr/>
            <p:nvPr/>
          </p:nvSpPr>
          <p:spPr>
            <a:xfrm>
              <a:off x="4038480" y="4057560"/>
              <a:ext cx="144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4114440" y="4498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8"/>
            <p:cNvSpPr/>
            <p:nvPr/>
          </p:nvSpPr>
          <p:spPr>
            <a:xfrm>
              <a:off x="3828960" y="321480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9"/>
            <p:cNvSpPr/>
            <p:nvPr/>
          </p:nvSpPr>
          <p:spPr>
            <a:xfrm>
              <a:off x="3885840" y="362592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4854240" y="495612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326960" y="5275080"/>
              <a:ext cx="83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4"/>
          <p:cNvSpPr/>
          <p:nvPr/>
        </p:nvSpPr>
        <p:spPr>
          <a:xfrm>
            <a:off x="228600" y="1343160"/>
            <a:ext cx="85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30481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048120" y="217980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256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4"/>
          <p:cNvSpPr/>
          <p:nvPr/>
        </p:nvSpPr>
        <p:spPr>
          <a:xfrm>
            <a:off x="2590920" y="254160"/>
            <a:ext cx="38098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264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267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270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273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276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79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94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Aft>
                <a:spcPts val="601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362320" y="198000"/>
            <a:ext cx="3962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14300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828440" y="285480"/>
            <a:ext cx="51814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105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600200" y="257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Gram’s stain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Gram +ve bacteria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Gram –ve bacteria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1600200" y="257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Gram’s stain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بغة جر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اعة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13" name="Text Box 6"/>
          <p:cNvSpPr/>
          <p:nvPr/>
        </p:nvSpPr>
        <p:spPr>
          <a:xfrm>
            <a:off x="190512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oper Black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3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oper Black"/>
              </a:rPr>
              <a:t>II - The bacterial 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299-7813-4DE9-9504-A6ED412D3A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38280" y="304920"/>
            <a:ext cx="4876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</a:rPr>
              <a:t>Cell Theor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04920" y="16765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1- All organisms are composed of one or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mor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2- Cell is the basic unit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80880" y="4800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- The new cell arises only from pre-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exist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52280" y="13971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228600"/>
            <a:ext cx="914400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tritional and metabol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karyotes (and eukaryotes too) are grouped into four (4) categories according to how they obt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hotosynthe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 light as the energ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arb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  Cyanobacteria; plants (eukaryotic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193680"/>
            <a:ext cx="914400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o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nergy from oxidation of inorganic substances (e.g.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arbo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lfolobus, Beggiato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hown on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457200"/>
            <a:ext cx="8534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Light as energ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rganic compounds are source of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 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o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Organic compounds are energy source and source of carbon (this includes hu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  Many prokaryotes; animals (eukaryotic); fungi (eukary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E:\ImageLibrary18-28\27-Prokaryotes\27T-01-NutritionalModes-L.gif"/>
          <p:cNvPicPr/>
          <p:nvPr/>
        </p:nvPicPr>
        <p:blipFill>
          <a:blip r:embed="rId1"/>
          <a:stretch/>
        </p:blipFill>
        <p:spPr>
          <a:xfrm>
            <a:off x="914400" y="182520"/>
            <a:ext cx="7391520" cy="6561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04920" y="1295280"/>
            <a:ext cx="396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vision involves inward growth of the plasma membrane, dividing the parent cell into two daughter cells, each with a complete gen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228600"/>
            <a:ext cx="4151520" cy="64008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764280" y="304920"/>
            <a:ext cx="50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binary fission in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24EC-F077-475B-9248-020B71AA895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1" descr=""/>
          <p:cNvPicPr/>
          <p:nvPr/>
        </p:nvPicPr>
        <p:blipFill>
          <a:blip r:embed="rId1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"/>
          <p:cNvPicPr/>
          <p:nvPr/>
        </p:nvPicPr>
        <p:blipFill>
          <a:blip r:embed="rId2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04920" y="228600"/>
            <a:ext cx="8381880" cy="60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e cells, the chromosomes are contained within a membranous nuclear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 between the nucleus and the plasma membrane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material within the plasma membrane of a prokaryotic cell is cytopla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cytoplasm of a eukaryotic cell is a variety of membrane-bounded organelles of specialized form and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mbrane-bounded organelles are absent in pro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04920" y="228600"/>
            <a:ext cx="83818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ells are generally much bigger than prokaryot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istics of carrying out metabolism set limits on cell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lower limit, the smallest bacteria, mycoplasmas, are between 0.1 to 1.0 mic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bacteria are 1-10 microns in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cells are typically 10-100 microns in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~LWF0001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240" y="2531880"/>
            <a:ext cx="8915400" cy="33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lasma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ntaining the cell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0" y="158724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of phospholipids and divers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ype of membrane has a unique combination 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compartmentalize the functions of a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581280" y="99072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523880" y="3763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715000" y="3687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2743200" y="2286000"/>
            <a:ext cx="3962520" cy="1401120"/>
            <a:chOff x="2743200" y="2286000"/>
            <a:chExt cx="3962520" cy="1401120"/>
          </a:xfrm>
        </p:grpSpPr>
        <p:sp>
          <p:nvSpPr>
            <p:cNvPr id="346" name="Line 7"/>
            <p:cNvSpPr/>
            <p:nvPr/>
          </p:nvSpPr>
          <p:spPr>
            <a:xfrm>
              <a:off x="4648320" y="22860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>
              <a:off x="2743200" y="30866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H="1">
              <a:off x="2743200" y="30866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H="1">
              <a:off x="6692760" y="30866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11"/>
          <p:cNvSpPr/>
          <p:nvPr/>
        </p:nvSpPr>
        <p:spPr>
          <a:xfrm>
            <a:off x="3429000" y="914400"/>
            <a:ext cx="251460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6320" y="5516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228600" y="4983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4643280" y="281160"/>
            <a:ext cx="4249800" cy="3528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4643280" y="3886200"/>
            <a:ext cx="4321440" cy="2664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304920" y="457200"/>
            <a:ext cx="4572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okaryo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ru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ary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nucleus . Plant and animals have real nucleus, surrounded with 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cteria and the virus’s have no real nucleus they contain nucleiod  region (no nuclear membrane) were the very simple genetic material (DNA or chromos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karyotic cells (bacteria and viruses) also have a very simples cell structure cell wall, cell membrane, cytoplasm, ribosome’s and nucleiod area for a very simple genetic material (DNA or RNA) and cilia or 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uokayotic cells have a very complex structure and many cell organell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Look at the book page 112. 6th e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583-B470-4168-98BE-5E96A392580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228600"/>
            <a:ext cx="8858520" cy="5813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886200" y="53341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685800" y="12193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579132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6781680" y="4419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781680" y="39625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162920" y="32767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838080" y="5791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733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57200" y="2438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5335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676520" y="152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7112160" y="723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5435640" y="101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6400800" y="533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02400" y="92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533520" y="4540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CD99-0403-43E2-9FE9-68C567E38B8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377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1"/>
          <p:cNvSpPr/>
          <p:nvPr/>
        </p:nvSpPr>
        <p:spPr>
          <a:xfrm>
            <a:off x="69343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010280" y="49910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4267080" y="591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1143000" y="5257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28600" y="1219320"/>
            <a:ext cx="464832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kinesis, division of the cytoplasm, typically follows mi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nimals, the first sign of cytokinesis (cleavage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appearance of a cleavage furrow in the cell surface near the old metaphase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9000" indent="-45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Cytokinesis in animal cel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1"/>
          <a:srcRect l="0" t="0" r="56038" b="5551"/>
          <a:stretch/>
        </p:blipFill>
        <p:spPr>
          <a:xfrm>
            <a:off x="5181480" y="1066680"/>
            <a:ext cx="35355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04920" y="228600"/>
            <a:ext cx="83818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kinesis in plants, which have cell walls, involves a completely different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SzPct val="7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elophase, vesic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olgi coalesce 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ase plat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ng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SzPct val="7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te enlarges until 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 fuse with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membrane at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meter, with the cont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vesicles forming n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 material in betw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rcRect l="58070" t="5584" r="0" b="5551"/>
          <a:stretch/>
        </p:blipFill>
        <p:spPr>
          <a:xfrm>
            <a:off x="5564160" y="1447920"/>
            <a:ext cx="327492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92FA-3E80-4A79-9186-C8ABA1882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406440" y="2286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vs. eukaryotic ge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F09-01"/>
          <p:cNvPicPr/>
          <p:nvPr/>
        </p:nvPicPr>
        <p:blipFill>
          <a:blip r:embed="rId1"/>
          <a:stretch/>
        </p:blipFill>
        <p:spPr>
          <a:xfrm>
            <a:off x="2070000" y="1628640"/>
            <a:ext cx="4356360" cy="4862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6632640" y="2362320"/>
            <a:ext cx="194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kary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cis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555960" y="495288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ukary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is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-360" y="2286000"/>
            <a:ext cx="89917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jor difference 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tion of chromosome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out a membrane 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okaryotic cell, DNA is a single strand or double strand 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37160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096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2421000" y="907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pperplate Gothic Bold"/>
              </a:rPr>
              <a:t>A)- 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hat are Prokaryot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karyote” means “before a nucle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ternal membrane-bound organelles – just one little bag of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ually single-celled (may form simple colon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or may not require oxygen for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iest types of cell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 type of all bacteria and 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057400" y="30492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762120"/>
            <a:ext cx="80773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u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urvive almost anywhere –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uch grea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ell wall surrounding the cell membrane (different chemistry from plant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age: cross section of typical bacterial cell"/>
          <p:cNvPicPr/>
          <p:nvPr/>
        </p:nvPicPr>
        <p:blipFill>
          <a:blip r:embed="rId1"/>
          <a:stretch/>
        </p:blipFill>
        <p:spPr>
          <a:xfrm>
            <a:off x="3733920" y="3708360"/>
            <a:ext cx="4190760" cy="276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229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2438280" y="2286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5-02-17T10:56:42Z</dcterms:modified>
  <cp:revision>4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