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8.png" ContentType="image/png"/>
  <Override PartName="/ppt/media/image14.jpeg" ContentType="image/jpeg"/>
  <Override PartName="/ppt/media/image16.wmf" ContentType="image/x-wmf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camera.wav" ContentType="audio/x-wav"/>
  <Override PartName="/ppt/media/image21.jpeg" ContentType="image/jpeg"/>
  <Override PartName="/ppt/media/image19.png" ContentType="image/png"/>
  <Override PartName="/ppt/media/image3.jpeg" ContentType="image/jpeg"/>
  <Override PartName="/ppt/media/image18.png" ContentType="image/png"/>
  <Override PartName="/ppt/media/image17.wmf" ContentType="image/x-wmf"/>
  <Override PartName="/ppt/media/image15.jpeg" ContentType="image/jpeg"/>
  <Override PartName="/ppt/media/image13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29CDB-A918-431C-8605-F668DFCE53E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53D77-53BC-431C-983D-F436DAC434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9966-AD33-423C-95FF-29ABC2A07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84C5-B098-4645-9A1B-9AE304B7B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ACAF-7859-45A4-8166-6B66614C7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A63F-08A2-445F-8698-D63C50D4D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43352-657F-419B-A6D5-1BEB2B7CE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EC4EA-2F9B-4A68-B9CC-8D5C79A72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DC276-3A2F-43AA-A1E4-B86F38FBE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22520-B24B-4ED1-B93E-9573954E8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A5C54-D5A3-40BE-BF66-82C0AE770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A85DD-8550-4A32-AE92-EBED079A7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0CA4B-1D6E-412D-A301-135DA58E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7FB1-25C8-4E88-B676-AF44C2633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B876D-62FE-48F2-8788-785481C5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F8941-B60A-42D9-BADF-B44FC1FA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E0D23-83E7-4BF3-962B-C44975D70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B0834-ABC0-4869-ADFF-DDD7E6D2D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23D23-34E7-49E9-A260-DDAEBA5AA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F134F-43AC-48DB-808C-D8F291F73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CEA16-D6C4-4717-B1DA-EEE7CD041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0BCA4-8F92-4F4C-B816-CE95331FF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8BAAE-DFD0-4E2A-BE4A-2ED742424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39A7D-4A15-46B5-AD08-BCB945F0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3177-9EF5-40EB-B9F9-D7F163882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28066-B47B-4866-8EA6-5FC510744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3C8FA-225F-48D8-822C-60E5B9EB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16018-DBC0-45F0-ACF3-D1258E67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1A054-A597-4D15-BDCA-E93287DB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807CD-0450-4A7E-AA21-10AF03F0D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7CA0C-C19E-46C6-A53E-FE838FC11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00C33-8AC3-4CEC-A728-DDF9128EB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9FAA-3D36-4642-AC34-D953C64CC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7472-5F7C-475C-9BF0-362876742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4A28-C146-4539-97BF-AD1D9A771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DF5A-29BE-4241-B9F1-DC375291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9865-0283-44E2-8C02-4D8A5D05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2239-6901-400A-A257-5720B478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330F8-C5AF-42CB-95BA-858975DC472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25D84-C3D9-4009-B87D-BC377C5922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17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C6E9-0014-4640-B656-4FC89E3B822F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380880" y="228600"/>
            <a:ext cx="373392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0000"/>
                </a:solidFill>
                <a:latin typeface="Copperplate Gothic Bold"/>
              </a:rPr>
              <a:t>The Cel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828800" y="129528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The Organism’s Basic Unit of Structure and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4"/>
          <p:cNvSpPr/>
          <p:nvPr/>
        </p:nvSpPr>
        <p:spPr>
          <a:xfrm>
            <a:off x="1066680" y="2971800"/>
            <a:ext cx="2286000" cy="1371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kary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5"/>
          <p:cNvSpPr/>
          <p:nvPr/>
        </p:nvSpPr>
        <p:spPr>
          <a:xfrm>
            <a:off x="6172200" y="2895480"/>
            <a:ext cx="2286000" cy="1447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Eukary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3352680" y="1752480"/>
            <a:ext cx="2819520" cy="1447920"/>
          </a:xfrm>
          <a:prstGeom prst="rect">
            <a:avLst/>
          </a:prstGeom>
          <a:solidFill>
            <a:srgbClr val="00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of ce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685800" y="45720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cro-org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5943600" y="44956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ll other forms  o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2"/>
          <p:cNvSpPr/>
          <p:nvPr/>
        </p:nvSpPr>
        <p:spPr>
          <a:xfrm>
            <a:off x="4419720" y="6094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Cellula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(Small ro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1.11111E-006 L 0.3125 0.39444 E">
                                      <p:cBhvr>
                                        <p:cTn id="36" dur="1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666880" y="152280"/>
            <a:ext cx="38102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1. Domain: </a:t>
            </a:r>
            <a:r>
              <a:rPr b="0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Archa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50560" y="1496880"/>
            <a:ext cx="4824360" cy="45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rchaea are 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extremophiles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, “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مُحب للظروف القاسية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f extreme environments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 and can be classified into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a)- </a:t>
            </a:r>
            <a:r>
              <a:rPr b="1" lang="en-GB" sz="1900" spc="-1" strike="noStrike" u="sng">
                <a:solidFill>
                  <a:srgbClr val="ff0000"/>
                </a:solidFill>
                <a:uFillTx/>
                <a:latin typeface="Arial"/>
              </a:rPr>
              <a:t>Extreme halophiles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مُحب للملوحة</a:t>
            </a:r>
            <a:r>
              <a:rPr b="1" lang="ar-SA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live in such saline places as the Great Salt Lake and the Dead Se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ome species require an extremely salty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شديدة الملوحة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nvironment to grow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b)- </a:t>
            </a:r>
            <a:r>
              <a:rPr b="1" lang="en-GB" sz="1900" spc="-1" strike="noStrike" u="sng">
                <a:solidFill>
                  <a:srgbClr val="ff0000"/>
                </a:solidFill>
                <a:uFillTx/>
                <a:latin typeface="Arial"/>
              </a:rPr>
              <a:t>Extreme thermophiles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مُحب للحرارة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live in hot environment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The optimum temperatures for most thermophiles are 60 - 80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5181480" y="1568520"/>
            <a:ext cx="3900600" cy="46800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Group 15"/>
          <p:cNvGrpSpPr/>
          <p:nvPr/>
        </p:nvGrpSpPr>
        <p:grpSpPr>
          <a:xfrm>
            <a:off x="685800" y="2212920"/>
            <a:ext cx="7696080" cy="4416480"/>
            <a:chOff x="685800" y="2212920"/>
            <a:chExt cx="7696080" cy="4416480"/>
          </a:xfrm>
        </p:grpSpPr>
        <p:pic>
          <p:nvPicPr>
            <p:cNvPr id="244" name="Picture 3" descr=""/>
            <p:cNvPicPr/>
            <p:nvPr/>
          </p:nvPicPr>
          <p:blipFill>
            <a:blip r:embed="rId1"/>
            <a:srcRect l="0" t="0" r="0" b="3787"/>
            <a:stretch/>
          </p:blipFill>
          <p:spPr>
            <a:xfrm>
              <a:off x="685800" y="2212920"/>
              <a:ext cx="7696080" cy="441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Text Box 6"/>
            <p:cNvSpPr/>
            <p:nvPr/>
          </p:nvSpPr>
          <p:spPr>
            <a:xfrm>
              <a:off x="4038480" y="4057560"/>
              <a:ext cx="1449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غشاء بلازم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7"/>
            <p:cNvSpPr/>
            <p:nvPr/>
          </p:nvSpPr>
          <p:spPr>
            <a:xfrm>
              <a:off x="4114440" y="4498920"/>
              <a:ext cx="152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جدار الخلو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8"/>
            <p:cNvSpPr/>
            <p:nvPr/>
          </p:nvSpPr>
          <p:spPr>
            <a:xfrm>
              <a:off x="3828960" y="3214800"/>
              <a:ext cx="833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شبه نوا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9"/>
            <p:cNvSpPr/>
            <p:nvPr/>
          </p:nvSpPr>
          <p:spPr>
            <a:xfrm>
              <a:off x="3885840" y="3625920"/>
              <a:ext cx="1412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ريبوزوما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10"/>
            <p:cNvSpPr/>
            <p:nvPr/>
          </p:nvSpPr>
          <p:spPr>
            <a:xfrm>
              <a:off x="4854240" y="4956120"/>
              <a:ext cx="833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كبسول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13"/>
            <p:cNvSpPr/>
            <p:nvPr/>
          </p:nvSpPr>
          <p:spPr>
            <a:xfrm>
              <a:off x="1326960" y="5275080"/>
              <a:ext cx="833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أسواط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Text Box 14"/>
          <p:cNvSpPr/>
          <p:nvPr/>
        </p:nvSpPr>
        <p:spPr>
          <a:xfrm>
            <a:off x="228600" y="1343160"/>
            <a:ext cx="85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teria occur in many shapes and sizes. Bacteria of four shapes: rod-shaped, sphere-shaped, spiral-shaped, or filamentous-shap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6"/>
          <p:cNvSpPr/>
          <p:nvPr/>
        </p:nvSpPr>
        <p:spPr>
          <a:xfrm>
            <a:off x="3048120" y="152280"/>
            <a:ext cx="4038480" cy="7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2. Domain: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3048120" y="2179800"/>
            <a:ext cx="83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الأهدا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AutoShape 13"/>
          <p:cNvSpPr/>
          <p:nvPr/>
        </p:nvSpPr>
        <p:spPr>
          <a:xfrm>
            <a:off x="1574640" y="2774880"/>
            <a:ext cx="5867640" cy="2057400"/>
          </a:xfrm>
          <a:prstGeom prst="flowChartTerminator">
            <a:avLst/>
          </a:prstGeom>
          <a:gradFill rotWithShape="0">
            <a:gsLst>
              <a:gs pos="0">
                <a:srgbClr val="150015"/>
              </a:gs>
              <a:gs pos="50000">
                <a:srgbClr val="cc00cc"/>
              </a:gs>
              <a:gs pos="100000">
                <a:srgbClr val="150015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8"/>
          <p:cNvGrpSpPr/>
          <p:nvPr/>
        </p:nvGrpSpPr>
        <p:grpSpPr>
          <a:xfrm>
            <a:off x="1523880" y="2711520"/>
            <a:ext cx="5943600" cy="2133360"/>
            <a:chOff x="1523880" y="2711520"/>
            <a:chExt cx="5943600" cy="2133360"/>
          </a:xfrm>
        </p:grpSpPr>
        <p:sp>
          <p:nvSpPr>
            <p:cNvPr id="256" name="AutoShape 7"/>
            <p:cNvSpPr/>
            <p:nvPr/>
          </p:nvSpPr>
          <p:spPr>
            <a:xfrm>
              <a:off x="1600200" y="2711520"/>
              <a:ext cx="5867280" cy="2057400"/>
            </a:xfrm>
            <a:prstGeom prst="flowChartTerminator">
              <a:avLst/>
            </a:prstGeom>
            <a:solidFill>
              <a:srgbClr val="cc00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utoShape 5"/>
            <p:cNvSpPr/>
            <p:nvPr/>
          </p:nvSpPr>
          <p:spPr>
            <a:xfrm>
              <a:off x="1523880" y="2940120"/>
              <a:ext cx="5791320" cy="1904760"/>
            </a:xfrm>
            <a:prstGeom prst="flowChartTerminator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Text Box 4"/>
          <p:cNvSpPr/>
          <p:nvPr/>
        </p:nvSpPr>
        <p:spPr>
          <a:xfrm>
            <a:off x="2590920" y="254160"/>
            <a:ext cx="380988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karyotic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6"/>
          <p:cNvSpPr/>
          <p:nvPr/>
        </p:nvSpPr>
        <p:spPr>
          <a:xfrm>
            <a:off x="1638360" y="3041640"/>
            <a:ext cx="5562720" cy="1676520"/>
          </a:xfrm>
          <a:prstGeom prst="flowChartTerminator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9"/>
          <p:cNvSpPr/>
          <p:nvPr/>
        </p:nvSpPr>
        <p:spPr>
          <a:xfrm>
            <a:off x="1739880" y="3130560"/>
            <a:ext cx="5359320" cy="1498680"/>
          </a:xfrm>
          <a:prstGeom prst="flowChartTerminator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0"/>
          <p:cNvSpPr/>
          <p:nvPr/>
        </p:nvSpPr>
        <p:spPr>
          <a:xfrm>
            <a:off x="1816200" y="3206880"/>
            <a:ext cx="5207040" cy="1346040"/>
          </a:xfrm>
          <a:prstGeom prst="flowChartTerminator">
            <a:avLst/>
          </a:prstGeom>
          <a:solidFill>
            <a:srgbClr val="66ff33"/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11"/>
          <p:cNvSpPr/>
          <p:nvPr/>
        </p:nvSpPr>
        <p:spPr>
          <a:xfrm>
            <a:off x="2806560" y="3444840"/>
            <a:ext cx="3517920" cy="776160"/>
          </a:xfrm>
          <a:prstGeom prst="cloudCallout">
            <a:avLst>
              <a:gd name="adj1" fmla="val -34564"/>
              <a:gd name="adj2" fmla="val -8689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Group 17"/>
          <p:cNvGrpSpPr/>
          <p:nvPr/>
        </p:nvGrpSpPr>
        <p:grpSpPr>
          <a:xfrm>
            <a:off x="6934320" y="1339920"/>
            <a:ext cx="1752480" cy="1523880"/>
            <a:chOff x="6934320" y="1339920"/>
            <a:chExt cx="1752480" cy="1523880"/>
          </a:xfrm>
        </p:grpSpPr>
        <p:sp>
          <p:nvSpPr>
            <p:cNvPr id="264" name="Line 15"/>
            <p:cNvSpPr/>
            <p:nvPr/>
          </p:nvSpPr>
          <p:spPr>
            <a:xfrm flipV="1">
              <a:off x="6934320" y="1949400"/>
              <a:ext cx="761760" cy="91440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16"/>
            <p:cNvSpPr/>
            <p:nvPr/>
          </p:nvSpPr>
          <p:spPr>
            <a:xfrm>
              <a:off x="7010280" y="13399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cc00cc"/>
                  </a:solidFill>
                  <a:latin typeface="Arial"/>
                </a:rPr>
                <a:t>Capsu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Group 22"/>
          <p:cNvGrpSpPr/>
          <p:nvPr/>
        </p:nvGrpSpPr>
        <p:grpSpPr>
          <a:xfrm>
            <a:off x="4952880" y="1339920"/>
            <a:ext cx="1676520" cy="1675800"/>
            <a:chOff x="4952880" y="1339920"/>
            <a:chExt cx="1676520" cy="1675800"/>
          </a:xfrm>
        </p:grpSpPr>
        <p:sp>
          <p:nvSpPr>
            <p:cNvPr id="267" name="Line 20"/>
            <p:cNvSpPr/>
            <p:nvPr/>
          </p:nvSpPr>
          <p:spPr>
            <a:xfrm flipV="1">
              <a:off x="4952880" y="1949040"/>
              <a:ext cx="685800" cy="1066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21"/>
            <p:cNvSpPr/>
            <p:nvPr/>
          </p:nvSpPr>
          <p:spPr>
            <a:xfrm>
              <a:off x="4952880" y="13399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3300"/>
                  </a:solidFill>
                  <a:latin typeface="Arial"/>
                </a:rPr>
                <a:t>Cell Wa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Group 25"/>
          <p:cNvGrpSpPr/>
          <p:nvPr/>
        </p:nvGrpSpPr>
        <p:grpSpPr>
          <a:xfrm>
            <a:off x="2438280" y="1339920"/>
            <a:ext cx="2057400" cy="1790280"/>
            <a:chOff x="2438280" y="1339920"/>
            <a:chExt cx="2057400" cy="1790280"/>
          </a:xfrm>
        </p:grpSpPr>
        <p:sp>
          <p:nvSpPr>
            <p:cNvPr id="270" name="Line 23"/>
            <p:cNvSpPr/>
            <p:nvPr/>
          </p:nvSpPr>
          <p:spPr>
            <a:xfrm flipV="1">
              <a:off x="2819520" y="1987200"/>
              <a:ext cx="457200" cy="1143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24"/>
            <p:cNvSpPr/>
            <p:nvPr/>
          </p:nvSpPr>
          <p:spPr>
            <a:xfrm>
              <a:off x="2438280" y="1339920"/>
              <a:ext cx="205740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ff"/>
                  </a:solidFill>
                  <a:latin typeface="Arial"/>
                </a:rPr>
                <a:t>Plasma membran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28"/>
          <p:cNvGrpSpPr/>
          <p:nvPr/>
        </p:nvGrpSpPr>
        <p:grpSpPr>
          <a:xfrm>
            <a:off x="4876920" y="4311720"/>
            <a:ext cx="2057400" cy="2013840"/>
            <a:chOff x="4876920" y="4311720"/>
            <a:chExt cx="2057400" cy="2013840"/>
          </a:xfrm>
        </p:grpSpPr>
        <p:sp>
          <p:nvSpPr>
            <p:cNvPr id="273" name="Line 26"/>
            <p:cNvSpPr/>
            <p:nvPr/>
          </p:nvSpPr>
          <p:spPr>
            <a:xfrm flipH="1">
              <a:off x="5791320" y="4311720"/>
              <a:ext cx="304560" cy="11430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27"/>
            <p:cNvSpPr/>
            <p:nvPr/>
          </p:nvSpPr>
          <p:spPr>
            <a:xfrm>
              <a:off x="4876920" y="5378400"/>
              <a:ext cx="2057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9900"/>
                  </a:solidFill>
                  <a:latin typeface="Arial"/>
                </a:rPr>
                <a:t>Cytoplasm (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Cytosol</a:t>
              </a:r>
              <a:r>
                <a:rPr b="1" lang="en-GB" sz="2800" spc="-1" strike="noStrike">
                  <a:solidFill>
                    <a:srgbClr val="009900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Group 32"/>
          <p:cNvGrpSpPr/>
          <p:nvPr/>
        </p:nvGrpSpPr>
        <p:grpSpPr>
          <a:xfrm>
            <a:off x="2895480" y="3854520"/>
            <a:ext cx="2057400" cy="2044440"/>
            <a:chOff x="2895480" y="3854520"/>
            <a:chExt cx="2057400" cy="2044440"/>
          </a:xfrm>
        </p:grpSpPr>
        <p:sp>
          <p:nvSpPr>
            <p:cNvPr id="276" name="Line 30"/>
            <p:cNvSpPr/>
            <p:nvPr/>
          </p:nvSpPr>
          <p:spPr>
            <a:xfrm flipH="1">
              <a:off x="3809520" y="3854520"/>
              <a:ext cx="68580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31"/>
            <p:cNvSpPr/>
            <p:nvPr/>
          </p:nvSpPr>
          <p:spPr>
            <a:xfrm>
              <a:off x="2895480" y="537840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Nucleo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Group 53"/>
          <p:cNvGrpSpPr/>
          <p:nvPr/>
        </p:nvGrpSpPr>
        <p:grpSpPr>
          <a:xfrm>
            <a:off x="2133720" y="3306600"/>
            <a:ext cx="4495320" cy="1219320"/>
            <a:chOff x="2133720" y="3306600"/>
            <a:chExt cx="4495320" cy="1219320"/>
          </a:xfrm>
        </p:grpSpPr>
        <p:sp>
          <p:nvSpPr>
            <p:cNvPr id="279" name="Oval 39"/>
            <p:cNvSpPr/>
            <p:nvPr/>
          </p:nvSpPr>
          <p:spPr>
            <a:xfrm>
              <a:off x="2133720" y="345888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40"/>
            <p:cNvSpPr/>
            <p:nvPr/>
          </p:nvSpPr>
          <p:spPr>
            <a:xfrm>
              <a:off x="2438280" y="414468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41"/>
            <p:cNvSpPr/>
            <p:nvPr/>
          </p:nvSpPr>
          <p:spPr>
            <a:xfrm>
              <a:off x="2209680" y="3840120"/>
              <a:ext cx="15192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42"/>
            <p:cNvSpPr/>
            <p:nvPr/>
          </p:nvSpPr>
          <p:spPr>
            <a:xfrm>
              <a:off x="4952880" y="44496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43"/>
            <p:cNvSpPr/>
            <p:nvPr/>
          </p:nvSpPr>
          <p:spPr>
            <a:xfrm>
              <a:off x="3657600" y="4297320"/>
              <a:ext cx="15192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44"/>
            <p:cNvSpPr/>
            <p:nvPr/>
          </p:nvSpPr>
          <p:spPr>
            <a:xfrm>
              <a:off x="3047760" y="437328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45"/>
            <p:cNvSpPr/>
            <p:nvPr/>
          </p:nvSpPr>
          <p:spPr>
            <a:xfrm>
              <a:off x="2743200" y="33066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46"/>
            <p:cNvSpPr/>
            <p:nvPr/>
          </p:nvSpPr>
          <p:spPr>
            <a:xfrm>
              <a:off x="5181480" y="33066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47"/>
            <p:cNvSpPr/>
            <p:nvPr/>
          </p:nvSpPr>
          <p:spPr>
            <a:xfrm>
              <a:off x="4419360" y="33066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48"/>
            <p:cNvSpPr/>
            <p:nvPr/>
          </p:nvSpPr>
          <p:spPr>
            <a:xfrm>
              <a:off x="3581280" y="33066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49"/>
            <p:cNvSpPr/>
            <p:nvPr/>
          </p:nvSpPr>
          <p:spPr>
            <a:xfrm>
              <a:off x="6476760" y="39924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50"/>
            <p:cNvSpPr/>
            <p:nvPr/>
          </p:nvSpPr>
          <p:spPr>
            <a:xfrm>
              <a:off x="6476760" y="3611520"/>
              <a:ext cx="15228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51"/>
            <p:cNvSpPr/>
            <p:nvPr/>
          </p:nvSpPr>
          <p:spPr>
            <a:xfrm>
              <a:off x="5562360" y="4297320"/>
              <a:ext cx="15228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52"/>
            <p:cNvSpPr/>
            <p:nvPr/>
          </p:nvSpPr>
          <p:spPr>
            <a:xfrm>
              <a:off x="6019560" y="33066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Group 58"/>
          <p:cNvGrpSpPr/>
          <p:nvPr/>
        </p:nvGrpSpPr>
        <p:grpSpPr>
          <a:xfrm>
            <a:off x="304920" y="3916080"/>
            <a:ext cx="2146320" cy="1816200"/>
            <a:chOff x="304920" y="3916080"/>
            <a:chExt cx="2146320" cy="1816200"/>
          </a:xfrm>
        </p:grpSpPr>
        <p:sp>
          <p:nvSpPr>
            <p:cNvPr id="294" name="Text Box 54"/>
            <p:cNvSpPr/>
            <p:nvPr/>
          </p:nvSpPr>
          <p:spPr>
            <a:xfrm>
              <a:off x="304920" y="521172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Ribosom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55"/>
            <p:cNvSpPr/>
            <p:nvPr/>
          </p:nvSpPr>
          <p:spPr>
            <a:xfrm flipV="1">
              <a:off x="1384560" y="4208400"/>
              <a:ext cx="1066680" cy="11426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57"/>
            <p:cNvSpPr/>
            <p:nvPr/>
          </p:nvSpPr>
          <p:spPr>
            <a:xfrm flipV="1">
              <a:off x="1371960" y="3916080"/>
              <a:ext cx="838080" cy="1447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omb dir="horz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228600" y="1295280"/>
            <a:ext cx="87631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84400" indent="-284400">
              <a:lnSpc>
                <a:spcPct val="80000"/>
              </a:lnSpc>
              <a:spcAft>
                <a:spcPts val="601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teria occur in many shapes and sizes. Most bacteria have one of three basic shapes: rod-shaped, sphere-shaped, or spiral-shap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Aft>
                <a:spcPts val="601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piral shap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acteria in the form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pirill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singular, spirillum) or vibrio (comma lik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Aft>
                <a:spcPts val="601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phere-shap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acteria are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cci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singular, coccus). An example of cocci i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icrococcus lute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cc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single or aggregate cells in different shap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Aft>
                <a:spcPts val="601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od-shap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acteria are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acilli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singular, bacillus). An example of bacilli i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scherichia col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cilli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single or aggregate cells in different shapes al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2362320" y="198000"/>
            <a:ext cx="396216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hapes of 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9" descr="p2"/>
          <p:cNvPicPr/>
          <p:nvPr/>
        </p:nvPicPr>
        <p:blipFill>
          <a:blip r:embed="rId1"/>
          <a:stretch/>
        </p:blipFill>
        <p:spPr>
          <a:xfrm>
            <a:off x="228600" y="4178160"/>
            <a:ext cx="8610480" cy="255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304920" y="1676520"/>
            <a:ext cx="8229600" cy="21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tool for identifying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عري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teria, based on differences in their cell wa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)- Gram-positive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Gram +ve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) bacteria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ir cell walls hav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arge amounts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ar-EG" sz="1600" spc="-1" strike="noStrike" u="sng">
                <a:solidFill>
                  <a:srgbClr val="000000"/>
                </a:solidFill>
                <a:uFillTx/>
                <a:latin typeface="Arial"/>
              </a:rPr>
              <a:t>كمية كبيرة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of peptidoglycan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react with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m’s stain (appear </a:t>
            </a:r>
            <a:r>
              <a:rPr b="1" lang="en-GB" sz="2000" spc="-1" strike="noStrike">
                <a:solidFill>
                  <a:srgbClr val="990099"/>
                </a:solidFill>
                <a:latin typeface="Arial"/>
              </a:rPr>
              <a:t>violet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ined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ـُصبغ بنفسجي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4" descr=""/>
          <p:cNvPicPr/>
          <p:nvPr/>
        </p:nvPicPr>
        <p:blipFill>
          <a:blip r:embed="rId1"/>
          <a:srcRect l="0" t="0" r="0" b="51004"/>
          <a:stretch/>
        </p:blipFill>
        <p:spPr>
          <a:xfrm>
            <a:off x="1143000" y="4014720"/>
            <a:ext cx="6858000" cy="26910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2"/>
          <p:cNvSpPr>
            <a:spLocks noGrp="1"/>
          </p:cNvSpPr>
          <p:nvPr>
            <p:ph type="title"/>
          </p:nvPr>
        </p:nvSpPr>
        <p:spPr>
          <a:xfrm>
            <a:off x="1828440" y="285480"/>
            <a:ext cx="518148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e Gram’s stain: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صبغة جرا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19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B)- Gram-negativ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am -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cteri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ir cell walls have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no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small amount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f  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peptidoglyca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o, do not react or very weakly react with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m’s stain (appea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d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ined </a:t>
            </a:r>
            <a:r>
              <a:rPr b="1" lang="ar-EG" sz="1400" spc="-1" strike="noStrike">
                <a:solidFill>
                  <a:srgbClr val="000000"/>
                </a:solidFill>
                <a:latin typeface="Arial"/>
              </a:rPr>
              <a:t>تصبغ بالأحم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4" descr=""/>
          <p:cNvPicPr/>
          <p:nvPr/>
        </p:nvPicPr>
        <p:blipFill>
          <a:blip r:embed="rId1"/>
          <a:srcRect l="0" t="48410" r="0" b="3184"/>
          <a:stretch/>
        </p:blipFill>
        <p:spPr>
          <a:xfrm>
            <a:off x="609480" y="3693960"/>
            <a:ext cx="7772400" cy="30117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2"/>
          <p:cNvSpPr>
            <a:spLocks noGrp="1"/>
          </p:cNvSpPr>
          <p:nvPr>
            <p:ph type="title"/>
          </p:nvPr>
        </p:nvSpPr>
        <p:spPr>
          <a:xfrm>
            <a:off x="1904760" y="228240"/>
            <a:ext cx="510516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e Gram’s stain: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صبغة جرا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228600" y="1447920"/>
            <a:ext cx="87631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Gram S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species of bacteria are classified into two categories based on the structure of their cell walls as determined by a technique called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ram st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ram-positive bacter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a thick layer of peptidoglycan in their cell wall,  and they appea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iol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der a microscope after the Gram-staining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ram-negative bacter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a thin layer of peptidoglycan in their cell wall, and they appear reddish-pink under a microscope after the Gram-staining proced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1"/>
          <p:cNvSpPr/>
          <p:nvPr/>
        </p:nvSpPr>
        <p:spPr>
          <a:xfrm>
            <a:off x="1600200" y="2574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mmary of Gram’s stain: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صبغة جرا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17524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Gram +ve bacteria: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have Large amount of peptidoglycan that stained </a:t>
            </a:r>
            <a:r>
              <a:rPr b="1" lang="en-GB" sz="2200" spc="-1" strike="noStrike">
                <a:solidFill>
                  <a:srgbClr val="990099"/>
                </a:solidFill>
                <a:latin typeface="Arial"/>
              </a:rPr>
              <a:t>viol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Gram –ve bacteria: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Have small amount or no peptidoglycan </a:t>
            </a: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stained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6"/>
          <p:cNvSpPr/>
          <p:nvPr/>
        </p:nvSpPr>
        <p:spPr>
          <a:xfrm>
            <a:off x="228600" y="3941640"/>
            <a:ext cx="8458200" cy="19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ram-negative species are pathogenic 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مرض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more threaten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أكثر خطور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n gram-positive spec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m-negative bacteria are commonly more resistant 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أكثر ممانع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han gram-positive species to antibiotic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للمضادات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حيو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1"/>
          <p:cNvSpPr/>
          <p:nvPr/>
        </p:nvSpPr>
        <p:spPr>
          <a:xfrm>
            <a:off x="1600200" y="2574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mmary of Gram’s stain: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صبغة جرا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152280" y="1599840"/>
            <a:ext cx="8839440" cy="510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-565920">
              <a:spcBef>
                <a:spcPts val="64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ny prokaryotes (bacteria)                                                   secrete a sticky                                              protective layer called                                                                 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capsul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outside                                                           the cell wal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spcBef>
                <a:spcPts val="64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Capsul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has the                                                        following function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وظائف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spcBef>
                <a:spcPts val="499"/>
              </a:spcBef>
              <a:buClr>
                <a:srgbClr val="0000ff"/>
              </a:buClr>
              <a:buFont typeface="Wingdings" charset="2"/>
              <a:buChar char="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dhere 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ثبيت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acterial cells to their substratum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سطح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spcBef>
                <a:spcPts val="499"/>
              </a:spcBef>
              <a:buClr>
                <a:srgbClr val="0000ff"/>
              </a:buClr>
              <a:buFont typeface="Wingdings" charset="2"/>
              <a:buChar char="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ncrease bacterial resistanc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قاومة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o host defens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ناعة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عائل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spcBef>
                <a:spcPts val="499"/>
              </a:spcBef>
              <a:buClr>
                <a:srgbClr val="0000ff"/>
              </a:buClr>
              <a:buFont typeface="Wingdings" charset="2"/>
              <a:buChar char="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Stick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لصق</a:t>
            </a: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ar-EG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acterial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lls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together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hen live in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olon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spcBef>
                <a:spcPts val="499"/>
              </a:spcBef>
              <a:buClr>
                <a:srgbClr val="0000ff"/>
              </a:buClr>
              <a:buFont typeface="Wingdings" charset="2"/>
              <a:buChar char="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tec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حمى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acterial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4" descr=""/>
          <p:cNvPicPr/>
          <p:nvPr/>
        </p:nvPicPr>
        <p:blipFill>
          <a:blip r:embed="rId1"/>
          <a:stretch/>
        </p:blipFill>
        <p:spPr>
          <a:xfrm>
            <a:off x="5029200" y="2090880"/>
            <a:ext cx="4038480" cy="2709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313" name="Text Box 6"/>
          <p:cNvSpPr/>
          <p:nvPr/>
        </p:nvSpPr>
        <p:spPr>
          <a:xfrm>
            <a:off x="1905120" y="3049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oper Black"/>
              </a:rPr>
              <a:t>I - the bacterial caps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380880" y="1676160"/>
            <a:ext cx="8229600" cy="53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95640" indent="-395640">
              <a:lnSpc>
                <a:spcPct val="130000"/>
              </a:lnSpc>
              <a:spcBef>
                <a:spcPts val="55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all prokaryotes, the functions of the cell wall are as follow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lnSpc>
                <a:spcPct val="130000"/>
              </a:lnSpc>
              <a:spcBef>
                <a:spcPts val="575"/>
              </a:spcBef>
              <a:buClr>
                <a:srgbClr val="0000ff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maintain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حافظ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the shape of the cell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lnSpc>
                <a:spcPct val="130000"/>
              </a:lnSpc>
              <a:spcBef>
                <a:spcPts val="575"/>
              </a:spcBef>
              <a:buClr>
                <a:srgbClr val="0000ff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affords physical protection </a:t>
            </a:r>
            <a:r>
              <a:rPr b="1" lang="ar-EG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حماية الطبيعية</a:t>
            </a:r>
            <a:r>
              <a:rPr b="0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1900" spc="-1" strike="noStrike">
                <a:solidFill>
                  <a:srgbClr val="000000"/>
                </a:solidFill>
                <a:latin typeface="Arial"/>
              </a:rPr>
              <a:t>توفر</a:t>
            </a:r>
            <a:r>
              <a:rPr b="0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lnSpc>
                <a:spcPct val="130000"/>
              </a:lnSpc>
              <a:spcBef>
                <a:spcPts val="575"/>
              </a:spcBef>
              <a:buClr>
                <a:srgbClr val="0000ff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prevents the cell from bursting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نفجار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in a hypotonic environment </a:t>
            </a:r>
            <a:r>
              <a:rPr b="1" lang="ar-EG" sz="1700" spc="-1" strike="noStrike">
                <a:solidFill>
                  <a:srgbClr val="000000"/>
                </a:solidFill>
                <a:latin typeface="Arial"/>
              </a:rPr>
              <a:t>البيئة ذات </a:t>
            </a:r>
            <a:r>
              <a:rPr b="1" lang="ar-SA" sz="1700" spc="-1" strike="noStrike">
                <a:solidFill>
                  <a:srgbClr val="000000"/>
                </a:solidFill>
                <a:latin typeface="Arial"/>
              </a:rPr>
              <a:t>التركيز</a:t>
            </a:r>
            <a:r>
              <a:rPr b="1" lang="ar-EG" sz="1700" spc="-1" strike="noStrike">
                <a:solidFill>
                  <a:srgbClr val="000000"/>
                </a:solidFill>
                <a:latin typeface="Arial"/>
              </a:rPr>
              <a:t> الأسموزى المنخفض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95640" indent="0">
              <a:lnSpc>
                <a:spcPct val="13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130000"/>
              </a:lnSpc>
              <a:spcBef>
                <a:spcPts val="55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st bacterial cell walls contain </a:t>
            </a:r>
            <a:r>
              <a:rPr b="1" lang="en-US" sz="3200" spc="-1" strike="noStrike" u="sng">
                <a:solidFill>
                  <a:srgbClr val="800080"/>
                </a:solidFill>
                <a:uFillTx/>
                <a:latin typeface="Copperplate Gothic Bold"/>
              </a:rPr>
              <a:t>peptidoglyca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                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lymer of modified sugars cross-linked by short polypeptide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13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walls of Archaea lack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ـفـتـقـد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eptidoglyc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1600200" y="304560"/>
            <a:ext cx="64008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oper Black"/>
              </a:rPr>
              <a:t>II - The bacterial cell 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806E3-FA66-4FBD-8DBB-2408C6CB594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2438280" y="304920"/>
            <a:ext cx="48769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Copperplate Gothic Bold"/>
              </a:rPr>
              <a:t>Cell Theory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304920" y="1676520"/>
            <a:ext cx="830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1- All organisms are composed of one or</a:t>
            </a:r>
            <a:br>
              <a:rPr sz="3200"/>
            </a:b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    more of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380880" y="342900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2- Cell is the basic unit of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380880" y="480060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3- The new cell arises only from pre-</a:t>
            </a:r>
            <a:br>
              <a:rPr sz="3200"/>
            </a:b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     existing c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7"/>
          <p:cNvSpPr/>
          <p:nvPr/>
        </p:nvSpPr>
        <p:spPr>
          <a:xfrm>
            <a:off x="152280" y="139716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tructural Characteristics of a Bacterial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3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5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6">
            <a:hlinkClick r:id="rId1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7" descr="p5"/>
          <p:cNvPicPr/>
          <p:nvPr/>
        </p:nvPicPr>
        <p:blipFill>
          <a:blip r:embed="rId2"/>
          <a:stretch/>
        </p:blipFill>
        <p:spPr>
          <a:xfrm>
            <a:off x="152280" y="1380960"/>
            <a:ext cx="8839440" cy="498492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0" y="228600"/>
            <a:ext cx="9144000" cy="53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utritional and metabolic d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prokaryotes (and eukaryotes too) are grouped into four (4) categories according to how they obta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nerg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arb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 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hotoautotrop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Photosynthetic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se light as the energy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CO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the carbon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  Cyanobacteria; plants (eukaryotic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2"/>
          <p:cNvSpPr/>
          <p:nvPr/>
        </p:nvSpPr>
        <p:spPr>
          <a:xfrm>
            <a:off x="0" y="193680"/>
            <a:ext cx="9144000" cy="45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 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moautotrop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Energy from oxidation of inorganic substances (e.g. 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CO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the carbon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 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ulfolobus, Beggiato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hown on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0" y="457200"/>
            <a:ext cx="853452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 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hotoheterotrop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Light as energy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Organic compounds are source of carb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 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moheterotrop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Organic compounds are energy source and source of carbon (this includes hum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s:  Many prokaryotes; animals (eukaryotic); fungi (eukaryot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E:\ImageLibrary18-28\27-Prokaryotes\27T-01-NutritionalModes-L.gif"/>
          <p:cNvPicPr/>
          <p:nvPr/>
        </p:nvPicPr>
        <p:blipFill>
          <a:blip r:embed="rId1"/>
          <a:stretch/>
        </p:blipFill>
        <p:spPr>
          <a:xfrm>
            <a:off x="914400" y="182520"/>
            <a:ext cx="7391520" cy="6561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304920" y="1295280"/>
            <a:ext cx="39621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division involves inward growth of the plasma membrane, dividing the parent cell into two daughter cells, each with a complete geno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719600" y="228600"/>
            <a:ext cx="4151520" cy="640080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6"/>
          <p:cNvSpPr/>
          <p:nvPr/>
        </p:nvSpPr>
        <p:spPr>
          <a:xfrm>
            <a:off x="764280" y="304920"/>
            <a:ext cx="50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binary fission in bacte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B961C-FDD7-484E-99EA-0C2F793B8423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66ff33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2666880" y="685800"/>
            <a:ext cx="3962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pperplate Gothic Bold"/>
              </a:rPr>
              <a:t>B- Eukaryotic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11" descr=""/>
          <p:cNvPicPr/>
          <p:nvPr/>
        </p:nvPicPr>
        <p:blipFill>
          <a:blip r:embed="rId1"/>
          <a:stretch/>
        </p:blipFill>
        <p:spPr>
          <a:xfrm>
            <a:off x="0" y="1371600"/>
            <a:ext cx="4836960" cy="54864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2" descr=""/>
          <p:cNvPicPr/>
          <p:nvPr/>
        </p:nvPicPr>
        <p:blipFill>
          <a:blip r:embed="rId2"/>
          <a:srcRect l="0" t="0" r="0" b="3080"/>
          <a:stretch/>
        </p:blipFill>
        <p:spPr>
          <a:xfrm>
            <a:off x="4800600" y="1371600"/>
            <a:ext cx="4343400" cy="54864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304920" y="228600"/>
            <a:ext cx="8381880" cy="60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SzPct val="7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eukaryote cells, the chromosomes are contained within a membranous nuclear envelo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SzPct val="7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gion between the nucleus and the plasma membrane is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ytopla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SzPct val="70000"/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the material within the plasma membrane of a prokaryotic cell is cytopla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SzPct val="7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in the cytoplasm of a eukaryotic cell is a variety of membrane-bounded organelles of specialized form and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SzPct val="70000"/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membrane-bounded organelles are absent in prokaryo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2"/>
          <p:cNvSpPr/>
          <p:nvPr/>
        </p:nvSpPr>
        <p:spPr>
          <a:xfrm>
            <a:off x="304920" y="228600"/>
            <a:ext cx="8381880" cy="45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SzPct val="7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ic cells are generally much bigger than prokaryotic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SzPct val="7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gistics of carrying out metabolism set limits on cell si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SzPct val="70000"/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e lower limit, the smallest bacteria, mycoplasmas, are between 0.1 to 1.0 micr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SzPct val="70000"/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bacteria are 1-10 microns in diame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SzPct val="70000"/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karyotic cells are typically 10-100 microns in diame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~LWF00011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40872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228240" y="2531880"/>
            <a:ext cx="8915400" cy="333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cells are surrounded by a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plasma membra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emi-fluid substance within the cell is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cytosol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containing the cell organel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cells contain chromosomes which have genes in the form of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cells have tiny organelles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Ribosomes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t make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1600200" y="15228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1).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Prokaryotic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eukaryotic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 cells</a:t>
            </a:r>
            <a:br>
              <a:rPr sz="2600"/>
            </a:b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     differ in size and complex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152280" y="14479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2514600" y="1600200"/>
            <a:ext cx="41148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0080"/>
                </a:solidFill>
                <a:uFillTx/>
                <a:latin typeface="Arial"/>
              </a:rPr>
              <a:t>Simila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0" y="1587240"/>
            <a:ext cx="8686800" cy="40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eukaryotic cell has internal membranes, which partition the cell into compartments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membranes also participate in metabolism as many enzymes are built into membra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eneral structure of a biological membrane is a double layer of phospholipids and diverse protei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type of membrane has a unique combination of lipids and proteins for its specific fun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example, those in the membranes of mitochondria function in cellular respi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title"/>
          </p:nvPr>
        </p:nvSpPr>
        <p:spPr>
          <a:xfrm>
            <a:off x="380880" y="22824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nal membranes compartmentalize the functions of a eukaryotic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5"/>
          <p:cNvSpPr/>
          <p:nvPr/>
        </p:nvSpPr>
        <p:spPr>
          <a:xfrm>
            <a:off x="152280" y="12193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2"/>
          <p:cNvSpPr/>
          <p:nvPr/>
        </p:nvSpPr>
        <p:spPr>
          <a:xfrm>
            <a:off x="3581280" y="990720"/>
            <a:ext cx="22100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u: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aryon: Nucl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"/>
          <p:cNvSpPr/>
          <p:nvPr/>
        </p:nvSpPr>
        <p:spPr>
          <a:xfrm>
            <a:off x="2666880" y="22860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- Eukaryotic C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1523880" y="37638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Animal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5715000" y="368784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Plant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6"/>
          <p:cNvGrpSpPr/>
          <p:nvPr/>
        </p:nvGrpSpPr>
        <p:grpSpPr>
          <a:xfrm>
            <a:off x="2743200" y="2286000"/>
            <a:ext cx="3962520" cy="1401120"/>
            <a:chOff x="2743200" y="2286000"/>
            <a:chExt cx="3962520" cy="1401120"/>
          </a:xfrm>
        </p:grpSpPr>
        <p:sp>
          <p:nvSpPr>
            <p:cNvPr id="346" name="Line 7"/>
            <p:cNvSpPr/>
            <p:nvPr/>
          </p:nvSpPr>
          <p:spPr>
            <a:xfrm>
              <a:off x="4648320" y="2286000"/>
              <a:ext cx="0" cy="800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8"/>
            <p:cNvSpPr/>
            <p:nvPr/>
          </p:nvSpPr>
          <p:spPr>
            <a:xfrm>
              <a:off x="2743200" y="3086640"/>
              <a:ext cx="3962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9"/>
            <p:cNvSpPr/>
            <p:nvPr/>
          </p:nvSpPr>
          <p:spPr>
            <a:xfrm flipH="1">
              <a:off x="2743200" y="3086640"/>
              <a:ext cx="12960" cy="60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10"/>
            <p:cNvSpPr/>
            <p:nvPr/>
          </p:nvSpPr>
          <p:spPr>
            <a:xfrm flipH="1">
              <a:off x="6692760" y="3086640"/>
              <a:ext cx="12600" cy="60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Oval 11"/>
          <p:cNvSpPr/>
          <p:nvPr/>
        </p:nvSpPr>
        <p:spPr>
          <a:xfrm>
            <a:off x="3429000" y="914400"/>
            <a:ext cx="2514600" cy="10666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3"/>
          <p:cNvSpPr/>
          <p:nvPr/>
        </p:nvSpPr>
        <p:spPr>
          <a:xfrm>
            <a:off x="76320" y="551664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Impact"/>
              </a:rPr>
              <a:t>Compare between Animal and Plant ce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4"/>
          <p:cNvSpPr/>
          <p:nvPr/>
        </p:nvSpPr>
        <p:spPr>
          <a:xfrm>
            <a:off x="228600" y="49831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Impact"/>
              </a:rPr>
              <a:t>What are the functions of cell organell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4" descr=""/>
          <p:cNvPicPr/>
          <p:nvPr/>
        </p:nvPicPr>
        <p:blipFill>
          <a:blip r:embed="rId1"/>
          <a:stretch/>
        </p:blipFill>
        <p:spPr>
          <a:xfrm>
            <a:off x="4643280" y="281160"/>
            <a:ext cx="4249800" cy="35287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5" descr=""/>
          <p:cNvPicPr/>
          <p:nvPr/>
        </p:nvPicPr>
        <p:blipFill>
          <a:blip r:embed="rId2"/>
          <a:stretch/>
        </p:blipFill>
        <p:spPr>
          <a:xfrm>
            <a:off x="4643280" y="3886200"/>
            <a:ext cx="4321440" cy="266400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6"/>
          <p:cNvSpPr/>
          <p:nvPr/>
        </p:nvSpPr>
        <p:spPr>
          <a:xfrm>
            <a:off x="304920" y="457200"/>
            <a:ext cx="4572000" cy="53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okaryot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u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true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ary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= nucleus . Plant and animals have real nucleus, surrounded with nuclear membra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Bacteria and the virus’s have no real nucleus they contain nucleiod  region (no nuclear membrane) were the very simple genetic material (DNA or chromoso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rokaryotic cells (bacteria and viruses) also have a very simples cell structure cell wall, cell membrane, cytoplasm, ribosome’s and nucleiod area for a very simple genetic material (DNA or RNA) and cilia or flagell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uokayotic cells have a very complex structure and many cell organelle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Look at the book page 112. 6th ed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FE537-6142-4048-B5B5-C3D89681881F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3" descr=""/>
          <p:cNvPicPr/>
          <p:nvPr/>
        </p:nvPicPr>
        <p:blipFill>
          <a:blip r:embed="rId1"/>
          <a:srcRect l="0" t="0" r="0" b="3847"/>
          <a:stretch/>
        </p:blipFill>
        <p:spPr>
          <a:xfrm>
            <a:off x="152280" y="228600"/>
            <a:ext cx="8858520" cy="581328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6"/>
          <p:cNvSpPr/>
          <p:nvPr/>
        </p:nvSpPr>
        <p:spPr>
          <a:xfrm>
            <a:off x="3886200" y="5334120"/>
            <a:ext cx="990720" cy="304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8"/>
          <p:cNvSpPr/>
          <p:nvPr/>
        </p:nvSpPr>
        <p:spPr>
          <a:xfrm>
            <a:off x="685800" y="1219320"/>
            <a:ext cx="990720" cy="304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0"/>
          <p:cNvSpPr/>
          <p:nvPr/>
        </p:nvSpPr>
        <p:spPr>
          <a:xfrm>
            <a:off x="5791320" y="480060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ميتوكوندري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1"/>
          <p:cNvSpPr/>
          <p:nvPr/>
        </p:nvSpPr>
        <p:spPr>
          <a:xfrm>
            <a:off x="6781680" y="441972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غشاء بلازم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2"/>
          <p:cNvSpPr/>
          <p:nvPr/>
        </p:nvSpPr>
        <p:spPr>
          <a:xfrm>
            <a:off x="6781680" y="396252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حهاز جولـﭽـ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3"/>
          <p:cNvSpPr/>
          <p:nvPr/>
        </p:nvSpPr>
        <p:spPr>
          <a:xfrm>
            <a:off x="7162920" y="327672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ريبوسو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4"/>
          <p:cNvSpPr/>
          <p:nvPr/>
        </p:nvSpPr>
        <p:spPr>
          <a:xfrm>
            <a:off x="838080" y="579132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هيكل الخلو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5"/>
          <p:cNvSpPr/>
          <p:nvPr/>
        </p:nvSpPr>
        <p:spPr>
          <a:xfrm>
            <a:off x="3733920" y="56386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جسم مُحل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7"/>
          <p:cNvSpPr/>
          <p:nvPr/>
        </p:nvSpPr>
        <p:spPr>
          <a:xfrm>
            <a:off x="457200" y="24382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جسم مركز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8"/>
          <p:cNvSpPr/>
          <p:nvPr/>
        </p:nvSpPr>
        <p:spPr>
          <a:xfrm>
            <a:off x="533520" y="15238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سوط حرك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9"/>
          <p:cNvSpPr/>
          <p:nvPr/>
        </p:nvSpPr>
        <p:spPr>
          <a:xfrm>
            <a:off x="1676520" y="15228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شبكة الإندوبلازم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20"/>
          <p:cNvSpPr/>
          <p:nvPr/>
        </p:nvSpPr>
        <p:spPr>
          <a:xfrm>
            <a:off x="7112160" y="72396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نوا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21"/>
          <p:cNvSpPr/>
          <p:nvPr/>
        </p:nvSpPr>
        <p:spPr>
          <a:xfrm>
            <a:off x="5435640" y="1015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مادة الوراث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22"/>
          <p:cNvSpPr/>
          <p:nvPr/>
        </p:nvSpPr>
        <p:spPr>
          <a:xfrm>
            <a:off x="6400800" y="5335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نو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23"/>
          <p:cNvSpPr/>
          <p:nvPr/>
        </p:nvSpPr>
        <p:spPr>
          <a:xfrm>
            <a:off x="5702400" y="92700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جدار النوو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24"/>
          <p:cNvSpPr/>
          <p:nvPr/>
        </p:nvSpPr>
        <p:spPr>
          <a:xfrm>
            <a:off x="533520" y="45403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حلمات دقيق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CAA45-9CFC-4C86-8B3E-846AEFB87B70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3" descr=""/>
          <p:cNvPicPr/>
          <p:nvPr/>
        </p:nvPicPr>
        <p:blipFill>
          <a:blip r:embed="rId1"/>
          <a:srcRect l="0" t="0" r="0" b="4658"/>
          <a:stretch/>
        </p:blipFill>
        <p:spPr>
          <a:xfrm>
            <a:off x="152280" y="228600"/>
            <a:ext cx="8915400" cy="6031080"/>
          </a:xfrm>
          <a:prstGeom prst="rect">
            <a:avLst/>
          </a:prstGeom>
          <a:ln w="0">
            <a:noFill/>
          </a:ln>
        </p:spPr>
      </p:pic>
      <p:grpSp>
        <p:nvGrpSpPr>
          <p:cNvPr id="376" name="Group 10"/>
          <p:cNvGrpSpPr/>
          <p:nvPr/>
        </p:nvGrpSpPr>
        <p:grpSpPr>
          <a:xfrm>
            <a:off x="2438280" y="2413080"/>
            <a:ext cx="4686480" cy="3504960"/>
            <a:chOff x="2438280" y="2413080"/>
            <a:chExt cx="4686480" cy="3504960"/>
          </a:xfrm>
        </p:grpSpPr>
        <p:sp>
          <p:nvSpPr>
            <p:cNvPr id="377" name="Rectangle 6"/>
            <p:cNvSpPr/>
            <p:nvPr/>
          </p:nvSpPr>
          <p:spPr>
            <a:xfrm>
              <a:off x="4267080" y="5613480"/>
              <a:ext cx="1447920" cy="3045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7"/>
            <p:cNvSpPr/>
            <p:nvPr/>
          </p:nvSpPr>
          <p:spPr>
            <a:xfrm>
              <a:off x="5918040" y="5003640"/>
              <a:ext cx="114300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8"/>
            <p:cNvSpPr/>
            <p:nvPr/>
          </p:nvSpPr>
          <p:spPr>
            <a:xfrm>
              <a:off x="5676840" y="2413080"/>
              <a:ext cx="1447920" cy="3045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9"/>
            <p:cNvSpPr/>
            <p:nvPr/>
          </p:nvSpPr>
          <p:spPr>
            <a:xfrm>
              <a:off x="2438280" y="5257800"/>
              <a:ext cx="91440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Text Box 11"/>
          <p:cNvSpPr/>
          <p:nvPr/>
        </p:nvSpPr>
        <p:spPr>
          <a:xfrm>
            <a:off x="6934320" y="23623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فجوة مركز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2"/>
          <p:cNvSpPr/>
          <p:nvPr/>
        </p:nvSpPr>
        <p:spPr>
          <a:xfrm>
            <a:off x="7010280" y="499104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بلاستيدة خضرا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3"/>
          <p:cNvSpPr/>
          <p:nvPr/>
        </p:nvSpPr>
        <p:spPr>
          <a:xfrm>
            <a:off x="4267080" y="591192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ثقوب بين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4"/>
          <p:cNvSpPr/>
          <p:nvPr/>
        </p:nvSpPr>
        <p:spPr>
          <a:xfrm>
            <a:off x="1143000" y="525780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جدار الخلو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5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2"/>
          <p:cNvSpPr/>
          <p:nvPr/>
        </p:nvSpPr>
        <p:spPr>
          <a:xfrm>
            <a:off x="228600" y="1219320"/>
            <a:ext cx="4648320" cy="44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SzPct val="7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ytokinesis, division of the cytoplasm, typically follows mito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SzPct val="7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animals, the first sign of cytokinesis (cleavage)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 the appearance of a cleavage furrow in the cell surface near the old metaphase pl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3"/>
          <p:cNvSpPr/>
          <p:nvPr/>
        </p:nvSpPr>
        <p:spPr>
          <a:xfrm>
            <a:off x="228600" y="152280"/>
            <a:ext cx="8763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9000" indent="-45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9933"/>
                </a:solidFill>
                <a:latin typeface="Arial"/>
              </a:rPr>
              <a:t>Cytokinesis in animal cell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9" descr=""/>
          <p:cNvPicPr/>
          <p:nvPr/>
        </p:nvPicPr>
        <p:blipFill>
          <a:blip r:embed="rId1"/>
          <a:srcRect l="0" t="0" r="56038" b="5551"/>
          <a:stretch/>
        </p:blipFill>
        <p:spPr>
          <a:xfrm>
            <a:off x="5181480" y="1066680"/>
            <a:ext cx="3535560" cy="533412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2"/>
          <p:cNvSpPr/>
          <p:nvPr/>
        </p:nvSpPr>
        <p:spPr>
          <a:xfrm>
            <a:off x="304920" y="228600"/>
            <a:ext cx="8381880" cy="57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SzPct val="7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tokinesis in plants, which have cell walls, involves a completely different mechan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SzPct val="7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telophase, vesicl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Golgi coalesce a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taphase plat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ing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ll pl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SzPct val="70000"/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late enlarges until i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ranes fuse with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sma membrane at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meter, with the conten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vesicles forming new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l material in betwe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4" descr=""/>
          <p:cNvPicPr/>
          <p:nvPr/>
        </p:nvPicPr>
        <p:blipFill>
          <a:blip r:embed="rId1"/>
          <a:srcRect l="58070" t="5584" r="0" b="5551"/>
          <a:stretch/>
        </p:blipFill>
        <p:spPr>
          <a:xfrm>
            <a:off x="5564160" y="1447920"/>
            <a:ext cx="3274920" cy="48765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CD879-C576-4C11-96EC-9BB3F35B593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2"/>
          <p:cNvSpPr/>
          <p:nvPr/>
        </p:nvSpPr>
        <p:spPr>
          <a:xfrm>
            <a:off x="406440" y="228600"/>
            <a:ext cx="8454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karyotic vs. eukaryotic gene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3" descr="F09-01"/>
          <p:cNvPicPr/>
          <p:nvPr/>
        </p:nvPicPr>
        <p:blipFill>
          <a:blip r:embed="rId1"/>
          <a:stretch/>
        </p:blipFill>
        <p:spPr>
          <a:xfrm>
            <a:off x="2070000" y="1628640"/>
            <a:ext cx="4356360" cy="4862520"/>
          </a:xfrm>
          <a:prstGeom prst="rect">
            <a:avLst/>
          </a:prstGeom>
          <a:ln w="0">
            <a:noFill/>
          </a:ln>
        </p:spPr>
      </p:pic>
      <p:sp>
        <p:nvSpPr>
          <p:cNvPr id="394" name="Text Box 4"/>
          <p:cNvSpPr/>
          <p:nvPr/>
        </p:nvSpPr>
        <p:spPr>
          <a:xfrm>
            <a:off x="6632640" y="2362320"/>
            <a:ext cx="194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okary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cistron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5"/>
          <p:cNvSpPr/>
          <p:nvPr/>
        </p:nvSpPr>
        <p:spPr>
          <a:xfrm>
            <a:off x="6555960" y="4952880"/>
            <a:ext cx="214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ukary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ocistron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-360" y="2286000"/>
            <a:ext cx="8991720" cy="37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major difference between prokaryotic and eukaryotic cells is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ocation of chromosomes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7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n eukaryotic cell, chromosomes are contained in a true </a:t>
            </a:r>
            <a:r>
              <a:rPr b="1" i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nucleu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 prokaryotic cell, the DNA is concentrated in the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nucleo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without a membrane  separating it from the rest of the cel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prokaryotic cell, DNA is a single strand or double strand  DNA. But in eukaryotic cell, DNA is double str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1371600" y="15228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1).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Prokaryotic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eukaryotic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 cells</a:t>
            </a:r>
            <a:br>
              <a:rPr sz="2600"/>
            </a:b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     differ in size and complex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152280" y="14479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2209680" y="16002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0080"/>
                </a:solidFill>
                <a:uFillTx/>
                <a:latin typeface="Arial"/>
              </a:rPr>
              <a:t>Dif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8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17680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7"/>
          <p:cNvSpPr/>
          <p:nvPr/>
        </p:nvSpPr>
        <p:spPr>
          <a:xfrm>
            <a:off x="2421000" y="9079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pperplate Gothic Bold"/>
              </a:rPr>
              <a:t>A)- Prokaryo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46479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What are Prokaryot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ncludes two Major Domains: Archaea and Bac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karyotes are single-celled organisms that do not have a membrane-bound nucleus, and can live in nearly every environment on Ear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hough tiny, prokaryotes differ greatly in their genetic traits, their modes of nutrition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 however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ir habitats are simi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d on genetic differences, prokaryotes are grouped in two domains: Domain Archaea and Domain Bacte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karyote” means “before a nucleu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 internal membrane-bound organelles – just one little bag of cytopla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 nucle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sually single-celled (may form simple colon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y or may not require oxygen for surviv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arliest types of cells on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ell type of all bacteria and Archa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2057400" y="304920"/>
            <a:ext cx="4267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kary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609480" y="762120"/>
            <a:ext cx="807732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c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ugh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n eukary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survive almost anywhere – and d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much great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enetic divers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n eukary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ell wall surrounding the cell membrane (different chemistry from plant cell wal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3" descr="image: cross section of typical bacterial cell"/>
          <p:cNvPicPr/>
          <p:nvPr/>
        </p:nvPicPr>
        <p:blipFill>
          <a:blip r:embed="rId1"/>
          <a:stretch/>
        </p:blipFill>
        <p:spPr>
          <a:xfrm>
            <a:off x="3733920" y="3708360"/>
            <a:ext cx="4190760" cy="2768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 spd="med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4"/>
          <p:cNvSpPr/>
          <p:nvPr/>
        </p:nvSpPr>
        <p:spPr>
          <a:xfrm>
            <a:off x="2895480" y="1828800"/>
            <a:ext cx="335304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kary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9"/>
          <p:cNvGrpSpPr/>
          <p:nvPr/>
        </p:nvGrpSpPr>
        <p:grpSpPr>
          <a:xfrm>
            <a:off x="2133720" y="2438280"/>
            <a:ext cx="4952880" cy="914400"/>
            <a:chOff x="2133720" y="2438280"/>
            <a:chExt cx="4952880" cy="914400"/>
          </a:xfrm>
        </p:grpSpPr>
        <p:sp>
          <p:nvSpPr>
            <p:cNvPr id="229" name="Line 5"/>
            <p:cNvSpPr/>
            <p:nvPr/>
          </p:nvSpPr>
          <p:spPr>
            <a:xfrm>
              <a:off x="4572000" y="24382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6"/>
            <p:cNvSpPr/>
            <p:nvPr/>
          </p:nvSpPr>
          <p:spPr>
            <a:xfrm>
              <a:off x="2133720" y="2895480"/>
              <a:ext cx="495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7"/>
            <p:cNvSpPr/>
            <p:nvPr/>
          </p:nvSpPr>
          <p:spPr>
            <a:xfrm>
              <a:off x="2133720" y="28954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8"/>
            <p:cNvSpPr/>
            <p:nvPr/>
          </p:nvSpPr>
          <p:spPr>
            <a:xfrm>
              <a:off x="7086600" y="28954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Oval 10"/>
          <p:cNvSpPr/>
          <p:nvPr/>
        </p:nvSpPr>
        <p:spPr>
          <a:xfrm>
            <a:off x="990720" y="3429000"/>
            <a:ext cx="236196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1"/>
          <p:cNvSpPr/>
          <p:nvPr/>
        </p:nvSpPr>
        <p:spPr>
          <a:xfrm>
            <a:off x="5943600" y="3429000"/>
            <a:ext cx="236232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rcha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2"/>
          <p:cNvSpPr/>
          <p:nvPr/>
        </p:nvSpPr>
        <p:spPr>
          <a:xfrm>
            <a:off x="4952880" y="4513320"/>
            <a:ext cx="3810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Exist in extreme environments (hot and salt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3"/>
          <p:cNvSpPr/>
          <p:nvPr/>
        </p:nvSpPr>
        <p:spPr>
          <a:xfrm>
            <a:off x="838080" y="4565520"/>
            <a:ext cx="2667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Exist in most environ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4"/>
          <p:cNvSpPr/>
          <p:nvPr/>
        </p:nvSpPr>
        <p:spPr>
          <a:xfrm>
            <a:off x="380880" y="525780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y are differing in some other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structural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 biochemical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 physiological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5"/>
          <p:cNvSpPr/>
          <p:nvPr/>
        </p:nvSpPr>
        <p:spPr>
          <a:xfrm>
            <a:off x="152280" y="16765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7"/>
          <p:cNvSpPr/>
          <p:nvPr/>
        </p:nvSpPr>
        <p:spPr>
          <a:xfrm>
            <a:off x="2438280" y="228600"/>
            <a:ext cx="5334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opperplate Gothic Bold"/>
              </a:rPr>
              <a:t>Types of Prokaryo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1T18:57:57Z</dcterms:created>
  <dc:creator>Ash Ahm</dc:creator>
  <dc:description/>
  <dc:language>en-US</dc:language>
  <cp:lastModifiedBy>User</cp:lastModifiedBy>
  <dcterms:modified xsi:type="dcterms:W3CDTF">2015-02-17T10:56:42Z</dcterms:modified>
  <cp:revision>45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