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7270-B902-43AA-94AF-064B11EE7B3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3A37-157C-4B9D-A231-8755C8B58E84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8F2D-CD8A-4C50-9864-FB6053F30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3722-4F8B-4FF8-8B6D-2647C845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FAA5-F825-436E-B148-7F4BBEE0C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7EC5-ED98-4655-A61A-3B939B6CA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C7AE-25E4-40F1-A9C9-88D8DE29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A583-FFF3-4736-9EF6-A8C8FF18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FE0B-3D3B-4B57-A086-CB4D24B2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6716-9710-44CF-ADF7-8F6E0A0B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E185-24BC-41CA-B36B-35751774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4082-7D18-487D-8C12-553F5681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DF39-AFC1-4A6D-932F-2E7AFD89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68EA-4728-44BF-B55D-DE5B0A80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CB57-73A3-4601-A462-F6CE6A0ED23B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11080" y="1009440"/>
            <a:ext cx="217188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79560" y="4093920"/>
            <a:ext cx="5572080" cy="17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Arial"/>
              </a:rPr>
              <a:t>BCH 101 (General Biochemistry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Arial"/>
              </a:rPr>
              <a:t>Chapter 2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Arial"/>
                <a:cs typeface="PT Bold Heading"/>
              </a:rPr>
              <a:t>الماء - الأحماض والقلويات - المحاليل المنظمة</a:t>
            </a:r>
            <a:br>
              <a:rPr sz="2400"/>
            </a:br>
            <a:r>
              <a:rPr b="1" lang="ar-KW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ATER, ACID-BASE &amp;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UF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oon 7"/>
          <p:cNvSpPr/>
          <p:nvPr/>
        </p:nvSpPr>
        <p:spPr>
          <a:xfrm rot="5400000">
            <a:off x="2709000" y="-1851840"/>
            <a:ext cx="3726000" cy="914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484" y="1680"/>
                  <a:pt x="9367" y="5080"/>
                  <a:pt x="9367" y="10800"/>
                </a:cubicBezTo>
                <a:cubicBezTo>
                  <a:pt x="9367" y="16520"/>
                  <a:pt x="15484" y="1992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C:\Users\Admin\AppData\Local\Temp\SNAGHTMLb486764.PNG"/>
          <p:cNvPicPr/>
          <p:nvPr/>
        </p:nvPicPr>
        <p:blipFill>
          <a:blip r:embed="rId1"/>
          <a:stretch/>
        </p:blipFill>
        <p:spPr>
          <a:xfrm>
            <a:off x="858960" y="24541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:\Users\Admin\AppData\Local\Temp\SNAGHTMLb49d034.PNG"/>
          <p:cNvPicPr/>
          <p:nvPr/>
        </p:nvPicPr>
        <p:blipFill>
          <a:blip r:embed="rId2"/>
          <a:stretch/>
        </p:blipFill>
        <p:spPr>
          <a:xfrm>
            <a:off x="4211640" y="1025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C:\Users\Admin\AppData\Local\Temp\SNAGHTMLb4b1b57.PNG"/>
          <p:cNvPicPr/>
          <p:nvPr/>
        </p:nvPicPr>
        <p:blipFill>
          <a:blip r:embed="rId3"/>
          <a:stretch/>
        </p:blipFill>
        <p:spPr>
          <a:xfrm>
            <a:off x="7564320" y="245736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4" name="Oval 13"/>
          <p:cNvSpPr/>
          <p:nvPr/>
        </p:nvSpPr>
        <p:spPr>
          <a:xfrm>
            <a:off x="2179800" y="2519280"/>
            <a:ext cx="4524120" cy="12463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2060"/>
                </a:solidFill>
                <a:latin typeface="Arial"/>
                <a:ea typeface="Arial"/>
              </a:rPr>
              <a:t>King  Saud University</a:t>
            </a:r>
            <a:br>
              <a:rPr sz="1500"/>
            </a:br>
            <a:r>
              <a:rPr b="1" i="1" lang="en-US" sz="1500" spc="-1" strike="noStrike">
                <a:solidFill>
                  <a:srgbClr val="002060"/>
                </a:solidFill>
                <a:latin typeface="Arial"/>
                <a:ea typeface="Arial"/>
              </a:rPr>
              <a:t>College of  Science</a:t>
            </a:r>
            <a:br>
              <a:rPr sz="1500"/>
            </a:br>
            <a:r>
              <a:rPr b="1" i="1" lang="en-US" sz="1500" spc="-1" strike="noStrike">
                <a:solidFill>
                  <a:srgbClr val="002060"/>
                </a:solidFill>
                <a:latin typeface="Arial"/>
                <a:ea typeface="Arial"/>
              </a:rPr>
              <a:t>Department of Biochemistr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4"/>
          <a:stretch/>
        </p:blipFill>
        <p:spPr>
          <a:xfrm>
            <a:off x="3693960" y="1986120"/>
            <a:ext cx="1757520" cy="285480"/>
          </a:xfrm>
          <a:prstGeom prst="rect">
            <a:avLst/>
          </a:prstGeom>
          <a:ln w="0">
            <a:noFill/>
          </a:ln>
        </p:spPr>
      </p:pic>
      <p:sp>
        <p:nvSpPr>
          <p:cNvPr id="56" name="Subtitle 2"/>
          <p:cNvSpPr/>
          <p:nvPr/>
        </p:nvSpPr>
        <p:spPr>
          <a:xfrm>
            <a:off x="250920" y="6294600"/>
            <a:ext cx="874872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00ff00"/>
                </a:solidFill>
                <a:latin typeface="Monotype Corsiva"/>
                <a:ea typeface="Arial"/>
              </a:rPr>
              <a:t>Prepared by  Dr. Farid Ataya</a:t>
            </a:r>
            <a:r>
              <a:rPr b="1" i="1" lang="en-US" sz="2200" spc="-1" strike="noStrike">
                <a:solidFill>
                  <a:srgbClr val="00ff00"/>
                </a:solidFill>
                <a:latin typeface="Monotype Corsiva"/>
                <a:ea typeface="Arial"/>
              </a:rPr>
              <a:t>	</a:t>
            </a:r>
            <a:r>
              <a:rPr b="1" i="1" lang="en-US" sz="2200" spc="-1" strike="noStrike">
                <a:solidFill>
                  <a:srgbClr val="00ff00"/>
                </a:solidFill>
                <a:latin typeface="Monotype Corsiva"/>
                <a:ea typeface="Arial"/>
              </a:rPr>
              <a:t>	</a:t>
            </a:r>
            <a:r>
              <a:rPr b="1" i="1" lang="en-US" sz="2200" spc="-1" strike="noStrike">
                <a:solidFill>
                  <a:srgbClr val="00ff00"/>
                </a:solidFill>
                <a:latin typeface="Monotype Corsiva"/>
                <a:ea typeface="Arial"/>
              </a:rPr>
              <a:t>	</a:t>
            </a:r>
            <a:r>
              <a:rPr b="1" i="1" lang="en-US" sz="2200" spc="-1" strike="noStrike">
                <a:solidFill>
                  <a:srgbClr val="00ff00"/>
                </a:solidFill>
                <a:latin typeface="Monotype Corsiva"/>
                <a:ea typeface="Arial"/>
              </a:rPr>
              <a:t>                 http://faculty.ksu.edu.sa/751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95280" y="1341360"/>
            <a:ext cx="8569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تعتمد قوة الحمض أو القاعدة على قدرة المذيب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solvent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على الارتباط بأيون الهيدروج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فممكن لحمض أن يكون قوياً في أحد المذيبات وضعيفاً في مذيب آخ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فمثلاً حمض الأسيتيك (الخليك) يكون ضعيفاً في الوسط المائي ويكون قوياً في محلول الأموني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501480" y="3603600"/>
            <a:ext cx="846324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القاعدة المرافقة للحمض القوي تكون ضعيفة والعكس صحيح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فمثلاً الماء حمض ضعيف ولكن قاعدته المرافقة قوية (الهيدروكسيل 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OH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أحماض 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HCl, HBr, HN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raditional Arabic"/>
                <a:ea typeface="Traditional Arabic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هى أحماض قوية (سريعة التأين) وقواعدها المرافقة ضعيفة </a:t>
            </a:r>
            <a:r>
              <a:rPr b="0" lang="ar-SA" sz="28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-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Cl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-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, Br-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,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N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raditional Arabic"/>
                <a:ea typeface="Traditional Arabic"/>
              </a:rPr>
              <a:t>3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(مستمر): الأحماض والقوي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4436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pH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تعريف الـ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79280" y="1413000"/>
            <a:ext cx="8748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هو اللوغاريتم السالب للتركيز الجزيئي لأيون الهيدرونيوم </a:t>
            </a:r>
            <a:r>
              <a:rPr b="1" lang="en-ZA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[</a:t>
            </a:r>
            <a:r>
              <a:rPr b="1" lang="en-ZA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H</a:t>
            </a:r>
            <a:r>
              <a:rPr b="1" lang="en-ZA" sz="2800" spc="-1" strike="noStrike" baseline="-25000">
                <a:solidFill>
                  <a:srgbClr val="ffff00"/>
                </a:solidFill>
                <a:latin typeface="Times New Roman"/>
                <a:ea typeface="Traditional Arabic"/>
              </a:rPr>
              <a:t>3</a:t>
            </a:r>
            <a:r>
              <a:rPr b="1" lang="en-ZA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O</a:t>
            </a:r>
            <a:r>
              <a:rPr b="1" lang="en-ZA" sz="2800" spc="-1" strike="noStrike" baseline="30000">
                <a:solidFill>
                  <a:srgbClr val="ffff00"/>
                </a:solidFill>
                <a:latin typeface="Times New Roman"/>
                <a:ea typeface="Traditional Arabic"/>
              </a:rPr>
              <a:t>+</a:t>
            </a:r>
            <a:r>
              <a:rPr b="1" lang="en-ZA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3614760" y="2100240"/>
            <a:ext cx="2666880" cy="5101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66"/>
                </a:solidFill>
                <a:latin typeface="Times New Roman"/>
                <a:ea typeface="Traditional Arabic"/>
              </a:rPr>
              <a:t>pH = -log [H</a:t>
            </a:r>
            <a:r>
              <a:rPr b="1" lang="en-ZA" sz="2400" spc="-1" strike="noStrike" baseline="-25000">
                <a:solidFill>
                  <a:srgbClr val="000066"/>
                </a:solidFill>
                <a:latin typeface="Times New Roman"/>
                <a:ea typeface="Traditional Arabic"/>
              </a:rPr>
              <a:t>3</a:t>
            </a:r>
            <a:r>
              <a:rPr b="1" lang="en-ZA" sz="2400" spc="-1" strike="noStrike">
                <a:solidFill>
                  <a:srgbClr val="000066"/>
                </a:solidFill>
                <a:latin typeface="Times New Roman"/>
                <a:ea typeface="Traditional Arabic"/>
              </a:rPr>
              <a:t>O</a:t>
            </a:r>
            <a:r>
              <a:rPr b="1" lang="en-ZA" sz="2400" spc="-1" strike="noStrike" baseline="30000">
                <a:solidFill>
                  <a:srgbClr val="000066"/>
                </a:solidFill>
                <a:latin typeface="Times New Roman"/>
                <a:ea typeface="Traditional Arabic"/>
              </a:rPr>
              <a:t>+</a:t>
            </a:r>
            <a:r>
              <a:rPr b="1" lang="en-ZA" sz="2400" spc="-1" strike="noStrike">
                <a:solidFill>
                  <a:srgbClr val="000066"/>
                </a:solidFill>
                <a:latin typeface="Times New Roman"/>
                <a:ea typeface="Traditional Arabic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5476320" y="2781360"/>
            <a:ext cx="41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وتكتب غالباً بالصيغة الت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985680" y="2778120"/>
            <a:ext cx="2887920" cy="4597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66"/>
                </a:solidFill>
                <a:latin typeface="Times New Roman"/>
                <a:ea typeface="Traditional Arabic"/>
              </a:rPr>
              <a:t>pH = -log [H</a:t>
            </a:r>
            <a:r>
              <a:rPr b="1" lang="en-ZA" sz="2400" spc="-1" strike="noStrike" baseline="30000">
                <a:solidFill>
                  <a:srgbClr val="000066"/>
                </a:solidFill>
                <a:latin typeface="Times New Roman"/>
                <a:ea typeface="Traditional Arabic"/>
              </a:rPr>
              <a:t>+</a:t>
            </a:r>
            <a:r>
              <a:rPr b="1" lang="en-ZA" sz="2400" spc="-1" strike="noStrike">
                <a:solidFill>
                  <a:srgbClr val="000066"/>
                </a:solidFill>
                <a:latin typeface="Times New Roman"/>
                <a:ea typeface="Traditional Arabic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971640" y="3419640"/>
            <a:ext cx="7734240" cy="10159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raditional Arabic"/>
              </a:rPr>
              <a:t>وعند درجة حرارة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Traditional Arabic"/>
              </a:rPr>
              <a:t>25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Traditional Arabic"/>
              </a:rPr>
              <a:t>°م تكون </a:t>
            </a:r>
            <a:r>
              <a:rPr b="1" lang="en-ZA" sz="2400" spc="-1" strike="noStrike">
                <a:solidFill>
                  <a:srgbClr val="000066"/>
                </a:solidFill>
                <a:latin typeface="Times New Roman"/>
                <a:ea typeface="Traditional Arabic"/>
              </a:rPr>
              <a:t>pH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Traditional Arabic"/>
              </a:rPr>
              <a:t> للماء النقي =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Traditional Arabic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66"/>
                </a:solidFill>
                <a:latin typeface="Times New Roman"/>
                <a:ea typeface="Traditional Arabic"/>
              </a:rPr>
              <a:t>pH = -log [H</a:t>
            </a:r>
            <a:r>
              <a:rPr b="1" lang="en-ZA" sz="2400" spc="-1" strike="noStrike" baseline="30000">
                <a:solidFill>
                  <a:srgbClr val="000066"/>
                </a:solidFill>
                <a:latin typeface="Times New Roman"/>
                <a:ea typeface="Traditional Arabic"/>
              </a:rPr>
              <a:t>+</a:t>
            </a:r>
            <a:r>
              <a:rPr b="1" lang="en-ZA" sz="2400" spc="-1" strike="noStrike">
                <a:solidFill>
                  <a:srgbClr val="000066"/>
                </a:solidFill>
                <a:latin typeface="Times New Roman"/>
                <a:ea typeface="Traditional Arabic"/>
              </a:rPr>
              <a:t>] = -log 10</a:t>
            </a:r>
            <a:r>
              <a:rPr b="1" lang="en-ZA" sz="2400" spc="-1" strike="noStrike" baseline="30000">
                <a:solidFill>
                  <a:srgbClr val="000066"/>
                </a:solidFill>
                <a:latin typeface="Times New Roman"/>
                <a:ea typeface="Traditional Arabic"/>
              </a:rPr>
              <a:t>-7</a:t>
            </a:r>
            <a:r>
              <a:rPr b="1" lang="en-ZA" sz="2400" spc="-1" strike="noStrike">
                <a:solidFill>
                  <a:srgbClr val="000066"/>
                </a:solidFill>
                <a:latin typeface="Times New Roman"/>
                <a:ea typeface="Traditional Arabic"/>
              </a:rPr>
              <a:t> = -(-7) = 7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"/>
          <p:cNvSpPr/>
          <p:nvPr/>
        </p:nvSpPr>
        <p:spPr>
          <a:xfrm>
            <a:off x="6063480" y="46324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بالمثل يمكن تعريف الـ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977040" y="4621320"/>
            <a:ext cx="2728800" cy="5205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OH = -log [OH</a:t>
            </a:r>
            <a:r>
              <a:rPr b="0" lang="en-ZA" sz="2800" spc="-1" strike="noStrike" baseline="30000">
                <a:solidFill>
                  <a:srgbClr val="000066"/>
                </a:solidFill>
                <a:latin typeface="Times New Roman"/>
                <a:ea typeface="Times New Roman"/>
              </a:rPr>
              <a:t>-</a:t>
            </a:r>
            <a:r>
              <a:rPr b="0" lang="en-ZA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594240" y="5565600"/>
            <a:ext cx="2964960" cy="5205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H + pOH = 14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7920" y="-360"/>
            <a:ext cx="9144000" cy="1143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معادلة هندرسون - هاسلبالخ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enderson-Hasselbalch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3640" y="3808080"/>
            <a:ext cx="856908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يمكن حساب ثابت الاتزان كما يل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5"/>
              <p:cNvSpPr txBox="1"/>
              <p:nvPr/>
            </p:nvSpPr>
            <p:spPr>
              <a:xfrm>
                <a:off x="3365640" y="4514760"/>
                <a:ext cx="280980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A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" name="Text Box 8"/>
          <p:cNvSpPr/>
          <p:nvPr/>
        </p:nvSpPr>
        <p:spPr>
          <a:xfrm>
            <a:off x="468360" y="1503360"/>
            <a:ext cx="83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وضعت هذه المعادلة للتعبير عن الأحماض والقواعد الضعيفة وليس الأحماض القوية المخفف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إن الأحماض والقواعد الضعيفة لا تتأين كلياً، وتوجد في حالة اتزان بين تركيز الحمض الغير متأين وأيوناته (البوتون + القاعدة المرافقة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23"/>
          <p:cNvGrpSpPr/>
          <p:nvPr/>
        </p:nvGrpSpPr>
        <p:grpSpPr>
          <a:xfrm>
            <a:off x="2673000" y="2970360"/>
            <a:ext cx="4195080" cy="581400"/>
            <a:chOff x="2673000" y="2970360"/>
            <a:chExt cx="4195080" cy="581400"/>
          </a:xfrm>
        </p:grpSpPr>
        <p:sp>
          <p:nvSpPr>
            <p:cNvPr id="125" name="AutoShape 21"/>
            <p:cNvSpPr/>
            <p:nvPr/>
          </p:nvSpPr>
          <p:spPr>
            <a:xfrm>
              <a:off x="3492360" y="3190680"/>
              <a:ext cx="1008360" cy="215640"/>
            </a:xfrm>
            <a:prstGeom prst="leftRightArrow">
              <a:avLst>
                <a:gd name="adj1" fmla="val 50000"/>
                <a:gd name="adj2" fmla="val 93089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2"/>
            <p:cNvSpPr/>
            <p:nvPr/>
          </p:nvSpPr>
          <p:spPr>
            <a:xfrm>
              <a:off x="2673000" y="2970360"/>
              <a:ext cx="419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HA              H</a:t>
              </a:r>
              <a:r>
                <a:rPr b="1" lang="en-GB" sz="3200" spc="-1" strike="noStrike" baseline="30000">
                  <a:solidFill>
                    <a:srgbClr val="ffff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   +     A</a:t>
              </a:r>
              <a:r>
                <a:rPr b="1" lang="en-GB" sz="3200" spc="-1" strike="noStrike" baseline="30000">
                  <a:solidFill>
                    <a:srgbClr val="ffff00"/>
                  </a:solidFill>
                  <a:latin typeface="Times New Roman"/>
                  <a:ea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7" name="Object 4"/>
              <p:cNvSpPr txBox="1"/>
              <p:nvPr/>
            </p:nvSpPr>
            <p:spPr>
              <a:xfrm>
                <a:off x="441360" y="2852640"/>
                <a:ext cx="23302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A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5"/>
              <p:cNvSpPr txBox="1"/>
              <p:nvPr/>
            </p:nvSpPr>
            <p:spPr>
              <a:xfrm>
                <a:off x="441360" y="1484280"/>
                <a:ext cx="188280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A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7"/>
              <p:cNvSpPr txBox="1"/>
              <p:nvPr/>
            </p:nvSpPr>
            <p:spPr>
              <a:xfrm>
                <a:off x="441360" y="4221000"/>
                <a:ext cx="340992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A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8"/>
              <p:cNvSpPr txBox="1"/>
              <p:nvPr/>
            </p:nvSpPr>
            <p:spPr>
              <a:xfrm>
                <a:off x="473040" y="5589720"/>
                <a:ext cx="37386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A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9"/>
              <p:cNvSpPr txBox="1"/>
              <p:nvPr/>
            </p:nvSpPr>
            <p:spPr>
              <a:xfrm>
                <a:off x="4788000" y="1504800"/>
                <a:ext cx="42051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A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10"/>
              <p:cNvSpPr txBox="1"/>
              <p:nvPr/>
            </p:nvSpPr>
            <p:spPr>
              <a:xfrm>
                <a:off x="4788000" y="2801880"/>
                <a:ext cx="273348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K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A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11"/>
              <p:cNvSpPr txBox="1"/>
              <p:nvPr/>
            </p:nvSpPr>
            <p:spPr>
              <a:xfrm>
                <a:off x="4788000" y="4241880"/>
                <a:ext cx="258768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K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A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(مستمر): معادلة هندرسون - هاسلبال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95280" y="1600200"/>
            <a:ext cx="829152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just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عندما يكون الحمض نصف متأين (يتساوى تركيز الحمض مع تركيز قاعدته المرافقة) يكون: </a:t>
            </a:r>
            <a:r>
              <a:rPr b="1" lang="en-US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pH = p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just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4"/>
              <p:cNvSpPr txBox="1"/>
              <p:nvPr/>
            </p:nvSpPr>
            <p:spPr>
              <a:xfrm>
                <a:off x="3273480" y="3387600"/>
                <a:ext cx="237960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7"/>
              <p:cNvSpPr txBox="1"/>
              <p:nvPr/>
            </p:nvSpPr>
            <p:spPr>
              <a:xfrm>
                <a:off x="682560" y="4456080"/>
                <a:ext cx="7561440" cy="17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f>
                          <m:nu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e>
                            </m:d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A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(مستمر): معادلة هندرسون - هاسلبال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المحاليل </a:t>
            </a:r>
            <a:r>
              <a:rPr b="1" lang="ar-EG" sz="44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الحيوية المنظمة </a:t>
            </a:r>
            <a:r>
              <a:rPr b="0" lang="en-US" sz="4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7640" y="1196640"/>
            <a:ext cx="8785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تعريف المحلول المنظّم </a:t>
            </a:r>
            <a:r>
              <a:rPr b="1" lang="en-US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Buffer</a:t>
            </a:r>
            <a:r>
              <a:rPr b="1" lang="en-US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هي محاليل تتغيّر قيمة الرقم الهيدروجيني لها تغيراً طفيفاً عند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إضافة حمض أو قاعدة إليها بكميات قليلة.</a:t>
            </a:r>
            <a:br>
              <a:rPr sz="2800"/>
            </a:b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(أي أنها محاليل تقاوم التغيرات في قيمة 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pH</a:t>
            </a: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عند إضافة حمض أو قاعدة إليها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raditional Arabic"/>
                <a:cs typeface="Traditional Arabic"/>
              </a:rPr>
              <a:t>ممّ يتكوّن المحلول المنظّم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يتكوّن من حمض ضعيف وقاعدته المرافقة  (ملح الحمض)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أو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قاعدة ضعيفة وحمضها المرافق (ملح القاعد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ff00"/>
                </a:solidFill>
                <a:latin typeface="Traditional Arabic"/>
                <a:cs typeface="Traditional Arabic"/>
              </a:rPr>
              <a:t>أمثلة المحاليل المنظم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Traditional Arabic"/>
                <a:ea typeface="Traditional Arabic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COOH</a:t>
            </a: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،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Traditional Arabic"/>
                <a:ea typeface="Traditional Arabic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COO</a:t>
            </a:r>
            <a:r>
              <a:rPr b="1" lang="en-US" sz="28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(N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Traditional Arabic"/>
                <a:ea typeface="Traditional Arabic"/>
              </a:rPr>
              <a:t>3</a:t>
            </a: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، 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N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Traditional Arabic"/>
                <a:ea typeface="Traditional Arabic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Cl</a:t>
            </a: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)    (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HCN</a:t>
            </a: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، 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NaC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(H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Traditional Arabic"/>
                <a:ea typeface="Traditional Arabic"/>
              </a:rPr>
              <a:t>2</a:t>
            </a: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، 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K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Traditional Arabic"/>
                <a:ea typeface="Traditional Arabic"/>
              </a:rPr>
              <a:t>2</a:t>
            </a: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)   (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Traditional Arabic"/>
                <a:ea typeface="Traditional Arabic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C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Traditional Arabic"/>
                <a:ea typeface="Traditional Arabic"/>
              </a:rPr>
              <a:t>3</a:t>
            </a: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، 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NaHC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Traditional Arabic"/>
                <a:ea typeface="Traditional Arabic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ff00"/>
                </a:solidFill>
                <a:latin typeface="Traditional Arabic"/>
                <a:cs typeface="Traditional Arabic"/>
              </a:rPr>
              <a:t>آلية عمل المحاليل المنظم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97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just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يحتوى المحلول المنظم على مواد تتفاعل مع أيونات </a:t>
            </a:r>
            <a:r>
              <a:rPr b="0" lang="en-US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H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+</a:t>
            </a:r>
            <a:r>
              <a:rPr b="0" lang="ar-SA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ومواد أخرى تتفاعل مع أيونات </a:t>
            </a:r>
            <a:r>
              <a:rPr b="0" lang="en-US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OH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-</a:t>
            </a:r>
            <a:r>
              <a:rPr b="0" lang="ar-SA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المضافة أو الناتجة من أي تفاعل وبذلك يقل تأثير تلك الأيونات على الوس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just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just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مثال: المحلول المتكون من حمض الأستيك + أسيتات صوديو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just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- يقاوم التغير في الـ </a:t>
            </a:r>
            <a:r>
              <a:rPr b="0" lang="en-US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pH</a:t>
            </a:r>
            <a:r>
              <a:rPr b="0" lang="ar-SA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إذا أضيف إليه حمض قوي مثل </a:t>
            </a:r>
            <a:r>
              <a:rPr b="0" lang="en-US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HCl</a:t>
            </a:r>
            <a:r>
              <a:rPr b="0" lang="en-US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لأن الحمض المضاف يتحلل إلى أيونات </a:t>
            </a:r>
            <a:r>
              <a:rPr b="0" lang="en-US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Cl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-</a:t>
            </a:r>
            <a:r>
              <a:rPr b="0" lang="ar-SA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و </a:t>
            </a:r>
            <a:r>
              <a:rPr b="0" lang="en-US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H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just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- ترتبط أيونات </a:t>
            </a:r>
            <a:r>
              <a:rPr b="0" lang="en-US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Cl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-</a:t>
            </a:r>
            <a:r>
              <a:rPr b="0" lang="ar-SA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مع الصوديوم مكوناً ملح الطعام </a:t>
            </a:r>
            <a:r>
              <a:rPr b="0" lang="en-US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NaCl</a:t>
            </a:r>
            <a:r>
              <a:rPr b="0" lang="ar-SA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لا يؤثر في الـ</a:t>
            </a:r>
            <a:r>
              <a:rPr b="0" lang="en-US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pH</a:t>
            </a:r>
            <a:r>
              <a:rPr b="0" lang="en-US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just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- ترتبط أيونات الأسيتات مع </a:t>
            </a:r>
            <a:r>
              <a:rPr b="0" lang="en-US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H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+</a:t>
            </a:r>
            <a:r>
              <a:rPr b="0" lang="ar-SA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فيتكون حمض الأستيك ضعيف التحلل الذي لا يغير بدوره الـ </a:t>
            </a:r>
            <a:r>
              <a:rPr b="0" lang="en-US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3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3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ff00"/>
                </a:solidFill>
                <a:latin typeface="Traditional Arabic"/>
                <a:cs typeface="Traditional Arabic"/>
              </a:rPr>
              <a:t>السعة التنظيمية </a:t>
            </a:r>
            <a:r>
              <a:rPr b="1" lang="en-US" sz="4400" spc="-1" strike="noStrike">
                <a:solidFill>
                  <a:srgbClr val="00ff00"/>
                </a:solidFill>
                <a:latin typeface="Traditional Arabic"/>
                <a:ea typeface="Traditional Arabic"/>
              </a:rPr>
              <a:t>Buffering Capa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69840" y="1341360"/>
            <a:ext cx="8966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تتناسب قدرة المحلول المنظم على مقاومة التغير في الـ 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pH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طردياً مع تركيز مكونات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وتبلغ السعة التنظيمية أقصاها عندما يتساوى تركيز الحمض مع قاعدته المرافق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مثال 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acetate buffer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2844720" y="3513240"/>
            <a:ext cx="3527640" cy="510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pH       = pK</a:t>
            </a:r>
            <a:r>
              <a:rPr b="1" lang="en-ZA" sz="2400" spc="-1" strike="noStrike" baseline="-25000">
                <a:solidFill>
                  <a:srgbClr val="ffff00"/>
                </a:solidFill>
                <a:latin typeface="Traditional Arabic"/>
                <a:ea typeface="Traditional Arabic"/>
              </a:rPr>
              <a:t>a</a:t>
            </a:r>
            <a:r>
              <a:rPr b="1" lang="en-ZA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= -log K</a:t>
            </a:r>
            <a:r>
              <a:rPr b="1" lang="en-ZA" sz="2400" spc="-1" strike="noStrike" baseline="-25000">
                <a:solidFill>
                  <a:srgbClr val="ffff00"/>
                </a:solidFill>
                <a:latin typeface="Traditional Arabic"/>
                <a:ea typeface="Traditional Arab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844720" y="4089240"/>
            <a:ext cx="3527640" cy="510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log K</a:t>
            </a:r>
            <a:r>
              <a:rPr b="1" lang="en-ZA" sz="2400" spc="-1" strike="noStrike" baseline="-25000">
                <a:solidFill>
                  <a:srgbClr val="ffff00"/>
                </a:solidFill>
                <a:latin typeface="Traditional Arabic"/>
                <a:ea typeface="Traditional Arabic"/>
              </a:rPr>
              <a:t>a</a:t>
            </a:r>
            <a:r>
              <a:rPr b="1" lang="en-ZA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= - log 1.8 x 10</a:t>
            </a:r>
            <a:r>
              <a:rPr b="1" lang="en-ZA" sz="24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2844720" y="4627440"/>
            <a:ext cx="21589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            </a:t>
            </a:r>
            <a:r>
              <a:rPr b="1" lang="en-ZA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= 4.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684360" y="5578560"/>
            <a:ext cx="81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هذا معناه أن السعة القصوى لهذا المحلول تقع عند 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pH = 4.74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وتقل القدرة على مقاومة التغير كلما بعدنا عن هذا الرقم في حدود 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±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ff00"/>
                </a:solidFill>
                <a:latin typeface="Traditional Arabic"/>
                <a:cs typeface="Traditional Arabic"/>
              </a:rPr>
              <a:t>أهمية المحلول المنظ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ضرورية لضمان نشاط الإنزي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ضرورية لنقل الغازات في الدم</a:t>
            </a:r>
            <a:r>
              <a:rPr b="0" lang="en-US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pH optima = 7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تعالج التربة الزراعية بمحاليل منظمة حتى تصبح صالحة لزراعة محاصيل معين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أمثلة للكواشف على درجة الــ </a:t>
            </a:r>
            <a:r>
              <a:rPr b="1" lang="en-US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187280" y="3860640"/>
          <a:ext cx="6913800" cy="2697480"/>
        </p:xfrm>
        <a:graphic>
          <a:graphicData uri="http://schemas.openxmlformats.org/drawingml/2006/table">
            <a:tbl>
              <a:tblPr/>
              <a:tblGrid>
                <a:gridCol w="1703520"/>
                <a:gridCol w="1874880"/>
                <a:gridCol w="3335400"/>
              </a:tblGrid>
              <a:tr h="824040"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لونه في الوسط الحمض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لونه في الوسط القاعد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كاش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920"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عديم اللو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ورد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فينول فثالين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Phenol phthalin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5040"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أحم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أصف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ميثيل البرتقالي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Methyl o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480"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أحم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أصف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مثيل الأحمر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Methyl red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000"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أحم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أزر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دوار الشمس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Litmus paper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1500120" y="1268280"/>
          <a:ext cx="6096240" cy="50292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99cc00"/>
                          </a:solidFill>
                          <a:latin typeface="Times New Roman"/>
                        </a:rPr>
                        <a:t>الأس الهيدروجيني </a:t>
                      </a:r>
                      <a:r>
                        <a:rPr b="1" lang="en-US" sz="2400" spc="-1" strike="noStrike">
                          <a:solidFill>
                            <a:srgbClr val="99cc00"/>
                          </a:solidFill>
                          <a:latin typeface="Times New Roman"/>
                        </a:rPr>
                        <a:t>p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99cc00"/>
                          </a:solidFill>
                          <a:latin typeface="Times New Roman"/>
                        </a:rPr>
                        <a:t>المادة أو المحلول</a:t>
                      </a:r>
                      <a:r>
                        <a:rPr b="0" lang="ar-SA" sz="2400" spc="-1" strike="noStrike">
                          <a:solidFill>
                            <a:srgbClr val="99cc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. 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0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–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.2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  </a:t>
                      </a:r>
                      <a:r>
                        <a:rPr b="1" lang="ar-SA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عصير الليمو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 الخل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 عصير الطماطم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.4-4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 الجبن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8.0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.5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 ماء الشرب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8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.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 ماء البحر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8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. 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. 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8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 بول الانسا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.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.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 حليب الأبقار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.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.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 لعاب الانسا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. 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. 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 دم الانسا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ff00"/>
                </a:solidFill>
                <a:latin typeface="Traditional Arabic"/>
                <a:cs typeface="Traditional Arabic"/>
              </a:rPr>
              <a:t>أمثلة على </a:t>
            </a:r>
            <a:r>
              <a:rPr b="1" lang="en-US" sz="4800" spc="-1" strike="noStrike">
                <a:solidFill>
                  <a:srgbClr val="00ff00"/>
                </a:solidFill>
                <a:latin typeface="Traditional Arabic"/>
                <a:ea typeface="Traditional Arabic"/>
              </a:rPr>
              <a:t>pH</a:t>
            </a:r>
            <a:r>
              <a:rPr b="1" lang="ar-SA" sz="4800" spc="-1" strike="noStrike">
                <a:solidFill>
                  <a:srgbClr val="00ff00"/>
                </a:solidFill>
                <a:latin typeface="Traditional Arabic"/>
                <a:ea typeface="Traditional Arabic"/>
              </a:rPr>
              <a:t> لبعض السوائ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331560"/>
            <a:ext cx="8424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Times New Roman"/>
              </a:rPr>
              <a:t>الماء ، سر الحياة</a:t>
            </a:r>
            <a:br>
              <a:rPr sz="3200"/>
            </a:br>
            <a:r>
              <a:rPr b="1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O, the secret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23640" y="1557360"/>
            <a:ext cx="856908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الماء في الحالات العادية متعادل ويمكن أن يتأين بمعدلات بطيئة إلى أيونين هما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-    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أيون الهيدروجين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(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H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+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)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raditional Arab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أيون الهيدروكسيل 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(-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OH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-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Traditional Arabic"/>
                <a:ea typeface="Traditional Arabic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O 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	</a:t>
            </a: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       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+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يتفكك جزئ الماء إلى الأيونات ويعاد إرتباطها بشكل دائم حتى يصل إلى مرحلة اتزان يحكمها ثابت يسمى بثابت الاتزان </a:t>
            </a:r>
            <a:r>
              <a:rPr b="0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Equilibrium constant (Keq)</a:t>
            </a:r>
            <a:r>
              <a:rPr b="0" lang="ar-SA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الذي يمكن التعبير عنه بحاصل قسمة تركيز الأيونات المكونة للماء على تركيز الماء قبل التأين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ionic-keq"/>
          <p:cNvPicPr/>
          <p:nvPr/>
        </p:nvPicPr>
        <p:blipFill>
          <a:blip r:embed="rId1"/>
          <a:stretch/>
        </p:blipFill>
        <p:spPr>
          <a:xfrm>
            <a:off x="3276720" y="5621400"/>
            <a:ext cx="2768400" cy="104292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9"/>
          <p:cNvSpPr/>
          <p:nvPr/>
        </p:nvSpPr>
        <p:spPr>
          <a:xfrm>
            <a:off x="3289320" y="3476520"/>
            <a:ext cx="1727280" cy="144720"/>
          </a:xfrm>
          <a:prstGeom prst="leftRightArrow">
            <a:avLst>
              <a:gd name="adj1" fmla="val 50000"/>
              <a:gd name="adj2" fmla="val 237601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(مستمر) : تأين الم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981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مجموع الأوزان الجزيئية للماء تساوي  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جزئ 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raditional Arabic"/>
                <a:ea typeface="Traditional Arabic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O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= 18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جرا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لتر 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raditional Arabic"/>
                <a:ea typeface="Traditional Arabic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O </a:t>
            </a: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= 1000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جرا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إذاً 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لتر 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raditional Arabic"/>
                <a:ea typeface="Traditional Arabic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O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يحتوي على 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1000/18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= 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55.56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جز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معنى هذا أن تركيز الماء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(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55.56M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) 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يعتبر كبير جداً مقارنةً لتركيز الأيونات المكونة له 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[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H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+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] 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و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[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OH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-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وبالرجوع للمعادلة السابقة وضرب طرفي المعادلة في 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55.56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نحصل على ثابت جديد يسمى 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K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6"/>
          <p:cNvSpPr/>
          <p:nvPr/>
        </p:nvSpPr>
        <p:spPr>
          <a:xfrm>
            <a:off x="468360" y="3325680"/>
            <a:ext cx="849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Kw = [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][O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في حالة الماء النقي الذي لم يضاف إليه احماض أو قلويات نجد أن قيمة </a:t>
            </a:r>
            <a:r>
              <a:rPr b="1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Kw</a:t>
            </a:r>
            <a:r>
              <a:rPr b="0" lang="ar-SA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=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Kw = 1 x 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-14</a:t>
            </a:r>
            <a:r>
              <a:rPr b="1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وبما أن تركيز ايون الهيدروجين </a:t>
            </a:r>
            <a:r>
              <a:rPr b="1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[</a:t>
            </a:r>
            <a:r>
              <a:rPr b="1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]</a:t>
            </a:r>
            <a:r>
              <a:rPr b="0" lang="ar-SA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يساوي تركيز أيون الهيدروكسيل </a:t>
            </a:r>
            <a:r>
              <a:rPr b="1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[</a:t>
            </a:r>
            <a:r>
              <a:rPr b="1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O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]</a:t>
            </a:r>
            <a:r>
              <a:rPr b="0" lang="ar-SA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فإن قيمة كل منهما تساوي </a:t>
            </a:r>
            <a:r>
              <a:rPr b="1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-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7</a:t>
            </a:r>
            <a:r>
              <a:rPr b="1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M</a:t>
            </a:r>
            <a:r>
              <a:rPr b="0" lang="ar-SA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[</a:t>
            </a:r>
            <a:r>
              <a:rPr b="1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] = [</a:t>
            </a:r>
            <a:r>
              <a:rPr b="1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O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] = </a:t>
            </a:r>
            <a:r>
              <a:rPr b="1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1 x 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-7</a:t>
            </a:r>
            <a:r>
              <a:rPr b="1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لو تم أخذ اللوغارتم السالب لتركيز ايون الهيدروجين نحصل على قيمة تستخدم للتعبير عن التركيز وتسمى تلك القيمة بـ  </a:t>
            </a:r>
            <a:r>
              <a:rPr b="1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pH</a:t>
            </a:r>
            <a:r>
              <a:rPr b="1" lang="ar-SA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pH = -log[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8"/>
              <p:cNvSpPr txBox="1"/>
              <p:nvPr/>
            </p:nvSpPr>
            <p:spPr>
              <a:xfrm>
                <a:off x="3311640" y="888840"/>
                <a:ext cx="25192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uilibriu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OH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2</m:t>
                            </m:r>
                            <m:r>
                              <m:t xml:space="preserve">O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9"/>
              <p:cNvSpPr txBox="1"/>
              <p:nvPr/>
            </p:nvSpPr>
            <p:spPr>
              <a:xfrm>
                <a:off x="2843280" y="1757520"/>
                <a:ext cx="345744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eq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OH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2</m:t>
                            </m:r>
                            <m:r>
                              <m:t xml:space="preserve">O</m:t>
                            </m:r>
                          </m:e>
                        </m:d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11"/>
              <p:cNvSpPr txBox="1"/>
              <p:nvPr/>
            </p:nvSpPr>
            <p:spPr>
              <a:xfrm>
                <a:off x="3556080" y="2622600"/>
                <a:ext cx="20318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w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(مستمر) : تأين الم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Arial"/>
              </a:rPr>
              <a:t>تعريف بالحموض والقواعد وثوابت التفكك الخاصة به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94920" y="3886200"/>
            <a:ext cx="8064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finition of acids and bases and its dissociation const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ff00"/>
                </a:solidFill>
                <a:latin typeface="Times New Roman"/>
                <a:cs typeface="Times New Roman"/>
              </a:rPr>
              <a:t>تعريف الأحماض والقلوي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1280" y="1268280"/>
            <a:ext cx="896472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r" rtl="1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00ff00"/>
                </a:solidFill>
                <a:latin typeface="Times New Roman"/>
                <a:cs typeface="Traditional Arabic"/>
              </a:rPr>
              <a:t>تعريف أرهينيوس 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  <a:ea typeface="Traditional Arabic"/>
              </a:rPr>
              <a:t>Arrhenius (188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Times New Roman"/>
                <a:cs typeface="Traditional Arabic"/>
              </a:rPr>
              <a:t>الأحماض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 هي المركبات التي تتأين في المحاليل المائية لتعطي أيونات هيدروجين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H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  <a:ea typeface="Traditional Arabic"/>
              </a:rPr>
              <a:t>+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Times New Roman"/>
                <a:cs typeface="Traditional Arabic"/>
              </a:rPr>
              <a:t>القواعد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 هي المركبات التي تتأين في المحاليل المائية لتعطي أيونات هيدروكسيل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OH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  <a:ea typeface="Traditional Arabic"/>
              </a:rPr>
              <a:t>-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r" rtl="1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00ff00"/>
                </a:solidFill>
                <a:latin typeface="Times New Roman"/>
                <a:cs typeface="Traditional Arabic"/>
              </a:rPr>
              <a:t>تعريف برونستد – لوري  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  <a:ea typeface="Traditional Arabic"/>
              </a:rPr>
              <a:t>Bronsted-Lowry (192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هذا التعريف أكثر شمولية واستخداماً في الأوساط العلم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Times New Roman"/>
                <a:cs typeface="Traditional Arabic"/>
              </a:rPr>
              <a:t>الأحماض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 هي التي تتأين لتعطي بروتونات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Proton dono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Times New Roman"/>
                <a:cs typeface="Traditional Arabic"/>
              </a:rPr>
              <a:t>القواعد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 هي التي تستقبل بروتونات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Proton accepto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8"/>
          <p:cNvGrpSpPr/>
          <p:nvPr/>
        </p:nvGrpSpPr>
        <p:grpSpPr>
          <a:xfrm>
            <a:off x="2495160" y="5948280"/>
            <a:ext cx="4690440" cy="1036080"/>
            <a:chOff x="2495160" y="5948280"/>
            <a:chExt cx="4690440" cy="1036080"/>
          </a:xfrm>
        </p:grpSpPr>
        <p:sp>
          <p:nvSpPr>
            <p:cNvPr id="73" name="Rectangle 6"/>
            <p:cNvSpPr/>
            <p:nvPr/>
          </p:nvSpPr>
          <p:spPr>
            <a:xfrm>
              <a:off x="2495160" y="5948280"/>
              <a:ext cx="469044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BH 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 H</a:t>
              </a:r>
              <a:r>
                <a:rPr b="1" lang="en-US" sz="2800" spc="-1" strike="noStrike" baseline="30000">
                  <a:solidFill>
                    <a:srgbClr val="ffff00"/>
                  </a:solidFill>
                  <a:latin typeface="Times New Roman"/>
                  <a:ea typeface="Times New Roman"/>
                </a:rPr>
                <a:t>+   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+   B</a:t>
              </a:r>
              <a:r>
                <a:rPr b="1" lang="en-US" sz="2800" spc="-1" strike="noStrike" baseline="30000">
                  <a:solidFill>
                    <a:srgbClr val="ffff00"/>
                  </a:solidFill>
                  <a:latin typeface="Times New Roman"/>
                  <a:ea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 baseline="30000">
                  <a:solidFill>
                    <a:srgbClr val="ffff00"/>
                  </a:solidFill>
                  <a:latin typeface="Times New Roman"/>
                  <a:cs typeface="Times New Roman"/>
                </a:rPr>
                <a:t>حمض</a:t>
              </a:r>
              <a:r>
                <a:rPr b="1" lang="ar-SA" sz="2800" spc="-1" strike="noStrike" baseline="30000">
                  <a:solidFill>
                    <a:srgbClr val="ff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ar-SA" sz="2800" spc="-1" strike="noStrike" baseline="30000">
                  <a:solidFill>
                    <a:srgbClr val="ff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ar-SA" sz="2800" spc="-1" strike="noStrike" baseline="30000">
                  <a:solidFill>
                    <a:srgbClr val="ff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ar-SA" sz="2800" spc="-1" strike="noStrike" baseline="30000">
                  <a:solidFill>
                    <a:srgbClr val="ffff00"/>
                  </a:solidFill>
                  <a:latin typeface="Times New Roman"/>
                  <a:cs typeface="Times New Roman"/>
                </a:rPr>
                <a:t>بروتون</a:t>
              </a:r>
              <a:r>
                <a:rPr b="1" lang="ar-SA" sz="2800" spc="-1" strike="noStrike" baseline="30000">
                  <a:solidFill>
                    <a:srgbClr val="ff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ar-SA" sz="2800" spc="-1" strike="noStrike" baseline="30000">
                  <a:solidFill>
                    <a:srgbClr val="ffff00"/>
                  </a:solidFill>
                  <a:latin typeface="Times New Roman"/>
                  <a:cs typeface="Times New Roman"/>
                </a:rPr>
                <a:t>قاعدة</a:t>
              </a:r>
              <a:r>
                <a:rPr b="1" lang="ar-SA" sz="2800" spc="-1" strike="noStrike" baseline="30000">
                  <a:solidFill>
                    <a:srgbClr val="ffff00"/>
                  </a:solidFill>
                  <a:latin typeface="Times New Roman"/>
                  <a:ea typeface="Times New Roman"/>
                </a:rPr>
                <a:t>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AutoShape 7"/>
            <p:cNvSpPr/>
            <p:nvPr/>
          </p:nvSpPr>
          <p:spPr>
            <a:xfrm>
              <a:off x="3367080" y="6068880"/>
              <a:ext cx="1727280" cy="144360"/>
            </a:xfrm>
            <a:prstGeom prst="leftRightArrow">
              <a:avLst>
                <a:gd name="adj1" fmla="val 50000"/>
                <a:gd name="adj2" fmla="val 238194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209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كل من الحمض والقاعدة مرافق للآخر </a:t>
            </a:r>
            <a:r>
              <a:rPr b="0" lang="en-US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Conju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فمثلاً </a:t>
            </a:r>
            <a:r>
              <a:rPr b="0" lang="en-US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B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-</a:t>
            </a:r>
            <a:r>
              <a:rPr b="0" lang="ar-SA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هي القاعدة المرافقة للحمض </a:t>
            </a:r>
            <a:r>
              <a:rPr b="0" lang="en-US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B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و </a:t>
            </a:r>
            <a:r>
              <a:rPr b="0" lang="en-US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BH</a:t>
            </a:r>
            <a:r>
              <a:rPr b="0" lang="ar-SA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هو الحمض المرافق للقاعدة </a:t>
            </a:r>
            <a:r>
              <a:rPr b="0" lang="en-US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B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-</a:t>
            </a:r>
            <a:r>
              <a:rPr b="0" lang="ar-SA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4" descr=""/>
          <p:cNvPicPr/>
          <p:nvPr/>
        </p:nvPicPr>
        <p:blipFill>
          <a:blip r:embed="rId1"/>
          <a:stretch/>
        </p:blipFill>
        <p:spPr>
          <a:xfrm>
            <a:off x="395280" y="3141720"/>
            <a:ext cx="8078760" cy="48096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61"/>
          <p:cNvGrpSpPr/>
          <p:nvPr/>
        </p:nvGrpSpPr>
        <p:grpSpPr>
          <a:xfrm>
            <a:off x="539640" y="4076640"/>
            <a:ext cx="8245440" cy="579600"/>
            <a:chOff x="539640" y="4076640"/>
            <a:chExt cx="8245440" cy="579600"/>
          </a:xfrm>
        </p:grpSpPr>
        <p:sp>
          <p:nvSpPr>
            <p:cNvPr id="78" name="Text Box 25"/>
            <p:cNvSpPr/>
            <p:nvPr/>
          </p:nvSpPr>
          <p:spPr>
            <a:xfrm>
              <a:off x="539640" y="4076640"/>
              <a:ext cx="8245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NH</a:t>
              </a:r>
              <a:r>
                <a:rPr b="1" lang="en-US" sz="2800" spc="-1" strike="noStrike" baseline="-25000">
                  <a:solidFill>
                    <a:srgbClr val="00ff00"/>
                  </a:solidFill>
                  <a:latin typeface="Times New Roman"/>
                  <a:ea typeface="Times New Roman"/>
                </a:rPr>
                <a:t>4</a:t>
              </a:r>
              <a:r>
                <a:rPr b="1" lang="en-US" sz="2800" spc="-1" strike="noStrike" baseline="30000">
                  <a:solidFill>
                    <a:srgbClr val="00ff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2800" spc="-1" strike="noStrike" baseline="-25000">
                  <a:solidFill>
                    <a:srgbClr val="00ff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O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2800" spc="-1" strike="noStrike" baseline="-25000">
                  <a:solidFill>
                    <a:srgbClr val="00ff00"/>
                  </a:solidFill>
                  <a:latin typeface="Times New Roman"/>
                  <a:ea typeface="Times New Roman"/>
                </a:rPr>
                <a:t>3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O</a:t>
              </a:r>
              <a:r>
                <a:rPr b="1" lang="en-US" sz="2800" spc="-1" strike="noStrike" baseline="30000">
                  <a:solidFill>
                    <a:srgbClr val="00ff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NH</a:t>
              </a:r>
              <a:r>
                <a:rPr b="1" lang="en-US" sz="2800" spc="-1" strike="noStrike" baseline="-25000">
                  <a:solidFill>
                    <a:srgbClr val="00ff00"/>
                  </a:solidFill>
                  <a:latin typeface="Times New Roman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Object 35"/>
            <p:cNvGraphicFramePr/>
            <p:nvPr/>
          </p:nvGraphicFramePr>
          <p:xfrm>
            <a:off x="3381480" y="4197240"/>
            <a:ext cx="1695240" cy="243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0" name="Object 3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381480" y="4197240"/>
                      <a:ext cx="1695240" cy="2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1" name="Group 71"/>
          <p:cNvGrpSpPr/>
          <p:nvPr/>
        </p:nvGrpSpPr>
        <p:grpSpPr>
          <a:xfrm>
            <a:off x="539640" y="4722840"/>
            <a:ext cx="8245440" cy="579600"/>
            <a:chOff x="539640" y="4722840"/>
            <a:chExt cx="8245440" cy="579600"/>
          </a:xfrm>
        </p:grpSpPr>
        <p:sp>
          <p:nvSpPr>
            <p:cNvPr id="82" name="Text Box 64"/>
            <p:cNvSpPr/>
            <p:nvPr/>
          </p:nvSpPr>
          <p:spPr>
            <a:xfrm>
              <a:off x="539640" y="4722840"/>
              <a:ext cx="8245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HCl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2800" spc="-1" strike="noStrike" baseline="-25000">
                  <a:solidFill>
                    <a:srgbClr val="00ff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O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2800" spc="-1" strike="noStrike" baseline="-25000">
                  <a:solidFill>
                    <a:srgbClr val="00ff00"/>
                  </a:solidFill>
                  <a:latin typeface="Times New Roman"/>
                  <a:ea typeface="Times New Roman"/>
                </a:rPr>
                <a:t>3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O </a:t>
              </a:r>
              <a:r>
                <a:rPr b="1" lang="en-US" sz="2800" spc="-1" strike="noStrike" baseline="30000">
                  <a:solidFill>
                    <a:srgbClr val="00ff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Cl</a:t>
              </a:r>
              <a:r>
                <a:rPr b="1" lang="en-US" sz="2800" spc="-1" strike="noStrike" baseline="30000">
                  <a:solidFill>
                    <a:srgbClr val="00ff00"/>
                  </a:solidFill>
                  <a:latin typeface="Times New Roman"/>
                  <a:ea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3" name="Object 66"/>
            <p:cNvGraphicFramePr/>
            <p:nvPr/>
          </p:nvGraphicFramePr>
          <p:xfrm>
            <a:off x="3381480" y="4876920"/>
            <a:ext cx="1695240" cy="242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4" name="Object 66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381480" y="4876920"/>
                      <a:ext cx="1695240" cy="24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5" name="Group 81"/>
          <p:cNvGrpSpPr/>
          <p:nvPr/>
        </p:nvGrpSpPr>
        <p:grpSpPr>
          <a:xfrm>
            <a:off x="539640" y="5373720"/>
            <a:ext cx="8245440" cy="579600"/>
            <a:chOff x="539640" y="5373720"/>
            <a:chExt cx="8245440" cy="579600"/>
          </a:xfrm>
        </p:grpSpPr>
        <p:sp>
          <p:nvSpPr>
            <p:cNvPr id="86" name="Text Box 74"/>
            <p:cNvSpPr/>
            <p:nvPr/>
          </p:nvSpPr>
          <p:spPr>
            <a:xfrm>
              <a:off x="539640" y="5373720"/>
              <a:ext cx="8245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HSO</a:t>
              </a:r>
              <a:r>
                <a:rPr b="1" lang="en-US" sz="2800" spc="-1" strike="noStrike" baseline="-25000">
                  <a:solidFill>
                    <a:srgbClr val="00ff00"/>
                  </a:solidFill>
                  <a:latin typeface="Times New Roman"/>
                  <a:ea typeface="Times New Roman"/>
                </a:rPr>
                <a:t>4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2800" spc="-1" strike="noStrike" baseline="-25000">
                  <a:solidFill>
                    <a:srgbClr val="00ff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O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2800" spc="-1" strike="noStrike" baseline="-25000">
                  <a:solidFill>
                    <a:srgbClr val="00ff00"/>
                  </a:solidFill>
                  <a:latin typeface="Times New Roman"/>
                  <a:ea typeface="Times New Roman"/>
                </a:rPr>
                <a:t>3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O </a:t>
              </a:r>
              <a:r>
                <a:rPr b="1" lang="en-US" sz="2800" spc="-1" strike="noStrike" baseline="30000">
                  <a:solidFill>
                    <a:srgbClr val="00ff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SO</a:t>
              </a:r>
              <a:r>
                <a:rPr b="1" lang="en-US" sz="2800" spc="-1" strike="noStrike" baseline="-25000">
                  <a:solidFill>
                    <a:srgbClr val="00ff00"/>
                  </a:solidFill>
                  <a:latin typeface="Times New Roman"/>
                  <a:ea typeface="Times New Roman"/>
                </a:rPr>
                <a:t>4</a:t>
              </a:r>
              <a:r>
                <a:rPr b="1" lang="en-US" sz="2800" spc="-1" strike="noStrike" baseline="30000">
                  <a:solidFill>
                    <a:srgbClr val="00ff00"/>
                  </a:solidFill>
                  <a:latin typeface="Times New Roman"/>
                  <a:ea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7" name="Object 76"/>
            <p:cNvGraphicFramePr/>
            <p:nvPr/>
          </p:nvGraphicFramePr>
          <p:xfrm>
            <a:off x="3381480" y="5524560"/>
            <a:ext cx="1695240" cy="2430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8" name="Object 76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381480" y="5524560"/>
                      <a:ext cx="1695240" cy="2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9" name="Group 91"/>
          <p:cNvGrpSpPr/>
          <p:nvPr/>
        </p:nvGrpSpPr>
        <p:grpSpPr>
          <a:xfrm>
            <a:off x="539640" y="5934240"/>
            <a:ext cx="8245440" cy="579600"/>
            <a:chOff x="539640" y="5934240"/>
            <a:chExt cx="8245440" cy="579600"/>
          </a:xfrm>
        </p:grpSpPr>
        <p:sp>
          <p:nvSpPr>
            <p:cNvPr id="90" name="Text Box 84"/>
            <p:cNvSpPr/>
            <p:nvPr/>
          </p:nvSpPr>
          <p:spPr>
            <a:xfrm>
              <a:off x="539640" y="5934240"/>
              <a:ext cx="8245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HBr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2800" spc="-1" strike="noStrike" baseline="-25000">
                  <a:solidFill>
                    <a:srgbClr val="00ff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O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2800" spc="-1" strike="noStrike" baseline="-25000">
                  <a:solidFill>
                    <a:srgbClr val="00ff00"/>
                  </a:solidFill>
                  <a:latin typeface="Times New Roman"/>
                  <a:ea typeface="Times New Roman"/>
                </a:rPr>
                <a:t>3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O </a:t>
              </a:r>
              <a:r>
                <a:rPr b="1" lang="en-US" sz="2800" spc="-1" strike="noStrike" baseline="30000">
                  <a:solidFill>
                    <a:srgbClr val="00ff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Br</a:t>
              </a:r>
              <a:r>
                <a:rPr b="1" lang="en-US" sz="2800" spc="-1" strike="noStrike" baseline="30000">
                  <a:solidFill>
                    <a:srgbClr val="00ff00"/>
                  </a:solidFill>
                  <a:latin typeface="Times New Roman"/>
                  <a:ea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1" name="Object 85"/>
            <p:cNvGraphicFramePr/>
            <p:nvPr/>
          </p:nvGraphicFramePr>
          <p:xfrm>
            <a:off x="3381480" y="6130800"/>
            <a:ext cx="1695240" cy="2430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92" name="Object 85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381480" y="6130800"/>
                      <a:ext cx="1695240" cy="2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(مستمر): الأحماض والقوي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(مستمر): الأحماض والقوي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8"/>
          <p:cNvGrpSpPr/>
          <p:nvPr/>
        </p:nvGrpSpPr>
        <p:grpSpPr>
          <a:xfrm>
            <a:off x="971640" y="1957320"/>
            <a:ext cx="7416720" cy="966600"/>
            <a:chOff x="971640" y="1957320"/>
            <a:chExt cx="7416720" cy="966600"/>
          </a:xfrm>
        </p:grpSpPr>
        <p:sp>
          <p:nvSpPr>
            <p:cNvPr id="96" name="Rectangle 4"/>
            <p:cNvSpPr/>
            <p:nvPr/>
          </p:nvSpPr>
          <p:spPr>
            <a:xfrm>
              <a:off x="1050840" y="1957320"/>
              <a:ext cx="711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2400" spc="-1" strike="noStrike" baseline="-25000">
                  <a:solidFill>
                    <a:srgbClr val="00ff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O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2400" spc="-1" strike="noStrike" baseline="-25000">
                  <a:solidFill>
                    <a:srgbClr val="00ff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O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2400" spc="-1" strike="noStrike" baseline="-25000">
                  <a:solidFill>
                    <a:srgbClr val="00ff00"/>
                  </a:solidFill>
                  <a:latin typeface="Times New Roman"/>
                  <a:ea typeface="Times New Roman"/>
                </a:rPr>
                <a:t>3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O </a:t>
              </a:r>
              <a:r>
                <a:rPr b="1" lang="en-US" sz="2400" spc="-1" strike="noStrike" baseline="30000">
                  <a:solidFill>
                    <a:srgbClr val="00ff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OH</a:t>
              </a:r>
              <a:r>
                <a:rPr b="1" lang="en-US" sz="2400" spc="-1" strike="noStrike" baseline="30000">
                  <a:solidFill>
                    <a:srgbClr val="00ff00"/>
                  </a:solidFill>
                  <a:latin typeface="Times New Roman"/>
                  <a:ea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" name="Picture 5" descr=""/>
            <p:cNvPicPr/>
            <p:nvPr/>
          </p:nvPicPr>
          <p:blipFill>
            <a:blip r:embed="rId1"/>
            <a:stretch/>
          </p:blipFill>
          <p:spPr>
            <a:xfrm>
              <a:off x="971640" y="2533680"/>
              <a:ext cx="7416720" cy="3902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98" name="Object 6"/>
            <p:cNvGraphicFramePr/>
            <p:nvPr/>
          </p:nvGraphicFramePr>
          <p:xfrm>
            <a:off x="3708360" y="2101680"/>
            <a:ext cx="1692360" cy="293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9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708360" y="2101680"/>
                      <a:ext cx="1692360" cy="29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0" name="Text Box 9"/>
          <p:cNvSpPr/>
          <p:nvPr/>
        </p:nvSpPr>
        <p:spPr>
          <a:xfrm>
            <a:off x="108000" y="1177920"/>
            <a:ext cx="88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يمكن للماء أن يتأين ذاتياً ليعمل كحمض وكقاعدة في نفس الوق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457200" y="3686040"/>
            <a:ext cx="8429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buClr>
                <a:srgbClr val="ffff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الأحماض الضعيفة تتأين (تتفكك) بدرجة ضعيفة لأن القاعدة المرافقة قوية فترتبط بقوة مع الهيدروج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00000"/>
              </a:lnSpc>
              <a:buClr>
                <a:srgbClr val="ffff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الأحماض القوية تتأين كلياً فهي تتميز بميلها الشديد لإعطاء (فقد) بروتونات نظراً لضعف القاعدة المرافق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987200" y="5425920"/>
            <a:ext cx="83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buClr>
                <a:srgbClr val="ffff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القواعد القوية تتميز بميلها الشديد لاستقبال بروتون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Object 4"/>
          <p:cNvGraphicFramePr/>
          <p:nvPr/>
        </p:nvGraphicFramePr>
        <p:xfrm>
          <a:off x="2484360" y="2368440"/>
          <a:ext cx="4537080" cy="4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368440"/>
                    <a:ext cx="453708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 Box 9"/>
          <p:cNvSpPr/>
          <p:nvPr/>
        </p:nvSpPr>
        <p:spPr>
          <a:xfrm>
            <a:off x="3764880" y="1125360"/>
            <a:ext cx="551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وبحساب ثابت التأين للحمض 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K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Traditional Arabic"/>
                <a:ea typeface="Traditional Arabic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13"/>
              <p:cNvSpPr txBox="1"/>
              <p:nvPr/>
            </p:nvSpPr>
            <p:spPr>
              <a:xfrm>
                <a:off x="4067280" y="3173400"/>
                <a:ext cx="1720800" cy="338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e>
                            </m:d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A</m:t>
                                </m:r>
                              </m:e>
                            </m:d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H</m:t>
                                </m:r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O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H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e>
                            </m:d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H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O</m:t>
                                </m:r>
                              </m:e>
                            </m:d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7</m:t>
                                    </m:r>
                                  </m:sup>
                                </m:sSup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-7</m:t>
                                    </m:r>
                                  </m:sup>
                                </m:sSup>
                              </m:e>
                            </m:d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6</m:t>
                                </m:r>
                              </m:e>
                            </m:d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6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2872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(مستمر): الأحماض والقوي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0T09:03:56Z</dcterms:created>
  <dc:creator>Mastour</dc:creator>
  <dc:description/>
  <dc:language>en-US</dc:language>
  <cp:lastModifiedBy>user</cp:lastModifiedBy>
  <dcterms:modified xsi:type="dcterms:W3CDTF">2015-09-03T06:46:13Z</dcterms:modified>
  <cp:revision>109</cp:revision>
  <dc:subject/>
  <dc:title>المحاليل الحيوية المنظمة</dc:title>
</cp:coreProperties>
</file>