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B183-B644-4A7B-8873-CD3B188B902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B8E6-E332-4C62-A664-4A74465C146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6BF-9867-4082-93D8-90A484A2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F15-5539-468A-B47B-4323A5A4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E476-54EB-4077-B517-56904927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B5F-A3EE-401B-B620-B72163F9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985-7DE5-4139-A9EA-5D8B7825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BAB-D372-495A-BADA-5B8E6E40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CAEC-D201-4BF2-A646-3EB10425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350-D688-454A-B7B0-A5E941FD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000-98F7-470D-8E16-E9F8D722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D9C-EAC8-4ABD-8961-6A646D06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41B-A5D3-4FA5-BD41-A83B2B2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E56-7F1C-41D7-A041-C653E969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62E2-4A3C-42AC-955E-8511A3E87257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Arial"/>
              </a:rPr>
              <a:t>Chapter 2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ماء - الأحماض والقلويات - المحاليل المنظم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ATER, ACID-BASE &amp;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  <a:ea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  <a:ea typeface="Arial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95280" y="1341360"/>
            <a:ext cx="856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تمد قوة الحمض أو القاعدة على قدرة المذيب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solvent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على الارتباط بأيون الهيدروج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مكن لحمض أن يكون قوياً في أحد المذيبات وضعيفاً في مذيب آخ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حمض الأسيتيك (الخليك) يكون ضعيفاً في الوسط المائي ويكون قوياً في محلول الأموني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01480" y="3603600"/>
            <a:ext cx="8463240" cy="27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قاعدة المرافقة للحمض القوي تكون ضعيفة والعكس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الماء حمض ضعيف ولكن قاعدته المرافقة قوية (الهيدروكسيل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حماض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l, HBr, HN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ى أحماض قوية (سريعة التأين) وقواعدها المرافقة ضعيفة </a:t>
            </a:r>
            <a:r>
              <a:rPr b="0" lang="ar-SA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, Br-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,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NO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44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H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تعريف الـ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79280" y="1413000"/>
            <a:ext cx="8748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و اللوغاريتم السالب للتركيز الجزيئي لأيون الهيدرونيوم 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[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H</a:t>
            </a:r>
            <a:r>
              <a:rPr b="1" lang="en-ZA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3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</a:t>
            </a:r>
            <a:r>
              <a:rPr b="1" lang="en-ZA" sz="28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+</a:t>
            </a:r>
            <a:r>
              <a:rPr b="1" lang="en-ZA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614760" y="2100240"/>
            <a:ext cx="2666880" cy="510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-25000">
                <a:solidFill>
                  <a:srgbClr val="000066"/>
                </a:solidFill>
                <a:latin typeface="Times New Roman"/>
                <a:ea typeface="Traditional Arabic"/>
              </a:rPr>
              <a:t>3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O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76320" y="278136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وتكتب غالباً بالصيغة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985680" y="2778120"/>
            <a:ext cx="2887920" cy="459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971640" y="3419640"/>
            <a:ext cx="7734240" cy="1015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raditional Arabic"/>
              </a:rPr>
              <a:t>وعند درجة حرارة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2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°م تكون 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للماء النقي =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pH = -log [H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+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] = -log 10</a:t>
            </a:r>
            <a:r>
              <a:rPr b="1" lang="en-ZA" sz="2400" spc="-1" strike="noStrike" baseline="30000">
                <a:solidFill>
                  <a:srgbClr val="000066"/>
                </a:solidFill>
                <a:latin typeface="Times New Roman"/>
                <a:ea typeface="Traditional Arabic"/>
              </a:rPr>
              <a:t>-7</a:t>
            </a:r>
            <a:r>
              <a:rPr b="1" lang="en-ZA" sz="2400" spc="-1" strike="noStrike">
                <a:solidFill>
                  <a:srgbClr val="000066"/>
                </a:solidFill>
                <a:latin typeface="Times New Roman"/>
                <a:ea typeface="Traditional Arabic"/>
              </a:rPr>
              <a:t> = -(-7) = 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6063480" y="46324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بالمثل يمكن تعريف الـ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77040" y="4621320"/>
            <a:ext cx="272880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H = -log [OH</a:t>
            </a:r>
            <a:r>
              <a:rPr b="0" lang="en-ZA" sz="2800" spc="-1" strike="noStrike" baseline="30000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0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94240" y="5565600"/>
            <a:ext cx="296496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H + pOH = 14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7920" y="-360"/>
            <a:ext cx="9144000" cy="1143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معادلة هندرسون - هاسلبالخ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enderson-Hasselbalch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3808080"/>
            <a:ext cx="85690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مكن حساب ثابت الاتزان كما يل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5"/>
              <p:cNvSpPr txBox="1"/>
              <p:nvPr/>
            </p:nvSpPr>
            <p:spPr>
              <a:xfrm>
                <a:off x="3365640" y="4514760"/>
                <a:ext cx="280980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Text Box 8"/>
          <p:cNvSpPr/>
          <p:nvPr/>
        </p:nvSpPr>
        <p:spPr>
          <a:xfrm>
            <a:off x="468360" y="1503360"/>
            <a:ext cx="83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ضعت هذه المعادلة للتعبير عن الأحماض والقواعد الضعيفة وليس الأحماض القوية المخف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ن الأحماض والقواعد الضعيفة لا تتأين كلياً، وتوجد في حالة اتزان بين تركيز الحمض الغير متأين وأيوناته (البوتون + القاعدة المرافق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2673000" y="2970360"/>
            <a:ext cx="4195080" cy="581400"/>
            <a:chOff x="2673000" y="2970360"/>
            <a:chExt cx="4195080" cy="581400"/>
          </a:xfrm>
        </p:grpSpPr>
        <p:sp>
          <p:nvSpPr>
            <p:cNvPr id="125" name="AutoShape 21"/>
            <p:cNvSpPr/>
            <p:nvPr/>
          </p:nvSpPr>
          <p:spPr>
            <a:xfrm>
              <a:off x="3492360" y="3190680"/>
              <a:ext cx="1008360" cy="215640"/>
            </a:xfrm>
            <a:prstGeom prst="leftRightArrow">
              <a:avLst>
                <a:gd name="adj1" fmla="val 50000"/>
                <a:gd name="adj2" fmla="val 93089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673000" y="2970360"/>
              <a:ext cx="419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A              H</a:t>
              </a:r>
              <a:r>
                <a:rPr b="1" lang="en-GB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GB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  +     A</a:t>
              </a:r>
              <a:r>
                <a:rPr b="1" lang="en-GB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441360" y="2852640"/>
                <a:ext cx="2330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441360" y="1484280"/>
                <a:ext cx="188280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441360" y="4221000"/>
                <a:ext cx="3409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8"/>
              <p:cNvSpPr txBox="1"/>
              <p:nvPr/>
            </p:nvSpPr>
            <p:spPr>
              <a:xfrm>
                <a:off x="473040" y="5589720"/>
                <a:ext cx="3738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9"/>
              <p:cNvSpPr txBox="1"/>
              <p:nvPr/>
            </p:nvSpPr>
            <p:spPr>
              <a:xfrm>
                <a:off x="4788000" y="1504800"/>
                <a:ext cx="4205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0"/>
              <p:cNvSpPr txBox="1"/>
              <p:nvPr/>
            </p:nvSpPr>
            <p:spPr>
              <a:xfrm>
                <a:off x="4788000" y="2801880"/>
                <a:ext cx="2733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1"/>
              <p:cNvSpPr txBox="1"/>
              <p:nvPr/>
            </p:nvSpPr>
            <p:spPr>
              <a:xfrm>
                <a:off x="4788000" y="4241880"/>
                <a:ext cx="2587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معادلة هندرسون - هاسلبال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عندما يكون الحمض نصف متأين (يتساوى تركيز الحمض مع تركيز قاعدته المرافقة) يكون: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p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3273480" y="3387600"/>
                <a:ext cx="237960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682560" y="4456080"/>
                <a:ext cx="756144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معادلة هندرسون - هاسلبال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محاليل </a:t>
            </a:r>
            <a:r>
              <a:rPr b="1" lang="ar-EG" sz="4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حيوية المنظمة </a:t>
            </a:r>
            <a:r>
              <a:rPr b="0" lang="en-US" sz="4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ريف المحلول المنظّم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uffer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ي محاليل تتغيّر قيمة الرقم الهيدروجيني لها تغيراً طفيفاً عند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ضافة حمض أو قاعدة إليها بكميات قليلة.</a:t>
            </a:r>
            <a:br>
              <a:rPr sz="2800"/>
            </a:b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أي أنها محاليل تقاوم التغيرات في قيمة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عند إضافة حمض أو قاعدة إليها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ممّ يتكوّن المحلول المنظّ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تكوّن من حمض ضعيف وقاعدته المرافقة  (ملح الحمض)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و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قاعدة ضعيفة وحمضها المرافق (ملح القاعد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مثلة المحاليل المنظم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OH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O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   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N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C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  (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،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H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آلية عمل المحاليل المنظم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حتوى المحلول المنظم على مواد تتفاعل مع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مواد أخرى تتفاعل مع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المضافة أو الناتجة من أي تفاعل وبذلك يقل تأثير تلك الأيونات على الوس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ثال: المحلول المتكون من حمض الأستيك + أسيتات صوديو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يقاوم التغير في الـ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إذا أضيف إليه حمض قوي مثل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Cl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أن الحمض المضاف يتحلل إلى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ترتبط أيونات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l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مع الصوديوم مكوناً ملح الطعام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NaCl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ا يؤثر في الـ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ترتبط أيونات الأسيتات مع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فيتكون حمض الأستيك ضعيف التحلل الذي لا يغير بدوره الـ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السعة التنظيمية </a:t>
            </a:r>
            <a:r>
              <a:rPr b="1" lang="en-US" sz="44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Buffering Capa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9840" y="1341360"/>
            <a:ext cx="8966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تناسب قدرة المحلول المنظم على مقاومة التغير في الـ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طردياً مع تركيز مكونات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تبلغ السعة التنظيمية أقصاها عندما يتساوى تركيز الحمض مع قاعدته المراف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ثال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acetate buffer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844720" y="3513240"/>
            <a:ext cx="3527640" cy="510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      = p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-log 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844720" y="4089240"/>
            <a:ext cx="3527640" cy="510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log K</a:t>
            </a:r>
            <a:r>
              <a:rPr b="1" lang="en-ZA" sz="24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- log 1.8 x 10</a:t>
            </a:r>
            <a:r>
              <a:rPr b="1" lang="en-ZA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844720" y="4627440"/>
            <a:ext cx="21589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            </a:t>
            </a:r>
            <a:r>
              <a:rPr b="1" lang="en-Z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4.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684360" y="5578560"/>
            <a:ext cx="81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هذا معناه أن السعة القصوى لهذا المحلول تقع عند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4.74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تقل القدرة على مقاومة التغير كلما بعدنا عن هذا الرقم في حدود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±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همية المحلول المنظ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ضرورية لضمان نشاط الإنزي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ضرورية لنقل الغازات في الدم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optima =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تعالج التربة الزراعية بمحاليل منظمة حتى تصبح صالحة لزراعة محاصيل مع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مثلة للكواشف على درجة الــ </a:t>
            </a:r>
            <a:r>
              <a:rPr b="1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3860640"/>
          <a:ext cx="6913800" cy="2697480"/>
        </p:xfrm>
        <a:graphic>
          <a:graphicData uri="http://schemas.openxmlformats.org/drawingml/2006/table">
            <a:tbl>
              <a:tblPr/>
              <a:tblGrid>
                <a:gridCol w="1703520"/>
                <a:gridCol w="1874880"/>
                <a:gridCol w="3335400"/>
              </a:tblGrid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لونه في الوسط الحمض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لونه في الوسط القاع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الكاش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92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عديم اللو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ورد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فينول فثالين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Phenol phthal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04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صف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يثيل البرتقالي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ethyl o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48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صف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المثيل الأحمر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Methyl red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ح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Traditional Arabic"/>
                        </a:rPr>
                        <a:t>أزر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raditional Arabic"/>
                        </a:rPr>
                        <a:t>دوار الشمس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Litmus paper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raditional Arabic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500120" y="1268280"/>
          <a:ext cx="609624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الأس الهيدروجيني </a:t>
                      </a:r>
                      <a:r>
                        <a:rPr b="1" lang="en-US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p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المادة أو المحلول</a:t>
                      </a:r>
                      <a:r>
                        <a:rPr b="0" lang="ar-SA" sz="24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0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.2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 </a:t>
                      </a: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عصير الليمو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الخ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عصير الطماط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.4-4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الجبنة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.0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ماء الشرب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ماء البح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بول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حليب الأبقار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لعاب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. 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- دم الانس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cs typeface="Traditional Arabic"/>
              </a:rPr>
              <a:t>أمثلة على </a:t>
            </a:r>
            <a:r>
              <a:rPr b="1" lang="en-US" sz="48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4800" spc="-1" strike="noStrike">
                <a:solidFill>
                  <a:srgbClr val="00ff00"/>
                </a:solidFill>
                <a:latin typeface="Traditional Arabic"/>
                <a:ea typeface="Traditional Arabic"/>
              </a:rPr>
              <a:t> لبعض السوائ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331560"/>
            <a:ext cx="8424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الماء ، سر الحياة</a:t>
            </a: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</a:t>
            </a:r>
            <a:r>
              <a:rPr b="1" lang="en-US" sz="3200" spc="-1" strike="noStrike" baseline="-25000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, the secre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3640" y="1557360"/>
            <a:ext cx="8569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ماء في الحالات العادية متعادل ويمكن أن يتأين بمعدلات بطيئة إلى أيونين هم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-   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يون الهيدروجين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أيون الهيدروكسيل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+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تفكك جزئ الماء إلى الأيونات ويعاد إرتباطها بشكل دائم حتى يصل إلى مرحلة اتزان يحكمها ثابت يسمى بثابت الاتزان </a:t>
            </a:r>
            <a:r>
              <a:rPr b="0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Equilibrium constant (Keq)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ذي يمكن التعبير عنه بحاصل قسمة تركيز الأيونات المكونة للماء على تركيز الماء قبل التأي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ionic-keq"/>
          <p:cNvPicPr/>
          <p:nvPr/>
        </p:nvPicPr>
        <p:blipFill>
          <a:blip r:embed="rId1"/>
          <a:stretch/>
        </p:blipFill>
        <p:spPr>
          <a:xfrm>
            <a:off x="3276720" y="5621400"/>
            <a:ext cx="2768400" cy="10429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9"/>
          <p:cNvSpPr/>
          <p:nvPr/>
        </p:nvSpPr>
        <p:spPr>
          <a:xfrm>
            <a:off x="3289320" y="3476520"/>
            <a:ext cx="1727280" cy="144720"/>
          </a:xfrm>
          <a:prstGeom prst="leftRightArrow">
            <a:avLst>
              <a:gd name="adj1" fmla="val 50000"/>
              <a:gd name="adj2" fmla="val 23760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 : تأين 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جموع الأوزان الجزيئية للماء تساوي 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زئ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18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ر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تر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1000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را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إذاً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لتر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حتوي على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000/18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=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جز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معنى هذا أن تركيز الماء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M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)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عتبر كبير جداً مقارنةً لتركيز الأيونات المكونة له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و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الرجوع للمعادلة السابقة وضرب طرفي المعادلة في 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55.56</a:t>
            </a: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نحصل على ثابت جديد يسمى </a:t>
            </a:r>
            <a:r>
              <a:rPr b="0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468360" y="3325680"/>
            <a:ext cx="849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 = 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ي حالة الماء النقي الذي لم يضاف إليه احماض أو قلويات نجد أن قيمة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w = 1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14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ما أن تركيز ايون الهيدروجين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يساوي تركيز أيون الهيدروكسيل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فإن قيمة كل منهما تساوي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7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M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= [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 =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1 x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7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لو تم أخذ اللوغارتم السالب لتركيز ايون الهيدروجين نحصل على قيمة تستخدم للتعبير عن التركيز وتسمى تلك القيمة بـ 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</a:t>
            </a: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r>
              <a:rPr b="0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pH = -log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3311640" y="888840"/>
                <a:ext cx="2519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uilibri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t xml:space="preserve">O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2843280" y="1757520"/>
                <a:ext cx="34574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e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OH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2</m:t>
                            </m:r>
                            <m:r>
                              <m:t xml:space="preserve">O</m:t>
                            </m:r>
                          </m:e>
                        </m:d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3556080" y="2622600"/>
                <a:ext cx="20318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 : تأين الم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</a:rPr>
              <a:t>تعريف بالحموض والقواعد وثوابت التفكك الخاصة به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ition of acids and bases and its dissociation const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ff00"/>
                </a:solidFill>
                <a:latin typeface="Times New Roman"/>
                <a:cs typeface="Times New Roman"/>
              </a:rPr>
              <a:t>تعريف الأحماض والقلو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280" y="1268280"/>
            <a:ext cx="89647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ff00"/>
                </a:solidFill>
                <a:latin typeface="Times New Roman"/>
                <a:cs typeface="Traditional Arabic"/>
              </a:rPr>
              <a:t>تعريف أرهينيوس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raditional Arabic"/>
              </a:rPr>
              <a:t>Arrhenius (188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أحماض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مركبات التي تتأين في المحاليل المائية لتعطي أيونات هيدروجين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+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قواعد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مركبات التي تتأين في المحاليل المائية لتعطي أيونات هيدروكسيل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H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imes New Roman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ff00"/>
                </a:solidFill>
                <a:latin typeface="Times New Roman"/>
                <a:cs typeface="Traditional Arabic"/>
              </a:rPr>
              <a:t>تعريف برونستد – لوري  </a:t>
            </a:r>
            <a:r>
              <a:rPr b="1" i="1" lang="en-US" sz="3200" spc="-1" strike="noStrike">
                <a:solidFill>
                  <a:srgbClr val="00ff00"/>
                </a:solidFill>
                <a:latin typeface="Times New Roman"/>
                <a:ea typeface="Traditional Arabic"/>
              </a:rPr>
              <a:t>Bronsted-Lowry (19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raditional Arabic"/>
              </a:rPr>
              <a:t>هذا التعريف أكثر شمولية واستخداماً في الأوساط الع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أحماض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تي تتأين لتعطي بروتونات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roton don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cs typeface="Traditional Arabic"/>
              </a:rPr>
              <a:t>القواعد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هي التي تستقبل بروتونات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Proton accepto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8"/>
          <p:cNvGrpSpPr/>
          <p:nvPr/>
        </p:nvGrpSpPr>
        <p:grpSpPr>
          <a:xfrm>
            <a:off x="2495160" y="5948280"/>
            <a:ext cx="4690440" cy="1036080"/>
            <a:chOff x="2495160" y="5948280"/>
            <a:chExt cx="4690440" cy="1036080"/>
          </a:xfrm>
        </p:grpSpPr>
        <p:sp>
          <p:nvSpPr>
            <p:cNvPr id="73" name="Rectangle 6"/>
            <p:cNvSpPr/>
            <p:nvPr/>
          </p:nvSpPr>
          <p:spPr>
            <a:xfrm>
              <a:off x="2495160" y="5948280"/>
              <a:ext cx="469044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BH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  H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+   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+   B</a:t>
              </a:r>
              <a:r>
                <a:rPr b="1" lang="en-US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حمض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بروتون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cs typeface="Times New Roman"/>
                </a:rPr>
                <a:t>قاعدة</a:t>
              </a:r>
              <a:r>
                <a:rPr b="1" lang="ar-SA" sz="28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7"/>
            <p:cNvSpPr/>
            <p:nvPr/>
          </p:nvSpPr>
          <p:spPr>
            <a:xfrm>
              <a:off x="3367080" y="6068880"/>
              <a:ext cx="1727280" cy="144360"/>
            </a:xfrm>
            <a:prstGeom prst="leftRightArrow">
              <a:avLst>
                <a:gd name="adj1" fmla="val 50000"/>
                <a:gd name="adj2" fmla="val 238194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كل من الحمض والقاعدة مرافق للآخر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onju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فمثلاً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هي القاعدة المرافقة للحمض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H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 هو الحمض المرافق للقاعدة </a:t>
            </a:r>
            <a:r>
              <a:rPr b="0" lang="en-US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raditional Arabic"/>
                <a:ea typeface="Traditional Arabic"/>
              </a:rPr>
              <a:t>-</a:t>
            </a:r>
            <a:r>
              <a:rPr b="0" lang="ar-SA" sz="32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395280" y="3141720"/>
            <a:ext cx="8078760" cy="4809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61"/>
          <p:cNvGrpSpPr/>
          <p:nvPr/>
        </p:nvGrpSpPr>
        <p:grpSpPr>
          <a:xfrm>
            <a:off x="539640" y="4076640"/>
            <a:ext cx="8245440" cy="579600"/>
            <a:chOff x="539640" y="4076640"/>
            <a:chExt cx="8245440" cy="579600"/>
          </a:xfrm>
        </p:grpSpPr>
        <p:sp>
          <p:nvSpPr>
            <p:cNvPr id="78" name="Text Box 25"/>
            <p:cNvSpPr/>
            <p:nvPr/>
          </p:nvSpPr>
          <p:spPr>
            <a:xfrm>
              <a:off x="539640" y="40766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Object 35"/>
            <p:cNvGraphicFramePr/>
            <p:nvPr/>
          </p:nvGraphicFramePr>
          <p:xfrm>
            <a:off x="3381480" y="4197240"/>
            <a:ext cx="1695240" cy="2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0" name="Object 3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81480" y="419724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1" name="Group 71"/>
          <p:cNvGrpSpPr/>
          <p:nvPr/>
        </p:nvGrpSpPr>
        <p:grpSpPr>
          <a:xfrm>
            <a:off x="539640" y="4722840"/>
            <a:ext cx="8245440" cy="579600"/>
            <a:chOff x="539640" y="4722840"/>
            <a:chExt cx="8245440" cy="579600"/>
          </a:xfrm>
        </p:grpSpPr>
        <p:sp>
          <p:nvSpPr>
            <p:cNvPr id="82" name="Text Box 64"/>
            <p:cNvSpPr/>
            <p:nvPr/>
          </p:nvSpPr>
          <p:spPr>
            <a:xfrm>
              <a:off x="539640" y="47228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Cl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Cl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66"/>
            <p:cNvGraphicFramePr/>
            <p:nvPr/>
          </p:nvGraphicFramePr>
          <p:xfrm>
            <a:off x="3381480" y="4876920"/>
            <a:ext cx="1695240" cy="242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4" name="Object 6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381480" y="4876920"/>
                      <a:ext cx="1695240" cy="24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5" name="Group 81"/>
          <p:cNvGrpSpPr/>
          <p:nvPr/>
        </p:nvGrpSpPr>
        <p:grpSpPr>
          <a:xfrm>
            <a:off x="539640" y="5373720"/>
            <a:ext cx="8245440" cy="579600"/>
            <a:chOff x="539640" y="5373720"/>
            <a:chExt cx="8245440" cy="579600"/>
          </a:xfrm>
        </p:grpSpPr>
        <p:sp>
          <p:nvSpPr>
            <p:cNvPr id="86" name="Text Box 74"/>
            <p:cNvSpPr/>
            <p:nvPr/>
          </p:nvSpPr>
          <p:spPr>
            <a:xfrm>
              <a:off x="539640" y="537372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SO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SO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7" name="Object 76"/>
            <p:cNvGraphicFramePr/>
            <p:nvPr/>
          </p:nvGraphicFramePr>
          <p:xfrm>
            <a:off x="3381480" y="5524560"/>
            <a:ext cx="1695240" cy="243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8" name="Object 76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381480" y="552456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" name="Group 91"/>
          <p:cNvGrpSpPr/>
          <p:nvPr/>
        </p:nvGrpSpPr>
        <p:grpSpPr>
          <a:xfrm>
            <a:off x="539640" y="5934240"/>
            <a:ext cx="8245440" cy="579600"/>
            <a:chOff x="539640" y="5934240"/>
            <a:chExt cx="8245440" cy="579600"/>
          </a:xfrm>
        </p:grpSpPr>
        <p:sp>
          <p:nvSpPr>
            <p:cNvPr id="90" name="Text Box 84"/>
            <p:cNvSpPr/>
            <p:nvPr/>
          </p:nvSpPr>
          <p:spPr>
            <a:xfrm>
              <a:off x="539640" y="5934240"/>
              <a:ext cx="8245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Br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8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Br</a:t>
              </a:r>
              <a:r>
                <a:rPr b="1" lang="en-US" sz="28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" name="Object 85"/>
            <p:cNvGraphicFramePr/>
            <p:nvPr/>
          </p:nvGraphicFramePr>
          <p:xfrm>
            <a:off x="3381480" y="6130800"/>
            <a:ext cx="1695240" cy="243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" name="Object 85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81480" y="6130800"/>
                      <a:ext cx="1695240" cy="2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971640" y="1957320"/>
            <a:ext cx="7416720" cy="966600"/>
            <a:chOff x="971640" y="1957320"/>
            <a:chExt cx="7416720" cy="966600"/>
          </a:xfrm>
        </p:grpSpPr>
        <p:sp>
          <p:nvSpPr>
            <p:cNvPr id="96" name="Rectangle 4"/>
            <p:cNvSpPr/>
            <p:nvPr/>
          </p:nvSpPr>
          <p:spPr>
            <a:xfrm>
              <a:off x="1050840" y="1957320"/>
              <a:ext cx="711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400" spc="-1" strike="noStrike" baseline="-25000">
                  <a:solidFill>
                    <a:srgbClr val="00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 </a:t>
              </a:r>
              <a:r>
                <a:rPr b="1" lang="en-US" sz="24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ff00"/>
                  </a:solidFill>
                  <a:latin typeface="Times New Roman"/>
                  <a:ea typeface="Times New Roman"/>
                </a:rPr>
                <a:t>OH</a:t>
              </a:r>
              <a:r>
                <a:rPr b="1" lang="en-US" sz="2400" spc="-1" strike="noStrike" baseline="30000">
                  <a:solidFill>
                    <a:srgbClr val="00ff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5" descr=""/>
            <p:cNvPicPr/>
            <p:nvPr/>
          </p:nvPicPr>
          <p:blipFill>
            <a:blip r:embed="rId1"/>
            <a:stretch/>
          </p:blipFill>
          <p:spPr>
            <a:xfrm>
              <a:off x="971640" y="2533680"/>
              <a:ext cx="7416720" cy="3902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8" name="Object 6"/>
            <p:cNvGraphicFramePr/>
            <p:nvPr/>
          </p:nvGraphicFramePr>
          <p:xfrm>
            <a:off x="3708360" y="2101680"/>
            <a:ext cx="1692360" cy="293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708360" y="2101680"/>
                      <a:ext cx="1692360" cy="29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0" name="Text Box 9"/>
          <p:cNvSpPr/>
          <p:nvPr/>
        </p:nvSpPr>
        <p:spPr>
          <a:xfrm>
            <a:off x="108000" y="11779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يمكن للماء أن يتأين ذاتياً ليعمل كحمض وكقاعدة في نفس الوق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3686040"/>
            <a:ext cx="842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أحماض الضعيفة تتأين (تتفكك) بدرجة ضعيفة لأن القاعدة المرافقة قوية فترتبط بقوة مع الهيدروج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أحماض القوية تتأين كلياً فهي تتميز بميلها الشديد لإعطاء (فقد) بروتونات نظراً لضعف القاعدة المراف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87200" y="542592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ff00"/>
              </a:buClr>
              <a:buFont typeface="Traditional Arab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القواعد القوية تتميز بميلها الشديد لاستقبال بروتون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4"/>
          <p:cNvGraphicFramePr/>
          <p:nvPr/>
        </p:nvGraphicFramePr>
        <p:xfrm>
          <a:off x="2484360" y="2368440"/>
          <a:ext cx="45370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68440"/>
                    <a:ext cx="45370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9"/>
          <p:cNvSpPr/>
          <p:nvPr/>
        </p:nvSpPr>
        <p:spPr>
          <a:xfrm>
            <a:off x="3764880" y="1125360"/>
            <a:ext cx="551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raditional Arabic"/>
                <a:cs typeface="Traditional Arabic"/>
              </a:rPr>
              <a:t>وبحساب ثابت التأين للحمض </a:t>
            </a:r>
            <a:r>
              <a:rPr b="1" lang="en-US" sz="28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K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raditional Arabic"/>
                <a:ea typeface="Traditional Arabic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4067280" y="3173400"/>
                <a:ext cx="1720800" cy="338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HA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3</m:t>
                                </m:r>
                                <m:s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H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O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7</m:t>
                                    </m:r>
                                  </m:sup>
                                </m:sSup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7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6</m:t>
                                </m:r>
                              </m:e>
                            </m:d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6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87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(مستمر): الأحماض والقو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9:03:56Z</dcterms:created>
  <dc:creator>Mastour</dc:creator>
  <dc:description/>
  <dc:language>en-US</dc:language>
  <cp:lastModifiedBy>user</cp:lastModifiedBy>
  <dcterms:modified xsi:type="dcterms:W3CDTF">2015-09-03T06:46:13Z</dcterms:modified>
  <cp:revision>109</cp:revision>
  <dc:subject/>
  <dc:title>المحاليل الحيوية المنظمة</dc:title>
</cp:coreProperties>
</file>