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0FB4-EEFA-4036-B2CA-894B8DAC0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F4C0-B0D8-4C1A-BC95-DFC98976A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3C93-B500-4221-A0C3-B7B0AE493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44F6-FB8C-42E7-A853-792532597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49A9C-7CEE-49AA-98E1-F79722E6D8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4875-10ED-4C85-AAE3-A193A645AD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4CE5-ED6D-4E47-A633-491B054D4D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5158B-2D12-4B9A-A55A-156622FE73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65D45-2B31-4859-BCD2-73AF757726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87D65-0139-419A-93B2-1C06F185A2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03DFF-834A-4AEF-A455-A52E752F3A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1BDD-7109-440B-AD93-27B3E0A02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BCCE4-18F8-4EE5-A908-53EB4E01AD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D196-6290-4A7D-9E71-C2C46E476E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1ECD-80A9-43C2-A155-5F7C59CA56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1ED5-BD38-4E4C-9A5D-D178BFEB6A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B9628-E1DD-499A-9EF4-D5E754C97C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DD7-0908-4D5F-A1CF-B38A8D3EDA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E61F-2870-4322-ADDA-DD7C4453AE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39C-2E14-4D5D-9385-83B3BCAFD6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C5F-B4EC-4755-9B7C-F597A96FB1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AB9-EE45-4D2F-871C-6A6D17F5EF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D192-DE96-4DFE-9E7A-A554BFD1C6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AFA-86C2-4FD6-A936-29E8AF4943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052-5B1B-4A70-8F78-E820705153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20D-1B28-4688-9DEA-20273F2A65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6B0-4043-405C-A3CC-91D848C945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9BF-FD61-4247-A9F6-B11A17A746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0E0-BBC1-42F6-9642-EF4AA84B8D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07D-06D5-4521-BB7C-89846E3AF7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8D52A-E8C3-4DEB-AA74-A08B2788EB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CCA3E-888E-4FE7-86C8-B0D5A6BE64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82509-C03D-4F6D-A2ED-5F60E838D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76BB-4832-47DF-BDCC-33CABE9ED7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8AF1A-8760-4476-8AA0-32D36400B1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1A506-EB90-409D-A921-4CE524892C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29FE2-48CB-43B7-9D24-7E740244B0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92CF2-A991-42E0-A94E-E8463FF771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F3DEC-6CDD-4152-B596-D3AA8FFDA91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E085A-CB44-43E5-8335-2EDB9AC4E4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DC34F-6F74-4DB8-AF26-97CF7F5D8F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7179C-69B1-4334-BB4A-A5A0F2F951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6A234-1EE6-4983-ACBE-0B6E228D0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F6ED-D80D-401D-91F9-0ECB233F3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E00D-8DAA-4B0A-A035-642468064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FACF-3F82-40C9-9F58-05A0927F2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A9B7-F8A8-4E90-8ECC-1D3F6BD83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13BF-F840-4519-AF4E-F65EA38C2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66F0-BE8A-4D24-9401-6D9A311BC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7084-98F9-4BF0-96EA-F663790B2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3F7B-2844-4952-99F9-B197EC89E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65BB-F799-4417-AD73-AA5B0812E0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F390-A6B5-414C-BFC0-48758C420D8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bas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, Mappings, and Insta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0EDB-135C-4791-BDA1-E7F9B4F87DB2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80880" y="1714680"/>
            <a:ext cx="845820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apping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process of transforming requests and results between  the Internal, Conceptual &amp; External leve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grams refer to an external schema, and are mapped by the DBMS to the internal schema for execu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ata extracted from the internal DBMS level is reformatted to match the user’s external vie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Two types of mapp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External / Conceptual mapp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nceptual / Internal mapp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 versus Insta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4920" y="162864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Schema: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description of the database.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It rarely chan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ncludes descriptions of the database structure, data types, and the constraints on the datab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Instance (snapshot):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actual data stored in a database at a particular moment in time.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Changes rapid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concepts of Schema &amp; Instances corresponds to Types &amp; Values in programming languages, respective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FF83-08FD-4C79-BE6D-FB21AB3863C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Content Placeholder 13"/>
          <p:cNvGrpSpPr/>
          <p:nvPr/>
        </p:nvGrpSpPr>
        <p:grpSpPr>
          <a:xfrm>
            <a:off x="457200" y="2174760"/>
            <a:ext cx="4040280" cy="3311640"/>
            <a:chOff x="457200" y="2174760"/>
            <a:chExt cx="4040280" cy="3311640"/>
          </a:xfrm>
        </p:grpSpPr>
        <p:sp>
          <p:nvSpPr>
            <p:cNvPr id="205" name="Rectangle 15"/>
            <p:cNvSpPr/>
            <p:nvPr/>
          </p:nvSpPr>
          <p:spPr>
            <a:xfrm>
              <a:off x="3702240" y="2174760"/>
              <a:ext cx="795240" cy="716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6" name="Picture 6" descr="fig02_01"/>
            <p:cNvPicPr/>
            <p:nvPr/>
          </p:nvPicPr>
          <p:blipFill>
            <a:blip r:embed="rId1"/>
            <a:srcRect l="0" t="18243" r="19610" b="0"/>
            <a:stretch/>
          </p:blipFill>
          <p:spPr>
            <a:xfrm>
              <a:off x="457200" y="2255400"/>
              <a:ext cx="3775320" cy="32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Content Placeholder 16" descr="fig01_02"/>
          <p:cNvPicPr/>
          <p:nvPr/>
        </p:nvPicPr>
        <p:blipFill>
          <a:blip r:embed="rId2"/>
          <a:stretch/>
        </p:blipFill>
        <p:spPr>
          <a:xfrm>
            <a:off x="4950000" y="2174760"/>
            <a:ext cx="3431880" cy="3951360"/>
          </a:xfrm>
          <a:prstGeom prst="rect">
            <a:avLst/>
          </a:prstGeom>
          <a:ln w="0">
            <a:noFill/>
          </a:ln>
        </p:spPr>
      </p:pic>
      <p:sp>
        <p:nvSpPr>
          <p:cNvPr id="209" name="Slide Number Placeholder 10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D5D1-3743-4DF2-94DD-61D65377FDF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E28F-6A15-450F-81FA-9B4F72BBD83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eans : upper levels are unaffected by changes to lower lev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wo kinds of data independence: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ogical and physical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CE20-3D25-4532-81EC-64F4BBBE071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gical Data Indepen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fers to immunity of external schemas to changes in conceptual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schema changes (e.g. addition/removal of entiti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hould not require changes to external schema or rewrites of application program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F960-8EC6-4B6D-8B2B-4274D602933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Indepen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fers to immunity of conceptual schema to changes in the internal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schema changes (e.g. using different file organizations, storage structures/devic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hould not require change to conceptual or external sche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80EF-5807-45AE-9ADA-32BEFF9BC5B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 and the ANSI-SPARC Three-Level Architec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4" name="Picture 6" descr="C02NF03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103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3005-1570-4298-B570-6A471006D73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Definition Language (DD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lows the DBA or user to describe and name entities, attributes, and relationships required for the application together with any associated integrity and security constraints.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is a descriptive language for defining and constructing the datab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llows users to specify the data types and structures and the constraints on the data to be stored in the DB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compiler generates the meta-data (describes objects in database and make it easier for manipulation) that is stored in the data dictionar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5D54-6A34-4A6A-9785-FDCD08FED31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496360" cy="519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anipulation Language (DM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rovides basic data manipulation operations on data held in the datab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ML is a language for retrieving and updating (insert, delete, &amp; modify) the data in the DB. It is called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Query language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Types of DM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Low level or Procedural Language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tell system exactly how to manipulate data.) It is embedded in a high-level langu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High level or Nonprocedural Language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without specifying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state what data is needed rather than how it is to be retrieved.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.  It is called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eclarative language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, such as SQ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ourth Generation Languages (4G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.g., SQL, Form generators, and Report gen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6BF3-1905-4C7F-9EA5-D67ADB83922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oth DDL and DML are usually not considered distinct languages. Rather, they are included in a comprehensive integrated langu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 example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relational database languag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s a comprehensive DB language which represents a combination of DDL and DM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4DEB-32DE-4D80-A2C3-085E5DB5FF2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 - Objecti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urpose of three-level database architect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tents of external, conceptual, and internal leve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urpose of external/conceptual and  conceptual/internal mapp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aning of logical and physical data independ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inction between DDL and DM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classification of data mode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urpose/importance of conceptual modell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ypical functions and services a DBMS should provi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7B8F-3A73-4A04-90AF-116505C25AD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BMS have a facility for embedding DDL &amp; DML (sub-languages) in a High-Level Language (COBOL, C, C++ or Java), which in this case is considered 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st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1752480" y="3887640"/>
            <a:ext cx="1524240" cy="1447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4876920" y="4497480"/>
            <a:ext cx="12189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981080" y="4497480"/>
            <a:ext cx="99072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ll to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1675080" y="350676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,C++,Lisp,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2971800" y="4649760"/>
            <a:ext cx="190512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1981080" y="42688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1981080" y="503064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AutoShape 15"/>
          <p:cNvSpPr/>
          <p:nvPr/>
        </p:nvSpPr>
        <p:spPr>
          <a:xfrm>
            <a:off x="7086600" y="4421160"/>
            <a:ext cx="533520" cy="83808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1752480" y="5335560"/>
            <a:ext cx="152424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V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emor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 flipV="1">
            <a:off x="3276720" y="5106960"/>
            <a:ext cx="1600200" cy="4572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8"/>
          <p:cNvSpPr/>
          <p:nvPr/>
        </p:nvSpPr>
        <p:spPr>
          <a:xfrm>
            <a:off x="6095880" y="48783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1752480" y="3952800"/>
            <a:ext cx="1600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Progr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1981080" y="44211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1981080" y="51832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9332-5215-4D62-9DAE-5FB566CE5C4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728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ated collection of concepts for describing data, relationships between data, and constraints on the data in an organiz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odel comprises three compon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structural part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(set of rules according to which databases can be constructed)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manipulative part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(defines the types of operation that are allowed on the dat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ossibly a set of integrity rules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(which ensure that the data is accurate)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500E-2FF1-42E8-A33D-4B1CD9FC5DC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o represent data in an understandable 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tegories of data models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bject-based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(Use concepts such as entities, attributes and relationship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ord-based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(use a number of fixed-format recor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(how data stored such as record structures ordering and access pa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(heart of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F53D-FDF1-4C59-8307-FCBB9344776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9280" y="1461600"/>
            <a:ext cx="7728120" cy="49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ypes of Object-Based Data Model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ntity-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Object-Orien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ypes of Record-Based Data Model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Relational Data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Network Data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Hierarchical Data Mod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Models :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escribe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how data is stored in the compu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CF8E-B06F-444D-AB9D-5AF08A56867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Data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0" name="Picture 4" descr="C02NF04"/>
          <p:cNvPicPr/>
          <p:nvPr/>
        </p:nvPicPr>
        <p:blipFill>
          <a:blip r:embed="rId1"/>
          <a:stretch/>
        </p:blipFill>
        <p:spPr>
          <a:xfrm>
            <a:off x="520560" y="1484280"/>
            <a:ext cx="7436160" cy="41767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457200" y="5433840"/>
            <a:ext cx="7772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and relationships as 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ABB7-51BE-4372-BD51-DB96280105D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Network Data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5" name="Picture 5" descr="C02NF05"/>
          <p:cNvPicPr/>
          <p:nvPr/>
        </p:nvPicPr>
        <p:blipFill>
          <a:blip r:embed="rId1"/>
          <a:stretch/>
        </p:blipFill>
        <p:spPr>
          <a:xfrm>
            <a:off x="393840" y="1652760"/>
            <a:ext cx="8208720" cy="3528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611280" y="5157720"/>
            <a:ext cx="777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as records and relationships as s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012F-399B-42E8-A54B-930A02E5C5E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Hierarchical Data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0" name="Picture 5" descr="C02NF06"/>
          <p:cNvPicPr/>
          <p:nvPr/>
        </p:nvPicPr>
        <p:blipFill>
          <a:blip r:embed="rId1"/>
          <a:stretch/>
        </p:blipFill>
        <p:spPr>
          <a:xfrm>
            <a:off x="468360" y="1484280"/>
            <a:ext cx="7920000" cy="40813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533520" y="5565600"/>
            <a:ext cx="80708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as records and relationships as s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FD98-762F-47AD-9CB9-0C03D32DF23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onceptual Model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schema is the core of a system supporting all user vie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hould be complete and accurate representation of an organization’s data requir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modeling is process of developing a model of information use that is independent of implementation detai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sult is a conceptual data mod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C6EF-29E2-4F03-A2B6-D02DE4EC599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35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Storage, Retrieval, and Update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the ability to store, retrieve and update data in the datab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User-Accessible Catalog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catalog, which describes the data items, should be accessible to user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ransaction Support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ensure that either all the updates corresponding to a given transaction are made or none of them is m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urrency Control Services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database updated correctly when multiple users are updating the database concurrently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overy Services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covering for the database in the event that it is dama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ACB5-15B8-437A-9F8E-2EBD4709994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1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uthorization Services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only authorized users can access the datab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ity Services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ensure that both data in the database and changes are following certain ru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upport for data communication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capable of integrating with communication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rvices to Promote Data Independence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upport independence of programs from actual structure of the datab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tility Serv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mport and export fac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onitoring facilities ,..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13E2-9971-4F00-8ECF-05E2AE78DB7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e Three-Level ANSI-SPARC Architec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NSI-SPARC stands for (American National Standards Institute, Standards Planning And Requirements Committee) is an abstract design standard for a Database Management System 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7E8B-1115-4B55-8623-6F8D7F27798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6" descr="C02NF01"/>
          <p:cNvPicPr/>
          <p:nvPr/>
        </p:nvPicPr>
        <p:blipFill>
          <a:blip r:embed="rId1"/>
          <a:stretch/>
        </p:blipFill>
        <p:spPr>
          <a:xfrm>
            <a:off x="971640" y="1484280"/>
            <a:ext cx="6192720" cy="49528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2F09-FE37-4C5E-A172-06F80C01562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l users should be able to access same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user’s view is immune to changes made in other vie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sers should not need to know physical database storage detai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8C00-AE08-4783-AB31-7BA114FC89A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database storage structures without affecting the users’ vie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structure of database should be unaffected by changes to physical aspects of stor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conceptual structure of database without affecting all us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3B3D-4C9D-4068-A2BF-CB01EA9028F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ternal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sers’ view of the databa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scribes that part of database that is relevant to a particular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mmunity view of the databas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data is stored in database and relationships among the data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CCB4-139B-432F-81BC-E2DFDBCEC33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representation of the database on the compute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the data is stored in the databa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136D-4345-4EE3-AB57-378AF09CBBB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ifferences between Three Leve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Picture 1030" descr="C02NF02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482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3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and Carolyn Begg</dc:creator>
  <dc:description>Transparencies for Chapter 2 of textbook
Database Systems: A Practical Approach to Design, Implementation, and Management</dc:description>
  <dc:language>en-US</dc:language>
  <cp:lastModifiedBy>A.Alnuaim</cp:lastModifiedBy>
  <cp:lastPrinted>1997-01-27T16:12:02Z</cp:lastPrinted>
  <dcterms:modified xsi:type="dcterms:W3CDTF">2017-02-13T06:19:09Z</dcterms:modified>
  <cp:revision>110</cp:revision>
  <dc:subject>Database Systems</dc:subject>
  <dc:title>Chapter 2</dc:title>
</cp:coreProperties>
</file>