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9CA4-8046-4D76-916F-6E2850F45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7ED1-3ACE-4876-A4FE-6AE66CF05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2274-1B7D-48F2-BD58-4228CCCB6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82588-CFE8-4270-B437-502D74434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506F-C3AD-4C6E-B500-52998D563C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E285-A168-48B8-8C58-9BAA5B67CC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80965-3C0D-4F89-A372-60D5AB8D3C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F88D5-FA34-4E9F-BF37-6CABCD6AB3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8A32-104C-43EB-8EA3-53E2FBE5C2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1A77-EB2A-4B18-B2F2-67D1312D93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3BC6-D678-4C97-B2B8-0DE2E031DE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13B0-0AE4-4B3B-AA73-2B04ACBC3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0E980-5490-4039-84B7-78E8F0466E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47DC-76CF-4D65-8C70-82E233A225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ADCF-7FC3-401A-887A-03392CC9D4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2C08-31D8-487A-B318-60D30224A6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D2B2C-0B5F-4A20-BFC2-493FE3422E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9F6-1039-424A-A853-92C1254432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DF54-FF60-453B-9938-8E002D28E8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671-4861-40D5-ADA6-7D7488DA73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C8F-5773-4E18-A96E-CA8F879E1D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5BA-B071-47DB-8C9F-2EBACCC1A5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A215-2F0B-4F5E-8F2E-3B8FA28506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FF6-2F9F-45B8-A319-BF53E88838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09B-4BA9-4410-A386-D6BDDB8F33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81D-FC34-4726-8915-AFE03006F4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EB4-78C9-4B19-B404-58F003FE78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47C-1527-4417-8D71-BE374C03C5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ECDF-3BA9-4374-8100-8751565636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990-7C4E-4945-8E56-45EDE3EB4E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411DE-6C0B-42ED-9909-77C649540E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A8FEE-BF47-44FE-9EAF-21495B01D5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7485E-FBC6-46B1-8109-EE2349016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84F6-5747-4D07-B21B-E1D3C6A61D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7E4F1-0C2A-4E47-9F6C-395444A06B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A8933-7832-46B2-A3CA-0CC2536093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6A23C-DD04-4DDC-81FC-0811C782E7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77747-F48A-4EF8-9A41-A8D058F6B1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F04C6-40D9-4664-BEDF-D314E42A8F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B47E4-6A6A-4337-9583-6FAE8205A4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0688F-D2F0-48A2-A5F8-1337E7C8FF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32629-FDBA-47BF-98D4-8E16CA4427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8B037-75F3-4BB3-BF9B-C1D18C9B6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7DA5-2E35-4A9E-B2F4-28A3E8508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A68B-EFDD-4F46-8CD9-E886D2BC6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F6BD-073A-45B1-A6BB-6992E20AB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6119-1B77-4A8C-8403-B7DCB9EC6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AA9F-E316-4FCA-9753-68F7B4E3D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878E-B92B-4862-B8BF-D49DB2924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ACF2-C2DC-48FD-A18C-A07D24BD8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3970-4C2F-4CD4-B2DD-9CB9A76568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FD3A-648A-46E9-B3FF-65E40DAD4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2AEB-0B86-456E-8991-10138E41821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bas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, Mappings, and Insta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0203-0301-41B1-A612-B7013BC7ACA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80880" y="1714680"/>
            <a:ext cx="845820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apping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process of transforming requests and results between  the Internal, Conceptual &amp; External leve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grams refer to an external schema, and are mapped by the DBMS to the internal schema for execu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ata extracted from the internal DBMS level is reformatted to match the user’s external vie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Two types of mapp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External / Conceptual mapp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nceptual / Internal mapp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 versus Insta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4920" y="162864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Schema: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description of the database.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It rarely chan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ncludes descriptions of the database structure, data types, and the constraints on the datab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Instance (snapshot):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actual data stored in a database at a particular moment in time.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Changes rapid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concepts of Schema &amp; Instances corresponds to Types &amp; Values in programming languages, respective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2B9C-3344-41B9-9DC4-510BA3C8C40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Content Placeholder 13"/>
          <p:cNvGrpSpPr/>
          <p:nvPr/>
        </p:nvGrpSpPr>
        <p:grpSpPr>
          <a:xfrm>
            <a:off x="457200" y="2174760"/>
            <a:ext cx="4040280" cy="3311640"/>
            <a:chOff x="457200" y="2174760"/>
            <a:chExt cx="4040280" cy="3311640"/>
          </a:xfrm>
        </p:grpSpPr>
        <p:sp>
          <p:nvSpPr>
            <p:cNvPr id="205" name="Rectangle 15"/>
            <p:cNvSpPr/>
            <p:nvPr/>
          </p:nvSpPr>
          <p:spPr>
            <a:xfrm>
              <a:off x="3702240" y="2174760"/>
              <a:ext cx="795240" cy="716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6" name="Picture 6" descr="fig02_01"/>
            <p:cNvPicPr/>
            <p:nvPr/>
          </p:nvPicPr>
          <p:blipFill>
            <a:blip r:embed="rId1"/>
            <a:srcRect l="0" t="18243" r="19610" b="0"/>
            <a:stretch/>
          </p:blipFill>
          <p:spPr>
            <a:xfrm>
              <a:off x="457200" y="2255400"/>
              <a:ext cx="3775320" cy="32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Content Placeholder 16" descr="fig01_02"/>
          <p:cNvPicPr/>
          <p:nvPr/>
        </p:nvPicPr>
        <p:blipFill>
          <a:blip r:embed="rId2"/>
          <a:stretch/>
        </p:blipFill>
        <p:spPr>
          <a:xfrm>
            <a:off x="4950000" y="2174760"/>
            <a:ext cx="3431880" cy="3951360"/>
          </a:xfrm>
          <a:prstGeom prst="rect">
            <a:avLst/>
          </a:prstGeom>
          <a:ln w="0">
            <a:noFill/>
          </a:ln>
        </p:spPr>
      </p:pic>
      <p:sp>
        <p:nvSpPr>
          <p:cNvPr id="209" name="Slide Number Placeholder 10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90A6-39DB-4938-9757-0A0FBA70519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E5A1-F4F2-4FB4-A890-28E803FDA85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eans : upper levels are unaffected by changes to lower lev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wo kinds of data independence: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ogical and physical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BD1C-E408-4B39-8011-A6727F4D556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gical Data Indepen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fers to immunity of external schemas to changes in conceptual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schema changes (e.g. addition/removal of entiti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hould not require changes to external schema or rewrites of application program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D962-80AA-446D-A491-A6F596383BC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Indepen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fers to immunity of conceptual schema to changes in the internal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schema changes (e.g. using different file organizations, storage structures/devic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hould not require change to conceptual or external sche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DB58-5501-47C8-8CEC-95E52CAAA57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 and the ANSI-SPARC Three-Level Architec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4" name="Picture 6" descr="C02NF03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103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DCAF-6FC3-47C5-8851-3339FC876BC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Definition Language (DD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lows the DBA or user to describe and name entities, attributes, and relationships required for the application together with any associated integrity and security constraints.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is a descriptive language for defining and constructing the datab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llows users to specify the data types and structures and the constraints on the data to be stored in the DB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compiler generates the meta-data (describes objects in database and make it easier for manipulation) that is stored in the data dictionar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A53B-D8EF-4DBA-A583-F8A4469616E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496360" cy="519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anipulation Language (DM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rovides basic data manipulation operations on data held in the datab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ML is a language for retrieving and updating (insert, delete, &amp; modify) the data in the DB. It is called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Query language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Types of DM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Low level or Procedural Language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tell system exactly how to manipulate data.) It is embedded in a high-level langu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High level or Nonprocedural Language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without specifying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state what data is needed rather than how it is to be retrieved.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.  It is called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eclarative language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, such as SQ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ourth Generation Languages (4G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.g., SQL, Form generators, and Report gen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43A2-2D6E-41D5-BB99-FC4E4F4E441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oth DDL and DML are usually not considered distinct languages. Rather, they are included in a comprehensive integrated langu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 example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relational database languag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s a comprehensive DB language which represents a combination of DDL and DM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4441-93DF-4327-BFC7-621573526CA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 - Objecti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urpose of three-level database architect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tents of external, conceptual, and internal leve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urpose of external/conceptual and  conceptual/internal mapp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aning of logical and physical data independ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inction between DDL and DM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classification of data mode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urpose/importance of conceptual modell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ypical functions and services a DBMS should provi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E843-A316-460D-8667-2DE15B3B0F8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BMS have a facility for embedding DDL &amp; DML (sub-languages) in a High-Level Language (COBOL, C, C++ or Java), which in this case is considered 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st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1752480" y="3887640"/>
            <a:ext cx="1524240" cy="1447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4876920" y="4497480"/>
            <a:ext cx="12189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981080" y="4497480"/>
            <a:ext cx="99072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ll to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1675080" y="350676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,C++,Lisp,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2971800" y="4649760"/>
            <a:ext cx="190512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1981080" y="42688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1981080" y="503064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15"/>
          <p:cNvSpPr/>
          <p:nvPr/>
        </p:nvSpPr>
        <p:spPr>
          <a:xfrm>
            <a:off x="7086600" y="4421160"/>
            <a:ext cx="533520" cy="83808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1752480" y="5335560"/>
            <a:ext cx="152424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V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emor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 flipV="1">
            <a:off x="3276720" y="5106960"/>
            <a:ext cx="1600200" cy="4572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8"/>
          <p:cNvSpPr/>
          <p:nvPr/>
        </p:nvSpPr>
        <p:spPr>
          <a:xfrm>
            <a:off x="6095880" y="48783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1752480" y="3952800"/>
            <a:ext cx="1600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Progr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1981080" y="44211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1981080" y="51832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962E-25EB-49BB-92BD-6D5C5FFFDAF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728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ated collection of concepts for describing data, relationships between data, and constraints on the data in an organiz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odel comprises three compon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structural part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(set of rules according to which databases can be constructed)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manipulative part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(defines the types of operation that are allowed on the dat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ossibly a set of integrity rules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(which ensure that the data is accurate)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8BA3-DF07-4A61-8079-CEBFE994643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o represent data in an understandable 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tegories of data models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bject-based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(Use concepts such as entities, attributes and relationship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ord-based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(use a number of fixed-format recor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(how data stored such as record structures ordering and access pa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(heart of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6814-9E00-479E-B593-88148B7BE1C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9280" y="1461600"/>
            <a:ext cx="7728120" cy="49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ypes of Object-Based Data Model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ntity-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Object-Orien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ypes of Record-Based Data Model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Relational Data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Network Data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Hierarchical Data Mod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Models :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escribe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how data is stored in the compu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CE6C-CD77-451E-A829-7A330E58624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Data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0" name="Picture 4" descr="C02NF04"/>
          <p:cNvPicPr/>
          <p:nvPr/>
        </p:nvPicPr>
        <p:blipFill>
          <a:blip r:embed="rId1"/>
          <a:stretch/>
        </p:blipFill>
        <p:spPr>
          <a:xfrm>
            <a:off x="520560" y="1484280"/>
            <a:ext cx="7436160" cy="41767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457200" y="5433840"/>
            <a:ext cx="7772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and relationships as 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319B-E4CF-4B2F-9881-20FF2B14D57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Network Data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5" name="Picture 5" descr="C02NF05"/>
          <p:cNvPicPr/>
          <p:nvPr/>
        </p:nvPicPr>
        <p:blipFill>
          <a:blip r:embed="rId1"/>
          <a:stretch/>
        </p:blipFill>
        <p:spPr>
          <a:xfrm>
            <a:off x="393840" y="1652760"/>
            <a:ext cx="8208720" cy="3528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611280" y="5157720"/>
            <a:ext cx="777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as records and relationships as s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C42E-39DD-4261-A820-E7FB3388A2E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Hierarchical Data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0" name="Picture 5" descr="C02NF06"/>
          <p:cNvPicPr/>
          <p:nvPr/>
        </p:nvPicPr>
        <p:blipFill>
          <a:blip r:embed="rId1"/>
          <a:stretch/>
        </p:blipFill>
        <p:spPr>
          <a:xfrm>
            <a:off x="468360" y="1484280"/>
            <a:ext cx="7920000" cy="40813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533520" y="5565600"/>
            <a:ext cx="807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as records and relationships as s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E28F-3487-40C2-94EB-82231C207D3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onceptual Model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schema is the core of a system supporting all user vie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hould be complete and accurate representation of an organization’s data requir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modeling is process of developing a model of information use that is independent of implementation detai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sult is a conceptual data mod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75CE-3CCB-4A20-99EA-229AFC679B6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35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Storage, Retrieval, and Update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the ability to store, retrieve and update data in the datab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User-Accessible Catalog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catalog, which describes the data items, should be accessible to user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ransaction Support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ensure that either all the updates corresponding to a given transaction are made or none of them is m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urrency Control Services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database updated correctly when multiple users are updating the database concurrently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overy Services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covering for the database in the event that it is dama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C437-6502-4013-B377-A789DA2602F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1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uthorization Services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only authorized users can access the datab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ity Services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ensure that both data in the database and changes are following certain ru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upport for data communication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capable of integrating with communication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rvices to Promote Data Independence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upport independence of programs from actual structure of the datab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tility Serv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mport and export fac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onitoring facilities ,..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C684-EEC9-43FA-AF37-9AC3D5B85FC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e Three-Level ANSI-SPARC Architec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NSI-SPARC stands for (American National Standards Institute, Standards Planning And Requirements Committee) is an abstract design standard for a Database Management System 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CBA4-831A-42E2-99F3-36A1CE4CAFB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6" descr="C02NF01"/>
          <p:cNvPicPr/>
          <p:nvPr/>
        </p:nvPicPr>
        <p:blipFill>
          <a:blip r:embed="rId1"/>
          <a:stretch/>
        </p:blipFill>
        <p:spPr>
          <a:xfrm>
            <a:off x="971640" y="1484280"/>
            <a:ext cx="6192720" cy="49528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D8A6-6A4F-4123-AA4D-1C10847C556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l users should be able to access same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user’s view is immune to changes made in other vie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sers should not need to know physical database storage detai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E586-9CEB-402A-AF86-651B189C44F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database storage structures without affecting the users’ vie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structure of database should be unaffected by changes to physical aspects of stor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conceptual structure of database without affecting all us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DC41-AE9A-4582-BB05-3C22D46DCD0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ternal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sers’ view of the databa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scribes that part of database that is relevant to a particular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mmunity view of the databas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data is stored in database and relationships among the data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1B4F-7750-4CAD-89CB-C581AFB5C5C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representation of the database on the compute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the data is stored in the databa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8E37-5567-45C5-85BD-47C3F7B39B3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ifferences between Three Leve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Picture 1030" descr="C02NF02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482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3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and Carolyn Begg</dc:creator>
  <dc:description>Transparencies for Chapter 2 of textbook
Database Systems: A Practical Approach to Design, Implementation, and Management</dc:description>
  <dc:language>en-US</dc:language>
  <cp:lastModifiedBy>A.Alnuaim</cp:lastModifiedBy>
  <cp:lastPrinted>1997-01-27T16:12:02Z</cp:lastPrinted>
  <dcterms:modified xsi:type="dcterms:W3CDTF">2017-02-13T06:19:09Z</dcterms:modified>
  <cp:revision>110</cp:revision>
  <dc:subject>Database Systems</dc:subject>
  <dc:title>Chapter 2</dc:title>
</cp:coreProperties>
</file>