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dt" idx="17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Img"/>
          </p:nvPr>
        </p:nvSpPr>
        <p:spPr>
          <a:xfrm>
            <a:off x="1055160" y="719280"/>
            <a:ext cx="519444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ftr" idx="18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 type="sldNum" idx="19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21124D-3326-43E2-B257-B31D233C3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EE6B99-E2F4-497F-BEB1-0223FDCEB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445C453-8B83-4DEA-BE5C-ADCAE880A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51A4BBB-2D28-45B8-AAC7-140A373D9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273F29-BFAE-4F4B-B1A6-122A575A0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E02592-254A-4EC6-83D1-359A2B500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56FC63-9E52-470B-8156-896290337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724DA3-0B74-4E1E-84A4-68C8C0FC7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79F7F5-E652-4D12-AF40-C74690D1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7A5325-BD1A-4C4C-8B4A-AF385110F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3AD06F3-6B49-45FC-918C-C831E78EB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462861-D737-44DC-90AB-F6E87D19F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7A49B9-A4F1-43A6-8607-41D5D6266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A9BA3F-62DC-4CB8-8AD4-54C6F107D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37D4A4E-91BD-4C41-AB9D-0C231CEC9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9127EF9-4879-4181-8B1B-6B73FDE35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4674C89-AD9B-45FA-9D63-8E2A097BE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221D965-7BAA-487E-9425-B799A5388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3B8B4B-D1E0-4880-B64C-B1A1A3CC1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B2EAA71-59D0-40A5-974E-5553DCB36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0694743-4C5F-4949-832E-2D60AABCD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B4D91E-AF75-4097-8C87-A24DF3C9B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FD905D-2E37-43E1-8045-3DAA2E4E1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39D7125-7392-4E5B-AECD-4C286BC95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0CE23B-5C85-4CB9-9D14-B6F2162AC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BB29B72-31C5-43D7-BD2E-B4AD30157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A9A2E9-F7BF-4D90-AE83-8F300CC44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68F55B-B957-47D8-B617-A89A922D5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E7D5DB-C1F6-486A-8968-9B27097FA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A923DC5-01B6-494F-A469-7840D926D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9D651F4-D161-420F-980B-C05B568DA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573A2E5-7372-4D53-8594-4E2476302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2D8343B-C0E5-421B-AF1C-517B99D76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551586E-EADD-48D9-9B0F-3F22BAE89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D96328-274C-4E46-A029-0FF6D4E66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D138F7A-7526-41EE-B1EA-61E6D5814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2CB5A7-8A58-4D89-AAF7-84DFE400C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050560A-9FA6-421A-B6CA-D0915D6CD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E3FA50-3006-4048-965A-13C22F4A1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65168E-D100-4854-9C31-473AF7E98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88EDC6C-AEDF-4C20-9310-19E9DA96A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7AE0A50-5A47-48AD-9672-D41E06AD4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C6707D5-7933-42A6-837B-DB2C29808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F5C7B0-9382-4854-8A6D-DF30BB47C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B6872A-5DF7-40CB-841D-002FABAF2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4114DE5-1316-4D37-9B0B-F5142D26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172F61-1906-4AFF-B015-AFF8302F9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1A150D0-C6AF-4C67-8FD7-49DB06B9B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C8CA73-D17F-42FB-9A02-249631104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23ABA5-5545-40A9-A481-98B2E7DB9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3C8091-F932-4E01-A24E-55A7366AF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647A1ED-E1E9-4362-9130-D8C8DA064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CEDD1E-FF66-488E-B558-F917326CB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8AE480-EE07-4176-A80C-50C2A0DBC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0E9713-AB5B-4CEA-89EC-CCAD811B9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855DEC-7886-4EBC-800A-8423A1ABC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0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B6C6AA-1AF9-44A2-A5E7-7145E878C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ftr" idx="11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2408B6-595B-48F5-AA4D-571FBF2E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12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060D02-25B8-45B2-9614-8AABFEFE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13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8F5B5F-6E7E-490E-9C4D-2113800CF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ftr" idx="14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046684-D0EF-4F2A-905A-A6FE13DD9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15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1074C68-5667-41AB-948C-15D71932D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16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D83695-A31E-4A4D-A1CB-E6E94E14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1959120"/>
            <a:ext cx="9759600" cy="1050840"/>
            <a:chOff x="0" y="1959120"/>
            <a:chExt cx="9759600" cy="1050840"/>
          </a:xfrm>
        </p:grpSpPr>
        <p:grpSp>
          <p:nvGrpSpPr>
            <p:cNvPr id="48" name="Group 3"/>
            <p:cNvGrpSpPr/>
            <p:nvPr/>
          </p:nvGrpSpPr>
          <p:grpSpPr>
            <a:xfrm>
              <a:off x="316080" y="2066760"/>
              <a:ext cx="773640" cy="451440"/>
              <a:chOff x="316080" y="2066760"/>
              <a:chExt cx="773640" cy="4514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316080" y="2066760"/>
                <a:ext cx="475920" cy="451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732600" y="2066760"/>
                <a:ext cx="357120" cy="4514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52160" y="2510640"/>
              <a:ext cx="801000" cy="495720"/>
              <a:chOff x="452160" y="2510640"/>
              <a:chExt cx="801000" cy="49572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52160" y="2510640"/>
                <a:ext cx="459000" cy="4957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853920" y="2510640"/>
                <a:ext cx="399240" cy="4957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415240"/>
              <a:ext cx="60696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87960" y="1959120"/>
              <a:ext cx="34200" cy="10508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42360" y="2779200"/>
              <a:ext cx="941724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610923-9D2C-419C-84D5-0F9462CDD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3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36C693-5947-4E3B-A2C6-855CA3386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4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3D7B5E-D29D-4274-B6C6-1F6EAB861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5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AA65B9-1A3C-4087-B493-5B86942A2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6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40C548-E7C5-42D1-BFB5-9154BFF78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7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47BBED6-C647-47C3-BB26-703F4E70C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8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D3F0F9-C06E-4E50-A3D6-C9422CBD8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9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7EE1DFB-D0ED-44FF-B810-EFEBE0D0E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72800" y="1348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Fundamentals &amp; Ethics of Information Systems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S 201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667800" y="3153960"/>
            <a:ext cx="8867880" cy="307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rdware and Soft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BD13245-657A-49C1-A7A1-72D8C9AF59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ocessing Characteristics and Function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hysical characteristics of the CPU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igital circuits on chip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o turn a digital circuit on or off, electrical current flows through silic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D6936EB-AF5E-491E-BCE1-3815114AE4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2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Characteristics and Functions: Storage Capa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Rectangle 11"/>
          <p:cNvSpPr/>
          <p:nvPr/>
        </p:nvSpPr>
        <p:spPr>
          <a:xfrm>
            <a:off x="495360" y="598968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1: Units for Measuring Computer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6" name="Picture 16" descr="Table 2-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46320" y="1600200"/>
            <a:ext cx="5614920" cy="4278240"/>
          </a:xfrm>
          <a:prstGeom prst="rect">
            <a:avLst/>
          </a:prstGeom>
          <a:ln w="0">
            <a:noFill/>
          </a:ln>
        </p:spPr>
      </p:pic>
      <p:sp>
        <p:nvSpPr>
          <p:cNvPr id="82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E765682-7E5E-4B9C-AFD4-8EFC6FE4CF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emory Characteristics and Functions: Types of Memor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0880" y="1808280"/>
            <a:ext cx="5067360" cy="4325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andom access memory (RAM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Volati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ad-only memory (ROM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ually nonvolati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0" name="Picture 24" descr="Fig04-20"/>
          <p:cNvPicPr/>
          <p:nvPr/>
        </p:nvPicPr>
        <p:blipFill>
          <a:blip r:embed="rId1"/>
          <a:stretch/>
        </p:blipFill>
        <p:spPr>
          <a:xfrm>
            <a:off x="5448240" y="1790640"/>
            <a:ext cx="4030560" cy="471024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26"/>
          <p:cNvSpPr/>
          <p:nvPr/>
        </p:nvSpPr>
        <p:spPr>
          <a:xfrm>
            <a:off x="5785920" y="4152960"/>
            <a:ext cx="1038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 chi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Rectangle 27"/>
          <p:cNvSpPr/>
          <p:nvPr/>
        </p:nvSpPr>
        <p:spPr>
          <a:xfrm>
            <a:off x="7519320" y="4152960"/>
            <a:ext cx="986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 s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Rectangle 28"/>
          <p:cNvSpPr/>
          <p:nvPr/>
        </p:nvSpPr>
        <p:spPr>
          <a:xfrm>
            <a:off x="7355160" y="1486080"/>
            <a:ext cx="1796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al inline RAM modu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Line 29"/>
          <p:cNvSpPr/>
          <p:nvPr/>
        </p:nvSpPr>
        <p:spPr>
          <a:xfrm flipH="1">
            <a:off x="7181640" y="1714680"/>
            <a:ext cx="742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Line 30"/>
          <p:cNvSpPr/>
          <p:nvPr/>
        </p:nvSpPr>
        <p:spPr>
          <a:xfrm flipV="1">
            <a:off x="6273720" y="2857680"/>
            <a:ext cx="6606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Line 31"/>
          <p:cNvSpPr/>
          <p:nvPr/>
        </p:nvSpPr>
        <p:spPr>
          <a:xfrm flipH="1" flipV="1">
            <a:off x="7677000" y="3009600"/>
            <a:ext cx="2476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B475C69-C2C1-4AE6-ADC8-C0530975DC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ultiprocessing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39" name="Group 71"/>
          <p:cNvGrpSpPr/>
          <p:nvPr/>
        </p:nvGrpSpPr>
        <p:grpSpPr>
          <a:xfrm>
            <a:off x="2660400" y="3373560"/>
            <a:ext cx="4008960" cy="1946160"/>
            <a:chOff x="2660400" y="3373560"/>
            <a:chExt cx="4008960" cy="1946160"/>
          </a:xfrm>
        </p:grpSpPr>
        <p:sp>
          <p:nvSpPr>
            <p:cNvPr id="840" name="Line 67"/>
            <p:cNvSpPr/>
            <p:nvPr/>
          </p:nvSpPr>
          <p:spPr>
            <a:xfrm>
              <a:off x="2660400" y="3867120"/>
              <a:ext cx="1402200" cy="1399680"/>
            </a:xfrm>
            <a:prstGeom prst="line">
              <a:avLst/>
            </a:prstGeom>
            <a:ln w="152280">
              <a:solidFill>
                <a:srgbClr val="3399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Line 68"/>
            <p:cNvSpPr/>
            <p:nvPr/>
          </p:nvSpPr>
          <p:spPr>
            <a:xfrm flipH="1">
              <a:off x="5153040" y="3800520"/>
              <a:ext cx="1516320" cy="1519200"/>
            </a:xfrm>
            <a:prstGeom prst="line">
              <a:avLst/>
            </a:prstGeom>
            <a:ln w="152280">
              <a:solidFill>
                <a:srgbClr val="3399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Line 69"/>
            <p:cNvSpPr/>
            <p:nvPr/>
          </p:nvSpPr>
          <p:spPr>
            <a:xfrm>
              <a:off x="3919680" y="3373920"/>
              <a:ext cx="514080" cy="1913400"/>
            </a:xfrm>
            <a:prstGeom prst="line">
              <a:avLst/>
            </a:prstGeom>
            <a:ln w="152280">
              <a:solidFill>
                <a:srgbClr val="3399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Line 70"/>
            <p:cNvSpPr/>
            <p:nvPr/>
          </p:nvSpPr>
          <p:spPr>
            <a:xfrm flipH="1">
              <a:off x="4831200" y="3373560"/>
              <a:ext cx="510840" cy="1914120"/>
            </a:xfrm>
            <a:prstGeom prst="line">
              <a:avLst/>
            </a:prstGeom>
            <a:ln w="152280">
              <a:solidFill>
                <a:srgbClr val="3399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44" name="AutoShape 26"/>
          <p:cNvSpPr/>
          <p:nvPr/>
        </p:nvSpPr>
        <p:spPr>
          <a:xfrm>
            <a:off x="3184560" y="1968480"/>
            <a:ext cx="2889360" cy="380880"/>
          </a:xfrm>
          <a:prstGeom prst="bevel">
            <a:avLst>
              <a:gd name="adj" fmla="val 535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Control Process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39"/>
          <p:cNvGrpSpPr/>
          <p:nvPr/>
        </p:nvGrpSpPr>
        <p:grpSpPr>
          <a:xfrm>
            <a:off x="1701720" y="3263760"/>
            <a:ext cx="1403280" cy="762120"/>
            <a:chOff x="1701720" y="3263760"/>
            <a:chExt cx="1403280" cy="762120"/>
          </a:xfrm>
        </p:grpSpPr>
        <p:sp>
          <p:nvSpPr>
            <p:cNvPr id="846" name="AutoShape 25"/>
            <p:cNvSpPr/>
            <p:nvPr/>
          </p:nvSpPr>
          <p:spPr>
            <a:xfrm>
              <a:off x="1701720" y="3263760"/>
              <a:ext cx="1403280" cy="762120"/>
            </a:xfrm>
            <a:prstGeom prst="bevel">
              <a:avLst>
                <a:gd name="adj" fmla="val 416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cc"/>
                  </a:solidFill>
                  <a:latin typeface="Times New Roman"/>
                </a:rPr>
                <a:t>Processor 1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AutoShape 28"/>
            <p:cNvSpPr/>
            <p:nvPr/>
          </p:nvSpPr>
          <p:spPr>
            <a:xfrm>
              <a:off x="1758600" y="3720960"/>
              <a:ext cx="1305360" cy="257400"/>
            </a:xfrm>
            <a:prstGeom prst="bevel">
              <a:avLst>
                <a:gd name="adj" fmla="val 550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8" name="Group 40"/>
          <p:cNvGrpSpPr/>
          <p:nvPr/>
        </p:nvGrpSpPr>
        <p:grpSpPr>
          <a:xfrm>
            <a:off x="3186000" y="3263760"/>
            <a:ext cx="1403640" cy="762120"/>
            <a:chOff x="3186000" y="3263760"/>
            <a:chExt cx="1403640" cy="762120"/>
          </a:xfrm>
        </p:grpSpPr>
        <p:sp>
          <p:nvSpPr>
            <p:cNvPr id="849" name="AutoShape 41"/>
            <p:cNvSpPr/>
            <p:nvPr/>
          </p:nvSpPr>
          <p:spPr>
            <a:xfrm>
              <a:off x="3186000" y="3263760"/>
              <a:ext cx="1403640" cy="762120"/>
            </a:xfrm>
            <a:prstGeom prst="bevel">
              <a:avLst>
                <a:gd name="adj" fmla="val 416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cc"/>
                  </a:solidFill>
                  <a:latin typeface="Times New Roman"/>
                </a:rPr>
                <a:t>Processor 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AutoShape 42"/>
            <p:cNvSpPr/>
            <p:nvPr/>
          </p:nvSpPr>
          <p:spPr>
            <a:xfrm>
              <a:off x="3242880" y="3720960"/>
              <a:ext cx="1305720" cy="257400"/>
            </a:xfrm>
            <a:prstGeom prst="bevel">
              <a:avLst>
                <a:gd name="adj" fmla="val 550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1" name="Group 43"/>
          <p:cNvGrpSpPr/>
          <p:nvPr/>
        </p:nvGrpSpPr>
        <p:grpSpPr>
          <a:xfrm>
            <a:off x="4670280" y="3263760"/>
            <a:ext cx="1403640" cy="762120"/>
            <a:chOff x="4670280" y="3263760"/>
            <a:chExt cx="1403640" cy="762120"/>
          </a:xfrm>
        </p:grpSpPr>
        <p:sp>
          <p:nvSpPr>
            <p:cNvPr id="852" name="AutoShape 44"/>
            <p:cNvSpPr/>
            <p:nvPr/>
          </p:nvSpPr>
          <p:spPr>
            <a:xfrm>
              <a:off x="4670280" y="3263760"/>
              <a:ext cx="1403640" cy="762120"/>
            </a:xfrm>
            <a:prstGeom prst="bevel">
              <a:avLst>
                <a:gd name="adj" fmla="val 416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cc"/>
                  </a:solidFill>
                  <a:latin typeface="Times New Roman"/>
                </a:rPr>
                <a:t>Processor 3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AutoShape 45"/>
            <p:cNvSpPr/>
            <p:nvPr/>
          </p:nvSpPr>
          <p:spPr>
            <a:xfrm>
              <a:off x="4727160" y="3720960"/>
              <a:ext cx="1305720" cy="257400"/>
            </a:xfrm>
            <a:prstGeom prst="bevel">
              <a:avLst>
                <a:gd name="adj" fmla="val 550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Group 46"/>
          <p:cNvGrpSpPr/>
          <p:nvPr/>
        </p:nvGrpSpPr>
        <p:grpSpPr>
          <a:xfrm>
            <a:off x="6156360" y="3263760"/>
            <a:ext cx="1403280" cy="762120"/>
            <a:chOff x="6156360" y="3263760"/>
            <a:chExt cx="1403280" cy="762120"/>
          </a:xfrm>
        </p:grpSpPr>
        <p:sp>
          <p:nvSpPr>
            <p:cNvPr id="855" name="AutoShape 47"/>
            <p:cNvSpPr/>
            <p:nvPr/>
          </p:nvSpPr>
          <p:spPr>
            <a:xfrm>
              <a:off x="6156360" y="3263760"/>
              <a:ext cx="1403280" cy="762120"/>
            </a:xfrm>
            <a:prstGeom prst="bevel">
              <a:avLst>
                <a:gd name="adj" fmla="val 416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cc"/>
                  </a:solidFill>
                  <a:latin typeface="Times New Roman"/>
                </a:rPr>
                <a:t>Processor 4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AutoShape 48"/>
            <p:cNvSpPr/>
            <p:nvPr/>
          </p:nvSpPr>
          <p:spPr>
            <a:xfrm>
              <a:off x="6213240" y="3720960"/>
              <a:ext cx="1305360" cy="257400"/>
            </a:xfrm>
            <a:prstGeom prst="bevel">
              <a:avLst>
                <a:gd name="adj" fmla="val 550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7" name="Rectangle 49"/>
          <p:cNvSpPr/>
          <p:nvPr/>
        </p:nvSpPr>
        <p:spPr>
          <a:xfrm>
            <a:off x="3610800" y="5340240"/>
            <a:ext cx="1901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ults comb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8" name="Group 66"/>
          <p:cNvGrpSpPr/>
          <p:nvPr/>
        </p:nvGrpSpPr>
        <p:grpSpPr>
          <a:xfrm>
            <a:off x="2197080" y="2349360"/>
            <a:ext cx="4853880" cy="909720"/>
            <a:chOff x="2197080" y="2349360"/>
            <a:chExt cx="4853880" cy="909720"/>
          </a:xfrm>
        </p:grpSpPr>
        <p:sp>
          <p:nvSpPr>
            <p:cNvPr id="859" name="AutoShape 51"/>
            <p:cNvSpPr/>
            <p:nvPr/>
          </p:nvSpPr>
          <p:spPr>
            <a:xfrm rot="5400000">
              <a:off x="2132640" y="2794320"/>
              <a:ext cx="528840" cy="400320"/>
            </a:xfrm>
            <a:prstGeom prst="rightArrow">
              <a:avLst>
                <a:gd name="adj1" fmla="val 44639"/>
                <a:gd name="adj2" fmla="val 43399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utoShape 52"/>
            <p:cNvSpPr/>
            <p:nvPr/>
          </p:nvSpPr>
          <p:spPr>
            <a:xfrm rot="5400000">
              <a:off x="3614760" y="2794320"/>
              <a:ext cx="528840" cy="400680"/>
            </a:xfrm>
            <a:prstGeom prst="rightArrow">
              <a:avLst>
                <a:gd name="adj1" fmla="val 44639"/>
                <a:gd name="adj2" fmla="val 4336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AutoShape 53"/>
            <p:cNvSpPr/>
            <p:nvPr/>
          </p:nvSpPr>
          <p:spPr>
            <a:xfrm rot="5400000">
              <a:off x="5100480" y="2794320"/>
              <a:ext cx="528840" cy="400680"/>
            </a:xfrm>
            <a:prstGeom prst="rightArrow">
              <a:avLst>
                <a:gd name="adj1" fmla="val 44639"/>
                <a:gd name="adj2" fmla="val 4336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AutoShape 54"/>
            <p:cNvSpPr/>
            <p:nvPr/>
          </p:nvSpPr>
          <p:spPr>
            <a:xfrm rot="5400000">
              <a:off x="6586200" y="2794320"/>
              <a:ext cx="528840" cy="400680"/>
            </a:xfrm>
            <a:prstGeom prst="rightArrow">
              <a:avLst>
                <a:gd name="adj1" fmla="val 44639"/>
                <a:gd name="adj2" fmla="val 4336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56"/>
            <p:cNvSpPr/>
            <p:nvPr/>
          </p:nvSpPr>
          <p:spPr>
            <a:xfrm>
              <a:off x="2305440" y="2730240"/>
              <a:ext cx="4633920" cy="0"/>
            </a:xfrm>
            <a:prstGeom prst="line">
              <a:avLst/>
            </a:prstGeom>
            <a:ln w="190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58"/>
            <p:cNvSpPr/>
            <p:nvPr/>
          </p:nvSpPr>
          <p:spPr>
            <a:xfrm flipV="1">
              <a:off x="4587480" y="2349360"/>
              <a:ext cx="1440" cy="380880"/>
            </a:xfrm>
            <a:prstGeom prst="line">
              <a:avLst/>
            </a:prstGeom>
            <a:ln w="190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15CED25-81B7-4B31-8E58-1DF3454C77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ultiprocessing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5000"/>
          </a:bodyPr>
          <a:p>
            <a:pPr marL="342000" indent="-3420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Multiprocessing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multaneous execution of two or more instruct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38720" indent="-283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Multicore microprocessor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hares workload among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wo or more independent processors in a single compute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38720" indent="-283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Parallel processing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links several processors to operate at the same time, or in parall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38720" indent="-283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Grid computing: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 collection of computers working to solve a common probl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20AE2A6-34C3-402A-AC3E-59775285D7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condary Storage and Input and Output Devic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254240" y="1566360"/>
            <a:ext cx="8418240" cy="48704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25" descr="04-069-fig1-03-ar5"/>
          <p:cNvPicPr/>
          <p:nvPr/>
        </p:nvPicPr>
        <p:blipFill>
          <a:blip r:embed="rId2"/>
          <a:srcRect l="0" t="0" r="0" b="30000"/>
          <a:stretch/>
        </p:blipFill>
        <p:spPr>
          <a:xfrm>
            <a:off x="2311560" y="2171880"/>
            <a:ext cx="5562360" cy="417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9994954-614E-459D-BA77-C39776AE61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condary Storage and Input  and Output Devices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ary stora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so called permanent storag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onvolati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Greater capacity and greater economy than memor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cess methods, storage capacities, and portability required are determined by the information system’s objectiv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6E19F25-46C0-405D-900D-FCDE96D053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condary Storage Devic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netic ta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storage used primarily for back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netic d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access secondary storage, e.g., hard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s extra bits so that data can be reconstructed if system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high-speed connections between data storage devices and computers over a networ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55490C6-2572-43D9-A56A-2F854D6FF7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condary Storage Devic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ptical disk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irect access optical disc, e.g., CD-RO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igital video disk (DVD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ores several gigabytes of dat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lash memor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onvolatile silicon computer chi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5B10069-BC9A-4B09-B5D3-25487A7176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put Devic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input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board, m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-recognition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devices that recognize human spee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came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device used with PC to record/store images in digit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display devices that perform data entry and in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E22E261-4EF1-46C1-BE3C-0B9E84E43C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inciples and Learning Objectiv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discuss the role of the essential hardware components of a comput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discuss how data is represented in the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briefly describe the functions of the two basic kinds of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ne the role of the operating system and identify the features of several popular opera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how application software can support personal, workgroup, and enterprise business obj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ne the importance of software copy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3F5013B-CEEB-4D25-A6F6-933AF53944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put Devic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ouch-sensitive scree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low display screens to act as input devices as well as output devi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ar-code scann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mploys a laser scanner to read a bar-coded lab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agnetic ink character recognition (MICR) devic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de data on banking forms, such as check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7A67FBA-0D71-41A6-AD98-63BEFF8DDB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put Devic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en input devic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ctivate a command, enter handwritten notes, and draw objec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adio Frequency Identification (RFID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mploys a microchip with an antenna to broadcast its unique identifier and location to a receiver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EF25A42-68A7-4B01-86E7-E2F9D93876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utput Devices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 monitors (CR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quality measured by number of pixels and dot p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quid crystal displays (LC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on eyes, use less electricity, take up less space than C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c light-emitting diodes (OLE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ly emits light rather than using back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per colors and thinner display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D276E31-C4D6-467E-9509-0F7614A7DD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utput Devic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inters and plotters: hard copy outpu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inters: laser, inkjet 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lotters: used for general design work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igital audio play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ores, organizes, and plays digital music fil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6C9B46F-C50E-4D5C-B4FB-72E3A838F6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 System Typ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98" name="Picture 4" descr="Table 3-3"/>
          <p:cNvPicPr/>
          <p:nvPr/>
        </p:nvPicPr>
        <p:blipFill>
          <a:blip r:embed="rId1">
            <a:lum contrast="6000"/>
          </a:blip>
          <a:srcRect l="0" t="0" r="18745" b="0"/>
          <a:stretch/>
        </p:blipFill>
        <p:spPr>
          <a:xfrm>
            <a:off x="831960" y="1828800"/>
            <a:ext cx="8754840" cy="387360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5"/>
          <p:cNvSpPr/>
          <p:nvPr/>
        </p:nvSpPr>
        <p:spPr>
          <a:xfrm>
            <a:off x="495360" y="586728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Computer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102A962-E3C2-46D2-B086-A0EFE20CFC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Represent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746280" y="1655280"/>
            <a:ext cx="8418240" cy="13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ow do computers represent data?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mputers are Digita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3" name="Picture 28" descr="04-069-fig4-11-ar2"/>
          <p:cNvPicPr/>
          <p:nvPr/>
        </p:nvPicPr>
        <p:blipFill>
          <a:blip r:embed="rId1"/>
          <a:srcRect l="6008" t="0" r="2003" b="8186"/>
          <a:stretch/>
        </p:blipFill>
        <p:spPr>
          <a:xfrm>
            <a:off x="5195880" y="3048120"/>
            <a:ext cx="4430880" cy="3009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4" name="Rectangle 3"/>
          <p:cNvSpPr/>
          <p:nvPr/>
        </p:nvSpPr>
        <p:spPr>
          <a:xfrm>
            <a:off x="581040" y="2876400"/>
            <a:ext cx="45752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lvl="1" marL="77796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 (Arabic)"/>
              </a:rPr>
              <a:t>Recognize only two discrete states: on or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 (Arabic)"/>
              </a:rPr>
              <a:t>Use a binary system to recognize two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 (Arabic)"/>
              </a:rPr>
              <a:t>Use Number system with two unique digits: 0 and 1, called bits (short for binary digi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D2AED72-D0B7-485C-AC5F-46A9F5589F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Representation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90240" y="1782360"/>
            <a:ext cx="8418600" cy="4491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yte is eight bits grouped together as 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enough different combinations of 0s and 1s to represent 256 individual cha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case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case le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nct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8" name="Picture 28" descr="04-069-fig4-12-ar2"/>
          <p:cNvPicPr/>
          <p:nvPr/>
        </p:nvPicPr>
        <p:blipFill>
          <a:blip r:embed="rId1"/>
          <a:stretch/>
        </p:blipFill>
        <p:spPr>
          <a:xfrm>
            <a:off x="3581280" y="3435480"/>
            <a:ext cx="6159600" cy="256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6EA5BA2-628F-476B-839C-326A80899F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Representation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316080" y="1623960"/>
            <a:ext cx="93009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is a letter converted to binary form and bac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2" name="Picture 27" descr="Fig04-16b"/>
          <p:cNvPicPr/>
          <p:nvPr/>
        </p:nvPicPr>
        <p:blipFill>
          <a:blip r:embed="rId1"/>
          <a:stretch/>
        </p:blipFill>
        <p:spPr>
          <a:xfrm>
            <a:off x="5172120" y="3627360"/>
            <a:ext cx="2641680" cy="1947960"/>
          </a:xfrm>
          <a:prstGeom prst="rect">
            <a:avLst/>
          </a:prstGeom>
          <a:ln w="0">
            <a:noFill/>
          </a:ln>
        </p:spPr>
      </p:pic>
      <p:grpSp>
        <p:nvGrpSpPr>
          <p:cNvPr id="913" name="Group 36"/>
          <p:cNvGrpSpPr/>
          <p:nvPr/>
        </p:nvGrpSpPr>
        <p:grpSpPr>
          <a:xfrm>
            <a:off x="262080" y="2273400"/>
            <a:ext cx="4704840" cy="1290600"/>
            <a:chOff x="262080" y="2273400"/>
            <a:chExt cx="4704840" cy="1290600"/>
          </a:xfrm>
        </p:grpSpPr>
        <p:pic>
          <p:nvPicPr>
            <p:cNvPr id="914" name="Picture 24" descr="Fig04-16a"/>
            <p:cNvPicPr/>
            <p:nvPr/>
          </p:nvPicPr>
          <p:blipFill>
            <a:blip r:embed="rId2"/>
            <a:stretch/>
          </p:blipFill>
          <p:spPr>
            <a:xfrm>
              <a:off x="262080" y="2654280"/>
              <a:ext cx="31363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Rectangle 28"/>
            <p:cNvSpPr/>
            <p:nvPr/>
          </p:nvSpPr>
          <p:spPr>
            <a:xfrm>
              <a:off x="3316320" y="2273400"/>
              <a:ext cx="165060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(W1)"/>
                </a:rPr>
                <a:t>Step 1.</a:t>
              </a:r>
              <a:br>
                <a:rPr sz="18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user presses the capital letter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shift+D key) on the keyboard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6" name="Rectangle 30"/>
          <p:cNvSpPr/>
          <p:nvPr/>
        </p:nvSpPr>
        <p:spPr>
          <a:xfrm>
            <a:off x="7346880" y="2540160"/>
            <a:ext cx="2476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(W1)"/>
              </a:rPr>
              <a:t>Step 2.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electronic signal for the capital letter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sent to the system uni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Rectangle 31"/>
          <p:cNvSpPr/>
          <p:nvPr/>
        </p:nvSpPr>
        <p:spPr>
          <a:xfrm>
            <a:off x="5695920" y="5423040"/>
            <a:ext cx="280656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(W1)"/>
              </a:rPr>
              <a:t>Step 3.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ignal for the capital letter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converted to its ASCII binary code (01000100) and is stored in memory for processing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37"/>
          <p:cNvGrpSpPr/>
          <p:nvPr/>
        </p:nvGrpSpPr>
        <p:grpSpPr>
          <a:xfrm>
            <a:off x="425520" y="4038480"/>
            <a:ext cx="3136320" cy="2401560"/>
            <a:chOff x="425520" y="4038480"/>
            <a:chExt cx="3136320" cy="2401560"/>
          </a:xfrm>
        </p:grpSpPr>
        <p:pic>
          <p:nvPicPr>
            <p:cNvPr id="919" name="Picture 26" descr="Fig04-16c"/>
            <p:cNvPicPr/>
            <p:nvPr/>
          </p:nvPicPr>
          <p:blipFill>
            <a:blip r:embed="rId3"/>
            <a:stretch/>
          </p:blipFill>
          <p:spPr>
            <a:xfrm>
              <a:off x="1498680" y="4038480"/>
              <a:ext cx="2063160" cy="15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Rectangle 32"/>
            <p:cNvSpPr/>
            <p:nvPr/>
          </p:nvSpPr>
          <p:spPr>
            <a:xfrm>
              <a:off x="425520" y="5333760"/>
              <a:ext cx="272376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(W1)"/>
                </a:rPr>
                <a:t>Step 4.</a:t>
              </a:r>
              <a:br>
                <a:rPr sz="18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ter processing, the binary code for the capital letter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s converted to an image, and displayed on the output device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1" name="Arc 33"/>
          <p:cNvSpPr/>
          <p:nvPr/>
        </p:nvSpPr>
        <p:spPr>
          <a:xfrm rot="4840200">
            <a:off x="7387560" y="3870000"/>
            <a:ext cx="1981440" cy="140364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403640"/>
              <a:gd name="textAreaBottom" fmla="*/ 1404000 h 1403640"/>
            </a:gdLst>
            <a:ahLst/>
            <a:rect l="textAreaLeft" t="textAreaTop" r="textAreaRight" b="textAreaBottom"/>
            <a:pathLst>
              <a:path fill="none" w="29634" h="21600">
                <a:moveTo>
                  <a:pt x="-1" y="1677"/>
                </a:moveTo>
                <a:cubicBezTo>
                  <a:pt x="2643" y="570"/>
                  <a:pt x="5480" y="-1"/>
                  <a:pt x="8347" y="0"/>
                </a:cubicBezTo>
                <a:cubicBezTo>
                  <a:pt x="18862" y="0"/>
                  <a:pt x="27849" y="7572"/>
                  <a:pt x="29633" y="17935"/>
                </a:cubicBezTo>
              </a:path>
              <a:path stroke="0" w="29634" h="21600">
                <a:moveTo>
                  <a:pt x="-1" y="1677"/>
                </a:moveTo>
                <a:cubicBezTo>
                  <a:pt x="2643" y="570"/>
                  <a:pt x="5480" y="-1"/>
                  <a:pt x="8347" y="0"/>
                </a:cubicBezTo>
                <a:cubicBezTo>
                  <a:pt x="18862" y="0"/>
                  <a:pt x="27849" y="7572"/>
                  <a:pt x="29633" y="17935"/>
                </a:cubicBezTo>
                <a:lnTo>
                  <a:pt x="8347" y="21600"/>
                </a:lnTo>
                <a:lnTo>
                  <a:pt x="-1" y="1677"/>
                </a:lnTo>
                <a:close/>
              </a:path>
            </a:pathLst>
          </a:custGeom>
          <a:noFill/>
          <a:ln w="254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Arc 40"/>
          <p:cNvSpPr/>
          <p:nvPr/>
        </p:nvSpPr>
        <p:spPr>
          <a:xfrm rot="20139000">
            <a:off x="5035680" y="2260080"/>
            <a:ext cx="2158920" cy="129564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fill="none" w="29798" h="21600">
                <a:moveTo>
                  <a:pt x="-1" y="1747"/>
                </a:moveTo>
                <a:cubicBezTo>
                  <a:pt x="2689" y="594"/>
                  <a:pt x="5584" y="-1"/>
                  <a:pt x="8511" y="0"/>
                </a:cubicBezTo>
                <a:cubicBezTo>
                  <a:pt x="19026" y="0"/>
                  <a:pt x="28013" y="7572"/>
                  <a:pt x="29797" y="17935"/>
                </a:cubicBezTo>
              </a:path>
              <a:path stroke="0" w="29798" h="21600">
                <a:moveTo>
                  <a:pt x="-1" y="1747"/>
                </a:moveTo>
                <a:cubicBezTo>
                  <a:pt x="2689" y="594"/>
                  <a:pt x="5584" y="-1"/>
                  <a:pt x="8511" y="0"/>
                </a:cubicBezTo>
                <a:cubicBezTo>
                  <a:pt x="19026" y="0"/>
                  <a:pt x="28013" y="7572"/>
                  <a:pt x="29797" y="17935"/>
                </a:cubicBezTo>
                <a:lnTo>
                  <a:pt x="8511" y="21600"/>
                </a:lnTo>
                <a:lnTo>
                  <a:pt x="-1" y="1747"/>
                </a:lnTo>
                <a:close/>
              </a:path>
            </a:pathLst>
          </a:custGeom>
          <a:noFill/>
          <a:ln w="254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Arc 38"/>
          <p:cNvSpPr/>
          <p:nvPr/>
        </p:nvSpPr>
        <p:spPr>
          <a:xfrm rot="9500400">
            <a:off x="3219480" y="5118120"/>
            <a:ext cx="2146320" cy="129528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fill="none" w="29634" h="21600">
                <a:moveTo>
                  <a:pt x="-1" y="1677"/>
                </a:moveTo>
                <a:cubicBezTo>
                  <a:pt x="2643" y="570"/>
                  <a:pt x="5480" y="-1"/>
                  <a:pt x="8347" y="0"/>
                </a:cubicBezTo>
                <a:cubicBezTo>
                  <a:pt x="18862" y="0"/>
                  <a:pt x="27849" y="7572"/>
                  <a:pt x="29633" y="17935"/>
                </a:cubicBezTo>
              </a:path>
              <a:path stroke="0" w="29634" h="21600">
                <a:moveTo>
                  <a:pt x="-1" y="1677"/>
                </a:moveTo>
                <a:cubicBezTo>
                  <a:pt x="2643" y="570"/>
                  <a:pt x="5480" y="-1"/>
                  <a:pt x="8347" y="0"/>
                </a:cubicBezTo>
                <a:cubicBezTo>
                  <a:pt x="18862" y="0"/>
                  <a:pt x="27849" y="7572"/>
                  <a:pt x="29633" y="17935"/>
                </a:cubicBezTo>
                <a:lnTo>
                  <a:pt x="8347" y="21600"/>
                </a:lnTo>
                <a:lnTo>
                  <a:pt x="-1" y="1677"/>
                </a:lnTo>
                <a:close/>
              </a:path>
            </a:pathLst>
          </a:custGeom>
          <a:noFill/>
          <a:ln w="254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FEC4F0E-3BDB-4B48-9BA0-9F2BDE2CF8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verview of Softwar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20440" y="1833120"/>
            <a:ext cx="8264520" cy="425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334800" indent="-334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omputer programs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quences of instructions for the comput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ocumentation:</a:t>
            </a:r>
            <a:r>
              <a:rPr b="0" i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escribes program functions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ystems software:</a:t>
            </a:r>
            <a:r>
              <a:rPr b="0" i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ordinates the activities of hardware and progra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Application softwar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helps users solve particular proble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F456224-7CE5-4C86-853C-798C5274CE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pporting Individual, Group, and Organizational Goal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phere of influence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e scope of problems and opportunities addressed by a particular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sona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orkgrou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10BF51F-5FE4-43CB-B416-7017854F79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hapter Overview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y Learn about Hardware and Software?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ardware componen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 represent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verview of softwar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5F031CD-7F02-404B-B42A-8843DD9EAA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pporting Individual, Group, and Organizational Goals (continued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495360" y="55627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fying Software by Type and Sphere of Infl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3" name="Picture 8" descr="Table 2-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30120" y="2540160"/>
            <a:ext cx="9309240" cy="2273040"/>
          </a:xfrm>
          <a:prstGeom prst="rect">
            <a:avLst/>
          </a:prstGeom>
          <a:ln w="0">
            <a:noFill/>
          </a:ln>
        </p:spPr>
      </p:pic>
      <p:sp>
        <p:nvSpPr>
          <p:cNvPr id="93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B93BCF3-C051-4B21-A92D-91C213868A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1. Systems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ntrolling operations of computer hardware is one of the most critical functions of systems softwar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lso supports application programs’ problem-solving capabili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ifferent types of systems software include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tility progra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1A176A0-E053-494D-85BC-01B774CF90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perating system (OS): programs that manages the resources of a computer and interfaces the hardware with applications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indows, UNIX, LINUX, MacOS, …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B8D89CE-8769-4416-8BE9-981F18BD8D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42" name="Picture 6" descr="Fig 2-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88960" y="2235240"/>
            <a:ext cx="8720280" cy="2477880"/>
          </a:xfrm>
          <a:prstGeom prst="rect">
            <a:avLst/>
          </a:prstGeom>
          <a:ln w="0">
            <a:noFill/>
          </a:ln>
        </p:spPr>
      </p:pic>
      <p:sp>
        <p:nvSpPr>
          <p:cNvPr id="943" name="Rectangle 3"/>
          <p:cNvSpPr/>
          <p:nvPr/>
        </p:nvSpPr>
        <p:spPr>
          <a:xfrm>
            <a:off x="495360" y="5181480"/>
            <a:ext cx="866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ole of Systems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303E7F9-5098-4F65-AF5B-B55759F778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tivities performed by the operating system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 common computer hardware func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 a user interface and input/output managem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 a degree of hardware independe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 system memor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0">
              <a:spcBef>
                <a:spcPts val="726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C03D270-2AAC-4D12-AAF8-EF2B541F9A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tivities performed by the operating system (continued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 processing task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 networking capabil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trol access to system resour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 fil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0">
              <a:spcBef>
                <a:spcPts val="726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0">
              <a:spcBef>
                <a:spcPts val="726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88E8F23-7220-419D-859B-0DD74F6653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mmon hardware funct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Get input from keyboard or some other input devi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trieve data from disk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ore data on disk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isplay information on a monitor or printe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A13BCC3-4F2E-40F1-ABCD-EE638AC005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lows individuals to access and command the computer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Command-based user interface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es text command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Graphical user interface (GUI)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es icons and menus to send commands to the computer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18D334C-34F2-4336-B6C1-265D938B85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ardware independen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Application program interface (API)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lows applications to make use of the operating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verts a user’s request for data or instructions to the physical location where the data or instructions are stor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24CD77E-E789-46D7-B83E-C2D38C4A8E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1" name="Picture 5" descr="Fig 4-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89360" y="1752480"/>
            <a:ext cx="4883040" cy="373392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6"/>
          <p:cNvSpPr/>
          <p:nvPr/>
        </p:nvSpPr>
        <p:spPr>
          <a:xfrm>
            <a:off x="1422360" y="5702400"/>
            <a:ext cx="711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gram Interface Links Application Software to the Operating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608E54F-725F-4154-A591-5415135BBD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Why Learn About Hardware and Software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254240" y="146484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can improve productivity, increase revenue, reduce costs, and provide bette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rs are expected to know about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define business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sk questions and evaluate options when buy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is necessary for any compute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software needed for input, calculations,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oftware aids in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7398AE0-3E2F-4443-9D66-35FDCD7D0F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cess to system resourc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tection against unauthorized acces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Logins and password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le managemen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sures that files in secondary storage are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vailable when need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tected from access by unauthorized us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AB8DDFE-19D1-4350-9810-C2926CF4AE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urrent Operating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8" name="Picture 6" descr="Table 2-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40040" y="1663560"/>
            <a:ext cx="5560920" cy="4021200"/>
          </a:xfrm>
          <a:prstGeom prst="rect">
            <a:avLst/>
          </a:prstGeom>
          <a:ln w="0">
            <a:noFill/>
          </a:ln>
        </p:spPr>
      </p:pic>
      <p:sp>
        <p:nvSpPr>
          <p:cNvPr id="969" name="Rectangle 3"/>
          <p:cNvSpPr/>
          <p:nvPr/>
        </p:nvSpPr>
        <p:spPr>
          <a:xfrm>
            <a:off x="380880" y="5854680"/>
            <a:ext cx="91630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r Operating Systems Across All Three Spheres of Infl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5987030-9FDB-4F0C-B43E-64778D78AB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Give users the ability to solve problems and perform specific task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teract with systems software; systems software then directs the hardware to perform task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AD1E57F-BB05-45D1-8EB8-42BBA28756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ypes and Functions of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Proprietary software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unique program for a specific application, usually developed and owned by a single compan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Off-the-shelf software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existing software program that can be purchase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ustomized packa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EC80E89-067B-4319-B6AE-710B5AC1ED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rves the needs of an individual us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cludes personal productivity softwar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ables users to improve their personal effectivenes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0">
              <a:spcBef>
                <a:spcPts val="726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0757630-E294-4943-A6DD-542E01656D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81" name="Picture 10" descr="Table 2-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63520" y="1574640"/>
            <a:ext cx="7790040" cy="4324680"/>
          </a:xfrm>
          <a:prstGeom prst="rect">
            <a:avLst/>
          </a:prstGeom>
          <a:ln w="0">
            <a:noFill/>
          </a:ln>
        </p:spPr>
      </p:pic>
      <p:sp>
        <p:nvSpPr>
          <p:cNvPr id="982" name="Rectangle 3"/>
          <p:cNvSpPr/>
          <p:nvPr/>
        </p:nvSpPr>
        <p:spPr>
          <a:xfrm>
            <a:off x="495360" y="600696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7: Examples of Personal Productivity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7F6E608-0CAF-4BBA-A7BB-95B46E0E22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85" name="Picture 8" descr="Table 2-7b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60400" y="1790640"/>
            <a:ext cx="8299440" cy="389880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3"/>
          <p:cNvSpPr/>
          <p:nvPr/>
        </p:nvSpPr>
        <p:spPr>
          <a:xfrm>
            <a:off x="412920" y="5943600"/>
            <a:ext cx="9162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of Personal Productivity Software (continu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3C2D929-9E4D-4E72-B3EC-7474382924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ftware suite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single application programs packaged in a bund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Office: most popular general-purpose software su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general-purpose software suites: Corel’s WordPerfect Office, Lotus SmartSuite, Sun Microsystems’s StarOff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rated application package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er a range of capabilities for less money than software su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Microsoft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2A18738-E1DB-4956-9339-68117A5D2B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2" name="Picture 4" descr="Table 4-6"/>
          <p:cNvPicPr/>
          <p:nvPr/>
        </p:nvPicPr>
        <p:blipFill>
          <a:blip r:embed="rId1"/>
          <a:stretch/>
        </p:blipFill>
        <p:spPr>
          <a:xfrm>
            <a:off x="452520" y="2120760"/>
            <a:ext cx="8989920" cy="292752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5"/>
          <p:cNvSpPr/>
          <p:nvPr/>
        </p:nvSpPr>
        <p:spPr>
          <a:xfrm>
            <a:off x="495360" y="558792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8: Major Components of Leading Software Sui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79BFC8F-1BE1-4E19-B869-8FFF85E70A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Workgroup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77440" y="1913040"/>
            <a:ext cx="8750520" cy="4178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Workgroup application software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upport teamwork, whether people are in the same location or dispersed around the worl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Groupwar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software that helps groups of people work together more efficiently and effectivel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BD4D8AF-643A-40D1-A81A-696DC3AC4A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hoosing the right computer hardware requires understanding its relationship to the information system and needs of the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ardware objectives are subordinate to, but supportive of, the information system and the current and future needs of the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CBDC462-CC11-4838-B7DC-5026D64FA9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nterprise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that benefits an entire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nterprise resource planning (ERP) softwar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programs that manage a company’s vital business operations for an entire multisite, global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8A2D1F8-72AD-4891-8332-4790E2E496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nterprise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2" name="Picture 4" descr="Table 4-8"/>
          <p:cNvPicPr/>
          <p:nvPr/>
        </p:nvPicPr>
        <p:blipFill>
          <a:blip r:embed="rId1"/>
          <a:stretch/>
        </p:blipFill>
        <p:spPr>
          <a:xfrm>
            <a:off x="2063880" y="1803240"/>
            <a:ext cx="5645160" cy="3911760"/>
          </a:xfrm>
          <a:prstGeom prst="rect">
            <a:avLst/>
          </a:prstGeom>
          <a:ln w="0">
            <a:noFill/>
          </a:ln>
        </p:spPr>
      </p:pic>
      <p:sp>
        <p:nvSpPr>
          <p:cNvPr id="1003" name="Rectangle 5"/>
          <p:cNvSpPr/>
          <p:nvPr/>
        </p:nvSpPr>
        <p:spPr>
          <a:xfrm>
            <a:off x="495360" y="594360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of Enterprise Application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7749CAC-F745-4D60-9AF6-8BE243E98F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4.2.4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pplication Software for Information, Decision Support, and Specialized Purpo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77440" y="1981080"/>
            <a:ext cx="8750520" cy="4572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Used in businesses of all sizes and types to increase profits or reduce cos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vailable in every industr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xample: analysis to increase the cure rate for cance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6455DF0-B1C6-4F01-A8DB-0D5FEACB7D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ogramming Languag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keywords, symbols, and a system of rules for constructing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humans to communicate instructions to be executed by a compu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: a set of rules associated with 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languages have characteristics that make them appropriate for particular types of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FBBFAF2-661B-415E-BE2D-66900AFDB7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ogramming Languag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2" name="Picture 4" descr="Table 4-9"/>
          <p:cNvPicPr/>
          <p:nvPr/>
        </p:nvPicPr>
        <p:blipFill>
          <a:blip r:embed="rId1"/>
          <a:stretch/>
        </p:blipFill>
        <p:spPr>
          <a:xfrm>
            <a:off x="1003320" y="2057400"/>
            <a:ext cx="7912080" cy="314496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5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11: The Evolution of Programming Langu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1E37372-A2CF-4382-B031-44DC3DA3D2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oftware Issues and Trend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issues and trends receiving increasing atten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oftware bug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pyrights and licen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oftware upgrad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Global software suppo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B743DC8-D474-42CF-894E-32040B96C3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oftware Bug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6400" indent="-356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ftware bu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fect in a computer program that keeps it from performing as it is designed to per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400" indent="-356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s for reducing impact of software bugs inclu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all software so that you can receive bug alerts, fixes, and pa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the manual or read-me files for work-ar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support area of the manufacturer’s Web site for pa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l the latest software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90FAC3C-7173-4E93-BAC2-578358D8F3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pyrights and Licens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software products are protected by law using copyright or licensing prov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ome cases, you are given unlimited use of software on one or two comp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ther cases, you pay for your usage—if you use the software more, you pay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oftware now requires that you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gist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ctiva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before it can be fully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9BD50CC-FDBF-4792-A3B4-30F0E924DB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oftware Upgrad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6400" indent="-356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companies periodically revise their programs and sell new vers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56400" indent="-356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vised softwar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y offer new and valuable enhancemen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y just contain complex program code changes that offer little in terms of additional capabiliti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56400" indent="-356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upgrades usually cost much less than the original purchase pri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6EAD2FA-69E1-46EB-97D8-693BCA335B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Global Software Suppor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r large, global companies, getting adequate software support at all their locations for their standardized, companywide systems is a big challen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Large vendors such as Sybase, IBM, and Hewlett-Packard typically contract out support for their software to local provid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F55757D-FA66-4153-B4B8-59E732AE9C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Hardware Component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92" name="Picture 9" descr="Fig 2-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32120" y="1612800"/>
            <a:ext cx="6414840" cy="41022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4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1C67A91-BB30-435B-AACD-0E46017DA0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: central processing unit (CPU), input and output devices, communications devices, primary storage devices, and secondary storag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rocessing: simultaneous execution of two or more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oftware: coordinates the activities of hardware an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software: helps users solve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 (OS): set of computer programs that control the hardware and interface wit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: allow humans to communicate instructions to be executed by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0"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8842C3C-A001-4B83-89CF-54400C3157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Hardware Component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processing unit (CP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thmetic/logic unit (ALU): performs calculations and makes logical compari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unit: accesses, decodes and coordinates data in CPU and other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memory: holds program instructions and data for process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orage: more permanent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and output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A3AB5F7-1D1F-4DAB-9095-0472074528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ystem Uni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4600" y="1833120"/>
            <a:ext cx="3952800" cy="4668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omponents inside the system unit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er c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nd 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 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ive b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 supp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0" name="Group 47"/>
          <p:cNvGrpSpPr/>
          <p:nvPr/>
        </p:nvGrpSpPr>
        <p:grpSpPr>
          <a:xfrm>
            <a:off x="2895840" y="1600200"/>
            <a:ext cx="6752520" cy="4362480"/>
            <a:chOff x="2895840" y="1600200"/>
            <a:chExt cx="6752520" cy="4362480"/>
          </a:xfrm>
        </p:grpSpPr>
        <p:pic>
          <p:nvPicPr>
            <p:cNvPr id="801" name="Picture 46" descr="04-069_04-02"/>
            <p:cNvPicPr/>
            <p:nvPr/>
          </p:nvPicPr>
          <p:blipFill>
            <a:blip r:embed="rId1"/>
            <a:stretch/>
          </p:blipFill>
          <p:spPr>
            <a:xfrm>
              <a:off x="3879720" y="1752480"/>
              <a:ext cx="5768640" cy="42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Rectangle 26"/>
            <p:cNvSpPr/>
            <p:nvPr/>
          </p:nvSpPr>
          <p:spPr>
            <a:xfrm>
              <a:off x="2895840" y="1600200"/>
              <a:ext cx="1005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wer suppl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Rectangle 27"/>
            <p:cNvSpPr/>
            <p:nvPr/>
          </p:nvSpPr>
          <p:spPr>
            <a:xfrm>
              <a:off x="3470040" y="3352680"/>
              <a:ext cx="4856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r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Rectangle 28"/>
            <p:cNvSpPr/>
            <p:nvPr/>
          </p:nvSpPr>
          <p:spPr>
            <a:xfrm>
              <a:off x="7765920" y="1600200"/>
              <a:ext cx="810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ive bay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Rectangle 29"/>
            <p:cNvSpPr/>
            <p:nvPr/>
          </p:nvSpPr>
          <p:spPr>
            <a:xfrm>
              <a:off x="8838360" y="2438280"/>
              <a:ext cx="7628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Rectangle 30"/>
            <p:cNvSpPr/>
            <p:nvPr/>
          </p:nvSpPr>
          <p:spPr>
            <a:xfrm>
              <a:off x="8921520" y="3352680"/>
              <a:ext cx="688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31"/>
            <p:cNvSpPr/>
            <p:nvPr/>
          </p:nvSpPr>
          <p:spPr>
            <a:xfrm>
              <a:off x="8178840" y="5486400"/>
              <a:ext cx="8438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nd car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Rectangle 32"/>
            <p:cNvSpPr/>
            <p:nvPr/>
          </p:nvSpPr>
          <p:spPr>
            <a:xfrm>
              <a:off x="3969360" y="5562720"/>
              <a:ext cx="8179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 car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Line 35"/>
            <p:cNvSpPr/>
            <p:nvPr/>
          </p:nvSpPr>
          <p:spPr>
            <a:xfrm>
              <a:off x="3714840" y="1905120"/>
              <a:ext cx="107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Line 36"/>
            <p:cNvSpPr/>
            <p:nvPr/>
          </p:nvSpPr>
          <p:spPr>
            <a:xfrm flipH="1">
              <a:off x="7512480" y="1828800"/>
              <a:ext cx="412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Line 37"/>
            <p:cNvSpPr/>
            <p:nvPr/>
          </p:nvSpPr>
          <p:spPr>
            <a:xfrm flipV="1">
              <a:off x="7512480" y="1752120"/>
              <a:ext cx="495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12" name="Group 43"/>
            <p:cNvGrpSpPr/>
            <p:nvPr/>
          </p:nvGrpSpPr>
          <p:grpSpPr>
            <a:xfrm>
              <a:off x="3962520" y="3123720"/>
              <a:ext cx="466920" cy="457560"/>
              <a:chOff x="3962520" y="3123720"/>
              <a:chExt cx="466920" cy="457560"/>
            </a:xfrm>
          </p:grpSpPr>
          <p:sp>
            <p:nvSpPr>
              <p:cNvPr id="813" name="Line 39"/>
              <p:cNvSpPr/>
              <p:nvPr/>
            </p:nvSpPr>
            <p:spPr>
              <a:xfrm flipV="1">
                <a:off x="3962520" y="3123720"/>
                <a:ext cx="3294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Line 40"/>
              <p:cNvSpPr/>
              <p:nvPr/>
            </p:nvSpPr>
            <p:spPr>
              <a:xfrm>
                <a:off x="3962520" y="3429000"/>
                <a:ext cx="3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5" name="Line 41"/>
              <p:cNvSpPr/>
              <p:nvPr/>
            </p:nvSpPr>
            <p:spPr>
              <a:xfrm>
                <a:off x="3962520" y="3429000"/>
                <a:ext cx="412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6" name="Line 42"/>
              <p:cNvSpPr/>
              <p:nvPr/>
            </p:nvSpPr>
            <p:spPr>
              <a:xfrm flipV="1">
                <a:off x="3962520" y="3161880"/>
                <a:ext cx="46692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1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AA67B4C-1A53-473B-A86B-159B1D3EDF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ocessing Characteristics and Function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77440" y="16765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6400" indent="-356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ock speed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ries of electronic pulses produced at a predetermined rate that affects machine cycle tim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lock speed is often measured in megahertz (MHz), or millions of cycles per secon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lock speed for personal computers is in the multiple gigahertz (GHz), or billions of cycles per second, rang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7678E0F-1A73-4D69-8C48-0EE236C1AF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shraf Youssef</cp:lastModifiedBy>
  <cp:lastPrinted>2000-09-19T13:45:16Z</cp:lastPrinted>
  <dcterms:modified xsi:type="dcterms:W3CDTF">2017-09-24T08:26:23Z</dcterms:modified>
  <cp:revision>329</cp:revision>
  <dc:subject/>
  <dc:title>Abstract View of System Components</dc:title>
</cp:coreProperties>
</file>