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4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17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18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19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314EEF-F7CB-44EE-8D44-7FE9B9EE7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BBAEB4C-15CD-40B5-BC42-BA0D19B25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F89461-4F49-48D7-83ED-6A0C0E300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163C0E-7F7E-4DAE-9586-129C7F816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28E49EA-E30A-4240-A47E-5FD857A13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6A4CA1-1D53-433F-A26E-AD704ACF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1A30847-A128-4EA4-8917-A04A8F99B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7F42907-9EBB-41EE-8339-F82126E57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7DB0FA-B8BA-496D-A2C4-49CAC0989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CE4AEB-227C-4FA2-A9BC-6601DF015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4DDEC8-7317-4C89-BBC7-DE60FCDB0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F536D3E-17BC-4414-9BD3-527A1CB5E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8657BF-6219-48FC-B562-95765F058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0643A7F-37D2-475D-BD0F-DEE0C1909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23EEC3-677A-4BAE-A748-3A16B84C5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3B2918F-9B54-430A-92B3-2CAD424E1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D6A964-9FB7-4936-B5D1-C0541B71B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A7A8C56-BB56-40DD-AD44-5C000598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DBF955A-6F72-4E80-B2BC-042309F87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F4B9661-B7F0-4F94-B764-420D54D76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2971FB-E426-44D7-A974-38EA621C0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D46606C-FDE4-432B-8E7C-0E05D7280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A9B049A-0A1E-4B1D-A291-940316BF1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39EB37-55EE-4AF3-89FE-2E46A242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9D18247-8BC3-43E7-B92D-C049BB7D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A3FE5F-3BA7-4771-93D5-C679A0D94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B91422-9CC2-4CBD-9820-5DBD7D5F6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BBD40E-D4B1-47FB-B4F0-BDD3B4996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5135083-CC3D-4A8F-9E84-1A1465A73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0CA7A16-D70F-47ED-969D-5F7F9FA92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D1D685-EB01-4206-B113-32155E376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416BF86-BFA2-45FB-BA3C-78BA525D3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87682F-4BEB-4451-935D-E2099E9C0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6DE818-A925-422B-83CE-B62256690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1D7FC5-2673-40EE-8784-E52CBF72E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BD76DA0-3BFA-4C14-8AF6-046D17FE3A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652675-5C8F-482D-AD02-2BBF6771A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F66A70-A79C-4495-8C98-262B71DC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A491B0-214D-46D8-9990-BA596C559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1D60A6-713F-406D-8E19-E3DCC9250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E01786-2EFD-426F-95EE-4DFCD87D7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C89FF03-5DC3-4D2E-A3CC-1C159CCC6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A984FF-96AA-40B5-A8E1-6CB72A608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17307E4-73C7-4C9F-9FB2-06986618F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CAB7EB-E207-4605-9101-8B78EE105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453135-3F56-434B-B8D4-79D40157C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765B25-16EB-409F-B975-BEB455FDE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FDA7859-0014-4D6A-ADC2-2D5945E03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C0799F3-6FAA-4F64-86FE-479D64C99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D0FE2B-CD5D-4280-B006-3D21E9FD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C7FDBF7-F3DF-4DD4-9022-625BA0529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0E5B39B-6384-4802-A926-CF5629836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929E13-F797-4365-8196-92B42B187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D6076B5-EE57-4436-BFEF-9E0AEA047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2EB098-8A28-4444-8578-E105DDE64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B02E20F-1C25-42DC-A92C-6247C2D4F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0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CBF10D4-10A7-465A-8C96-13CA27379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ftr" idx="11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C85ED9E-977E-4C2F-8756-387DD7351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ftr" idx="1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8429AC5-2C47-465B-A202-D032C715A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ftr" idx="1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48D7B78-A067-4EF4-9F1A-8FD6C8ABF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1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931CD52-E51B-483A-B98B-66B607FA6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ftr" idx="1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8A2E9B-6D7F-4076-83A0-B31C70B23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ftr" idx="1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15978DC-BF86-4F77-A0CE-E175DBA0E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080" y="2066760"/>
              <a:ext cx="773640" cy="451440"/>
              <a:chOff x="316080" y="2066760"/>
              <a:chExt cx="773640" cy="4514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316080" y="2066760"/>
                <a:ext cx="475920" cy="4514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732600" y="2066760"/>
                <a:ext cx="357120" cy="4514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52160" y="2510640"/>
              <a:ext cx="801000" cy="495720"/>
              <a:chOff x="452160" y="2510640"/>
              <a:chExt cx="801000" cy="49572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52160" y="2510640"/>
                <a:ext cx="459000" cy="4957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853920" y="2510640"/>
                <a:ext cx="399240" cy="4957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415240"/>
              <a:ext cx="606960" cy="39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AECD3B1-A62C-441F-BDFC-60D761B5C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3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DD72824F-EB7D-49BC-B564-3EB787D94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ftr" idx="4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69335BC-C27E-40AB-A078-1598750FB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5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5390531-C5D3-4DB6-9975-DC22C168D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6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B477B80-D3E6-43F6-BF0B-34EF331B9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7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DC6788E-33AE-49C2-A903-3DA3110D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8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C4FB99D8-E0D9-4479-8F86-406C4D384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22"/>
          <p:cNvSpPr/>
          <p:nvPr/>
        </p:nvSpPr>
        <p:spPr>
          <a:xfrm>
            <a:off x="0" y="65912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9"/>
          </p:nvPr>
        </p:nvSpPr>
        <p:spPr>
          <a:xfrm>
            <a:off x="-360" y="660348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0798D2B-7833-4274-AD89-7387C47A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2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ardware and Softwar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68D84B0-FC07-4036-8E62-F7BE9DA37D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cessing Characteristics and Function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hysical characteristics of the CPU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gital circuits on chip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 turn a digital circuit on or off, electrical current flows through silic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86801A8-3245-42B6-AD01-822EAFCF04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.2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mory Characteristics and Functions: Storage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Rectangle 11"/>
          <p:cNvSpPr/>
          <p:nvPr/>
        </p:nvSpPr>
        <p:spPr>
          <a:xfrm>
            <a:off x="495360" y="598968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1: Units for Measuring Computer Storag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6" name="Picture 16" descr="Table 2-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46320" y="1600200"/>
            <a:ext cx="5614920" cy="4278240"/>
          </a:xfrm>
          <a:prstGeom prst="rect">
            <a:avLst/>
          </a:prstGeom>
          <a:ln w="0">
            <a:noFill/>
          </a:ln>
        </p:spPr>
      </p:pic>
      <p:sp>
        <p:nvSpPr>
          <p:cNvPr id="82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BD95908-2732-4ED6-BC34-8B33621D8F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emory Characteristics and Functions: Types of Memo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0880" y="1808280"/>
            <a:ext cx="5067360" cy="4325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andom access memory (RA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ad-only memory (RO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ually non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30" name="Picture 24" descr="Fig04-20"/>
          <p:cNvPicPr/>
          <p:nvPr/>
        </p:nvPicPr>
        <p:blipFill>
          <a:blip r:embed="rId1"/>
          <a:stretch/>
        </p:blipFill>
        <p:spPr>
          <a:xfrm>
            <a:off x="5448240" y="1790640"/>
            <a:ext cx="4030560" cy="4710240"/>
          </a:xfrm>
          <a:prstGeom prst="rect">
            <a:avLst/>
          </a:prstGeom>
          <a:ln w="0">
            <a:noFill/>
          </a:ln>
        </p:spPr>
      </p:pic>
      <p:sp>
        <p:nvSpPr>
          <p:cNvPr id="831" name="Rectangle 26"/>
          <p:cNvSpPr/>
          <p:nvPr/>
        </p:nvSpPr>
        <p:spPr>
          <a:xfrm>
            <a:off x="5785920" y="4152960"/>
            <a:ext cx="1038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 chip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Rectangle 27"/>
          <p:cNvSpPr/>
          <p:nvPr/>
        </p:nvSpPr>
        <p:spPr>
          <a:xfrm>
            <a:off x="7519320" y="4152960"/>
            <a:ext cx="986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 slo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3" name="Rectangle 28"/>
          <p:cNvSpPr/>
          <p:nvPr/>
        </p:nvSpPr>
        <p:spPr>
          <a:xfrm>
            <a:off x="7355160" y="1486080"/>
            <a:ext cx="1796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al inline RAM modu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Line 29"/>
          <p:cNvSpPr/>
          <p:nvPr/>
        </p:nvSpPr>
        <p:spPr>
          <a:xfrm flipH="1">
            <a:off x="7181640" y="1714680"/>
            <a:ext cx="742680" cy="1066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Line 30"/>
          <p:cNvSpPr/>
          <p:nvPr/>
        </p:nvSpPr>
        <p:spPr>
          <a:xfrm flipV="1">
            <a:off x="6273720" y="2857680"/>
            <a:ext cx="660600" cy="1295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Line 31"/>
          <p:cNvSpPr/>
          <p:nvPr/>
        </p:nvSpPr>
        <p:spPr>
          <a:xfrm flipH="1" flipV="1">
            <a:off x="7677000" y="3009600"/>
            <a:ext cx="24768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9F28040-C09E-4841-80C4-DDE284DE5C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ultiprocess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39" name="Group 71"/>
          <p:cNvGrpSpPr/>
          <p:nvPr/>
        </p:nvGrpSpPr>
        <p:grpSpPr>
          <a:xfrm>
            <a:off x="2660400" y="3373560"/>
            <a:ext cx="4008960" cy="1946160"/>
            <a:chOff x="2660400" y="3373560"/>
            <a:chExt cx="4008960" cy="1946160"/>
          </a:xfrm>
        </p:grpSpPr>
        <p:sp>
          <p:nvSpPr>
            <p:cNvPr id="840" name="Line 67"/>
            <p:cNvSpPr/>
            <p:nvPr/>
          </p:nvSpPr>
          <p:spPr>
            <a:xfrm>
              <a:off x="2660400" y="3867120"/>
              <a:ext cx="1402200" cy="139968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Line 68"/>
            <p:cNvSpPr/>
            <p:nvPr/>
          </p:nvSpPr>
          <p:spPr>
            <a:xfrm flipH="1">
              <a:off x="5153040" y="3800520"/>
              <a:ext cx="1516320" cy="151920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Line 69"/>
            <p:cNvSpPr/>
            <p:nvPr/>
          </p:nvSpPr>
          <p:spPr>
            <a:xfrm>
              <a:off x="3919680" y="3373920"/>
              <a:ext cx="514080" cy="191340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Line 70"/>
            <p:cNvSpPr/>
            <p:nvPr/>
          </p:nvSpPr>
          <p:spPr>
            <a:xfrm flipH="1">
              <a:off x="4831200" y="3373560"/>
              <a:ext cx="510840" cy="1914120"/>
            </a:xfrm>
            <a:prstGeom prst="line">
              <a:avLst/>
            </a:prstGeom>
            <a:ln w="152280">
              <a:solidFill>
                <a:srgbClr val="339966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44" name="AutoShape 26"/>
          <p:cNvSpPr/>
          <p:nvPr/>
        </p:nvSpPr>
        <p:spPr>
          <a:xfrm>
            <a:off x="3184560" y="1968480"/>
            <a:ext cx="2889360" cy="380880"/>
          </a:xfrm>
          <a:prstGeom prst="bevel">
            <a:avLst>
              <a:gd name="adj" fmla="val 5356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Control Process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39"/>
          <p:cNvGrpSpPr/>
          <p:nvPr/>
        </p:nvGrpSpPr>
        <p:grpSpPr>
          <a:xfrm>
            <a:off x="1701720" y="3263760"/>
            <a:ext cx="1403280" cy="762120"/>
            <a:chOff x="1701720" y="3263760"/>
            <a:chExt cx="1403280" cy="762120"/>
          </a:xfrm>
        </p:grpSpPr>
        <p:sp>
          <p:nvSpPr>
            <p:cNvPr id="846" name="AutoShape 25"/>
            <p:cNvSpPr/>
            <p:nvPr/>
          </p:nvSpPr>
          <p:spPr>
            <a:xfrm>
              <a:off x="1701720" y="3263760"/>
              <a:ext cx="140328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1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AutoShape 28"/>
            <p:cNvSpPr/>
            <p:nvPr/>
          </p:nvSpPr>
          <p:spPr>
            <a:xfrm>
              <a:off x="1758600" y="3720960"/>
              <a:ext cx="130536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48" name="Group 40"/>
          <p:cNvGrpSpPr/>
          <p:nvPr/>
        </p:nvGrpSpPr>
        <p:grpSpPr>
          <a:xfrm>
            <a:off x="3186000" y="3263760"/>
            <a:ext cx="1403640" cy="762120"/>
            <a:chOff x="3186000" y="3263760"/>
            <a:chExt cx="1403640" cy="762120"/>
          </a:xfrm>
        </p:grpSpPr>
        <p:sp>
          <p:nvSpPr>
            <p:cNvPr id="849" name="AutoShape 41"/>
            <p:cNvSpPr/>
            <p:nvPr/>
          </p:nvSpPr>
          <p:spPr>
            <a:xfrm>
              <a:off x="3186000" y="3263760"/>
              <a:ext cx="140364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AutoShape 42"/>
            <p:cNvSpPr/>
            <p:nvPr/>
          </p:nvSpPr>
          <p:spPr>
            <a:xfrm>
              <a:off x="3242880" y="3720960"/>
              <a:ext cx="130572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1" name="Group 43"/>
          <p:cNvGrpSpPr/>
          <p:nvPr/>
        </p:nvGrpSpPr>
        <p:grpSpPr>
          <a:xfrm>
            <a:off x="4670280" y="3263760"/>
            <a:ext cx="1403640" cy="762120"/>
            <a:chOff x="4670280" y="3263760"/>
            <a:chExt cx="1403640" cy="762120"/>
          </a:xfrm>
        </p:grpSpPr>
        <p:sp>
          <p:nvSpPr>
            <p:cNvPr id="852" name="AutoShape 44"/>
            <p:cNvSpPr/>
            <p:nvPr/>
          </p:nvSpPr>
          <p:spPr>
            <a:xfrm>
              <a:off x="4670280" y="3263760"/>
              <a:ext cx="140364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3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AutoShape 45"/>
            <p:cNvSpPr/>
            <p:nvPr/>
          </p:nvSpPr>
          <p:spPr>
            <a:xfrm>
              <a:off x="4727160" y="3720960"/>
              <a:ext cx="130572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54" name="Group 46"/>
          <p:cNvGrpSpPr/>
          <p:nvPr/>
        </p:nvGrpSpPr>
        <p:grpSpPr>
          <a:xfrm>
            <a:off x="6156360" y="3263760"/>
            <a:ext cx="1403280" cy="762120"/>
            <a:chOff x="6156360" y="3263760"/>
            <a:chExt cx="1403280" cy="762120"/>
          </a:xfrm>
        </p:grpSpPr>
        <p:sp>
          <p:nvSpPr>
            <p:cNvPr id="855" name="AutoShape 47"/>
            <p:cNvSpPr/>
            <p:nvPr/>
          </p:nvSpPr>
          <p:spPr>
            <a:xfrm>
              <a:off x="6156360" y="3263760"/>
              <a:ext cx="1403280" cy="762120"/>
            </a:xfrm>
            <a:prstGeom prst="bevel">
              <a:avLst>
                <a:gd name="adj" fmla="val 4167"/>
              </a:avLst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90000"/>
                </a:lnSpc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cc"/>
                  </a:solidFill>
                  <a:latin typeface="Times New Roman"/>
                </a:rPr>
                <a:t>Processor 4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AutoShape 48"/>
            <p:cNvSpPr/>
            <p:nvPr/>
          </p:nvSpPr>
          <p:spPr>
            <a:xfrm>
              <a:off x="6213240" y="3720960"/>
              <a:ext cx="1305360" cy="257400"/>
            </a:xfrm>
            <a:prstGeom prst="bevel">
              <a:avLst>
                <a:gd name="adj" fmla="val 550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57" name="Rectangle 49"/>
          <p:cNvSpPr/>
          <p:nvPr/>
        </p:nvSpPr>
        <p:spPr>
          <a:xfrm>
            <a:off x="3610800" y="5340240"/>
            <a:ext cx="1901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Results comb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8" name="Group 66"/>
          <p:cNvGrpSpPr/>
          <p:nvPr/>
        </p:nvGrpSpPr>
        <p:grpSpPr>
          <a:xfrm>
            <a:off x="2197080" y="2349360"/>
            <a:ext cx="4853880" cy="909720"/>
            <a:chOff x="2197080" y="2349360"/>
            <a:chExt cx="4853880" cy="909720"/>
          </a:xfrm>
        </p:grpSpPr>
        <p:sp>
          <p:nvSpPr>
            <p:cNvPr id="859" name="AutoShape 51"/>
            <p:cNvSpPr/>
            <p:nvPr/>
          </p:nvSpPr>
          <p:spPr>
            <a:xfrm rot="5400000">
              <a:off x="2132640" y="2794320"/>
              <a:ext cx="528840" cy="400320"/>
            </a:xfrm>
            <a:prstGeom prst="rightArrow">
              <a:avLst>
                <a:gd name="adj1" fmla="val 44639"/>
                <a:gd name="adj2" fmla="val 43399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utoShape 52"/>
            <p:cNvSpPr/>
            <p:nvPr/>
          </p:nvSpPr>
          <p:spPr>
            <a:xfrm rot="5400000">
              <a:off x="361476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AutoShape 53"/>
            <p:cNvSpPr/>
            <p:nvPr/>
          </p:nvSpPr>
          <p:spPr>
            <a:xfrm rot="5400000">
              <a:off x="510048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AutoShape 54"/>
            <p:cNvSpPr/>
            <p:nvPr/>
          </p:nvSpPr>
          <p:spPr>
            <a:xfrm rot="5400000">
              <a:off x="6586200" y="2794320"/>
              <a:ext cx="528840" cy="400680"/>
            </a:xfrm>
            <a:prstGeom prst="rightArrow">
              <a:avLst>
                <a:gd name="adj1" fmla="val 44639"/>
                <a:gd name="adj2" fmla="val 43360"/>
              </a:avLst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56"/>
            <p:cNvSpPr/>
            <p:nvPr/>
          </p:nvSpPr>
          <p:spPr>
            <a:xfrm>
              <a:off x="2305440" y="2730240"/>
              <a:ext cx="4633920" cy="0"/>
            </a:xfrm>
            <a:prstGeom prst="line">
              <a:avLst/>
            </a:prstGeom>
            <a:ln w="190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58"/>
            <p:cNvSpPr/>
            <p:nvPr/>
          </p:nvSpPr>
          <p:spPr>
            <a:xfrm flipV="1">
              <a:off x="4587480" y="2349360"/>
              <a:ext cx="1440" cy="380880"/>
            </a:xfrm>
            <a:prstGeom prst="line">
              <a:avLst/>
            </a:prstGeom>
            <a:ln w="19044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6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B17DA41-869F-434D-9D37-47D8B95BD0B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ultiprocessing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5000"/>
          </a:bodyPr>
          <a:p>
            <a:pPr marL="342000" indent="-3420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Multiprocessing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multaneous execution of two or more instruc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Multicore microprocessor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ares workload among</a:t>
            </a: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wo or more independent processors in a single comput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Parallel processing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inks several processors to operate at the same time, or in parall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8720" indent="-283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Grid computing: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 collection of computers working to solve a common probl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10BAE71-C31E-4C47-AFF7-C9D8D2F9ED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and Input and Output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0" name="" descr=""/>
          <p:cNvPicPr/>
          <p:nvPr/>
        </p:nvPicPr>
        <p:blipFill>
          <a:blip r:embed="rId1"/>
          <a:stretch/>
        </p:blipFill>
        <p:spPr>
          <a:xfrm>
            <a:off x="1254240" y="1566360"/>
            <a:ext cx="8418240" cy="487044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25" descr="04-069-fig1-03-ar5"/>
          <p:cNvPicPr/>
          <p:nvPr/>
        </p:nvPicPr>
        <p:blipFill>
          <a:blip r:embed="rId2"/>
          <a:srcRect l="0" t="0" r="0" b="30000"/>
          <a:stretch/>
        </p:blipFill>
        <p:spPr>
          <a:xfrm>
            <a:off x="2311560" y="2171880"/>
            <a:ext cx="5562360" cy="4171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04116E5-EAAA-4784-BA29-798561D36C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and Input  and Output Devices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ary stora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so called permanent storag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nvolati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reater capacity and greater economy than memo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cess methods, storage capacities, and portability required are determined by the information system’s objectiv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C4AA54C-6E57-4B3F-A41E-8B1C1DDED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ta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storage used primarily for back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gnetic d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access secondary storage, e.g., hard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s extra bits so that data can be reconstructed if system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high-speed connections between data storage devices and computers over a networ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8E241B8-EC41-4DCE-9D32-D0FB8F7EC5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econdary Storage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tical di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rect access optical disc, e.g., CD-RO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gital video disk (DV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 several gigabytes of dat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lash memo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onvolatile silicon computer chi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A9E1CB9-32E1-42A0-ACD3-A670A43DF9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input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board, mo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-recognition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devices that recognize human spee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device used with PC to record/store images in digit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display devices that perform data entry and in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7E64339-E9B3-4192-96DA-1A1A8E7F7D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inciples and Learning Objectiv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discuss the role of the essential hardware components of a comput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discuss how data is represented in the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y and briefly describe the functions of the two basic kinds of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the role of the operating system and identify the features of several popular operat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 how application software can support personal, workgroup, and enterprise business object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76360" indent="-51444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line the importance of software copyri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1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DE94D70-A736-4B5A-8A20-0D41C8C8DC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ouch-sensitive scree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 display screens to act as input devices as well as output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Bar-code scann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a laser scanner to read a bar-coded labe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agnetic ink character recognition (MICR) devi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de data on banking forms, such as check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2D8365A-FAF5-420E-A484-0E63E97FB9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en input devi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ctivate a command, enter handwritten notes, and draw objec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adio Frequency Identification (RFI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a microchip with an antenna to broadcast its unique identifier and location to a receiver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491F33B-7F7D-402B-824E-D80C28109E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utput Device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play monitors (CR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quality measured by number of pixels and dot p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quid crystal displays (LC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on eyes, use less electricity, take up less space than C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c light-emitting diodes (OLE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ly emits light rather than using back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per colors and thinner display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9F05E09-75A4-408D-8A15-92CF0DA626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utput Devic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nters and plotters: hard copy outpu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inters: laser, inkjet 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lotters: used for general design 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gital audio play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s, organizes, and plays digital music f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DF94EA7-BC3B-4C10-AD72-5E02405994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 System Typ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98" name="Picture 4" descr="Table 3-3"/>
          <p:cNvPicPr/>
          <p:nvPr/>
        </p:nvPicPr>
        <p:blipFill>
          <a:blip r:embed="rId1">
            <a:lum contrast="6000"/>
          </a:blip>
          <a:srcRect l="0" t="0" r="18745" b="0"/>
          <a:stretch/>
        </p:blipFill>
        <p:spPr>
          <a:xfrm>
            <a:off x="831960" y="1828800"/>
            <a:ext cx="8754840" cy="3873600"/>
          </a:xfrm>
          <a:prstGeom prst="rect">
            <a:avLst/>
          </a:prstGeom>
          <a:ln w="0">
            <a:noFill/>
          </a:ln>
        </p:spPr>
      </p:pic>
      <p:sp>
        <p:nvSpPr>
          <p:cNvPr id="899" name="Rectangle 5"/>
          <p:cNvSpPr/>
          <p:nvPr/>
        </p:nvSpPr>
        <p:spPr>
          <a:xfrm>
            <a:off x="495360" y="586728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Computer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0E3C919-8AD5-47D6-8B2B-388AD1260C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746280" y="1655280"/>
            <a:ext cx="8418240" cy="13287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ow do computers represent data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uters are Digita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3" name="Picture 28" descr="04-069-fig4-11-ar2"/>
          <p:cNvPicPr/>
          <p:nvPr/>
        </p:nvPicPr>
        <p:blipFill>
          <a:blip r:embed="rId1"/>
          <a:srcRect l="6008" t="0" r="2003" b="8186"/>
          <a:stretch/>
        </p:blipFill>
        <p:spPr>
          <a:xfrm>
            <a:off x="5195880" y="3048120"/>
            <a:ext cx="4430880" cy="3009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4" name="Rectangle 3"/>
          <p:cNvSpPr/>
          <p:nvPr/>
        </p:nvSpPr>
        <p:spPr>
          <a:xfrm>
            <a:off x="581040" y="2876400"/>
            <a:ext cx="4575240" cy="33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Recognize only two discrete states: on or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Use a binary system to recognize two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 (Arabic)"/>
              </a:rPr>
              <a:t>Use Number system with two unique digits: 0 and 1, called bits (short for binary digi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78E7C27-D2D9-46A5-BDC0-45A9337525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9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9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390240" y="1782360"/>
            <a:ext cx="8418600" cy="4491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yte is eight bits grouped together as 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s enough different combinations of 0s and 1s to represent 256 individual charac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case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case let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8" name="Picture 28" descr="04-069-fig4-12-ar2"/>
          <p:cNvPicPr/>
          <p:nvPr/>
        </p:nvPicPr>
        <p:blipFill>
          <a:blip r:embed="rId1"/>
          <a:stretch/>
        </p:blipFill>
        <p:spPr>
          <a:xfrm>
            <a:off x="3581280" y="3435480"/>
            <a:ext cx="6159600" cy="25686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0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FF7F025-FB5D-4018-BEE0-EFFBDCFA0A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Representation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16080" y="1623960"/>
            <a:ext cx="930096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marL="360360" indent="-36036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is a letter converted to binary form and back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2" name="Picture 27" descr="Fig04-16b"/>
          <p:cNvPicPr/>
          <p:nvPr/>
        </p:nvPicPr>
        <p:blipFill>
          <a:blip r:embed="rId1"/>
          <a:stretch/>
        </p:blipFill>
        <p:spPr>
          <a:xfrm>
            <a:off x="5172120" y="3627360"/>
            <a:ext cx="2641680" cy="1947960"/>
          </a:xfrm>
          <a:prstGeom prst="rect">
            <a:avLst/>
          </a:prstGeom>
          <a:ln w="0">
            <a:noFill/>
          </a:ln>
        </p:spPr>
      </p:pic>
      <p:grpSp>
        <p:nvGrpSpPr>
          <p:cNvPr id="913" name="Group 36"/>
          <p:cNvGrpSpPr/>
          <p:nvPr/>
        </p:nvGrpSpPr>
        <p:grpSpPr>
          <a:xfrm>
            <a:off x="262080" y="2273400"/>
            <a:ext cx="4704840" cy="1290600"/>
            <a:chOff x="262080" y="2273400"/>
            <a:chExt cx="4704840" cy="1290600"/>
          </a:xfrm>
        </p:grpSpPr>
        <p:pic>
          <p:nvPicPr>
            <p:cNvPr id="914" name="Picture 24" descr="Fig04-16a"/>
            <p:cNvPicPr/>
            <p:nvPr/>
          </p:nvPicPr>
          <p:blipFill>
            <a:blip r:embed="rId2"/>
            <a:stretch/>
          </p:blipFill>
          <p:spPr>
            <a:xfrm>
              <a:off x="262080" y="2654280"/>
              <a:ext cx="3136320" cy="9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Rectangle 28"/>
            <p:cNvSpPr/>
            <p:nvPr/>
          </p:nvSpPr>
          <p:spPr>
            <a:xfrm>
              <a:off x="3316320" y="2273400"/>
              <a:ext cx="165060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(W1)"/>
                </a:rPr>
                <a:t>Step 1.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user presses the capital letter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(shift+D key) on the keyboard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6" name="Rectangle 30"/>
          <p:cNvSpPr/>
          <p:nvPr/>
        </p:nvSpPr>
        <p:spPr>
          <a:xfrm>
            <a:off x="7346880" y="2540160"/>
            <a:ext cx="2476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(W1)"/>
              </a:rPr>
              <a:t>Step 2.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electronic signal for the capital letter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sent to the system unit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Rectangle 31"/>
          <p:cNvSpPr/>
          <p:nvPr/>
        </p:nvSpPr>
        <p:spPr>
          <a:xfrm>
            <a:off x="5695920" y="5423040"/>
            <a:ext cx="280656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(W1)"/>
              </a:rPr>
              <a:t>Step 3.</a:t>
            </a:r>
            <a:br>
              <a:rPr sz="18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ignal for the capital letter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converted to its ASCII binary code (01000100) and is stored in memory for processing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425520" y="4038480"/>
            <a:ext cx="3136320" cy="2401560"/>
            <a:chOff x="425520" y="4038480"/>
            <a:chExt cx="3136320" cy="2401560"/>
          </a:xfrm>
        </p:grpSpPr>
        <p:pic>
          <p:nvPicPr>
            <p:cNvPr id="919" name="Picture 26" descr="Fig04-16c"/>
            <p:cNvPicPr/>
            <p:nvPr/>
          </p:nvPicPr>
          <p:blipFill>
            <a:blip r:embed="rId3"/>
            <a:stretch/>
          </p:blipFill>
          <p:spPr>
            <a:xfrm>
              <a:off x="1498680" y="4038480"/>
              <a:ext cx="2063160" cy="156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Rectangle 32"/>
            <p:cNvSpPr/>
            <p:nvPr/>
          </p:nvSpPr>
          <p:spPr>
            <a:xfrm>
              <a:off x="425520" y="5333760"/>
              <a:ext cx="2723760" cy="11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(W1)"/>
                </a:rPr>
                <a:t>Step 4.</a:t>
              </a:r>
              <a:br>
                <a:rPr sz="1800"/>
              </a:b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fter processing, the binary code for the capital letter </a:t>
              </a: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s converted to an image, and displayed on the output device.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21" name="Arc 33"/>
          <p:cNvSpPr/>
          <p:nvPr/>
        </p:nvSpPr>
        <p:spPr>
          <a:xfrm rot="4840200">
            <a:off x="7387560" y="3870000"/>
            <a:ext cx="1981440" cy="140364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1403640"/>
              <a:gd name="textAreaBottom" fmla="*/ 1404000 h 1403640"/>
            </a:gdLst>
            <a:ahLst/>
            <a:rect l="textAreaLeft" t="textAreaTop" r="textAreaRight" b="textAreaBottom"/>
            <a:pathLst>
              <a:path fill="none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</a:path>
              <a:path stroke="0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  <a:lnTo>
                  <a:pt x="8347" y="21600"/>
                </a:lnTo>
                <a:lnTo>
                  <a:pt x="-1" y="167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Arc 40"/>
          <p:cNvSpPr/>
          <p:nvPr/>
        </p:nvSpPr>
        <p:spPr>
          <a:xfrm rot="20139000">
            <a:off x="5035680" y="2260080"/>
            <a:ext cx="2158920" cy="129564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fill="none" w="29798" h="21600">
                <a:moveTo>
                  <a:pt x="-1" y="1747"/>
                </a:moveTo>
                <a:cubicBezTo>
                  <a:pt x="2689" y="594"/>
                  <a:pt x="5584" y="-1"/>
                  <a:pt x="8511" y="0"/>
                </a:cubicBezTo>
                <a:cubicBezTo>
                  <a:pt x="19026" y="0"/>
                  <a:pt x="28013" y="7572"/>
                  <a:pt x="29797" y="17935"/>
                </a:cubicBezTo>
              </a:path>
              <a:path stroke="0" w="29798" h="21600">
                <a:moveTo>
                  <a:pt x="-1" y="1747"/>
                </a:moveTo>
                <a:cubicBezTo>
                  <a:pt x="2689" y="594"/>
                  <a:pt x="5584" y="-1"/>
                  <a:pt x="8511" y="0"/>
                </a:cubicBezTo>
                <a:cubicBezTo>
                  <a:pt x="19026" y="0"/>
                  <a:pt x="28013" y="7572"/>
                  <a:pt x="29797" y="17935"/>
                </a:cubicBezTo>
                <a:lnTo>
                  <a:pt x="8511" y="21600"/>
                </a:lnTo>
                <a:lnTo>
                  <a:pt x="-1" y="174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3" name="Arc 38"/>
          <p:cNvSpPr/>
          <p:nvPr/>
        </p:nvSpPr>
        <p:spPr>
          <a:xfrm rot="9500400">
            <a:off x="3219480" y="5118120"/>
            <a:ext cx="2146320" cy="1295280"/>
          </a:xfrm>
          <a:custGeom>
            <a:avLst/>
            <a:gdLst>
              <a:gd name="textAreaLeft" fmla="*/ 0 w 2146320"/>
              <a:gd name="textAreaRight" fmla="*/ 2146680 w 214632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fill="none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</a:path>
              <a:path stroke="0" w="29634" h="21600">
                <a:moveTo>
                  <a:pt x="-1" y="1677"/>
                </a:moveTo>
                <a:cubicBezTo>
                  <a:pt x="2643" y="570"/>
                  <a:pt x="5480" y="-1"/>
                  <a:pt x="8347" y="0"/>
                </a:cubicBezTo>
                <a:cubicBezTo>
                  <a:pt x="18862" y="0"/>
                  <a:pt x="27849" y="7572"/>
                  <a:pt x="29633" y="17935"/>
                </a:cubicBezTo>
                <a:lnTo>
                  <a:pt x="8347" y="21600"/>
                </a:lnTo>
                <a:lnTo>
                  <a:pt x="-1" y="1677"/>
                </a:lnTo>
                <a:close/>
              </a:path>
            </a:pathLst>
          </a:custGeom>
          <a:noFill/>
          <a:ln w="254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7D28A76-5A08-4423-AE4C-6A3CFF7FDF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2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verview of Softwar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820440" y="1833120"/>
            <a:ext cx="8264520" cy="4257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3000"/>
          </a:bodyPr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omputer programs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quences of instructions for the comput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ocumentation:</a:t>
            </a:r>
            <a:r>
              <a:rPr b="0" i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scribes program functions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software:</a:t>
            </a:r>
            <a:r>
              <a:rPr b="0" i="1" lang="en-US" sz="3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ordinates the activities of hardware and progra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4800" indent="-334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Application soft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helps users solve particular probl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299841A-F248-4E67-923B-C23699CC2C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pporting Individual, Group, and Organizational Goal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phere of influenc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 scope of problems and opportunities addressed by a particular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sonal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orkgrou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D4A63C7-1842-44C3-825D-B4BB45C835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Why Learn about Hardware and Software?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componen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represent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verview of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C572D7A-23E4-43C1-B3D4-A30DE7C0593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upporting Individual, Group, and Organizational Goals (continued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2" name="Rectangle 6"/>
          <p:cNvSpPr/>
          <p:nvPr/>
        </p:nvSpPr>
        <p:spPr>
          <a:xfrm>
            <a:off x="495360" y="55627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fying Software by Type and Sphere of Infl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3" name="Picture 8" descr="Table 2-4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30120" y="2540160"/>
            <a:ext cx="9309240" cy="2273040"/>
          </a:xfrm>
          <a:prstGeom prst="rect">
            <a:avLst/>
          </a:prstGeom>
          <a:ln w="0">
            <a:noFill/>
          </a:ln>
        </p:spPr>
      </p:pic>
      <p:sp>
        <p:nvSpPr>
          <p:cNvPr id="93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49868CB-ABAB-4729-A8CB-B0B062557D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1. Systems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ntrolling operations of computer hardware is one of the most critical functions of systems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so supports application programs’ problem-solving capabili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ifferent types of systems software includ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tility progra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E2E7B5E-7FEE-40C7-A46F-F10D8FD1DF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erating system (OS): programs that manages the resources of a computer and interfaces the hardware with applications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Windows, UNIX, LINUX, MacOS, …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97760CC-4C96-4CDC-935C-A5B085BF19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42" name="Picture 6" descr="Fig 2-8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88960" y="2235240"/>
            <a:ext cx="8720280" cy="2477880"/>
          </a:xfrm>
          <a:prstGeom prst="rect">
            <a:avLst/>
          </a:prstGeom>
          <a:ln w="0">
            <a:noFill/>
          </a:ln>
        </p:spPr>
      </p:pic>
      <p:sp>
        <p:nvSpPr>
          <p:cNvPr id="943" name="Rectangle 3"/>
          <p:cNvSpPr/>
          <p:nvPr/>
        </p:nvSpPr>
        <p:spPr>
          <a:xfrm>
            <a:off x="495360" y="5181480"/>
            <a:ext cx="8667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Role of Systems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5E9A55D-7693-404F-8F3F-79EA58963C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tivities performed by the operating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 common computer hardware fun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a user interface and input/output managem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a degree of hardware independen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system memor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A4410E3-3AA2-4CFD-AAC7-94A0EF3010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tivities performed by the operating system (continue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processing ta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 networking capabil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trol access to system resour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 fil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191463E-6004-4D0F-944C-0433AEA579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mon hardware func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et input from keyboard or some other input devi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trieve data from di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ore data on disk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isplay information on a monitor or print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1F73C30-650F-4620-BD96-FBC8EE52E0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individuals to access and command the computer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Command-based user interface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s text comman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Graphical user interface (GUI)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s icons and menus to send commands to the computer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200889A-26E8-4D17-8ABE-2E6B626AF7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independ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Application program interface (API): 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llows applications to make use of the operating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emory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verts a user’s request for data or instructions to the physical location where the data or instructions are stor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53D5346-F532-4161-B764-9D228E20D8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1" name="Picture 5" descr="Fig 4-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889360" y="1752480"/>
            <a:ext cx="4883040" cy="373392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6"/>
          <p:cNvSpPr/>
          <p:nvPr/>
        </p:nvSpPr>
        <p:spPr>
          <a:xfrm>
            <a:off x="1422360" y="5702400"/>
            <a:ext cx="711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gram Interface Links Application Software to the Operating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E6C5C84-43AC-4CCB-8D3B-7415C6EE9B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hy Learn About Hardware and Software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1254240" y="146484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 can improve productivity, increase revenue, reduce costs, and provide bett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rs are expected to know about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help define business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6640" indent="-286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sk questions and evaluate options when buy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is necessary for any compute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software needed for input, calculations,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oftware aids in produ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CD1EDF0-D85C-4B1C-960A-2B449FD7011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perat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ccess to system resourc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tection against unauthorized acc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Logins and password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le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sures that files in secondary storage are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vailable when needed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624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Protected from access by unauthorized user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EED6C32-FCA8-498C-B300-64FF8D740C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urrent Operating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68" name="Picture 6" descr="Table 2-5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40040" y="1663560"/>
            <a:ext cx="5560920" cy="4021200"/>
          </a:xfrm>
          <a:prstGeom prst="rect">
            <a:avLst/>
          </a:prstGeom>
          <a:ln w="0">
            <a:noFill/>
          </a:ln>
        </p:spPr>
      </p:pic>
      <p:sp>
        <p:nvSpPr>
          <p:cNvPr id="969" name="Rectangle 3"/>
          <p:cNvSpPr/>
          <p:nvPr/>
        </p:nvSpPr>
        <p:spPr>
          <a:xfrm>
            <a:off x="380880" y="5854680"/>
            <a:ext cx="91630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pular Operating Systems Across All Three Spheres of Influ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EC2DC29-F796-44D7-B8D6-5F80226DB7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ive users the ability to solve problems and perform specific ta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teract with systems software; systems software then directs the hardware to perform task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7F24281-D030-4777-A6E7-14B15F40C8E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es and Functions of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Proprietary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nique program for a specific application, usually developed and owned by a single compan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ff-the-shelf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isting software program that can be purchas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ustomized packa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2ECCF9A-D0E5-441B-983F-76DEF4B7ED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rves the needs of an individual us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cludes personal productivity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ables users to improve their personal effectivenes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0">
              <a:spcBef>
                <a:spcPts val="726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630FE76-59D2-4672-A132-C855654E60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1" name="Picture 10" descr="Table 2-7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163520" y="1574640"/>
            <a:ext cx="7790040" cy="4324680"/>
          </a:xfrm>
          <a:prstGeom prst="rect">
            <a:avLst/>
          </a:prstGeom>
          <a:ln w="0">
            <a:noFill/>
          </a:ln>
        </p:spPr>
      </p:pic>
      <p:sp>
        <p:nvSpPr>
          <p:cNvPr id="982" name="Rectangle 3"/>
          <p:cNvSpPr/>
          <p:nvPr/>
        </p:nvSpPr>
        <p:spPr>
          <a:xfrm>
            <a:off x="495360" y="600696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7: Examples of Personal Productivity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F68742C-C0ED-4129-8AFB-AB66830923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85" name="Picture 8" descr="Table 2-7b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860400" y="1790640"/>
            <a:ext cx="8299440" cy="3898800"/>
          </a:xfrm>
          <a:prstGeom prst="rect">
            <a:avLst/>
          </a:prstGeom>
          <a:ln w="0">
            <a:noFill/>
          </a:ln>
        </p:spPr>
      </p:pic>
      <p:sp>
        <p:nvSpPr>
          <p:cNvPr id="986" name="Rectangle 3"/>
          <p:cNvSpPr/>
          <p:nvPr/>
        </p:nvSpPr>
        <p:spPr>
          <a:xfrm>
            <a:off x="412920" y="5943600"/>
            <a:ext cx="9162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Personal Productivity Software (continu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5F529EE-2C27-4821-A4D1-67580237C7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ftware suite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single application programs packaged in a bund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oft Office: most popular general-purpose software su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general-purpose software suites: Corel’s WordPerfect Office, Lotus SmartSuite, Sun Microsystems’s StarOff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grated application packages: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fer a range of capabilities for less money than software sui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Microsoft 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D5E7491-E2D9-49A2-9795-EC87F0D657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ersonal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2" name="Picture 4" descr="Table 4-6"/>
          <p:cNvPicPr/>
          <p:nvPr/>
        </p:nvPicPr>
        <p:blipFill>
          <a:blip r:embed="rId1"/>
          <a:stretch/>
        </p:blipFill>
        <p:spPr>
          <a:xfrm>
            <a:off x="452520" y="2120760"/>
            <a:ext cx="8989920" cy="292752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5"/>
          <p:cNvSpPr/>
          <p:nvPr/>
        </p:nvSpPr>
        <p:spPr>
          <a:xfrm>
            <a:off x="495360" y="5587920"/>
            <a:ext cx="89154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8: Major Components of Leading Software Sui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1A439BF-6AA5-4F61-98E0-137805633FF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orkgroup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77440" y="1913040"/>
            <a:ext cx="8750520" cy="4178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Workgroup application software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upport teamwork, whether people are in the same location or dispersed around the worl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Group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software that helps groups of people work together more efficiently and effectivel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477F8D5-46B4-4BC0-962D-AC312A81F1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hoosing the right computer hardware requires understanding its relationship to the information system and needs of th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Hardware objectives are subordinate to, but supportive of, the information system and the current and future needs of th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77F4123-9A71-440D-B70C-0D63C7B6E9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Application Softwar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that benefits an entir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erprise resource planning (ERP) softwar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programs that manage a company’s vital business operations for an entire multisite, global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516683E-F9B1-43CA-8909-F51AE33238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Application Softwar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02" name="Picture 4" descr="Table 4-8"/>
          <p:cNvPicPr/>
          <p:nvPr/>
        </p:nvPicPr>
        <p:blipFill>
          <a:blip r:embed="rId1"/>
          <a:stretch/>
        </p:blipFill>
        <p:spPr>
          <a:xfrm>
            <a:off x="2063880" y="1803240"/>
            <a:ext cx="5645160" cy="391176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5"/>
          <p:cNvSpPr/>
          <p:nvPr/>
        </p:nvSpPr>
        <p:spPr>
          <a:xfrm>
            <a:off x="495360" y="594360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of Enterprise Application Soft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9B3A5F0-7FF5-4B32-B506-594EC4F8E0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4.2.4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pplication Software for Information, Decision Support, and Specialized Purpo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77440" y="1981080"/>
            <a:ext cx="8750520" cy="4572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Used in businesses of all sizes and types to increase profits or reduce co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vailable in every industr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xample: analysis to increase the cure rate for cance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7104E17-5822-45E3-A208-1E6FFBD4F3C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gramming Languag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keywords, symbols, and a system of rules for constructing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humans to communicate instructions to be executed by a compu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: a set of rules associated with 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languages have characteristics that make them appropriate for particular types of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78B4B1F-BCBA-41F7-8EEC-E746BE4FDC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gramming Language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2" name="Picture 4" descr="Table 4-9"/>
          <p:cNvPicPr/>
          <p:nvPr/>
        </p:nvPicPr>
        <p:blipFill>
          <a:blip r:embed="rId1"/>
          <a:stretch/>
        </p:blipFill>
        <p:spPr>
          <a:xfrm>
            <a:off x="1003320" y="2057400"/>
            <a:ext cx="7912080" cy="3144960"/>
          </a:xfrm>
          <a:prstGeom prst="rect">
            <a:avLst/>
          </a:prstGeom>
          <a:ln w="0">
            <a:noFill/>
          </a:ln>
        </p:spPr>
      </p:pic>
      <p:sp>
        <p:nvSpPr>
          <p:cNvPr id="1013" name="Rectangle 5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ble 2.11: The Evolution of Programming Languag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9F94245-1508-448E-BE63-9A15276218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Issues and Trend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issues and trends receiving increasing atten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oftware bug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pyrights and licen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oftware upgrad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lobal software suppo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6163B86-0C28-4CBC-8D18-7CEA0EC024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Bug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ftware bu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efect in a computer program that keeps it from performing as it is designed to per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ps for reducing impact of software bugs inclu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ister all software so that you can receive bug alerts, fixes, and pa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the manual or read-me files for work-arou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support area of the manufacturer’s Web site for pa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all the latest software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9DDC7A7-5102-4161-ADC9-175A4395AB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pyrights and Licens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software products are protected by law using copyright or licensing provi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ome cases, you are given unlimited use of software on one or two comp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ther cases, you pay for your usage—if you use the software more, you pay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software now requires that you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giste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ctivat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before it can be fully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3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9040567-1812-45C7-96A9-C65ED67B4D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oftware Upgrade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companies periodically revise their programs and sell new ver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Revised softwar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y offer new and valuable enhancemen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y just contain complex program code changes that offer little in terms of additional capabiliti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oftware upgrades usually cost much less than the original purchase pri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6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C3226B4-CDC1-489E-AA58-F3ACC2F7D3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Global Software Suppor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large, global companies, getting adequate software support at all their locations for their standardized, companywide systems is a big challen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Large vendors such as Sybase, IBM, and Hewlett-Packard typically contract out support for their software to local provide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998FDEC-129F-4A94-8036-DDBBE34522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Hardware Component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92" name="Picture 9" descr="Fig 2-1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932120" y="1612800"/>
            <a:ext cx="6414840" cy="4102200"/>
          </a:xfrm>
          <a:prstGeom prst="rect">
            <a:avLst/>
          </a:prstGeom>
          <a:ln w="0">
            <a:noFill/>
          </a:ln>
        </p:spPr>
      </p:pic>
      <p:sp>
        <p:nvSpPr>
          <p:cNvPr id="793" name="Rectangle 4"/>
          <p:cNvSpPr/>
          <p:nvPr/>
        </p:nvSpPr>
        <p:spPr>
          <a:xfrm>
            <a:off x="495360" y="5791320"/>
            <a:ext cx="89154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 Compon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4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CF03BB9-B6CB-4B2F-BCA1-18D6DC8CAA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: central processing unit (CPU), input and output devices, communications devices, primary storage devices, and secondary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rocessing: simultaneous execution of two or more instr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oftware: coordinates the activities of hardware and progra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software: helps users solve probl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ng system (OS): set of computer programs that control the hardware and interface wit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ming languages: allow humans to communicate instructions to be executed by a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9200" indent="0">
              <a:spcBef>
                <a:spcPts val="601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94AFE00-504B-4E94-B7EA-8E58E1EC60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Hardware Component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processing unit (CP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thmetic/logic unit (ALU): performs calculations and makes logical compari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unit: accesses, decodes and coordinates data in CPU and other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memory: holds program instructions and data for processin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orage: more permanent sto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and output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59977BE-9698-43FE-B4B2-440C8BCFDA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 Uni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4600" y="1833120"/>
            <a:ext cx="3952800" cy="4668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omponents inside the system unit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er c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nd 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deo 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ive b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wer supp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00" name="Group 47"/>
          <p:cNvGrpSpPr/>
          <p:nvPr/>
        </p:nvGrpSpPr>
        <p:grpSpPr>
          <a:xfrm>
            <a:off x="2895840" y="1600200"/>
            <a:ext cx="6752520" cy="4362480"/>
            <a:chOff x="2895840" y="1600200"/>
            <a:chExt cx="6752520" cy="4362480"/>
          </a:xfrm>
        </p:grpSpPr>
        <p:pic>
          <p:nvPicPr>
            <p:cNvPr id="801" name="Picture 46" descr="04-069_04-02"/>
            <p:cNvPicPr/>
            <p:nvPr/>
          </p:nvPicPr>
          <p:blipFill>
            <a:blip r:embed="rId1"/>
            <a:stretch/>
          </p:blipFill>
          <p:spPr>
            <a:xfrm>
              <a:off x="3879720" y="1752480"/>
              <a:ext cx="5768640" cy="421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Rectangle 26"/>
            <p:cNvSpPr/>
            <p:nvPr/>
          </p:nvSpPr>
          <p:spPr>
            <a:xfrm>
              <a:off x="2895840" y="1600200"/>
              <a:ext cx="10051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wer suppl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Rectangle 27"/>
            <p:cNvSpPr/>
            <p:nvPr/>
          </p:nvSpPr>
          <p:spPr>
            <a:xfrm>
              <a:off x="3470040" y="3352680"/>
              <a:ext cx="4856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rt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Rectangle 28"/>
            <p:cNvSpPr/>
            <p:nvPr/>
          </p:nvSpPr>
          <p:spPr>
            <a:xfrm>
              <a:off x="7765920" y="1600200"/>
              <a:ext cx="81000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ive bays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Rectangle 29"/>
            <p:cNvSpPr/>
            <p:nvPr/>
          </p:nvSpPr>
          <p:spPr>
            <a:xfrm>
              <a:off x="8838360" y="2438280"/>
              <a:ext cx="762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Rectangle 30"/>
            <p:cNvSpPr/>
            <p:nvPr/>
          </p:nvSpPr>
          <p:spPr>
            <a:xfrm>
              <a:off x="8921520" y="3352680"/>
              <a:ext cx="6883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31"/>
            <p:cNvSpPr/>
            <p:nvPr/>
          </p:nvSpPr>
          <p:spPr>
            <a:xfrm>
              <a:off x="8178840" y="5486400"/>
              <a:ext cx="84384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nd ca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Rectangle 32"/>
            <p:cNvSpPr/>
            <p:nvPr/>
          </p:nvSpPr>
          <p:spPr>
            <a:xfrm>
              <a:off x="3969360" y="5562720"/>
              <a:ext cx="817920" cy="25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 car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Line 35"/>
            <p:cNvSpPr/>
            <p:nvPr/>
          </p:nvSpPr>
          <p:spPr>
            <a:xfrm>
              <a:off x="3714840" y="1905120"/>
              <a:ext cx="10731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Line 36"/>
            <p:cNvSpPr/>
            <p:nvPr/>
          </p:nvSpPr>
          <p:spPr>
            <a:xfrm flipH="1">
              <a:off x="7512480" y="1828800"/>
              <a:ext cx="412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Line 37"/>
            <p:cNvSpPr/>
            <p:nvPr/>
          </p:nvSpPr>
          <p:spPr>
            <a:xfrm flipV="1">
              <a:off x="7512480" y="1752120"/>
              <a:ext cx="495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12" name="Group 43"/>
            <p:cNvGrpSpPr/>
            <p:nvPr/>
          </p:nvGrpSpPr>
          <p:grpSpPr>
            <a:xfrm>
              <a:off x="3962520" y="3123720"/>
              <a:ext cx="466920" cy="457560"/>
              <a:chOff x="3962520" y="3123720"/>
              <a:chExt cx="466920" cy="457560"/>
            </a:xfrm>
          </p:grpSpPr>
          <p:sp>
            <p:nvSpPr>
              <p:cNvPr id="813" name="Line 39"/>
              <p:cNvSpPr/>
              <p:nvPr/>
            </p:nvSpPr>
            <p:spPr>
              <a:xfrm flipV="1">
                <a:off x="3962520" y="3123720"/>
                <a:ext cx="32940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4" name="Line 40"/>
              <p:cNvSpPr/>
              <p:nvPr/>
            </p:nvSpPr>
            <p:spPr>
              <a:xfrm>
                <a:off x="3962520" y="3429000"/>
                <a:ext cx="32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5" name="Line 41"/>
              <p:cNvSpPr/>
              <p:nvPr/>
            </p:nvSpPr>
            <p:spPr>
              <a:xfrm>
                <a:off x="3962520" y="3429000"/>
                <a:ext cx="4122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6" name="Line 42"/>
              <p:cNvSpPr/>
              <p:nvPr/>
            </p:nvSpPr>
            <p:spPr>
              <a:xfrm flipV="1">
                <a:off x="3962520" y="3161880"/>
                <a:ext cx="466920" cy="26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817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A6E672C0-FFD5-4902-9025-721E915FCF2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Processing Characteristics and Function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77440" y="16765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9000"/>
          </a:bodyPr>
          <a:p>
            <a:pPr marL="356400" indent="-356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lock speed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ries of electronic pulses produced at a predetermined rate that affects machine cycle tim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ock speed is often measured in megahertz (MHz), or millions of cycles per secon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0040" indent="-29520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lock speed for personal computers is in the multiple gigahertz (GHz), or billions of cycles per second, rang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Footer Placeholder 3"/>
          <p:cNvSpPr/>
          <p:nvPr/>
        </p:nvSpPr>
        <p:spPr>
          <a:xfrm>
            <a:off x="0" y="6603840"/>
            <a:ext cx="9906120" cy="241560"/>
          </a:xfrm>
          <a:prstGeom prst="rect">
            <a:avLst/>
          </a:prstGeom>
          <a:solidFill>
            <a:srgbClr val="ffe9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2 – Hardware and Software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703CC3F-2183-485E-94A1-831E67BE25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shraf Youssef</cp:lastModifiedBy>
  <cp:lastPrinted>2000-09-19T13:45:16Z</cp:lastPrinted>
  <dcterms:modified xsi:type="dcterms:W3CDTF">2017-09-24T08:26:23Z</dcterms:modified>
  <cp:revision>329</cp:revision>
  <dc:subject/>
  <dc:title>Abstract View of System Components</dc:title>
</cp:coreProperties>
</file>