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53AF-9B82-450E-92E0-C2488C1C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914F-79B0-4F1B-95E7-386A9AA71B5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E90-2C4E-4FDA-A5D9-8BDE15234C6D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A83-30C3-4DAC-98E0-68A5EFB9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575-ECAD-41A8-93F4-BBE69F1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FDF-F3EB-4D5D-BB6C-E1EFC5A2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F45-EF2E-4EA7-BA0A-C75B3F83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20D-0FBF-429B-9E13-B00ED6DB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8C2-9150-4532-9C31-2517DDED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9A26-E6F2-4903-81C8-B8F3B10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944-62EA-4F39-8D69-E57D2FC3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D4C7-9253-4206-8049-5A24AD3D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E6DB-0E23-45A1-96F2-A9B06338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E019-F0E2-4781-9E45-24881B1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8B5-B086-467C-B9A1-076807EC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45B7-2175-41D1-BC5B-0834C41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3E3-4995-47EC-B722-CD00CD3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E3D2-2D2A-4D07-9230-CD31271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D6A1-7372-444A-B10A-8FC46A1C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545F-70E3-4E76-B913-B9F5457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ED5A-5872-4C69-A1BF-A42FDF11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929E-4DCC-4A19-A238-7A8275A7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0208-FE8D-4E8A-BA78-6F20161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1E0D-28A4-4C8C-833C-7A3B925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651C-492C-4E55-A34D-E03D3C2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303-A1BC-4CAE-81A6-17390A7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B3B4-F4EE-44A5-AAD9-57DDB64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E934-A102-4885-A433-75EC113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435B-6315-4B15-B192-788F6E0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8BE3-4CED-4519-8F7E-5CC97819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FDCE-268B-47FC-AA2C-89AA11B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CF38-827A-4183-A3A6-BE8A040A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A29F-63D9-482A-9798-82DB1493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59BB-4DF7-414C-9B37-BADA8EB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5ABB-74CC-449B-B129-D8AF6302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7D1A-1D13-47B7-A093-E9649B8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3ED-730A-40F8-A623-57DC6C5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10FC-B1FC-4FD4-9E34-2897A327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187D-1BAB-4530-8993-60E2EE8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F1E-57BD-4A7E-8B6A-9824AD45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27104-FCCD-47C3-86DB-29B04CB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4C99-4F64-4989-A0F4-ED76B15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D450-B6EB-4B80-BBB7-88F1BA2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A058-0F19-444F-8459-DFBAD9A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5BE1-3313-405B-9415-81FFAFF2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1019-010A-4140-B797-65F118C9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1AD1-4027-4840-AA89-75AD787F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A4D-65FB-4990-AB8E-0A127AE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B202-4230-4BFC-AE70-0659237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DE6A3-8729-4E1D-B6BB-811A1FF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67F8-94F0-46EF-9BEF-EF328D85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2639-F371-4BDD-A580-A99AA9EE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2371-D1BB-4C6B-BB87-42AC00D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3BA5-28EE-419B-B0F4-775B646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62D6-F138-4597-A840-8A9A39B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2DCF-61EC-48FB-9A27-05EED5D5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DCFF2-FCCB-46E6-B16B-E2851E86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9EED-7862-4055-8198-F152204E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C45-C5D1-4115-AE2B-3967663B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4F68-716A-48FD-AC0A-C30947C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863-1821-458C-80A7-AA56B5D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D44-C8EA-4C2C-A2AD-E80CCE6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928-817A-441B-9AA7-E1084AC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61E-E4B5-4198-9198-D012F566B7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E63-6E8A-4348-9E17-896CCEF7CB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4C5-06B7-4115-8887-992D102B6B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337-B0D1-4B69-8411-EC912E6FC5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3D6A-0E24-4427-8DC4-A36C101554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Matrix Algebra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467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28600" y="45252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Transpo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2504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Matrices and Elementary Row Oper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ric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Augmented Matrix and Coefficient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1981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6400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4647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37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45720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int: Use the transformations 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4313160" y="5400720"/>
                <a:ext cx="86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5562720" y="5456160"/>
                <a:ext cx="10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768240" y="6013440"/>
                <a:ext cx="113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2286000" y="5943600"/>
                <a:ext cx="121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25780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8610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Example 1 - Solu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 of dot produ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05-01T08:03:49Z</cp:lastPrinted>
  <dcterms:modified xsi:type="dcterms:W3CDTF">2017-02-13T21:01:59Z</dcterms:modified>
  <cp:revision>289</cp:revision>
  <dc:subject/>
  <dc:title>PowerPoint Presentation</dc:title>
</cp:coreProperties>
</file>