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478C-A518-438D-96AD-D0B165576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07A8-38AF-484E-9246-6F42519CCA32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217E-6270-44D7-B0B5-3404B410B723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969-2730-4DD9-B6E2-2904A7B3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DDB3-245A-4D8D-9DB2-0FDD4D63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0D6-8B27-46AB-8DB2-39B3F241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D30-F96D-4D83-8C28-41E56D42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1AEE-D8C7-4F61-A334-06CE0484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9667-A066-4CCA-A5C1-AB88C9CA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C9D7-B3B2-4945-AC7C-CB9118CC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7767-6FF8-443B-89AD-93498DEC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7EDB-E83B-4DF2-97CB-16417F4E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0CEB-6135-4ED0-B1BD-895EF807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9906-1953-4BAB-99FA-012CA2A5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CC74-67D8-4321-AC9B-5AB6EB9C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8EC2-9E2F-4396-B3EA-41300ACD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6165-AA3A-4B82-A3DD-BFB8016C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2DB2-F6DA-4ECB-93D3-A9E5CAF3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94A2-9987-444E-B095-EB77F356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6D9E-D589-47F7-8915-20335F09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A72D0-2DA2-4EB3-9C15-83B90EDD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C14E0-6BD5-46C1-ABFC-17DACB1B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E9451-440F-4B3E-8087-993C0075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83E92-50C9-4784-94F3-36A6E66C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662EF-CE67-4C34-A9A2-461A51B2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D531-C4FE-430A-B48A-1DAD08BA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CE948-A225-467C-B5C0-C6478C60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CAF75-7AE7-4F59-B2A4-0195224F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C54C1-C2C1-4E68-A18B-2E73E72B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417B4-72DD-48B6-AE1F-10D32A0A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C370C-56DA-4328-AEDE-D9B59CD6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263DF-5A0A-454C-A22B-18F0C22F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4AA2B-DDB2-407A-B7D0-0CD30C91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6C3A7-AC7C-4315-B627-E7B04B09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F6ED0-B1F8-43CC-8026-C880D81B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AE329-B521-4ACB-9A15-688DE71C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FD8-D0F3-43B4-9D01-0268BF9E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548CF-2747-4045-B4B2-D9A54C67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44163-CDEB-424A-9926-F56B86A0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6B24A-B1B1-4B82-AD0D-9F4CCBA5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7314D-8F75-4E54-BF77-7F7445B7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0FD33-DF6A-4AE1-986C-7799E9E7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0EC70-E60E-47DB-B3B1-032B9256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991BE-3587-4A35-B55D-90D27B72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A4879-7155-488D-8D44-2982BCB1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D63BE-2EF2-4D97-A2A7-7F3052FA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24B15-521C-46B5-A202-F9F939EA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DF0-742F-4E8F-AAFA-A5DD504D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BDE05-CEF2-43C2-B54A-494F7749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9517E-0846-40D1-B2D9-094F8DA0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40825-3055-4B68-B919-679635EF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78493-5816-40CA-B85E-3FE251EE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21714-671B-482F-A28F-A11116A6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A427A-2B77-48FC-AB97-3145BCA3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56018-ADCC-4081-9E22-EE81AB7D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4EF63-18D4-4034-8BEF-6ED4293C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D17B1-48E8-4132-8BCE-C2B1706D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98ABC-830D-443C-B835-B3A38E28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126-E994-4A93-9D5D-150C4899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F3AE0-46D7-4472-93BD-0ACD5986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EED-D4B4-4A6E-98B4-BF952079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04C-23FD-4AA9-843A-5341C880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E00-7BE5-452F-AF9D-1A1C3F9D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6AD2-7AE5-4530-9ADD-DE8AFBFB22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DD8E-791C-4E7C-8BAB-21424A4428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1A90-E4B7-48A9-AE17-BC95FFC50D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D07D-3168-4014-B82E-448E5F2DDBF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EF3F-C6B7-4484-A1EE-640CD67094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52560" y="2286000"/>
            <a:ext cx="723888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57576e"/>
                </a:solidFill>
                <a:latin typeface="Arial"/>
              </a:rPr>
              <a:t>Matrix Algebra 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077320" cy="3429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7467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28600" y="452520"/>
            <a:ext cx="876312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Properties of Transpos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925040" cy="3200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80010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952560" y="2286000"/>
            <a:ext cx="723888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57576e"/>
                </a:solidFill>
                <a:latin typeface="Arial"/>
              </a:rPr>
              <a:t>Matrices and Elementary Row Operation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Matric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01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Augmented Matrix and Coefficient Matrix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772400" cy="1600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7696080" cy="1981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3"/>
          <a:stretch/>
        </p:blipFill>
        <p:spPr>
          <a:xfrm>
            <a:off x="1371600" y="1295280"/>
            <a:ext cx="64008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4647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685800" y="5257800"/>
            <a:ext cx="7924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atrix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8077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81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5943600" cy="533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8381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437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685800" y="502920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8001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45720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"/>
          <p:cNvSpPr/>
          <p:nvPr/>
        </p:nvSpPr>
        <p:spPr>
          <a:xfrm>
            <a:off x="457200" y="5334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int: Use the transformations </a:t>
            </a:r>
            <a:endParaRPr b="0" lang="en-US" sz="20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4313160" y="5400720"/>
                <a:ext cx="868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5562720" y="5456160"/>
                <a:ext cx="1096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5"/>
              <p:cNvSpPr txBox="1"/>
              <p:nvPr/>
            </p:nvSpPr>
            <p:spPr>
              <a:xfrm>
                <a:off x="768240" y="6013440"/>
                <a:ext cx="1136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7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2286000" y="5943600"/>
                <a:ext cx="1219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381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77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153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5257800" cy="990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2438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228600" y="3124080"/>
            <a:ext cx="8610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Example 1 - Solution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81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5345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Example of dot produc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46784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86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09:25Z</dcterms:created>
  <dc:creator>Bokkasam Sasi Bokkasam</dc:creator>
  <dc:description/>
  <dc:language>en-US</dc:language>
  <cp:lastModifiedBy>Nadia MS</cp:lastModifiedBy>
  <cp:lastPrinted>2016-05-01T08:03:49Z</cp:lastPrinted>
  <dcterms:modified xsi:type="dcterms:W3CDTF">2017-02-13T21:01:59Z</dcterms:modified>
  <cp:revision>289</cp:revision>
  <dc:subject/>
  <dc:title>PowerPoint Presentation</dc:title>
</cp:coreProperties>
</file>