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8CC59-5D81-45E8-A602-11C7E63E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579B4-324B-4D7D-AB46-2EEC8AA8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5440A-2CB4-48E3-A319-B231740C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ACC71-A011-41AC-99C5-AAD4FEEA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2D47-59F3-43BD-88B1-DD22E3EB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7B35-6081-40E1-819E-D4438F88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6228-3104-48FF-8E40-FAC139EF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238D-3946-4E51-8B4D-971B3E7F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75F9-BA9D-4848-9C30-E7A03452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5B96-09E5-4827-9149-2E4C88B5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76D0-7687-45BC-BCAC-BDE362B3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CB5BF-391A-4660-B46A-D147828D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E61F-F895-4621-B1E2-0E0F31F0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DD2F-378A-4B6A-ABF1-50FEBC4B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902D-3D94-4EE5-8B7D-687047BD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DEF7-FCB8-4988-9CC5-86CE9CDC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BBCD-39DD-44A1-9946-AFFB8CDD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8E0E6-2B17-4B55-83B2-B2FF5641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192E0-C68B-44F0-B3A0-0D05BC92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116E3-CA7B-42AD-9EA3-7BA93CEC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DEC69-35CC-40B3-860E-496E73BA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0191-628C-4302-9A11-3A7B25F1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D3E9-E9E4-4027-9A5F-817D8AA9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CDE8F-F690-4016-8428-F31AC0A2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CFAF-6F91-40F8-9966-810EC7BE164B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D4EB-D74A-4AB6-AA59-C937D3C7F96B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terile Products Lab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PHT 434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64008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Sterile Area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lean Area Separ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- Positive pressure differential between rooms of different cla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 Use of a double-door, airlocks or integrated sterilizer helps ensure direct product flow, often from a lower to a higher classified are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DE3E5-E498-4CA4-80D2-CAE2F7661F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67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PA-filtered air should be supplied 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velocity sufficient to sweep particles away from the filling/closing are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intain unidirectional airflow during ope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CCCF0-D63F-46C1-9BF8-53F6A4D481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mbrane filters can be used to filter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pressed ga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 meet an appropriate high-quality standar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filters are often used to produce a sterile compressed gas to conduct operations involving sterile materials, such as components and equipmen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CC0A5-6DDE-4B3C-8AF2-1BED7CB647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Desig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eptic processes are designed to minimize exposure of sterile articles to the potential contamination hazards of the manufacturing oper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th personnel and material flow should be optimized to prevent unnecessary activities that could increase the potential for introducing contaminants to exposed product, container-closures, or the surrounding environmen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2C527-4097-44FB-BCE3-BF9A350424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leading into class A and B environment should be designed as airl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should be physical separation of the different stages of changing to minimize microbial and particulate contamination of clean room clot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for all classes should be flushed effectively with filtered ai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33D71-CC5E-4387-B6F7-F7C43F1EEE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inal stage of the changing room should be the same grade as the area into which it lea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use of separate changing rooms for entering and leaving clean areas is sometimes desirab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general, hand washing facilities should be provided only in the first stage of the changing roo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360EE-AFC0-472C-B822-7BD492AA8C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quip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be appropriately designed to facilitate ease of steriliz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not obstruct airflow and, in critical areas, its design should not disturb unidirectional airflo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6FD4D-D3E2-47B2-8449-BEB818C7FB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GMP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wning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eriliz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n- shed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ver skin and hair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ce-masks, hoods, beard/moustache covers, protective goggles, and elastic gloves are examples of common elements of gow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13148-A26C-463E-B0E8-F1112EAC59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39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ber of personnel per a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6FBE-54D9-4DCA-AF23-B2EB544D1C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onents, containers, clo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important to characterize the microbial content (e.g., bioburden, endotoxin) of each component that could be contaminated and establish appropriate acceptance limits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sterilization preparation of glass containers usually involves a series of wash and rinse cycles. These cycles serve an important role in removing foreign matter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should be subjected to sterilization and depyrogenation proce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1A2B5-D984-4335-B12F-A25D97CF6E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erilizatio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s to any process that effectively kills or eliminates living microorganisms. It is not absolute. It is acceptable when it achieves killing effect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.e. every 1 million sterile items have a chance for only 1 item to be non-sterile.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ean roo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has a controlled level of contamination that is specified by the number of particles per cubic meter at a specified particle siz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aminar flow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 airflow moving in a single direction and in parallel layers at constant velocity from the beginning to the end of a straight line vector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18D7F-3285-40A4-8262-CF59A04F10B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w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techn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units are purpose built machines in which, in one continuous oper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tainers are formed from a thermoplastic granulate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lled with the sterile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d then seal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 by the one automatic mac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E2B52-6277-4869-B442-06EB83945E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PA filters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 Efficiency Particulate Air: 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7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3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LPA filte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Ultra Low Particulate Air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99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12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irlock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mall room with interlocked doors, constructed to maintain air pressure control between adjoining rooms (generally with different air cleanliness standards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3E12A-5188-48A4-BFBF-45C52B6218C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ioburde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otal number of microorganisms associated with a specific item prior to steriliz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lony Forming Unit (CFU)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microbiological term that describes the formation of a single macroscopic colony after the introduction of one or more microorganisms to microbiological growth media.  One colony forming unit is expressed as 1 CF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ndotoxi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pyrogenic product (e.g., lipopolysaccharide) present in the bacterial cell wall.  Endotoxin can lead to reactions in patients receiving injections ranging from fever to dea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2FF92-83CF-4163-9258-71B898276B3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ods of sterilization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erminal steril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, container, and closure have low bioburden, but they are not steri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 in its final container is then subjected to a sterilization process such as heat or irradiation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septic con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rug product, container, and closure are first subjected to sterilization methods separately, as appropriate, and then brought togeth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70471-15D1-40FB-98B1-0D7C668A4B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ee classification system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- US Federal Standard 209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, 1000, 10000, 100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 means: not more than 1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O 14644-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, ISO 6, ISO 7, ISO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uropean GMP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, B, C, 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388B-4AB8-4884-BF9D-8696BD438A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3 classification syste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 = ISO 5 = Class 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0 = ISO 6 = Class 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,000 = ISO 7 = Class 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,000 = ISO 8 = Class 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100 = ISO 5 = Class A: contain less than 1 CFU/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FU/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3E91A-485B-4CCF-9F0A-1DFA54D730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ritical Area (class 100) (ISO 5) (Class A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pera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- Sterile ingredients add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- fil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- clos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51280" y="1413000"/>
            <a:ext cx="529272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589C6-1492-47B2-A058-2B734AD14C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Supporting Clean Area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nction as zones in which non-sterile components, formulated products, in-process materials, equipment, and container/closures are prepared, held, or transferred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DA recommends that the area immediately adjacent to the aseptic processing line meet, at a minimum, Class 10,000 (ISO 7) standards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 area classified at a Class 100,000 (ISO 8)  is appropriate for less critical activities (e.g., equipment cleaning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C0E9F-0CDB-48F6-B33D-DFB08E3070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21:59:31Z</dcterms:created>
  <dc:creator>usama</dc:creator>
  <dc:description/>
  <dc:language>en-US</dc:language>
  <cp:lastModifiedBy>User</cp:lastModifiedBy>
  <dcterms:modified xsi:type="dcterms:W3CDTF">2010-10-05T09:39:37Z</dcterms:modified>
  <cp:revision>10</cp:revision>
  <dc:subject/>
  <dc:title>Sterile Products Lab PHC 434</dc:title>
</cp:coreProperties>
</file>