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B0E6E-3F1E-4382-9DD3-7B3DE952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0EDA7-4AEC-4BCA-9605-6C52F37F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B8350-560D-427E-8BDA-6369E74B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AC38C-39B6-4F0A-BF5E-A3BBE455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2D83-3D94-476C-A612-008BFE21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21DB-156F-401D-ABA5-36F76300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DEC0-3FFB-4A6E-A868-F87659C5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D27C-150F-493D-8EDA-742CB72E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EC94-CCC2-4A04-8DAD-55A45011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A4B1-06AA-40F5-94EC-D3E1F7A4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B28C-D2F3-463B-899D-B0D80017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BA23B-D2E4-454F-8499-D862A0A0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FFF0-EECE-44E8-B581-1088F6A9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549D-0123-447E-86EB-537A9011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C6BA-2AA4-4C16-AEE6-5F289560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8F64-7ABA-445F-A000-145520FE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EC66-E6ED-40CF-94CD-1BEB4DB1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AF6D0-C623-4992-9DE5-1D1ABB28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CB610-5670-4E63-9B0B-D0F51D84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317D-7761-45CB-8EB8-C3DA947F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248E5-AB6C-4DB5-A134-B9B719F2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E39A4-B8DB-4F1C-BB8A-B5E6213A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05C26-7DAF-41C9-BB53-90F59E04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67DC-FBC3-432F-A0CC-2897C4AB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5DE0-FB14-43D1-9B56-186C4295028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1F37-97B7-4D96-93D8-DF88AD88710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terile Products Lab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HT 434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64008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Sterile Area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lean Area Separ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Positive pressure differential between rooms of different cla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Use of a double-door, airlocks or integrated sterilizer helps ensure direct product flow, often from a lower to a higher classified are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8A4EB-3C72-4CBC-A18B-A60CC6FEAC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67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-filtered air should be supplied 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velocity sufficient to sweep particles away from the filling/closing are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intain unidirectional airflow during op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76976-25A7-404A-B49F-36A6D40C3D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mbrane filters can be used to filter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pressed ga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meet an appropriate high-quality standar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filters are often used to produce a sterile compressed gas to conduct operations involving sterile materials, such as components and equipme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F6C96-BFB4-4086-8538-5F11CD889F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Desig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eptic processes are designed to minimize exposure of sterile articles to the potential contamination hazards of the manufacturing oper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th personnel and material flow should be optimized to prevent unnecessary activities that could increase the potential for introducing contaminants to exposed product, container-closures, or the surrounding environmen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7E54C-5B81-474A-A588-67709E810C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leading into class A and B environment should be designed as airl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should be physical separation of the different stages of changing to minimize microbial and particulate contamination of clean room clot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for all classes should be flushed effectively with filtered ai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25655-9A85-4CB1-87C0-B20B76FEA6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inal stage of the changing room should be the same grade as the area into which it lea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use of separate changing rooms for entering and leaving clean areas is sometimes desirab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general, hand washing facilities should be provided only in the first stage of the changing roo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CDF3-8EFF-4035-9C9A-39BDE0BD2B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quip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be appropriately designed to facilitate ease of steriliz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not obstruct airflow and, in critical areas, its design should not disturb unidirectional airfl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A5826-C8DA-4FB3-81C3-9AB8A3E4A1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GMP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wning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eri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n- shed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ver skin and hair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e-masks, hoods, beard/moustache covers, protective goggles, and elastic gloves are examples of common elements of gow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C49C5-66BA-4007-B6F6-29E837071C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39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 of personnel per a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0A32D-A3F1-4FA2-AF83-6B7FB6FDC9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onents, containers, clo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important to characterize the microbial content (e.g., bioburden, endotoxin) of each component that could be contaminated and establish appropriate acceptance limits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sterilization preparation of glass containers usually involves a series of wash and rinse cycles. These cycles serve an important role in removing foreign matter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should be subjected to sterilization and depyrogenation proce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579E9-ECBC-4B9C-A37A-0FE2C968B3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erilizatio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s to any process that effectively kills or eliminates living microorganisms. It is not absolute. It is acceptable when it achieves killing effect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.e. every 1 million sterile items have a chance for only 1 item to be non-sterile.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ean roo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has a controlled level of contamination that is specified by the number of particles per cubic meter at a specified particle siz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aminar flow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 airflow moving in a single direction and in parallel layers at constant velocity from the beginning to the end of a straight line vector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0BD7-8A60-4ABE-A751-62A1E428F16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w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techn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units are purpose built machines in which, in one continuous oper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tainers are formed from a thermoplastic granulate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lled with the sterile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d then seal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 by the one automatic mac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3A485-6DC2-4AD2-BDB5-7536EECBD7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 filters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Efficiency Particulate Air: 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7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3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LPA filte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Ultra Low Particulate Air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99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12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irlock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mall room with interlocked doors, constructed to maintain air pressure control between adjoining rooms (generally with different air cleanliness standards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DE5AF-B1C1-4186-8D61-1C17BADA309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ioburde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otal number of microorganisms associated with a specific item prior to steriliz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lony Forming Unit (CFU)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microbiological term that describes the formation of a single macroscopic colony after the introduction of one or more microorganisms to microbiological growth media.  One colony forming unit is expressed as 1 CF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ndotoxi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pyrogenic product (e.g., lipopolysaccharide) present in the bacterial cell wall.  Endotoxin can lead to reactions in patients receiving injections ranging from fever to dea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1C556-6956-475B-B46E-8D35350AD2D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ods of sterilization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rminal steril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, container, and closure have low bioburden, but they are not steri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 in its final container is then subjected to a sterilization process such as heat or irradiatio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eptic con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rug product, container, and closure are first subjected to sterilization methods separately, as appropriate, and then brought toget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38DDF-60B2-4474-9932-86E47C24B2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ee classification system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 US Federal Standard 209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, 1000, 10000, 100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 means: not more than 1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O 14644-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, ISO 6, ISO 7, ISO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uropean GMP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, B, C, 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DE46-709B-421F-A7C4-F0122AEADE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3 classification syste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 = ISO 5 = Class 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0 = ISO 6 = Class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,000 = ISO 7 = Class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,000 = ISO 8 = Class 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100 = ISO 5 = Class A: contain less than 1 CFU/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FU/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CA6DA-668E-4E59-AC3D-B705231369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ritical Area (class 100) (ISO 5) (Class A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pera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- Sterile ingredients add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- fil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- clos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529272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9C6B-1B86-4B96-8314-7675D578C1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Supporting Clean Area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nction as zones in which non-sterile components, formulated products, in-process materials, equipment, and container/closures are prepared, held, or transferred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DA recommends that the area immediately adjacent to the aseptic processing line meet, at a minimum, Class 10,000 (ISO 7) standard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 area classified at a Class 100,000 (ISO 8)  is appropriate for less critical activities (e.g., equipment cleaning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1675-DF0D-438B-83BD-DE3C0276B9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21:59:31Z</dcterms:created>
  <dc:creator>usama</dc:creator>
  <dc:description/>
  <dc:language>en-US</dc:language>
  <cp:lastModifiedBy>User</cp:lastModifiedBy>
  <dcterms:modified xsi:type="dcterms:W3CDTF">2010-10-05T09:39:37Z</dcterms:modified>
  <cp:revision>10</cp:revision>
  <dc:subject/>
  <dc:title>Sterile Products Lab PHC 434</dc:title>
</cp:coreProperties>
</file>