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F86BF-C0B4-4730-AA56-E25EFB66E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4CFC5-1826-43E6-9BAB-FA0400768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24C7F-294F-4F18-B974-46DA0388C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5CD8B-CA44-4E58-BBD0-367B98BA2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319F3-0087-415B-A8A9-1A3EB63AC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A97FF-ED09-488B-8705-BF5FC0BDF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752A9-B026-4D6F-9ACC-385B4B593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FC7ED-AC6F-4C30-BEE4-74CBA4D4F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4E9D6-B84F-4B42-8680-507813F28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B3791-1F5D-4417-BDB7-A47CC0561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75313-343E-4EA0-B582-F45A5383B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46D41-6919-44A9-B896-B02E53421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610480" y="6356520"/>
            <a:ext cx="274320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38080" y="6356520"/>
            <a:ext cx="274320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7DCB-D96E-478E-A584-CF075934BBB5}"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Light"/>
              </a:rPr>
              <a:t>VLSM</a:t>
            </a:r>
            <a:br>
              <a:rPr sz="6000"/>
            </a:b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Variable Length Subnet Mask</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838080" y="550800"/>
            <a:ext cx="10515600" cy="562608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riginal subnet mask of /24 was changed into /26 for Network A. You then take one of these /26 networks and break it into two /27 networks:</a:t>
            </a:r>
            <a:endParaRPr b="0" lang="en-US" sz="24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0 and 10100000 both have 3 N bits and 5 H bits.</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ask now equals:</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1111111.11111111.11111111.11100000</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55.255.255.224</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7</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ck one of these new sub-subnets for Network B:</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0 /27 = Network B</a:t>
            </a:r>
            <a:endParaRPr b="0" lang="en-US" sz="28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make sure the addresses are not overlapping with each other. So go back to the original table.</a:t>
            </a:r>
            <a:endParaRPr b="0" lang="en-US" sz="2400" spc="-1" strike="noStrike">
              <a:solidFill>
                <a:srgbClr val="000000"/>
              </a:solidFill>
              <a:latin typeface="Calibri Light"/>
            </a:endParaRPr>
          </a:p>
        </p:txBody>
      </p:sp>
      <p:pic>
        <p:nvPicPr>
          <p:cNvPr id="58" name="Content Placeholder 3" descr=""/>
          <p:cNvPicPr/>
          <p:nvPr/>
        </p:nvPicPr>
        <p:blipFill>
          <a:blip r:embed="rId1"/>
          <a:stretch/>
        </p:blipFill>
        <p:spPr>
          <a:xfrm>
            <a:off x="2622600" y="1960560"/>
            <a:ext cx="7040520" cy="466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p 4 Pick the Third Largest Network to Work With</a:t>
            </a:r>
            <a:endParaRPr b="0" lang="en-US" sz="3200" spc="-1" strike="noStrike">
              <a:solidFill>
                <a:srgbClr val="000000"/>
              </a:solidFill>
              <a:latin typeface="Calibri Light"/>
            </a:endParaRPr>
          </a:p>
        </p:txBody>
      </p:sp>
      <p:sp>
        <p:nvSpPr>
          <p:cNvPr id="60" name=""/>
          <p:cNvSpPr txBox="1"/>
          <p:nvPr/>
        </p:nvSpPr>
        <p:spPr>
          <a:xfrm>
            <a:off x="838080" y="1375920"/>
            <a:ext cx="10515600" cy="52894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tworks C and Network D = 12 hosts each</a:t>
            </a:r>
            <a:endParaRPr b="0" lang="en-US" sz="2200" spc="-1" strike="noStrike">
              <a:solidFill>
                <a:srgbClr val="000000"/>
              </a:solidFill>
              <a:latin typeface="Calibri"/>
            </a:endParaRPr>
          </a:p>
          <a:p>
            <a:pPr marL="228600" indent="-22860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a:t>
            </a:r>
            <a:r>
              <a:rPr b="0" lang="en-US" sz="2200" spc="-1" strike="noStrike" baseline="30000">
                <a:solidFill>
                  <a:srgbClr val="000000"/>
                </a:solidFill>
                <a:latin typeface="Calibri"/>
              </a:rPr>
              <a:t>H</a:t>
            </a:r>
            <a:r>
              <a:rPr b="0" lang="en-US" sz="2200" spc="-1" strike="noStrike">
                <a:solidFill>
                  <a:srgbClr val="000000"/>
                </a:solidFill>
                <a:latin typeface="Calibri"/>
              </a:rPr>
              <a:t> – 2 ≥ 12</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H = 4</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need 4 H bits to satisfy the requirements of Network C and Network D</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lect the other /27 network—.160/27</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01</a:t>
            </a:r>
            <a:r>
              <a:rPr b="1" lang="en-US" sz="1900" spc="-1" strike="noStrike">
                <a:solidFill>
                  <a:srgbClr val="000000"/>
                </a:solidFill>
                <a:latin typeface="Calibri"/>
              </a:rPr>
              <a:t>00000</a:t>
            </a:r>
            <a:r>
              <a:rPr b="0" lang="en-US" sz="1900" spc="-1" strike="noStrike">
                <a:solidFill>
                  <a:srgbClr val="000000"/>
                </a:solidFill>
                <a:latin typeface="Calibri"/>
              </a:rPr>
              <a:t> (The 1 in the third bit place is no longer bold, because it is part of the N bits.)</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ut you only need 4 H bits, not 5. Therefore, you are left with</a:t>
            </a:r>
            <a:endParaRPr b="0" lang="en-US" sz="1900" spc="-1" strike="noStrike">
              <a:solidFill>
                <a:srgbClr val="000000"/>
              </a:solidFill>
              <a:latin typeface="Calibri"/>
            </a:endParaRPr>
          </a:p>
          <a:p>
            <a:pPr marL="228600" indent="-22860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01</a:t>
            </a:r>
            <a:r>
              <a:rPr b="1" lang="en-US" sz="1900" spc="-1" strike="noStrike">
                <a:solidFill>
                  <a:srgbClr val="000000"/>
                </a:solidFill>
                <a:latin typeface="Calibri"/>
              </a:rPr>
              <a:t>N0000</a:t>
            </a: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ere</a:t>
            </a:r>
            <a:endParaRPr b="0" lang="en-US" sz="19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0 represents the original pattern of subnetting. </a:t>
            </a:r>
            <a:endParaRPr b="0" lang="en-US" sz="19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 represents the extra bit you have. </a:t>
            </a:r>
            <a:endParaRPr b="0" lang="en-US" sz="19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00000 represents the 5 H bits you need for Network B</a:t>
            </a:r>
            <a:endParaRPr b="0" lang="en-US" sz="19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you have this extra bit, you can create two smaller subnets from the original subnet:</a:t>
            </a:r>
            <a:endParaRPr b="0" lang="en-US" sz="2000" spc="-1" strike="noStrike">
              <a:solidFill>
                <a:srgbClr val="000000"/>
              </a:solidFill>
              <a:latin typeface="Calibri"/>
            </a:endParaRPr>
          </a:p>
          <a:p>
            <a:pPr marL="228600" indent="-22860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100000 = .160 </a:t>
            </a:r>
            <a:endParaRPr b="0" lang="en-US" sz="2600" spc="-1" strike="noStrike">
              <a:solidFill>
                <a:srgbClr val="000000"/>
              </a:solidFill>
              <a:latin typeface="Calibri"/>
            </a:endParaRPr>
          </a:p>
          <a:p>
            <a:pPr marL="228600" indent="-22860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110000 = .176</a:t>
            </a:r>
            <a:endParaRPr b="0" lang="en-US" sz="2600" spc="-1" strike="noStrike">
              <a:solidFill>
                <a:srgbClr val="000000"/>
              </a:solidFill>
              <a:latin typeface="Calibri"/>
            </a:endParaRPr>
          </a:p>
          <a:p>
            <a:pPr lvl="3" marL="13716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new sub-subnets will now have new subnet masks.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ub-subnet now has 4 N bits and 4 H bits, so their new masks will be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1111111.11111111.11111111.11110000</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55.255.255.240</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Content Placeholder 3" descr=""/>
          <p:cNvPicPr/>
          <p:nvPr/>
        </p:nvPicPr>
        <p:blipFill>
          <a:blip r:embed="rId1"/>
          <a:stretch/>
        </p:blipFill>
        <p:spPr>
          <a:xfrm>
            <a:off x="1405080" y="914400"/>
            <a:ext cx="10512360" cy="55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128520"/>
            <a:ext cx="10515600" cy="774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Light"/>
              </a:rPr>
              <a:t>Step 5 Determine Network Numbers for Serial Links</a:t>
            </a:r>
            <a:endParaRPr b="0" lang="en-US" sz="2800" spc="-1" strike="noStrike">
              <a:solidFill>
                <a:srgbClr val="000000"/>
              </a:solidFill>
              <a:latin typeface="Calibri Light"/>
            </a:endParaRPr>
          </a:p>
        </p:txBody>
      </p:sp>
      <p:sp>
        <p:nvSpPr>
          <p:cNvPr id="64" name=""/>
          <p:cNvSpPr txBox="1"/>
          <p:nvPr/>
        </p:nvSpPr>
        <p:spPr>
          <a:xfrm>
            <a:off x="838080" y="903240"/>
            <a:ext cx="10515600" cy="57405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serial links between routers have the same property in that they only need two addresses in a network—one for each router interface.</a:t>
            </a:r>
            <a:endParaRPr b="0" lang="en-US" sz="24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number of H bits needed for these networks: </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baseline="30000">
                <a:solidFill>
                  <a:srgbClr val="000000"/>
                </a:solidFill>
                <a:latin typeface="Calibri"/>
              </a:rPr>
              <a:t>H</a:t>
            </a:r>
            <a:r>
              <a:rPr b="0" lang="en-US" sz="2400" spc="-1" strike="noStrike">
                <a:solidFill>
                  <a:srgbClr val="000000"/>
                </a:solidFill>
                <a:latin typeface="Calibri"/>
              </a:rPr>
              <a:t> – 2 ≥ 2 </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 = 2</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need 2 H bits to satisfy the requirements of Networks E, F, G, and H.</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have two of the original subnets left to work with.</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urposes of this example, select the .0/26 network:</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00</a:t>
            </a:r>
            <a:r>
              <a:rPr b="1" lang="en-US" sz="2400" spc="-1" strike="noStrike">
                <a:solidFill>
                  <a:srgbClr val="000000"/>
                </a:solidFill>
                <a:latin typeface="Calibri"/>
              </a:rPr>
              <a:t>000000</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you need only 2 H bits, not 6. Therefore, you are left with</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NNNN00</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 represents the original pattern of subnetting. </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NNN represents the extra bits you have. </a:t>
            </a:r>
            <a:endParaRPr b="0" lang="en-US" sz="2400" spc="-1" strike="noStrike">
              <a:solidFill>
                <a:srgbClr val="000000"/>
              </a:solidFill>
              <a:latin typeface="Calibri"/>
            </a:endParaRPr>
          </a:p>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 represents the 2 H bits you need for the serial links.</a:t>
            </a:r>
            <a:endParaRPr b="0" lang="en-US" sz="24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838080" y="254160"/>
            <a:ext cx="10515600" cy="6378480"/>
          </a:xfrm>
          <a:prstGeom prst="rect">
            <a:avLst/>
          </a:prstGeom>
          <a:noFill/>
          <a:ln w="0">
            <a:noFill/>
          </a:ln>
        </p:spPr>
        <p:txBody>
          <a:bodyPr anchor="t">
            <a:normAutofit/>
          </a:bodyPr>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you have 4 N bits, you can create 16 sub-subnets from the original subnet:</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0000 = .0/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0100 = .4/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1000 = .8/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1100 = .12/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10000 = .16/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 .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111000 = .56/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111100 = .60/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need only four of them. You can hold the rest for future expansion or recombine them for a new, larger subnet:</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10000 = .16/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 .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111000 = .56/30 </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111100 = .60/30</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these can be recombined into the following:</a:t>
            </a:r>
            <a:endParaRPr b="0" lang="en-US" sz="2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10000 = .16/28</a:t>
            </a:r>
            <a:endParaRPr b="0" lang="en-US" sz="24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95040"/>
            <a:ext cx="10515600" cy="5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Going back to the original table, you now have the following:</a:t>
            </a:r>
            <a:endParaRPr b="0" lang="en-US" sz="2400" spc="-1" strike="noStrike">
              <a:solidFill>
                <a:srgbClr val="000000"/>
              </a:solidFill>
              <a:latin typeface="Calibri Light"/>
            </a:endParaRPr>
          </a:p>
        </p:txBody>
      </p:sp>
      <p:pic>
        <p:nvPicPr>
          <p:cNvPr id="67" name="Content Placeholder 3" descr=""/>
          <p:cNvPicPr/>
          <p:nvPr/>
        </p:nvPicPr>
        <p:blipFill>
          <a:blip r:embed="rId1"/>
          <a:stretch/>
        </p:blipFill>
        <p:spPr>
          <a:xfrm>
            <a:off x="3249720" y="635040"/>
            <a:ext cx="6370560" cy="4875120"/>
          </a:xfrm>
          <a:prstGeom prst="rect">
            <a:avLst/>
          </a:prstGeom>
          <a:ln w="0">
            <a:noFill/>
          </a:ln>
        </p:spPr>
      </p:pic>
      <p:sp>
        <p:nvSpPr>
          <p:cNvPr id="68" name="Title 1"/>
          <p:cNvSpPr/>
          <p:nvPr/>
        </p:nvSpPr>
        <p:spPr>
          <a:xfrm>
            <a:off x="838080" y="5607000"/>
            <a:ext cx="10515600" cy="12510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Light"/>
              </a:rPr>
              <a:t>Looking at the plan, you can see that no number is used twice. You have now created an IP plan for the network and have made the plan as efﬁcient as possible, wasting no addresses in the serial links and leaving room for future growth. This is the power of VLS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38080" y="182520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oute Summariza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38080" y="1825200"/>
            <a:ext cx="10515600" cy="4351320"/>
          </a:xfrm>
          <a:prstGeom prst="rect">
            <a:avLst/>
          </a:prstGeom>
          <a:noFill/>
          <a:ln w="0">
            <a:noFill/>
          </a:ln>
        </p:spPr>
        <p:txBody>
          <a:bodyPr anchor="t">
            <a:normAutofit/>
          </a:bodyPr>
          <a:p>
            <a:pPr algn="just">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router that needs to advertise ten routes needs ten speciﬁc lines in its update packet. The more routes you have to advertise, the bigger the packet. The bigger the packet, the more bandwidth the update takes, reducing the bandwidth available to transfer data.</a:t>
            </a:r>
            <a:endParaRPr b="0" lang="en-US" sz="2800" spc="-1" strike="noStrike">
              <a:solidFill>
                <a:srgbClr val="000000"/>
              </a:solidFill>
              <a:latin typeface="Calibri"/>
            </a:endParaRPr>
          </a:p>
          <a:p>
            <a:pPr algn="just">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VLSM</a:t>
            </a:r>
            <a:endParaRPr b="0" lang="en-US" sz="4400" spc="-1" strike="noStrike">
              <a:solidFill>
                <a:srgbClr val="000000"/>
              </a:solidFill>
              <a:latin typeface="Calibri Light"/>
            </a:endParaRPr>
          </a:p>
        </p:txBody>
      </p:sp>
      <p:sp>
        <p:nvSpPr>
          <p:cNvPr id="44" name=""/>
          <p:cNvSpPr txBox="1"/>
          <p:nvPr/>
        </p:nvSpPr>
        <p:spPr>
          <a:xfrm>
            <a:off x="838080" y="1825200"/>
            <a:ext cx="10515600" cy="4351320"/>
          </a:xfrm>
          <a:prstGeom prst="rect">
            <a:avLst/>
          </a:prstGeom>
          <a:noFill/>
          <a:ln w="0">
            <a:noFill/>
          </a:ln>
        </p:spPr>
        <p:txBody>
          <a:bodyPr anchor="t">
            <a:normAutofit/>
          </a:bodyPr>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If you borrow 4 bits on a Class C network, you end up with 14 valid subnets of 14 valid hosts. A serial link to another router only needs 2 hosts, but with classical subnetting, you end up wasting 12 of those hosts.</a:t>
            </a:r>
            <a:endParaRPr b="0" lang="en-US" sz="2500" spc="-1" strike="noStrike">
              <a:solidFill>
                <a:srgbClr val="000000"/>
              </a:solidFill>
              <a:latin typeface="Calibri"/>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Variable-length subnet masking (VLSM) is the process of “subnetting a subnet” and using different subnet masks for different networks in your IP plan. What you have to remember is that you need to make sure that there is no overlap in any of the addresses.</a:t>
            </a:r>
            <a:endParaRPr b="0" lang="en-US" sz="2500" spc="-1" strike="noStrike">
              <a:solidFill>
                <a:srgbClr val="000000"/>
              </a:solidFill>
              <a:latin typeface="Calibri"/>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
          <p:cNvPicPr/>
          <p:nvPr/>
        </p:nvPicPr>
        <p:blipFill>
          <a:blip r:embed="rId1"/>
          <a:stretch/>
        </p:blipFill>
        <p:spPr>
          <a:xfrm>
            <a:off x="1967040" y="419040"/>
            <a:ext cx="8258040" cy="6019920"/>
          </a:xfrm>
          <a:prstGeom prst="rect">
            <a:avLst/>
          </a:prstGeom>
          <a:ln w="0">
            <a:noFill/>
          </a:ln>
        </p:spPr>
      </p:pic>
      <p:sp>
        <p:nvSpPr>
          <p:cNvPr id="72" name="Rectangle 6"/>
          <p:cNvSpPr/>
          <p:nvPr/>
        </p:nvSpPr>
        <p:spPr>
          <a:xfrm>
            <a:off x="4157280" y="0"/>
            <a:ext cx="4877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Four-City Network Without Route Summariz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838080" y="1825200"/>
            <a:ext cx="10515600" cy="4351320"/>
          </a:xfrm>
          <a:prstGeom prst="rect">
            <a:avLst/>
          </a:prstGeom>
          <a:noFill/>
          <a:ln w="0">
            <a:noFill/>
          </a:ln>
        </p:spPr>
        <p:txBody>
          <a:bodyPr anchor="t">
            <a:norm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eddah, Medina, and Dammam each have to advertise internal networks to the main router located in Mecca. Without route summarization, Mecca would have to advertise 16 networks to Riyadh. You want to use route summarization to reduce the burden on this upstream rou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p 1: Summarize Jeddah’s Routes</a:t>
            </a:r>
            <a:endParaRPr b="0" lang="en-US" sz="3200" spc="-1" strike="noStrike">
              <a:solidFill>
                <a:srgbClr val="000000"/>
              </a:solidFill>
              <a:latin typeface="Calibri Light"/>
            </a:endParaRPr>
          </a:p>
        </p:txBody>
      </p:sp>
      <p:sp>
        <p:nvSpPr>
          <p:cNvPr id="75" name=""/>
          <p:cNvSpPr txBox="1"/>
          <p:nvPr/>
        </p:nvSpPr>
        <p:spPr>
          <a:xfrm>
            <a:off x="838080" y="1825200"/>
            <a:ext cx="10515600" cy="4351320"/>
          </a:xfrm>
          <a:prstGeom prst="rect">
            <a:avLst/>
          </a:prstGeom>
          <a:noFill/>
          <a:ln w="0">
            <a:noFill/>
          </a:ln>
        </p:spPr>
        <p:txBody>
          <a:bodyPr anchor="t">
            <a:norm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4.0 = 10101100.00010000.01000000.00000000 </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5.0 = 10101100.00010000.01000001.00000000 </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6.0 = 10101100.00010000.01000010.00000000 </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7.0 = 10101100.00010000.01000011.00000000 </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bits: 10101100.00010000.010000xx</a:t>
            </a: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64.0/22</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when sent to the upstream Mecca router, will tell Mecca: If you have any packets that are addressed to networks that have the ﬁrst 22 bits in the pattern of </a:t>
            </a:r>
            <a:endParaRPr b="0" lang="en-US" sz="3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0101100.00010000.010000xx.xxxxxxxx</a:t>
            </a:r>
            <a:endParaRPr b="0" lang="en-US" sz="36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then send them to me here in Jedda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p 2: Summarize Madina’s Routes</a:t>
            </a:r>
            <a:endParaRPr b="0" lang="en-US" sz="3200" spc="-1" strike="noStrike">
              <a:solidFill>
                <a:srgbClr val="000000"/>
              </a:solidFill>
              <a:latin typeface="Calibri Light"/>
            </a:endParaRPr>
          </a:p>
        </p:txBody>
      </p:sp>
      <p:sp>
        <p:nvSpPr>
          <p:cNvPr id="7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68.0 = 10101100.00010000.01000100.0000000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69.0 = 10101100.00010000.01000101.0000000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70.0 = 10101100.00010000.01000110.0000000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71.0 = 10101100.00010000.01000111.00000000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bits: 10101100.00010000.010001xx</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2.16.68.0/22</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p 3: Summarize Dammam’s Routes</a:t>
            </a:r>
            <a:endParaRPr b="0" lang="en-US" sz="3200" spc="-1" strike="noStrike">
              <a:solidFill>
                <a:srgbClr val="000000"/>
              </a:solidFill>
              <a:latin typeface="Calibri Light"/>
            </a:endParaRPr>
          </a:p>
        </p:txBody>
      </p:sp>
      <p:sp>
        <p:nvSpPr>
          <p:cNvPr id="80" name=""/>
          <p:cNvSpPr txBox="1"/>
          <p:nvPr/>
        </p:nvSpPr>
        <p:spPr>
          <a:xfrm>
            <a:off x="838080" y="1825200"/>
            <a:ext cx="1051560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2.0 = 10101100.00010000.01001000.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3.0 = 10101100.00010000.01001001.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4.0 = 10101100.00010000 01001010.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5.0 = 10101100.00010000 01001011.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6.0 = 10101100.00010000.01001100.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7.0 = 10101100.00010000.01001101.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8.0 = 10101100.00010000.01001110.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9.0 = 10101100.00010000.01001111.00000000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bits: 10101100.00010000.01001xxx</a:t>
            </a:r>
            <a:endParaRPr b="0" lang="en-US" sz="24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2.16.72.0/21</a:t>
            </a:r>
            <a:endParaRPr b="0" lang="en-US" sz="24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71480" y="-360"/>
            <a:ext cx="10515600" cy="770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Four-City Network with Edge Cities Summarizing Routes</a:t>
            </a:r>
            <a:endParaRPr b="0" lang="en-US" sz="2400" spc="-1" strike="noStrike">
              <a:solidFill>
                <a:srgbClr val="000000"/>
              </a:solidFill>
              <a:latin typeface="Calibri Light"/>
            </a:endParaRPr>
          </a:p>
        </p:txBody>
      </p:sp>
      <p:pic>
        <p:nvPicPr>
          <p:cNvPr id="82" name="Picture 5" descr=""/>
          <p:cNvPicPr/>
          <p:nvPr/>
        </p:nvPicPr>
        <p:blipFill>
          <a:blip r:embed="rId1"/>
          <a:stretch/>
        </p:blipFill>
        <p:spPr>
          <a:xfrm>
            <a:off x="2224080" y="1133640"/>
            <a:ext cx="8193240" cy="530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Content Placeholder 3" descr=""/>
          <p:cNvPicPr/>
          <p:nvPr/>
        </p:nvPicPr>
        <p:blipFill>
          <a:blip r:embed="rId1"/>
          <a:stretch/>
        </p:blipFill>
        <p:spPr>
          <a:xfrm>
            <a:off x="3863880" y="1674720"/>
            <a:ext cx="5024520" cy="418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Step 4:  Summarize Mecca’s Routes</a:t>
            </a:r>
            <a:endParaRPr b="0" lang="en-US" sz="36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e the routes that Jeddah, Madina, and Dammam sent to Mecca, and look for common bit patterns:</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2.16.64.0 = 10101100.00010000.01000000.00000000 </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2.16.68.0 = 10101100.00010000.01000100.00000000</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2.16.72.0 = 10101100.00010000.01001000.00000000 </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bits: 10101100.00010000.0100xxxx</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can create one summary route for Meccato send to Riyadh:</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72.16.64.0/20</a:t>
            </a:r>
            <a:endParaRPr b="0" lang="en-US" sz="26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cca has now told Riyadh that in one line of a routing update, 16 different networks are being advertised.</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Content Placeholder 3" descr=""/>
          <p:cNvPicPr/>
          <p:nvPr/>
        </p:nvPicPr>
        <p:blipFill>
          <a:blip r:embed="rId1"/>
          <a:stretch/>
        </p:blipFill>
        <p:spPr>
          <a:xfrm>
            <a:off x="1854360" y="617400"/>
            <a:ext cx="8165880" cy="5559480"/>
          </a:xfrm>
          <a:prstGeom prst="rect">
            <a:avLst/>
          </a:prstGeom>
          <a:ln w="0">
            <a:noFill/>
          </a:ln>
        </p:spPr>
      </p:pic>
      <p:sp>
        <p:nvSpPr>
          <p:cNvPr id="87" name="Rectangle 4"/>
          <p:cNvSpPr/>
          <p:nvPr/>
        </p:nvSpPr>
        <p:spPr>
          <a:xfrm>
            <a:off x="3231360" y="0"/>
            <a:ext cx="5551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1800" spc="-1" strike="noStrike">
                <a:solidFill>
                  <a:srgbClr val="000000"/>
                </a:solidFill>
                <a:latin typeface="Calibri"/>
              </a:rPr>
              <a:t>Four-City Network with Complete Route Summariz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Content Placeholder 3" descr=""/>
          <p:cNvPicPr/>
          <p:nvPr/>
        </p:nvPicPr>
        <p:blipFill>
          <a:blip r:embed="rId1"/>
          <a:stretch/>
        </p:blipFill>
        <p:spPr>
          <a:xfrm>
            <a:off x="1701720" y="461880"/>
            <a:ext cx="8850240" cy="5715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3316320" y="1012680"/>
            <a:ext cx="7070760" cy="4924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VLSM Subnetting Homework</a:t>
            </a:r>
            <a:r>
              <a:rPr b="0" lang="en-US" sz="4400" spc="-1" strike="noStrike">
                <a:solidFill>
                  <a:srgbClr val="000000"/>
                </a:solidFill>
                <a:latin typeface="Calibri Light"/>
              </a:rPr>
              <a:t> </a:t>
            </a:r>
            <a:endParaRPr b="0" lang="en-US" sz="4400" spc="-1" strike="noStrike">
              <a:solidFill>
                <a:srgbClr val="000000"/>
              </a:solidFill>
              <a:latin typeface="Calibri Light"/>
            </a:endParaRPr>
          </a:p>
        </p:txBody>
      </p:sp>
      <p:sp>
        <p:nvSpPr>
          <p:cNvPr id="90" name=""/>
          <p:cNvSpPr txBox="1"/>
          <p:nvPr/>
        </p:nvSpPr>
        <p:spPr>
          <a:xfrm>
            <a:off x="838080" y="1825200"/>
            <a:ext cx="1051560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ach question, find the best 3 efficient combinations of subne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You have network 192.168.1.0/24, and you want subnets to contain 100 hosts, 25 hosts and 6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You have network 150.210.0.0/16, and you want subnets to contain 2000 hosts, 500 hosts and 100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You have network 125.0.0.0/8, and you want subnets to contain 1000 hosts, 200 hosts and 100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You have network 217.84.19.0/24, and you want subnets to contain 30 hosts, 10 hosts and 2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You have network 180.32.64.0/23, and you want subnets to contain 120 hosts, 50 hosts and 10 hosts.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You have network 152.227.160.0/21, and you want subnets to contain 500 hosts, 80 hosts and 5 hos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38080" y="639360"/>
            <a:ext cx="10515600" cy="55371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ps to create an IP plan using VLSM for the network as follows:</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1 </a:t>
            </a:r>
            <a:r>
              <a:rPr b="0" lang="en-US" sz="2800" spc="-1" strike="noStrike">
                <a:solidFill>
                  <a:srgbClr val="000000"/>
                </a:solidFill>
                <a:latin typeface="Calibri"/>
              </a:rPr>
              <a:t>Determine how many H bits will be needed to satisfy the largest network.</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2 </a:t>
            </a:r>
            <a:r>
              <a:rPr b="0" lang="en-US" sz="2800" spc="-1" strike="noStrike">
                <a:solidFill>
                  <a:srgbClr val="000000"/>
                </a:solidFill>
                <a:latin typeface="Calibri"/>
              </a:rPr>
              <a:t>Pick a subnet for the largest network to us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3 </a:t>
            </a:r>
            <a:r>
              <a:rPr b="0" lang="en-US" sz="2800" spc="-1" strike="noStrike">
                <a:solidFill>
                  <a:srgbClr val="000000"/>
                </a:solidFill>
                <a:latin typeface="Calibri"/>
              </a:rPr>
              <a:t>Pick the next largest network to work with.</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4 </a:t>
            </a:r>
            <a:r>
              <a:rPr b="0" lang="en-US" sz="2800" spc="-1" strike="noStrike">
                <a:solidFill>
                  <a:srgbClr val="000000"/>
                </a:solidFill>
                <a:latin typeface="Calibri"/>
              </a:rPr>
              <a:t>Pick the third largest network to work with.</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ep 5 </a:t>
            </a:r>
            <a:r>
              <a:rPr b="0" lang="en-US" sz="2800" spc="-1" strike="noStrike">
                <a:solidFill>
                  <a:srgbClr val="000000"/>
                </a:solidFill>
                <a:latin typeface="Calibri"/>
              </a:rPr>
              <a:t>Determine network numbers for serial link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Step 1 Determine How Many H Bits Will Be Needed to Satisfy the Largest Network</a:t>
            </a:r>
            <a:endParaRPr b="0" lang="en-US" sz="2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is the largest network with 50 hosts.</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2</a:t>
            </a:r>
            <a:r>
              <a:rPr b="0" lang="en-US" sz="2800" spc="-1" strike="noStrike" baseline="30000">
                <a:solidFill>
                  <a:srgbClr val="000000"/>
                </a:solidFill>
                <a:latin typeface="Calibri"/>
              </a:rPr>
              <a:t>H</a:t>
            </a:r>
            <a:r>
              <a:rPr b="0" lang="en-US" sz="2800" spc="-1" strike="noStrike">
                <a:solidFill>
                  <a:srgbClr val="000000"/>
                </a:solidFill>
                <a:latin typeface="Calibri"/>
              </a:rPr>
              <a:t> – 2 = Number of valid hosts per subnet</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2</a:t>
            </a:r>
            <a:r>
              <a:rPr b="0" lang="en-US" sz="2800" spc="-1" strike="noStrike" baseline="30000">
                <a:solidFill>
                  <a:srgbClr val="000000"/>
                </a:solidFill>
                <a:latin typeface="Calibri"/>
              </a:rPr>
              <a:t>H</a:t>
            </a:r>
            <a:r>
              <a:rPr b="0" lang="en-US" sz="2800" spc="-1" strike="noStrike">
                <a:solidFill>
                  <a:srgbClr val="000000"/>
                </a:solidFill>
                <a:latin typeface="Calibri"/>
              </a:rPr>
              <a:t> – 2 ≥ 50 Therefore H = 6 (6 is the smallest valid value for H)</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w have: NNHHHHHH</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Light"/>
              </a:rPr>
              <a:t>Step 2 Pick a Subnet for the Largest Network to Use </a:t>
            </a:r>
            <a:endParaRPr b="0" lang="en-US" sz="2800" spc="-1" strike="noStrike">
              <a:solidFill>
                <a:srgbClr val="000000"/>
              </a:solidFill>
              <a:latin typeface="Calibri Light"/>
            </a:endParaRPr>
          </a:p>
        </p:txBody>
      </p:sp>
      <p:sp>
        <p:nvSpPr>
          <p:cNvPr id="50" name=""/>
          <p:cNvSpPr txBox="1"/>
          <p:nvPr/>
        </p:nvSpPr>
        <p:spPr>
          <a:xfrm>
            <a:off x="838080" y="1825200"/>
            <a:ext cx="10515600" cy="435132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have 2 N bits to work with, leaving you with 2N or 2</a:t>
            </a:r>
            <a:r>
              <a:rPr b="0" lang="en-US" sz="2000" spc="-1" strike="noStrike" baseline="30000">
                <a:solidFill>
                  <a:srgbClr val="000000"/>
                </a:solidFill>
                <a:latin typeface="Calibri"/>
              </a:rPr>
              <a:t>2</a:t>
            </a:r>
            <a:r>
              <a:rPr b="0" lang="en-US" sz="2000" spc="-1" strike="noStrike">
                <a:solidFill>
                  <a:srgbClr val="000000"/>
                </a:solidFill>
                <a:latin typeface="Calibri"/>
              </a:rPr>
              <a:t> or 4 subnets to work with:</a:t>
            </a: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N = 00HHHHHH (The 6 H bits you need for Network A)</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01HHHHHH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0HHHHHH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1HHHHHH</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dd all zeros to the H bits, you are left with the network numbers for the four subnets:</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00000000 = .0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01000000 = .64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0000000 = .128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1000000 = .192</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26920" y="822240"/>
            <a:ext cx="10515600" cy="5656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o borrowed H bits means a subnet mask of</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1111111.11111111.11111111.11000000</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55.255.255.192</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6</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k one of these subnets to use for Network A.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st of the networks will have to use the other three subnets.</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3" descr=""/>
          <p:cNvPicPr/>
          <p:nvPr/>
        </p:nvPicPr>
        <p:blipFill>
          <a:blip r:embed="rId1"/>
          <a:stretch/>
        </p:blipFill>
        <p:spPr>
          <a:xfrm>
            <a:off x="2324160" y="4451400"/>
            <a:ext cx="7427880" cy="18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Light"/>
              </a:rPr>
              <a:t>Step 3 Pick the Next Largest Network to Work With</a:t>
            </a:r>
            <a:br>
              <a:rPr sz="2800"/>
            </a:br>
            <a:br>
              <a:rPr sz="2800"/>
            </a:br>
            <a:endParaRPr b="0" lang="en-US" sz="2800" spc="-1" strike="noStrike">
              <a:solidFill>
                <a:srgbClr val="000000"/>
              </a:solidFill>
              <a:latin typeface="Calibri Light"/>
            </a:endParaRPr>
          </a:p>
        </p:txBody>
      </p:sp>
      <p:sp>
        <p:nvSpPr>
          <p:cNvPr id="54" name=""/>
          <p:cNvSpPr txBox="1"/>
          <p:nvPr/>
        </p:nvSpPr>
        <p:spPr>
          <a:xfrm>
            <a:off x="838080" y="1825200"/>
            <a:ext cx="1051560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twork B = 27 hosts</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termine the number of H bits needed for this network:</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a:t>
            </a:r>
            <a:r>
              <a:rPr b="0" lang="en-US" sz="2600" spc="-1" strike="noStrike" baseline="30000">
                <a:solidFill>
                  <a:srgbClr val="000000"/>
                </a:solidFill>
                <a:latin typeface="Calibri"/>
              </a:rPr>
              <a:t>H</a:t>
            </a:r>
            <a:r>
              <a:rPr b="0" lang="en-US" sz="2600" spc="-1" strike="noStrike">
                <a:solidFill>
                  <a:srgbClr val="000000"/>
                </a:solidFill>
                <a:latin typeface="Calibri"/>
              </a:rPr>
              <a:t> – 2 ≥ 27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H = 5</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ick one of the remaining /26 networks to work with Network B.</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the purposes of this example, select the .128/26 network: </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000000</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t you need only 5 H bits, not 6. Therefore, you are left with </a:t>
            </a:r>
            <a:endParaRPr b="0" lang="en-US" sz="2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N00000</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create two smaller subnets from the original subnet:</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0</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100000</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rted to decimal, these subnets are as follows:</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000 =.128 </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100000 =.16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2:51:35Z</dcterms:created>
  <dc:creator>Ashraf Abdalasis</dc:creator>
  <dc:description/>
  <dc:language>en-US</dc:language>
  <cp:lastModifiedBy>Dr. Ashraf Abdelaziz</cp:lastModifiedBy>
  <cp:lastPrinted>2013-09-15T12:39:36Z</cp:lastPrinted>
  <dcterms:modified xsi:type="dcterms:W3CDTF">2014-02-02T12:19:09Z</dcterms:modified>
  <cp:revision>14</cp:revision>
  <dc:subject/>
  <dc:title>Variable Length Subnet Mask</dc:title>
</cp:coreProperties>
</file>