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7C2-4DA9-4D75-833D-5124D36D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10C-D480-4D9B-A81A-95EDD0B7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D77-9E3F-43BD-B284-F041281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DAD-5D16-4BCC-9C9B-A70465FE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40AF-1443-449A-B2BA-0189A1D9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43D3-5D85-41AD-9B41-8AC578F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5D86-9105-4D86-B4C4-770B885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28F-76B1-46C4-B4F7-E4D6C340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1749-4CF1-4741-A105-A1C3A9CA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E865-B3A0-46F8-A435-C517A08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242-C96B-4418-A0C8-708A2FA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D22-57FF-4889-A2E1-BC0E763D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AA9-33C0-49DB-98CF-0A88E0BA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939-18C3-4EBF-B75C-200BF9B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C823-D245-435B-881E-AFA82C48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E4C-C1C1-4EF3-AD19-8B65B075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3F67-30E9-437E-AFE1-E4E22294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FB2-C7F7-4610-9000-FC05DB2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364-6C17-4958-9730-FAE735F4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326-F505-4513-AE3D-922A577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66C-C3EB-4151-9C98-1BE4E0F6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2D9-D15C-4EA2-9337-E1DF399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54F-61E5-494A-8CB8-C0872F9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048-5105-437D-BE90-706AA9E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C3F7-377D-4131-88F6-1F624FAA25A8}" type="datetime">
              <a:rPr b="0" lang="en-US" sz="1200" spc="-1" strike="noStrike">
                <a:solidFill>
                  <a:srgbClr val="d4eaef"/>
                </a:solidFill>
                <a:latin typeface="Tw Cen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BAA3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FB2E-6CFC-4E1D-9C58-8A52ED4984EC}" type="slidenum">
              <a:rPr b="0" lang="en-US" sz="1200" spc="-1" strike="noStrike">
                <a:solidFill>
                  <a:srgbClr val="d4eae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7CAE-467A-41B6-8101-6790C52BE13B}" type="datetime">
              <a:rPr b="0" lang="en-US" sz="1200" spc="-1" strike="noStrike">
                <a:solidFill>
                  <a:srgbClr val="d4eaef"/>
                </a:solidFill>
                <a:latin typeface="Tw Cen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BAA3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A92-E3AE-4DB9-A225-3F9DF89425CD}" type="slidenum">
              <a:rPr b="0" lang="en-US" sz="1200" spc="-1" strike="noStrike">
                <a:solidFill>
                  <a:srgbClr val="d4eae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w Cen MT"/>
              </a:rPr>
              <a:t>2.2  </a:t>
            </a:r>
            <a:r>
              <a:rPr b="1" lang="en-US" sz="5000" spc="-1" strike="noStrike">
                <a:solidFill>
                  <a:srgbClr val="ff0000"/>
                </a:solidFill>
                <a:latin typeface="Tw Cen MT"/>
              </a:rPr>
              <a:t>Water quality parameter</a:t>
            </a:r>
            <a:endParaRPr b="0" lang="en-US" sz="50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an be divided into three types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Physical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hemic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Biologic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w Cen MT"/>
              </a:rPr>
              <a:t>Environmental Engineer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S"/>
          <p:cNvPicPr/>
          <p:nvPr/>
        </p:nvPicPr>
        <p:blipFill>
          <a:blip r:embed="rId1"/>
          <a:stretch/>
        </p:blipFill>
        <p:spPr>
          <a:xfrm>
            <a:off x="533520" y="762120"/>
            <a:ext cx="7848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609480" y="4952880"/>
            <a:ext cx="769644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Total Solid (mg/L) = Suspended Solid (mg/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</a:t>
            </a: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+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                                   </a:t>
            </a:r>
            <a:r>
              <a:rPr b="1" lang="ms-MY" sz="2400" spc="-1" strike="noStrike">
                <a:solidFill>
                  <a:srgbClr val="ff3300"/>
                </a:solidFill>
                <a:latin typeface="Arial"/>
              </a:rPr>
              <a:t>Total Dissolved Solid (m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Suspended Solid (mg/L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1" lang="en-GB" sz="2600" spc="-1" strike="noStrike">
                <a:solidFill>
                  <a:srgbClr val="ff3300"/>
                </a:solidFill>
                <a:latin typeface="Century Gothic"/>
              </a:rPr>
              <a:t>= [(A-B) x 1000] / volume of sampl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Where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 = weight of filter paper + suspended 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       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mat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B = weight of filter pap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entury Gothic"/>
              </a:rPr>
              <a:t>       </a:t>
            </a:r>
            <a:r>
              <a:rPr b="1" lang="en-GB" sz="2400" spc="-1" strike="noStrike">
                <a:solidFill>
                  <a:srgbClr val="66ff33"/>
                </a:solidFill>
                <a:latin typeface="Century Gothic"/>
              </a:rPr>
              <a:t>A solid analysis is to be conducted on a sample taken from Sungai UTM as follows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A Gosh crucible and a filter pad are dried to a constant mass of 25.439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wo hundred millilitres of a well-shaken sample of the wastewater is passed through the filter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he crucible, filter, pad and removed solids are dried to a constant mass of 25.645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One hundred millilitres of the filtrate [water passing through the filter in (ii) above] is placed in an evaporation dish that had been pre-weighed at 275.419 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660240" indent="-66024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entury Gothic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entury Gothic"/>
              </a:rPr>
              <a:t>The sample in (iv) is evaporated to dryness and the dish and residue are weighed at 276.227g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Both the crucible from (iii) and the evaporation dish from (v) are placed in a muffle furnace at 55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C for an hour. After cooling, the mass of the crucible is 25.501 g and the mass of the dish is 275.944 g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Obtain the </a:t>
            </a:r>
            <a:r>
              <a:rPr b="1" lang="en-GB" sz="2800" spc="-1" strike="noStrike">
                <a:solidFill>
                  <a:srgbClr val="ff3300"/>
                </a:solidFill>
                <a:latin typeface="Century Gothic"/>
              </a:rPr>
              <a:t>suspended solids (mg/L), dissolved solids (TDS) (mg/L)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entury Gothic"/>
              </a:rPr>
              <a:t>total solids (mg/L)</a:t>
            </a:r>
            <a:r>
              <a:rPr b="1" lang="en-GB" sz="2800" spc="-1" strike="noStrike">
                <a:solidFill>
                  <a:srgbClr val="ffff00"/>
                </a:solidFill>
                <a:latin typeface="Century Gothic"/>
              </a:rPr>
              <a:t> in the sampl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entury Gothic"/>
              </a:rPr>
              <a:t>SOLUTI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w Cen MT"/>
              </a:rPr>
              <a:t>Chemical Parameter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a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Total dissolved solid (TDS)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Solid left in water after the water is filtered and dried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organic compounds - minerals, metals &amp; gas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Organic compounds – product from degradation of organic matters, organic ga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Cause taste, colour and odour proble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Health aspec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b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Organic compound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All organic compounds contain carbon in combination with one or more element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Nature: fibres, vegetable oils, animal oils and fats, cellulose, starch, sugar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Synthesis: a wide variety of compounds and materials prepared by manufacturing processes. E.g. DDT, polyvinylchlorid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Fermentation: Alcohols, acetone, glycerol, antibiotics, acid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epletion of the dissolved oxygen in the wate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estroying aquatic lif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Damaging the ecosystem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45880">
              <a:spcBef>
                <a:spcPts val="70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Some organics can caused cance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46240">
              <a:spcBef>
                <a:spcPts val="70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Trihalomethane (THM-carcinogenic compound) are produced in water and wastewater treatment plants when natural organic compounds combine with chlorine added for disinfection purpose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a4a7"/>
                </a:solidFill>
                <a:latin typeface="Tw Cen MT"/>
              </a:rPr>
              <a:t>c. Inorganic compound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w Cen MT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When placed in water, inorganic compounds dissociate into electrically charged atoms referred to as ions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All atoms linked in ionic bond.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Can be classified into two: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metal </a:t>
            </a:r>
            <a:r>
              <a:rPr b="0" lang="en-US" sz="3200" spc="-1" strike="noStrike">
                <a:solidFill>
                  <a:srgbClr val="ff0000"/>
                </a:solidFill>
                <a:latin typeface="Tw Cen MT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non-meta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808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i.</a:t>
            </a: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	</a:t>
            </a:r>
            <a:r>
              <a:rPr b="1" lang="sv-FI" sz="2600" spc="-1" strike="noStrike">
                <a:solidFill>
                  <a:srgbClr val="ffc000"/>
                </a:solidFill>
                <a:latin typeface="Tw Cen MT"/>
              </a:rPr>
              <a:t>Metal – </a:t>
            </a:r>
            <a:r>
              <a:rPr b="1" lang="en-US" sz="2600" spc="-1" strike="noStrike">
                <a:solidFill>
                  <a:srgbClr val="ffc000"/>
                </a:solidFill>
                <a:latin typeface="Tw Cen MT"/>
              </a:rPr>
              <a:t>Non toxic and tox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Tw Cen MT"/>
              </a:rPr>
              <a:t>Non-toxic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– 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N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Fe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Al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3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Cu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Z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dangerous for health if the concentration is hig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Mineral, readily available from natur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Colour, odour, taste and turbid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Deteriorate health (at high concentration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w Cen MT"/>
              </a:rPr>
              <a:t>Physical Parameter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a.</a:t>
            </a: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7c1a4"/>
                </a:solidFill>
                <a:latin typeface="Tw Cen MT"/>
              </a:rPr>
              <a:t>Turbidity</a:t>
            </a:r>
            <a:r>
              <a:rPr b="0" lang="en-US" sz="2600" spc="-1" strike="noStrike">
                <a:solidFill>
                  <a:srgbClr val="f7c1a4"/>
                </a:solidFill>
                <a:latin typeface="Tw Cen MT"/>
              </a:rPr>
              <a:t> - measured in NTU/FTU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Inorganic compounds such as clay, san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Organic compounds such as plant fibre, human wast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Adsorption point/centre for chemicals and micro-organis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Health aspec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641b"/>
                </a:solidFill>
                <a:latin typeface="Tw Cen MT"/>
              </a:rPr>
              <a:t>Toxic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 – As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B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Cd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Cr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P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, Hg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-  Human activities such as mining and industrie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w Cen MT"/>
              </a:rPr>
              <a:t>-  Dangerous diseases such as cancer, abortion and deformation in new born bab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10663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ii.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1" lang="fr-FR" sz="2600" spc="-1" strike="noStrike">
                <a:solidFill>
                  <a:srgbClr val="ff0000"/>
                </a:solidFill>
                <a:latin typeface="Tw Cen MT"/>
              </a:rPr>
              <a:t>Non-metal 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– e.g. Si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4+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, Cl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1" lang="fr-FR" sz="2600" spc="-1" strike="noStrike">
                <a:solidFill>
                  <a:srgbClr val="ffff00"/>
                </a:solidFill>
                <a:latin typeface="Tw Cen MT"/>
              </a:rPr>
              <a:t>, NO</a:t>
            </a:r>
            <a:r>
              <a:rPr b="1" lang="fr-FR" sz="26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1" lang="fr-FR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Minera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Diseas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heavy metal, NO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w Cen MT"/>
              </a:rPr>
              <a:t>2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“blue baby syndrome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GB" sz="2600" spc="-1" strike="noStrike">
                <a:solidFill>
                  <a:srgbClr val="1faecd"/>
                </a:solidFill>
                <a:latin typeface="Tw Cen MT"/>
              </a:rPr>
              <a:t>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Si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+4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turbid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Fluoride (F</a:t>
            </a:r>
            <a:r>
              <a:rPr b="0" lang="en-US" sz="2600" spc="-1" strike="noStrike" baseline="30000">
                <a:solidFill>
                  <a:srgbClr val="1faecd"/>
                </a:solidFill>
                <a:latin typeface="Tw Cen MT"/>
              </a:rPr>
              <a:t>-</a:t>
            </a:r>
            <a:r>
              <a:rPr b="0" lang="en-US" sz="2600" spc="-1" strike="noStrike">
                <a:solidFill>
                  <a:srgbClr val="1faecd"/>
                </a:solidFill>
                <a:latin typeface="Tw Cen MT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Not good for health if it is taken in high concentration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Concentration of 1 mg/L is good for the growth of children teeth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w Cen MT"/>
              </a:rPr>
              <a:t>-  Excessive concentration – colour on teeth and problem in bone growth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d.</a:t>
            </a: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2a4a7"/>
                </a:solidFill>
                <a:latin typeface="Tw Cen MT"/>
              </a:rPr>
              <a:t>Alkalinity</a:t>
            </a:r>
            <a:r>
              <a:rPr b="0" lang="en-US" sz="2400" spc="-1" strike="noStrike">
                <a:solidFill>
                  <a:srgbClr val="f2a4a7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The quantity of ions in water to neutralise acid </a:t>
            </a:r>
            <a:r>
              <a:rPr b="1" lang="en-US" sz="2400" spc="-1" strike="noStrike">
                <a:solidFill>
                  <a:srgbClr val="ffff00"/>
                </a:solidFill>
                <a:latin typeface="Tw Cen MT"/>
              </a:rPr>
              <a:t>or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 a measure of water strength to neutralise acid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Main constituents : bicarbonate (H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, carbonate (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w Cen MT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, and hydroxide (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) ion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Mineral dissolved in water and air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Human activities such as detergent (in wastewater), fertilisers, pesticide etc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Non pleasant tas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-  Reaction between alkaline constituent and cation (positive ion) produces precipitation in pipe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e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Hardnes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w Cen MT"/>
              </a:rPr>
              <a:t>Definition :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A measure of “multivalent” cations in water such as 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Fe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, Mn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3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a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and Mg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2+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 are very importan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Natural mineral on eart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Excessive soap usage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Precipitate form on hardwar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w Cen MT"/>
              </a:rPr>
              <a:t>-  Precipitate in pipe - temperature and pH increase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617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Two kinds of hardness:</a:t>
            </a: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Carbonate hardnes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w Cen MT"/>
              </a:rPr>
              <a:t>Non-carbonate hardnes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b.</a:t>
            </a:r>
            <a:r>
              <a:rPr b="0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Odour and Tast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organic compounds such as minerals, metals, salts (all of them give taste to water but no odour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w Cen MT"/>
              </a:rPr>
              <a:t>-  Organic compounds from petroleum and/or degradation of organic matters. (odour and taste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Aesthetic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Health problems [reaction from sources and other chemicals such as chlorine (Cl</a:t>
            </a:r>
            <a:r>
              <a:rPr b="0" lang="en-US" sz="2600" spc="-1" strike="noStrike" baseline="-25000">
                <a:solidFill>
                  <a:srgbClr val="ffff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)]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c.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f2a4a7"/>
                </a:solidFill>
                <a:latin typeface="Tw Cen MT"/>
              </a:rPr>
              <a:t>Temperature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measured in 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o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C or </a:t>
            </a:r>
            <a:r>
              <a:rPr b="0" lang="en-US" sz="2600" spc="-1" strike="noStrike" baseline="30000">
                <a:solidFill>
                  <a:srgbClr val="ffff00"/>
                </a:solidFill>
                <a:latin typeface="Tw Cen MT"/>
              </a:rPr>
              <a:t>o</a:t>
            </a: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Source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Effect from ambienc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Industrial activities - cooling system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Disturb biological activities such as micro-organism and aquatic lif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w Cen MT"/>
              </a:rPr>
              <a:t>-  Chemical properties such as the degree of gas solubility, density and viscosit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d.</a:t>
            </a: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f2a4a7"/>
                </a:solidFill>
                <a:latin typeface="Tw Cen MT"/>
              </a:rPr>
              <a:t>Suspended solid</a:t>
            </a:r>
            <a:r>
              <a:rPr b="0" lang="en-US" sz="2800" spc="-1" strike="noStrike">
                <a:solidFill>
                  <a:srgbClr val="f2a4a7"/>
                </a:solidFill>
                <a:latin typeface="Tw Cen MT"/>
              </a:rPr>
              <a:t> - measured in mg/L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Source(s)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Inorganic compounds such as clay, sa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Organic compounds such as plant fibre, human wast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w Cen MT"/>
              </a:rPr>
              <a:t>Effect(s):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Aesthetic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Adsorption point/centre for chemicals and micro-organism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w Cen MT"/>
              </a:rPr>
              <a:t>-  Health aspec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3300"/>
                </a:solidFill>
                <a:uFillTx/>
                <a:latin typeface="Century Gothic"/>
              </a:rPr>
              <a:t>Measurement of Total Solids (TS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Evaporate a known volume of sample to dryness and weigh the residue. The total solid is expressed as milligrams per litre (mg/L)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TS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3300"/>
                </a:solidFill>
                <a:uFillTx/>
                <a:latin typeface="Century Gothic"/>
              </a:rPr>
              <a:t>Measurement of Suspended Solids (SS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Weigh a filter paper on an analytical balanc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Place the filter paper on the filter apparatu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pply vacuum and filter 100 mL (or a larger volume if total suspended matter is low) well mixed sampl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Dry the filter paper in an oven at 103</a:t>
            </a:r>
            <a:r>
              <a:rPr b="1" lang="en-GB" sz="26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C to 105</a:t>
            </a:r>
            <a:r>
              <a:rPr b="1" lang="en-GB" sz="2600" spc="-1" strike="noStrike" baseline="30000">
                <a:solidFill>
                  <a:srgbClr val="ffff00"/>
                </a:solidFill>
                <a:latin typeface="Century Gothic"/>
              </a:rPr>
              <a:t>o</a:t>
            </a: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C for at least 1 hour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After 1 hour, cool the filter paper in a desiccator and weigh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Century Gothic"/>
              </a:rPr>
              <a:t>Repeat the drying cycle until a constant weight is attained or until weight loss is less than 0.5 mg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0:00:59Z</dcterms:created>
  <dc:creator>Owner</dc:creator>
  <dc:description/>
  <dc:language>en-US</dc:language>
  <cp:lastModifiedBy>Anwar A</cp:lastModifiedBy>
  <dcterms:modified xsi:type="dcterms:W3CDTF">2012-08-25T21:04:45Z</dcterms:modified>
  <cp:revision>29</cp:revision>
  <dc:subject/>
  <dc:title>2.2 Water quality parameter</dc:title>
</cp:coreProperties>
</file>