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665-4DD0-490C-B4CD-A8D80221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750-656E-4DDF-8414-EB0B351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046-133B-46D9-8CE1-B692270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4D8-D5ED-46C0-86D5-09728CD0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9B27-6892-4C6A-9E32-68F08F89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6B13-2AEE-4E74-AAA5-A01F976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BF6D-E761-4639-A9E3-BB178EA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9FA-5453-4F32-B20A-D6165F8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BAF-5EDE-4B73-9ECD-BDB1745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2C5-C0FD-4BE9-9929-37DC4C5D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198-EA28-4BAB-866F-783DF5F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3CF-A623-4DAB-BB46-9F09331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CE15-A9C4-4B0E-B3F7-F25F17C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53B2-7BBB-4769-A763-3A98E4A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23D6-2EDE-4E84-AD36-A735B6A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C62B-C4A8-4F3B-9907-03123130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EA74-44CA-4163-BC62-07D41F00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62C-0F76-4998-93DF-09E1BEBB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EC6-17A8-4980-BDD6-226BB6C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E0F-DC81-4ED2-8AE0-1142214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2E6-A853-4824-942D-6CA3E95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409-7B90-489C-AF9D-90C537C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341-0590-4042-8C49-1AF492F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204-9E98-4174-BB12-F7EFA62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AEF-E80D-4EFA-884B-2B471E244715}" type="datetime">
              <a:rPr b="0" lang="en-US" sz="1200" spc="-1" strike="noStrike">
                <a:solidFill>
                  <a:srgbClr val="d4eaef"/>
                </a:solidFill>
                <a:latin typeface="Tw Cen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BAA3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B5A-C786-4BEE-9976-41C940AA3A4A}" type="slidenum">
              <a:rPr b="0" lang="en-US" sz="1200" spc="-1" strike="noStrike">
                <a:solidFill>
                  <a:srgbClr val="d4eae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C182-2CD7-4344-9D91-F52D25AD1E8E}" type="datetime">
              <a:rPr b="0" lang="en-US" sz="1200" spc="-1" strike="noStrike">
                <a:solidFill>
                  <a:srgbClr val="d4eaef"/>
                </a:solidFill>
                <a:latin typeface="Tw Cen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BAA3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FCF-75F0-4EA1-86E1-90C7CA586DC7}" type="slidenum">
              <a:rPr b="0" lang="en-US" sz="1200" spc="-1" strike="noStrike">
                <a:solidFill>
                  <a:srgbClr val="d4eae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w Cen MT"/>
              </a:rPr>
              <a:t>2.2  </a:t>
            </a:r>
            <a:r>
              <a:rPr b="1" lang="en-US" sz="5000" spc="-1" strike="noStrike">
                <a:solidFill>
                  <a:srgbClr val="ff0000"/>
                </a:solidFill>
                <a:latin typeface="Tw Cen MT"/>
              </a:rPr>
              <a:t>Water quality parameter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an be divided into three types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Physical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hemic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Biologic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S"/>
          <p:cNvPicPr/>
          <p:nvPr/>
        </p:nvPicPr>
        <p:blipFill>
          <a:blip r:embed="rId1"/>
          <a:stretch/>
        </p:blipFill>
        <p:spPr>
          <a:xfrm>
            <a:off x="533520" y="762120"/>
            <a:ext cx="7848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609480" y="4952880"/>
            <a:ext cx="76964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Total Solid (mg/L) = Suspended Solid (mg/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</a:t>
            </a: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+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                                   </a:t>
            </a: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Total Dissolved Solid (m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Suspended Solid (mg/L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= [(A-B) x 1000] / volume of sampl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Where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 = weight of filter paper + suspended 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       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mat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B = weight of filter pap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entury Gothic"/>
              </a:rPr>
              <a:t>       </a:t>
            </a:r>
            <a:r>
              <a:rPr b="1" lang="en-GB" sz="2400" spc="-1" strike="noStrike">
                <a:solidFill>
                  <a:srgbClr val="66ff33"/>
                </a:solidFill>
                <a:latin typeface="Century Gothic"/>
              </a:rPr>
              <a:t>A solid analysis is to be conducted on a sample taken from Sungai UTM as follows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A Gosh crucible and a filter pad are dried to a constant mass of 25.439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wo hundred millilitres of a well-shaken sample of the wastewater is passed through the filter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he crucible, filter, pad and removed solids are dried to a constant mass of 25.645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One hundred millilitres of the filtrate [water passing through the filter in (ii) above] is placed in an evaporation dish that had been pre-weighed at 275.419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he sample in (iv) is evaporated to dryness and the dish and residue are weighed at 276.227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Both the crucible from (iii) and the evaporation dish from (v) are placed in a muffle furnace at 55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C for an hour. After cooling, the mass of the crucible is 25.501 g and the mass of the dish is 275.944 g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Obtain the </a:t>
            </a:r>
            <a:r>
              <a:rPr b="1" lang="en-GB" sz="2800" spc="-1" strike="noStrike">
                <a:solidFill>
                  <a:srgbClr val="ff3300"/>
                </a:solidFill>
                <a:latin typeface="Century Gothic"/>
              </a:rPr>
              <a:t>suspended solids (mg/L), dissolved solids (TDS) (mg/L)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entury Gothic"/>
              </a:rPr>
              <a:t>total solids (mg/L)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in the sampl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entury Gothic"/>
              </a:rPr>
              <a:t>SOLUTI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w Cen MT"/>
              </a:rPr>
              <a:t>Chemical Parameter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a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Total dissolved solid (TDS)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Solid left in water after the water is filtered and dri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organic compounds - minerals, metals &amp; gas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Organic compounds – product from degradation of organic matters, organic ga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Cause taste, colour and odour proble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Health aspec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b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Organic compound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All organic compounds contain carbon in combination with one or more element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Nature: fibres, vegetable oils, animal oils and fats, cellulose, starch, sugar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Synthesis: a wide variety of compounds and materials prepared by manufacturing processes. E.g. DDT, polyvinylchlorid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Fermentation: Alcohols, acetone, glycerol, antibiotics, acid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epletion of the dissolved oxygen in the wate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estroying aquatic lif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amaging the ecosystem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Some organics can caused cance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Trihalomethane (THM-carcinogenic compound) are produced in water and wastewater treatment plants when natural organic compounds combine with chlorine added for disinfection purpos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a4a7"/>
                </a:solidFill>
                <a:latin typeface="Tw Cen MT"/>
              </a:rPr>
              <a:t>c. Inorganic compound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w Cen MT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When placed in water, inorganic compounds dissociate into electrically charged atoms referred to as ions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All atoms linked in ionic bond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Can be classified into two: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metal </a:t>
            </a:r>
            <a:r>
              <a:rPr b="0" lang="en-US" sz="3200" spc="-1" strike="noStrike">
                <a:solidFill>
                  <a:srgbClr val="ff0000"/>
                </a:solidFill>
                <a:latin typeface="Tw Cen MT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non-meta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808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i.</a:t>
            </a: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	</a:t>
            </a: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Metal – </a:t>
            </a:r>
            <a:r>
              <a:rPr b="1" lang="en-US" sz="2600" spc="-1" strike="noStrike">
                <a:solidFill>
                  <a:srgbClr val="ffc000"/>
                </a:solidFill>
                <a:latin typeface="Tw Cen MT"/>
              </a:rPr>
              <a:t>Non toxic and tox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Tw Cen MT"/>
              </a:rPr>
              <a:t>Non-toxic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– 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N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Fe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Al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3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Cu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Z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dangerous for health if the concentration is hig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Mineral, readily available from natur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Colour, odour, taste and turbid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Deteriorate health (at high concentration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w Cen MT"/>
              </a:rPr>
              <a:t>Physical Parameter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a.</a:t>
            </a: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Turbidity</a:t>
            </a:r>
            <a:r>
              <a:rPr b="0" lang="en-US" sz="2600" spc="-1" strike="noStrike">
                <a:solidFill>
                  <a:srgbClr val="f7c1a4"/>
                </a:solidFill>
                <a:latin typeface="Tw Cen MT"/>
              </a:rPr>
              <a:t> - measured in NTU/FT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Inorganic compounds such as clay, san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Organic compounds such as plant fibre, human wast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Adsorption point/centre for chemicals and micro-organis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Health aspec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641b"/>
                </a:solidFill>
                <a:latin typeface="Tw Cen MT"/>
              </a:rPr>
              <a:t>Toxic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 – As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B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Cd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Cr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P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Hg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-  Human activities such as mining and industrie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-  Dangerous diseases such as cancer, abortion and deformation in new born bab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10663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ii.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1" lang="fr-FR" sz="2600" spc="-1" strike="noStrike">
                <a:solidFill>
                  <a:srgbClr val="ff0000"/>
                </a:solidFill>
                <a:latin typeface="Tw Cen MT"/>
              </a:rPr>
              <a:t>Non-metal 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– e.g. Si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4+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, Cl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, NO</a:t>
            </a:r>
            <a:r>
              <a:rPr b="1" lang="fr-FR" sz="26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Miner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Diseas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heavy metal, NO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w Cen MT"/>
              </a:rPr>
              <a:t>2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“blue baby syndrome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GB" sz="2600" spc="-1" strike="noStrike">
                <a:solidFill>
                  <a:srgbClr val="1faecd"/>
                </a:solidFill>
                <a:latin typeface="Tw Cen MT"/>
              </a:rPr>
              <a:t>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Si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+4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turbid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Fluoride (F</a:t>
            </a:r>
            <a:r>
              <a:rPr b="0" lang="en-US" sz="2600" spc="-1" strike="noStrike" baseline="30000">
                <a:solidFill>
                  <a:srgbClr val="1faecd"/>
                </a:solidFill>
                <a:latin typeface="Tw Cen MT"/>
              </a:rPr>
              <a:t>-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Not good for health if it is taken in high concentration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Concentration of 1 mg/L is good for the growth of children teeth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Excessive concentration – colour on teeth and problem in bone growth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d.</a:t>
            </a: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Alkalinity</a:t>
            </a:r>
            <a:r>
              <a:rPr b="0" lang="en-US" sz="2400" spc="-1" strike="noStrike">
                <a:solidFill>
                  <a:srgbClr val="f2a4a7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The quantity of ions in water to neutralise acid </a:t>
            </a:r>
            <a:r>
              <a:rPr b="1" lang="en-US" sz="2400" spc="-1" strike="noStrike">
                <a:solidFill>
                  <a:srgbClr val="ffff00"/>
                </a:solidFill>
                <a:latin typeface="Tw Cen MT"/>
              </a:rPr>
              <a:t>or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 a measure of water strength to neutralise acid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Main constituents : bicarbonate (H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, carbonate (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, and hydroxide (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 ion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Mineral dissolved in water and air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Human activities such as detergent (in wastewater), fertilisers, pesticide etc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Non pleasant tas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Reaction between alkaline constituent and cation (positive ion) produces precipitation in pipe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e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Hardnes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A measure of “multivalent” cations in water such as 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Fe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3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and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are very importan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Natural mineral on eart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Excessive soap usage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Precipitate form on hardwar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w Cen MT"/>
              </a:rPr>
              <a:t>-  Precipitate in pipe - temperature and pH increase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617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Two kinds of hardness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Carbonate hardnes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Non-carbonate hardnes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b.</a:t>
            </a:r>
            <a:r>
              <a:rPr b="0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Odour and Tast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organic compounds such as minerals, metals, salts (all of them give taste to water but no odour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w Cen MT"/>
              </a:rPr>
              <a:t>-  Organic compounds from petroleum and/or degradation of organic matters. (odour and taste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Health problems [reaction from sources and other chemicals such as chlorine (Cl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)]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c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Temperatur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measured in 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o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 or 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o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Effect from ambienc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dustrial activities - cooling system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Disturb biological activities such as micro-organism and aquatic lif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Chemical properties such as the degree of gas solubility, density and viscos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d.</a:t>
            </a: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Suspended solid</a:t>
            </a:r>
            <a:r>
              <a:rPr b="0" lang="en-US" sz="2800" spc="-1" strike="noStrike">
                <a:solidFill>
                  <a:srgbClr val="f2a4a7"/>
                </a:solidFill>
                <a:latin typeface="Tw Cen MT"/>
              </a:rPr>
              <a:t> - measured in mg/L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Inorganic compounds such as clay, sa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Organic compounds such as plant fibre, human wast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Aesthetic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Adsorption point/centre for chemicals and micro-organism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Health aspec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3300"/>
                </a:solidFill>
                <a:uFillTx/>
                <a:latin typeface="Century Gothic"/>
              </a:rPr>
              <a:t>Measurement of Total Solids (TS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Evaporate a known volume of sample to dryness and weigh the residue. The total solid is expressed as milligrams per litre (mg/L)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TS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3300"/>
                </a:solidFill>
                <a:uFillTx/>
                <a:latin typeface="Century Gothic"/>
              </a:rPr>
              <a:t>Measurement of Suspended Solids (SS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Weigh a filter paper on an analytical balanc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Place the filter paper on the filter apparatu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pply vacuum and filter 100 mL (or a larger volume if total suspended matter is low) well mixed sampl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Dry the filter paper in an oven at 103</a:t>
            </a:r>
            <a:r>
              <a:rPr b="1" lang="en-GB" sz="26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C to 105</a:t>
            </a:r>
            <a:r>
              <a:rPr b="1" lang="en-GB" sz="26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C for at least 1 hour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fter 1 hour, cool the filter paper in a desiccator and weigh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Repeat the drying cycle until a constant weight is attained or until weight loss is less than 0.5 mg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0:00:59Z</dcterms:created>
  <dc:creator>Owner</dc:creator>
  <dc:description/>
  <dc:language>en-US</dc:language>
  <cp:lastModifiedBy>Anwar A</cp:lastModifiedBy>
  <dcterms:modified xsi:type="dcterms:W3CDTF">2012-08-25T21:04:45Z</dcterms:modified>
  <cp:revision>29</cp:revision>
  <dc:subject/>
  <dc:title>2.2 Water quality parameter</dc:title>
</cp:coreProperties>
</file>