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677-62AF-437E-9927-4B9FA862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27D-E451-46F2-9C05-285EC271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ED2-612F-4E61-B35C-C81ECA27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220-49B0-414A-933D-F1ED08EA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5D3F-3D72-4BFA-805D-75663157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ED7D-9707-4EA8-AD97-7209A905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D6E0-9BB7-4814-A341-6F1947A9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184E-3AE3-4555-9CB1-EE53E4C0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03D8-5D45-4C85-B65F-DB8CA616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2081-56B4-44A6-8C55-B32D50B3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A2A0-CCE9-48B5-98EB-1A9C4EF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F1C-61C9-4974-A792-38F21C13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B939-B38F-468B-B3F8-2A4866F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7996-F10C-4AB1-A7F1-82D06D8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D649-777D-42D9-B302-A4E35D23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42E3-31ED-4E0D-8070-AFC4BC36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3B9C-6A6F-4723-9FFA-72CE9255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6C0B-D69B-4A7A-8B1A-E9AC0E6A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218D-44D2-4F82-9E52-3F874916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02E4-3EB7-4165-92B9-16E87B4B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AE9E-5478-452A-8B8B-71AB57DD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41B8-BE9B-4DDE-BF66-894372E1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F54-1E6F-4726-AEF4-645566B5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0A08-D781-43E1-8EDB-DF409233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981E-EE67-4589-B0CD-A0A9CE9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AE20-7158-463E-B2E1-DCDC07D9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6D17-0C3B-4673-9B96-5B5E9C4D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AF9C-0E29-43BC-9403-1F451408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857C-6722-4F3B-8E13-82823DBD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58B5-765A-4619-9CEE-238C6F34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DC1B-54A9-497A-B59C-F8CFE73E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D771-FF45-470F-8565-97BA38C3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9E56-26BB-49ED-86DE-760A1771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362-BF37-4AE4-A7C8-B304174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8D87F-431D-483E-AC43-4300FB21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EB9C5-0219-43EB-8A85-AB5ABA66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E807-42FE-4803-83DD-8381F149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6BA6F-E264-45FF-8BAE-D79654E0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5D5C3-2963-4A60-8574-E11FC046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47E91-B6D9-4AF2-9815-D799C06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D9810-79E4-423D-8649-D56774D4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7801-8FEA-4729-8721-51FBAEF2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2145-0924-4E07-809A-EDF28FC4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CE2-1BEA-4A3C-8A82-14E0E27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DE2-D8B9-453A-9C3E-4C82254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215-AF5E-45F6-AF26-1E54512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EF1-985C-45D6-BFE0-09BEE926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363-98E2-41F0-8525-4ACFFD05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FCD1-6B60-4297-B3DB-0B9FB830D437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2151-61A8-4B55-86D4-6FE392B10319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0C72-3F2C-4230-ACF4-EE3DA5B0F664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0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2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E2E9-F9CB-47B5-8EC5-EB54AA607613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3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400960" cy="66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782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543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7696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895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3810240" cy="2504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0:19:12Z</dcterms:created>
  <dc:creator>Owner</dc:creator>
  <dc:description/>
  <dc:language>en-US</dc:language>
  <cp:lastModifiedBy>Owner</cp:lastModifiedBy>
  <dcterms:modified xsi:type="dcterms:W3CDTF">2008-07-01T17:41:57Z</dcterms:modified>
  <cp:revision>7</cp:revision>
  <dc:subject/>
  <dc:title>2.3 Measurement of alkalinity and hardness</dc:title>
</cp:coreProperties>
</file>