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43F-4667-4638-9DA5-01868603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AC8-38A8-4E0E-83E3-47992A59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0F8-8300-4401-9267-4B3F716A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15F-4B24-4413-A1CB-C7DEFC6A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51D2-CBE3-4882-B127-D5C6C590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4B65-74D2-4FAD-B161-79E7FEF4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699D-9508-42A5-BF19-2119C4C6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A15A-0C49-492F-AE28-7FAE0013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0A46-6A7F-4351-A13B-996D6CEA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2CE8-55B6-41E3-A169-EF65BDE4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80CD-E5BC-4960-829B-D4FE60A5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4F5-8872-4F78-88EA-B05AB1EF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813B-C4F6-4A1D-9799-7614592B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89AA-91D9-42DC-95E2-65FFDD12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2CE1-7A7D-4A4C-973D-A99AFAE1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0536-6AFC-47FE-A631-3FCE910A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8069-10BA-462C-8401-28E33D5F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9768-D06B-454C-9FF4-DDC32524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B6D0C-38AC-43CF-A7D3-0403D741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AAFE-B236-4BB0-9798-33D7E8F8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8E93-2BBD-4545-A57E-882AEF59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C8D2B-1336-4B14-BAC7-30E68642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30C-0AA4-4D35-B6BB-2977DA6D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B78FA-9FAC-4A0F-8260-E2831A06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039C-E501-4EF7-8E39-3F6F26A9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BD614-C5B8-42D9-BC5F-0F8F193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B8A1-3AB2-4A39-8AFD-37D83DF5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3392-BF1B-45FD-B12C-2FBBA980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42675-8056-4FFF-A65C-2B6FFB70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E2D2-6C10-425C-9E61-C6B0F472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50E2-CF65-447B-B9B2-265E06D1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3D3C0-F8BD-43EB-9044-2987F703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F12F-F676-4BB1-9922-3DBCA9E2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0E0-B7C2-4C92-A933-D721579E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C8E5C-CF4C-40FF-9B4C-D229FE9B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7BAC-7125-4ECB-A959-577CE31C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AB23A-2399-4432-9FE9-97FD7520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D1D9-3B4B-445C-AA4F-BC35BD56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C8E22-1447-43C8-8969-1D8E1DC7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2218-A37B-4602-94B2-C7388A9C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A2158-5C82-4D5D-8FDF-F17AEAB1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FD225-D882-456C-BC26-574CAB39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23282-4065-439D-BAC7-AEA5BA9C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8E0-CFF5-4E64-A560-FB1C3672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009-9D27-45BC-90D8-FC06C8F5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BFA-5D0E-487C-AA8C-7436F6A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59C-8097-41BE-8508-DB6D9B2F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96B-F82E-42FF-92BC-C9205387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B8E4-88C4-4AF6-AEE2-24FE5F24AA98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3F63-2E02-4B98-9279-4523272B8DF2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019B-0EA9-4185-B3E3-73ACB9BF3428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0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2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5B1-6CB2-478B-B3A5-A2E512DE601E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3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400960" cy="66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782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543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7696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2895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3810240" cy="2504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00:19:12Z</dcterms:created>
  <dc:creator>Owner</dc:creator>
  <dc:description/>
  <dc:language>en-US</dc:language>
  <cp:lastModifiedBy>Owner</cp:lastModifiedBy>
  <dcterms:modified xsi:type="dcterms:W3CDTF">2008-07-01T17:41:57Z</dcterms:modified>
  <cp:revision>7</cp:revision>
  <dc:subject/>
  <dc:title>2.3 Measurement of alkalinity and hardness</dc:title>
</cp:coreProperties>
</file>