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D41-4D71-4EFB-9130-3C2BF781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2AF-75BD-4CFF-93C1-6868EBE7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62F-6945-40F1-8AE5-D9675A7A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61C-513D-408C-A061-69E3D19A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15D-DBAF-4BFE-8609-BA24CD6D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A54-2F95-4C06-A7BD-3FDE989B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C664-E0A9-4329-A557-40E2D215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636D-87DC-4189-A576-4B73B41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236-0295-4ACB-9E3B-F662F2FD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083C-477C-4CDD-97D4-0DAD7E5E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212C-7DEB-4638-86E0-529F2243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06E-5662-48BF-8299-F55F37E5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ED39-6893-4941-AE49-82D6232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FFD2-F77D-46D6-92E6-665C875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6484-56EF-49DC-936A-9F1EB68E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D260-C633-450B-B98C-16BD3036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CC52-2A59-47C5-BBF1-4176D667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B30-62E2-4D9A-AA67-27A897D0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B1F-8095-4715-97E9-6F56F3F1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8B7-E813-4AEC-8137-17A267DC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2FC-80FB-42A7-A19C-FF9101D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E82-CC81-4721-8BFC-86A76A8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BD0-2D1C-488E-983E-D0C6A0A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18E-61A5-42FA-8EF0-81691734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7A0E-6E1A-492A-B270-26A023B5A6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4DF9-E668-43DC-BE51-5FDE2B5B07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7.1 Wastewater Treatme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Consists of 4 main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relimin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rim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Second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Treatment and disposal of sl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olby_lagoon"/>
          <p:cNvPicPr/>
          <p:nvPr/>
        </p:nvPicPr>
        <p:blipFill>
          <a:blip r:embed="rId1"/>
          <a:stretch/>
        </p:blipFill>
        <p:spPr>
          <a:xfrm>
            <a:off x="762120" y="68580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g5-3"/>
          <p:cNvPicPr/>
          <p:nvPr/>
        </p:nvPicPr>
        <p:blipFill>
          <a:blip r:embed="rId2"/>
          <a:stretch/>
        </p:blipFill>
        <p:spPr>
          <a:xfrm>
            <a:off x="4800600" y="2743200"/>
            <a:ext cx="3848040" cy="2809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09480" y="4343400"/>
            <a:ext cx="3581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erated lag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Secondary Sedimentation / Clarif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moval of solids before final discharge into receiving wa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entury Gothic"/>
              </a:rPr>
              <a:t>sludge either return to aeration tank or treated before dispo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either rectangular or circular in sh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Surface overflow rate less than 30 m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3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/m</a:t>
            </a:r>
            <a:r>
              <a:rPr b="1" lang="en-US" sz="2800" spc="-1" strike="noStrike" baseline="30000">
                <a:solidFill>
                  <a:srgbClr val="99ff33"/>
                </a:solidFill>
                <a:latin typeface="Century Gothic"/>
              </a:rPr>
              <a:t>2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.day at average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ydraulic Retention Time (HRT) : minimum 2 hours at peak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4140431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Disinf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entury Gothic"/>
              </a:rPr>
              <a:t>destruction of disease causing organisms in sewage efflu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required where discharge have a detrimental effect on receiving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entury Gothic"/>
              </a:rPr>
              <a:t>chlorination most common  (others include ultra-violet, ozon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entury Gothic"/>
              </a:rPr>
              <a:t>operational skill required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chlorination chamb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SCN0475"/>
          <p:cNvPicPr/>
          <p:nvPr/>
        </p:nvPicPr>
        <p:blipFill>
          <a:blip r:embed="rId1"/>
          <a:stretch/>
        </p:blipFill>
        <p:spPr>
          <a:xfrm>
            <a:off x="685800" y="60948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7.2 Preliminary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urpose - protect the operation of the wastewater treatment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Screens remove large solids such as rags, sticks, plastics and similar materials from the waste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320" y="8380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hred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In some plants, shredding devices are installed after the bar screen or as alternatives to screen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Shredding devices reduce solids to a size that can enter the plant without causing mechanical problems or clogg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99ff33"/>
                </a:solidFill>
                <a:latin typeface="Tahoma"/>
              </a:rPr>
              <a:t>The most common shredder is the </a:t>
            </a: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comminu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Grit Rem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The purpose of grit removal is to remove the heavy inorganic solids, which could cause excessive mechanical we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Grit includes sand, gravel, clay, egg shells, coffee grounds, metal filings, seeds and other similiar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2. Prim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onsists of primary sedimentation (or settling) tank or clarifi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duce organic loading to secondary treatment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remove 30% to 40% B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remove 60% to 70% 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anks either rectangular or circular in sh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sludge removal mechanism required in ta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entury Gothic"/>
              </a:rPr>
              <a:t>3. Secondary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Principles of Aerobic Biological Treat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rganic Matter [Food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Oxygen          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ff00ff"/>
                </a:solidFill>
                <a:latin typeface="Century Gothic"/>
              </a:rPr>
              <a:t>[CO2 + H2O + NH3 + NO3 + SO4 ] +  slu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Biomass [Microorganisms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Types of Biological Treatment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1.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Attached Growth (or Fixed-film)  :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microorganisms present and reproduce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on a media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       </a:t>
            </a:r>
            <a:r>
              <a:rPr b="1" lang="en-US" sz="2800" spc="-1" strike="noStrike">
                <a:solidFill>
                  <a:srgbClr val="ff00ff"/>
                </a:solidFill>
                <a:latin typeface="Century Gothic"/>
              </a:rPr>
              <a:t>e.g. trickling fil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2.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Century Gothic"/>
              </a:rPr>
              <a:t>Suspended Growth :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microorganisms present and reproduce in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susp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        </a:t>
            </a:r>
            <a:r>
              <a:rPr b="1" lang="en-US" sz="2800" spc="-1" strike="noStrike">
                <a:solidFill>
                  <a:srgbClr val="ff00ff"/>
                </a:solidFill>
                <a:latin typeface="Century Gothic"/>
              </a:rPr>
              <a:t>e.g. activated sludge, aerated lag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image002"/>
          <p:cNvPicPr/>
          <p:nvPr/>
        </p:nvPicPr>
        <p:blipFill>
          <a:blip r:embed="rId1"/>
          <a:stretch/>
        </p:blipFill>
        <p:spPr>
          <a:xfrm>
            <a:off x="838080" y="685800"/>
            <a:ext cx="4010040" cy="2543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250px-Trickling_filter_bed_2_w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581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685800" y="3962520"/>
            <a:ext cx="3657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Trickling fil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icago01"/>
          <p:cNvPicPr/>
          <p:nvPr/>
        </p:nvPicPr>
        <p:blipFill>
          <a:blip r:embed="rId1"/>
          <a:stretch/>
        </p:blipFill>
        <p:spPr>
          <a:xfrm>
            <a:off x="1295280" y="609480"/>
            <a:ext cx="4476960" cy="3095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066680" y="4495680"/>
            <a:ext cx="4343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ctivated sl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3:59:46Z</dcterms:created>
  <dc:creator>Suryati</dc:creator>
  <dc:description/>
  <dc:language>en-US</dc:language>
  <cp:lastModifiedBy>User</cp:lastModifiedBy>
  <dcterms:modified xsi:type="dcterms:W3CDTF">2008-09-16T07:52:14Z</dcterms:modified>
  <cp:revision>32</cp:revision>
  <dc:subject/>
  <dc:title>Slide 1</dc:title>
</cp:coreProperties>
</file>