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F7B-84E1-483E-8B78-019F27D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60C-3C0B-4511-A917-4F90E0E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BEB-5875-4BB4-A395-B960B51D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CB3-988F-4C95-894B-5280964A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31F-9CF2-4FFF-A0CC-36612275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EADD-A29D-4B39-9AFA-40F137A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0BF-7608-427A-ABED-470ED37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245-36FB-4BA7-BE03-ADCD632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9D51-B7E9-4AC9-B451-1A629ED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0410-6A58-4CBD-8EEC-24BCA23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AF4-70AF-4A9A-8B54-67A40B9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2C9-7389-4C41-9BD6-754D3A1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FC41-5039-45A1-A6FF-57500C6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AD1-FB11-4DC7-9DFD-A6F038D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8FB0-4C04-4AA5-B3AF-CB3F3C3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5C21-9A6C-457A-AE7C-3DE94DD9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A36-8684-45CB-9A46-4B78AFFA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82B-77D0-4BE2-89AC-15BE4B2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548-D944-4378-80C3-B93EB27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EA9-430A-4A55-BE2A-9A2D1926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AF0-AD85-4045-A95E-8DFE01D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D90-8C70-40B3-A06C-BFD3E43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527-39B2-48EF-B369-09BBDCC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6A6-B1EE-46D3-AD45-F0A0293C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32B-74BA-4C33-A15E-95DD567183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B31C-FD5D-4D3B-A683-F9819355FB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7.1 Wastewater Treat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Consists of 4 main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relimin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rim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Second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reatment and disposal of sl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olby_lagoon"/>
          <p:cNvPicPr/>
          <p:nvPr/>
        </p:nvPicPr>
        <p:blipFill>
          <a:blip r:embed="rId1"/>
          <a:stretch/>
        </p:blipFill>
        <p:spPr>
          <a:xfrm>
            <a:off x="762120" y="6858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g5-3"/>
          <p:cNvPicPr/>
          <p:nvPr/>
        </p:nvPicPr>
        <p:blipFill>
          <a:blip r:embed="rId2"/>
          <a:stretch/>
        </p:blipFill>
        <p:spPr>
          <a:xfrm>
            <a:off x="4800600" y="2743200"/>
            <a:ext cx="3848040" cy="2809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09480" y="4343400"/>
            <a:ext cx="3581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erated lag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econdary Sedimentation / Clarif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moval of solids before final discharge into receiving wa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sludge either return to aeration tank or treated before dispo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either rectangular or circular in sh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urface overflow rate less than 30 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3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/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.day at average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ydraulic Retention Time (HRT) : minimum 2 hours at peak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4140431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Disinf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entury Gothic"/>
              </a:rPr>
              <a:t>destruction of disease causing organisms in sewage efflu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required where discharge have a detrimental effect on receiving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chlorination most common  (others include ultra-violet, ozon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entury Gothic"/>
              </a:rPr>
              <a:t>operational skill required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chlorination chamb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N0475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7.2 Preliminary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urpose - protect the operation of the wastewater treatment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Screens remove large solids such as rags, sticks, plastics and similar materials from the waste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320" y="8380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hred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In some plants, shredding devices are installed after the bar screen or as alternatives to screen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Shredding devices reduce solids to a size that can enter the plant without causing mechanical problems or clogg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The most common shredder is the </a:t>
            </a: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comminu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Grit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The purpose of grit removal is to remove the heavy inorganic solids, which could cause excessive mechanical we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Grit includes sand, gravel, clay, egg shells, coffee grounds, metal filings, seeds and other similiar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2. Prim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onsists of primary sedimentation (or settling) tank or clarif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duce organic loading to secondary treatment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remove 30% to 40%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move 60% to 70% 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anks either rectangular or circular in sh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ludge removal mechanism required in t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entury Gothic"/>
              </a:rPr>
              <a:t>3. Second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Principles of Aerobic Biological Treat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rganic Matter [Food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xygen          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00ff"/>
                </a:solidFill>
                <a:latin typeface="Century Gothic"/>
              </a:rPr>
              <a:t>[CO2 + H2O + NH3 + NO3 + SO4 ] +  slu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Biomass [Microorganisms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Types of Biological Treatment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1.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ttached Growth (or Fixed-film)  :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microorganisms present and reproduce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on a media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e.g. trickling fil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uspended Growth :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microorganisms present and reproduce in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usp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e.g. activated sludge, aerated lag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mage002"/>
          <p:cNvPicPr/>
          <p:nvPr/>
        </p:nvPicPr>
        <p:blipFill>
          <a:blip r:embed="rId1"/>
          <a:stretch/>
        </p:blipFill>
        <p:spPr>
          <a:xfrm>
            <a:off x="838080" y="685800"/>
            <a:ext cx="4010040" cy="2543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250px-Trickling_filter_bed_2_w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685800" y="3962520"/>
            <a:ext cx="3657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Trickling fil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icago01"/>
          <p:cNvPicPr/>
          <p:nvPr/>
        </p:nvPicPr>
        <p:blipFill>
          <a:blip r:embed="rId1"/>
          <a:stretch/>
        </p:blipFill>
        <p:spPr>
          <a:xfrm>
            <a:off x="1295280" y="609480"/>
            <a:ext cx="4476960" cy="309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066680" y="4495680"/>
            <a:ext cx="4343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ctivated sl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3:59:46Z</dcterms:created>
  <dc:creator>Suryati</dc:creator>
  <dc:description/>
  <dc:language>en-US</dc:language>
  <cp:lastModifiedBy>User</cp:lastModifiedBy>
  <dcterms:modified xsi:type="dcterms:W3CDTF">2008-09-16T07:52:14Z</dcterms:modified>
  <cp:revision>32</cp:revision>
  <dc:subject/>
  <dc:title>Slide 1</dc:title>
</cp:coreProperties>
</file>