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A99D-F1CB-4155-A66A-4C19C0E6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9721-6922-4713-A539-5F023346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9F52-0310-47AE-BAC6-D856F541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44B8-0528-40ED-86E7-7154C601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31C9-D30B-469C-97AC-6C141CB2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3D06-4E00-44F0-B6EC-7908C8DC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C2AA-19D5-4269-9F8F-D7684005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D552-7D35-4962-95F0-57A24391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A4CF-6C22-4802-9B6F-00132AFD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3E98-9EE2-4661-A93A-C6C112A4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F0DA-56BC-4C93-A750-68FAEB25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4AEF-B697-424E-9C82-72F254FB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81C9-23F9-4057-A4A2-1D129ADE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FFA9-44E9-49AB-B2C4-DA1B4A34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30BC-6F52-401F-9ACF-1469A19E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14CA-C726-4879-96E6-94122689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6AA7-D80E-4553-93CE-FB2839F0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9CE6-2AD3-4996-B095-C1305228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7DA2-B2AD-49A3-80A7-7124022B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0751-7507-4013-8364-6EAB03AA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57A6-E0CF-4D2A-8C46-A79BBCEB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F804-82B9-43D7-A156-B2ED1435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E1C0-AA7B-4BD9-AD95-AF8D7330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E7B9-E8B6-45EC-BB12-5EB893C6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D858-527F-4AB8-962B-2E45CF74F61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890F-61EF-484F-B30F-EB065550EF3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1981080"/>
            <a:ext cx="7543800" cy="143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WASTE STABILIZATION POND (WSP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11430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aturation P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-1.5 m de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ceive the effluent from a facultative p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imary function is the removal of pathoge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75438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OD Remov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erobic pond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BOD removal is achieved by sedimentation of settleable sol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condary facultative ponds</a:t>
            </a: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 that receive settled water (anaerobic pond effluent), the remaining non-settleable BOD is oxidized by heterotrophic bacte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imary facultative ponds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(receive raw wastewater), the above functions of anaerobic and secondary facultative ponds are combi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turation pond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only a small amount of BOD removal occu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320" y="45720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thogen Remov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Bacte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ecal bacteria are mainly removed in facultative and especially maturation po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principal mechanism for faecal bacteria removal ar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1- Time and tempera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Faecal bacteria die-off in ponds increase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ith both time and tempera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2- High p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Faecal bacteria (except Vibrio Cholerae) d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ry quickly (within minutes) at pH&gt;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3- High light intens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Light of wavelength 425 – 700 nm 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mage faecal bacte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sign of WS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60093"/>
                </a:solidFill>
                <a:uFillTx/>
                <a:latin typeface="Arial"/>
              </a:rPr>
              <a:t>1. Anaerobic P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olumetric BOD loading (g/m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------  (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i = influent BOD, mg/L (=g/m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Q = flow, m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/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anaerobic pond volume, m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2286000"/>
            <a:ext cx="3962160" cy="12193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905120" y="2438280"/>
                <a:ext cx="33526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∀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371600" y="5181480"/>
            <a:ext cx="53352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378080" y="5181480"/>
                <a:ext cx="511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∀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hould lie between 100 and 400 g/m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maintain anaerobic condi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avoid odour releas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The mean hydraulic retention time (HRT), t</a:t>
            </a:r>
            <a:r>
              <a:rPr b="1" lang="en-US" sz="2800" spc="-1" strike="noStrike" baseline="-25000">
                <a:solidFill>
                  <a:srgbClr val="d60093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 (day) is determined fro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-------- (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533520"/>
            <a:ext cx="761760" cy="6858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990720" y="457200"/>
                <a:ext cx="685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1447920" y="4419720"/>
            <a:ext cx="2438280" cy="9903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523880" y="4495680"/>
                <a:ext cx="2210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∀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sign values of permissible volumetric loading on and percentage BOD removal in anaerobic ponds at various temperatures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66680" y="1752480"/>
          <a:ext cx="7162560" cy="4494960"/>
        </p:xfrm>
        <a:graphic>
          <a:graphicData uri="http://schemas.openxmlformats.org/drawingml/2006/table">
            <a:tbl>
              <a:tblPr/>
              <a:tblGrid>
                <a:gridCol w="2277360"/>
                <a:gridCol w="2607480"/>
                <a:gridCol w="2277720"/>
              </a:tblGrid>
              <a:tr h="160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emperature (</a:t>
                      </a:r>
                      <a:r>
                        <a:rPr b="1" lang="en-US" sz="24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olumetric loading (g/m</a:t>
                      </a:r>
                      <a:r>
                        <a:rPr b="1" lang="en-US" sz="24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OD removal(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&lt;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 – 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T – 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T + 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&gt;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0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60093"/>
                </a:solidFill>
                <a:uFillTx/>
                <a:latin typeface="Arial"/>
              </a:rPr>
              <a:t>2. Facultative P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rface BOD loading (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 kg.ha 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-----  (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e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f = facultative pond area, m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2362320"/>
            <a:ext cx="3200400" cy="10666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266004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 = 10LiQ/Af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permissible BOD loading,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max = 350 (1.107 – 0.002T)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T-25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----- (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ce a suitable value of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has been selected, the pond area is calculated from equation (3) and its retention time (t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 day) fro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/Q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---------- (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er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  pond depth, 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  wastewater flow, m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/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68580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Maturation P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a) Faecal Coliform Remo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resulting equation for a single pond 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 = Ni / (1 + k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-------- (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320" y="11430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8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er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8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     =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umber of FC per 100 mL of    efflu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8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i      =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umber of FC per 100 mL of influ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8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T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=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st order rate constant for FC removal, per 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8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       =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tention time, 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 a series of anaerobic, facultative and maturation ponds, equation (6) becom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-- (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 and Ni now refer to the numbers of FC per 100 mL of the final effluent and raw wastewat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1905120"/>
            <a:ext cx="6248520" cy="18288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219320" y="1981080"/>
                <a:ext cx="60195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value of k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s highly temperature depend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= 2.6 (1.19)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T-20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 ---------- (8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eck the BOD effluent concentration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, 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--------- (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here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le   =</a:t>
            </a: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BOD effluent concentration, mg/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li</a:t>
            </a: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  =</a:t>
            </a: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BOD influent concentration, mg/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K</a:t>
            </a:r>
            <a:r>
              <a:rPr b="1" i="1" lang="en-US" sz="2800" spc="-1" strike="noStrike" baseline="-25000">
                <a:solidFill>
                  <a:srgbClr val="66ff33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 =</a:t>
            </a: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 first order rate constant for B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          </a:t>
            </a: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removal, per 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t    =</a:t>
            </a: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 retention time, 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1600200"/>
            <a:ext cx="3505320" cy="13716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676520" y="1676520"/>
                <a:ext cx="312408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value of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s highly temperature depen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----- (1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he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@ 20</a:t>
            </a:r>
            <a:r>
              <a:rPr b="1" lang="en-US" sz="2800" spc="-1" strike="noStrike" baseline="30000">
                <a:solidFill>
                  <a:srgbClr val="66ff33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C  =  0.3 per day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                        </a:t>
            </a:r>
            <a:r>
              <a:rPr b="1" i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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=  1.05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2133720"/>
            <a:ext cx="4572000" cy="11430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447920" y="2209680"/>
                <a:ext cx="44956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</m:sub>
                    </m:sSub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 n ponds in series, BOD effluent can be calculated as follow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----- (1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3200400"/>
            <a:ext cx="5105520" cy="1447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295280" y="3352680"/>
                <a:ext cx="4724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Exampl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sign a waste stabilization pond to treat 10,000 m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/day of a wastewater which has a BOD of 350 mg/L and 1x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FC per 100 mL. The effluent should contain no more than 1000 FC per 100 mL and 20 mg/L BOD. The design temperature is 18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 rot="5400000">
            <a:off x="5654880" y="3369240"/>
            <a:ext cx="6858000" cy="119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3049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Anaerobic Po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rom Table   the design loading is given b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= 20T–100 = (20 x 18)-100 = 260 g/m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he pond volume is given by equation  (1) 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= L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Q/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= 350 x 10,000/260 = 13,462 m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914400" y="2286000"/>
                <a:ext cx="473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828800" y="4038480"/>
                <a:ext cx="512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∀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352680" y="4038480"/>
                <a:ext cx="405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 rot="5400000">
            <a:off x="5654880" y="3369240"/>
            <a:ext cx="6858000" cy="119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3049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retention time is given by equation (2)  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13,462 /10,000 = 1.35 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BOD removal is given in Table  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 = 2T + 20 = (2 x 18) + 20 = 56 perc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2133720"/>
            <a:ext cx="190476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295280" y="2209680"/>
                <a:ext cx="1676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∀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0102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 rot="5400000">
            <a:off x="5654880" y="3369240"/>
            <a:ext cx="6858000" cy="1191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3049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b) Facultative P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design loading is given by equation (4) 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max = 350 (1.107 – 0.002T)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T-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350 (1.107 – 0.002T)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T-25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350[1.107 – (0.002 x 18)]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18-25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216 kg/ha 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 rot="5400000">
            <a:off x="5654880" y="3369240"/>
            <a:ext cx="6858000" cy="119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3049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 the area is given by equation (3) 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= 10 x 0.44 x 350 x 10,000/216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71,300 m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16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 = 10LiQ / A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 rot="5400000">
            <a:off x="5654880" y="3369240"/>
            <a:ext cx="6858000" cy="119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3049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retention time is given by equation (5)  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= A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D/Q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aking a depth of 1.5 m, this becom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71,300 x 1.5/10,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10.7 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 rot="5400000">
            <a:off x="5654880" y="3369240"/>
            <a:ext cx="6858000" cy="1191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3049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79246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c ) Maturation P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Faecal Coliform Remo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 18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 the value of k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s given by equation (8) 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2.6 (1.19)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T-2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2.6(1.19)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1.84 day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90720" y="3048120"/>
            <a:ext cx="7467480" cy="11430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 rot="5400000">
            <a:off x="5654880" y="3369240"/>
            <a:ext cx="6858000" cy="1191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3049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value of N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s given by equation (7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aking t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7 days, this becom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 n = 1, N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99957  &gt; 1000 FC/100 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 n = 2, N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7201 &gt; 1000 FC/100 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 n = 3, N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 518 &lt; 1000 FC/100 mL , 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90720" y="3048120"/>
                <a:ext cx="731520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4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4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</m:e>
                        </m:d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×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990720" y="1143000"/>
            <a:ext cx="5867280" cy="10666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143000" y="1143000"/>
                <a:ext cx="548640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heel spokes="2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 rot="5400000">
            <a:off x="5654880" y="3369240"/>
            <a:ext cx="6858000" cy="1191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3049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 a depth of 1.5 m, the area of the maturation pond 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de-DE" sz="2800" spc="-1" strike="noStrike" baseline="-25000">
                <a:solidFill>
                  <a:srgbClr val="ffff00"/>
                </a:solidFill>
                <a:latin typeface="Arial"/>
              </a:rPr>
              <a:t>m</a:t>
            </a: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    = Q t</a:t>
            </a:r>
            <a:r>
              <a:rPr b="1" lang="de-DE" sz="2800" spc="-1" strike="noStrike" baseline="-25000">
                <a:solidFill>
                  <a:srgbClr val="ffff00"/>
                </a:solidFill>
                <a:latin typeface="Arial"/>
              </a:rPr>
              <a:t>m</a:t>
            </a: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 /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10,000 x 7/1.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46,667 m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 rot="5400000">
            <a:off x="5654880" y="3369240"/>
            <a:ext cx="6858000" cy="119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3049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BOD Remo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aerobic Pond: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i="1" lang="en-US" sz="2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= 0.44 x 350 mg/L = 154 mg/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cultative and Maturation Pon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85800" y="2590920"/>
                <a:ext cx="51814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2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a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48520" y="4800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1.6 mg/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1522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85800" y="3352680"/>
                <a:ext cx="396252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685800" y="4572000"/>
                <a:ext cx="548640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4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2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2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7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WASTE STABILIZATION POND (WSP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impl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mple to constru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mple to operate and maint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nly unskilled labour is need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Low C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cheaper than other wastewater treatment proce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need for expensive equip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High Efficien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BOD removals &gt; 9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Total nitrogen removals is 70-9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tal phosphorus removal is 30-4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fficient in removing pathoge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ypes of WS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aerobic po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cultative po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turation po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naerobic P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-5 m de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ceive high organic loading (usually &gt; 100 g BOD/m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) – contain no dissolved oxygen and no alga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imary function  is BOD remo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tention times are short (e.g. 1 da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acultative P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-2 m de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wo typ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Primary Facultative P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ceive raw wastewat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Secondary Facultative P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ceive settled wastewat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e.g. effluent from anaerobic pon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primary function is the removal of B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 zone exi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surface zone where aerobic bacteria and algae exist in a symbiotic relationship. The algae provide the bacteria with oxygen and the bacteria provide the algae with carbon dioxi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An anaerobic bottom zone in which accumulated solids are decomposed by anaerobic bacter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An intermediate zone that is partly aerobic and partly anaerobic in which the decomposition of organic wastes is carried out by facultative bacter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03:59:46Z</dcterms:created>
  <dc:creator>Suryati</dc:creator>
  <dc:description/>
  <dc:language>en-US</dc:language>
  <cp:lastModifiedBy>Lecturer</cp:lastModifiedBy>
  <dcterms:modified xsi:type="dcterms:W3CDTF">2007-10-04T23:41:12Z</dcterms:modified>
  <cp:revision>57</cp:revision>
  <dc:subject/>
  <dc:title>Slide 1</dc:title>
</cp:coreProperties>
</file>