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DA3-C352-49AA-87ED-8AF7FAFF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E03-969C-493B-B00B-5B937C87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236-4CF2-440B-8D04-8F317FA2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B46-A07D-41A1-A208-FF5D93DA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F155-8961-4549-8466-82FA51D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9DF6-2A85-43F6-A2DB-FA9295A7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F6AC-9956-4904-A2EC-16A1F835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D059-C179-4773-9147-2910454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EDB0-BE83-4628-8723-53EEFA8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A23F-F355-4635-9E93-9F2FB41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219A-3128-46F0-A4CE-9A259B05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5C9-BDAC-4F80-AE6A-FCAAEA1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BAD6-2E6C-4F64-A2A2-CD5405A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EAD0-4B34-4B08-8648-9D185281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BBAC-431A-4A05-96DD-E54312A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0B41-0089-403E-A807-22EEB5FC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31C8-5C99-4F08-861C-FC3E9EC9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3A0-4603-4E89-8C9C-2F203B9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5B8-46B9-4915-9341-07F9EFB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D1C-B39C-4AE3-BD38-5501FF3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A5A-9545-4D59-8D06-18FC6DA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897-68EF-4BE2-AE6E-04A2BC56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E5E-A081-4251-A623-ECE162C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04B-51B9-4079-B621-468017F0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ED3B-2B99-4488-A580-467332D6B1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CF75-5811-4C4A-B8A0-0AAF53B976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981080"/>
            <a:ext cx="7543800" cy="143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ASTE STABILIZATION POND (WSP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aturation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-1.5 m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the effluent from a facultative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function is the removal of pathog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OD Remo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 pond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OD removal is achieved by sedimentation of settleable so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ary facultative ponds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 that receive settled water (anaerobic pond effluent), the remaining non-settleable BOD is oxidized by heterotrophic bac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imary facultative ponds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(receive raw wastewater), the above functions of anaerobic and secondary facultative ponds are comb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turation pond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nly a small amount of BOD removal occ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ogen Remo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ecal bacteria are mainly removed in facultative and especially maturation p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rincipal mechanism for faecal bacteria removal a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1- Time and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Faecal bacteria die-off in ponds increas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both time and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2- High 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Faecal bacteria (except Vibrio Cholerae) d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ry quickly (within minutes) at pH&gt;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3- High light int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Light of wavelength 425 – 700 nm 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mage faecal bac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sign of W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Arial"/>
              </a:rPr>
              <a:t>1. Anaerobic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olumetric BOD loading (g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-  (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 = influent BOD, mg/L (=g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 = flow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anaerobic pond volume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286000"/>
            <a:ext cx="396216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05120" y="2438280"/>
                <a:ext cx="3352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371600" y="518148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8080" y="5181480"/>
                <a:ext cx="511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ould lie between 100 and 400 g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maintain anaerobic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avoid odour rele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The mean hydraulic retention time (HRT), t</a:t>
            </a:r>
            <a:r>
              <a:rPr b="1" lang="en-US" sz="2800" spc="-1" strike="noStrike" baseline="-25000">
                <a:solidFill>
                  <a:srgbClr val="d60093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 (day) is determined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--- (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33520"/>
            <a:ext cx="76176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90720" y="45720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447920" y="4419720"/>
            <a:ext cx="2438280" cy="990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4495680"/>
                <a:ext cx="2210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ign values of permissible volumetric loading on and percentage BOD removal in anaerobic ponds at various temperatures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6680" y="1752480"/>
          <a:ext cx="7162560" cy="4494960"/>
        </p:xfrm>
        <a:graphic>
          <a:graphicData uri="http://schemas.openxmlformats.org/drawingml/2006/table">
            <a:tbl>
              <a:tblPr/>
              <a:tblGrid>
                <a:gridCol w="2277360"/>
                <a:gridCol w="2607480"/>
                <a:gridCol w="2277720"/>
              </a:tblGrid>
              <a:tr h="160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emperature (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olumetric loading (g/m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OD removal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lt;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T – 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T + 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&gt;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60093"/>
                </a:solidFill>
                <a:uFillTx/>
                <a:latin typeface="Arial"/>
              </a:rPr>
              <a:t>2. Facultative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face BOD loading (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kg.h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  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f = facultative pond area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362320"/>
            <a:ext cx="3200400" cy="1066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6600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10LiQ/A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ermissible BOD loading,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max = 350 (1.107 – 0.002T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-2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----- 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a suitable value of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as been selected, the pond area is calculated from equation (3) and its retention time (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day) fro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/Q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---------- (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 pond depth,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 wastewater flow,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858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turation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) Faecal Coliform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sulting equation for a single pond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 = Ni / (1 + k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-------- (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 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ber of FC per 100 mL of    efflu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i  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umber of FC per 100 mL of influ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st order rate constant for FC removal, per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       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ention time,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a series of anaerobic, facultative and maturation ponds, equation (6) beco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 (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 and Ni now refer to the numbers of FC per 100 mL of the final effluent and raw waste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905120"/>
            <a:ext cx="6248520" cy="1828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19320" y="1981080"/>
                <a:ext cx="6019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lue of 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highly temperature depen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= 2.6 (1.19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T-2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---------- (8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eck the BOD effluent concentration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, 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-------- (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le  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BOD effluent concentration, mg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li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BOD influent concentration, mg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i="1" lang="en-US" sz="28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first order rate constant for B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removal, per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t    =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retention time,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1600200"/>
            <a:ext cx="3505320" cy="1371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1676520"/>
                <a:ext cx="31240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lue of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highly temperature depen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 (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@ 20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  =  0.3 per day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                        </a:t>
            </a:r>
            <a:r>
              <a:rPr b="1" i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=  1.0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133720"/>
            <a:ext cx="457200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2209680"/>
                <a:ext cx="4495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sub>
                    </m:sSub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ponds in series, BOD effluent can be calculated as follow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----- (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200400"/>
            <a:ext cx="510552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3352680"/>
                <a:ext cx="472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ign a waste stabilization pond to treat 10,000 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/day of a wastewater which has a BOD of 350 mg/L and 1x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C per 100 mL. The effluent should contain no more than 1000 FC per 100 mL and 20 mg/L BOD. The design temperature is 18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Anaerobic Po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rom Table   the design loading is given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20T–100 = (20 x 18)-100 = 260 g/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he pond volume is given by equation  (1) 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Q/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= 350 x 10,000/260 = 13,462 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2286000"/>
                <a:ext cx="4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28800" y="4038480"/>
                <a:ext cx="512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352680" y="4038480"/>
                <a:ext cx="405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tention time is given by equation (2) 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3,462 /10,000 = 1.35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BOD removal is given in Table 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 = 2T + 20 = (2 x 18) + 20 = 56 per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133720"/>
            <a:ext cx="19047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95280" y="2209680"/>
                <a:ext cx="167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010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b) Facultative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esign loading is given by equation (4)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ax = 350 (1.107 – 0.002T)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T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50 (1.107 – 0.002T)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T-2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50[1.107 – (0.002 x 18)]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8-2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216 kg/ha 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 the area is given by equation (3)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10 x 0.44 x 350 x 10,000/216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71,300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1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= 10LiQ / 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tention time is given by equation (5) 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= 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D/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ing a depth of 1.5 m, this beco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71,300 x 1.5/10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0.7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79246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c ) Maturation P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ecal Coliform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18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the value of 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given by equation (8) 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.6 (1.19)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T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.6(1.19)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1.84 day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90720" y="3048120"/>
            <a:ext cx="7467480" cy="1143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value of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given by equation (7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ing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7 days, this becom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= 1,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99957  &gt; 1000 FC/1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= 2,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7201 &gt; 1000 FC/1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n = 3,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518 &lt; 1000 FC/100 mL , 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90720" y="3048120"/>
                <a:ext cx="73152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90720" y="1143000"/>
            <a:ext cx="5867280" cy="1066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43000" y="1143000"/>
                <a:ext cx="5486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a depth of 1.5 m, the area of the maturation pond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de-DE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   = Q t</a:t>
            </a:r>
            <a:r>
              <a:rPr b="1" lang="de-DE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/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0,000 x 7/1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46,667 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5400000">
            <a:off x="565488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049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OD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aerobic Pond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0.44 x 350 mg/L = 154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cultative and Maturation Po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85800" y="2590920"/>
                <a:ext cx="5181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4800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1.6 mg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1522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5800" y="3352680"/>
                <a:ext cx="396252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85800" y="4572000"/>
                <a:ext cx="5486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ASTE STABILIZATION POND (WSP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to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to operate and main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unskilled labour is nee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heaper than other wastewater treatment proc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need for expensive 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High Effic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BOD removals &gt; 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otal nitrogen removals is 70-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phosphorus removal is 30-4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icient in removing pathog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ypes of W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erobic 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cultative 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uration 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naerobic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5 m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high organic loading (usually &gt; 100 g BOD/m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) – contain no dissolved oxygen and no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function  is BOD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ention times are short (e.g. 1 d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acultative P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-2 m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rimary Facultative P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raw wastewa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Secondary Facultative P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ive settled waste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.g. effluent from anaerobic pon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primary function is the removal of B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zone ex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surface zone where aerobic bacteria and algae exist in a symbiotic relationship. The algae provide the bacteria with oxygen and the bacteria provide the algae with carbon diox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An anaerobic bottom zone in which accumulated solids are decomposed by anaerobic bac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An intermediate zone that is partly aerobic and partly anaerobic in which the decomposition of organic wastes is carried out by facultative bac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3:59:46Z</dcterms:created>
  <dc:creator>Suryati</dc:creator>
  <dc:description/>
  <dc:language>en-US</dc:language>
  <cp:lastModifiedBy>Lecturer</cp:lastModifiedBy>
  <dcterms:modified xsi:type="dcterms:W3CDTF">2007-10-04T23:41:12Z</dcterms:modified>
  <cp:revision>57</cp:revision>
  <dc:subject/>
  <dc:title>Slide 1</dc:title>
</cp:coreProperties>
</file>