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C28-3D04-4163-A56D-06F1D3E6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779-F4C7-4F20-8394-779ED226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114-2885-4BA0-A2BF-C0C1756D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FEC-9227-458A-9B3F-254473F2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658-A25B-4F0C-A293-3BA22CBC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3265-E7BD-4F60-A5BE-1A5B4372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B7C5-9B88-41C0-9D48-EF5D05C7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175C-60B5-467C-9B12-E3362A9C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D445-26C8-46A0-9495-02582BC9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D497-1FB8-43E4-A14A-5240FB97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67BE-3BDF-4B67-A76A-76101793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4E8-454D-4835-8CE4-BC884058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435A-97A4-4301-81B1-3DD2BE8E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6E8A-33D9-4498-8B58-8B9E2991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3BFA-902D-4420-98F4-A452A118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C4E8-3BF6-46B3-BB01-B0E25ABD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88AF-7410-490C-8BE2-6A6CA01F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608-87F9-461E-A5C4-939AACD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48A-B5FF-47C7-A96D-442B5702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C48-16E4-4EF7-83BD-B0D32148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C9C-E041-4C4D-ACC8-2E944557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2EF-1B2D-4E33-AF69-B08E76D4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E97-E10B-40CD-8603-8774639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9AB-40E8-4C74-8B45-30AEAD4D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DBC5-3432-4D1B-A4E8-FDD006523C4B}" type="slidenum">
              <a:rPr b="0" lang="en-US" sz="1200" spc="-1" strike="noStrike">
                <a:solidFill>
                  <a:srgbClr val="d4eae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3732-D9C7-4BF3-9E5D-8E2C061212EC}" type="slidenum">
              <a:rPr b="0" lang="en-US" sz="1200" spc="-1" strike="noStrike">
                <a:solidFill>
                  <a:srgbClr val="d4eae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rec.doctorquek.com/Technoclinic/Waterquality/wqcriteria/INWQSM-Class%20I.doc" TargetMode="External"/><Relationship Id="rId2" Type="http://schemas.openxmlformats.org/officeDocument/2006/relationships/hyperlink" Target="http://wrec.doctorquek.com/Technoclinic/Waterquality/wqcriteria/INWQSM-Class%20IIA.doc" TargetMode="External"/><Relationship Id="rId3" Type="http://schemas.openxmlformats.org/officeDocument/2006/relationships/hyperlink" Target="http://wrec.doctorquek.com/Technoclinic/Waterquality/wqcriteria/INWQSM-Class%20IIB.doc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solidFill>
            <a:srgbClr val="fbe0d1"/>
          </a:solidFill>
          <a:ln w="28440">
            <a:solidFill>
              <a:srgbClr val="da1f28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Franklin Gothic Medium"/>
              </a:rPr>
              <a:t>2.5 </a:t>
            </a:r>
            <a:r>
              <a:rPr b="1" lang="en-US" sz="5000" spc="-1" strike="noStrike">
                <a:solidFill>
                  <a:srgbClr val="ff0000"/>
                </a:solidFill>
                <a:latin typeface="Franklin Gothic Medium"/>
              </a:rPr>
              <a:t>Water Quality Criteria</a:t>
            </a:r>
            <a:endParaRPr b="0" lang="en-US" sz="50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eb641b"/>
              </a:buClr>
              <a:buSzPct val="9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Franklin Gothic Book"/>
              </a:rPr>
              <a:t>Interim National Water Quality Standards for Malaysia 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(</a:t>
            </a:r>
            <a:r>
              <a:rPr b="0" lang="en-US" sz="2600" spc="-1" strike="noStrike" u="sng">
                <a:solidFill>
                  <a:srgbClr val="ff8119"/>
                </a:solidFill>
                <a:uFillTx/>
                <a:latin typeface="Franklin Gothic Book"/>
                <a:hlinkClick r:id="rId1"/>
              </a:rPr>
              <a:t>Class I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600" spc="-1" strike="noStrike" u="sng">
                <a:solidFill>
                  <a:srgbClr val="ff8119"/>
                </a:solidFill>
                <a:uFillTx/>
                <a:latin typeface="Franklin Gothic Book"/>
                <a:hlinkClick r:id="rId2"/>
              </a:rPr>
              <a:t>Class IIA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600" spc="-1" strike="noStrike" u="sng">
                <a:solidFill>
                  <a:srgbClr val="ff8119"/>
                </a:solidFill>
                <a:uFillTx/>
                <a:latin typeface="Franklin Gothic Book"/>
                <a:hlinkClick r:id="rId3"/>
              </a:rPr>
              <a:t>Class IIB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Franklin Gothic Book"/>
              </a:rPr>
              <a:t>Class III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Franklin Gothic Book"/>
              </a:rPr>
              <a:t>Class IV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,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Franklin Gothic Book"/>
              </a:rPr>
              <a:t>Class V</a:t>
            </a: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- as the primary basis for the classification of rivers.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514440" indent="-51444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Franklin Gothic Book"/>
              </a:rPr>
              <a:t>Water Quality Index System for Rivers in Malaysia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Franklin Gothic Book"/>
              </a:rPr>
              <a:t>- for five designated classes of beneficial uses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Franklin Gothic Book"/>
              </a:rPr>
              <a:t>WQI Based on DoE Formula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Franklin Gothic Book"/>
              </a:rPr>
              <a:t>The parameters chosen for the WQI based on the DoE's formula are DO, BOD, COD, SS, AN and pH.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Franklin Gothic Book"/>
              </a:rPr>
              <a:t>The formula used :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1" lang="en-US" sz="2600" spc="-1" strike="noStrike">
                <a:solidFill>
                  <a:srgbClr val="ec767c"/>
                </a:solidFill>
                <a:latin typeface="Franklin Gothic Book"/>
              </a:rPr>
              <a:t>WQI = 0.22*SIDO + 0.19*SIBOD + 0.16*SICOD + 0.15*SIAN + 0.16*SISS +  0.12*SIpH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8:32:14Z</dcterms:created>
  <dc:creator>Owner</dc:creator>
  <dc:description/>
  <dc:language>en-US</dc:language>
  <cp:lastModifiedBy>Owner</cp:lastModifiedBy>
  <dcterms:modified xsi:type="dcterms:W3CDTF">2008-07-01T19:36:20Z</dcterms:modified>
  <cp:revision>5</cp:revision>
  <dc:subject/>
  <dc:title>2.5 Water Quality Criteria</dc:title>
</cp:coreProperties>
</file>