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A3F0-8C32-4F7D-8612-877A1785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1E59-F870-4532-B7A8-3BC1E17B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D636-D481-447A-824D-6DCCD6AF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FD25-81BE-482C-A159-44584488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B8E7-9C35-429F-8110-E9E24738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E16F-14CD-46BC-97A3-F87E8F2E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F887-D2DB-4328-9875-7359F31C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CAAE-453A-4D77-8487-7AACD40D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D46F-D5DF-4FB7-A0E5-05D14544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887A-D3B6-4CB2-9BA8-8837718A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6A1D-D5E9-466E-9EA9-E59AFF67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D5F-4A03-4FF4-8A00-A100FCEE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BB7B-1FAF-49E9-97AF-73CA0A33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57D0-81D9-421D-BFC7-E9364D43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F3E7-0785-4E39-A60F-36593C5D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E82B-CB80-4D47-B892-2DDE5FAE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4CCC-4676-4271-A465-7716084A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BE0-D8F4-40CA-BEAD-8668C48E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C271-FDD8-470E-A5B3-6713D141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6879-8DC7-4144-BAE1-94893435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ECD3-AD31-48FA-839C-6DB431C5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1C7C-388A-4C14-A588-E7EC026E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4A62-5E86-4D34-9DA1-32567626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32D9-F75B-4B79-874C-B06F4302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9661-9B7B-45BE-B2EE-03FF02F71232}" type="slidenum">
              <a:rPr b="0" lang="en-US" sz="1200" spc="-1" strike="noStrike">
                <a:solidFill>
                  <a:srgbClr val="d4eae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A93A-A97B-46E5-B397-6425F77F1EA8}" type="slidenum">
              <a:rPr b="0" lang="en-US" sz="1200" spc="-1" strike="noStrike">
                <a:solidFill>
                  <a:srgbClr val="d4eae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rec.doctorquek.com/Technoclinic/Waterquality/wqcriteria/INWQSM-Class%20I.doc" TargetMode="External"/><Relationship Id="rId2" Type="http://schemas.openxmlformats.org/officeDocument/2006/relationships/hyperlink" Target="http://wrec.doctorquek.com/Technoclinic/Waterquality/wqcriteria/INWQSM-Class%20IIA.doc" TargetMode="External"/><Relationship Id="rId3" Type="http://schemas.openxmlformats.org/officeDocument/2006/relationships/hyperlink" Target="http://wrec.doctorquek.com/Technoclinic/Waterquality/wqcriteria/INWQSM-Class%20IIB.doc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solidFill>
            <a:srgbClr val="fbe0d1"/>
          </a:solidFill>
          <a:ln w="28440">
            <a:solidFill>
              <a:srgbClr val="da1f28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Franklin Gothic Medium"/>
              </a:rPr>
              <a:t>2.5 </a:t>
            </a:r>
            <a:r>
              <a:rPr b="1" lang="en-US" sz="5000" spc="-1" strike="noStrike">
                <a:solidFill>
                  <a:srgbClr val="ff0000"/>
                </a:solidFill>
                <a:latin typeface="Franklin Gothic Medium"/>
              </a:rPr>
              <a:t>Water Quality Criteria</a:t>
            </a: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eb641b"/>
              </a:buClr>
              <a:buSzPct val="9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Franklin Gothic Book"/>
              </a:rPr>
              <a:t>Interim National Water Quality Standards for Malaysia </a:t>
            </a: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(</a:t>
            </a:r>
            <a:r>
              <a:rPr b="0" lang="en-US" sz="2600" spc="-1" strike="noStrike" u="sng">
                <a:solidFill>
                  <a:srgbClr val="ff8119"/>
                </a:solidFill>
                <a:uFillTx/>
                <a:latin typeface="Franklin Gothic Book"/>
                <a:hlinkClick r:id="rId1"/>
              </a:rPr>
              <a:t>Class I</a:t>
            </a: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, </a:t>
            </a:r>
            <a:r>
              <a:rPr b="0" lang="en-US" sz="2600" spc="-1" strike="noStrike" u="sng">
                <a:solidFill>
                  <a:srgbClr val="ff8119"/>
                </a:solidFill>
                <a:uFillTx/>
                <a:latin typeface="Franklin Gothic Book"/>
                <a:hlinkClick r:id="rId2"/>
              </a:rPr>
              <a:t>Class IIA</a:t>
            </a: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, </a:t>
            </a:r>
            <a:r>
              <a:rPr b="0" lang="en-US" sz="2600" spc="-1" strike="noStrike" u="sng">
                <a:solidFill>
                  <a:srgbClr val="ff8119"/>
                </a:solidFill>
                <a:uFillTx/>
                <a:latin typeface="Franklin Gothic Book"/>
                <a:hlinkClick r:id="rId3"/>
              </a:rPr>
              <a:t>Class IIB</a:t>
            </a: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,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Franklin Gothic Book"/>
              </a:rPr>
              <a:t>Class III</a:t>
            </a: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,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Franklin Gothic Book"/>
              </a:rPr>
              <a:t>Class IV</a:t>
            </a: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,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Franklin Gothic Book"/>
              </a:rPr>
              <a:t>Class V</a:t>
            </a: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) 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- as the primary basis for the classification of rivers.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514440" indent="-51444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705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a1f28"/>
                </a:solidFill>
                <a:latin typeface="Franklin Gothic Book"/>
              </a:rPr>
              <a:t>Water Quality Index System for Rivers in Malaysia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Franklin Gothic Book"/>
              </a:rPr>
              <a:t>- for five designated classes of beneficial uses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a1f28"/>
                </a:solidFill>
                <a:latin typeface="Franklin Gothic Book"/>
              </a:rPr>
              <a:t>WQI Based on DoE Formula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Franklin Gothic Book"/>
              </a:rPr>
              <a:t>The parameters chosen for the WQI based on the DoE's formula are DO, BOD, COD, SS, AN and pH.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Franklin Gothic Book"/>
              </a:rPr>
              <a:t>The formula used :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1" lang="en-US" sz="2600" spc="-1" strike="noStrike">
                <a:solidFill>
                  <a:srgbClr val="ec767c"/>
                </a:solidFill>
                <a:latin typeface="Franklin Gothic Book"/>
              </a:rPr>
              <a:t>WQI = 0.22*SIDO + 0.19*SIBOD + 0.16*SICOD + 0.15*SIAN + 0.16*SISS +  0.12*SIpH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6201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8:32:14Z</dcterms:created>
  <dc:creator>Owner</dc:creator>
  <dc:description/>
  <dc:language>en-US</dc:language>
  <cp:lastModifiedBy>Owner</cp:lastModifiedBy>
  <dcterms:modified xsi:type="dcterms:W3CDTF">2008-07-01T19:36:20Z</dcterms:modified>
  <cp:revision>5</cp:revision>
  <dc:subject/>
  <dc:title>2.5 Water Quality Criteria</dc:title>
</cp:coreProperties>
</file>