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DC9C-F24B-44AB-A8E2-06CA3DA7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CB0C-720B-424C-B3DC-C1DA285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E78E-5327-4319-B6C6-AB1039F1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502F-AE99-4028-B175-877052B5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C1FC-E54A-4128-AD31-8EC937C6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5FB-F33B-4564-9025-6C236129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10AE-898E-4741-9110-7AE259D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492D-8CAA-4228-A93D-FACA40E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420A-907A-450E-B1DF-3062D04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D7EF-E1CF-46BC-B7A7-057EA096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3404-1A32-4AED-94AE-8615E39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97AD-3630-49A9-AE88-B9CC7E93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738-2E7B-4EF8-B591-16A144C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4132-436E-44D1-BA07-04283909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5401-8BDE-4BD5-9859-37848A2D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64A6-3B03-4821-953B-201E8976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F7ED-D6E2-4A9D-AEE8-437E5887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9623-25AA-4185-ADC2-E97F8B85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9A74-DF2E-4AB0-ABB2-D237F5EE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148C-4837-4D9F-93D6-84FB9C21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7E16-3D21-42B2-8BDE-11510DBB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F42B-41C5-4A93-A76B-D9D6E29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7518-931E-4ACF-8D2A-5E7B2CA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B9C1-8103-4383-9E8D-CBD7E48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42CA-08BB-4390-AD0A-204025B1CE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77CB-7ABF-4AF0-9DFE-04217FC04F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ebf25a"/>
                </a:solidFill>
                <a:latin typeface="Tahoma"/>
              </a:rPr>
              <a:t>المحاضرة العشرون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. تحديد الجنس بالمجموعة الكرموسومية الاحادية –الثنائ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في النمل والنحل والزنابير وغيرها من الحشرات غشائية الاجنح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في النحل مثلا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ور احادية العدد الكرموسومي وثنائية وتنشأ من بويضات غير مخصبة ولايحدث فيها انقسام ميوزي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اث ثنائية العدد الكرموسومي وتنشأ من بويضات مخصبة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3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رموسو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س هناك كرموسومات 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. البيئة وتحديد الجنس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في الحيوانات الدنيا تحديد الجنس غير وراثي ويعتمد على عوامل بيئ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ور والاناث لها تراكيب وراثية متشابهة الا ان البيئة هي التي تستحث تكون جنس دون الاخ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عوامل البيئية قد تكون مواد تشبه الهرمونات تفرز من الاناث او قد تكون درجة الحرارة التي يتم فيما تحضين البيض المخصب (هي التي تحدد تكون جنس دون الاخر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مثال هذه الحيوان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: بونيليا فيريد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         التماسي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         السحالي والسلاح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ebf25a"/>
                </a:solidFill>
                <a:latin typeface="Tahoma"/>
              </a:rPr>
              <a:t>تحديد الجنس في الكائنات الحية حقيقية النوى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روموسومات الجنس: هي الكروموسومات المسؤولة عن تحديد الأجناس المنفصلة في بعض النباتات وفي كل الحيوانات تقريب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روموسومات جسدية : كل الكروموسومات في الهيئة الكروموسومية للفرد فيما عدا كرموسومات الجنس . توجد هذه الكرموسومات في ازوا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عزالها وتوزيعها المستقل مسؤول عن انماط التوارث التي قمنا بدراست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تائج التلقيحات العكسية              نتائج متماث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924360" y="5661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ebf25a"/>
                </a:solidFill>
                <a:latin typeface="Tahoma"/>
              </a:rPr>
              <a:t>آليلات تحديد الجنس</a:t>
            </a:r>
            <a:r>
              <a:rPr b="0" lang="ar-SA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هناك عدة آليات يمكن إيجازها في الآت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تحديد الجنس بكروموسومات الجن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عدة نظم منها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النظام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YX-XX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هذا النظام في العديد من الحيوانات بمافيها الثدييات وبعض النباتات والعديد من الحشرات التي منها ذبابة الخ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ثى هنا متماثلة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ametic se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أي انها تمتلك  لكرموسومي جنس متماثلين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 وتعطي نوعا واحد من الامشاج كلها تحمل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ثل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ر هنا متباين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erogametic se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أي انه يملك كرموسومي جنس مختلفين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 ويعطي نوعين من الامشاج , احداهما يحمل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الاخر يحمل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مثلا : الانسان  ذكر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 جسدي +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الانثى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كرموسوم جسدي+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ديد الجنس يحدث عند الاخصا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رموسو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هم جدا لتحديد الذكورة ( الج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R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هو المسؤول عن تحديد الذكور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غياب الج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يعني انثى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ebf25a"/>
                </a:solidFill>
                <a:latin typeface="Tahoma"/>
              </a:rPr>
              <a:t>تحديد الجنس في ذبابة الخل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تحديد الجنس =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عدد الكرموسوم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عدد مجموعات الكرموسومات الجسدية الاحادي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ي ان وجود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ليس مهما في تحديد الذكورة في هذه الحشرات لان العامل المحدد للجنس يكمن في العلاقة السابق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84360" y="335772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26560" y="3429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28464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429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42920" y="299736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92360" y="393372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92360" y="321300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حددات الانوثة تقع في الكرموسو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حددات الذكورة تقع في الكروموسومات الجسد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نثى طبيع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ذكر طبيعي (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ند وج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كرموسو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ي انحراف في حالة التوازن الوراثي السابقة            جنس شا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24720" y="220500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3600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637000"/>
            <a:ext cx="289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781360"/>
            <a:ext cx="289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101080" y="234936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172360" y="306864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0720" y="371628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8360" y="465300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8360" y="386064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524720" y="4149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400536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4149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339640" y="5373720"/>
            <a:ext cx="647640" cy="0"/>
          </a:xfrm>
          <a:prstGeom prst="line">
            <a:avLst/>
          </a:prstGeom>
          <a:ln w="76320">
            <a:solidFill>
              <a:srgbClr val="ebf2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مثلا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جود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هم لحركة الحيوانات المنوية الطبيعية وخصوبة الذكور وليس في تحديد الجن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12000" y="1125360"/>
            <a:ext cx="550800" cy="9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885080" y="270828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96000" y="443700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596360" y="162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08720" y="4941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667640" y="3213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532720" y="364500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459640" y="198900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443640" y="530064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532720" y="2924280"/>
            <a:ext cx="71640" cy="1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32720" y="1341360"/>
            <a:ext cx="7164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16720" y="458136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3640" y="1484280"/>
            <a:ext cx="1276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1 </a:t>
            </a: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فوق انثى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59280" y="3068640"/>
            <a:ext cx="1676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5.</a:t>
            </a: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، </a:t>
            </a: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ذكر طبيعي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47640" y="184464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348000" y="270828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71640" y="2205000"/>
            <a:ext cx="2222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صفات جنسية مبالغ فيها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شرات ضعيفة وعقيمة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16360" y="1341360"/>
            <a:ext cx="576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516360" y="170028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876720" y="2997360"/>
            <a:ext cx="576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77080" y="3284640"/>
            <a:ext cx="5745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9640" y="4653000"/>
            <a:ext cx="57636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19640" y="501336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284360" y="486900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284360" y="4508640"/>
            <a:ext cx="57636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4724280"/>
            <a:ext cx="2485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بين جنس (</a:t>
            </a: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intersex</a:t>
            </a: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)حشرات عقيمة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 – النظ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X-X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هذا النظام في العديد من الحشرات التي فيها الجراد والبق والصراص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ر متباين المشيج             نوعين من الامش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ثى متماثلة المشيج           نوع واحد من الامشا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 – النظ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W-ZZ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هذا النظام في الطيور وبعض الحشرات كالفراشات وعتة الملابس وبعض الاسماك والزواحف والبرمئي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ر : متماثل المشيج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ثى: متباينة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W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500360" y="2349360"/>
            <a:ext cx="934920" cy="0"/>
          </a:xfrm>
          <a:prstGeom prst="line">
            <a:avLst/>
          </a:prstGeom>
          <a:ln w="57240">
            <a:solidFill>
              <a:srgbClr val="ebf2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27280" y="2924280"/>
            <a:ext cx="934920" cy="0"/>
          </a:xfrm>
          <a:prstGeom prst="line">
            <a:avLst/>
          </a:prstGeom>
          <a:ln w="57240">
            <a:solidFill>
              <a:srgbClr val="ebf2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00000" y="5013360"/>
            <a:ext cx="288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وتحديد الجنس يحدث عند البعوض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وليس عند الاخصاب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1280" y="5084640"/>
            <a:ext cx="6494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3850920" y="5373360"/>
            <a:ext cx="576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. تحديد الجنس بجينات مفرد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دلا من كرموسومات الجن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ذلك النوع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acom hebtor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ذكور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اناث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ات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موقع جيني معين يمكن ان يشغل بأليل من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يلات هي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, 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,.............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اث متبايه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.......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(وثنائية العددالكرموسومي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ور متماثلة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,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,....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(واحادية العدد الكرموسومي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67640" y="371628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08720" y="4365720"/>
            <a:ext cx="144360" cy="16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17080" y="378936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788000" y="429264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27640" y="429264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19640" y="429264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64000" y="4941720"/>
            <a:ext cx="1447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32360" y="494172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44:38Z</dcterms:created>
  <dc:creator>User</dc:creator>
  <dc:description/>
  <dc:language>en-US</dc:language>
  <cp:lastModifiedBy>User</cp:lastModifiedBy>
  <dcterms:modified xsi:type="dcterms:W3CDTF">2008-02-02T19:35:19Z</dcterms:modified>
  <cp:revision>2</cp:revision>
  <dc:subject/>
  <dc:title>المحاضرة العشرون</dc:title>
</cp:coreProperties>
</file>