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13.jpeg" ContentType="image/jpeg"/>
  <Override PartName="/ppt/media/image2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50A3-506A-46DD-A18B-1AF70E3C5B2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4DF1-07D2-4882-B376-3399A08355F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Footer Placeholder 3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4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C9BF-71E6-46E4-9787-6A3FCA8C38F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Footer Placeholder 3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4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3AE1-12F3-4967-B2B6-ED2A2084DD8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Footer Placeholder 3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4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F614-881A-4AB6-B205-5A42628864D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Footer Placeholder 3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4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8082-7D95-4FFF-932E-C84BA7B3C0D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Footer Placeholder 3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A979-7F53-4105-A075-54674877FD0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Footer Placeholder 3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4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6320-1AB2-4E20-A5D7-99460F7BB68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Footer Placeholder 3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4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6F94-AF0B-4C93-B9E9-7CAE3A64F21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Footer Placeholder 3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3D5F-A832-452C-9877-B6308940013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Footer Placeholder 3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4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F3E6-604C-4716-8C05-60C948756B7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Footer Placeholder 3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4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DF00-6072-43CB-98D3-A376DFE6D13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Footer Placeholder 3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CD55-1BCD-4F00-A355-9E55D04F4DA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Footer Placeholder 3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4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8853-CC8B-4C33-B175-EDB8CE52F12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Footer Placeholder 3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E411-8BFE-4983-9888-8651871C6F3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Footer Placeholder 3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4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0379-A219-43A4-875C-2E3F045C635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5064-31EF-4494-84A0-0495D040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7DD5-1635-4159-90A2-CC0C3DED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D3EC-E9B1-48B7-9B3F-002617EED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333A-E802-48DF-90E0-02858E5EF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88E6-E06D-47B2-A73A-7AAA88537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4EE5-03FE-419A-B874-E9AE7A12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52AF-4B6F-4B69-969F-04CB4B75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3E80-E347-4D2D-A994-892C97C7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C10E-5E3A-450C-93FB-8C9AD975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CD7F-C6A7-4F68-BEA3-FE6C8CCF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2905-D132-41CF-B684-69787E9B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8237-4AB6-43F9-932B-E8CEAAD3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A9DD-2696-450A-B497-64148976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197C-F967-40C2-B9FC-3B81F4AB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33D9-A529-495D-AFD1-ABBBD599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45C2-EE23-43D9-B011-FCA9E0FD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5D0E-2362-49A0-A1F9-82EAF8CD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33FB5-1A52-45CA-9CBE-1816479E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E309C-97D6-495D-8030-D965BA22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78A63-8CD1-4277-8CC6-AFC86950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E55EC-B8E4-4C29-99D5-11E1A617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B1636-1A78-487B-AB35-81B958B7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382B-8CAE-40F0-B025-B9D7BBEA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AD0FB-6744-4B68-A305-DC7301A3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69C73-CF8E-4E47-8636-383F1D46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5FB29-0BF6-4231-B875-85D7B2E6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A2E60-3205-419F-B399-1E05817D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686B1-6CC9-4849-A138-56F44448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72491-8826-49AD-A348-AA3483CD8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8BF1C-B5AC-4B2E-BB78-97BF4482E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42025-9D46-4510-83DC-4F668ACC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E2038-80AF-45D7-AD65-6E285EB0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C9891-7B30-42B6-8620-A0324B64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01DA-2875-4A61-A114-BAB67852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FB858-3546-4F7A-A54D-09C75103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5D105-63E9-444F-A830-D5DE3019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C6DCE-5ED8-4A9B-A1ED-504AB7AD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5430F-1E10-41CF-AAC7-AEE04AF5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2C124-211D-4B11-9F77-F6840748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19BF4-5BA1-4146-9802-71D63C02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F0EB1-67C8-451F-96E0-01822759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CFF7B-60AA-478D-85A9-E7C45E587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2BCB1-CFCF-47E3-90DC-DE7EE92FD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93552-1EDE-4903-AFE7-7AD37631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E206-FE7D-487B-B237-C9C063FC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81C4F-AFF3-434C-BA56-24273335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BD4A0-70B9-4887-94B2-70CDDE4E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65391-1C9B-4FCC-B027-44DF19DB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EE8E5-ED41-4EAD-B297-E33CDB1D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1F530-9507-412D-B4B6-20ADFD66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F0D17-D19D-4ADF-8CB1-63F77A63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B5D5A-AEAE-45AD-9697-D4ADCF26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C7A42-CD18-4AD8-9E11-C8098840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D5BFC-1355-406D-9EFC-9485A3AA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64C5C-21F7-4309-B295-FEADD721A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2706-1945-4A5F-B5EA-84D64F2C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2D711-AF9F-4344-B11D-AF4CFA0A8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C6FDF-3AEC-45FA-86A7-B56BE43AB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B9380-2854-4CDE-A600-4E84E39E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02E5C-102F-4FA1-AF2C-4280D9A6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06CD3-E812-41C7-A341-252AC2D6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5F1C3-F5DF-42EF-87C0-8F0F139B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1868A-E41E-40BF-8DE6-C8CAF8D6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5A693-065F-4251-B1C2-BBB21E64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84C44-3AAB-417A-94E1-6BF100AE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3841F-689B-4DDC-B034-8E9A4E1F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8CFF-E248-4957-8776-598755E4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EBAE7-56AC-43A6-9BDB-D63E1AA0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88D49-CCFB-4C1D-B5F3-E2AC40B04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CA7EC-3A70-4248-ACAE-B5E91E073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09E6E-C71A-43B7-9B7B-2BF4DF378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88549-55FC-41AC-BF82-F8B934C3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813B5-763F-4532-97CA-5803BEFA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A0120-BCDC-494C-A410-44C853CC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13338-9C79-4A2A-889F-376FF423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8581E-2A56-488D-A26C-E1055F36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E9B2A-19D2-4918-9AB6-1A79C997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E36C-E434-4E2D-AB49-478669A4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71F02-F904-44BE-99B1-18354586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050D6-6EAC-484C-A920-BED63961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40197-57CB-4FCF-94FB-2FF2538C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82EBA-D4BA-4EE5-8433-1E5DED439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3E282-4A85-4E55-A93B-21706EDBC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25F1-AACC-47FA-8312-A3BAF4CE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9ba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0AA5-46A2-4509-9A38-607F0B278C71}" type="datetime">
              <a:rPr b="0" lang="fr-FR" sz="1200" spc="-1" strike="noStrike">
                <a:solidFill>
                  <a:srgbClr val="899ba4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9ba4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D426-2E2C-4C5C-AFAD-DD11C5029870}" type="slidenum">
              <a:rPr b="0" lang="fr-CA" sz="1200" spc="-1" strike="noStrike">
                <a:solidFill>
                  <a:srgbClr val="899ba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8563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9ba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9B79-98E5-4E02-AA45-1B4782EC9352}" type="datetime">
              <a:rPr b="0" lang="fr-FR" sz="1200" spc="-1" strike="noStrike">
                <a:solidFill>
                  <a:srgbClr val="899ba4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9ba4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27ED-860D-45DB-B368-07DCA2707CBF}" type="slidenum">
              <a:rPr b="0" lang="fr-CA" sz="1200" spc="-1" strike="noStrike">
                <a:solidFill>
                  <a:srgbClr val="899ba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8563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9ba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4C8A-2FE7-43A8-9BBA-9BD3B87CCB04}" type="datetime">
              <a:rPr b="0" lang="fr-FR" sz="1200" spc="-1" strike="noStrike">
                <a:solidFill>
                  <a:srgbClr val="899ba4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9ba4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7A6D-19BD-4360-A74C-A6FCDACAFBCC}" type="slidenum">
              <a:rPr b="0" lang="fr-CA" sz="1200" spc="-1" strike="noStrike">
                <a:solidFill>
                  <a:srgbClr val="899ba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9ba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D808-3F2D-4F4D-83E7-BC199E1F2E02}" type="datetime">
              <a:rPr b="0" lang="fr-FR" sz="1200" spc="-1" strike="noStrike">
                <a:solidFill>
                  <a:srgbClr val="899ba4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9ba4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ED4C-EDD5-4C96-A1B0-08DAE7CC24DC}" type="slidenum">
              <a:rPr b="0" lang="fr-CA" sz="1200" spc="-1" strike="noStrike">
                <a:solidFill>
                  <a:srgbClr val="899ba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9ba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7ECF-2B37-4769-84D8-C416341D5CA1}" type="datetime">
              <a:rPr b="0" lang="fr-FR" sz="1200" spc="-1" strike="noStrike">
                <a:solidFill>
                  <a:srgbClr val="899ba4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9ba4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ED22-120D-4D1A-BA3C-23D71FDAB49E}" type="slidenum">
              <a:rPr b="0" lang="fr-CA" sz="1200" spc="-1" strike="noStrike">
                <a:solidFill>
                  <a:srgbClr val="899ba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9ba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AE0E-E80A-4E77-A2D7-5D5A84097F43}" type="datetime">
              <a:rPr b="0" lang="fr-FR" sz="1200" spc="-1" strike="noStrike">
                <a:solidFill>
                  <a:srgbClr val="899ba4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9ba4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9A49-F32F-4336-8E28-DAB05D8DE197}" type="slidenum">
              <a:rPr b="0" lang="fr-CA" sz="1200" spc="-1" strike="noStrike">
                <a:solidFill>
                  <a:srgbClr val="899ba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3cad6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5d1d7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9ba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48C1-7E9D-4F53-AA65-622902A2CE8F}" type="datetime">
              <a:rPr b="0" lang="fr-FR" sz="1200" spc="-1" strike="noStrike">
                <a:solidFill>
                  <a:srgbClr val="899ba4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9ba4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6C85-C281-4E70-918B-0C1B25AAAB3A}" type="slidenum">
              <a:rPr b="0" lang="fr-CA" sz="1200" spc="-1" strike="noStrike">
                <a:solidFill>
                  <a:srgbClr val="899ba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4" descr=""/>
          <p:cNvPicPr/>
          <p:nvPr/>
        </p:nvPicPr>
        <p:blipFill>
          <a:blip r:embed="rId1"/>
          <a:stretch/>
        </p:blipFill>
        <p:spPr>
          <a:xfrm>
            <a:off x="878040" y="2146320"/>
            <a:ext cx="8242200" cy="1577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شعار.jpg"/>
          <p:cNvPicPr/>
          <p:nvPr/>
        </p:nvPicPr>
        <p:blipFill>
          <a:blip r:embed="rId2"/>
          <a:stretch/>
        </p:blipFill>
        <p:spPr>
          <a:xfrm>
            <a:off x="4114800" y="76320"/>
            <a:ext cx="1590840" cy="18763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"/>
          <p:cNvPicPr/>
          <p:nvPr/>
        </p:nvPicPr>
        <p:blipFill>
          <a:blip r:embed="rId3"/>
          <a:stretch/>
        </p:blipFill>
        <p:spPr>
          <a:xfrm>
            <a:off x="7391520" y="6307200"/>
            <a:ext cx="1371600" cy="263520"/>
          </a:xfrm>
          <a:prstGeom prst="rect">
            <a:avLst/>
          </a:prstGeom>
          <a:ln w="0">
            <a:noFill/>
          </a:ln>
        </p:spPr>
      </p:pic>
      <p:pic>
        <p:nvPicPr>
          <p:cNvPr id="328" name="Rectangle 5" descr=""/>
          <p:cNvPicPr/>
          <p:nvPr/>
        </p:nvPicPr>
        <p:blipFill>
          <a:blip r:embed="rId4"/>
          <a:stretch/>
        </p:blipFill>
        <p:spPr>
          <a:xfrm>
            <a:off x="3213000" y="4462560"/>
            <a:ext cx="6242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Titr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7" descr=""/>
          <p:cNvPicPr/>
          <p:nvPr/>
        </p:nvPicPr>
        <p:blipFill>
          <a:blip r:embed="rId2"/>
          <a:stretch/>
        </p:blipFill>
        <p:spPr>
          <a:xfrm>
            <a:off x="7391520" y="6307200"/>
            <a:ext cx="1371600" cy="2635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2011-10-03_105259.jpg"/>
          <p:cNvPicPr/>
          <p:nvPr/>
        </p:nvPicPr>
        <p:blipFill>
          <a:blip r:embed="rId3"/>
          <a:stretch/>
        </p:blipFill>
        <p:spPr>
          <a:xfrm>
            <a:off x="1905120" y="1752480"/>
            <a:ext cx="655308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itr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7" descr=""/>
          <p:cNvPicPr/>
          <p:nvPr/>
        </p:nvPicPr>
        <p:blipFill>
          <a:blip r:embed="rId2"/>
          <a:stretch/>
        </p:blipFill>
        <p:spPr>
          <a:xfrm>
            <a:off x="7391520" y="6307200"/>
            <a:ext cx="1371600" cy="2635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2011-10-03_105259.jpg"/>
          <p:cNvPicPr/>
          <p:nvPr/>
        </p:nvPicPr>
        <p:blipFill>
          <a:blip r:embed="rId3"/>
          <a:stretch/>
        </p:blipFill>
        <p:spPr>
          <a:xfrm>
            <a:off x="2057400" y="2543040"/>
            <a:ext cx="58672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itr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"/>
          <p:cNvPicPr/>
          <p:nvPr/>
        </p:nvPicPr>
        <p:blipFill>
          <a:blip r:embed="rId2"/>
          <a:stretch/>
        </p:blipFill>
        <p:spPr>
          <a:xfrm>
            <a:off x="7391520" y="6307200"/>
            <a:ext cx="1371600" cy="2635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2011-10-03_105259.jpg"/>
          <p:cNvPicPr/>
          <p:nvPr/>
        </p:nvPicPr>
        <p:blipFill>
          <a:blip r:embed="rId3"/>
          <a:stretch/>
        </p:blipFill>
        <p:spPr>
          <a:xfrm>
            <a:off x="1600200" y="1752480"/>
            <a:ext cx="662940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Titr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7" descr=""/>
          <p:cNvPicPr/>
          <p:nvPr/>
        </p:nvPicPr>
        <p:blipFill>
          <a:blip r:embed="rId2"/>
          <a:stretch/>
        </p:blipFill>
        <p:spPr>
          <a:xfrm>
            <a:off x="7391520" y="6307200"/>
            <a:ext cx="1371600" cy="2635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2011-10-03_105259.jpg"/>
          <p:cNvPicPr/>
          <p:nvPr/>
        </p:nvPicPr>
        <p:blipFill>
          <a:blip r:embed="rId3"/>
          <a:stretch/>
        </p:blipFill>
        <p:spPr>
          <a:xfrm>
            <a:off x="1676520" y="1752480"/>
            <a:ext cx="647676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r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7391520" y="6307200"/>
            <a:ext cx="1371600" cy="2635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2011-10-03_105259.jpg"/>
          <p:cNvPicPr/>
          <p:nvPr/>
        </p:nvPicPr>
        <p:blipFill>
          <a:blip r:embed="rId3"/>
          <a:stretch/>
        </p:blipFill>
        <p:spPr>
          <a:xfrm>
            <a:off x="1676520" y="1752480"/>
            <a:ext cx="647676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itr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"/>
          <p:cNvPicPr/>
          <p:nvPr/>
        </p:nvPicPr>
        <p:blipFill>
          <a:blip r:embed="rId2"/>
          <a:stretch/>
        </p:blipFill>
        <p:spPr>
          <a:xfrm>
            <a:off x="7391520" y="6307200"/>
            <a:ext cx="1371600" cy="263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"/>
          <p:cNvPicPr/>
          <p:nvPr/>
        </p:nvPicPr>
        <p:blipFill>
          <a:blip r:embed="rId3"/>
          <a:stretch/>
        </p:blipFill>
        <p:spPr>
          <a:xfrm>
            <a:off x="3733920" y="1523880"/>
            <a:ext cx="1523880" cy="5526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4"/>
          <a:stretch/>
        </p:blipFill>
        <p:spPr>
          <a:xfrm>
            <a:off x="3200400" y="3733920"/>
            <a:ext cx="3171960" cy="1385640"/>
          </a:xfrm>
          <a:prstGeom prst="rect">
            <a:avLst/>
          </a:prstGeom>
          <a:ln w="0">
            <a:noFill/>
          </a:ln>
        </p:spPr>
      </p:pic>
      <p:sp>
        <p:nvSpPr>
          <p:cNvPr id="375" name="TextBox 7"/>
          <p:cNvSpPr/>
          <p:nvPr/>
        </p:nvSpPr>
        <p:spPr>
          <a:xfrm>
            <a:off x="1295280" y="24382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y – pas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ath 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:\Program Files (x86)\Common Files\Minitab Shared\Auth\S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8"/>
          <p:cNvSpPr/>
          <p:nvPr/>
        </p:nvSpPr>
        <p:spPr>
          <a:xfrm>
            <a:off x="4267080" y="4648320"/>
            <a:ext cx="685800" cy="380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re 1" descr=""/>
          <p:cNvPicPr/>
          <p:nvPr/>
        </p:nvPicPr>
        <p:blipFill>
          <a:blip r:embed="rId1"/>
          <a:stretch/>
        </p:blipFill>
        <p:spPr>
          <a:xfrm>
            <a:off x="1060560" y="1182600"/>
            <a:ext cx="8242200" cy="19386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http://www.ipswitchft.com/images/help-icon.png"/>
          <p:cNvPicPr/>
          <p:nvPr/>
        </p:nvPicPr>
        <p:blipFill>
          <a:blip r:embed="rId2"/>
          <a:stretch/>
        </p:blipFill>
        <p:spPr>
          <a:xfrm>
            <a:off x="4267080" y="3505320"/>
            <a:ext cx="1828800" cy="17524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"/>
          <p:cNvPicPr/>
          <p:nvPr/>
        </p:nvPicPr>
        <p:blipFill>
          <a:blip r:embed="rId3"/>
          <a:stretch/>
        </p:blipFill>
        <p:spPr>
          <a:xfrm>
            <a:off x="7391520" y="6291360"/>
            <a:ext cx="1371600" cy="26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re 1" descr=""/>
          <p:cNvPicPr/>
          <p:nvPr/>
        </p:nvPicPr>
        <p:blipFill>
          <a:blip r:embed="rId1"/>
          <a:stretch/>
        </p:blipFill>
        <p:spPr>
          <a:xfrm>
            <a:off x="907920" y="1504800"/>
            <a:ext cx="8242560" cy="1787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"/>
          <p:cNvPicPr/>
          <p:nvPr/>
        </p:nvPicPr>
        <p:blipFill>
          <a:blip r:embed="rId2"/>
          <a:stretch/>
        </p:blipFill>
        <p:spPr>
          <a:xfrm>
            <a:off x="7391520" y="6291360"/>
            <a:ext cx="1371600" cy="26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r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1066680" y="175248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just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أضحى ضرورة و أهمية إستخدام المعلومات الإحصائية للعديد من المجالات منها التخطيط، صنع القرار، تطوير الآداء و غيره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حيث أن معظم الإداريين و المهندسين و غيرهم يتوقع منهم إستخدام الطرق الإحصائية المناسبة للتعرف على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Gill Sans MT"/>
                <a:cs typeface="Majalla UI"/>
              </a:rPr>
              <a:t>طبيعة البيانات و تحليلها إحصائياً و كتابة التقارير المرافقة لذلك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إضافة الى أهمية توضيح معنى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Gill Sans MT"/>
                <a:cs typeface="Majalla UI"/>
              </a:rPr>
              <a:t>نتائج التحليل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، وهل كانت نتائج التحليل الإحصائي صحيحة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، بمعنى أخر هل تم إستخدام الأدوات الإحصائية المناسبة لهذا التحليل أم لا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1" name="Picture 7" descr=""/>
          <p:cNvPicPr/>
          <p:nvPr/>
        </p:nvPicPr>
        <p:blipFill>
          <a:blip r:embed="rId2"/>
          <a:stretch/>
        </p:blipFill>
        <p:spPr>
          <a:xfrm>
            <a:off x="7391520" y="6367320"/>
            <a:ext cx="1371600" cy="2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r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1066680" y="194292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just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و بإستخدام برنامج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MINITAB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للتحليل الإحصائي، و الذي يعتبر من البرامج الإحصائية الرائدة و المتميزة أصبح هذا ممكنا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لذلك أصبح البرنامج واسع الإنتشار على مستوى عالم الأعمال، حيث يقدم البرنامج الأدوات الإحصائية الدقيقة و السهلة لكثير من المجالات الإحصائية المتعددة، و منها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Gill Sans MT"/>
                <a:cs typeface="Majalla UI"/>
              </a:rPr>
              <a:t>مجال ضبط الجودة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Gill Sans MT"/>
                <a:cs typeface="Majalla UI"/>
              </a:rPr>
              <a:t>و مجال الاختبارات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  <a:ea typeface="Majalla U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و يستخدم هذا البرنامج في أكثر من مائة دولة حول العالم من الشركات الصغيرة الى الشركات و المؤسسات الكبيرة 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4" name="Picture 7" descr=""/>
          <p:cNvPicPr/>
          <p:nvPr/>
        </p:nvPicPr>
        <p:blipFill>
          <a:blip r:embed="rId2"/>
          <a:stretch/>
        </p:blipFill>
        <p:spPr>
          <a:xfrm>
            <a:off x="7391520" y="6307200"/>
            <a:ext cx="137160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r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1066680" y="194292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المهارات الاساسية للبرنامج 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التعريف ببعض المفاهيم الإحصائية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التعريف ببرنامج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MINITAB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و استخداماته الإحصائية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تطبيق بعض المفاهيم الإحصائية باستخدام برنامج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MINITAB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توضيح نتائج التحليل الإحصائي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7" name="Picture 7" descr=""/>
          <p:cNvPicPr/>
          <p:nvPr/>
        </p:nvPicPr>
        <p:blipFill>
          <a:blip r:embed="rId2"/>
          <a:stretch/>
        </p:blipFill>
        <p:spPr>
          <a:xfrm>
            <a:off x="7391520" y="6307200"/>
            <a:ext cx="137160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itr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1066680" y="137124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حيث سيتم التركيز على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التعرف على المؤشرات التي تساعد على </a:t>
            </a:r>
            <a:r>
              <a:rPr b="1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اختيار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  <a:ea typeface="Majalla UI"/>
              </a:rPr>
              <a:t> الإحصاء المناسب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التعرف على طريقة جمع البيانات، و مدى تأثيرها على نتائج التحليل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فهم حدود وقوة البيانات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إدارة البيانات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مهارة التعامل مع البيانات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إستخدام برنامج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MINITAB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للتحليلات الإحصائية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0" name="Picture 7" descr=""/>
          <p:cNvPicPr/>
          <p:nvPr/>
        </p:nvPicPr>
        <p:blipFill>
          <a:blip r:embed="rId2"/>
          <a:stretch/>
        </p:blipFill>
        <p:spPr>
          <a:xfrm>
            <a:off x="7391520" y="6307200"/>
            <a:ext cx="137160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r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10666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ما هو برنامج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initab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Gill Sans MT"/>
                <a:ea typeface="Majalla UI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3" name="Picture 7" descr=""/>
          <p:cNvPicPr/>
          <p:nvPr/>
        </p:nvPicPr>
        <p:blipFill>
          <a:blip r:embed="rId2"/>
          <a:stretch/>
        </p:blipFill>
        <p:spPr>
          <a:xfrm>
            <a:off x="7391520" y="6307200"/>
            <a:ext cx="1371600" cy="2635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"/>
          <p:cNvPicPr/>
          <p:nvPr/>
        </p:nvPicPr>
        <p:blipFill>
          <a:blip r:embed="rId3"/>
          <a:stretch/>
        </p:blipFill>
        <p:spPr>
          <a:xfrm>
            <a:off x="1447920" y="2819520"/>
            <a:ext cx="7475400" cy="12762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mini16-180.png"/>
          <p:cNvPicPr/>
          <p:nvPr/>
        </p:nvPicPr>
        <p:blipFill>
          <a:blip r:embed="rId4"/>
          <a:stretch/>
        </p:blipFill>
        <p:spPr>
          <a:xfrm>
            <a:off x="3809880" y="4114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r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1066680" y="12952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الخطوة الأولى : تحميل البرنامج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Gill Sans MT"/>
                <a:ea typeface="Majalla UI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Gill Sans MT"/>
                <a:ea typeface="Majalla UI"/>
              </a:rPr>
              <a:t>- الضغط على ايقونة التحميل 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Gill Sans MT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8" name="Picture 7" descr=""/>
          <p:cNvPicPr/>
          <p:nvPr/>
        </p:nvPicPr>
        <p:blipFill>
          <a:blip r:embed="rId2"/>
          <a:stretch/>
        </p:blipFill>
        <p:spPr>
          <a:xfrm>
            <a:off x="7391520" y="6307200"/>
            <a:ext cx="1371600" cy="2635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"/>
          <p:cNvPicPr/>
          <p:nvPr/>
        </p:nvPicPr>
        <p:blipFill>
          <a:blip r:embed="rId3"/>
          <a:stretch/>
        </p:blipFill>
        <p:spPr>
          <a:xfrm>
            <a:off x="4343400" y="29718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r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"/>
          <p:cNvPicPr/>
          <p:nvPr/>
        </p:nvPicPr>
        <p:blipFill>
          <a:blip r:embed="rId2"/>
          <a:stretch/>
        </p:blipFill>
        <p:spPr>
          <a:xfrm>
            <a:off x="7391520" y="6307200"/>
            <a:ext cx="1371600" cy="2635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2011-10-03_105259.jpg"/>
          <p:cNvPicPr/>
          <p:nvPr/>
        </p:nvPicPr>
        <p:blipFill>
          <a:blip r:embed="rId3"/>
          <a:stretch/>
        </p:blipFill>
        <p:spPr>
          <a:xfrm>
            <a:off x="2057400" y="1752480"/>
            <a:ext cx="586728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r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7" descr=""/>
          <p:cNvPicPr/>
          <p:nvPr/>
        </p:nvPicPr>
        <p:blipFill>
          <a:blip r:embed="rId2"/>
          <a:stretch/>
        </p:blipFill>
        <p:spPr>
          <a:xfrm>
            <a:off x="7391520" y="6307200"/>
            <a:ext cx="1371600" cy="2635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2011-10-03_105259.jpg"/>
          <p:cNvPicPr/>
          <p:nvPr/>
        </p:nvPicPr>
        <p:blipFill>
          <a:blip r:embed="rId3"/>
          <a:stretch/>
        </p:blipFill>
        <p:spPr>
          <a:xfrm>
            <a:off x="1828800" y="1752480"/>
            <a:ext cx="609588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3:07:51Z</dcterms:created>
  <dc:creator>Good</dc:creator>
  <dc:description/>
  <dc:language>en-US</dc:language>
  <cp:lastModifiedBy>Mejdal</cp:lastModifiedBy>
  <dcterms:modified xsi:type="dcterms:W3CDTF">2011-10-03T08:32:59Z</dcterms:modified>
  <cp:revision>191</cp:revision>
  <dc:subject/>
  <dc:title>PRESENTATION  NAME</dc:title>
</cp:coreProperties>
</file>