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0BDE-34C7-433D-ADC8-2587072647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7DE3-FFFB-49C9-9195-888E90C755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6FC2-E698-4B86-AA8A-1288A74705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D04A-7E9B-4A00-8CDB-EDF437C1E7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694B-40BE-45F7-B2B5-8526BD85DC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9334-BAA9-457F-B13C-112C04B14C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3CF3-4CEE-4775-9173-F9CF3B2349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4A0C-DEDD-415B-9F18-29778FDAA6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EC2B-D939-4B86-848E-A774C15D89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F4F8-4A9D-4FC2-B6C5-C826FAEFD1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6493-B96C-4A46-AA7F-11628D6067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2122-6AA0-43C5-A94C-AE7F40DD44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B555-A790-4CA6-87E7-164F22C589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6576-14F7-4DDD-8007-0CF39104FD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E880-DEB6-4913-ACE4-EC4F341AD6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7791-1C49-423B-99EC-5D1E43D208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32C-5CA7-4900-8670-4F9ED117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CE6-F4C3-4E5B-8428-6E7FE510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C76-5436-47CB-AAD0-73A082F1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CE2-2FED-4526-A6D7-6A440826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E959-E44E-4E64-B3C7-943C9000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F81A-D3FF-4A08-B411-EF388C32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F61B-785A-4ACB-A00C-A7F9B630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FE84-2758-4534-AD98-2ECFFD4E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921B-EDAD-4C93-ACEB-49858A5C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855E-33EF-4A17-8A62-C4D52E6F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E71C-A212-4EAA-9244-5A8DABE4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14D-63F4-47F5-A184-47828767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6CF4-1C23-48AA-94E2-5FCB8C59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93EF-5BD2-4D1D-B102-92EE48DC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189D-DB0C-4824-BDBE-13F749E5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3349-913A-4A8E-8520-41C4B974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5837-AB3A-4FC4-AF3A-E1CBB52E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FCAB-F73F-42D5-9833-5A67302D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64A23-5E95-48D2-8878-6C4C1394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D6F6-A71C-43C4-9540-B92A8CC3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9D662-2831-4EEA-985F-19141B7F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B658-07F6-46FB-8C7F-6CD8AF74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35A-C038-41C7-9F18-057CEA6D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BBFD-4441-454D-9261-18FA40E0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0F2B-2B87-44B6-87D7-6F51604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B47B-E8A0-4E48-8E41-142B7E9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566D-881E-4178-A034-7B03740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A20C-EFD9-4C05-877A-9658EDB8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0FC0-C365-4AE7-AE47-46C7BE5B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E866-2BB5-40B1-BC55-D65A2E10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5C44-BE35-45CB-9350-25AFCA24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2BE5-3031-46F2-BF2D-98923130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177D8-9AC9-4D82-886D-CF2AAE30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636-C8DA-4BED-AC79-4CB89A70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6C71-41D4-42F7-8297-B4027C9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1757-F303-47D3-8DB0-82A9C677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458C-9F27-4F0B-8721-69D0B038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BEED-4E3F-42B0-8896-40BEFD0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0CF72-967B-4886-B39D-C43A0C91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C233-1CE9-4955-9465-2F79A6D3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9192-6C8E-4544-AFCB-277CDF4F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FF8B-B394-4246-9332-B632A116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F0EC-2BA3-41F1-9FAA-7D3FD245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12AB6-8814-4696-8B8F-FB20DDBF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7A0-49BE-43CB-9C9E-DE24CFC2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A3E1-E81F-448C-8898-9ACBF50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B2914-2438-49AB-8BAF-B71B1C4F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3ADF-0ED4-4D8E-B007-D0F26DF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01C7-A460-4846-9077-CB7601E7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BDFA-8E04-4A9C-AED2-BDD75333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8524-E097-46F8-BF26-647C4A5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F3820-605A-4F23-A25E-C48EDC8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7BEC-054B-4219-9E4E-B22A22B3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C013-9E14-4F3F-8702-4C7C8D6C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661DF-3453-4BCA-9559-A8D9B91D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91F-D78C-4BC5-881A-618158D9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E964-24E2-433A-B55B-E52FCC42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B917D-6D54-4857-8608-E25C11A9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F3E85-E901-408A-89C3-7620375D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BB81-D01C-4263-A77A-EE1DC9FC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9628F-F68D-444B-975D-DA5AFDA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8AEBA-E15C-439E-8109-B406FE9F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1D7EB-3CE1-4DFA-B5F3-2CC566F5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D8C2-546B-491F-AD0F-639E4B2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1786-0D40-4866-8912-D5984CD1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F5BD2-2645-46B2-8946-9FC7D42F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B5D-B771-42EC-B2D1-880A8484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12774-641F-489C-8224-551AAA3E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30A50-07BF-4B7D-A659-266AAAA2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D5309-B9C8-4CFF-9540-0343D798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9E150-B39B-4908-8A80-73746AF7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60C06-6A57-4597-916A-E9C73929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25078-6EE4-4572-96F9-D5CE0B60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1177F-FEB5-412C-A644-4E7B66ED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EC90D-CC4B-4D26-B47E-7D862816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0965D-C926-4946-87E4-B30F3381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B1A22-ED50-400E-A5D4-59302D69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AE2-9614-47A3-8C6B-F26EB00B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664ED-A22B-4D6A-9AE9-0244FD8D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FE65C-ECDC-43C6-8676-63E4E54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BAB39-636E-4642-917A-D8ACAAE9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2FE1-7EB7-4067-82AB-5BABA46A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272A-455E-4F6F-9E18-9BB36E22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134-0DE4-46C2-98CE-87A92EC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8D60-FC9A-4D47-B652-705231F16AB2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CB5A-F7E1-41CC-8632-799D20604D35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B8D1-EE23-464E-82F1-BC72194F2A87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7F53-A7EA-4ABF-9E95-9197BFA1EAE6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568E-D1FE-46E1-A9FE-CB817099E245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96E2-15EB-417E-A7E8-848ACBA0D406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BF00-AC08-4D0F-8584-97163C008D76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4005-AF05-41F2-833B-7FA65434C437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76BB-21E7-4DFA-8C19-781B4C7F3235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51A4-FEA3-49A9-BCC0-6C19CC93368F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C44E-410A-42C7-888C-2D00F27BAE62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E31D-A2FF-4212-BA7C-9C077DC7235C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09A7-A6DE-484C-AA39-E0F1B1E3F350}" type="datetime">
              <a:rPr b="0" lang="fr-FR" sz="1200" spc="-1" strike="noStrike">
                <a:solidFill>
                  <a:srgbClr val="899ba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9ba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DF27-E309-4B33-BC6D-0D569C9FA983}" type="slidenum">
              <a:rPr b="0" lang="fr-CA" sz="1200" spc="-1" strike="noStrike">
                <a:solidFill>
                  <a:srgbClr val="899ba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4" descr=""/>
          <p:cNvPicPr/>
          <p:nvPr/>
        </p:nvPicPr>
        <p:blipFill>
          <a:blip r:embed="rId1"/>
          <a:stretch/>
        </p:blipFill>
        <p:spPr>
          <a:xfrm>
            <a:off x="878040" y="2146320"/>
            <a:ext cx="8242200" cy="157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شعار.jpg"/>
          <p:cNvPicPr/>
          <p:nvPr/>
        </p:nvPicPr>
        <p:blipFill>
          <a:blip r:embed="rId2"/>
          <a:stretch/>
        </p:blipFill>
        <p:spPr>
          <a:xfrm>
            <a:off x="4114800" y="76320"/>
            <a:ext cx="1590840" cy="1876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5" descr=""/>
          <p:cNvPicPr/>
          <p:nvPr/>
        </p:nvPicPr>
        <p:blipFill>
          <a:blip r:embed="rId4"/>
          <a:stretch/>
        </p:blipFill>
        <p:spPr>
          <a:xfrm>
            <a:off x="3213000" y="4462560"/>
            <a:ext cx="6242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2011-10-03_105259.jpg"/>
          <p:cNvPicPr/>
          <p:nvPr/>
        </p:nvPicPr>
        <p:blipFill>
          <a:blip r:embed="rId3"/>
          <a:stretch/>
        </p:blipFill>
        <p:spPr>
          <a:xfrm>
            <a:off x="1905120" y="1752480"/>
            <a:ext cx="6553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2011-10-03_105259.jpg"/>
          <p:cNvPicPr/>
          <p:nvPr/>
        </p:nvPicPr>
        <p:blipFill>
          <a:blip r:embed="rId3"/>
          <a:stretch/>
        </p:blipFill>
        <p:spPr>
          <a:xfrm>
            <a:off x="2057400" y="2543040"/>
            <a:ext cx="586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2011-10-03_105259.jpg"/>
          <p:cNvPicPr/>
          <p:nvPr/>
        </p:nvPicPr>
        <p:blipFill>
          <a:blip r:embed="rId3"/>
          <a:stretch/>
        </p:blipFill>
        <p:spPr>
          <a:xfrm>
            <a:off x="1600200" y="1752480"/>
            <a:ext cx="66294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2011-10-03_105259.jpg"/>
          <p:cNvPicPr/>
          <p:nvPr/>
        </p:nvPicPr>
        <p:blipFill>
          <a:blip r:embed="rId3"/>
          <a:stretch/>
        </p:blipFill>
        <p:spPr>
          <a:xfrm>
            <a:off x="1676520" y="1752480"/>
            <a:ext cx="64767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2011-10-03_105259.jpg"/>
          <p:cNvPicPr/>
          <p:nvPr/>
        </p:nvPicPr>
        <p:blipFill>
          <a:blip r:embed="rId3"/>
          <a:stretch/>
        </p:blipFill>
        <p:spPr>
          <a:xfrm>
            <a:off x="1676520" y="1752480"/>
            <a:ext cx="64767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733920" y="1523880"/>
            <a:ext cx="1523880" cy="552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4"/>
          <a:stretch/>
        </p:blipFill>
        <p:spPr>
          <a:xfrm>
            <a:off x="3200400" y="3733920"/>
            <a:ext cx="3171960" cy="13856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1295280" y="2438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– pa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ath 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:\Program Files (x86)\Common Files\Minitab Shared\Auth\S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4267080" y="4648320"/>
            <a:ext cx="6858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1060560" y="1182600"/>
            <a:ext cx="8242200" cy="1938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www.ipswitchft.com/images/help-icon.png"/>
          <p:cNvPicPr/>
          <p:nvPr/>
        </p:nvPicPr>
        <p:blipFill>
          <a:blip r:embed="rId2"/>
          <a:stretch/>
        </p:blipFill>
        <p:spPr>
          <a:xfrm>
            <a:off x="4267080" y="35053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3"/>
          <a:stretch/>
        </p:blipFill>
        <p:spPr>
          <a:xfrm>
            <a:off x="7391520" y="6291360"/>
            <a:ext cx="137160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907920" y="1504800"/>
            <a:ext cx="8242560" cy="178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7391520" y="6291360"/>
            <a:ext cx="137160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066680" y="17524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أضحى ضرورة و أهمية إستخدام المعلومات الإحصائية للعديد من المجالات منها التخطيط، صنع القرار، تطوير الآداء و غيره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حيث أن معظم الإداريين و المهندسين و غيرهم يتوقع منهم إستخدام الطرق الإحصائية المناسبة للتعرف على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  <a:cs typeface="Majalla UI"/>
              </a:rPr>
              <a:t>طبيعة البيانات و تحليلها إحصائياً و كتابة التقارير المرافقة لذل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إضافة الى أهمية توضيح معنى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  <a:cs typeface="Majalla UI"/>
              </a:rPr>
              <a:t>نتائج التحلي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، وهل كانت نتائج التحليل الإحصائي صحيحة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، بمعنى أخر هل تم إستخدام الأدوات الإحصائية المناسبة لهذا التحليل أم ل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2"/>
          <a:stretch/>
        </p:blipFill>
        <p:spPr>
          <a:xfrm>
            <a:off x="7391520" y="6367320"/>
            <a:ext cx="137160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1066680" y="194292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و بإستخدام برنامج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للتحليل الإحصائي، و الذي يعتبر من البرامج الإحصائية الرائدة و المتميزة أصبح هذا ممكنا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لذلك أصبح البرنامج واسع الإنتشار على مستوى عالم الأعمال، حيث يقدم البرنامج الأدوات الإحصائية الدقيقة و السهلة لكثير من المجالات الإحصائية المتعددة، و منها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  <a:cs typeface="Majalla UI"/>
              </a:rPr>
              <a:t>مجال ضبط الجودة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  <a:cs typeface="Majalla UI"/>
              </a:rPr>
              <a:t>و مجال الاختبارا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و يستخدم هذا البرنامج في أكثر من مائة دولة حول العالم من الشركات الصغيرة الى الشركات و المؤسسات الكبيرة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066680" y="194292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مهارات الاساسية للبرنامج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تعريف ببعض المفاهيم الإحصائية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تعريف ببرنامج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و استخداماته الإحصائية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تطبيق بعض المفاهيم الإحصائية باستخدام برنامج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توضيح نتائج التحليل الإحصائي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066680" y="137124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حيث سيتم التركيز على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تعرف على المؤشرات التي تساعد على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ختيار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 الإحصاء المناسب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تعرف على طريقة جمع البيانات، و مدى تأثيرها على نتائج التحليل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فهم حدود وقوة البيانات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إدارة البيانات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مهارة التعامل مع البيانات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إستخدام برنامج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للتحليلات الإحصائية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10666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ما هو برنامج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initab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1447920" y="2819520"/>
            <a:ext cx="7475400" cy="1276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mini16-180.png"/>
          <p:cNvPicPr/>
          <p:nvPr/>
        </p:nvPicPr>
        <p:blipFill>
          <a:blip r:embed="rId4"/>
          <a:stretch/>
        </p:blipFill>
        <p:spPr>
          <a:xfrm>
            <a:off x="38098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066680" y="1295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Majalla UI"/>
              </a:rPr>
              <a:t>الخطوة الأولى : تحميل البرنامج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- الضغط على ايقونة التحميل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3"/>
          <a:stretch/>
        </p:blipFill>
        <p:spPr>
          <a:xfrm>
            <a:off x="4343400" y="2971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2011-10-03_105259.jpg"/>
          <p:cNvPicPr/>
          <p:nvPr/>
        </p:nvPicPr>
        <p:blipFill>
          <a:blip r:embed="rId3"/>
          <a:stretch/>
        </p:blipFill>
        <p:spPr>
          <a:xfrm>
            <a:off x="2057400" y="1752480"/>
            <a:ext cx="58672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r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2"/>
          <a:stretch/>
        </p:blipFill>
        <p:spPr>
          <a:xfrm>
            <a:off x="7391520" y="6307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2011-10-03_105259.jpg"/>
          <p:cNvPicPr/>
          <p:nvPr/>
        </p:nvPicPr>
        <p:blipFill>
          <a:blip r:embed="rId3"/>
          <a:stretch/>
        </p:blipFill>
        <p:spPr>
          <a:xfrm>
            <a:off x="1828800" y="1752480"/>
            <a:ext cx="60958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3:07:51Z</dcterms:created>
  <dc:creator>Good</dc:creator>
  <dc:description/>
  <dc:language>en-US</dc:language>
  <cp:lastModifiedBy>Mejdal</cp:lastModifiedBy>
  <dcterms:modified xsi:type="dcterms:W3CDTF">2011-10-03T08:32:59Z</dcterms:modified>
  <cp:revision>191</cp:revision>
  <dc:subject/>
  <dc:title>PRESENTATION  NAME</dc:title>
</cp:coreProperties>
</file>