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117-08E0-44E3-9603-87F93E73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F7C-9D38-45ED-A03A-17CD42A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6B6-2626-4992-9187-295031DD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958-6C16-44D8-87DD-ECC8DC19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DEA-F9A0-4E05-847B-6D9A1C4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4DA-61F8-47C6-B2FE-74317CEE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E18-59D5-4E64-ACEF-15DB38C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3F6-A196-4AAB-ADAA-578DDE94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C8B-95A8-410D-BA21-2E6A883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784-4BD3-4953-BDEA-0CD07E81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D81-C10A-4C19-8878-BEA69AF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860-7223-4AA1-B915-B014B70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8609-1958-4559-979A-06A3174BF0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مربع نص 3"/>
          <p:cNvSpPr/>
          <p:nvPr/>
        </p:nvSpPr>
        <p:spPr>
          <a:xfrm>
            <a:off x="6858000" y="528624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2"/>
          <p:cNvSpPr/>
          <p:nvPr/>
        </p:nvSpPr>
        <p:spPr>
          <a:xfrm>
            <a:off x="66088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Oval 5"/>
          <p:cNvSpPr/>
          <p:nvPr/>
        </p:nvSpPr>
        <p:spPr>
          <a:xfrm>
            <a:off x="7380360" y="333360"/>
            <a:ext cx="1295280" cy="93492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6877080" y="620280"/>
            <a:ext cx="1079640" cy="1368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ربع نص 4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1692360" y="3141720"/>
            <a:ext cx="3095640" cy="165564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6156360" y="4653000"/>
            <a:ext cx="1584360" cy="93672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1763640" y="3933720"/>
            <a:ext cx="360360" cy="35892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5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156360" y="3500280"/>
            <a:ext cx="1152360" cy="115272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3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مربع نص 2"/>
          <p:cNvSpPr/>
          <p:nvPr/>
        </p:nvSpPr>
        <p:spPr>
          <a:xfrm>
            <a:off x="6695280" y="5562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isham Abh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1:23:24Z</dcterms:created>
  <dc:creator>admin</dc:creator>
  <dc:description/>
  <dc:language>en-US</dc:language>
  <cp:lastModifiedBy>walid</cp:lastModifiedBy>
  <dcterms:modified xsi:type="dcterms:W3CDTF">2011-01-08T17:42:44Z</dcterms:modified>
  <cp:revision>14</cp:revision>
  <dc:subject/>
  <dc:title>الشريحة 1</dc:title>
</cp:coreProperties>
</file>