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2A92-C8E1-47B2-B5B2-26FF78A8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36C2-E547-4584-8215-2508F9D6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6DBA-0173-40BC-B271-D07B1E56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99A2-90ED-4275-AEB0-B27BDD92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2A63-F92F-4384-A01C-14EF2128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4DC8-7AE2-48E4-A143-C0290569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449C-070A-492A-87C9-074150A9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959A-2FA5-4F85-B09B-B584BF40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290F-D3DA-4AC6-A79A-9C9FD840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66CB-6F74-4E44-A46A-DAEA68C6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1BD2-1BEE-4390-A5F2-CF11C60A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FDD2-1F37-482A-994D-CF4E61C5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3AEA-1074-4811-8402-9ED4261B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BE85-B51A-4617-82A8-1C8E8AD0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9215-E9B6-465B-8BF7-4C306955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57AF-7A82-41A6-AF6C-389C9A29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9C62-CA8F-4E60-B46E-1D45185F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7026-3626-45CF-9F60-FA098876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7671-B619-45E4-B468-950C5453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AEAC-1B6C-4543-B331-E22E22AA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25D-0141-4147-BE75-FC752E5F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8E3-0783-4FF0-89A2-66689A83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C398-1A38-42FF-A6B4-0F393899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0A2D-4739-45D1-B8EE-77DD5586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E0DA-0D21-4D09-BF56-2358594F78E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19AD-C6AD-40E7-958E-DC649BBC195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ccecff"/>
                </a:solidFill>
                <a:latin typeface="Arial"/>
              </a:rPr>
              <a:t>المحاضرة الحادية والعشرون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الارتباط بالجنس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الاتباط بالجنس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x-linkag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هي ظاهر ارتباط الجينات بكروموسومات الجنس وخاصة الكروموسوم –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جينات مرتبطة بالجنس = هي تلك الجينات التي توجد في كرومسومات الجنس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جينات مرتبطه بالكروموسوم –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=هي تلك الجينات التي توجد في الكرموسوم –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جينات مرتبطه بالكرموسومات –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= هي تلك الجينات التي توجد في الكروموسوم-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وتورث فقط من الاباءالى افراد النسل الذكور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8360" y="593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صفات مرتبطه بالجنس= هي تلك الصفات التي تحدد بوساطة جينات توجد في كرموسومات الجنس وخاصه الكرموسوم –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ومن امثلة هذه الصفات :النزف الوراثي وعمى الالوان (اللون الاخضر –والاحمر) في الانسان لون العيون البيض ولون الجسم الاصفر في ذبابة الخل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مثال: توارث لون العيون البيض في ذبابة الخل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لون العين البيضاء في ذبابة الخل هي صفة وراثية متنحية مرتبطه بالكرموسومات –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eaeaea"/>
                </a:solidFill>
                <a:uFillTx/>
                <a:latin typeface="Arial"/>
              </a:rPr>
              <a:t>التزاوج </a:t>
            </a:r>
            <a:r>
              <a:rPr b="1" lang="ar-SA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ar-SA" sz="3200" spc="-1" strike="noStrike" u="sng">
                <a:solidFill>
                  <a:srgbClr val="eaeaea"/>
                </a:solidFill>
                <a:uFillTx/>
                <a:latin typeface="Arial"/>
              </a:rPr>
              <a:t>التزاوج العكسي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2/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اناث حمر العيون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       4/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اناث حمر العيون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4/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ذكور حمر العيون               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4/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اناث بيض العيون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4/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ذكور بيض العيون               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4/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ذكور حمر العيون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                                        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4/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ذكور بيض العيون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احمر :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ابيض)                   ( ا احمر  : ا ابيض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4360" y="907920"/>
            <a:ext cx="799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اناث حمر العيون اصيلة ×ذكور بيض العيون اصيلة (</a:t>
            </a:r>
            <a:r>
              <a:rPr b="0" lang="en-US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p1</a:t>
            </a:r>
            <a:r>
              <a:rPr b="0" lang="en-US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 )       اناث بيض العيون اصيلة ×ذكور حمر العيون اصيلة (</a:t>
            </a:r>
            <a:r>
              <a:rPr b="0" lang="en-US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p1</a:t>
            </a:r>
            <a:r>
              <a:rPr b="0" lang="en-US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)</a:t>
            </a:r>
            <a:endParaRPr b="0" lang="en-US" sz="800" spc="1" strike="noStrike">
              <a:ln w="9360">
                <a:solidFill>
                  <a:srgbClr val="00cc66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11280" y="1844640"/>
            <a:ext cx="8208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اناث وذكور حمر العيون</a:t>
            </a:r>
            <a:r>
              <a:rPr b="0" lang="en-US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f1</a:t>
            </a:r>
            <a:r>
              <a:rPr b="0" lang="en-US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                                            اناث حمر العيون وذكور بيض العيون</a:t>
            </a:r>
            <a:r>
              <a:rPr b="0" lang="en-US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f1</a:t>
            </a:r>
            <a:endParaRPr b="0" lang="en-US" sz="800" spc="1" strike="noStrike">
              <a:ln w="9360">
                <a:solidFill>
                  <a:srgbClr val="00cc66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اناث حمر العيون× ذكور حمر العيون (</a:t>
            </a:r>
            <a:r>
              <a:rPr b="0" lang="en-US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f1Xf1</a:t>
            </a:r>
            <a:r>
              <a:rPr b="0" lang="en-US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)                اناث حمر العيون × ذكور بيض العيون (</a:t>
            </a:r>
            <a:r>
              <a:rPr b="0" lang="en-US" sz="800" spc="1" strike="noStrike">
                <a:ln w="9360">
                  <a:solidFill>
                    <a:srgbClr val="00cc66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f1xf</a:t>
            </a:r>
            <a:endParaRPr b="0" lang="en-US" sz="800" spc="1" strike="noStrike">
              <a:ln w="9360">
                <a:solidFill>
                  <a:srgbClr val="00cc66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2771640" y="1413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3080" y="1413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24720" y="335772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335772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حلل التزاوجين السابقين تحليلا وراثيا ؟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ذابابة الخل تتبع النظام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Y-X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هناك زوج واحد من اليلات هو المسؤول عن الصفتين المتفارقتين السابقتين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          ( الاحمر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&lt;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الابيض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ج- التراكيب الوراثية المحتملة 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= الجين المسؤول عن لون العيون الاحمر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=  اليلة المسؤول عن لون العيون الابيض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الذكور                                          الاناث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ْ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X Y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حمر العيون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X X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   حمر العيون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ْ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X y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بيض العيون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X 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                  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X X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 بيض العيون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4508640"/>
            <a:ext cx="0" cy="647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4508640"/>
            <a:ext cx="287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5157720"/>
            <a:ext cx="287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101080" y="4292640"/>
            <a:ext cx="14436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172360" y="4724280"/>
            <a:ext cx="14472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00720" y="4365720"/>
            <a:ext cx="14436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95640" y="4365720"/>
            <a:ext cx="14472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924360" y="4797360"/>
            <a:ext cx="14436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427640" y="4797360"/>
            <a:ext cx="14436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427640" y="5229360"/>
            <a:ext cx="14436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995640" y="5229360"/>
            <a:ext cx="14472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ارجع الان وحلل التزاوجات السابقة باستخدام الرموز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        التزاوج                             التزاوج العكسي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 X                    X Y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X X       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00cc66"/>
                </a:solidFill>
                <a:latin typeface="Arial"/>
              </a:rPr>
              <a:t>×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 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ْْ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 X                              X  X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</a:t>
            </a:r>
            <a:r>
              <a:rPr b="0" lang="ar-SA" sz="2000" spc="-1" strike="noStrike">
                <a:solidFill>
                  <a:srgbClr val="eaeaea"/>
                </a:solidFill>
                <a:latin typeface="Arial"/>
              </a:rPr>
              <a:t>اناث حمر العيون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6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ْْ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eaeaea"/>
                </a:solidFill>
                <a:latin typeface="Arial"/>
              </a:rPr>
              <a:t>ذكور بيض العيون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 Y                             X 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eaeaea"/>
                </a:solidFill>
                <a:latin typeface="Arial"/>
              </a:rPr>
              <a:t>ذكور بيض العيون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ْْْ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 Y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X X                          XY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X X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2/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X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اناث حمر العيون          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4/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X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اناث حمر العيون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X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اناث حمر العيون           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4/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X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اناث بيض العيون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4/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Y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ذكور حمر العيون         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4/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Y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ذكور حمر العيون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4/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Y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ذكور بيض العيون        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4/1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Y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ذكور بيض العيون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885080" y="141300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300720" y="141300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451640" y="141300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380360" y="198900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348000" y="141300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780000" y="141300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050920" y="141300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77080" y="1916280"/>
            <a:ext cx="95400" cy="14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203640" y="198900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771640" y="198900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04000" y="256536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916360" y="256536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740720" y="314172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172360" y="314172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987640" y="314172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419640" y="314172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588000" y="314172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979640" y="314172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172360" y="371628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812000" y="371628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956720" y="429264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44000" y="429264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812000" y="4869000"/>
            <a:ext cx="95400" cy="14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812000" y="551664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03640" y="371628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564000" y="378936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564000" y="429264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132000" y="4292640"/>
            <a:ext cx="954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276720" y="494172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76720" y="5445000"/>
            <a:ext cx="95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w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64000" y="1628640"/>
            <a:ext cx="289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 Black"/>
              </a:rPr>
              <a:t>p1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 Black"/>
              <a:ea typeface="Arial Blac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724360" y="2205000"/>
            <a:ext cx="216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 Black"/>
              </a:rPr>
              <a:t>f1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 Black"/>
              <a:ea typeface="Arial Blac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4360" y="2205000"/>
            <a:ext cx="215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 Black"/>
              </a:rPr>
              <a:t>f1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 Black"/>
              <a:ea typeface="Arial Blac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932360" y="3789360"/>
            <a:ext cx="216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 Black"/>
              </a:rPr>
              <a:t>f2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 Black"/>
              <a:ea typeface="Arial Blac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435640" y="3284640"/>
            <a:ext cx="792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 Black"/>
              </a:rPr>
              <a:t>f1xf1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 Black"/>
              <a:ea typeface="Arial Blac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68360" y="3284640"/>
            <a:ext cx="792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 Black"/>
              </a:rPr>
              <a:t>f1xf1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17:16:50Z</dcterms:created>
  <dc:creator>User</dc:creator>
  <dc:description/>
  <dc:language>en-US</dc:language>
  <cp:lastModifiedBy>MyName</cp:lastModifiedBy>
  <dcterms:modified xsi:type="dcterms:W3CDTF">2008-03-12T16:35:52Z</dcterms:modified>
  <cp:revision>4</cp:revision>
  <dc:subject/>
  <dc:title>المحاضرة الحادية والعشرون</dc:title>
</cp:coreProperties>
</file>