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F27-F2EB-4418-AA31-3E74672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FB8-B103-48F8-B9BB-F60794AC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629-6448-4F6A-84A9-9782024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8E2-B92F-4931-BFD6-7CD2B8FF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8C7-9F70-4FF9-86D3-D7629199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0502-8B29-4254-B1AB-7A00DF5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7019-6A2D-4D86-937A-1490496D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585-CBE8-4123-A476-7F59623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F880-3FB3-47F7-B8D4-08E812A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9A5C-8133-472C-BD54-E8636E3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9CB-9C43-4652-9867-C590170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A4A-2AA9-4780-98E9-6B7EC93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391-BB41-4EEF-BF95-F8870C1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E9F9-F259-4345-96E6-3DD5061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270-55D7-4E58-A2C3-DB6A80C1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F2A-F607-47C4-AF96-BB762D14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D93-C664-4E2A-829A-EAACCC34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DBF-9703-4868-8C70-97734F50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306-5F0B-4C19-8385-0AE6A33B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F6B-DABA-4309-B8B5-AE37602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DD5-EF21-4F1C-91E6-07EBB20C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9C5-466E-4D63-ACFB-768AC4C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94B-2B35-45D0-B617-E9E597E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955-657C-4371-8FB9-46D2F3F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0C0-7F5A-438C-BBDA-F36930D6B7F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5FD-D642-48D7-8585-41B57F6B770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ecff"/>
                </a:solidFill>
                <a:latin typeface="Arial"/>
              </a:rPr>
              <a:t>المحاضرة الحادية والعشرون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الارتباط بالجنس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الاتباط بالجنس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x-link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هي ظاهر ارتباط الجينات بكروموسومات الجنس وخاصة الكروموسوم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ة بالجنس = هي تلك الجينات التي توجد في كرومسومات الجن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ه بالكروموسوم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هي تلك الجينات التي توجد في الكرموسوم –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ه بالكرموسومات –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هي تلك الجينات التي توجد في الكروموسوم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وتورث فقط من الاباءالى افراد النسل الذكور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593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صفات مرتبطه بالجنس= هي تلك الصفات التي تحدد بوساطة جينات توجد في كرموسومات الجنس وخاصه الكرموسوم –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ومن امثلة هذه الصفات :النزف الوراثي وعمى الالوان (اللون الاخضر –والاحمر) في الانسان لون العيون البيض ولون الجسم الاصفر في ذبابة الخل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مثال: توارث لون العيون البيض في ذبابة الخل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لون العين البيضاء في ذبابة الخل هي صفة وراثية متنحية مرتبطه بالكرموسومات –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aeaea"/>
                </a:solidFill>
                <a:uFillTx/>
                <a:latin typeface="Arial"/>
              </a:rPr>
              <a:t>التزاوج </a:t>
            </a:r>
            <a:r>
              <a:rPr b="1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ar-SA" sz="3200" spc="-1" strike="noStrike" u="sng">
                <a:solidFill>
                  <a:srgbClr val="eaeaea"/>
                </a:solidFill>
                <a:uFillTx/>
                <a:latin typeface="Arial"/>
              </a:rPr>
              <a:t>التزاوج العكس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2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حمر :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بيض)                   ( ا احمر  : ا ابيض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4360" y="907920"/>
            <a:ext cx="799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حمر العيون اصيلة ×ذكور بيض العيون اصيلة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p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 )       اناث بيض العيون اصيلة ×ذكور حمر العيون اصيلة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p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)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1280" y="1844640"/>
            <a:ext cx="820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وذكور حمر العيون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                                            اناث حمر العيون وذكور بيض العيون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حمر العيون× ذكور حمر العيون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Xf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)                اناث حمر العيون × ذكور بيض العيون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xf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1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3357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357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حلل التزاوجين السابقين تحليلا وراثيا 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ذابابة الخل تتبع النظام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Y-X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هناك زوج واحد من اليلات هو المسؤول عن الصفتين المتفارقتين السابقتين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( الاحمر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&lt;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ابيض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- التراكيب الوراثية المحتملة 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الجين المسؤول عن لون العيون الاحم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 اليلة المسؤول عن لون العيون الابي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الذكور                                          الانا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ْ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حمر العيون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حمر العيون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ْ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بيض العيون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بيض العيون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508640"/>
            <a:ext cx="287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157720"/>
            <a:ext cx="287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01080" y="429264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72360" y="472428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436572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95640" y="436572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24360" y="4797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27640" y="4797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27640" y="5229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95640" y="522936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رجع الان وحلل التزاوجات السابقة باستخدام الرموز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التزاوج                             التزاوج العكس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X                    X Y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X X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cc66"/>
                </a:solidFill>
                <a:latin typeface="Arial"/>
              </a:rPr>
              <a:t>×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X                              X  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اناث حمر العيو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ذكور بيض العيون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                             X 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ذكور بيض العيو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X X                          XY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X 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2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حمر العيون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حمر العيون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ذكور حمر العيون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ذكور بيض العيون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88508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30072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45164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380360" y="1989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4800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80000" y="1413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092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77080" y="1916280"/>
            <a:ext cx="954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3640" y="1989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771640" y="1989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04000" y="256536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916360" y="256536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40720" y="31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7236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8764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419640" y="31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8800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7964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172360" y="371628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0" y="371628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95672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4400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812000" y="4869000"/>
            <a:ext cx="954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812000" y="551664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371628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64000" y="378936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6400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132000" y="429264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49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76720" y="5445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64000" y="1628640"/>
            <a:ext cx="289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p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724360" y="220500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4360" y="220500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32360" y="3789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435640" y="3284640"/>
            <a:ext cx="79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x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360" y="3284640"/>
            <a:ext cx="79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x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7:16:50Z</dcterms:created>
  <dc:creator>User</dc:creator>
  <dc:description/>
  <dc:language>en-US</dc:language>
  <cp:lastModifiedBy>MyName</cp:lastModifiedBy>
  <dcterms:modified xsi:type="dcterms:W3CDTF">2008-03-12T16:35:52Z</dcterms:modified>
  <cp:revision>4</cp:revision>
  <dc:subject/>
  <dc:title>المحاضرة الحادية والعشرون</dc:title>
</cp:coreProperties>
</file>