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F6D-7133-4B81-BBFB-6D53332E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F11-4018-4957-83F8-11AB937A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1DD-76DB-4717-93DA-81EA9195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292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64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292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64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5B3-3DF7-4959-8D61-7755CF22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496-5B49-4324-8A63-52F469AF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9292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8164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0456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9292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8164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BE4-D18B-4BE5-A91A-4DA9AFB7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F48-478C-4FEF-8FB5-B85FF46F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2CA-AD56-4651-8E8B-8492568D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7AA-C18A-47BD-B7E6-7A2A72F0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362-6EEF-462F-A407-CF30CAC8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951-BF1C-4259-934F-9DBCFA40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5AB-E7E1-4DC5-A9E4-7F12C65D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BE47-D07F-4A02-BB71-3BB1AB3E867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380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349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35000" y="998640"/>
            <a:ext cx="8856720" cy="269640"/>
            <a:chOff x="135000" y="998640"/>
            <a:chExt cx="8856720" cy="269640"/>
          </a:xfrm>
        </p:grpSpPr>
        <p:sp>
          <p:nvSpPr>
            <p:cNvPr id="8" name=""/>
            <p:cNvSpPr/>
            <p:nvPr/>
          </p:nvSpPr>
          <p:spPr>
            <a:xfrm>
              <a:off x="135000" y="1057320"/>
              <a:ext cx="8856720" cy="14436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18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2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732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4472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1616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5858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572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286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98680" y="998640"/>
              <a:ext cx="2732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67192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9415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2130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48444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7544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027320" y="998640"/>
              <a:ext cx="2718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9912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5687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402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11164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3816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6530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92452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194520" y="998640"/>
              <a:ext cx="27288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46740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7374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0088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2802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5502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8184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08992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36136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6313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12408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04920" y="2362320"/>
            <a:ext cx="8535960" cy="609480"/>
            <a:chOff x="304920" y="2362320"/>
            <a:chExt cx="8535960" cy="609480"/>
          </a:xfrm>
        </p:grpSpPr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198108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400800"/>
            <a:ext cx="9142560" cy="455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6477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© 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by Kenneth H. Rosen, </a:t>
            </a:r>
            <a:r>
              <a:rPr b="0" i="1" lang="en-US" sz="1200" spc="-1" strike="noStrike">
                <a:solidFill>
                  <a:srgbClr val="cbcbcb"/>
                </a:solidFill>
                <a:latin typeface="Times New Roman"/>
              </a:rPr>
              <a:t>Discrete Mathematics &amp; its Applications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, Sixth Edition, Mc Graw-Hill, 2007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pter 9 (Part 2): Graph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880" y="342864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presenting Graphs &amp; 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Graph Isomorphism (9.3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nectivity (9.4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1879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ipartite graph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5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simple graph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bipartit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its vertex set V can be partitioned into 2 disjoint set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such that every edge in the graph connects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nd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(so that no edge in G connects either 2 vertices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r 2 vertices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3505320"/>
            <a:ext cx="8305920" cy="259056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F63-653B-49F9-BD3F-0086F33061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bipartite, since its vertex set can be partitioned into the 2 set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 and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and every edge of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onnects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not bipartite. Why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90920" y="3505320"/>
            <a:ext cx="3504960" cy="2514600"/>
            <a:chOff x="2590920" y="3505320"/>
            <a:chExt cx="3504960" cy="2514600"/>
          </a:xfrm>
        </p:grpSpPr>
        <p:sp>
          <p:nvSpPr>
            <p:cNvPr id="383" name=""/>
            <p:cNvSpPr/>
            <p:nvPr/>
          </p:nvSpPr>
          <p:spPr>
            <a:xfrm>
              <a:off x="2590920" y="3505320"/>
              <a:ext cx="1143000" cy="2514600"/>
            </a:xfrm>
            <a:prstGeom prst="ellipse">
              <a:avLst/>
            </a:prstGeom>
            <a:solidFill>
              <a:srgbClr val="cbcbcb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52880" y="3505320"/>
              <a:ext cx="1143000" cy="2514600"/>
            </a:xfrm>
            <a:prstGeom prst="ellipse">
              <a:avLst/>
            </a:prstGeom>
            <a:solidFill>
              <a:srgbClr val="cbcbcb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6880" y="3886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46880" y="44956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6880" y="5181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61480" y="3886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61480" y="44956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61480" y="5181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3112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9344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76720" y="4191120"/>
              <a:ext cx="198108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76720" y="4191120"/>
              <a:ext cx="1981080" cy="129528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276720" y="4214520"/>
              <a:ext cx="1904760" cy="58572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76720" y="4800600"/>
              <a:ext cx="198108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352680" y="4800240"/>
              <a:ext cx="1905120" cy="68580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52680" y="5486400"/>
              <a:ext cx="190512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00400" y="4114800"/>
              <a:ext cx="152280" cy="15228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00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81480" y="4114800"/>
              <a:ext cx="152640" cy="15228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81480" y="4724280"/>
              <a:ext cx="15264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81480" y="5410080"/>
              <a:ext cx="15264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0040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6DB-CCE2-46B4-9AE0-B1D385E271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aracterization of bipartit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graph is bipartite if and only if it is possible to color the vertices of the graph with at most 2 colors so that no 2 adjacent vertices have the same color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omplete bipartite graphs: they are denoted by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m,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Their  vertices set is partitioned into 2 subsets of m and n vertices, respectively. There is an edge between 2 vertices if and only if one vertex is in the first subset and the other vertex is in the second subset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59F-D0F2-41A6-8EF8-6FC7E0854E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066680" y="1752480"/>
            <a:ext cx="2286000" cy="1653120"/>
            <a:chOff x="1066680" y="1752480"/>
            <a:chExt cx="2286000" cy="1653120"/>
          </a:xfrm>
        </p:grpSpPr>
        <p:sp>
          <p:nvSpPr>
            <p:cNvPr id="409" name=""/>
            <p:cNvSpPr/>
            <p:nvPr/>
          </p:nvSpPr>
          <p:spPr>
            <a:xfrm flipH="1">
              <a:off x="1143000" y="1828800"/>
              <a:ext cx="4572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1828800"/>
              <a:ext cx="6094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00200" y="1828800"/>
              <a:ext cx="16765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1142640" y="1828800"/>
              <a:ext cx="15238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09680" y="1828800"/>
              <a:ext cx="4572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66880" y="1828800"/>
              <a:ext cx="6098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23880" y="1752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90920" y="17524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66680" y="26668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3372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0040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3960" y="289548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,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320" y="3581280"/>
            <a:ext cx="4343400" cy="1729080"/>
            <a:chOff x="76320" y="3581280"/>
            <a:chExt cx="4343400" cy="1729080"/>
          </a:xfrm>
        </p:grpSpPr>
        <p:sp>
          <p:nvSpPr>
            <p:cNvPr id="422" name=""/>
            <p:cNvSpPr/>
            <p:nvPr/>
          </p:nvSpPr>
          <p:spPr>
            <a:xfrm>
              <a:off x="121932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8600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7672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52280" y="3657240"/>
              <a:ext cx="10670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1932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19320" y="3657240"/>
              <a:ext cx="31240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21896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86000" y="3657240"/>
              <a:ext cx="9907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8600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51920" y="3657240"/>
              <a:ext cx="31244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121896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6000" y="3657240"/>
              <a:ext cx="9907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7672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3000" y="35812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09680" y="35812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32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4300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09680" y="44956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040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67080" y="44956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0400" y="35812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6320" y="3657240"/>
              <a:ext cx="2209680" cy="914400"/>
            </a:xfrm>
            <a:prstGeom prst="line">
              <a:avLst/>
            </a:prstGeom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47520" y="480024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,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334120" y="1676520"/>
            <a:ext cx="2286000" cy="1881720"/>
            <a:chOff x="5334120" y="1676520"/>
            <a:chExt cx="2286000" cy="1881720"/>
          </a:xfrm>
        </p:grpSpPr>
        <p:sp>
          <p:nvSpPr>
            <p:cNvPr id="447" name=""/>
            <p:cNvSpPr/>
            <p:nvPr/>
          </p:nvSpPr>
          <p:spPr>
            <a:xfrm>
              <a:off x="541008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7712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4380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0080" y="1752480"/>
              <a:ext cx="213372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10080" y="1752480"/>
              <a:ext cx="106704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410080" y="1752480"/>
              <a:ext cx="106704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77120" y="1752480"/>
              <a:ext cx="106668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409720" y="1752480"/>
              <a:ext cx="213372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476760" y="175248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3412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080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67480" y="26668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34120" y="1676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00800" y="1676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67480" y="16765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67240" y="304812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,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581280" y="4419720"/>
            <a:ext cx="5410440" cy="1500480"/>
            <a:chOff x="3581280" y="4419720"/>
            <a:chExt cx="5410440" cy="1500480"/>
          </a:xfrm>
        </p:grpSpPr>
        <p:sp>
          <p:nvSpPr>
            <p:cNvPr id="464" name=""/>
            <p:cNvSpPr/>
            <p:nvPr/>
          </p:nvSpPr>
          <p:spPr>
            <a:xfrm>
              <a:off x="5791320" y="4495680"/>
              <a:ext cx="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58000" y="4495680"/>
              <a:ext cx="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657240" y="4495680"/>
              <a:ext cx="213372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4800600" y="4495680"/>
              <a:ext cx="99072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91320" y="4419720"/>
              <a:ext cx="1066680" cy="99036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9132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91320" y="4495680"/>
              <a:ext cx="31240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3657600" y="4495680"/>
              <a:ext cx="31240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80024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790960" y="4495680"/>
              <a:ext cx="10666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58000" y="4419720"/>
              <a:ext cx="990720" cy="99036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5800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4832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1500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816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8390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15000" y="441972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81680" y="441972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812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14600" y="541008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,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2442960" y="6019920"/>
            <a:ext cx="4326120" cy="459720"/>
          </a:xfrm>
          <a:prstGeom prst="rect">
            <a:avLst/>
          </a:prstGeom>
          <a:noFill/>
          <a:ln cap="sq"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ome complete bipartite graph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B42-EC8D-4821-B5F7-B84A730C1C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me applications of special types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ocal area network</a:t>
            </a:r>
            <a:br>
              <a:rPr sz="2400"/>
            </a:b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: connecting computers as well as peripheral devices in a building using a local area network topology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Some of these networks are based on a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tar topology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where all devices are connected to a central control device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star topology is equivalent to a K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,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complete bipartite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2C4-77BC-4046-A94F-F881F8D6EE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Other local area networks use a ring topology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graph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Finally, the hybrid topology which is equivalent to a W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graph is also used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FF1-B161-4C9B-AFF9-DFC99453D8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71600" y="2438280"/>
            <a:ext cx="1600200" cy="2177640"/>
            <a:chOff x="1371600" y="2438280"/>
            <a:chExt cx="1600200" cy="2177640"/>
          </a:xfrm>
        </p:grpSpPr>
        <p:sp>
          <p:nvSpPr>
            <p:cNvPr id="492" name=""/>
            <p:cNvSpPr/>
            <p:nvPr/>
          </p:nvSpPr>
          <p:spPr>
            <a:xfrm flipV="1">
              <a:off x="1447920" y="2514600"/>
              <a:ext cx="144756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47920" y="2514600"/>
              <a:ext cx="144756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47920" y="3200400"/>
              <a:ext cx="144756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09680" y="2514600"/>
              <a:ext cx="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7160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337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195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160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3372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1952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7160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337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195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65960" y="4156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888480" y="5638680"/>
            <a:ext cx="7502040" cy="459720"/>
          </a:xfrm>
          <a:prstGeom prst="rect">
            <a:avLst/>
          </a:prstGeom>
          <a:noFill/>
          <a:ln cap="sq"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tar, ring, and hybrid topologies for local area network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809880" y="2438280"/>
            <a:ext cx="1676520" cy="2212560"/>
            <a:chOff x="3809880" y="2438280"/>
            <a:chExt cx="1676520" cy="2212560"/>
          </a:xfrm>
        </p:grpSpPr>
        <p:sp>
          <p:nvSpPr>
            <p:cNvPr id="508" name=""/>
            <p:cNvSpPr/>
            <p:nvPr/>
          </p:nvSpPr>
          <p:spPr>
            <a:xfrm flipH="1">
              <a:off x="3886200" y="251460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8620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86200" y="350532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43400" y="3886200"/>
              <a:ext cx="68580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029200" y="3505320"/>
              <a:ext cx="38088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41008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43400" y="2514600"/>
              <a:ext cx="60948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29200" y="2514600"/>
              <a:ext cx="38088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07920" y="4191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67080" y="24382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7080" y="38098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2880" y="38098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819520"/>
              <a:ext cx="15264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9880" y="3429000"/>
              <a:ext cx="15264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412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412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248520" y="2438280"/>
            <a:ext cx="1676160" cy="2212560"/>
            <a:chOff x="6248520" y="2438280"/>
            <a:chExt cx="1676160" cy="2212560"/>
          </a:xfrm>
        </p:grpSpPr>
        <p:sp>
          <p:nvSpPr>
            <p:cNvPr id="526" name=""/>
            <p:cNvSpPr/>
            <p:nvPr/>
          </p:nvSpPr>
          <p:spPr>
            <a:xfrm>
              <a:off x="6781680" y="2514600"/>
              <a:ext cx="68580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781680" y="2514600"/>
              <a:ext cx="68580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24480" y="2895480"/>
              <a:ext cx="152424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324480" y="2895480"/>
              <a:ext cx="152424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8720" y="4191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324480" y="251460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24480" y="350532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81680" y="3886200"/>
              <a:ext cx="68580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467480" y="3505320"/>
              <a:ext cx="38124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84872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81680" y="2514600"/>
              <a:ext cx="60984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67480" y="2514600"/>
              <a:ext cx="38124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915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057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915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4852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4852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7240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7240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10280" y="31240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068-02AE-46C8-BF89-A4437BB152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terconnection networks for parallel processing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inear arrays for processor connection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Mesh network (Markovian neighborhood)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Hypercube interconnection (generalization of n-cubes)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4D5-C0D9-4A46-ACC0-BE82099D68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ing Graphs &amp; Graph Isomorphism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: Consists of choosing the most convenient representation of a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e need to determine whether 2 graphs are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c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is problem is important in graph theory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CC1-74B6-4786-8694-96735F5B38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presenting Graph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ist all the edges of the graph (no multiple edges)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djacency lis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which specifies the vertices that are adjacent to each vertex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170-4AC6-4DBB-9D0D-D0E9EE4205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Graph Terminology (9.2)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ome special simple graph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mplete grap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ey contain exactly one edge between each pair of distinct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25C-C140-4860-B2A4-87F446BF42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djacency lists to describe this simple graph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44800" y="457200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048120" y="4191120"/>
          <a:ext cx="4190760" cy="2452680"/>
        </p:xfrm>
        <a:graphic>
          <a:graphicData uri="http://schemas.openxmlformats.org/drawingml/2006/table">
            <a:tbl>
              <a:tblPr/>
              <a:tblGrid>
                <a:gridCol w="1218960"/>
                <a:gridCol w="2971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ertex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djacent vertices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b, c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a, d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c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a, c, d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8" name=""/>
          <p:cNvGrpSpPr/>
          <p:nvPr/>
        </p:nvGrpSpPr>
        <p:grpSpPr>
          <a:xfrm>
            <a:off x="2881080" y="2022480"/>
            <a:ext cx="2983320" cy="1907640"/>
            <a:chOff x="2881080" y="2022480"/>
            <a:chExt cx="2983320" cy="1907640"/>
          </a:xfrm>
        </p:grpSpPr>
        <p:grpSp>
          <p:nvGrpSpPr>
            <p:cNvPr id="559" name=""/>
            <p:cNvGrpSpPr/>
            <p:nvPr/>
          </p:nvGrpSpPr>
          <p:grpSpPr>
            <a:xfrm>
              <a:off x="3200400" y="2133720"/>
              <a:ext cx="2286000" cy="1752480"/>
              <a:chOff x="3200400" y="2133720"/>
              <a:chExt cx="2286000" cy="1752480"/>
            </a:xfrm>
          </p:grpSpPr>
          <p:sp>
            <p:nvSpPr>
              <p:cNvPr id="560" name=""/>
              <p:cNvSpPr/>
              <p:nvPr/>
            </p:nvSpPr>
            <p:spPr>
              <a:xfrm>
                <a:off x="3353040" y="2743200"/>
                <a:ext cx="45720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353040" y="2743200"/>
                <a:ext cx="1981080" cy="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3276720" y="2209680"/>
                <a:ext cx="914400" cy="53316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809880" y="2743200"/>
                <a:ext cx="152388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4876920" y="2743200"/>
                <a:ext cx="45720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86200" y="3733920"/>
                <a:ext cx="1067040" cy="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191120" y="213372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57800" y="266724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200400" y="266724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33920" y="365760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00600" y="365760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4481640" y="202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479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8108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16040" y="347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15160" y="347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02D-C37C-4F79-8505-E60F8F4D83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djacency matr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o simplify computation, graphs can be represented using matr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djacency matrix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cident matrix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djacency matrix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defined as A = [a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] such that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209680" y="5486400"/>
                <a:ext cx="4953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if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 edge of G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B9D-E7E0-44BE-82DF-82D6275636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 adjacency matrix to represent this 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4191120"/>
            <a:ext cx="671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e order the vertices a, b, c, d.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matrix representing this graph i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201480" y="2057400"/>
            <a:ext cx="1767240" cy="1679040"/>
            <a:chOff x="3201480" y="2057400"/>
            <a:chExt cx="1767240" cy="1679040"/>
          </a:xfrm>
        </p:grpSpPr>
        <p:sp>
          <p:nvSpPr>
            <p:cNvPr id="583" name=""/>
            <p:cNvSpPr/>
            <p:nvPr/>
          </p:nvSpPr>
          <p:spPr>
            <a:xfrm>
              <a:off x="3581280" y="2514600"/>
              <a:ext cx="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581280" y="2514600"/>
              <a:ext cx="99072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81280" y="2514600"/>
              <a:ext cx="99072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81280" y="2514600"/>
              <a:ext cx="99072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05320" y="2438280"/>
              <a:ext cx="15228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95680" y="2438280"/>
              <a:ext cx="15264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95680" y="3352680"/>
              <a:ext cx="15264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5320" y="3352680"/>
              <a:ext cx="15228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634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42120" y="20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01480" y="3276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3572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3581280" y="5105520"/>
                <a:ext cx="133848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1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1   0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F14-DBD0-4FD6-8D8D-AB50698419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 case of pseudographs , the adjacency matrix is not a binary matrix but is formed of elements that represent the number of edges between 2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n adjacency matrix to represent this pseudo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633560" y="3774960"/>
            <a:ext cx="2009880" cy="1635120"/>
            <a:chOff x="4633560" y="3774960"/>
            <a:chExt cx="2009880" cy="1635120"/>
          </a:xfrm>
        </p:grpSpPr>
        <p:sp>
          <p:nvSpPr>
            <p:cNvPr id="599" name=""/>
            <p:cNvSpPr/>
            <p:nvPr/>
          </p:nvSpPr>
          <p:spPr>
            <a:xfrm>
              <a:off x="5029200" y="4114800"/>
              <a:ext cx="114300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028840" y="4114800"/>
              <a:ext cx="114300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72200" y="5105520"/>
              <a:ext cx="304920" cy="304560"/>
            </a:xfrm>
            <a:prstGeom prst="ellipse">
              <a:avLst/>
            </a:prstGeom>
            <a:noFill/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72200" y="4114800"/>
              <a:ext cx="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0600" y="4114800"/>
              <a:ext cx="228600" cy="9907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144" y="624"/>
                  </a:moveTo>
                  <a:cubicBezTo>
                    <a:pt x="72" y="484"/>
                    <a:pt x="0" y="344"/>
                    <a:pt x="0" y="240"/>
                  </a:cubicBezTo>
                  <a:cubicBezTo>
                    <a:pt x="0" y="136"/>
                    <a:pt x="120" y="40"/>
                    <a:pt x="144" y="0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29200" y="4114800"/>
              <a:ext cx="152280" cy="990720"/>
            </a:xfrm>
            <a:custGeom>
              <a:avLst/>
              <a:gdLst/>
              <a:ahLst/>
              <a:rect l="l" t="t" r="r" b="b"/>
              <a:pathLst>
                <a:path w="96" h="624">
                  <a:moveTo>
                    <a:pt x="0" y="0"/>
                  </a:moveTo>
                  <a:cubicBezTo>
                    <a:pt x="48" y="92"/>
                    <a:pt x="96" y="184"/>
                    <a:pt x="96" y="288"/>
                  </a:cubicBezTo>
                  <a:cubicBezTo>
                    <a:pt x="96" y="392"/>
                    <a:pt x="48" y="508"/>
                    <a:pt x="0" y="624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29200" y="5105520"/>
              <a:ext cx="1143000" cy="15228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0"/>
                  </a:moveTo>
                  <a:cubicBezTo>
                    <a:pt x="132" y="48"/>
                    <a:pt x="264" y="96"/>
                    <a:pt x="384" y="96"/>
                  </a:cubicBezTo>
                  <a:cubicBezTo>
                    <a:pt x="504" y="96"/>
                    <a:pt x="612" y="48"/>
                    <a:pt x="720" y="0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29200" y="4952880"/>
              <a:ext cx="1143000" cy="15264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96"/>
                  </a:moveTo>
                  <a:cubicBezTo>
                    <a:pt x="132" y="48"/>
                    <a:pt x="264" y="0"/>
                    <a:pt x="384" y="0"/>
                  </a:cubicBezTo>
                  <a:cubicBezTo>
                    <a:pt x="504" y="0"/>
                    <a:pt x="612" y="48"/>
                    <a:pt x="720" y="96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29200" y="3962520"/>
              <a:ext cx="1143000" cy="15228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96"/>
                  </a:moveTo>
                  <a:cubicBezTo>
                    <a:pt x="132" y="48"/>
                    <a:pt x="264" y="0"/>
                    <a:pt x="384" y="0"/>
                  </a:cubicBezTo>
                  <a:cubicBezTo>
                    <a:pt x="504" y="0"/>
                    <a:pt x="612" y="48"/>
                    <a:pt x="720" y="96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29200" y="4038480"/>
              <a:ext cx="1143000" cy="241560"/>
            </a:xfrm>
            <a:custGeom>
              <a:avLst/>
              <a:gdLst/>
              <a:ahLst/>
              <a:rect l="l" t="t" r="r" b="b"/>
              <a:pathLst>
                <a:path w="720" h="152">
                  <a:moveTo>
                    <a:pt x="0" y="0"/>
                  </a:moveTo>
                  <a:cubicBezTo>
                    <a:pt x="108" y="68"/>
                    <a:pt x="216" y="136"/>
                    <a:pt x="336" y="144"/>
                  </a:cubicBezTo>
                  <a:cubicBezTo>
                    <a:pt x="456" y="152"/>
                    <a:pt x="588" y="100"/>
                    <a:pt x="720" y="48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52880" y="4038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4038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5029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52880" y="5029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33560" y="3774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10440" y="385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33920" y="484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33760" y="4613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437480" y="5450040"/>
            <a:ext cx="51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adjacency matrix usi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ordering of vertices a, b, c, d is: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7086600" y="5105520"/>
                <a:ext cx="14605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3   0   2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  0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488-9AE2-499A-80F1-878246507B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cidence matr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G = (V,E) be an undirected graph.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cidence matrices are defined by the matrix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M = [m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] such that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16160" y="4757760"/>
                <a:ext cx="63943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if edge 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is incident with vertex 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1EB-BBF3-465E-8D57-C16FCD1307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ing an incidence matrix, represent the following undirected 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130400" y="4840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675160" y="4114800"/>
            <a:ext cx="2404800" cy="2697840"/>
            <a:chOff x="2675160" y="4114800"/>
            <a:chExt cx="2404800" cy="2697840"/>
          </a:xfrm>
        </p:grpSpPr>
        <p:sp>
          <p:nvSpPr>
            <p:cNvPr id="626" name=""/>
            <p:cNvSpPr/>
            <p:nvPr/>
          </p:nvSpPr>
          <p:spPr>
            <a:xfrm>
              <a:off x="3147120" y="4114800"/>
              <a:ext cx="1906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5160" y="4430880"/>
              <a:ext cx="4215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8" name=""/>
                <p:cNvSpPr txBox="1"/>
                <p:nvPr/>
              </p:nvSpPr>
              <p:spPr>
                <a:xfrm>
                  <a:off x="3048120" y="4648320"/>
                  <a:ext cx="2031840" cy="18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1   0   0   0   0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0   1   1   0   1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0   0   0   1   1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0   1   0   0   0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9" name=""/>
          <p:cNvGrpSpPr/>
          <p:nvPr/>
        </p:nvGrpSpPr>
        <p:grpSpPr>
          <a:xfrm>
            <a:off x="6012360" y="2362320"/>
            <a:ext cx="2494800" cy="1805400"/>
            <a:chOff x="6012360" y="2362320"/>
            <a:chExt cx="2494800" cy="1805400"/>
          </a:xfrm>
        </p:grpSpPr>
        <p:sp>
          <p:nvSpPr>
            <p:cNvPr id="630" name=""/>
            <p:cNvSpPr/>
            <p:nvPr/>
          </p:nvSpPr>
          <p:spPr>
            <a:xfrm>
              <a:off x="7162920" y="2895480"/>
              <a:ext cx="99036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172200" y="2895480"/>
              <a:ext cx="160020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172200" y="2895480"/>
              <a:ext cx="53352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705720" y="2895120"/>
              <a:ext cx="45720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62920" y="2895480"/>
              <a:ext cx="60948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7772400" y="2895480"/>
              <a:ext cx="38088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95880" y="281952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86600" y="281952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077320" y="281952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2940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65760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1236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94260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85600" y="24382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580440" y="3657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71160" y="3657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40240" y="31654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92520" y="26668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789600" y="320040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35800" y="24382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893000" y="304812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59480" y="28954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BC8-CBF8-4E2D-A01A-F98A1D5656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somorphism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: is it possible to draw 2 graphs in the same way?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 chemistry, different graph compounds can have the same molecular formula but can differ in structure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graphs of these compounds cannot be drawn in the same way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Graphs having the same structure share common propertie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F61-7224-4AA3-BB15-8F962FCDC8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1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simple graphs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(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and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(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are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c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there is a one-to-one and onto function f from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ith the property that a and b are adjacent in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and only if f(a) and f(b) are adjacent in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for all a and b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Such a function f is called an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sm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90720" y="2514600"/>
            <a:ext cx="8076960" cy="28954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BA6-9EB4-4442-B791-87F3626E80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Show that the graphs G = (V,E) and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H = (W,F) are isomorph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913040" y="2362320"/>
            <a:ext cx="1659600" cy="1567800"/>
            <a:chOff x="1913040" y="2362320"/>
            <a:chExt cx="1659600" cy="1567800"/>
          </a:xfrm>
        </p:grpSpPr>
        <p:sp>
          <p:nvSpPr>
            <p:cNvPr id="660" name=""/>
            <p:cNvSpPr/>
            <p:nvPr/>
          </p:nvSpPr>
          <p:spPr>
            <a:xfrm>
              <a:off x="2515320" y="3470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61960" y="2666880"/>
              <a:ext cx="76176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24080" y="2666880"/>
              <a:ext cx="0" cy="60984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61960" y="2666880"/>
              <a:ext cx="0" cy="60984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61960" y="3352680"/>
              <a:ext cx="76176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86000" y="2590920"/>
              <a:ext cx="15192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86000" y="3276720"/>
              <a:ext cx="15192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47760" y="2590920"/>
              <a:ext cx="15228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047760" y="3276720"/>
              <a:ext cx="15228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1304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5108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1304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5108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4123080" y="2362320"/>
            <a:ext cx="2193120" cy="1526400"/>
            <a:chOff x="4123080" y="2362320"/>
            <a:chExt cx="2193120" cy="1526400"/>
          </a:xfrm>
        </p:grpSpPr>
        <p:sp>
          <p:nvSpPr>
            <p:cNvPr id="674" name=""/>
            <p:cNvSpPr/>
            <p:nvPr/>
          </p:nvSpPr>
          <p:spPr>
            <a:xfrm>
              <a:off x="4495680" y="2666880"/>
              <a:ext cx="1371600" cy="8384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4495680" y="2666520"/>
              <a:ext cx="1371600" cy="8384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72000" y="2743200"/>
              <a:ext cx="0" cy="60948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67280" y="2743200"/>
              <a:ext cx="0" cy="60948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2590920"/>
              <a:ext cx="152280" cy="15228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90960" y="2590920"/>
              <a:ext cx="152640" cy="15228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3352680"/>
              <a:ext cx="152280" cy="15264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90960" y="3352680"/>
              <a:ext cx="152640" cy="15264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2308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89464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4216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89464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14440" y="3429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76320" y="38862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The function f with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is a one-to-one correspondence between V and W. To see that this correspondence preserves adjacency, note that adjacent vertices in G are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and each of the pairs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re adjacent in H.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919-67D4-4BDA-8A97-33EAB30A82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onnectivity (9.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: determination of paths within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Many problems can be modeled with paths formed by traveling along the edges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Some examples of problems are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Study the link between remote computer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Efficient planning of routes for mail delivery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Garbage pickup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Diagnostic in computer network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2C9-1FC7-4A8C-A269-33DCA8DFE8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78600" y="2590920"/>
            <a:ext cx="488880" cy="856080"/>
            <a:chOff x="678600" y="2590920"/>
            <a:chExt cx="488880" cy="856080"/>
          </a:xfrm>
        </p:grpSpPr>
        <p:sp>
          <p:nvSpPr>
            <p:cNvPr id="143" name=""/>
            <p:cNvSpPr/>
            <p:nvPr/>
          </p:nvSpPr>
          <p:spPr>
            <a:xfrm>
              <a:off x="7621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8600" y="293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676520" y="2590920"/>
            <a:ext cx="1523880" cy="814680"/>
            <a:chOff x="1676520" y="2590920"/>
            <a:chExt cx="1523880" cy="814680"/>
          </a:xfrm>
        </p:grpSpPr>
        <p:sp>
          <p:nvSpPr>
            <p:cNvPr id="146" name=""/>
            <p:cNvSpPr/>
            <p:nvPr/>
          </p:nvSpPr>
          <p:spPr>
            <a:xfrm>
              <a:off x="190512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8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164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657600" y="1371600"/>
            <a:ext cx="1523880" cy="2034000"/>
            <a:chOff x="3657600" y="1371600"/>
            <a:chExt cx="1523880" cy="2034000"/>
          </a:xfrm>
        </p:grpSpPr>
        <p:sp>
          <p:nvSpPr>
            <p:cNvPr id="151" name=""/>
            <p:cNvSpPr/>
            <p:nvPr/>
          </p:nvSpPr>
          <p:spPr>
            <a:xfrm flipH="1">
              <a:off x="3809880" y="1447920"/>
              <a:ext cx="6098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86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57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2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4340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2676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715000" y="1447920"/>
            <a:ext cx="1523880" cy="1957680"/>
            <a:chOff x="5715000" y="1447920"/>
            <a:chExt cx="1523880" cy="1957680"/>
          </a:xfrm>
        </p:grpSpPr>
        <p:sp>
          <p:nvSpPr>
            <p:cNvPr id="159" name=""/>
            <p:cNvSpPr/>
            <p:nvPr/>
          </p:nvSpPr>
          <p:spPr>
            <a:xfrm flipV="1">
              <a:off x="57913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08660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436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50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02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4360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50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1028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5716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038480" y="3505320"/>
            <a:ext cx="2133720" cy="3100680"/>
            <a:chOff x="4038480" y="3505320"/>
            <a:chExt cx="2133720" cy="3100680"/>
          </a:xfrm>
        </p:grpSpPr>
        <p:sp>
          <p:nvSpPr>
            <p:cNvPr id="169" name=""/>
            <p:cNvSpPr/>
            <p:nvPr/>
          </p:nvSpPr>
          <p:spPr>
            <a:xfrm flipH="1">
              <a:off x="4266720" y="3581280"/>
              <a:ext cx="838440" cy="15242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181480" y="5105520"/>
              <a:ext cx="83844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09588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67080" y="4343400"/>
              <a:ext cx="914400" cy="1523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105520" y="4343400"/>
              <a:ext cx="914400" cy="14479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480" y="3657600"/>
              <a:ext cx="838440" cy="1523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81480" y="3657600"/>
              <a:ext cx="0" cy="21337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266720" y="3581280"/>
              <a:ext cx="83844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112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5181120" y="3580920"/>
              <a:ext cx="83844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67080" y="4343400"/>
              <a:ext cx="17528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4267080"/>
              <a:ext cx="175284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267080" y="4267080"/>
              <a:ext cx="175284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67080" y="5105520"/>
              <a:ext cx="17528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360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8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4360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2920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61520" y="6095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2280" y="3809880"/>
            <a:ext cx="2210040" cy="2567520"/>
            <a:chOff x="152280" y="3809880"/>
            <a:chExt cx="2210040" cy="2567520"/>
          </a:xfrm>
        </p:grpSpPr>
        <p:sp>
          <p:nvSpPr>
            <p:cNvPr id="192" name=""/>
            <p:cNvSpPr/>
            <p:nvPr/>
          </p:nvSpPr>
          <p:spPr>
            <a:xfrm flipH="1">
              <a:off x="22860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00" y="4724280"/>
              <a:ext cx="38088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905120" y="4724280"/>
              <a:ext cx="3045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5280" y="3886200"/>
              <a:ext cx="99072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920" y="4724280"/>
              <a:ext cx="190476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33520" y="4724280"/>
              <a:ext cx="16761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228240" y="4647960"/>
              <a:ext cx="1600200" cy="9903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09480" y="3886200"/>
              <a:ext cx="609840" cy="16765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95280" y="3962520"/>
              <a:ext cx="609840" cy="16761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56386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524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300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28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7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50040" y="58672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351480" y="5641920"/>
            <a:ext cx="2617560" cy="875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graphs K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for 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n 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ED6-CA70-490B-BDB9-03B718D907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ath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1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et n be a nonnegative integer and G an undirected graph. A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pat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n from u to v in G is a sequence of n edges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f G such that 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…, 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where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= u and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= v. When the graph is simple, we denote this path by its vertex sequence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(since listing these vertices uniquely determines the path). The path is a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it begins and ends at the same vertex, that is, if u = v, and has length greater than zero. The path or circuit is said to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pass throug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vertices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traverse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edges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. A path or circuit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simple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it does not contain the same edge more than once.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2438280"/>
            <a:ext cx="8153280" cy="419112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E21-DB14-4265-BB9C-54370FFC47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4572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 this simple graph a, d, c, f, e is a simple path of length 4, since {a,d}, {d,c}, {c,f}, and {f,e} are all edges.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However, d, e, c, a is not a path, since {e,c} is not an edge.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Note that b, c, f, e, b is a circuit of length 4 since {b,c}, {c,f}, {f,e}, and {e,b} are edges, and this path begins and ends at b.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path a, b, e,d,a,b, which is of length 5, is not simple since it contains the edge {a,b} twice.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38280" y="144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816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624280" y="1488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29000" y="1981080"/>
            <a:ext cx="2286000" cy="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29000" y="2895480"/>
            <a:ext cx="2286000" cy="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29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15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429000" y="1981080"/>
            <a:ext cx="2286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29000" y="1981080"/>
            <a:ext cx="1143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72000" y="1981080"/>
            <a:ext cx="1143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352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95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38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352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638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3386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81280" y="2860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624280" y="2860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2A9-5589-4DA5-B734-EB5BF2D04F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2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n be a nonnegative integer and G a directed multigraph. A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path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length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n from u to v in G is a sequence of edges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f G such that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…,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where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u and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v. When there are no multiple edges in the directed graph, this path is denoted by its vertex sequence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A path of length greater than zero that begins and ends at the same vertex is called a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ircui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ycl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A path or circuit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t it does not contain the same edge more than once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2133720"/>
            <a:ext cx="8153280" cy="441936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9E4-71FC-460A-AACB-95382C42B3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nectedness in undirected graph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estion asked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hen does a computer network have the property that every pair of computers can share information, if message can be sent through one or more intermediate computers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is question is equivalent to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hen is there always a path between 2 vertices in the graph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FDA-CA65-4257-A330-E2DE705728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3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n undirected graph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onnected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there is a path between every pair of distinct vertices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orem 1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re is a simple path between every pair of distinct vertices of a connected undirected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Exercise!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2209680"/>
            <a:ext cx="8077320" cy="167652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2120" y="4800600"/>
            <a:ext cx="7924680" cy="114300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453-731A-4F97-99C3-22C6010774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graph that is not connected is the union of two or more connected subgraphs, each pair of which has no vertex in common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se disjoint connected subgraphs are called th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nected components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7C8-8C18-4320-B17F-2C61D7AE85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nnected in directed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4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 directed graph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strongly connected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there is a path from a to b and from b to a whenever a and b are vertices in the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5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 directed graph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weakly connected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there is a path between every 2 vertices in the underlying undirected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62120" y="3048120"/>
            <a:ext cx="8153280" cy="12952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2120" y="5029200"/>
            <a:ext cx="7619760" cy="12952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181-F0EF-48AC-A64D-1AAEB17524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directed graph is weakly connected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here is always a path between 2 vertices when the directions of the edges are ignored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Strongly connected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eakly connected directed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FC4-3383-4B99-AC8C-EBBE029E33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re the directed graphs G and H strongly connected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9625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G is strongly connected because there is a path between any 2 vertices in this directed graph. Hence, G is also weakly connected.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The graph H is not strongly connected. There is no directed path from a to b  in this graph. However, H is weakly connected, since there is a path between any 2 vertices in their underlying undirected graph of H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2271240" y="2403360"/>
            <a:ext cx="2694600" cy="1679040"/>
            <a:chOff x="2271240" y="2403360"/>
            <a:chExt cx="2694600" cy="1679040"/>
          </a:xfrm>
        </p:grpSpPr>
        <p:sp>
          <p:nvSpPr>
            <p:cNvPr id="736" name=""/>
            <p:cNvSpPr/>
            <p:nvPr/>
          </p:nvSpPr>
          <p:spPr>
            <a:xfrm flipV="1">
              <a:off x="3124080" y="2819160"/>
              <a:ext cx="0" cy="99036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24080" y="2743200"/>
              <a:ext cx="99072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91120" y="2743200"/>
              <a:ext cx="380880" cy="38088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48120" y="266688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266688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4812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4191120" y="2819520"/>
              <a:ext cx="0" cy="91440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3733920"/>
              <a:ext cx="91440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95680" y="3124080"/>
              <a:ext cx="15264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266720" y="3276720"/>
              <a:ext cx="381240" cy="53316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44280" y="247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68880" y="240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49400" y="2971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68880" y="362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280" y="354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7124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438240" y="2362320"/>
            <a:ext cx="2475720" cy="1678680"/>
            <a:chOff x="6438240" y="2362320"/>
            <a:chExt cx="2475720" cy="1678680"/>
          </a:xfrm>
        </p:grpSpPr>
        <p:sp>
          <p:nvSpPr>
            <p:cNvPr id="754" name=""/>
            <p:cNvSpPr/>
            <p:nvPr/>
          </p:nvSpPr>
          <p:spPr>
            <a:xfrm>
              <a:off x="6438240" y="31240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072200" y="2778120"/>
              <a:ext cx="0" cy="9907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72200" y="2701800"/>
              <a:ext cx="99072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139240" y="2701800"/>
              <a:ext cx="380880" cy="38124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996240" y="262584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062920" y="262584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96240" y="361620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62920" y="361620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8139240" y="2778120"/>
              <a:ext cx="0" cy="91440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148520" y="3692520"/>
              <a:ext cx="91440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443800" y="308304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8214840" y="3235320"/>
              <a:ext cx="381240" cy="5335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92400" y="2438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1700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597520" y="293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1700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692400" y="3505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03E-43D1-44FE-84B3-308D1AA4FC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aths &amp; isomorphis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Paths and circuits can help determine whether 2 graphs are isometr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existence of a simple circuit (or cycle) of a particular length is a useful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invarian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show that 2 graphs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re not isomorph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C91-0659-472C-935E-230D791A7A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ycl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3): they consist of n vertice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edges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…,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 and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FFC-30F3-48A4-B1A7-DC381E1049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Determine whether the graph G and H are isomorphic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04920" y="4343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Solution: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 Both G and H have 6 vertices and 8 edges. Each has 4 vertices of degree 3, and two vertices of degree 2. However, H has a simple circuit of length 3, namely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6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 whereas G has no simple circuit of length 3, as can be determined by inspection (all simple circuits in G have length at least four). Since the existence of a simple circuit of length 3 is an isomorphic invariant, G and H are not isomorphic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490560" y="1981080"/>
            <a:ext cx="2273400" cy="2338920"/>
            <a:chOff x="3490560" y="1981080"/>
            <a:chExt cx="2273400" cy="2338920"/>
          </a:xfrm>
        </p:grpSpPr>
        <p:sp>
          <p:nvSpPr>
            <p:cNvPr id="777" name=""/>
            <p:cNvSpPr/>
            <p:nvPr/>
          </p:nvSpPr>
          <p:spPr>
            <a:xfrm flipV="1">
              <a:off x="4191120" y="2819160"/>
              <a:ext cx="106668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91120" y="2819520"/>
              <a:ext cx="106668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191120" y="2362320"/>
              <a:ext cx="60948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8320" y="2362320"/>
              <a:ext cx="6858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780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191120" y="3505320"/>
              <a:ext cx="609480" cy="53316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800600" y="3505320"/>
              <a:ext cx="4572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14800" y="27432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81480" y="2743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14800" y="35053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81480" y="35053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48320" y="22860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48320" y="3962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9056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4220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94440" y="1981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2400" y="2514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42400" y="3276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751640" y="3809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894480" y="3505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633720" y="1981080"/>
            <a:ext cx="2273400" cy="2338920"/>
            <a:chOff x="6633720" y="1981080"/>
            <a:chExt cx="2273400" cy="2338920"/>
          </a:xfrm>
        </p:grpSpPr>
        <p:sp>
          <p:nvSpPr>
            <p:cNvPr id="799" name=""/>
            <p:cNvSpPr/>
            <p:nvPr/>
          </p:nvSpPr>
          <p:spPr>
            <a:xfrm flipV="1">
              <a:off x="7334280" y="2362320"/>
              <a:ext cx="60948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91480" y="2362320"/>
              <a:ext cx="6858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40096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3428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34280" y="3505320"/>
              <a:ext cx="609480" cy="53316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943760" y="3505320"/>
              <a:ext cx="4572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15200" y="2819520"/>
              <a:ext cx="106668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15200" y="3581280"/>
              <a:ext cx="106668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57960" y="2743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325000" y="27432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257960" y="35053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325000" y="35053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91480" y="22860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791480" y="3962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3372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8536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37960" y="1981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485560" y="2514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485560" y="3276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95160" y="3809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37640" y="3505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C6A-AD8B-48CA-BB7E-657A2444C1B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unting paths between vert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orem 2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G be a graph with adjacency matrix A with respect to the ordering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(with directed or undirected edges, with multiple edges and loops allowed). The number of different paths of length r from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where r is a positive integer is equals to the (i, j)th entry of A</a:t>
            </a:r>
            <a:r>
              <a:rPr b="0" lang="en-US" sz="2800" spc="-1" strike="noStrike" baseline="30000">
                <a:solidFill>
                  <a:srgbClr val="cbcbcb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Exercise!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38080" y="3276720"/>
            <a:ext cx="8077320" cy="2666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90B-2221-4ED6-9AAE-965980F4CD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How many paths of length 4 are there from a to d in the simple graph G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354120" y="2819520"/>
            <a:ext cx="2851200" cy="2517120"/>
            <a:chOff x="3354120" y="2819520"/>
            <a:chExt cx="2851200" cy="2517120"/>
          </a:xfrm>
        </p:grpSpPr>
        <p:sp>
          <p:nvSpPr>
            <p:cNvPr id="826" name=""/>
            <p:cNvSpPr/>
            <p:nvPr/>
          </p:nvSpPr>
          <p:spPr>
            <a:xfrm>
              <a:off x="4038480" y="4572000"/>
              <a:ext cx="1752840" cy="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038480" y="3276720"/>
              <a:ext cx="1752840" cy="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94120" y="3325680"/>
              <a:ext cx="1949400" cy="1395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038480" y="3325680"/>
              <a:ext cx="1805040" cy="12463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94120" y="3200400"/>
              <a:ext cx="217440" cy="2523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35520" y="3200400"/>
              <a:ext cx="216000" cy="2523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94120" y="4467240"/>
              <a:ext cx="217440" cy="2541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35520" y="4467240"/>
              <a:ext cx="216000" cy="2541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54120" y="2819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7232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8148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71960" y="4087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30320" y="4876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91120" y="3276720"/>
              <a:ext cx="1523880" cy="0"/>
            </a:xfrm>
            <a:prstGeom prst="line">
              <a:avLst/>
            </a:prstGeom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BD0-2F3F-438B-9547-A10C3268D7D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Solution: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 The adjacency matrix of G (ordering the vertices as a, b, c, d) is</a:t>
            </a:r>
            <a:br>
              <a:rPr sz="2000"/>
            </a:b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Hence, the number of paths of length 4 from a to d is the (1,4)th entry of A</a:t>
            </a:r>
            <a:r>
              <a:rPr b="0" lang="en-US" sz="2000" spc="-1" strike="noStrike" baseline="30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. Sinc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there are exactly 8 paths of length 4 from a to d. By inspection of the graph, we see that a, b, a, b, d; a, b, a, c, d; a, b, d, b, d; a, b, d, c, d; a, c, a, b, d; a, c, a, c, d; a, c, d, b, d; and a, c, d, c, d are the 8 paths from a to d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3429000" y="1879560"/>
                <a:ext cx="186696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0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0   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3429000" y="3860640"/>
                <a:ext cx="2031840" cy="14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   0   0   8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8   8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8   8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44" name=""/>
          <p:cNvGrpSpPr/>
          <p:nvPr/>
        </p:nvGrpSpPr>
        <p:grpSpPr>
          <a:xfrm>
            <a:off x="380880" y="0"/>
            <a:ext cx="1905120" cy="1526400"/>
            <a:chOff x="380880" y="0"/>
            <a:chExt cx="1905120" cy="1526400"/>
          </a:xfrm>
        </p:grpSpPr>
        <p:sp>
          <p:nvSpPr>
            <p:cNvPr id="845" name=""/>
            <p:cNvSpPr/>
            <p:nvPr/>
          </p:nvSpPr>
          <p:spPr>
            <a:xfrm>
              <a:off x="380880" y="0"/>
              <a:ext cx="1905120" cy="14479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458280" y="63360"/>
              <a:ext cx="1648080" cy="1463040"/>
              <a:chOff x="458280" y="63360"/>
              <a:chExt cx="1648080" cy="1463040"/>
            </a:xfrm>
          </p:grpSpPr>
          <p:sp>
            <p:nvSpPr>
              <p:cNvPr id="847" name=""/>
              <p:cNvSpPr/>
              <p:nvPr/>
            </p:nvSpPr>
            <p:spPr>
              <a:xfrm>
                <a:off x="739800" y="311040"/>
                <a:ext cx="1017720" cy="68112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814320" y="310680"/>
                <a:ext cx="943200" cy="60804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9800" y="2491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700280" y="2491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9800" y="8683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700280" y="8683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58280" y="633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773360" y="63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71600" y="681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771200" y="681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125000" y="10666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7c8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38080" y="304920"/>
                <a:ext cx="914400" cy="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38080" y="914400"/>
                <a:ext cx="914400" cy="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336-5D6D-4BAC-BFD3-C34C19A8EA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752480" y="1371600"/>
            <a:ext cx="1524240" cy="2034000"/>
            <a:chOff x="1752480" y="1371600"/>
            <a:chExt cx="1524240" cy="2034000"/>
          </a:xfrm>
        </p:grpSpPr>
        <p:sp>
          <p:nvSpPr>
            <p:cNvPr id="213" name=""/>
            <p:cNvSpPr/>
            <p:nvPr/>
          </p:nvSpPr>
          <p:spPr>
            <a:xfrm flipH="1">
              <a:off x="1904760" y="1447920"/>
              <a:ext cx="60948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1460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266688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24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481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3828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21280" y="2895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00600" y="1447920"/>
            <a:ext cx="1523880" cy="1957680"/>
            <a:chOff x="4800600" y="1447920"/>
            <a:chExt cx="1523880" cy="1957680"/>
          </a:xfrm>
        </p:grpSpPr>
        <p:sp>
          <p:nvSpPr>
            <p:cNvPr id="221" name=""/>
            <p:cNvSpPr/>
            <p:nvPr/>
          </p:nvSpPr>
          <p:spPr>
            <a:xfrm flipV="1">
              <a:off x="48769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17220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29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0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920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06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588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2400" y="2895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419720" y="3505320"/>
            <a:ext cx="2133360" cy="3100680"/>
            <a:chOff x="4419720" y="3505320"/>
            <a:chExt cx="2133360" cy="3100680"/>
          </a:xfrm>
        </p:grpSpPr>
        <p:sp>
          <p:nvSpPr>
            <p:cNvPr id="231" name=""/>
            <p:cNvSpPr/>
            <p:nvPr/>
          </p:nvSpPr>
          <p:spPr>
            <a:xfrm flipV="1">
              <a:off x="5562720" y="5105520"/>
              <a:ext cx="83808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47712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648320" y="3581280"/>
              <a:ext cx="83808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4832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5562720" y="3580920"/>
              <a:ext cx="83808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1972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4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1008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1008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42400" y="60958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447920" y="3809880"/>
            <a:ext cx="2209680" cy="2567520"/>
            <a:chOff x="1447920" y="3809880"/>
            <a:chExt cx="2209680" cy="2567520"/>
          </a:xfrm>
        </p:grpSpPr>
        <p:sp>
          <p:nvSpPr>
            <p:cNvPr id="245" name=""/>
            <p:cNvSpPr/>
            <p:nvPr/>
          </p:nvSpPr>
          <p:spPr>
            <a:xfrm flipH="1">
              <a:off x="152388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23880" y="4724280"/>
              <a:ext cx="38124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200400" y="4724280"/>
              <a:ext cx="30492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0920" y="3886200"/>
              <a:ext cx="99036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1080" y="563868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24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4812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828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479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900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44960" y="58672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894000" y="5562720"/>
            <a:ext cx="2124720" cy="875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cycles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&amp;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A77-AEF1-4627-B43E-06E2283D49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eel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W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; they are obtained by adding a vertex to the graphs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connect this vertex to all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533-3978-4102-9FD9-9833917A1D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371600" y="1371600"/>
            <a:ext cx="1523880" cy="2034000"/>
            <a:chOff x="1371600" y="1371600"/>
            <a:chExt cx="1523880" cy="2034000"/>
          </a:xfrm>
        </p:grpSpPr>
        <p:sp>
          <p:nvSpPr>
            <p:cNvPr id="261" name=""/>
            <p:cNvSpPr/>
            <p:nvPr/>
          </p:nvSpPr>
          <p:spPr>
            <a:xfrm>
              <a:off x="2133720" y="1523880"/>
              <a:ext cx="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447920" y="2286000"/>
              <a:ext cx="685800" cy="380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2209680"/>
              <a:ext cx="685800" cy="5335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523880" y="1447920"/>
              <a:ext cx="6098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72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00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1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6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40040" y="28954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7400" y="2133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419720" y="1447920"/>
            <a:ext cx="1523880" cy="1957680"/>
            <a:chOff x="4419720" y="1447920"/>
            <a:chExt cx="1523880" cy="1957680"/>
          </a:xfrm>
        </p:grpSpPr>
        <p:sp>
          <p:nvSpPr>
            <p:cNvPr id="273" name=""/>
            <p:cNvSpPr/>
            <p:nvPr/>
          </p:nvSpPr>
          <p:spPr>
            <a:xfrm>
              <a:off x="4495680" y="1523880"/>
              <a:ext cx="12956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495320" y="1523880"/>
              <a:ext cx="12956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49568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7913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832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197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150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4832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60800" y="28954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29200" y="19810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66680" y="3809880"/>
            <a:ext cx="2210040" cy="2567520"/>
            <a:chOff x="1066680" y="3809880"/>
            <a:chExt cx="2210040" cy="2567520"/>
          </a:xfrm>
        </p:grpSpPr>
        <p:sp>
          <p:nvSpPr>
            <p:cNvPr id="286" name=""/>
            <p:cNvSpPr/>
            <p:nvPr/>
          </p:nvSpPr>
          <p:spPr>
            <a:xfrm flipV="1">
              <a:off x="1447920" y="4952520"/>
              <a:ext cx="68580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43000" y="4724280"/>
              <a:ext cx="1066680" cy="2286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33720" y="3962520"/>
              <a:ext cx="0" cy="9903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9680" y="4648320"/>
              <a:ext cx="914400" cy="2286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2133360" y="4952520"/>
              <a:ext cx="60948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14300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43000" y="4724280"/>
              <a:ext cx="38088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819520" y="4724280"/>
              <a:ext cx="3045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9680" y="3886200"/>
              <a:ext cx="99072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00200" y="56386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7160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5740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668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81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63720" y="58672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4800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038480" y="3505320"/>
            <a:ext cx="2133720" cy="3100680"/>
            <a:chOff x="4038480" y="3505320"/>
            <a:chExt cx="2133720" cy="3100680"/>
          </a:xfrm>
        </p:grpSpPr>
        <p:sp>
          <p:nvSpPr>
            <p:cNvPr id="304" name=""/>
            <p:cNvSpPr/>
            <p:nvPr/>
          </p:nvSpPr>
          <p:spPr>
            <a:xfrm>
              <a:off x="5105520" y="3505320"/>
              <a:ext cx="0" cy="2361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91120" y="4267080"/>
              <a:ext cx="182880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191120" y="4343400"/>
              <a:ext cx="182880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181480" y="5105520"/>
              <a:ext cx="83844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09588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266720" y="3581280"/>
              <a:ext cx="83844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9112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6708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5181120" y="3580920"/>
              <a:ext cx="83844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38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4360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8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4360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2920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2920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60800" y="60958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2920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656040" y="5527800"/>
            <a:ext cx="2259720" cy="9262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Wheels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&amp;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617-ECA6-4B27-868E-CD32D560F8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-cub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Q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ey are graphs that have vertices representing the 2</a:t>
            </a:r>
            <a:r>
              <a:rPr b="0" lang="en-US" sz="2800" spc="-1" strike="noStrike" baseline="30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bit strings of length 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wo vertices are adjacent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f and only if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he bits strings that they represent differ in exactly one bit position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D51-5E68-4EFF-8221-4C401CE7B5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8480" y="5638680"/>
            <a:ext cx="4501080" cy="51012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n-cube Q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for n = 1, 2, and 3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0520" y="3886200"/>
            <a:ext cx="1628640" cy="1500840"/>
            <a:chOff x="290520" y="3886200"/>
            <a:chExt cx="1628640" cy="1500840"/>
          </a:xfrm>
        </p:grpSpPr>
        <p:sp>
          <p:nvSpPr>
            <p:cNvPr id="327" name=""/>
            <p:cNvSpPr/>
            <p:nvPr/>
          </p:nvSpPr>
          <p:spPr>
            <a:xfrm>
              <a:off x="533520" y="3962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0020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72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0520" y="407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86160" y="407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278160" y="2286000"/>
            <a:ext cx="1825560" cy="3101040"/>
            <a:chOff x="3278160" y="2286000"/>
            <a:chExt cx="1825560" cy="3101040"/>
          </a:xfrm>
        </p:grpSpPr>
        <p:sp>
          <p:nvSpPr>
            <p:cNvPr id="334" name=""/>
            <p:cNvSpPr/>
            <p:nvPr/>
          </p:nvSpPr>
          <p:spPr>
            <a:xfrm flipV="1">
              <a:off x="342900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72428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81280" y="396252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268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483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81280" y="281952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268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4832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9484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22440" y="4114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18080" y="4114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8160" y="2286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286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684760" y="1752480"/>
            <a:ext cx="3152520" cy="3634560"/>
            <a:chOff x="5684760" y="1752480"/>
            <a:chExt cx="3152520" cy="3634560"/>
          </a:xfrm>
        </p:grpSpPr>
        <p:sp>
          <p:nvSpPr>
            <p:cNvPr id="348" name=""/>
            <p:cNvSpPr/>
            <p:nvPr/>
          </p:nvSpPr>
          <p:spPr>
            <a:xfrm flipV="1">
              <a:off x="6324480" y="2285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620120" y="2285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620120" y="3428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324480" y="3428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1732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32448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62012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77120" y="3962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4380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77120" y="2819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4380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705720" y="228564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8001000" y="228564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58000" y="342900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3352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924680" y="3352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58000" y="228600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9400" y="2209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24680" y="2209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57800" y="4079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61280" y="4114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99360" y="32004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42160" y="1752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02600" y="1752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84760" y="25146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64360" y="2362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31200" y="2971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101-1561-42A3-9D17-88C3F3F925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8:47:57Z</dcterms:created>
  <dc:creator>Djamel Bouchaffra</dc:creator>
  <dc:description/>
  <dc:language>en-US</dc:language>
  <cp:lastModifiedBy>Djamel Bouchaffra</cp:lastModifiedBy>
  <dcterms:modified xsi:type="dcterms:W3CDTF">2008-11-11T23:37:35Z</dcterms:modified>
  <cp:revision>352</cp:revision>
  <dc:subject/>
  <dc:title>PowerPoint Presentation</dc:title>
</cp:coreProperties>
</file>