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902-8090-4311-8EE6-2235AC13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35A-8EFB-4769-AABB-D1DB4D1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66F-7884-4355-9979-C8A8A7E9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D99-9760-47F1-8021-7340E778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258-FBCE-47BA-985F-B0715E61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F4E6-ADB8-4039-974E-9239447B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44B-DAA5-47F4-9737-CD1D14EE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303-BD9F-4759-8F95-C3644310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20F-6BA0-4E3B-9C49-1105656A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14A7-AC49-4074-A91C-90AF45C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67D-A31F-4E0F-8C14-092A8C52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534-4042-4CCD-933D-EA70C03A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bcbc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99A8-F213-4DD1-9C16-4D3278D5F68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8380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349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35000" y="998640"/>
            <a:ext cx="8856720" cy="269640"/>
            <a:chOff x="135000" y="998640"/>
            <a:chExt cx="8856720" cy="269640"/>
          </a:xfrm>
        </p:grpSpPr>
        <p:sp>
          <p:nvSpPr>
            <p:cNvPr id="8" name=""/>
            <p:cNvSpPr/>
            <p:nvPr/>
          </p:nvSpPr>
          <p:spPr>
            <a:xfrm>
              <a:off x="135000" y="1057320"/>
              <a:ext cx="8856720" cy="14436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1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03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73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447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1616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858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572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286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98680" y="998640"/>
              <a:ext cx="2732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6719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9415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2130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4844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7544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027320" y="998640"/>
              <a:ext cx="2718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42991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687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8402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1116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3816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6530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92452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194520" y="998640"/>
              <a:ext cx="27288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46740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374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008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280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550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8184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0899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6136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6313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124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04920" y="2362320"/>
            <a:ext cx="8535960" cy="609480"/>
            <a:chOff x="304920" y="2362320"/>
            <a:chExt cx="8535960" cy="609480"/>
          </a:xfrm>
        </p:grpSpPr>
        <p:sp>
          <p:nvSpPr>
            <p:cNvPr id="80" name="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1981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400800"/>
            <a:ext cx="9142560" cy="455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477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© 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by Kenneth H. Rosen, </a:t>
            </a:r>
            <a:r>
              <a:rPr b="0" i="1" lang="en-US" sz="1200" spc="-1" strike="noStrike">
                <a:solidFill>
                  <a:srgbClr val="cbcbcb"/>
                </a:solidFill>
                <a:latin typeface="Times New Roman"/>
              </a:rPr>
              <a:t>Discrete Mathematics &amp; its Applications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, Sixth Edition, Mc Graw-Hill, 2007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9 (Part 2): Grap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342864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s &amp; 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Graph Isomorphism (9.3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ivity (9.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010280" y="3581280"/>
            <a:ext cx="1879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ipartite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simple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bipartit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its vertex set V can be partitioned into 2 disjoint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uch that every edge in the graph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so that no edge in G connects eithe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3505320"/>
            <a:ext cx="8305920" cy="25905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B8B3-E4A1-4E38-9CA3-E96FAB3C90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bipartite, since its vertex set can be partitioned into the 2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and every edge of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not bipartite. Why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90920" y="3505320"/>
            <a:ext cx="3504960" cy="2514600"/>
            <a:chOff x="2590920" y="3505320"/>
            <a:chExt cx="3504960" cy="2514600"/>
          </a:xfrm>
        </p:grpSpPr>
        <p:sp>
          <p:nvSpPr>
            <p:cNvPr id="383" name=""/>
            <p:cNvSpPr/>
            <p:nvPr/>
          </p:nvSpPr>
          <p:spPr>
            <a:xfrm>
              <a:off x="259092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5288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468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468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68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614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614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614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3112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34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76720" y="419112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76720" y="4191120"/>
              <a:ext cx="1981080" cy="129528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276720" y="4214520"/>
              <a:ext cx="1904760" cy="58572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76720" y="480060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352680" y="4800240"/>
              <a:ext cx="1905120" cy="68580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52680" y="5486400"/>
              <a:ext cx="190512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00400" y="4114800"/>
              <a:ext cx="15228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00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81480" y="4114800"/>
              <a:ext cx="15264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81480" y="54100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040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2A4-EC62-4A8E-B3C5-E73CB7F4C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racterization of bipartit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is bipartite if and only if it is possible to color the vertices of the graph with at most 2 colors so that no 2 adjacent vertices have the same color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mplete bipartite graphs: 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m,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Their  vertices set is partitioned into 2 subsets of m and n vertices, respectively. There is an edge between 2 vertices if and only if one vertex is in the first subset and the other vertex is in the second subset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F11-7C2C-469E-B3EA-FDA71E8E26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1066680" y="1752480"/>
            <a:ext cx="2286000" cy="1653120"/>
            <a:chOff x="1066680" y="1752480"/>
            <a:chExt cx="2286000" cy="1653120"/>
          </a:xfrm>
        </p:grpSpPr>
        <p:sp>
          <p:nvSpPr>
            <p:cNvPr id="409" name=""/>
            <p:cNvSpPr/>
            <p:nvPr/>
          </p:nvSpPr>
          <p:spPr>
            <a:xfrm flipH="1">
              <a:off x="114300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0200" y="1828800"/>
              <a:ext cx="6094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00200" y="1828800"/>
              <a:ext cx="16765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142640" y="1828800"/>
              <a:ext cx="15238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20968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66880" y="1828800"/>
              <a:ext cx="6098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23880" y="1752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90920" y="17524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666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337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3960" y="28954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320" y="3581280"/>
            <a:ext cx="4343400" cy="1729080"/>
            <a:chOff x="76320" y="3581280"/>
            <a:chExt cx="4343400" cy="1729080"/>
          </a:xfrm>
        </p:grpSpPr>
        <p:sp>
          <p:nvSpPr>
            <p:cNvPr id="422" name=""/>
            <p:cNvSpPr/>
            <p:nvPr/>
          </p:nvSpPr>
          <p:spPr>
            <a:xfrm>
              <a:off x="12193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00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767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152280" y="3657240"/>
              <a:ext cx="10670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932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19320" y="3657240"/>
              <a:ext cx="31240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21896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8600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51920" y="3657240"/>
              <a:ext cx="31244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21896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767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30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09680" y="35812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32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30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096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04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670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04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6320" y="3657240"/>
              <a:ext cx="2209680" cy="914400"/>
            </a:xfrm>
            <a:prstGeom prst="line">
              <a:avLst/>
            </a:prstGeom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47520" y="480024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334120" y="1676520"/>
            <a:ext cx="2286000" cy="1881720"/>
            <a:chOff x="5334120" y="1676520"/>
            <a:chExt cx="2286000" cy="1881720"/>
          </a:xfrm>
        </p:grpSpPr>
        <p:sp>
          <p:nvSpPr>
            <p:cNvPr id="447" name=""/>
            <p:cNvSpPr/>
            <p:nvPr/>
          </p:nvSpPr>
          <p:spPr>
            <a:xfrm>
              <a:off x="541008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7712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4380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008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477120" y="1752480"/>
              <a:ext cx="106668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540972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476760" y="175248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3341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008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674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33412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0080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67480" y="16765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67240" y="304812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581280" y="4419720"/>
            <a:ext cx="5410440" cy="1500480"/>
            <a:chOff x="3581280" y="4419720"/>
            <a:chExt cx="5410440" cy="1500480"/>
          </a:xfrm>
        </p:grpSpPr>
        <p:sp>
          <p:nvSpPr>
            <p:cNvPr id="464" name=""/>
            <p:cNvSpPr/>
            <p:nvPr/>
          </p:nvSpPr>
          <p:spPr>
            <a:xfrm>
              <a:off x="579132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85800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657240" y="4495680"/>
              <a:ext cx="2133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4800600" y="4495680"/>
              <a:ext cx="990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91320" y="4419720"/>
              <a:ext cx="106668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9132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9132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365760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480024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790960" y="4495680"/>
              <a:ext cx="10666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58000" y="4419720"/>
              <a:ext cx="99072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85800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64832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150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816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390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15000" y="441972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81680" y="441972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812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14600" y="54100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442960" y="6019920"/>
            <a:ext cx="4326120" cy="459720"/>
          </a:xfrm>
          <a:prstGeom prst="rect">
            <a:avLst/>
          </a:prstGeom>
          <a:noFill/>
          <a:ln cap="sq"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me complete bipartite graph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961-B52E-4E69-991F-641CB5A0F4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me applications of special typ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ocal area network</a:t>
            </a:r>
            <a:br>
              <a:rPr sz="2400"/>
            </a:b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connecting computers as well as peripheral devices in a building using a local area network topolog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ome of these networks are based on a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tar topology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where all devices are connected to a central control device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star topology is equivalent to a K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,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complete bipartit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AB5-EFF1-47C3-89B9-1B9543B4EE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ther local area networks use a ring topology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Finally, the hybrid topology which is equivalent to a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 is also us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68F-3F12-45AC-946F-DEAD454E78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371600" y="2438280"/>
            <a:ext cx="1600200" cy="2177640"/>
            <a:chOff x="1371600" y="2438280"/>
            <a:chExt cx="1600200" cy="2177640"/>
          </a:xfrm>
        </p:grpSpPr>
        <p:sp>
          <p:nvSpPr>
            <p:cNvPr id="492" name=""/>
            <p:cNvSpPr/>
            <p:nvPr/>
          </p:nvSpPr>
          <p:spPr>
            <a:xfrm flipV="1"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47920" y="3200400"/>
              <a:ext cx="144756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09680" y="2514600"/>
              <a:ext cx="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7160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33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19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7160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37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195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160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33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19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65960" y="4156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888480" y="5638680"/>
            <a:ext cx="7502040" cy="459720"/>
          </a:xfrm>
          <a:prstGeom prst="rect">
            <a:avLst/>
          </a:prstGeom>
          <a:noFill/>
          <a:ln cap="sq"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tar, ring, and hybrid topologies for local area network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809880" y="2438280"/>
            <a:ext cx="1676520" cy="2212560"/>
            <a:chOff x="3809880" y="2438280"/>
            <a:chExt cx="1676520" cy="2212560"/>
          </a:xfrm>
        </p:grpSpPr>
        <p:sp>
          <p:nvSpPr>
            <p:cNvPr id="508" name=""/>
            <p:cNvSpPr/>
            <p:nvPr/>
          </p:nvSpPr>
          <p:spPr>
            <a:xfrm flipH="1">
              <a:off x="388620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8620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8620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4340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029200" y="350532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4100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43400" y="2514600"/>
              <a:ext cx="60948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29200" y="251460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07920" y="4191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670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28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81952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9880" y="342900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41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41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248520" y="2438280"/>
            <a:ext cx="1676160" cy="2212560"/>
            <a:chOff x="6248520" y="2438280"/>
            <a:chExt cx="1676160" cy="2212560"/>
          </a:xfrm>
        </p:grpSpPr>
        <p:sp>
          <p:nvSpPr>
            <p:cNvPr id="526" name=""/>
            <p:cNvSpPr/>
            <p:nvPr/>
          </p:nvSpPr>
          <p:spPr>
            <a:xfrm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58720" y="4191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632448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244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2448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8168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467480" y="350532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84872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81680" y="2514600"/>
              <a:ext cx="60984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67480" y="251460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91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705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91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2485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7240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7240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10280" y="31240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163-B068-44F1-A51F-56D9A4563F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terconnection networks for parallel processing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inear arrays for processor connection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Mesh network (Markovian neighborhood)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ypercube interconnection (generalization of n-cubes)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F56-2B35-4FD2-8952-3C7E671044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ing Graphs &amp; Graph Isomorphism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Consists of choosing the most convenient representation of a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e need to determine whether 2 graphs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is problem is important in graph theory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F97-BA07-4807-BEEB-74487938EE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ist all the edges of the graph (no multiple edges)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lis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ich specifies the vertices that are adjacent to each vertex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2419-B116-4A3F-8ADF-0B4B2288FF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Graph Terminology (9.2)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me special simple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plete grap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contain exactly one edge between each pair of distinct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557-16FE-4586-9558-63FBBDDB0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djacency lists to describe this simple graph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144800" y="457200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048120" y="4191120"/>
          <a:ext cx="4190760" cy="2452680"/>
        </p:xfrm>
        <a:graphic>
          <a:graphicData uri="http://schemas.openxmlformats.org/drawingml/2006/table">
            <a:tbl>
              <a:tblPr/>
              <a:tblGrid>
                <a:gridCol w="1218960"/>
                <a:gridCol w="2971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ertex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djacent vertices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b, 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, d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, c, 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8" name=""/>
          <p:cNvGrpSpPr/>
          <p:nvPr/>
        </p:nvGrpSpPr>
        <p:grpSpPr>
          <a:xfrm>
            <a:off x="2881080" y="2022480"/>
            <a:ext cx="2983320" cy="1907640"/>
            <a:chOff x="2881080" y="2022480"/>
            <a:chExt cx="2983320" cy="1907640"/>
          </a:xfrm>
        </p:grpSpPr>
        <p:grpSp>
          <p:nvGrpSpPr>
            <p:cNvPr id="559" name=""/>
            <p:cNvGrpSpPr/>
            <p:nvPr/>
          </p:nvGrpSpPr>
          <p:grpSpPr>
            <a:xfrm>
              <a:off x="3200400" y="2133720"/>
              <a:ext cx="2286000" cy="1752480"/>
              <a:chOff x="3200400" y="2133720"/>
              <a:chExt cx="2286000" cy="1752480"/>
            </a:xfrm>
          </p:grpSpPr>
          <p:sp>
            <p:nvSpPr>
              <p:cNvPr id="560" name=""/>
              <p:cNvSpPr/>
              <p:nvPr/>
            </p:nvSpPr>
            <p:spPr>
              <a:xfrm>
                <a:off x="335304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353040" y="2743200"/>
                <a:ext cx="198108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3276720" y="2209680"/>
                <a:ext cx="914400" cy="53316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809880" y="2743200"/>
                <a:ext cx="152388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487692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3733920"/>
                <a:ext cx="106704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91120" y="213372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578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004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3392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0060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448164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79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8108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6040" y="347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15160" y="34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67A-24DF-4458-8AE8-C8D5AD4FE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djacency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o simplify computation, graphs can be represented using matr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djacency matrix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cident matrix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matrix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defined as A = [a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209680" y="5486400"/>
                <a:ext cx="4953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if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 edge of 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270D-BD74-4701-8BAC-66B7712450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 adjacency matrix to represent this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4191120"/>
            <a:ext cx="671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 order the vertices a, b, c, d.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matrix representing this graph i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201480" y="2057400"/>
            <a:ext cx="1767240" cy="1679040"/>
            <a:chOff x="3201480" y="2057400"/>
            <a:chExt cx="1767240" cy="1679040"/>
          </a:xfrm>
        </p:grpSpPr>
        <p:sp>
          <p:nvSpPr>
            <p:cNvPr id="583" name=""/>
            <p:cNvSpPr/>
            <p:nvPr/>
          </p:nvSpPr>
          <p:spPr>
            <a:xfrm>
              <a:off x="3581280" y="25146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81280" y="2514600"/>
              <a:ext cx="99072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05320" y="24382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495680" y="24382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95680" y="33526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05320" y="33526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634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542120" y="20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01480" y="3276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3572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3581280" y="5105520"/>
                <a:ext cx="13384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0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13C-41BD-4ECC-BD75-A36C52B0CB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 case of pseudographs , the adjacency matrix is not a binary matrix but is formed of elements that represent the number of edges between 2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n adjacency matrix to represent this pseudo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633560" y="3774960"/>
            <a:ext cx="2009880" cy="1635120"/>
            <a:chOff x="4633560" y="3774960"/>
            <a:chExt cx="2009880" cy="1635120"/>
          </a:xfrm>
        </p:grpSpPr>
        <p:sp>
          <p:nvSpPr>
            <p:cNvPr id="599" name=""/>
            <p:cNvSpPr/>
            <p:nvPr/>
          </p:nvSpPr>
          <p:spPr>
            <a:xfrm>
              <a:off x="5029200" y="4114800"/>
              <a:ext cx="114300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5028840" y="4114800"/>
              <a:ext cx="114300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72200" y="5105520"/>
              <a:ext cx="304920" cy="304560"/>
            </a:xfrm>
            <a:prstGeom prst="ellipse">
              <a:avLst/>
            </a:prstGeom>
            <a:noFill/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2200" y="41148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0600" y="4114800"/>
              <a:ext cx="228600" cy="9907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cubicBezTo>
                    <a:pt x="72" y="484"/>
                    <a:pt x="0" y="344"/>
                    <a:pt x="0" y="240"/>
                  </a:cubicBezTo>
                  <a:cubicBezTo>
                    <a:pt x="0" y="136"/>
                    <a:pt x="120" y="40"/>
                    <a:pt x="144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29200" y="4114800"/>
              <a:ext cx="152280" cy="990720"/>
            </a:xfrm>
            <a:custGeom>
              <a:avLst/>
              <a:gdLst/>
              <a:ahLst/>
              <a:rect l="l" t="t" r="r" b="b"/>
              <a:pathLst>
                <a:path w="96" h="624">
                  <a:moveTo>
                    <a:pt x="0" y="0"/>
                  </a:moveTo>
                  <a:cubicBezTo>
                    <a:pt x="48" y="92"/>
                    <a:pt x="96" y="184"/>
                    <a:pt x="96" y="288"/>
                  </a:cubicBezTo>
                  <a:cubicBezTo>
                    <a:pt x="96" y="392"/>
                    <a:pt x="48" y="508"/>
                    <a:pt x="0" y="624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29200" y="5105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0"/>
                  </a:moveTo>
                  <a:cubicBezTo>
                    <a:pt x="132" y="48"/>
                    <a:pt x="264" y="96"/>
                    <a:pt x="384" y="96"/>
                  </a:cubicBezTo>
                  <a:cubicBezTo>
                    <a:pt x="504" y="96"/>
                    <a:pt x="612" y="48"/>
                    <a:pt x="720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029200" y="4952880"/>
              <a:ext cx="1143000" cy="15264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29200" y="3962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29200" y="4038480"/>
              <a:ext cx="1143000" cy="241560"/>
            </a:xfrm>
            <a:custGeom>
              <a:avLst/>
              <a:gdLst/>
              <a:ahLst/>
              <a:rect l="l" t="t" r="r" b="b"/>
              <a:pathLst>
                <a:path w="720" h="152">
                  <a:moveTo>
                    <a:pt x="0" y="0"/>
                  </a:moveTo>
                  <a:cubicBezTo>
                    <a:pt x="108" y="68"/>
                    <a:pt x="216" y="136"/>
                    <a:pt x="336" y="144"/>
                  </a:cubicBezTo>
                  <a:cubicBezTo>
                    <a:pt x="456" y="152"/>
                    <a:pt x="588" y="100"/>
                    <a:pt x="720" y="48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952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95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95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52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33560" y="3774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0440" y="385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3392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33760" y="4613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37480" y="5450040"/>
            <a:ext cx="51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adjacency matrix usi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ordering of vertices a, b, c, d is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7086600" y="5105520"/>
                <a:ext cx="14605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3   0   2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  0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09F-400D-4A0A-993F-FD934150B2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cidence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= (V,E) be an undirected graph.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cidence matrices are defined by the matrix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 = [m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16160" y="4757760"/>
                <a:ext cx="6394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if edge 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is incident with vertex 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EED-5FA8-4FCD-8B28-882FAC509B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ing an incidence matrix, represent the following undirected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130400" y="4840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2675160" y="4114800"/>
            <a:ext cx="2404800" cy="2697840"/>
            <a:chOff x="2675160" y="4114800"/>
            <a:chExt cx="2404800" cy="2697840"/>
          </a:xfrm>
        </p:grpSpPr>
        <p:sp>
          <p:nvSpPr>
            <p:cNvPr id="626" name=""/>
            <p:cNvSpPr/>
            <p:nvPr/>
          </p:nvSpPr>
          <p:spPr>
            <a:xfrm>
              <a:off x="3147120" y="4114800"/>
              <a:ext cx="190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75160" y="4430880"/>
              <a:ext cx="4215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3048120" y="4648320"/>
                  <a:ext cx="2031840" cy="18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1   0   0   0   0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1   1   0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0   0   1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0   1   0   0   0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9" name=""/>
          <p:cNvGrpSpPr/>
          <p:nvPr/>
        </p:nvGrpSpPr>
        <p:grpSpPr>
          <a:xfrm>
            <a:off x="6012360" y="2362320"/>
            <a:ext cx="2494800" cy="1805400"/>
            <a:chOff x="6012360" y="2362320"/>
            <a:chExt cx="2494800" cy="1805400"/>
          </a:xfrm>
        </p:grpSpPr>
        <p:sp>
          <p:nvSpPr>
            <p:cNvPr id="630" name=""/>
            <p:cNvSpPr/>
            <p:nvPr/>
          </p:nvSpPr>
          <p:spPr>
            <a:xfrm>
              <a:off x="7162920" y="2895480"/>
              <a:ext cx="99036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72200" y="2895480"/>
              <a:ext cx="1600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172200" y="2895480"/>
              <a:ext cx="53352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705720" y="2895120"/>
              <a:ext cx="457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62920" y="2895480"/>
              <a:ext cx="6094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7772400" y="2895480"/>
              <a:ext cx="3808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95880" y="281952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8660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7732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294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96080" y="365760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12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94260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085600" y="24382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8044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7116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40240" y="316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92520" y="26668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789600" y="320040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435800" y="24382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93000" y="304812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59480" y="289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5EF-BB9B-4747-AC80-618F9EA1AD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somorphism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is it possible to draw 2 graphs in the same way?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chemistry, different graph compounds can have the same molecular formula but can differ in structure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graphs of these compounds cannot be drawn in the same wa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raphs having the same structure share common propertie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07D-2A7E-49E4-AD51-1071E70CDFD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simple graphs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nd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one-to-one and onto function f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ith the property that a and b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and only if f(a) and f(b)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for all a and b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Such a function f is called an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sm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90720" y="2514600"/>
            <a:ext cx="8076960" cy="28954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73E-9DFC-4383-8DBC-E780686E4D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how that the graphs G = (V,E) and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H = (W,F) are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1913040" y="2362320"/>
            <a:ext cx="1659600" cy="1567800"/>
            <a:chOff x="1913040" y="2362320"/>
            <a:chExt cx="1659600" cy="1567800"/>
          </a:xfrm>
        </p:grpSpPr>
        <p:sp>
          <p:nvSpPr>
            <p:cNvPr id="660" name=""/>
            <p:cNvSpPr/>
            <p:nvPr/>
          </p:nvSpPr>
          <p:spPr>
            <a:xfrm>
              <a:off x="2515320" y="347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61960" y="26668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12408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6196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361960" y="33526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0" y="25909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86000" y="32767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47760" y="25909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047760" y="32767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130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51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9130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15108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4123080" y="2362320"/>
            <a:ext cx="2193120" cy="1526400"/>
            <a:chOff x="4123080" y="2362320"/>
            <a:chExt cx="2193120" cy="1526400"/>
          </a:xfrm>
        </p:grpSpPr>
        <p:sp>
          <p:nvSpPr>
            <p:cNvPr id="674" name=""/>
            <p:cNvSpPr/>
            <p:nvPr/>
          </p:nvSpPr>
          <p:spPr>
            <a:xfrm>
              <a:off x="4495680" y="266688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4495680" y="266652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57200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86728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2590920"/>
              <a:ext cx="15228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90960" y="2590920"/>
              <a:ext cx="15264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3352680"/>
              <a:ext cx="15228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790960" y="3352680"/>
              <a:ext cx="15264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23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8946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4216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8946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014440" y="34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76320" y="38862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The function f with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is a one-to-one correspondence between V and W. To see that this correspondence preserves adjacency, note that adjacent vertices in G are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and each of the pairs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,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are adjacent in H.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9953-7983-4CC1-B855-109CB87790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nectivity (9.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determination of paths within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any problems can be modeled with paths formed by traveling along the edg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ome examples of problems are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tudy the link between remote computer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Efficient planning of routes for mail delivery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arbage pickup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Diagnostic in computer network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1B0-DC29-483B-A333-E0E0D6A746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78600" y="2590920"/>
            <a:ext cx="488880" cy="856080"/>
            <a:chOff x="678600" y="2590920"/>
            <a:chExt cx="488880" cy="856080"/>
          </a:xfrm>
        </p:grpSpPr>
        <p:sp>
          <p:nvSpPr>
            <p:cNvPr id="143" name=""/>
            <p:cNvSpPr/>
            <p:nvPr/>
          </p:nvSpPr>
          <p:spPr>
            <a:xfrm>
              <a:off x="762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8600" y="293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76520" y="2590920"/>
            <a:ext cx="1523880" cy="814680"/>
            <a:chOff x="1676520" y="2590920"/>
            <a:chExt cx="1523880" cy="814680"/>
          </a:xfrm>
        </p:grpSpPr>
        <p:sp>
          <p:nvSpPr>
            <p:cNvPr id="146" name=""/>
            <p:cNvSpPr/>
            <p:nvPr/>
          </p:nvSpPr>
          <p:spPr>
            <a:xfrm>
              <a:off x="19051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718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164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57600" y="1371600"/>
            <a:ext cx="1523880" cy="2034000"/>
            <a:chOff x="3657600" y="1371600"/>
            <a:chExt cx="1523880" cy="2034000"/>
          </a:xfrm>
        </p:grpSpPr>
        <p:sp>
          <p:nvSpPr>
            <p:cNvPr id="151" name=""/>
            <p:cNvSpPr/>
            <p:nvPr/>
          </p:nvSpPr>
          <p:spPr>
            <a:xfrm flipH="1">
              <a:off x="3809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86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657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43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67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715000" y="1447920"/>
            <a:ext cx="1523880" cy="1957680"/>
            <a:chOff x="5715000" y="1447920"/>
            <a:chExt cx="1523880" cy="1957680"/>
          </a:xfrm>
        </p:grpSpPr>
        <p:sp>
          <p:nvSpPr>
            <p:cNvPr id="159" name="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0866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436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02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436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571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169" name=""/>
            <p:cNvSpPr/>
            <p:nvPr/>
          </p:nvSpPr>
          <p:spPr>
            <a:xfrm flipH="1">
              <a:off x="4266720" y="3581280"/>
              <a:ext cx="838440" cy="15242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67080" y="4343400"/>
              <a:ext cx="91440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05520" y="4343400"/>
              <a:ext cx="914400" cy="14479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3657600"/>
              <a:ext cx="83844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81480" y="3657600"/>
              <a:ext cx="0" cy="21337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434340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080" y="4267080"/>
              <a:ext cx="175284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267080" y="4267080"/>
              <a:ext cx="17528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67080" y="510552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1520" y="6095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52280" y="3809880"/>
            <a:ext cx="2210040" cy="2567520"/>
            <a:chOff x="152280" y="3809880"/>
            <a:chExt cx="2210040" cy="2567520"/>
          </a:xfrm>
        </p:grpSpPr>
        <p:sp>
          <p:nvSpPr>
            <p:cNvPr id="192" name=""/>
            <p:cNvSpPr/>
            <p:nvPr/>
          </p:nvSpPr>
          <p:spPr>
            <a:xfrm flipH="1">
              <a:off x="2286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9051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952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4920" y="4724280"/>
              <a:ext cx="190476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33520" y="4724280"/>
              <a:ext cx="16761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28240" y="4647960"/>
              <a:ext cx="160020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09480" y="3886200"/>
              <a:ext cx="609840" cy="1676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95280" y="3962520"/>
              <a:ext cx="609840" cy="16761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30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2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50040" y="5867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351480" y="5641920"/>
            <a:ext cx="261756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graphs K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384-E83D-4D80-9616-7F7CB1A3B4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ath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et n be a nonnegative integer and G an undirected graph.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n from u to v in G is a sequence of n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…,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wher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v. When the graph is simple, we denote this path by its vertex sequenc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(since listing these vertices uniquely determines the path). The path is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begins and ends at the same vertex, that is, if u = v, and has length greater than zero. The path or circuit is said to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ss throug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vertices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travers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. A path or circuit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does not contain the same edge more than on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62120" y="2438280"/>
            <a:ext cx="8153280" cy="41911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AB90-809A-4A8B-9023-F41A9D4B967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4572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this simple graph a, d, c, f, e is a simple path of length 4, since {a,d}, {d,c}, {c,f}, and {f,e} are all edges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owever, d, e, c, a is not a path, since {e,c} is not an edge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Note that b, c, f, e, b is a circuit of length 4 since {b,c}, {c,f}, {f,e}, and {e,b} are edges, and this path begins and ends at b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path a, b, e,d,a,b, which is of length 5, is not simple since it contains the edge {a,b} twi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3828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816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62428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9000" y="19810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9000" y="28954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9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5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429000" y="1981080"/>
            <a:ext cx="2286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9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2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352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95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638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352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3386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8128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24280" y="2860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6A2-2BA5-411D-BAA1-4CFDCA507D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n be a nonnegative integer and G a directed multigraph.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path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n from u to v in G is a sequence of edges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…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wher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v. When there are no multiple edges in the directed graph, this path is denoted by its vertex sequenc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f length greater than zero that begins and ends at the same vertex is called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yc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r circuit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t it does not contain the same edge more than once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2133720"/>
            <a:ext cx="8153280" cy="44193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377-9316-436F-9774-F7577806A2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edness in undirected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estion asked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does a computer network have the property that every pair of computers can share information, if message can be sent through one or more intermediate computers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is question is equivalent to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is there always a path between 2 vertices in the graph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9F7-B1CB-45D0-849C-6191E74C55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3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 undirected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onnected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path between every pair of distinct vertices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re is a simple path between every pair of distinct vertices of a connected un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2209680"/>
            <a:ext cx="8077320" cy="16765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62120" y="4800600"/>
            <a:ext cx="7924680" cy="114300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74D-CFA7-4858-A2F4-4781198C883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that is not connected is the union of two or more connected subgraphs, each pair of which has no vertex in common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se disjoint connected subgraphs are called 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nected components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9F7-18C9-4E13-A008-C92CC2C8CC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nnected in directed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4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trong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from a to b and from b to a whenever a and b are vertices in th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weak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between every 2 vertices in the underlying undirected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62120" y="3048120"/>
            <a:ext cx="815328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2120" y="5029200"/>
            <a:ext cx="761976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1A16-6CF8-41FC-92AB-754F5B567D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directed graph is weak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re is always a path between 2 vertices when the directions of the edges are ignor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trong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akly connected 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80E-EDF8-4A6A-A24B-E6A2D6D10B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re the directed graphs G and H strongly connected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9625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 G is strongly connected because there is a path between any 2 vertices in this directed graph. Hence, G is also weakly connected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  <a:ea typeface="Times New Roman"/>
              </a:rPr>
              <a:t>The graph H is not strongly connected. There is no directed path from a to b  in this graph. However, H is weakly connected, since there is a path between any 2 vertices in their underlying undirected graph of H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2271240" y="2403360"/>
            <a:ext cx="2694600" cy="1679040"/>
            <a:chOff x="2271240" y="2403360"/>
            <a:chExt cx="2694600" cy="1679040"/>
          </a:xfrm>
        </p:grpSpPr>
        <p:sp>
          <p:nvSpPr>
            <p:cNvPr id="736" name=""/>
            <p:cNvSpPr/>
            <p:nvPr/>
          </p:nvSpPr>
          <p:spPr>
            <a:xfrm flipV="1">
              <a:off x="3124080" y="2819160"/>
              <a:ext cx="0" cy="9903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24080" y="27432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191120" y="2743200"/>
              <a:ext cx="380880" cy="38088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04812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4812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1148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4191120" y="28195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200400" y="37339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95680" y="3124080"/>
              <a:ext cx="15264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266720" y="3276720"/>
              <a:ext cx="381240" cy="5331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744280" y="247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268880" y="240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649400" y="2971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68880" y="362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4280" y="354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7124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6438240" y="2362320"/>
            <a:ext cx="2475720" cy="1678680"/>
            <a:chOff x="6438240" y="2362320"/>
            <a:chExt cx="2475720" cy="1678680"/>
          </a:xfrm>
        </p:grpSpPr>
        <p:sp>
          <p:nvSpPr>
            <p:cNvPr id="754" name=""/>
            <p:cNvSpPr/>
            <p:nvPr/>
          </p:nvSpPr>
          <p:spPr>
            <a:xfrm>
              <a:off x="6438240" y="3124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072200" y="2778120"/>
              <a:ext cx="0" cy="9907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72200" y="27018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139240" y="2701800"/>
              <a:ext cx="380880" cy="38124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99624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06292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99624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6292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8139240" y="27781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148520" y="36925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443800" y="308304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8214840" y="3235320"/>
              <a:ext cx="381240" cy="5335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92400" y="243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1700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597520" y="293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17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692400" y="3505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D1B-410F-44FA-9BFF-0DD6391379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aths &amp; isomorphis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Paths and circuits can help determine whether 2 graphs are isometr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existence of a simple circuit (or cycle) of a particular length is a useful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invarian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show that 2 graphs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re not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A68C-F7E5-4BEA-B02E-229094E250A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ycl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3): they consist of n vertice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edges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…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93C-7E44-4E72-8658-B4FFBC256E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Determine whether the graph G and H are isomorphic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04920" y="4343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 Both G and H have 6 vertices and 8 edges. Each has 4 vertices of degree 3, and two vertices of degree 2. However, H has a simple circuit of length 3, namely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6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 whereas G has no simple circuit of length 3, as can be determined by inspection (all simple circuits in G have length at least four). Since the existence of a simple circuit of length 3 is an isomorphic invariant, G and H are not isomorphic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490560" y="1981080"/>
            <a:ext cx="2273400" cy="2338920"/>
            <a:chOff x="3490560" y="1981080"/>
            <a:chExt cx="2273400" cy="2338920"/>
          </a:xfrm>
        </p:grpSpPr>
        <p:sp>
          <p:nvSpPr>
            <p:cNvPr id="777" name=""/>
            <p:cNvSpPr/>
            <p:nvPr/>
          </p:nvSpPr>
          <p:spPr>
            <a:xfrm flipV="1">
              <a:off x="4191120" y="281916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191120" y="281952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19112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4832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780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9112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480060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148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8148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148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8148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4832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4832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9056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74220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9444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240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4240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75164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89448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633720" y="1981080"/>
            <a:ext cx="2273400" cy="2338920"/>
            <a:chOff x="6633720" y="1981080"/>
            <a:chExt cx="2273400" cy="2338920"/>
          </a:xfrm>
        </p:grpSpPr>
        <p:sp>
          <p:nvSpPr>
            <p:cNvPr id="799" name=""/>
            <p:cNvSpPr/>
            <p:nvPr/>
          </p:nvSpPr>
          <p:spPr>
            <a:xfrm flipV="1">
              <a:off x="733428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79148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40096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3428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33428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94376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15200" y="281952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15200" y="358128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5796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83250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25796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3250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9148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9148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63372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85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43796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48556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848556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89516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3764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6B3-FB29-46A5-A8BC-26ABC9EE07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unting paths between vert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be a graph with adjacency matrix A with respect to the ordering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with directed or undirected edges, with multiple edges and loops allowed). The number of different paths of length r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ere r is a positive integer is equals to the (i, j)th entry of A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38080" y="3276720"/>
            <a:ext cx="8077320" cy="2666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BD6-A0E5-42D5-9AE0-58DC6EC4206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How many paths of length 4 are there from a to d in the simple graph G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3354120" y="2819520"/>
            <a:ext cx="2851200" cy="2517120"/>
            <a:chOff x="3354120" y="2819520"/>
            <a:chExt cx="2851200" cy="2517120"/>
          </a:xfrm>
        </p:grpSpPr>
        <p:sp>
          <p:nvSpPr>
            <p:cNvPr id="826" name=""/>
            <p:cNvSpPr/>
            <p:nvPr/>
          </p:nvSpPr>
          <p:spPr>
            <a:xfrm>
              <a:off x="4038480" y="457200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38480" y="327672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94120" y="3325680"/>
              <a:ext cx="1949400" cy="1395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038480" y="3325680"/>
              <a:ext cx="1805040" cy="12463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94120" y="3200400"/>
              <a:ext cx="21744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35520" y="3200400"/>
              <a:ext cx="21600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94120" y="4467240"/>
              <a:ext cx="21744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35520" y="4467240"/>
              <a:ext cx="21600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54120" y="2819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723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8148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71960" y="4087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30320" y="4876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1120" y="3276720"/>
              <a:ext cx="1523880" cy="0"/>
            </a:xfrm>
            <a:prstGeom prst="line">
              <a:avLst/>
            </a:prstGeom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A56-691A-4E79-BB7C-7A0956ED1E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 The adjacency matrix of G (ordering the vertices as a, b, c, d) is</a:t>
            </a: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Hence, the number of paths of length 4 from a to d is the (1,4)th entry of A</a:t>
            </a:r>
            <a:r>
              <a:rPr b="0" lang="en-US" sz="2000" spc="-1" strike="noStrike" baseline="30000">
                <a:solidFill>
                  <a:srgbClr val="cbcbcb"/>
                </a:solidFill>
                <a:latin typeface="Arial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. Sinc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  <a:ea typeface="Times New Roman"/>
              </a:rPr>
              <a:t>there are exactly 8 paths of length 4 from a to d. By inspection of the graph, we see that a, b, a, b, d; a, b, a, c, d; a, b, d, b, d; a, b, d, c, d; a, c, a, b, d; a, c, a, c, d; a, c, d, b, d; and a, c, d, c, d are the 8 paths from a to d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3429000" y="1879560"/>
                <a:ext cx="18669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 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3429000" y="3860640"/>
                <a:ext cx="203184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   0   0   8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44" name=""/>
          <p:cNvGrpSpPr/>
          <p:nvPr/>
        </p:nvGrpSpPr>
        <p:grpSpPr>
          <a:xfrm>
            <a:off x="380880" y="0"/>
            <a:ext cx="1905120" cy="1526400"/>
            <a:chOff x="380880" y="0"/>
            <a:chExt cx="1905120" cy="1526400"/>
          </a:xfrm>
        </p:grpSpPr>
        <p:sp>
          <p:nvSpPr>
            <p:cNvPr id="845" name=""/>
            <p:cNvSpPr/>
            <p:nvPr/>
          </p:nvSpPr>
          <p:spPr>
            <a:xfrm>
              <a:off x="380880" y="0"/>
              <a:ext cx="1905120" cy="1447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458280" y="63360"/>
              <a:ext cx="1648080" cy="1463040"/>
              <a:chOff x="458280" y="63360"/>
              <a:chExt cx="1648080" cy="1463040"/>
            </a:xfrm>
          </p:grpSpPr>
          <p:sp>
            <p:nvSpPr>
              <p:cNvPr id="847" name=""/>
              <p:cNvSpPr/>
              <p:nvPr/>
            </p:nvSpPr>
            <p:spPr>
              <a:xfrm>
                <a:off x="739800" y="311040"/>
                <a:ext cx="1017720" cy="68112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814320" y="310680"/>
                <a:ext cx="943200" cy="60804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3980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0028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980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70028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58280" y="633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73360" y="6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71600" y="681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771200" y="681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25000" y="10666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7c8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38080" y="30492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38080" y="91440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A6A-5E57-447E-8859-1853B2E307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752480" y="1371600"/>
            <a:ext cx="1524240" cy="2034000"/>
            <a:chOff x="1752480" y="1371600"/>
            <a:chExt cx="1524240" cy="2034000"/>
          </a:xfrm>
        </p:grpSpPr>
        <p:sp>
          <p:nvSpPr>
            <p:cNvPr id="213" name=""/>
            <p:cNvSpPr/>
            <p:nvPr/>
          </p:nvSpPr>
          <p:spPr>
            <a:xfrm flipH="1">
              <a:off x="1904760" y="1447920"/>
              <a:ext cx="60948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1460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26668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524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8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3828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2128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00600" y="1447920"/>
            <a:ext cx="1523880" cy="1957680"/>
            <a:chOff x="4800600" y="1447920"/>
            <a:chExt cx="1523880" cy="1957680"/>
          </a:xfrm>
        </p:grpSpPr>
        <p:sp>
          <p:nvSpPr>
            <p:cNvPr id="221" name=""/>
            <p:cNvSpPr/>
            <p:nvPr/>
          </p:nvSpPr>
          <p:spPr>
            <a:xfrm flipV="1">
              <a:off x="48769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1722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0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2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006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58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4240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419720" y="3505320"/>
            <a:ext cx="2133360" cy="3100680"/>
            <a:chOff x="4419720" y="3505320"/>
            <a:chExt cx="2133360" cy="3100680"/>
          </a:xfrm>
        </p:grpSpPr>
        <p:sp>
          <p:nvSpPr>
            <p:cNvPr id="231" name=""/>
            <p:cNvSpPr/>
            <p:nvPr/>
          </p:nvSpPr>
          <p:spPr>
            <a:xfrm flipV="1">
              <a:off x="5562720" y="5105520"/>
              <a:ext cx="83808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47712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648320" y="3581280"/>
              <a:ext cx="8380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4832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5562720" y="3580920"/>
              <a:ext cx="83808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1972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24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008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1008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2400" y="60958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447920" y="3809880"/>
            <a:ext cx="2209680" cy="2567520"/>
            <a:chOff x="1447920" y="3809880"/>
            <a:chExt cx="2209680" cy="2567520"/>
          </a:xfrm>
        </p:grpSpPr>
        <p:sp>
          <p:nvSpPr>
            <p:cNvPr id="245" name=""/>
            <p:cNvSpPr/>
            <p:nvPr/>
          </p:nvSpPr>
          <p:spPr>
            <a:xfrm flipH="1">
              <a:off x="152388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23880" y="4724280"/>
              <a:ext cx="3812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200400" y="4724280"/>
              <a:ext cx="30492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3886200"/>
              <a:ext cx="99036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81080" y="56386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812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3828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479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44960" y="5867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94000" y="5562720"/>
            <a:ext cx="212472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cycles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12A-EA29-4CB5-961E-FB84C2B7CA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eel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; they are obtained by adding a vertex to the graphs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connect this vertex to all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BFC-2A4C-45C5-9815-BC4B4D4315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371600" y="1371600"/>
            <a:ext cx="1523880" cy="2034000"/>
            <a:chOff x="1371600" y="1371600"/>
            <a:chExt cx="1523880" cy="2034000"/>
          </a:xfrm>
        </p:grpSpPr>
        <p:sp>
          <p:nvSpPr>
            <p:cNvPr id="261" name=""/>
            <p:cNvSpPr/>
            <p:nvPr/>
          </p:nvSpPr>
          <p:spPr>
            <a:xfrm>
              <a:off x="2133720" y="1523880"/>
              <a:ext cx="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447920" y="2286000"/>
              <a:ext cx="685800" cy="380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2209680"/>
              <a:ext cx="685800" cy="533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523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33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00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1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66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4004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57400" y="2133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419720" y="1447920"/>
            <a:ext cx="1523880" cy="1957680"/>
            <a:chOff x="4419720" y="1447920"/>
            <a:chExt cx="1523880" cy="1957680"/>
          </a:xfrm>
        </p:grpSpPr>
        <p:sp>
          <p:nvSpPr>
            <p:cNvPr id="273" name=""/>
            <p:cNvSpPr/>
            <p:nvPr/>
          </p:nvSpPr>
          <p:spPr>
            <a:xfrm>
              <a:off x="449568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49532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49568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197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4832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6080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9200" y="19810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6680" y="3809880"/>
            <a:ext cx="2210040" cy="2567520"/>
            <a:chOff x="1066680" y="3809880"/>
            <a:chExt cx="2210040" cy="2567520"/>
          </a:xfrm>
        </p:grpSpPr>
        <p:sp>
          <p:nvSpPr>
            <p:cNvPr id="286" name=""/>
            <p:cNvSpPr/>
            <p:nvPr/>
          </p:nvSpPr>
          <p:spPr>
            <a:xfrm flipV="1">
              <a:off x="1447920" y="4952520"/>
              <a:ext cx="68580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43000" y="4724280"/>
              <a:ext cx="106668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3720" y="3962520"/>
              <a:ext cx="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9680" y="4648320"/>
              <a:ext cx="91440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2133360" y="4952520"/>
              <a:ext cx="6094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1430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430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8195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096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002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716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574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481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63720" y="58672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7400" y="4800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304" name=""/>
            <p:cNvSpPr/>
            <p:nvPr/>
          </p:nvSpPr>
          <p:spPr>
            <a:xfrm>
              <a:off x="5105520" y="3505320"/>
              <a:ext cx="0" cy="2361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1120" y="4267080"/>
              <a:ext cx="182880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191120" y="4343400"/>
              <a:ext cx="182880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60800" y="60958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0292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6656040" y="5527800"/>
            <a:ext cx="2259720" cy="9262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heels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428-281C-4623-93E7-8C2C4B3A15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-cub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Q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are graphs that have vertices representing the 2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bit strings of length 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wo vertices are adjacent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f and only if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 bits strings that they represent differ in exactly one bit position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514-E9A3-443B-95FE-DBE1459C05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8480" y="5638680"/>
            <a:ext cx="4501080" cy="51012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n-cube Q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n = 1, 2, and 3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0520" y="3886200"/>
            <a:ext cx="1628640" cy="1500840"/>
            <a:chOff x="290520" y="3886200"/>
            <a:chExt cx="1628640" cy="1500840"/>
          </a:xfrm>
        </p:grpSpPr>
        <p:sp>
          <p:nvSpPr>
            <p:cNvPr id="327" name=""/>
            <p:cNvSpPr/>
            <p:nvPr/>
          </p:nvSpPr>
          <p:spPr>
            <a:xfrm>
              <a:off x="5335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002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737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52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616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278160" y="2286000"/>
            <a:ext cx="1825560" cy="3101040"/>
            <a:chOff x="3278160" y="2286000"/>
            <a:chExt cx="1825560" cy="3101040"/>
          </a:xfrm>
        </p:grpSpPr>
        <p:sp>
          <p:nvSpPr>
            <p:cNvPr id="334" name=""/>
            <p:cNvSpPr/>
            <p:nvPr/>
          </p:nvSpPr>
          <p:spPr>
            <a:xfrm flipV="1">
              <a:off x="342900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7242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483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1280" y="2819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268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483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9484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2244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1808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7816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684760" y="1752480"/>
            <a:ext cx="3152520" cy="3634560"/>
            <a:chOff x="5684760" y="1752480"/>
            <a:chExt cx="3152520" cy="3634560"/>
          </a:xfrm>
        </p:grpSpPr>
        <p:sp>
          <p:nvSpPr>
            <p:cNvPr id="348" name=""/>
            <p:cNvSpPr/>
            <p:nvPr/>
          </p:nvSpPr>
          <p:spPr>
            <a:xfrm flipV="1">
              <a:off x="632448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62012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62012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32448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173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3244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62012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4771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438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77120" y="2819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4380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70572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00100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58000" y="3429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62940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2468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58000" y="2286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940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468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57800" y="4079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61280" y="4114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99360" y="3200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4216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0260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84760" y="2514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64360" y="2362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631200" y="2971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0D5-81D0-42AF-BE39-E40B1F26C5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8:47:57Z</dcterms:created>
  <dc:creator>Djamel Bouchaffra</dc:creator>
  <dc:description/>
  <dc:language>en-US</dc:language>
  <cp:lastModifiedBy>Djamel Bouchaffra</cp:lastModifiedBy>
  <dcterms:modified xsi:type="dcterms:W3CDTF">2008-11-11T23:37:35Z</dcterms:modified>
  <cp:revision>352</cp:revision>
  <dc:subject/>
  <dc:title>PowerPoint Presentation</dc:title>
</cp:coreProperties>
</file>