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919-AF08-4DCB-8075-E03FE24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041-5B8E-4D3D-A8C2-5C68AAA2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676-8F2B-44A9-BCBF-F8725691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9DF-2F3E-44D1-856B-A0621DDA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8636-A020-4BAE-9CDB-356E3EA9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7E5F-1107-4F97-AC64-88427F2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44FC-53D6-49F7-9ACD-F2D98A1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E37-A17D-4A1F-9D0E-952CC4F4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C5C-34FC-4C15-AF00-2B2665BF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77CE-576D-41A2-AD25-38F3CC1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58A4-FB81-46B5-9685-35F436F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94C-071B-4F39-8D6B-A5242F9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F01F-17F2-4804-8DA5-E2CDCC6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3122-54FB-4DE1-A730-D59A5F56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978-A4A7-4C63-AAF2-D0B3BD8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243-1266-4D7F-B9F2-B4B8BF7C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D3E0-68FF-492D-8250-89715777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F3D-8F51-4A34-ADDF-35058AFC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308-1C96-4F5E-B6CC-8FE6BCB5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9F-4E17-496B-91FF-C90E8F70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0B9-444A-4D48-BE6E-B404B81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5FF-8E89-4698-8A30-0D03777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543-24FD-42C2-BCA7-B86D053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B32-4687-48EF-94B8-0EFF630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7040-11FA-46D0-80CD-4B1D37DBF3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5ED-D8C2-4807-93D0-9BC76AEB9D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3141720"/>
            <a:ext cx="6697800" cy="1295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6666"/>
                </a:solidFill>
                <a:latin typeface="Arial"/>
              </a:rPr>
              <a:t>المحاضرة الثانية والعشرون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8272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المميزات التشخيصية للصفات المرتبطة بالجنس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زاوجات العكسية للصفات المرتبطة بالجنس تعطي نتائج مختلفة في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وهذا يعتمد على التراكيب الوراثية للاباء الداخلة في هذه التزاوج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يمكن مشاهدة ما يسمى بالنمط التصالبي بمعنى ان الشكل المظهري للصفة المرتبطة بالجنس المتنحية ينتقل من الجنس متماثل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Z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الى الجنس متباين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w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لاحظ ان الجنس المتباين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w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لا تنطبق عليه المصطلحات اصيل وخليط لماذا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لذلك يطلق عليه تعبير اخر هو نصفي التركيب الوراثي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izygote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وذلك لعدم وجود اليلين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  Y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Y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تطابقين او غير متطابقين على كرموسومي الجن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08000" y="5734080"/>
            <a:ext cx="142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00000" y="5734080"/>
            <a:ext cx="142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فرد نصفي التراكيب الوراثي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izygo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و الفرد متباين المشيج الذي يحتوى على جرعة واحدة من الجينات التي توجد على الكرموسوم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صفات ذكورية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landrictrai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الصفات التي تنتقل من الذكور فقط (الصفات التي تحدد جينات توجد في الكرموسوم-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صفات المحددة بالجنس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x-limited trai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قتصر ظهور تعبير الجينات المسؤولة عنها على جنس دون الاخر بالرغم من وجود هذه الجينات في كلا الجنسين . وتحدد هذه الصفات اما بجينات ملرتبطة بالركرموسومات الجنسية او بجينات جسدي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 : انتاج الحليب والبيض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       شكل وطول الريش في ذيل وعنق الدجاج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تأثر فيها تعبير السيادة والتنحي للجينات المسؤولة عن ظهورها بجنس الفر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: تكون القرون في الماعز / انماط معينه من لون الفراء في الابقار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صلع في الانسان (سائد في الذكور لكنه متنحي في الاناث 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صفات المتأثرة بالجنس :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x-influenced trait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توارث الصلع في الانسان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النسبة الجنسية =  ذكور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ابتدائية =  ذكور   عند الحمل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ثانوية =  ذكور    عند الولا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ثلاثية  = ذكور  عند أي سن بعد الولا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اناث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76360" y="1052640"/>
          <a:ext cx="6842160" cy="237312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  <a:gridCol w="2281320"/>
              </a:tblGrid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كل المظهري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راكيب الوراث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ناث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ذكور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لعاء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ل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ة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ل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6400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9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جسم بار (كروماتين الجنس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بارة عن تركيب نصف كروي او عصوي او غيرمنتظم الشكل يوجد مرتبط بالغشاء النووي الداخلي لنوى الخلايا التي توجد في المرحلة البينية في خلايا اناث الثديات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بارة عن كروموسوم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متب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دد اجسام بار= عدد كرموسومات 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– 1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3357720"/>
          <a:ext cx="6264360" cy="3035160"/>
        </p:xfrm>
        <a:graphic>
          <a:graphicData uri="http://schemas.openxmlformats.org/drawingml/2006/table">
            <a:tbl>
              <a:tblPr/>
              <a:tblGrid>
                <a:gridCol w="3133800"/>
                <a:gridCol w="31305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دد اجسام با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ي الاناث مثلا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, 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,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x,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x,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,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xx,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Yx,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صفات نوعية (وصفية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كون فيها التباين في الطرز المظهرية غير مستمر ويمكن تصيف الافراد الى فئات مظهرية متقظعه مختلفة محددة وغير متداخل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مثلة : منها , لون العين في ذبابة الخل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يون حمر /عيون بيض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                       لون الازهار في بلد مندل     قرمزي /ابيض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                       البذور في بدل مندل            مستديرة/ مج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صفات كم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كون فيها التباين في الاشكال المظهرية مستمر ومن الصعب (بل من المستحيل) في كثير من الاحيان فصل الافراد الى فئات مظهرية محددة وفريدة وغير متداخل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هذه الصفات تحدد بعدد من الجينات بالاضافة الى ان للعوامل البيئية دورا مهما في انتاج هذه الصفات ولذلك يقال عنها بانها صفات متعددة العوامل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 ltifactorial traits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 : الوزن / الطول / انتاج الحليب/ لون الجلد / الذكاء وغيرها الكثير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45:03Z</dcterms:created>
  <dc:creator>User</dc:creator>
  <dc:description/>
  <dc:language>en-US</dc:language>
  <cp:lastModifiedBy>MyName</cp:lastModifiedBy>
  <dcterms:modified xsi:type="dcterms:W3CDTF">2008-03-12T16:36:30Z</dcterms:modified>
  <cp:revision>3</cp:revision>
  <dc:subject/>
  <dc:title>المحاضرة الثانية والعشرون</dc:title>
</cp:coreProperties>
</file>