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E1C-1CB9-46AC-8943-9554578B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DDC-1E3D-4FF8-A98C-448CE84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1F1-3BE5-4F50-8179-499ADC35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4A6-168D-4327-9BAE-A06B4778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BAF-9705-4A98-9359-65796375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9CFA-0D0F-48E1-9C98-AD58E0EB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580-3F33-425C-9425-875706FE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55C1-DD75-48CC-B8CB-97D460B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D25-F857-4C58-B026-F0641D5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A72-972F-450C-B565-4E17398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04B3-AEFF-43EC-8882-1A64D2F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559-DC8B-4ED1-A046-979A57D4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6735-A9A1-41D6-B69A-11E2E6E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F41-AACE-49A6-AC78-ACF05B2E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835-CAC9-43EF-AC12-AD4B480B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5FCA-9D7F-4D0A-B08D-E15834E1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E4A-9820-4872-AFEF-0FC9E702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3F9-261D-4EB0-993C-AF6CD073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4AF-051E-41B3-987B-9382484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E8C-556E-453F-9544-F60B33C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FDB-E4C1-4D66-8788-126BB04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E07-3288-41CF-85FA-252A0F0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DE9-F810-4A6B-9622-9B98B499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E98-C98C-4D2E-9AF3-26A0265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55C-1241-4892-A8AC-1C63A9B248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B4F-1C20-4EC2-8B77-B4A86D8480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3141720"/>
            <a:ext cx="6697800" cy="1295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6666"/>
                </a:solidFill>
                <a:latin typeface="Arial"/>
              </a:rPr>
              <a:t>المحاضرة الثانية والعشرون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8272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المميزات التشخيصية للصفات المرتبطة بالجنس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زاوجات العكسية للصفات المرتبطة بالجنس تعطي نتائج مختلفة في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وهذا يعتمد على التراكيب الوراثية للاباء الداخلة في هذه التزاوج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يمكن مشاهدة ما يسمى بالنمط التصالبي بمعنى ان الشكل المظهري للصفة المرتبطة بالجنس المتنحية ينتقل من الجنس متماثل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Z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الى الجنس متباين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w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لاحظ ان الجنس المتباين المشيج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w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لا تنطبق عليه المصطلحات اصيل وخليط لماذا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لذلك يطلق عليه تعبير اخر هو نصفي التركيب الوراثي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izygote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وذلك لعدم وجود اليلين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  Y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او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Y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تطابقين او غير متطابقين على كرموسومي الجن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08000" y="5734080"/>
            <a:ext cx="142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00000" y="5734080"/>
            <a:ext cx="142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فرد نصفي التراكيب الوراثي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izygo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و الفرد متباين المشيج الذي يحتوى على جرعة واحدة من الجينات التي توجد على الكرموسوم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صفات ذكورية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landrictrai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الصفات التي تنتقل من الذكور فقط (الصفات التي تحدد جينات توجد في الكرموسوم-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صفات المحددة بالجنس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x-limited trai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قتصر ظهور تعبير الجينات المسؤولة عنها على جنس دون الاخر بالرغم من وجود هذه الجينات في كلا الجنسين . وتحدد هذه الصفات اما بجينات ملرتبطة بالركرموسومات الجنسية او بجينات جسدي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 : انتاج الحليب والبيض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        شكل وطول الريش في ذيل وعنق الدجاج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تأثر فيها تعبير السيادة والتنحي للجينات المسؤولة عن ظهورها بجنس الفر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: تكون القرون في الماعز / انماط معينه من لون الفراء في الابقار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صلع في الانسان (سائد في الذكور لكنه متنحي في الاناث 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الصفات المتأثرة بالجنس :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x-influenced trait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توارث الصلع في الانسان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النسبة الجنسية =  ذكور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ابتدائية =  ذكور   عند الحمل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ثانوية =  ذكور    عند الولا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اناث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Verdana"/>
              </a:rPr>
              <a:t>نسبة جنسية ثلاثية  = ذكور  عند أي سن بعد الولا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  اناث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76360" y="1052640"/>
          <a:ext cx="6842160" cy="237312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  <a:gridCol w="2281320"/>
              </a:tblGrid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كل المظهري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راكيب الوراث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ناث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ذكور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لعاء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ل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ة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ل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ادي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6400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9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جسم بار (كروماتين الجنس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بارة عن تركيب نصف كروي او عصوي او غيرمنتظم الشكل يوجد مرتبط بالغشاء النووي الداخلي لنوى الخلايا التي توجد في المرحلة البينية في خلايا اناث الثديات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بارة عن كروموسوم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متب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دد اجسام بار= عدد كرموسومات 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– 1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3357720"/>
          <a:ext cx="6264360" cy="3035160"/>
        </p:xfrm>
        <a:graphic>
          <a:graphicData uri="http://schemas.openxmlformats.org/drawingml/2006/table">
            <a:tbl>
              <a:tblPr/>
              <a:tblGrid>
                <a:gridCol w="3133800"/>
                <a:gridCol w="31305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عدد اجسام با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ي الاناث مثلا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, 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,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x,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x,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,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xxx,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ف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Yx,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صفات نوعية (وصفية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كون فيها التباين في الطرز المظهرية غير مستمر ويمكن تصيف الافراد الى فئات مظهرية متقظعه مختلفة محددة وغير متداخل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مثلة : منها , لون العين في ذبابة الخل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عيون حمر /عيون بيض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                       لون الازهار في بلد مندل     قرمزي /ابيض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Verdana"/>
              </a:rPr>
              <a:t>                        البذور في بدل مندل            مستديرة/ مجد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صفات كم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ي تلك الصفات التي يكون فيها التباين في الاشكال المظهرية مستمر ومن الصعب (بل من المستحيل) في كثير من الاحيان فصل الافراد الى فئات مظهرية محددة وفريدة وغير متداخل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هذه الصفات تحدد بعدد من الجينات بالاضافة الى ان للعوامل البيئية دورا مهما في انتاج هذه الصفات ولذلك يقال عنها بانها صفات متعددة العوامل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 ltifactorial traits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ثالها : الوزن / الطول / انتاج الحليب/ لون الجلد / الذكاء وغيرها الكثير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45:03Z</dcterms:created>
  <dc:creator>User</dc:creator>
  <dc:description/>
  <dc:language>en-US</dc:language>
  <cp:lastModifiedBy>MyName</cp:lastModifiedBy>
  <dcterms:modified xsi:type="dcterms:W3CDTF">2008-03-12T16:36:30Z</dcterms:modified>
  <cp:revision>3</cp:revision>
  <dc:subject/>
  <dc:title>المحاضرة الثانية والعشرون</dc:title>
</cp:coreProperties>
</file>